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A9C-BCB8-400A-AA44-53993B91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548-7EE4-46CB-A17D-3959C412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ABD-3145-46B3-9CE2-85014341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532-E4C3-4266-B19D-739DB66F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23F9-A152-4E34-80BF-DFAC59E2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1DC0-6299-4D6A-AC7F-DA372383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68F9-6083-4C48-9812-ED74A40A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3355-BD5E-41AE-96A2-A8F4F26D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F013-478D-4A09-96A4-FDE6D07B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2B04-FD43-461C-B564-C7557461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16D8-F4D6-4E95-B5AC-28517645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168-057A-4FC2-9BD7-CC87CCE4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A171-4AD9-463A-9366-80B73607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7AF3-6C5A-4CFE-8BE1-03C53DD1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B88E-3C91-4713-B6AD-867E6652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07AC-1AD3-4BFD-84C5-584C04BD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3521-AB2F-447A-BFEC-46311BE9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55DD-E668-4210-B68D-9D9DAA2D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5F3A0-BB55-4EBD-AB9C-E5CA99C7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C29A-0E83-48B5-889C-97A8A941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B792-D933-4048-B924-DEF333AF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C6312-C0D5-478E-B9A8-56DD6A71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9CD-BD10-4162-8745-8402B15A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E5174-A886-4174-9D2F-0CE7BB81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6FEC5-9BC5-4F8B-8369-944CC6C3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A905-93B0-4432-8C92-B09B1210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9FD6-5D8E-4C8E-8F04-7FC03445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D4FD-BA43-42AE-BA84-2DB4750F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8AC2E-3516-443E-BC1D-DDDFA5D6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360AA-6DD1-415C-BDE1-EC9849B8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5EE1C-5749-48E3-9BB8-F66BD755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DF38-353E-4E24-907D-C38E497B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5D940-7948-43CE-8CDD-396BA464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6E2-5DE2-462E-AEFA-D0E72D17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25A12-D008-4F5B-AD8C-5CD49973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7A617-1E6D-4968-AB79-2F3D26EC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E86BE-B731-41C6-9AB6-152E7D89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433E8-654A-45CC-A229-8B81B434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4B17B-1345-4D3E-8008-A1951411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CFC28-40CF-41B8-9507-7B8453FA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CD160-3AC1-4097-A413-532E8C1D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86C69-5FAE-47F2-AF03-32DF5908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F7921-0EF8-40F4-B152-5928DE2E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4CC5D-5DC8-4FF6-A2A6-E8AFDC81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CC9-34E5-4563-B9D6-DEA3A9E9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4D6C0-BBED-4E61-96F9-946BB01B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E6DF2-B2EF-424D-BA7B-F19121B5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18D85-B0CC-42E9-B631-A3D0A0E5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36235-481C-48F0-BCD1-0D923F33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32D37-883C-46A9-ADC3-F698ED42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AAE2B-7813-4AC7-A17C-658354C6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D37A9-33AD-4462-8AAC-EB7189D7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8C01C-EE1B-400C-B249-FD3C0857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D36CF-7E40-4242-A80C-47768EA9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BD465-E918-41D0-8FEB-467DD0CC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0AC-7679-48AE-9191-D9CAB7FF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97C83-237A-4CC9-B72D-0E79115A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72C21-99C8-41D6-B404-65500ABE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B32A1-725A-469D-9EB8-6B949AC3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2CEA1-8763-46D5-A6C3-444FBB67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7B007-ACC0-42DE-802D-8BF00C02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96B02-9010-42F6-AA28-35BACA13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291B6-3918-42E9-9D7E-D5F40EF7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B9A02-CEE1-4CD9-956D-0EDBED16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0214D-9FFE-454C-B956-9ABF2674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7DF47-2B0D-4447-B26B-12F54E44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BD0-1F71-4FB0-93FE-6D2D25C0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F419F-9622-4B3D-B289-BE44399D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E196F-363F-4357-A70E-092BCC3A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C1AFF-ACEF-40B0-A57C-631B5C18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CCF86-151F-47A2-ABF3-3066AEEB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5BA4A-1876-4ED6-9654-0023DC89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5A309-F19D-4E53-8410-E86F208F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6589C-5674-4E68-B23B-245CCB8E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459D7-61D1-4A10-BFCF-37E07026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BF757-0558-4BBF-AC06-81130268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60D09-831F-4356-A08A-51B744D5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529-B443-4CD9-A926-607244BC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29862-92B1-4DC7-BAE4-6E0EEAF4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3B972-D2E9-4107-BA47-CDD0D800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180F8-55D3-44C1-AF45-99AEC677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3DAF8-07BB-4E05-9FBF-CB1B5DB7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922D0-F80F-4C02-8E19-7F10F5FE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EE3-E7AA-4B3E-A4A2-EBD86028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76F8-EA11-4A13-A29C-DBA335A81F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ovnoramenný trojúhe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C4BC-9EFC-4EA6-A288-3D46740829CE}" type="slidenum">
              <a:rPr b="0" lang="cs-CZ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6580-BFE9-4E18-AB91-2D109544DB4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úhlý trojúhe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ovnoramenný trojúhe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římá spojnice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římá spojnice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5EED-408F-4E50-9E49-80A131590B2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608F-88F4-4B29-8993-401D37A5C3B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7E98-72DA-4D95-B91E-9CA5EFB3DC89}" type="slidenum"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1E49-B757-4709-8681-2943E211A608}" type="slidenum"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Nadpis 1" descr=""/>
          <p:cNvPicPr/>
          <p:nvPr/>
        </p:nvPicPr>
        <p:blipFill>
          <a:blip r:embed="rId1"/>
          <a:stretch/>
        </p:blipFill>
        <p:spPr>
          <a:xfrm>
            <a:off x="695160" y="3790800"/>
            <a:ext cx="8058240" cy="2305080"/>
          </a:xfrm>
          <a:prstGeom prst="rect">
            <a:avLst/>
          </a:prstGeom>
          <a:ln w="0">
            <a:noFill/>
          </a:ln>
        </p:spPr>
      </p:pic>
      <p:pic>
        <p:nvPicPr>
          <p:cNvPr id="302" name="Podnadpis 2" descr=""/>
          <p:cNvPicPr/>
          <p:nvPr/>
        </p:nvPicPr>
        <p:blipFill>
          <a:blip r:embed="rId2"/>
          <a:stretch/>
        </p:blipFill>
        <p:spPr>
          <a:xfrm>
            <a:off x="669960" y="2706840"/>
            <a:ext cx="8066160" cy="1444320"/>
          </a:xfrm>
          <a:prstGeom prst="rect">
            <a:avLst/>
          </a:prstGeom>
          <a:ln w="0">
            <a:noFill/>
          </a:ln>
        </p:spPr>
      </p:pic>
      <p:pic>
        <p:nvPicPr>
          <p:cNvPr id="303" name="Obrázek 3" descr=""/>
          <p:cNvPicPr/>
          <p:nvPr/>
        </p:nvPicPr>
        <p:blipFill>
          <a:blip r:embed="rId3"/>
          <a:stretch/>
        </p:blipFill>
        <p:spPr>
          <a:xfrm>
            <a:off x="1673280" y="54936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34136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entury Gothic"/>
              </a:rPr>
              <a:t>VÝROB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Činnost, při které člověk přetváří přírodu, její předměty a síly v užitné věc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Century Gothic"/>
              </a:rPr>
              <a:t>Výrobní faktory 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– jsou nezbytné k výrobě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- práce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    </a:t>
            </a: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- přírodní zdroje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    </a:t>
            </a: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- kapitál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Spojením výrobních faktorů vznik a roste bohatství společnosti i jednotlivců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Přírůstek bohatství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ff00"/>
                </a:solidFill>
                <a:latin typeface="Century Gothic"/>
                <a:ea typeface="Arial"/>
              </a:rPr>
              <a:t>„přidaná hodnota“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0526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ff00"/>
                </a:solidFill>
                <a:latin typeface="Century Gothic"/>
              </a:rPr>
              <a:t>VÝROBNÍ PROC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Taková činnost, jejímž výsledkem jsou výrobky nebo obnova jejich užitných vlastností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Probíhají zde procesy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	</a:t>
            </a: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- výrobní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       </a:t>
            </a: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	</a:t>
            </a: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- nevýrobní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(není v nich přítomna pracovní síla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Výsledkem výrobního procesu je výrobek nebo věcná složk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Century Gothic"/>
              </a:rPr>
              <a:t>Výrobek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– statek, který vnikl ve výrobním procesu a složí buď k další výrobě </a:t>
            </a: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(výrobní spotřeba)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nebo k přímému uspokojení potřeb </a:t>
            </a: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(konečná spotřeba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Nadpis 1" descr=""/>
          <p:cNvPicPr/>
          <p:nvPr/>
        </p:nvPicPr>
        <p:blipFill>
          <a:blip r:embed="rId1"/>
          <a:stretch/>
        </p:blipFill>
        <p:spPr>
          <a:xfrm>
            <a:off x="469800" y="304920"/>
            <a:ext cx="8143920" cy="24746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611280" y="1773000"/>
            <a:ext cx="79992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Century Gothic"/>
              </a:rPr>
              <a:t>Použitá literatura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entury Gothic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Century Gothic"/>
              </a:rPr>
              <a:t>Ekonomika 1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Century Gothic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Nadpis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11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457200" y="1268280"/>
          <a:ext cx="8229600" cy="537372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9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Základní ekonomické pojmy IV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VY_32_INOVACE_064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6. 11. 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Materiál slouží k získání přehledu o pojmech spotřeba, životní úroveň, životní prostředí, výroba, výrobní proces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Nadpis 1" descr=""/>
          <p:cNvPicPr/>
          <p:nvPr/>
        </p:nvPicPr>
        <p:blipFill>
          <a:blip r:embed="rId1"/>
          <a:stretch/>
        </p:blipFill>
        <p:spPr>
          <a:xfrm>
            <a:off x="176040" y="549360"/>
            <a:ext cx="8791920" cy="1938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84464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Spotřeb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Životní úroveň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Životní prostředí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Výroba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Výrobní proc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Century Gothic"/>
              </a:rPr>
              <a:t>1. ročník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360360" y="347760"/>
            <a:ext cx="8423280" cy="13525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ff00"/>
                </a:solidFill>
                <a:latin typeface="Century Gothic"/>
              </a:rPr>
              <a:t>SPOTŘEB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Použití statků a služeb k uspokojení potřeb lidí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cccc"/>
                </a:solidFill>
                <a:latin typeface="Century Gothic"/>
              </a:rPr>
              <a:t>Členění spotřeb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Nevýrobní (konečná)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– spotřeba spotřebních statků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Výrobní 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– spotřeba výrobních statků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8229600" cy="1469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907920"/>
            <a:ext cx="822960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entury Gothic"/>
              </a:rPr>
              <a:t>SPOTŘEB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cccc"/>
                </a:solidFill>
                <a:latin typeface="Century Gothic"/>
              </a:rPr>
              <a:t>Rozlišení statků dle spotřeb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1. Spotřební statky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cccc"/>
                </a:solidFill>
                <a:latin typeface="Century Gothic"/>
              </a:rPr>
              <a:t>Předměty jednorázové spotřeby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(krátkodobé spotřeby) – „konzumní“ – jídlo, oblečení, 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cccc"/>
                </a:solidFill>
                <a:latin typeface="Century Gothic"/>
              </a:rPr>
              <a:t>Předměty dlouhodobé spotřeby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(konzumační)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- movité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(auto, pračka, …)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2800" spc="-1" strike="noStrike">
                <a:solidFill>
                  <a:srgbClr val="00ff00"/>
                </a:solidFill>
                <a:latin typeface="Century Gothic"/>
              </a:rPr>
              <a:t>- nemovité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(budovy, domy, pozemky) – 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pevně spojeny se zemí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8229600" cy="11764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0526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entury Gothic"/>
              </a:rPr>
              <a:t>SPOTŘEB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cccc"/>
                </a:solidFill>
                <a:latin typeface="Century Gothic"/>
              </a:rPr>
              <a:t>Rozlišení statků dle spotřeb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2. Výrobní statk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(kapitálové výrobní prostředk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cccc"/>
                </a:solidFill>
                <a:latin typeface="Century Gothic"/>
              </a:rPr>
              <a:t>Provozní (oběžné)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– spotřebovávají se jednorázově při výrobě(zásoby, peníze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cccc"/>
                </a:solidFill>
                <a:latin typeface="Century Gothic"/>
              </a:rPr>
              <a:t>Investiční 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– spotřebovávají se postupně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	</a:t>
            </a: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- movité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(stroje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- nemovité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(budovy, pozemk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073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55736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Century Gothic"/>
              </a:rPr>
              <a:t>ŽIVOTNÍ ÚROVEŇ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Stupeň uspokojování hmotných a duševních potřeb lidí a souhra životních podmínek, za kterých jsou tyto potřeby uspokojován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1253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entury Gothic"/>
              </a:rPr>
              <a:t>ŽIVOTNÍ ÚROVEŇ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Životní úroveň zahrnuj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Osobní potřebu obyvatelstv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Společenskou spotřebu obyvatelstv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Úroveň bydlení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Délku volného času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Sociální jisto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Century Gothic"/>
              </a:rPr>
              <a:t>Životní prostředí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Nepřímým a orientačním ukazatelem životní úrovně je výše </a:t>
            </a: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„reálné mzdy“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(vyjadřuje kupní sílu peněz – co lze za ně koupit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83664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ff00"/>
                </a:solidFill>
                <a:latin typeface="Century Gothic"/>
              </a:rPr>
              <a:t>ŽIVOTNÍ PROSTŘED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Je </a:t>
            </a:r>
            <a:r>
              <a:rPr b="0" lang="cs-CZ" sz="2800" spc="-1" strike="noStrike">
                <a:solidFill>
                  <a:srgbClr val="33cccc"/>
                </a:solidFill>
                <a:latin typeface="Century Gothic"/>
              </a:rPr>
              <a:t>vše, do obklopuje člověka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, tedy hmotné prostředí, ve kterém člověk pracuje, odpočívá a tráví volný č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Základní složky životního prostředí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275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Ovzduší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Vod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Půd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Živá přírod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13:33:24Z</dcterms:created>
  <dc:creator>Monika</dc:creator>
  <dc:description/>
  <dc:language>en-US</dc:language>
  <cp:lastModifiedBy>Berka</cp:lastModifiedBy>
  <dcterms:modified xsi:type="dcterms:W3CDTF">2014-02-26T07:40:42Z</dcterms:modified>
  <cp:revision>51</cp:revision>
  <dc:subject/>
  <dc:title>EKONOMIKA PODNIKU</dc:title>
</cp:coreProperties>
</file>