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AEE3-40EF-4E45-9A81-1DDDE1F37A4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Zástupný symbol pro záhlaví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Zástupný symbol pro číslo snímku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8964-B4D4-4D33-BD52-167B4459E92E}" type="slidenum">
              <a:rPr b="0" lang="cs-CZ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2201C-43FA-4ABB-8D57-573BF377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EEFA4-52EE-4080-AED3-78A0F98A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74F3A-9573-461D-882D-636746624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D46F5-0F1C-418B-80AE-068682805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432F8-D58A-473E-9C05-084637A1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AAC53-5785-4892-AF7E-FDBF317D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C3ABC-1D5C-4AA7-8BC2-807B5566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1CAEB-A7A7-48FF-8224-1B2B5775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C92A4-52D5-4DB9-916A-B8CA27D6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4A913-3F54-4CC7-94CC-F154D1DB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C3123-F86C-486C-BE8A-E7433AD0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AF726-C1B5-42E8-AF1D-CB23A562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A597-442C-41B1-B67A-FD02544056CD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0480" y="3284640"/>
            <a:ext cx="7315200" cy="23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FINANCOVÁNÍ PODNIKU II.</a:t>
            </a:r>
            <a:br>
              <a:rPr sz="4000"/>
            </a:br>
            <a:br>
              <a:rPr sz="4000"/>
            </a:br>
            <a:r>
              <a:rPr b="0" lang="cs-CZ" sz="3200" spc="-1" strike="noStrike">
                <a:solidFill>
                  <a:srgbClr val="ff8600"/>
                </a:solidFill>
                <a:latin typeface="Arial"/>
              </a:rPr>
              <a:t>Autor: Mgr. Roman Berka</a:t>
            </a:r>
            <a:endParaRPr b="0" lang="en-US" sz="32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65160" y="2349000"/>
            <a:ext cx="73152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Y_32_INOVACE_079_Ekonom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Obrázek 3" descr=""/>
          <p:cNvPicPr/>
          <p:nvPr/>
        </p:nvPicPr>
        <p:blipFill>
          <a:blip r:embed="rId1"/>
          <a:stretch/>
        </p:blipFill>
        <p:spPr>
          <a:xfrm>
            <a:off x="1581120" y="549360"/>
            <a:ext cx="6083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73152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0000"/>
                </a:solidFill>
                <a:latin typeface="Arial"/>
              </a:rPr>
              <a:t>FINANCOVÁNÍ PODNIKU II.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14040" y="1412640"/>
            <a:ext cx="77612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Arial"/>
              </a:rPr>
              <a:t>Další formy financ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0000"/>
                </a:solidFill>
                <a:latin typeface="Arial"/>
              </a:rPr>
              <a:t>4. Franchising (frančíz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Firma, která získala licenci má podnik 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ve svém vlastnictví, investuje vlastní kapitál, podniká na vlastní riziko, musí dodržovat pravidla týkající se firmy, sortimentu, technologií a prodejních postup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a licenci zaplatí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jednorázový poplatek a pravidelně roční podíl ze zisku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(McDonald, Family Frost, autosalony, 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95320" y="259920"/>
            <a:ext cx="73152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0000"/>
                </a:solidFill>
                <a:latin typeface="Arial"/>
              </a:rPr>
              <a:t>FINANCOVÁNÍ PODNIKU II.</a:t>
            </a: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14400" y="1196640"/>
            <a:ext cx="73152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Finanční analý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lní funkci </a:t>
            </a:r>
            <a:r>
              <a:rPr b="0" i="1" lang="cs-CZ" sz="2400" spc="-1" strike="noStrike">
                <a:solidFill>
                  <a:srgbClr val="cc0000"/>
                </a:solidFill>
                <a:latin typeface="Arial"/>
              </a:rPr>
              <a:t>„zpětné vazby“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hodnotí se, jak se ve skutečnosti daří podniku plnit stanovené finanční cí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abývá se 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rozborem a výpočtem ukazatelů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cc0000"/>
                </a:solidFill>
                <a:latin typeface="Arial"/>
              </a:rPr>
              <a:t>Likvidit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(schopnost ustát svých závazků – splácet, hradi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cc0000"/>
                </a:solidFill>
                <a:latin typeface="Arial"/>
              </a:rPr>
              <a:t>Rentabilita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(ziskovost, výnosn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cc0000"/>
                </a:solidFill>
                <a:latin typeface="Arial"/>
              </a:rPr>
              <a:t>Využití zdroj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3152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0000"/>
                </a:solidFill>
                <a:latin typeface="Arial"/>
              </a:rPr>
              <a:t>FINANCOVÁNÍ PODNIKU II.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11280" y="1268280"/>
            <a:ext cx="8208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Finanční analý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1. Likvidita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– měří schopnost firmy splácet krátkodobé závaz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ff8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cs-CZ" sz="2000" spc="-1" strike="noStrike">
                <a:solidFill>
                  <a:srgbClr val="ffff00"/>
                </a:solidFill>
                <a:latin typeface="Arial"/>
              </a:rPr>
              <a:t>krátkodobý majetek (oběžný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Arial"/>
              </a:rPr>
              <a:t>a) běžná = -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0" lang="cs-CZ" sz="2000" spc="-1" strike="noStrike">
                <a:solidFill>
                  <a:srgbClr val="ffff00"/>
                </a:solidFill>
                <a:latin typeface="Arial"/>
              </a:rPr>
              <a:t>krátkodobé závaz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7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ř.: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----------- = 2,33 (na Kč 1,-- závazků připadá Kč 2,33 majetku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Arial"/>
              </a:rPr>
              <a:t>Ukazatel říká v jaké výši jsou závazky kryty majetkem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Arial"/>
              </a:rPr>
              <a:t>Měl by být větší než 1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Arial"/>
              </a:rPr>
              <a:t>Ukazatel běžné likvidity nebere v úvahu strukturu majetk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0000"/>
                </a:solidFill>
                <a:latin typeface="Arial"/>
              </a:rPr>
              <a:t>FINANCOVÁNÍ PODNIKU II.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000" y="1125360"/>
            <a:ext cx="82803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Finanční analý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b) Pohotová likvidita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– ukazatel krátkodobé (pohotové) likvid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0" lang="cs-CZ" sz="2000" spc="-1" strike="noStrike">
                <a:solidFill>
                  <a:srgbClr val="ffff00"/>
                </a:solidFill>
                <a:latin typeface="Arial"/>
              </a:rPr>
              <a:t>krátkodobý majetek – zásob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700 - 3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ffff00"/>
                </a:solidFill>
                <a:latin typeface="Arial"/>
              </a:rPr>
              <a:t>= -----------------------------------------------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= ---------------------- = 1,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cs-CZ" sz="2000" spc="-1" strike="noStrike">
                <a:solidFill>
                  <a:srgbClr val="ffff00"/>
                </a:solidFill>
                <a:latin typeface="Arial"/>
              </a:rPr>
              <a:t>krátkodobé závazk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 3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0000"/>
                </a:solidFill>
                <a:latin typeface="Arial"/>
              </a:rPr>
              <a:t>Ukazatel pohotové likvidity bývá menší a přesnější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0000"/>
                </a:solidFill>
                <a:latin typeface="Arial"/>
              </a:rPr>
              <a:t>Bere v úvahu strukturu krátkodobého majetk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(v čitateli jsou uvedeny pouze peníze, pohledávky a cenné papír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50760" y="259920"/>
            <a:ext cx="73152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0000"/>
                </a:solidFill>
                <a:latin typeface="Arial"/>
              </a:rPr>
              <a:t>FINANCOVÁNÍ PODNIKU II.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39640" y="1052640"/>
            <a:ext cx="8136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Finanční analý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2. Rentabilita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– schopnost podniku dosáhnout zis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cs-CZ" sz="2200" spc="-1" strike="noStrike">
                <a:solidFill>
                  <a:srgbClr val="ffff00"/>
                </a:solidFill>
                <a:latin typeface="Arial"/>
              </a:rPr>
              <a:t>čistý zisk (zisk po zdanění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00"/>
                </a:solidFill>
                <a:latin typeface="Arial"/>
              </a:rPr>
              <a:t>a) Rentabilita tržeb = --------------------------------------------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cs-CZ" sz="2200" spc="-1" strike="noStrike">
                <a:solidFill>
                  <a:srgbClr val="ffff00"/>
                </a:solidFill>
                <a:latin typeface="Arial"/>
              </a:rPr>
              <a:t>tržby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ř.: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------------ = 0,04 (4 %) – na Kč 1,-- tržeb připadá Kč 0,04 zisku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3000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73152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0000"/>
                </a:solidFill>
                <a:latin typeface="Arial"/>
              </a:rPr>
              <a:t>FINANCOVÁNÍ PODNIKU II.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9640" y="1267920"/>
            <a:ext cx="806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Finanční analý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čistý zisk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b) Rentabilita majetku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-------------------------------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celkový majetek</a:t>
            </a:r>
            <a:br>
              <a:rPr sz="2400"/>
            </a:b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20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ř.: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---------- = 0,06 (6 %) 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3000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= na Kč 1,-- celkového majetku připadá Kč 0,06 zisk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73152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0000"/>
                </a:solidFill>
                <a:latin typeface="Arial"/>
              </a:rPr>
              <a:t>FINANCOVÁNÍ PODNIKU II.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1125000"/>
            <a:ext cx="82072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Finanční analý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čistý zisk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c) Rentabilita vlastního kapitálu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---------------------------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vlastní kapitá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Př.: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= ---------- = 0,12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1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= na Kč 1,-- vlastního kapitálu připadá Kč 0,12 zisk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Arial"/>
              </a:rPr>
              <a:t>Ukazatelé rentability by měly mít tendenci rostoucí nebo alespoň stagnují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78040" y="18900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0000"/>
                </a:solidFill>
                <a:latin typeface="Arial"/>
              </a:rPr>
              <a:t>FINANCOVÁNÍ PODNIKU II.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1125000"/>
            <a:ext cx="813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ffff00"/>
                </a:solidFill>
                <a:latin typeface="Arial"/>
              </a:rPr>
              <a:t>Finanční analýza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0000"/>
                </a:solidFill>
                <a:latin typeface="Arial"/>
              </a:rPr>
              <a:t>3. Ukazatelé využití zdroj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tržb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               3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a) Obrátka zásob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-----------------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= ---------------- =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zásob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              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(na Kč 1,-- zásob připadá Kč 10,-- tržeb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3152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0000"/>
                </a:solidFill>
                <a:latin typeface="Arial"/>
              </a:rPr>
              <a:t>FINANCOVÁNÍ PODNIKU II.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95280" y="1197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18036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ffff00"/>
                </a:solidFill>
                <a:latin typeface="Arial"/>
              </a:rPr>
              <a:t>Finanční analýza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tržb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b) Obrátka dlouhodobého majetku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---------------------------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DM v zůstat. ceně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3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Př.: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----------- = 2,30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1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= na Kč 1,-- dlouhodobého majetku připadá Kč 2,30 trž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0000"/>
                </a:solidFill>
                <a:latin typeface="Arial"/>
              </a:rPr>
              <a:t>FINANCOVÁNÍ PODNIKU II.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1341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ffff00"/>
                </a:solidFill>
                <a:latin typeface="Arial"/>
              </a:rPr>
              <a:t>Finanční analýza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trž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c) Obrátka celkového majetku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------------------------------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celkový majet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3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Př.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------------ = 1,50 (na Kč 1,-- CM připadá Kč 1,50 tržeb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8600"/>
                </a:solidFill>
                <a:latin typeface="Arial"/>
              </a:rPr>
              <a:t>Záznamový list výukového materiálu</a:t>
            </a:r>
            <a:br>
              <a:rPr sz="1800"/>
            </a:br>
            <a:endParaRPr b="0" lang="en-US" sz="2800" spc="-1" strike="noStrike">
              <a:solidFill>
                <a:srgbClr val="ff86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39640" y="1449360"/>
          <a:ext cx="8229600" cy="506736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838d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838d9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90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inancování podniku I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Y_32_INOVACE_079_Ekonomi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4-41-L/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konomika a prá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v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. 2. 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0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teriál slouží k získání přehledu o podstatě leasingu, faktoringu, forfaitingu, franchisingu a významu finanční analýzy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475920"/>
            <a:ext cx="73152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0000"/>
                </a:solidFill>
                <a:latin typeface="Arial"/>
              </a:rPr>
              <a:t>FINANCOVÁNÍ PODNIKU II.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14400" y="1557360"/>
            <a:ext cx="73152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8600"/>
                </a:solidFill>
                <a:latin typeface="Arial"/>
              </a:rPr>
              <a:t>Použitá literatur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LÍNSKÝ, P., MÜNCH, O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Ekonomika 1 pro obchodní akademie a ostatní střední školy.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3. vyd. Praha: Eduko nakladatelství, s. r. o., 2010, 152 s. ISBN 978-80-87204-24-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LÍNSKÝ, P., MÜNCH, O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Ekonomika 2 pro obchodní akademie a ostatní střední školy.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3. vyd. Praha: Eduko nakladatelství, s. r. o., 2010, 180 s. ISBN 978-80-87204-30-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0000"/>
                </a:solidFill>
                <a:latin typeface="Arial"/>
              </a:rPr>
              <a:t>FINANCOVÁNÍ PODNIKU II.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78040" y="1844280"/>
            <a:ext cx="768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178560">
              <a:lnSpc>
                <a:spcPct val="80000"/>
              </a:lnSpc>
              <a:spcBef>
                <a:spcPts val="55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3920" indent="-178560">
              <a:lnSpc>
                <a:spcPct val="80000"/>
              </a:lnSpc>
              <a:spcBef>
                <a:spcPts val="55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3920" indent="-178560">
              <a:lnSpc>
                <a:spcPct val="80000"/>
              </a:lnSpc>
              <a:spcBef>
                <a:spcPts val="624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5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23920" indent="-178560">
              <a:lnSpc>
                <a:spcPct val="80000"/>
              </a:lnSpc>
              <a:spcBef>
                <a:spcPts val="624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500" spc="-1" strike="noStrike">
                <a:solidFill>
                  <a:srgbClr val="ffffff"/>
                </a:solidFill>
                <a:latin typeface="Arial"/>
              </a:rPr>
              <a:t>Faktorin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23920" indent="-178560">
              <a:lnSpc>
                <a:spcPct val="80000"/>
              </a:lnSpc>
              <a:spcBef>
                <a:spcPts val="624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500" spc="-1" strike="noStrike">
                <a:solidFill>
                  <a:srgbClr val="ffffff"/>
                </a:solidFill>
                <a:latin typeface="Arial"/>
              </a:rPr>
              <a:t>Forfaitin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23920" indent="-178560">
              <a:lnSpc>
                <a:spcPct val="80000"/>
              </a:lnSpc>
              <a:spcBef>
                <a:spcPts val="624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500" spc="-1" strike="noStrike">
                <a:solidFill>
                  <a:srgbClr val="ffffff"/>
                </a:solidFill>
                <a:latin typeface="Arial"/>
              </a:rPr>
              <a:t>Franchisin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23920" indent="-178560">
              <a:lnSpc>
                <a:spcPct val="80000"/>
              </a:lnSpc>
              <a:spcBef>
                <a:spcPts val="624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500" spc="-1" strike="noStrike">
                <a:solidFill>
                  <a:srgbClr val="ffffff"/>
                </a:solidFill>
                <a:latin typeface="Arial"/>
              </a:rPr>
              <a:t>Finanční analýz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23920" indent="-17856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23920" indent="-1785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3920" indent="-178560"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3920" indent="-178560"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ff8600"/>
                </a:solidFill>
                <a:latin typeface="Arial"/>
              </a:rPr>
              <a:t>1. roční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3920" indent="-17856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0000"/>
                </a:solidFill>
                <a:latin typeface="Arial"/>
              </a:rPr>
              <a:t>FINANCOVÁNÍ PODNIKU II.</a:t>
            </a:r>
            <a:endParaRPr b="0" lang="en-US" sz="32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55280" y="1125360"/>
            <a:ext cx="79930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00"/>
                </a:solidFill>
                <a:latin typeface="Arial"/>
              </a:rPr>
              <a:t>Další formy financová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1. Leasing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– pronájem majetk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Arial"/>
              </a:rPr>
              <a:t>operativní (provozní)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na dobu kratší než je životnost majetku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, majetek se vrací pronajímate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45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Arial"/>
              </a:rPr>
              <a:t>finanč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pronájem 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na dobu životnosti majetku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, po uplynutí leasingové smlouvy se stává objekt pronájmu majetkem nájem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45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Arial"/>
              </a:rPr>
              <a:t>přímý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účastní se 2 osoby, 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pronajímatel X nájemc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Arial"/>
              </a:rPr>
              <a:t>nepřímý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účastní se 3 osoby, 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pronajímatel X leasingová společnost X nájem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3152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0000"/>
                </a:solidFill>
                <a:latin typeface="Arial"/>
              </a:rPr>
              <a:t>FINANCOVÁNÍ PODNIKU II.</a:t>
            </a: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14040" y="1196640"/>
            <a:ext cx="7689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Arial"/>
              </a:rPr>
              <a:t>Další formy financ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Lea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51"/>
              </a:spcBef>
              <a:buClr>
                <a:srgbClr val="ff8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00"/>
                </a:solidFill>
                <a:latin typeface="Arial"/>
              </a:rPr>
              <a:t>Výhod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55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Nemusíme mít všechny finanční prostředky najedno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55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Snižuje riziko infla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55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Splátky si firma může zahrnout do nákladů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5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00"/>
                </a:solidFill>
                <a:latin typeface="Arial"/>
              </a:rPr>
              <a:t>Nevýhod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550"/>
              </a:spcBef>
              <a:buClr>
                <a:srgbClr val="ff8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Poměrně vysoké nájemné oproti ceně pořízen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550"/>
              </a:spcBef>
              <a:buClr>
                <a:srgbClr val="ff8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Akontace – první zvýšená splátk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550"/>
              </a:spcBef>
              <a:buClr>
                <a:srgbClr val="ff8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Celková částka je vyšší než při jednorázové koup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731520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0000"/>
                </a:solidFill>
                <a:latin typeface="Arial"/>
              </a:rPr>
              <a:t>FINANCOVÁNÍ PODNIKU II.</a:t>
            </a: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14400" y="1052640"/>
            <a:ext cx="73152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Arial"/>
              </a:rPr>
              <a:t>Další formy financ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2. Fak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odávající uzavře s faktorem (bankou, jiná finanční společností) 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faktoringovou smlouv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oučasně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ředá firma faktorovi faktury,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která mu připíše výnos na úč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Faktor inkasuje popřípadě vymáhá pohledávky u kupující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3152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0000"/>
                </a:solidFill>
                <a:latin typeface="Arial"/>
              </a:rPr>
              <a:t>FINANCOVÁNÍ PODNIKU II.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14400" y="1267920"/>
            <a:ext cx="78343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Arial"/>
              </a:rPr>
              <a:t>Další formy financ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2. Fak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Úhradou pohledávk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faktoringová operace konč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a provedení operace si faktor účtuje 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faktoringovou sazbu (úro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Faktoring se zaměřuje na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krátkodobé pohledáv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rodávající se nemusí starat o zaplacení pohledáv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315200" cy="64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0000"/>
                </a:solidFill>
                <a:latin typeface="Arial"/>
              </a:rPr>
              <a:t>FINANCOVÁNÍ PODNIKU II.</a:t>
            </a: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14400" y="1052640"/>
            <a:ext cx="73152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Arial"/>
              </a:rPr>
              <a:t>Další formy financ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0000"/>
                </a:solidFill>
                <a:latin typeface="Arial"/>
              </a:rPr>
              <a:t>3. Forfa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aměřuje se na 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střednědobé a dlouhodobé pohledáv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Finanční úvěrový obchod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při kterém banka nebo speciální forfaitingová společnost (forfaiter) přebírá rizika za vymáhání pohledávek (vyšší riziková přirážka – úro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73152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0000"/>
                </a:solidFill>
                <a:latin typeface="Arial"/>
              </a:rPr>
              <a:t>FINANCOVÁNÍ PODNIKU II.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14400" y="1125000"/>
            <a:ext cx="73152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00"/>
                </a:solidFill>
                <a:latin typeface="Arial"/>
              </a:rPr>
              <a:t>Další formy financová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4. Franchising (frančíz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Forma spolupráce a financová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, kdy podnikatel přebírá na základě smlouvy od jiného podnikatele (již existujícího, prosperujícího) jeho technologie výroby, prodeje, marketingu za určitou provizi z trž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40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e vhodný pro nové vznikající firmy, 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menší riziko podniká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40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Franchisor poskytuje 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franchisovou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licenci, která opravňuje podnikat pod jeho jménem stávajícího podnikate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10:46:17Z</dcterms:created>
  <dc:creator>Huk</dc:creator>
  <dc:description/>
  <dc:language>en-US</dc:language>
  <cp:lastModifiedBy>Berka</cp:lastModifiedBy>
  <dcterms:modified xsi:type="dcterms:W3CDTF">2014-02-26T08:17:31Z</dcterms:modified>
  <cp:revision>95</cp:revision>
  <dc:subject/>
  <dc:title>EKONOMIKA PODNIKU</dc:title>
</cp:coreProperties>
</file>