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DB39-B259-4904-883A-597269D23C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záhlaví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číslo snímk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D8BE-78EA-4716-BC91-06856076F06B}" type="slidenum">
              <a:rPr b="0" lang="cs-CZ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7B2D-8951-4B24-8A73-0AAD5535A320}" type="slidenum">
              <a:rPr b="0" lang="cs-CZ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63D7-E79C-4D53-BD0D-5F223826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EA79-58C5-46D3-A66C-E108FAB9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1CDD-59E6-4E5F-A1AA-9A7A7685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BD23-A035-4005-A83A-4EE78775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5F55-E151-4C26-8D8B-E5FEB6E1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D6CF-3DD9-47FB-B660-54B6CF10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AC67-D756-4B65-B899-1946BA5E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A5AB-D08B-4A3F-884E-ADFAAED3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42EC-9710-422E-960B-C219A3BF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899E-3D6B-435D-B621-0B733445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05B0-1683-43FE-986D-68AAFD3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EF4C-1693-4011-A91E-409CCE75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2304-713F-4D87-9C37-A976C866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1B0B-07F3-4DE2-8961-303B2CD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77E7-74C8-499D-8220-41FF13D3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6769-6E49-4894-8E5B-96FB66B8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7728-7FF8-49B6-A0A1-AED7EAF2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2DF4-FAF7-4069-B9FB-25A7F2D5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0440-14B0-46E9-AE4C-48B386A1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603F-4211-4690-A182-725368C4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51B6-D761-4B7D-8E23-6FBDDCA1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9F01-BA62-4B80-974E-36214206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A1A3-F69A-47EA-B7CB-18B76EEB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DB86-A364-4FAC-9E2B-1376A8C1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DC31-59F9-4FAD-9815-3F0ED0FE0A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3332-615E-4ABF-AB5C-B3C56A7B792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90440" y="3428640"/>
            <a:ext cx="7315200" cy="23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8600"/>
                </a:solidFill>
                <a:latin typeface="Arial"/>
              </a:rPr>
              <a:t>FINANCOVÁNÍ PODNIKU I.</a:t>
            </a:r>
            <a:br>
              <a:rPr sz="4400"/>
            </a:br>
            <a:br>
              <a:rPr sz="4400"/>
            </a:br>
            <a:r>
              <a:rPr b="0" lang="cs-CZ" sz="3200" spc="-1" strike="noStrike">
                <a:solidFill>
                  <a:srgbClr val="ff8600"/>
                </a:solidFill>
                <a:latin typeface="Arial"/>
              </a:rPr>
              <a:t>Autor: Mgr. Roman Berka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680" y="2637000"/>
            <a:ext cx="73152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_32_INOVACE_078_Ekonom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Obrázek 3" descr=""/>
          <p:cNvPicPr/>
          <p:nvPr/>
        </p:nvPicPr>
        <p:blipFill>
          <a:blip r:embed="rId1"/>
          <a:stretch/>
        </p:blipFill>
        <p:spPr>
          <a:xfrm>
            <a:off x="1682640" y="62856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267920"/>
            <a:ext cx="7315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Krátkodobé financ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c0000"/>
                </a:solidFill>
                <a:latin typeface="Arial"/>
              </a:rPr>
              <a:t>Krátkodobé vlastní zdro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Peněžní prostředky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– hotovost, B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Zásoby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– suroviny, materiál, polotovary, zboží – tyto prostředky se dají přeměnit na hotové peníze do 1 roku a liší se tzv. „likviditou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Krátkodobé pohledáv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Krátkodobé cenné papíry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– přijaté směnky, šeky, certifiká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412640"/>
            <a:ext cx="7315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00"/>
                </a:solidFill>
                <a:latin typeface="Arial"/>
              </a:rPr>
              <a:t>Krátkodobé financová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Krátkodobé cizí zdroj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ff00"/>
                </a:solidFill>
                <a:latin typeface="Arial"/>
              </a:rPr>
              <a:t>1. Obchodní úvěr</a:t>
            </a:r>
            <a:r>
              <a:rPr b="1" i="1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vzniká</a:t>
            </a:r>
            <a:r>
              <a:rPr b="0" i="1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v důsledku časového nesouladu mezi skutečným dodáním zboží a jeho zaplacení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otevřený účet </a:t>
            </a:r>
            <a:r>
              <a:rPr b="0" i="1" lang="cs-CZ" sz="2200" spc="-1" strike="noStrike">
                <a:solidFill>
                  <a:srgbClr val="ffffff"/>
                </a:solidFill>
                <a:latin typeface="Arial"/>
              </a:rPr>
              <a:t>– zboží na fakturu (dodržení splatnosti 7, 10, 14 dnů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vlastní směnka </a:t>
            </a:r>
            <a:r>
              <a:rPr b="0" i="1" lang="cs-CZ" sz="2200" spc="-1" strike="noStrike">
                <a:solidFill>
                  <a:srgbClr val="ffffff"/>
                </a:solidFill>
                <a:latin typeface="Arial"/>
              </a:rPr>
              <a:t>– písemný příslib dlužníka, že za určitou dobu splatí částku i s úrokem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obchodní směnka </a:t>
            </a:r>
            <a:r>
              <a:rPr b="0" i="1" lang="cs-CZ" sz="2200" spc="-1" strike="noStrike">
                <a:solidFill>
                  <a:srgbClr val="ffffff"/>
                </a:solidFill>
                <a:latin typeface="Arial"/>
              </a:rPr>
              <a:t>(cizí) – zúčastňují se 3 osoby – vystavuje ji věřitel (ten kdo prodává) přikazuje zaplatit dlužnou částku 3. osobě (banka) směnečníkov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6480" y="188640"/>
            <a:ext cx="73152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980640"/>
            <a:ext cx="73152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Krátkodobé financ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Krátkodobé cizí zdro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ff00"/>
                </a:solidFill>
                <a:latin typeface="Arial"/>
              </a:rPr>
              <a:t>2. Krátkodobý bankovní úvě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cc0000"/>
                </a:solidFill>
                <a:latin typeface="Arial"/>
              </a:rPr>
              <a:t>Bankovní úvěr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ff00"/>
                </a:solidFill>
                <a:latin typeface="Arial"/>
              </a:rPr>
              <a:t>kontokorentní úvěr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(krátkodobě do mínusu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ff00"/>
                </a:solidFill>
                <a:latin typeface="Arial"/>
              </a:rPr>
              <a:t>eskontní úvěr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– směnečný úvěr (banka odkupuje od majitele směnku za sníženou cenu o dohodnutý úrok a eskontní provizi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3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ff00"/>
                </a:solidFill>
                <a:latin typeface="Arial"/>
              </a:rPr>
              <a:t>lombardní úvěr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– úvěr krytý movitou zástavou (cenné papíry, obrazy, umělecké předměty, pohledávky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3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ff00"/>
                </a:solidFill>
                <a:latin typeface="Arial"/>
              </a:rPr>
              <a:t>revolvingový úvěr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– banka na základě smlouvy po určitou dobu vyčerpaný a splacený úvěr do sjednané výše doplňuje (vyšší úrok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3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ff00"/>
                </a:solidFill>
                <a:latin typeface="Arial"/>
              </a:rPr>
              <a:t>účelový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ff00"/>
                </a:solidFill>
                <a:latin typeface="Arial"/>
              </a:rPr>
              <a:t>překlenovací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ff00"/>
                </a:solidFill>
                <a:latin typeface="Arial"/>
              </a:rPr>
              <a:t>spotřebitelsk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29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052640"/>
            <a:ext cx="73152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Krátkodobé financ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Krátkodobé cizí zdro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3. Stálá pasiv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závazky vůči zaměstnanců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mzdy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které vyplácí zaměstnavatel zaměstnancům s měsíčním zpoždění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3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závazky vůči státu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institucím sociálního zabezpečení a zdravotní pojištění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(SP, ZP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3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eodvedené daně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řijaté nájemn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6520" y="259920"/>
            <a:ext cx="815328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1532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Krátkodobé financ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chéma:     Krátkodobé finan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         Vlastní zpra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Organization Chart 6"/>
          <p:cNvGrpSpPr/>
          <p:nvPr/>
        </p:nvGrpSpPr>
        <p:grpSpPr>
          <a:xfrm>
            <a:off x="506520" y="2421000"/>
            <a:ext cx="8136360" cy="4175280"/>
            <a:chOff x="506520" y="2421000"/>
            <a:chExt cx="8136360" cy="4175280"/>
          </a:xfrm>
        </p:grpSpPr>
        <p:cxnSp>
          <p:nvCxnSpPr>
            <p:cNvPr id="129" name="_s2052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5252040" y="3412440"/>
              <a:ext cx="835560" cy="2191320"/>
            </a:xfrm>
            <a:prstGeom prst="bentConnector3">
              <a:avLst>
                <a:gd name="adj1" fmla="val 189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2053"/>
            <p:cNvCxnSpPr>
              <a:stCxn id="133" idx="0"/>
              <a:endCxn id="131" idx="2"/>
            </p:cNvCxnSpPr>
            <p:nvPr/>
          </p:nvCxnSpPr>
          <p:spPr>
            <a:xfrm flipH="1" flipV="1" rot="5400000">
              <a:off x="3061080" y="3412800"/>
              <a:ext cx="835560" cy="2190600"/>
            </a:xfrm>
            <a:prstGeom prst="bentConnector3">
              <a:avLst>
                <a:gd name="adj1" fmla="val 189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1" name="_s2054"/>
            <p:cNvSpPr/>
            <p:nvPr/>
          </p:nvSpPr>
          <p:spPr>
            <a:xfrm>
              <a:off x="2696400" y="2421000"/>
              <a:ext cx="3755160" cy="1670040"/>
            </a:xfrm>
            <a:prstGeom prst="roundRect">
              <a:avLst>
                <a:gd name="adj" fmla="val 16667"/>
              </a:avLst>
            </a:prstGeom>
            <a:solidFill>
              <a:srgbClr val="838d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Krátkodob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financován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2055"/>
            <p:cNvSpPr/>
            <p:nvPr/>
          </p:nvSpPr>
          <p:spPr>
            <a:xfrm>
              <a:off x="506520" y="4926240"/>
              <a:ext cx="3755160" cy="1670040"/>
            </a:xfrm>
            <a:prstGeom prst="roundRect">
              <a:avLst>
                <a:gd name="adj" fmla="val 16667"/>
              </a:avLst>
            </a:prstGeom>
            <a:solidFill>
              <a:srgbClr val="838d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Krátkodobé vlastní zdroj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Finanční prostředk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hotovost, na BÚ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Zásoby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(suroviny, zboží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Krátkodobé pohledávk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Krátkodobé CP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přijaté šeky, směnky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2056"/>
            <p:cNvSpPr/>
            <p:nvPr/>
          </p:nvSpPr>
          <p:spPr>
            <a:xfrm>
              <a:off x="4887720" y="4926240"/>
              <a:ext cx="3755160" cy="1670040"/>
            </a:xfrm>
            <a:prstGeom prst="roundRect">
              <a:avLst>
                <a:gd name="adj" fmla="val 16667"/>
              </a:avLst>
            </a:prstGeom>
            <a:solidFill>
              <a:srgbClr val="838d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Krátkodobé cizí zdroj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Obchodní úvěr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otevřený úvěr,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lastní směnka, cizí směnka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nkovní úvěr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kontokorentní, eskontní,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mbardní, revolvingový, překlenovací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Stálá pasiva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nevyplacené mzdy, SP, ZP,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odvedené daně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152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400" y="1125000"/>
            <a:ext cx="7315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Dlouhodobé financ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eduje, jak získat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finanční prostředky na delší dob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i="1" lang="cs-CZ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ffff00"/>
                </a:solidFill>
                <a:latin typeface="Arial"/>
              </a:rPr>
              <a:t>Vlastní zdroj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istý zis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vyplacené dividendy (zisk z akcií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kcie a klady společník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315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1052640"/>
            <a:ext cx="7704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Dlouhodobé financ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2. Cizí zdro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dlouhodobý obchodní úv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faktura splatná více než za 1 rok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bankovní úv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hypoteční, účelový, …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prodej cenných papír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obligací, akcií, …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Oblig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cenný papír, který je vydáván (emitován) obcí, státem, podnikem. Zákazník si je koupí za sjednanou částku a po uplynutí doby splatnosti je obligace proplacena emitentem zpět v nominální hodnotě + úr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0200" y="333360"/>
            <a:ext cx="8153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153280" cy="27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Dlouhodobé financ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chéma:</a:t>
            </a:r>
            <a:r>
              <a:rPr b="1" i="1" lang="cs-CZ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Dlouhodobé finan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Vlastní zpra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Organization Chart 6"/>
          <p:cNvGrpSpPr/>
          <p:nvPr/>
        </p:nvGrpSpPr>
        <p:grpSpPr>
          <a:xfrm>
            <a:off x="506520" y="2565360"/>
            <a:ext cx="8136360" cy="3886920"/>
            <a:chOff x="506520" y="2565360"/>
            <a:chExt cx="8136360" cy="3886920"/>
          </a:xfrm>
        </p:grpSpPr>
        <p:cxnSp>
          <p:nvCxnSpPr>
            <p:cNvPr id="141" name="_s3076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280840" y="3412800"/>
              <a:ext cx="777960" cy="2191320"/>
            </a:xfrm>
            <a:prstGeom prst="bentConnector3">
              <a:avLst>
                <a:gd name="adj1" fmla="val 189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3077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3089880" y="3413160"/>
              <a:ext cx="777960" cy="2190600"/>
            </a:xfrm>
            <a:prstGeom prst="bentConnector3">
              <a:avLst>
                <a:gd name="adj1" fmla="val 189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3078"/>
            <p:cNvSpPr/>
            <p:nvPr/>
          </p:nvSpPr>
          <p:spPr>
            <a:xfrm>
              <a:off x="2696400" y="2565360"/>
              <a:ext cx="3755160" cy="1554840"/>
            </a:xfrm>
            <a:prstGeom prst="roundRect">
              <a:avLst>
                <a:gd name="adj" fmla="val 16667"/>
              </a:avLst>
            </a:prstGeom>
            <a:solidFill>
              <a:srgbClr val="838d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00"/>
                  </a:solidFill>
                  <a:latin typeface="Arial"/>
                  <a:ea typeface="Arial"/>
                </a:rPr>
                <a:t>Dlouhodobé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00"/>
                  </a:solidFill>
                  <a:latin typeface="Arial"/>
                  <a:ea typeface="Arial"/>
                </a:rPr>
                <a:t>financování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3079"/>
            <p:cNvSpPr/>
            <p:nvPr/>
          </p:nvSpPr>
          <p:spPr>
            <a:xfrm>
              <a:off x="506520" y="4897440"/>
              <a:ext cx="3755160" cy="1554840"/>
            </a:xfrm>
            <a:prstGeom prst="roundRect">
              <a:avLst>
                <a:gd name="adj" fmla="val 16667"/>
              </a:avLst>
            </a:prstGeom>
            <a:solidFill>
              <a:srgbClr val="838d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Dlouhodobé vlastní zdro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Čistý zis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Nevyplacené dividend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Akcie, vklady společníků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080"/>
            <p:cNvSpPr/>
            <p:nvPr/>
          </p:nvSpPr>
          <p:spPr>
            <a:xfrm>
              <a:off x="4887720" y="4897440"/>
              <a:ext cx="3755160" cy="1554840"/>
            </a:xfrm>
            <a:prstGeom prst="roundRect">
              <a:avLst>
                <a:gd name="adj" fmla="val 16667"/>
              </a:avLst>
            </a:prstGeom>
            <a:solidFill>
              <a:srgbClr val="838d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Dlouhodobé cizí zdro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Obchodní úvěr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otevřený účet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nkovní úvěr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účelový, hypoteční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dej CP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obligace, akci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95320" y="188640"/>
            <a:ext cx="73152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00000" y="1052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Úvěrová smlou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ient se u banky (jiné finanční instituce) </a:t>
            </a:r>
            <a:r>
              <a:rPr b="0" lang="cs-CZ" sz="2000" spc="-1" strike="noStrike">
                <a:solidFill>
                  <a:srgbClr val="cc0000"/>
                </a:solidFill>
                <a:latin typeface="Arial"/>
              </a:rPr>
              <a:t>informuje o podmínkách poskytování úv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Napíše </a:t>
            </a:r>
            <a:r>
              <a:rPr b="0" i="1" lang="cs-CZ" sz="2000" spc="-1" strike="noStrike">
                <a:solidFill>
                  <a:srgbClr val="ffff00"/>
                </a:solidFill>
                <a:latin typeface="Arial"/>
              </a:rPr>
              <a:t>žádost o úvěr, doloží je příloham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přehled o finančním hospodaření, podnikatelským záměr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Arial"/>
              </a:rPr>
              <a:t>Obsahu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značení účastníků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še úvěru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čerp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míny a výše splátk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še úvěru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zajištění úvěru (nemovitost, movitost, …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patření u neplnění úvěrové smlouv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73152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040" y="1483920"/>
            <a:ext cx="7689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1 pro obchodní akademie 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2 pro obchodní akademie 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80 s. ISBN 978-80-87204-30-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315200" cy="9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8600"/>
                </a:solidFill>
                <a:latin typeface="Arial"/>
              </a:rPr>
              <a:t>Záznamový list výukového materiálu</a:t>
            </a:r>
            <a:br>
              <a:rPr sz="2400"/>
            </a:b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341360"/>
          <a:ext cx="8229600" cy="5334120"/>
        </p:xfrm>
        <a:graphic>
          <a:graphicData uri="http://schemas.openxmlformats.org/drawingml/2006/table">
            <a:tbl>
              <a:tblPr/>
              <a:tblGrid>
                <a:gridCol w="2962080"/>
                <a:gridCol w="5267520"/>
              </a:tblGrid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38d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38d9b"/>
                    </a:solidFill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nancování podniku 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78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 2. 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přehledu o podstatě financování podniku, krátkodobém a dlouhodobém financování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5040" y="1773360"/>
            <a:ext cx="7315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90000"/>
              </a:lnSpc>
              <a:spcBef>
                <a:spcPts val="64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90000"/>
              </a:lnSpc>
              <a:spcBef>
                <a:spcPts val="64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90000"/>
              </a:lnSpc>
              <a:spcBef>
                <a:spcPts val="7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Podstata financování podnik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90000"/>
              </a:lnSpc>
              <a:spcBef>
                <a:spcPts val="7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Členění financová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90000"/>
              </a:lnSpc>
              <a:spcBef>
                <a:spcPts val="7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Krátkodobé financová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90000"/>
              </a:lnSpc>
              <a:spcBef>
                <a:spcPts val="7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Dlouhodobé financová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8600"/>
                </a:solidFill>
                <a:latin typeface="Arial"/>
              </a:rPr>
              <a:t>1. roční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1699920"/>
            <a:ext cx="73152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00"/>
                </a:solidFill>
                <a:latin typeface="Arial"/>
              </a:rPr>
              <a:t>Podstata financování podnik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Má za úkol </a:t>
            </a:r>
            <a:r>
              <a:rPr b="0" lang="cs-CZ" sz="2600" spc="-1" strike="noStrike">
                <a:solidFill>
                  <a:srgbClr val="cc0000"/>
                </a:solidFill>
                <a:latin typeface="Arial"/>
              </a:rPr>
              <a:t>opatřit podniku kapitál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, který je  potřebný ke splnění cílů podnik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leduje </a:t>
            </a:r>
            <a:r>
              <a:rPr b="0" i="1" lang="cs-CZ" sz="2600" spc="-1" strike="noStrike">
                <a:solidFill>
                  <a:srgbClr val="ffff00"/>
                </a:solidFill>
                <a:latin typeface="Arial"/>
              </a:rPr>
              <a:t>veškerou činnost podniku ve finančním vyjádře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leduje </a:t>
            </a:r>
            <a:r>
              <a:rPr b="0" lang="cs-CZ" sz="2600" spc="-1" strike="noStrike">
                <a:solidFill>
                  <a:srgbClr val="cc0000"/>
                </a:solidFill>
                <a:latin typeface="Arial"/>
              </a:rPr>
              <a:t>tok peněz</a:t>
            </a: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 (odkud se finance získají a na co se vynakládají), </a:t>
            </a:r>
            <a:r>
              <a:rPr b="0" lang="cs-CZ" sz="2600" spc="-1" strike="noStrike">
                <a:solidFill>
                  <a:srgbClr val="cc0000"/>
                </a:solidFill>
                <a:latin typeface="Arial"/>
              </a:rPr>
              <a:t>náklady, výnosy, hospodářský výsled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36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1412640"/>
            <a:ext cx="73152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Podstata financování podni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cování musí dbát na to, aby finanční prostředky byly získány kompetentně a investovány co nejefektivně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ledováním těchto poznatků se zabývá finanční řízení podni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68119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197000"/>
            <a:ext cx="7315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Podstata financování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Finanční řízení podniku zahrnuje tyto činnosti</a:t>
            </a:r>
            <a:r>
              <a:rPr b="0" lang="cs-CZ" sz="2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Kvalitní finanční plán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naplánování potřeb v daném podniku v rámci podnikatelského záměru – zdroje kryt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obrá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znalost daňového systém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snaha platit co nejnižší daně, ale dodržovat zák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Dodržování dobrých firemních vztah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s bankou, partnery – placení úvěrů, úroků, faktu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volit správné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ojištění fir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musí být schopna krýt pojistnou udá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ést přehledné 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účetnic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lánování a rozpočet nákladů, výnosů, H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7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vádět 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důslednou kontro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7315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1341000"/>
            <a:ext cx="7315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Členění financ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1.    Podle původu finančních prostřed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Arial"/>
              </a:rPr>
              <a:t>vlastní zdr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samofinancování) – využití zisku po zdanění a odpis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Arial"/>
              </a:rPr>
              <a:t>cizí zdr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– mimo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Podle úče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Arial"/>
              </a:rPr>
              <a:t>na běžné finan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materiál, mzd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Arial"/>
              </a:rPr>
              <a:t>na mimořádné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nákup DM, založení podniku – zřizovací výdaj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Podle doby, po kterou finanční zdroje používá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Arial"/>
              </a:rPr>
              <a:t>krátkodobé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– ukončeno kalendářním rok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Arial"/>
              </a:rPr>
              <a:t>dlouhodobé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– převyšuje délku 1 ro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9520" y="18864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125360"/>
            <a:ext cx="8153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Členění financ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chéma:   Přehled zdrojů financování podle původ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       Vlastní zpra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Organization Chart 6"/>
          <p:cNvGrpSpPr/>
          <p:nvPr/>
        </p:nvGrpSpPr>
        <p:grpSpPr>
          <a:xfrm>
            <a:off x="307800" y="2409840"/>
            <a:ext cx="8495280" cy="4175280"/>
            <a:chOff x="307800" y="2409840"/>
            <a:chExt cx="8495280" cy="4175280"/>
          </a:xfrm>
        </p:grpSpPr>
        <p:cxnSp>
          <p:nvCxnSpPr>
            <p:cNvPr id="111" name="_s1028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5280840" y="3352680"/>
              <a:ext cx="835560" cy="2288520"/>
            </a:xfrm>
            <a:prstGeom prst="bentConnector3">
              <a:avLst>
                <a:gd name="adj1" fmla="val 306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29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2993760" y="3353400"/>
              <a:ext cx="835560" cy="2287440"/>
            </a:xfrm>
            <a:prstGeom prst="bentConnector3">
              <a:avLst>
                <a:gd name="adj1" fmla="val 306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1030"/>
            <p:cNvSpPr/>
            <p:nvPr/>
          </p:nvSpPr>
          <p:spPr>
            <a:xfrm>
              <a:off x="2594520" y="2409840"/>
              <a:ext cx="3920760" cy="1670040"/>
            </a:xfrm>
            <a:prstGeom prst="roundRect">
              <a:avLst>
                <a:gd name="adj" fmla="val 16667"/>
              </a:avLst>
            </a:prstGeom>
            <a:solidFill>
              <a:srgbClr val="838d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Celkové zdroje financování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31"/>
            <p:cNvSpPr/>
            <p:nvPr/>
          </p:nvSpPr>
          <p:spPr>
            <a:xfrm>
              <a:off x="307800" y="4915080"/>
              <a:ext cx="3920760" cy="1670040"/>
            </a:xfrm>
            <a:prstGeom prst="roundRect">
              <a:avLst>
                <a:gd name="adj" fmla="val 16667"/>
              </a:avLst>
            </a:prstGeom>
            <a:solidFill>
              <a:srgbClr val="838d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c0000"/>
                  </a:solidFill>
                  <a:latin typeface="Arial"/>
                  <a:ea typeface="Arial"/>
                </a:rPr>
                <a:t>Vlastní zdroj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Interní financování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samofinancování) –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yužití zisku po zdanění a odpisů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Externí financování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pomocí kapitálových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kladů) – podílník vkládá do podniku fin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středk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4882320" y="4915080"/>
              <a:ext cx="3920760" cy="1670040"/>
            </a:xfrm>
            <a:prstGeom prst="roundRect">
              <a:avLst>
                <a:gd name="adj" fmla="val 16667"/>
              </a:avLst>
            </a:prstGeom>
            <a:solidFill>
              <a:srgbClr val="838d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c0000"/>
                  </a:solidFill>
                  <a:latin typeface="Arial"/>
                  <a:ea typeface="Arial"/>
                </a:rPr>
                <a:t>Cizí zdroj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Úvě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Emitované cenné papíry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obligace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86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ff8600"/>
                  </a:solidFill>
                  <a:latin typeface="Arial"/>
                  <a:ea typeface="Arial"/>
                </a:rPr>
                <a:t>Zálohy odběratelů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86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ff8600"/>
                  </a:solidFill>
                  <a:latin typeface="Arial"/>
                  <a:ea typeface="Arial"/>
                </a:rPr>
                <a:t>Stálá pasiva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mzdy, SP, ZP, přijaté nájemné,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odvedené daně,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Dota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Zvláštní forma</a:t>
              </a:r>
              <a:r>
                <a:rPr b="0" lang="cs-CZ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leasing, faktoring, forfaiting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3152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Arial"/>
              </a:rPr>
              <a:t>FINANCOVÁNÍ PODNIKU I.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267920"/>
            <a:ext cx="7315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Arial"/>
              </a:rPr>
              <a:t>Krátkodobé financ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třeba určit, </a:t>
            </a:r>
            <a:r>
              <a:rPr b="1" lang="cs-CZ" sz="2800" spc="-1" strike="noStrike">
                <a:solidFill>
                  <a:srgbClr val="cc0000"/>
                </a:solidFill>
                <a:latin typeface="Arial"/>
              </a:rPr>
              <a:t>kolik peněz budeme v nejbližší době potřebovat a kde je vezmeme.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blém při krátkodobém financování spočívá v tom, že peníze za prodané výrobky, služby přicházejí v jinou dobu než je potřebuje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to je důležité sledovat tok peněz – </a:t>
            </a: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„cash flow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0:46:17Z</dcterms:created>
  <dc:creator>Huk</dc:creator>
  <dc:description/>
  <dc:language>en-US</dc:language>
  <cp:lastModifiedBy>Berka</cp:lastModifiedBy>
  <dcterms:modified xsi:type="dcterms:W3CDTF">2014-02-26T08:16:01Z</dcterms:modified>
  <cp:revision>73</cp:revision>
  <dc:subject/>
  <dc:title>EKONOMIKA PODNIKU</dc:title>
</cp:coreProperties>
</file>