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DDD9-5420-4AB9-A62C-07E686EBA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7EAB-7F3E-4CCD-8A6B-0E5FBA2DF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F5B89E2-DCD7-45AD-9689-EF1A35C5B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23991A3-85ED-4C40-BA67-205DCD504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4571614-BA8C-42C5-B275-0EF7A88DF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A019FB2-FD2B-49A5-BF75-D7604ED71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4DBACD3-D8A7-46AE-A4CA-04B7AA870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5627F3D-0C8B-4AC8-8A3C-9A6F60B93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CBD901E-CB74-40C1-8661-F11E8D0BB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631B913-3360-4DDF-9955-E4F89CBBA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E5BFB8F-7848-450B-85FA-207CBD401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15DC-9E26-4508-8463-FDEA10185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4615-09DC-4B8C-882B-2D5307F8C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47A87F-6E13-4CFA-A4D4-D0BF6ED70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83D9AB-D5BA-4EEA-8B43-7F1D4E9DC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5E344F-7448-4F36-A79F-8BE1C8F49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49C44B-390E-4E00-AE65-B3BA2CAD6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BD8404-2EDC-423F-9AF4-E8CE26C81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34FCC7-98D5-41A5-B747-568A22A7B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A80028-84FD-4E2C-A2C9-20344A0B7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F870-23F5-49F4-88D9-66EA76205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365BFC-13AE-49EC-A90F-FCC4C5024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E24494-1556-49FB-B9DB-232E7EAF8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AA4E74-5743-40E3-9330-1348B2DC2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0E13CD-ADB1-4A24-A61E-E35036924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D0E1E8-0F32-4AB7-89C1-AC1609DEF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7664C8-4101-4961-876D-90D5A8870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D9CF21-ADEE-49C7-AEBC-8082BEF58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4E39E0-C609-46DA-AFA4-1D7479953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D5EBD4-E1B3-4483-A1F6-E83B973FF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FE1950-03BA-42D7-832F-8FEBA9652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2075-B321-4160-8DCB-A8C528B98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D3FB52-9C35-45BB-857A-10F439B60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E99619-2BBD-44D3-A4C7-0395E9BD2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38D8FB-149D-41CD-BCE1-AA1865525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975CF7-03BE-4BC9-9EE3-20008C621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266037-ADCD-4F0B-AB3F-CA3533BA5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2062E1-07EF-4D47-B130-139F5292F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9AEDA5-2B3F-4713-AAA2-00DD8BB29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41DB3A4-D49A-4CD0-A331-AB883A8E0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F6B6113-AADA-4AE6-9885-D554B08D7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C09A965-BBC1-4B6E-872C-37D7D849C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58D9-91FD-4665-B7B7-29BA6EE29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212A11D-198C-4645-9399-EE5356B5A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0E227FE-A499-4942-8BDD-FDEBE369B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D5D0F0C-415F-4D59-AA9C-1BCC2B2CA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798DA53-DA7E-4FDD-B5B0-B77C6593B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ABCA561-0253-4EFB-BBCD-73036FE3A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65397E6-58F4-4DD6-B8D1-B899E07B5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D0ADA78-5936-4E61-A6E8-C370E0028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6CE8C58-20BA-4990-9C9D-DE907AD51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D0AA25A-D48C-4E13-BF69-888F24DFC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689918-0F38-4CD2-85D2-E900BA8D1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EA2E-0379-40C9-93CA-112839262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86C09A-847C-4959-A457-2195587AC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540B9B-A5F9-475B-92BA-BF2AB0B32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8C4D23-6A91-4DC8-B104-DC0089560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4320B3-8C5E-41E7-BEAC-B60F33962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D5522C-2691-4AB1-B7E9-544875D9C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CC1FD6-2A66-4A7C-BF63-48B14EAEF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54A0F9-1260-4A7A-BFEA-2BC351D2F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C7EB61-2D84-46A9-B5E8-398A12EC3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E93A78-0C1F-43C4-BCD3-F0BB7C9B0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306FF1-4F0A-405A-88D1-556F1B6BB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4451-D991-46E2-B987-600A05B93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3FC619-3BB5-44D3-AE71-EF4E95EFA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32DED9-96A1-4B4D-9BC3-12DB864DD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939032-B537-45F6-A88F-C4CA3E9BB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55ABD4-1CEB-4D51-80D8-80AE0A6A5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0DD600-2307-4622-BE8E-46779F369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6D4C66-136C-406F-9FD6-5F661120C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C9A8B2-BED7-4AB7-B788-1F24095D8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D8E026-9E54-432B-B1B4-D288C2E43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7D8818-4272-421E-8427-18A862DBE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1F9EAF-EE61-4F72-84BD-D749035E7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D7FB-EBFC-4F66-B2BF-97A6B0AD4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A6991A-69DF-4C29-ACC3-CBDF55C6B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10060C-33E3-42AB-B76E-298C8E0DD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0EEAE1-6CED-41C4-81D4-065C52C36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9A92F6-8976-4D9F-8D9E-25A0D17E8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C8CA93-D39E-4B29-AE2F-A549E9918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B9A103-9815-4CAC-858E-03CD51B82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03E5EF-6B9C-42FF-8888-98C4EB62A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05AEBB-4989-4C43-BB89-F091F2395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5497BF-591A-4051-A66A-5A8EBE87C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895962-EA7C-4F29-B7CA-12E7C715B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D861-E804-4362-B5D8-8D1D33CDE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AB074F-2FF5-4FE6-8B1B-1BB115FAD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1092B5-DA38-4CCA-B9A6-33C1046A8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B91700-E6E5-440B-A9A0-CB222B98F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94ECD4-694D-444D-BC86-3358ADE70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C48D4D-34F9-4B15-9D10-4FBD725DC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108E7CE-5743-4104-B142-5275BB453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C44A4E9-BF6D-492F-B584-1D48E2F11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989CFEF-0F80-4F09-9421-E2D5EF2C6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C440B5D-29D0-4B0A-925C-38A5AFEFB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B924C5F-3C33-4F21-9899-A16298F53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FC1A-E8B0-4A79-81B2-FD1B44386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D880FD9-1F89-4741-96C7-9264C58DA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672E7BA-EDAB-4297-B870-ADA324875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C30304F-F00D-4578-8A00-D3226F241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ADFF29D-6C01-434D-BEF6-EDCA58007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75C05A9-4A8D-4755-AE37-AB158F677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5257FF8-8F03-46AE-900F-B8A872E5D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1338F52-EA75-47D2-86DD-A317C1158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A002019-F055-4905-8CAB-75D6D4E66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AF81055-3147-4434-B7A5-6619AC0FC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8B51DC4-FD8B-47DF-93FC-1AA08A459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Obdélník se zakulaceným příčným rohem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1" name="Obdélník se zakulaceným příčným rohem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2AAF0-A588-4922-BD8F-D23A7188B2A8}" type="slidenum">
              <a:rPr b="0" lang="cs-CZ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Obdélník se zakulaceným příčným rohem 7"/>
          <p:cNvGrpSpPr/>
          <p:nvPr/>
        </p:nvGrpSpPr>
        <p:grpSpPr>
          <a:xfrm>
            <a:off x="158760" y="139680"/>
            <a:ext cx="8826480" cy="2517840"/>
            <a:chOff x="158760" y="139680"/>
            <a:chExt cx="8826480" cy="2517840"/>
          </a:xfrm>
        </p:grpSpPr>
        <p:pic>
          <p:nvPicPr>
            <p:cNvPr id="45" name="Obdélník se zakulaceným příčným rohem 7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6480" cy="251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09D12-7D11-4992-8A16-DB0E54F1F9C4}" type="slidenum">
              <a:rPr b="0" lang="cs-CZ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Obdélník se zakulaceným příčným rohem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89" name="Obdélník se zakulaceným příčným rohem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" name="Obdélník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19228-3D2A-41A3-9EAD-9F9399BC2631}" type="slidenum">
              <a:rPr b="0" lang="cs-CZ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Obdélník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26B0C-2FBA-475F-B1E9-BCD8FCAD97CE}" type="slidenum">
              <a:rPr b="0" lang="cs-CZ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Obdélník se zakulaceným příčným rohem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176" name="Obdélník se zakulaceným příčným rohem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8" name="Obdélník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1E760-1946-4A8D-9E29-A36D596D2B71}" type="slidenum">
              <a:rPr b="0" lang="cs-CZ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Obdélník se zakulaceným příčným rohem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221" name="Obdélník se zakulaceným příčným rohem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3" name="Obdélník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Obdélník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B4CA9-6764-43A6-9B90-C15AB42768CB}" type="slidenum">
              <a:rPr b="0" lang="cs-CZ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Obdélník se zakulaceným příčným rohem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267" name="Obdélník se zakulaceným příčným rohem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9" name="Obdélník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D61CC-B181-4C4A-9443-3EDF27029BE4}" type="slidenum">
              <a:rPr b="0" lang="cs-CZ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Obdélník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58E39-56DC-441C-83E9-C70E40BE30B6}" type="slidenum">
              <a:rPr b="0" lang="cs-CZ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CFAD8-AFD4-4CB0-BE11-A7CE3734C7A9}" type="slidenum">
              <a:rPr b="0" lang="cs-CZ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Nadpis 1" descr=""/>
          <p:cNvPicPr/>
          <p:nvPr/>
        </p:nvPicPr>
        <p:blipFill>
          <a:blip r:embed="rId1"/>
          <a:stretch/>
        </p:blipFill>
        <p:spPr>
          <a:xfrm>
            <a:off x="463680" y="3645000"/>
            <a:ext cx="8229600" cy="252396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463680" y="278136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Rockwell"/>
              </a:rPr>
              <a:t>VY_32_INOVACE_072_Ekonomika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396" name="Obrázek 3" descr=""/>
          <p:cNvPicPr/>
          <p:nvPr/>
        </p:nvPicPr>
        <p:blipFill>
          <a:blip r:embed="rId2"/>
          <a:stretch/>
        </p:blipFill>
        <p:spPr>
          <a:xfrm>
            <a:off x="1536840" y="620640"/>
            <a:ext cx="608328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Rectangle 2" descr=""/>
          <p:cNvPicPr/>
          <p:nvPr/>
        </p:nvPicPr>
        <p:blipFill>
          <a:blip r:embed="rId1"/>
          <a:stretch/>
        </p:blipFill>
        <p:spPr>
          <a:xfrm>
            <a:off x="457200" y="6480"/>
            <a:ext cx="8229600" cy="114588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 txBox="1"/>
          <p:nvPr/>
        </p:nvSpPr>
        <p:spPr>
          <a:xfrm>
            <a:off x="450720" y="1412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c00"/>
                </a:solidFill>
                <a:latin typeface="Rockwell"/>
              </a:rPr>
              <a:t>Povinnosti podnikatele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Rockwell"/>
              </a:rPr>
              <a:t>Jsou vymezeny v živnostenském zákoně: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Rockwell"/>
              </a:rPr>
              <a:t>Firma musí být </a:t>
            </a:r>
            <a:r>
              <a:rPr b="0" i="1" lang="cs-CZ" sz="2400" spc="-1" strike="noStrike">
                <a:solidFill>
                  <a:srgbClr val="cc0000"/>
                </a:solidFill>
                <a:latin typeface="Rockwell"/>
              </a:rPr>
              <a:t>viditelně označena obchodním jménem</a:t>
            </a:r>
            <a:r>
              <a:rPr b="0" lang="cs-CZ" sz="2400" spc="-1" strike="noStrike">
                <a:solidFill>
                  <a:srgbClr val="cc0000"/>
                </a:solidFill>
                <a:latin typeface="Rockwell"/>
              </a:rPr>
              <a:t>,</a:t>
            </a:r>
            <a:r>
              <a:rPr b="0" lang="cs-CZ" sz="2400" spc="-1" strike="noStrike">
                <a:solidFill>
                  <a:srgbClr val="ffffff"/>
                </a:solidFill>
                <a:latin typeface="Rockwell"/>
              </a:rPr>
              <a:t> případně </a:t>
            </a:r>
            <a:r>
              <a:rPr b="0" i="1" lang="cs-CZ" sz="2400" spc="-1" strike="noStrike">
                <a:solidFill>
                  <a:srgbClr val="cc0000"/>
                </a:solidFill>
                <a:latin typeface="Rockwell"/>
              </a:rPr>
              <a:t>předmětem podnikání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Rockwell"/>
              </a:rPr>
              <a:t>Umožnit živnostenskému úřadu </a:t>
            </a:r>
            <a:r>
              <a:rPr b="0" lang="cs-CZ" sz="2400" spc="-1" strike="noStrike">
                <a:solidFill>
                  <a:srgbClr val="ffcc00"/>
                </a:solidFill>
                <a:latin typeface="Rockwell"/>
              </a:rPr>
              <a:t>prohlídku firmy před i v průběhu provádění živnosti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Rockwell"/>
              </a:rPr>
              <a:t>Před uzavřením firmy alespoň </a:t>
            </a:r>
            <a:r>
              <a:rPr b="0" i="1" lang="cs-CZ" sz="2400" spc="-1" strike="noStrike">
                <a:solidFill>
                  <a:srgbClr val="cc0000"/>
                </a:solidFill>
                <a:latin typeface="Rockwell"/>
              </a:rPr>
              <a:t>3 dny předem zveřejnit počátek a konec uzavření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00"/>
                </a:solidFill>
                <a:latin typeface="Rockwell"/>
              </a:rPr>
              <a:t>Označit zboží cenami</a:t>
            </a:r>
            <a:r>
              <a:rPr b="0" lang="cs-CZ" sz="2400" spc="-1" strike="noStrike">
                <a:solidFill>
                  <a:srgbClr val="ffffff"/>
                </a:solidFill>
                <a:latin typeface="Rockwell"/>
              </a:rPr>
              <a:t> nebo zpřístupnit zákazníkům </a:t>
            </a:r>
            <a:r>
              <a:rPr b="0" lang="cs-CZ" sz="2400" spc="-1" strike="noStrike">
                <a:solidFill>
                  <a:srgbClr val="ffcc00"/>
                </a:solidFill>
                <a:latin typeface="Rockwell"/>
              </a:rPr>
              <a:t>ceník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Rectangle 2" descr=""/>
          <p:cNvPicPr/>
          <p:nvPr/>
        </p:nvPicPr>
        <p:blipFill>
          <a:blip r:embed="rId1"/>
          <a:stretch/>
        </p:blipFill>
        <p:spPr>
          <a:xfrm>
            <a:off x="457200" y="11592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457200" y="14130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74320" indent="-27432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74320" indent="-27432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c00"/>
                </a:solidFill>
                <a:latin typeface="Rockwell"/>
              </a:rPr>
              <a:t>Povinnosti podnikatele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74320" indent="-27432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 marL="274320" indent="-274320">
              <a:lnSpc>
                <a:spcPct val="80000"/>
              </a:lnSpc>
              <a:buClr>
                <a:srgbClr val="72a37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Rockwell"/>
              </a:rPr>
              <a:t>Na vyžádání zákazníka vydat </a:t>
            </a:r>
            <a:r>
              <a:rPr b="0" i="1" lang="cs-CZ" sz="2800" spc="-1" strike="noStrike">
                <a:solidFill>
                  <a:srgbClr val="cc0000"/>
                </a:solidFill>
                <a:latin typeface="Rockwell"/>
              </a:rPr>
              <a:t>doklad o zakoupení zboží nebo poskytnuté služby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74320" indent="-274320">
              <a:lnSpc>
                <a:spcPct val="80000"/>
              </a:lnSpc>
              <a:buClr>
                <a:srgbClr val="72a37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74320" indent="-274320">
              <a:lnSpc>
                <a:spcPct val="80000"/>
              </a:lnSpc>
              <a:buClr>
                <a:srgbClr val="72a37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Rockwell"/>
              </a:rPr>
              <a:t>Kontrolním orgánům prokázat </a:t>
            </a:r>
            <a:r>
              <a:rPr b="0" lang="cs-CZ" sz="2800" spc="-1" strike="noStrike">
                <a:solidFill>
                  <a:srgbClr val="ffcc00"/>
                </a:solidFill>
                <a:latin typeface="Rockwell"/>
              </a:rPr>
              <a:t>hodnověrnost nabytého zboží</a:t>
            </a:r>
            <a:r>
              <a:rPr b="0" lang="cs-CZ" sz="2800" spc="-1" strike="noStrike">
                <a:solidFill>
                  <a:srgbClr val="ffffff"/>
                </a:solidFill>
                <a:latin typeface="Rockwell"/>
              </a:rPr>
              <a:t> (původ zboží)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74320" indent="-274320">
              <a:lnSpc>
                <a:spcPct val="80000"/>
              </a:lnSpc>
              <a:buClr>
                <a:srgbClr val="72a37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74320" indent="-274320">
              <a:lnSpc>
                <a:spcPct val="80000"/>
              </a:lnSpc>
              <a:buClr>
                <a:srgbClr val="72a37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Rockwell"/>
              </a:rPr>
              <a:t>Zaměstnanci jsou způsobilí pro výkon povolání a svojí </a:t>
            </a:r>
            <a:r>
              <a:rPr b="0" i="1" lang="cs-CZ" sz="2800" spc="-1" strike="noStrike">
                <a:solidFill>
                  <a:srgbClr val="cc0000"/>
                </a:solidFill>
                <a:latin typeface="Rockwell"/>
              </a:rPr>
              <a:t>bezpečnost a hygienickými předpisy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74320" indent="-274320">
              <a:lnSpc>
                <a:spcPct val="80000"/>
              </a:lnSpc>
              <a:buClr>
                <a:srgbClr val="72a37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74320" indent="-274320">
              <a:lnSpc>
                <a:spcPct val="80000"/>
              </a:lnSpc>
              <a:buClr>
                <a:srgbClr val="72a37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Rockwell"/>
              </a:rPr>
              <a:t>Vyžaduje-li to povaha práce, odpovídá, že se </a:t>
            </a:r>
            <a:r>
              <a:rPr b="0" lang="cs-CZ" sz="2800" spc="-1" strike="noStrike">
                <a:solidFill>
                  <a:srgbClr val="ffcc00"/>
                </a:solidFill>
                <a:latin typeface="Rockwell"/>
              </a:rPr>
              <a:t>zaměstnanci podrobili lékařské prohlídce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Rectangle 2" descr=""/>
          <p:cNvPicPr/>
          <p:nvPr/>
        </p:nvPicPr>
        <p:blipFill>
          <a:blip r:embed="rId1"/>
          <a:stretch/>
        </p:blipFill>
        <p:spPr>
          <a:xfrm>
            <a:off x="396720" y="11592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45720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c00"/>
                </a:solidFill>
                <a:latin typeface="Rockwell"/>
              </a:rPr>
              <a:t>Povinnosti podnikatele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cc0000"/>
                </a:solidFill>
                <a:latin typeface="Rockwell"/>
              </a:rPr>
              <a:t>Chránit životní a pracovní prostředí, přírodní zdroje</a:t>
            </a:r>
            <a:r>
              <a:rPr b="0" lang="cs-CZ" sz="2800" spc="-1" strike="noStrike">
                <a:solidFill>
                  <a:srgbClr val="ffffff"/>
                </a:solidFill>
                <a:latin typeface="Rockwell"/>
              </a:rPr>
              <a:t> během jeho činnosti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c00"/>
                </a:solidFill>
                <a:latin typeface="Rockwell"/>
              </a:rPr>
              <a:t>Vést účetnictví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Rockwell"/>
              </a:rPr>
              <a:t>Odvádět </a:t>
            </a:r>
            <a:r>
              <a:rPr b="0" i="1" lang="cs-CZ" sz="2800" spc="-1" strike="noStrike">
                <a:solidFill>
                  <a:srgbClr val="cc0000"/>
                </a:solidFill>
                <a:latin typeface="Rockwell"/>
              </a:rPr>
              <a:t>SP a ZP, zálohy na daň z příjmů za zaměstnance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Rockwell"/>
              </a:rPr>
              <a:t>Odvádět státu </a:t>
            </a:r>
            <a:r>
              <a:rPr b="0" lang="cs-CZ" sz="2800" spc="-1" strike="noStrike">
                <a:solidFill>
                  <a:srgbClr val="ffcc00"/>
                </a:solidFill>
                <a:latin typeface="Rockwell"/>
              </a:rPr>
              <a:t>daň z podnikatelské činnosti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cc0000"/>
                </a:solidFill>
                <a:latin typeface="Rockwell"/>
              </a:rPr>
              <a:t>Nedopouštět se nekalé soutěže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Nadpis 1" descr=""/>
          <p:cNvPicPr/>
          <p:nvPr/>
        </p:nvPicPr>
        <p:blipFill>
          <a:blip r:embed="rId1"/>
          <a:stretch/>
        </p:blipFill>
        <p:spPr>
          <a:xfrm>
            <a:off x="396720" y="19080"/>
            <a:ext cx="8229600" cy="113976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468360" y="1412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000"/>
                </a:solidFill>
                <a:latin typeface="Rockwell"/>
              </a:rPr>
              <a:t>Podnikatelská etika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cc0000"/>
                </a:solidFill>
                <a:latin typeface="Rockwell"/>
              </a:rPr>
              <a:t>„</a:t>
            </a:r>
            <a:r>
              <a:rPr b="0" lang="cs-CZ" sz="2800" spc="-1" strike="noStrike">
                <a:solidFill>
                  <a:srgbClr val="cc0000"/>
                </a:solidFill>
                <a:latin typeface="Rockwell"/>
              </a:rPr>
              <a:t>Podnikatelská etika“ </a:t>
            </a:r>
            <a:r>
              <a:rPr b="0" lang="cs-CZ" sz="2800" spc="-1" strike="noStrike">
                <a:solidFill>
                  <a:srgbClr val="ffffff"/>
                </a:solidFill>
                <a:latin typeface="Rockwell"/>
              </a:rPr>
              <a:t>- zodpovědnost a dodržování etických závazků podnikatelů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c00"/>
                </a:solidFill>
                <a:latin typeface="Rockwell"/>
              </a:rPr>
              <a:t>Zahrnuje: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Rockwell"/>
            </a:endParaRPr>
          </a:p>
          <a:p>
            <a:pPr>
              <a:buClr>
                <a:srgbClr val="72a37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Rockwell"/>
              </a:rPr>
              <a:t>morální principy a standardy, podle kterých by se mělo řídit chování v oblasti podnikání, 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>
              <a:buClr>
                <a:srgbClr val="72a37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  <a:p>
            <a:pPr>
              <a:buClr>
                <a:srgbClr val="72a37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Rockwell"/>
              </a:rPr>
              <a:t>pravidla,  normy, kodexy, principy a návody na morální, správné chování se a pravdivost ve specifických podnikatelských situacích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Nadpis 1" descr=""/>
          <p:cNvPicPr/>
          <p:nvPr/>
        </p:nvPicPr>
        <p:blipFill>
          <a:blip r:embed="rId1"/>
          <a:stretch/>
        </p:blipFill>
        <p:spPr>
          <a:xfrm>
            <a:off x="457200" y="11592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 txBox="1"/>
          <p:nvPr/>
        </p:nvSpPr>
        <p:spPr>
          <a:xfrm>
            <a:off x="457200" y="1483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000"/>
                </a:solidFill>
                <a:latin typeface="Rockwell"/>
              </a:rPr>
              <a:t>Podnikatelská etika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cc0000"/>
                </a:solidFill>
                <a:latin typeface="Rockwell"/>
              </a:rPr>
              <a:t>Etika chování podnikatele je založená na: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  <a:p>
            <a:pPr>
              <a:buClr>
                <a:srgbClr val="72a37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cs-CZ" sz="3600" spc="-1" strike="noStrike">
                <a:solidFill>
                  <a:srgbClr val="ffffff"/>
                </a:solidFill>
                <a:latin typeface="Rockwell"/>
              </a:rPr>
              <a:t>čestnosti, 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>
              <a:buClr>
                <a:srgbClr val="72a37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cs-CZ" sz="3600" spc="-1" strike="noStrike">
                <a:solidFill>
                  <a:srgbClr val="ffffff"/>
                </a:solidFill>
                <a:latin typeface="Rockwell"/>
              </a:rPr>
              <a:t>otevřenosti, 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>
              <a:buClr>
                <a:srgbClr val="72a37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cs-CZ" sz="3600" spc="-1" strike="noStrike">
                <a:solidFill>
                  <a:srgbClr val="ffffff"/>
                </a:solidFill>
                <a:latin typeface="Rockwell"/>
              </a:rPr>
              <a:t>dodržení slova, 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>
              <a:buClr>
                <a:srgbClr val="72a37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cs-CZ" sz="3600" spc="-1" strike="noStrike">
                <a:solidFill>
                  <a:srgbClr val="ffffff"/>
                </a:solidFill>
                <a:latin typeface="Rockwell"/>
              </a:rPr>
              <a:t>ctění zákonů,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>
              <a:buClr>
                <a:srgbClr val="72a37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cs-CZ" sz="3600" spc="-1" strike="noStrike">
                <a:solidFill>
                  <a:srgbClr val="ffffff"/>
                </a:solidFill>
                <a:latin typeface="Rockwell"/>
              </a:rPr>
              <a:t>dovednosti podnikat.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Nadpis 1" descr=""/>
          <p:cNvPicPr/>
          <p:nvPr/>
        </p:nvPicPr>
        <p:blipFill>
          <a:blip r:embed="rId1"/>
          <a:stretch/>
        </p:blipFill>
        <p:spPr>
          <a:xfrm>
            <a:off x="457200" y="11592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24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c00"/>
                </a:solidFill>
                <a:latin typeface="Rockwell"/>
              </a:rPr>
              <a:t>Použitá literatura: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Rockwell"/>
              </a:rPr>
              <a:t>KLÍNSKÝ, P., MÜNCH, O. </a:t>
            </a:r>
            <a:r>
              <a:rPr b="0" i="1" lang="cs-CZ" sz="2000" spc="-1" strike="noStrike">
                <a:solidFill>
                  <a:srgbClr val="ffffff"/>
                </a:solidFill>
                <a:latin typeface="Rockwell"/>
              </a:rPr>
              <a:t>Ekonomika 1 pro obchodní akademie a ostatní střední školy. </a:t>
            </a:r>
            <a:r>
              <a:rPr b="0" lang="cs-CZ" sz="2000" spc="-1" strike="noStrike">
                <a:solidFill>
                  <a:srgbClr val="ffffff"/>
                </a:solidFill>
                <a:latin typeface="Rockwell"/>
              </a:rPr>
              <a:t>3. vyd. Praha: Eduko nakladatelství, s. r. o., 2010, 152 s. ISBN 978-80-87204-24-5.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Nadpis 1" descr=""/>
          <p:cNvPicPr/>
          <p:nvPr/>
        </p:nvPicPr>
        <p:blipFill>
          <a:blip r:embed="rId1"/>
          <a:stretch/>
        </p:blipFill>
        <p:spPr>
          <a:xfrm>
            <a:off x="457200" y="255600"/>
            <a:ext cx="8229600" cy="1139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98" name=""/>
          <p:cNvGraphicFramePr/>
          <p:nvPr/>
        </p:nvGraphicFramePr>
        <p:xfrm>
          <a:off x="457200" y="1600200"/>
          <a:ext cx="8229600" cy="4956120"/>
        </p:xfrm>
        <a:graphic>
          <a:graphicData uri="http://schemas.openxmlformats.org/drawingml/2006/table">
            <a:tbl>
              <a:tblPr/>
              <a:tblGrid>
                <a:gridCol w="2962440"/>
                <a:gridCol w="5267160"/>
              </a:tblGrid>
              <a:tr h="343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Rockwell"/>
                          <a:ea typeface="Calibri"/>
                        </a:rPr>
                        <a:t>Název škol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72a37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Rockwell"/>
                          <a:ea typeface="Times New Roman"/>
                        </a:rPr>
                        <a:t>SŠTZ Mohelnice, 1. máje 2, 789 85 Mohelnic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72a376"/>
                    </a:solidFill>
                  </a:tcPr>
                </a:tc>
              </a:tr>
              <a:tr h="3427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Rockwell"/>
                          <a:ea typeface="Calibri"/>
                        </a:rPr>
                        <a:t>Číslo projektu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Rockwell"/>
                          <a:ea typeface="Arial"/>
                        </a:rPr>
                        <a:t>SŠTZ Mohelnice, 1. máje 2, 789 85 Mohelnic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412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Rockwell"/>
                          <a:ea typeface="Calibri"/>
                        </a:rPr>
                        <a:t>Název šablony klíčové aktivit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Rockwell"/>
                          <a:ea typeface="Arial"/>
                        </a:rPr>
                        <a:t>CZ.1.07/1.5.00/34.003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2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Rockwell"/>
                          <a:ea typeface="Calibri"/>
                        </a:rPr>
                        <a:t>Název výukového materiálu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Rockwell"/>
                          <a:ea typeface="Calibri"/>
                        </a:rPr>
                        <a:t>Podnikate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427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Rockwell"/>
                          <a:ea typeface="Calibri"/>
                        </a:rPr>
                        <a:t>Označení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Rockwell"/>
                          <a:ea typeface="Calibri"/>
                        </a:rPr>
                        <a:t>VY_32_INOVACE_072_Ekonomik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43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Rockwell"/>
                          <a:ea typeface="Calibri"/>
                        </a:rPr>
                        <a:t>Vzdělávací obo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Rockwell"/>
                          <a:ea typeface="Calibri"/>
                        </a:rPr>
                        <a:t>64-41-L/5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427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Rockwell"/>
                          <a:ea typeface="Calibri"/>
                        </a:rPr>
                        <a:t>Tematická oblas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Rockwell"/>
                          <a:ea typeface="Calibri"/>
                        </a:rPr>
                        <a:t>Ekonomika a práv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412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Rockwell"/>
                          <a:ea typeface="Calibri"/>
                        </a:rPr>
                        <a:t>Ročník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Rockwell"/>
                          <a:ea typeface="Calibri"/>
                        </a:rPr>
                        <a:t>první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43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Rockwell"/>
                          <a:ea typeface="Calibri"/>
                        </a:rPr>
                        <a:t>Auto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Rockwell"/>
                          <a:ea typeface="Calibri"/>
                        </a:rPr>
                        <a:t>Mgr. Roman Berk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427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Rockwell"/>
                          <a:ea typeface="Calibri"/>
                        </a:rPr>
                        <a:t>Datum ověření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Rockwell"/>
                          <a:ea typeface="Calibri"/>
                        </a:rPr>
                        <a:t>10. 1. 201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351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Rockwell"/>
                          <a:ea typeface="Calibri"/>
                        </a:rPr>
                        <a:t>Anotace / metodický popi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Rockwell"/>
                          <a:ea typeface="Calibri"/>
                        </a:rPr>
                        <a:t>Materiál slouží k získání přehledu o osobnosti podnikatele, podnikateli jako manažerovi, podnikateli FO a PO, povinnostech podnikatele a podnikatelské etice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43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Rockwell"/>
                          <a:ea typeface="Calibri"/>
                        </a:rPr>
                        <a:t>Podpis autor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Rockwell"/>
                          <a:ea typeface="Calibri"/>
                        </a:rPr>
                        <a:t>Mgr. Roman Berk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427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Rockwell"/>
                          <a:ea typeface="Calibri"/>
                        </a:rPr>
                        <a:t>Podpis ředite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Nadpis 1" descr=""/>
          <p:cNvPicPr/>
          <p:nvPr/>
        </p:nvPicPr>
        <p:blipFill>
          <a:blip r:embed="rId1"/>
          <a:stretch/>
        </p:blipFill>
        <p:spPr>
          <a:xfrm>
            <a:off x="457200" y="6480"/>
            <a:ext cx="8229600" cy="114588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 txBox="1"/>
          <p:nvPr/>
        </p:nvSpPr>
        <p:spPr>
          <a:xfrm>
            <a:off x="457200" y="1484280"/>
            <a:ext cx="8229600" cy="47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>
              <a:buClr>
                <a:srgbClr val="72a37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Rockwell"/>
              </a:rPr>
              <a:t>Podnikat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>
              <a:buClr>
                <a:srgbClr val="72a37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Rockwell"/>
              </a:rPr>
              <a:t>Osobnost podnikatele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>
              <a:buClr>
                <a:srgbClr val="72a37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Rockwell"/>
              </a:rPr>
              <a:t>Podnikatel jako manažer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>
              <a:buClr>
                <a:srgbClr val="72a37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Rockwell"/>
              </a:rPr>
              <a:t>Podnikatel jako fyzická osoba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>
              <a:buClr>
                <a:srgbClr val="72a37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Rockwell"/>
              </a:rPr>
              <a:t>Podnikatel jako právnická osoba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>
              <a:buClr>
                <a:srgbClr val="72a37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Rockwell"/>
              </a:rPr>
              <a:t>Povinnosti podnikatele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>
              <a:buClr>
                <a:srgbClr val="72a37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Rockwell"/>
              </a:rPr>
              <a:t>Podnikatelská etika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c000"/>
                </a:solidFill>
                <a:latin typeface="Rockwell"/>
              </a:rPr>
              <a:t>1. ročník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Nadpis 1" descr=""/>
          <p:cNvPicPr/>
          <p:nvPr/>
        </p:nvPicPr>
        <p:blipFill>
          <a:blip r:embed="rId1"/>
          <a:stretch/>
        </p:blipFill>
        <p:spPr>
          <a:xfrm>
            <a:off x="457200" y="11592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457200" y="1483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cc00"/>
                </a:solidFill>
                <a:latin typeface="Rockwell"/>
              </a:rPr>
              <a:t>„</a:t>
            </a:r>
            <a:r>
              <a:rPr b="1" lang="cs-CZ" sz="2800" spc="-1" strike="noStrike">
                <a:solidFill>
                  <a:srgbClr val="ffcc00"/>
                </a:solidFill>
                <a:latin typeface="Rockwell"/>
              </a:rPr>
              <a:t>Podnikatel“</a:t>
            </a:r>
            <a:r>
              <a:rPr b="0" lang="cs-CZ" sz="2400" spc="-1" strike="noStrike">
                <a:solidFill>
                  <a:srgbClr val="ffcc00"/>
                </a:solidFill>
                <a:latin typeface="Rockwell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Rockwell"/>
              </a:rPr>
              <a:t>– samostatný právní subjekt, který vyvíjí svou činnost svým jménem, na vlastní účet a s úsilím dosáhnout zisku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cc0000"/>
                </a:solidFill>
                <a:latin typeface="Rockwell"/>
              </a:rPr>
              <a:t>Podnikatelem může být: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Rockwel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00"/>
                </a:solidFill>
                <a:latin typeface="Rockwell"/>
              </a:rPr>
              <a:t>FO</a:t>
            </a:r>
            <a:r>
              <a:rPr b="0" lang="cs-CZ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cs-CZ" sz="2400" spc="-1" strike="noStrike">
                <a:solidFill>
                  <a:srgbClr val="ffcc00"/>
                </a:solidFill>
                <a:latin typeface="Rockwell"/>
              </a:rPr>
              <a:t>(fyzická osoba)</a:t>
            </a:r>
            <a:r>
              <a:rPr b="0" lang="cs-CZ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Rockwell"/>
              </a:rPr>
              <a:t>– každý jedinec, občan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Rockwel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00"/>
                </a:solidFill>
                <a:latin typeface="Rockwell"/>
              </a:rPr>
              <a:t>PO</a:t>
            </a:r>
            <a:r>
              <a:rPr b="0" lang="cs-CZ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cs-CZ" sz="2400" spc="-1" strike="noStrike">
                <a:solidFill>
                  <a:srgbClr val="ffcc00"/>
                </a:solidFill>
                <a:latin typeface="Rockwell"/>
              </a:rPr>
              <a:t>(právnická osoba)</a:t>
            </a:r>
            <a:r>
              <a:rPr b="0" lang="cs-CZ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Rockwell"/>
              </a:rPr>
              <a:t>– skupina lidí (obchodní společnosti, politické strany, družstva, …)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Rockwel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cc0000"/>
                </a:solidFill>
                <a:latin typeface="Rockwell"/>
              </a:rPr>
              <a:t>Podnikání podnikatel uskutečňuje prostřednictvím podniku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Rockwell"/>
              </a:rPr>
              <a:t>Podnik, který vystupuje pod obchodním jménem se označuje </a:t>
            </a:r>
            <a:r>
              <a:rPr b="0" lang="cs-CZ" sz="2400" spc="-1" strike="noStrike">
                <a:solidFill>
                  <a:srgbClr val="ffcc00"/>
                </a:solidFill>
                <a:latin typeface="Rockwell"/>
              </a:rPr>
              <a:t>„firma“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Nadpis 1" descr=""/>
          <p:cNvPicPr/>
          <p:nvPr/>
        </p:nvPicPr>
        <p:blipFill>
          <a:blip r:embed="rId1"/>
          <a:stretch/>
        </p:blipFill>
        <p:spPr>
          <a:xfrm>
            <a:off x="457200" y="11592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85840" indent="-28584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c00"/>
                </a:solidFill>
                <a:latin typeface="Rockwell"/>
              </a:rPr>
              <a:t>Osobnost podnikatele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85840" indent="-2858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85840" indent="-2858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cc0000"/>
                </a:solidFill>
                <a:latin typeface="Rockwell"/>
              </a:rPr>
              <a:t>Osobnost podnikatele je spojení: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85840" indent="-2858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85840" indent="-285840">
              <a:lnSpc>
                <a:spcPct val="80000"/>
              </a:lnSpc>
              <a:buClr>
                <a:srgbClr val="72a37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Rockwell"/>
              </a:rPr>
              <a:t>odborných schopností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85840" indent="-285840">
              <a:lnSpc>
                <a:spcPct val="80000"/>
              </a:lnSpc>
              <a:buClr>
                <a:srgbClr val="72a37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85840" indent="-285840">
              <a:lnSpc>
                <a:spcPct val="80000"/>
              </a:lnSpc>
              <a:buClr>
                <a:srgbClr val="72a37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Rockwell"/>
              </a:rPr>
              <a:t>řídících schopností a jeho přístup k práci s lidmi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85840" indent="-285840">
              <a:lnSpc>
                <a:spcPct val="80000"/>
              </a:lnSpc>
              <a:buClr>
                <a:srgbClr val="72a37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85840" indent="-285840">
              <a:lnSpc>
                <a:spcPct val="80000"/>
              </a:lnSpc>
              <a:buClr>
                <a:srgbClr val="72a37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Rockwell"/>
              </a:rPr>
              <a:t>lidských a charakterových vlastností každého podnikatele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85840" indent="-285840">
              <a:lnSpc>
                <a:spcPct val="80000"/>
              </a:lnSpc>
              <a:buClr>
                <a:srgbClr val="72a37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85840" indent="-285840">
              <a:lnSpc>
                <a:spcPct val="80000"/>
              </a:lnSpc>
              <a:buClr>
                <a:srgbClr val="72a37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Rockwell"/>
              </a:rPr>
              <a:t>podnikatelský záměr, myšlenka, kterou hodlá uskutečnit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85840" indent="-28584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Nadpis 1" descr=""/>
          <p:cNvPicPr/>
          <p:nvPr/>
        </p:nvPicPr>
        <p:blipFill>
          <a:blip r:embed="rId1"/>
          <a:stretch/>
        </p:blipFill>
        <p:spPr>
          <a:xfrm>
            <a:off x="457200" y="6480"/>
            <a:ext cx="8229600" cy="114588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000"/>
                </a:solidFill>
                <a:latin typeface="Rockwell"/>
              </a:rPr>
              <a:t>Podnikatel jako manažer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cc0000"/>
                </a:solidFill>
                <a:latin typeface="Rockwell"/>
              </a:rPr>
              <a:t>Požadavky: 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  <a:p>
            <a:pPr>
              <a:buClr>
                <a:srgbClr val="72a37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Rockwell"/>
              </a:rPr>
              <a:t>image, 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>
              <a:buClr>
                <a:srgbClr val="72a37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Rockwell"/>
              </a:rPr>
              <a:t>vnější prezentace, 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>
              <a:buClr>
                <a:srgbClr val="72a37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Rockwell"/>
              </a:rPr>
              <a:t>pozitivní myšlení, 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>
              <a:buClr>
                <a:srgbClr val="72a37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Rockwell"/>
              </a:rPr>
              <a:t>motor změn, strategie, 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>
              <a:buClr>
                <a:srgbClr val="72a37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Rockwell"/>
              </a:rPr>
              <a:t>úvaha, odvaha, 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>
              <a:buClr>
                <a:srgbClr val="72a37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Rockwell"/>
              </a:rPr>
              <a:t>očekávat budoucí situace, flexibilita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Nadpis 1" descr=""/>
          <p:cNvPicPr/>
          <p:nvPr/>
        </p:nvPicPr>
        <p:blipFill>
          <a:blip r:embed="rId1"/>
          <a:stretch/>
        </p:blipFill>
        <p:spPr>
          <a:xfrm>
            <a:off x="457200" y="11592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000"/>
                </a:solidFill>
                <a:latin typeface="Rockwell"/>
              </a:rPr>
              <a:t>Podnikatel jako manažer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cc0000"/>
                </a:solidFill>
                <a:latin typeface="Rockwell"/>
              </a:rPr>
              <a:t>Dovednosti: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000"/>
                </a:solidFill>
                <a:latin typeface="Rockwell"/>
              </a:rPr>
              <a:t>a) technické </a:t>
            </a:r>
            <a:r>
              <a:rPr b="0" lang="cs-CZ" sz="2800" spc="-1" strike="noStrike">
                <a:solidFill>
                  <a:srgbClr val="ffc000"/>
                </a:solidFill>
                <a:latin typeface="Rockwell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Rockwell"/>
              </a:rPr>
              <a:t>-</a:t>
            </a:r>
            <a:r>
              <a:rPr b="0" lang="cs-CZ" sz="2800" spc="-1" strike="noStrike">
                <a:solidFill>
                  <a:srgbClr val="ffc000"/>
                </a:solidFill>
                <a:latin typeface="Rockwell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Rockwell"/>
              </a:rPr>
              <a:t>znalost činností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000"/>
                </a:solidFill>
                <a:latin typeface="Rockwell"/>
              </a:rPr>
              <a:t>b) lidské </a:t>
            </a:r>
            <a:r>
              <a:rPr b="0" lang="cs-CZ" sz="2800" spc="-1" strike="noStrike">
                <a:solidFill>
                  <a:srgbClr val="ffc000"/>
                </a:solidFill>
                <a:latin typeface="Rockwell"/>
              </a:rPr>
              <a:t>	</a:t>
            </a:r>
            <a:r>
              <a:rPr b="0" lang="cs-CZ" sz="2800" spc="-1" strike="noStrike">
                <a:solidFill>
                  <a:srgbClr val="ffc000"/>
                </a:solidFill>
                <a:latin typeface="Rockwell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Rockwell"/>
              </a:rPr>
              <a:t>-</a:t>
            </a:r>
            <a:r>
              <a:rPr b="0" lang="cs-CZ" sz="2800" spc="-1" strike="noStrike">
                <a:solidFill>
                  <a:srgbClr val="ffc000"/>
                </a:solidFill>
                <a:latin typeface="Rockwell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Rockwell"/>
              </a:rPr>
              <a:t>způsobilost pracovat s lidmi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000"/>
                </a:solidFill>
                <a:latin typeface="Rockwell"/>
              </a:rPr>
              <a:t>c) koncepční </a:t>
            </a:r>
            <a:r>
              <a:rPr b="0" lang="cs-CZ" sz="2800" spc="-1" strike="noStrike">
                <a:solidFill>
                  <a:srgbClr val="ffc000"/>
                </a:solidFill>
                <a:latin typeface="Rockwell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Rockwell"/>
              </a:rPr>
              <a:t>-</a:t>
            </a:r>
            <a:r>
              <a:rPr b="0" lang="cs-CZ" sz="2800" spc="-1" strike="noStrike">
                <a:solidFill>
                  <a:srgbClr val="ffc000"/>
                </a:solidFill>
                <a:latin typeface="Rockwell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Rockwell"/>
              </a:rPr>
              <a:t>schopnost rozeznat významné </a:t>
            </a:r>
            <a:r>
              <a:rPr b="0" lang="cs-CZ" sz="28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Rockwell"/>
              </a:rPr>
              <a:t>body určité situace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000"/>
                </a:solidFill>
                <a:latin typeface="Rockwell"/>
              </a:rPr>
              <a:t>d) projekční </a:t>
            </a:r>
            <a:r>
              <a:rPr b="0" lang="cs-CZ" sz="2800" spc="-1" strike="noStrike">
                <a:solidFill>
                  <a:srgbClr val="ffc000"/>
                </a:solidFill>
                <a:latin typeface="Rockwell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Rockwell"/>
              </a:rPr>
              <a:t>-</a:t>
            </a:r>
            <a:r>
              <a:rPr b="0" lang="cs-CZ" sz="2800" spc="-1" strike="noStrike">
                <a:solidFill>
                  <a:srgbClr val="ffc000"/>
                </a:solidFill>
                <a:latin typeface="Rockwell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Rockwell"/>
              </a:rPr>
              <a:t>efektivně řešit problémy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Rectangle 2" descr=""/>
          <p:cNvPicPr/>
          <p:nvPr/>
        </p:nvPicPr>
        <p:blipFill>
          <a:blip r:embed="rId1"/>
          <a:stretch/>
        </p:blipFill>
        <p:spPr>
          <a:xfrm>
            <a:off x="457200" y="4284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 txBox="1"/>
          <p:nvPr/>
        </p:nvSpPr>
        <p:spPr>
          <a:xfrm>
            <a:off x="457200" y="1645920"/>
            <a:ext cx="8229600" cy="48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cc00"/>
                </a:solidFill>
                <a:latin typeface="Rockwell"/>
              </a:rPr>
              <a:t>Fyzická osoba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cc0000"/>
                </a:solidFill>
                <a:latin typeface="Rockwell"/>
              </a:rPr>
              <a:t>FO (fyzická osoba) </a:t>
            </a:r>
            <a:r>
              <a:rPr b="0" lang="cs-CZ" sz="2800" spc="-1" strike="noStrike">
                <a:solidFill>
                  <a:srgbClr val="ffffff"/>
                </a:solidFill>
                <a:latin typeface="Rockwell"/>
              </a:rPr>
              <a:t>– </a:t>
            </a:r>
            <a:r>
              <a:rPr b="0" i="1" lang="cs-CZ" sz="2800" spc="-1" strike="noStrike">
                <a:solidFill>
                  <a:srgbClr val="ffcc00"/>
                </a:solidFill>
                <a:latin typeface="Rockwell"/>
              </a:rPr>
              <a:t>jedinec</a:t>
            </a:r>
            <a:r>
              <a:rPr b="0" lang="cs-CZ" sz="2800" spc="-1" strike="noStrike">
                <a:solidFill>
                  <a:srgbClr val="ffcc00"/>
                </a:solidFill>
                <a:latin typeface="Rockwell"/>
              </a:rPr>
              <a:t>,</a:t>
            </a:r>
            <a:r>
              <a:rPr b="0" lang="cs-CZ" sz="2800" spc="-1" strike="noStrike">
                <a:solidFill>
                  <a:srgbClr val="ffffff"/>
                </a:solidFill>
                <a:latin typeface="Rockwell"/>
              </a:rPr>
              <a:t> rozeznáváme u nich dvojí </a:t>
            </a:r>
            <a:r>
              <a:rPr b="0" lang="cs-CZ" sz="2800" spc="-1" strike="noStrike">
                <a:solidFill>
                  <a:srgbClr val="ffcc00"/>
                </a:solidFill>
                <a:latin typeface="Rockwell"/>
              </a:rPr>
              <a:t>způsobilost: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cc00"/>
                </a:solidFill>
                <a:latin typeface="Rockwell"/>
              </a:rPr>
              <a:t>a) způsobilost k právům a povinnostem</a:t>
            </a:r>
            <a:r>
              <a:rPr b="0" lang="cs-CZ" sz="2800" spc="-1" strike="noStrike">
                <a:solidFill>
                  <a:srgbClr val="ffcc00"/>
                </a:solidFill>
                <a:latin typeface="Rockwell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Rockwell"/>
              </a:rPr>
              <a:t>   </a:t>
            </a:r>
            <a:r>
              <a:rPr b="0" lang="cs-CZ" sz="2800" spc="-1" strike="noStrike">
                <a:solidFill>
                  <a:srgbClr val="ffffff"/>
                </a:solidFill>
                <a:latin typeface="Rockwell"/>
              </a:rPr>
              <a:t>(vzniká narozením a končí smrtí)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cc00"/>
                </a:solidFill>
                <a:latin typeface="Rockwell"/>
              </a:rPr>
              <a:t>b) způsobilost k právním úkonům</a:t>
            </a:r>
            <a:r>
              <a:rPr b="0" lang="cs-CZ" sz="2800" spc="-1" strike="noStrike">
                <a:solidFill>
                  <a:srgbClr val="ffcc00"/>
                </a:solidFill>
                <a:latin typeface="Rockwell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Rockwell"/>
              </a:rPr>
              <a:t>– vlastním   jménem </a:t>
            </a:r>
            <a:r>
              <a:rPr b="0" lang="cs-CZ" sz="2800" spc="-1" strike="noStrike">
                <a:solidFill>
                  <a:srgbClr val="cc0000"/>
                </a:solidFill>
                <a:latin typeface="Rockwell"/>
              </a:rPr>
              <a:t>zakládat, měnit a rušit své právní vztahy 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Rockwell"/>
              </a:rPr>
              <a:t>(nabývat práva a zavazovat se k povinnostem 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Rockwell"/>
              </a:rPr>
              <a:t>–   </a:t>
            </a:r>
            <a:r>
              <a:rPr b="0" lang="cs-CZ" sz="2800" spc="-1" strike="noStrike">
                <a:solidFill>
                  <a:srgbClr val="ffffff"/>
                </a:solidFill>
                <a:latin typeface="Rockwell"/>
              </a:rPr>
              <a:t>uzavírat smlouvy)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Rectangle 2" descr=""/>
          <p:cNvPicPr/>
          <p:nvPr/>
        </p:nvPicPr>
        <p:blipFill>
          <a:blip r:embed="rId1"/>
          <a:stretch/>
        </p:blipFill>
        <p:spPr>
          <a:xfrm>
            <a:off x="450720" y="4284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 txBox="1"/>
          <p:nvPr/>
        </p:nvSpPr>
        <p:spPr>
          <a:xfrm>
            <a:off x="457200" y="1645920"/>
            <a:ext cx="8229600" cy="480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cc00"/>
                </a:solidFill>
                <a:latin typeface="Rockwell"/>
              </a:rPr>
              <a:t>Právnická osoba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cc0000"/>
                </a:solidFill>
                <a:latin typeface="Rockwell"/>
              </a:rPr>
              <a:t>PO (právnická osoba) </a:t>
            </a:r>
            <a:r>
              <a:rPr b="0" lang="cs-CZ" sz="2400" spc="-1" strike="noStrike">
                <a:solidFill>
                  <a:srgbClr val="ffffff"/>
                </a:solidFill>
                <a:latin typeface="Rockwell"/>
              </a:rPr>
              <a:t>– </a:t>
            </a:r>
            <a:r>
              <a:rPr b="0" i="1" lang="cs-CZ" sz="2400" spc="-1" strike="noStrike">
                <a:solidFill>
                  <a:srgbClr val="ffcc00"/>
                </a:solidFill>
                <a:latin typeface="Rockwell"/>
              </a:rPr>
              <a:t>uměle vytvořený subjekt podnikání</a:t>
            </a:r>
            <a:r>
              <a:rPr b="0" lang="cs-CZ" sz="2400" spc="-1" strike="noStrike">
                <a:solidFill>
                  <a:srgbClr val="ffcc00"/>
                </a:solidFill>
                <a:latin typeface="Rockwell"/>
              </a:rPr>
              <a:t>, </a:t>
            </a:r>
            <a:r>
              <a:rPr b="0" lang="cs-CZ" sz="2400" spc="-1" strike="noStrike">
                <a:solidFill>
                  <a:srgbClr val="ffffff"/>
                </a:solidFill>
                <a:latin typeface="Rockwell"/>
              </a:rPr>
              <a:t>za který v právních vztazích vystupují a jednají lidé (FO) – obchodní společnosti, státní podniky, družstva, zvláštní forma podnikání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00"/>
                </a:solidFill>
                <a:latin typeface="Rockwell"/>
              </a:rPr>
              <a:t>Způsobilost: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cc0000"/>
                </a:solidFill>
                <a:latin typeface="Rockwell"/>
              </a:rPr>
              <a:t>a) právní </a:t>
            </a:r>
            <a:r>
              <a:rPr b="0" lang="cs-CZ" sz="2400" spc="-1" strike="noStrike">
                <a:solidFill>
                  <a:srgbClr val="ffffff"/>
                </a:solidFill>
                <a:latin typeface="Rockwell"/>
              </a:rPr>
              <a:t>– vzniká zápisem do OR (evidence subjektů podnikání v ČR, vedou je rejstříkové soudy):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Rockwel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Rockwell"/>
              </a:rPr>
              <a:t>vznikají na základě </a:t>
            </a:r>
            <a:r>
              <a:rPr b="0" i="1" lang="cs-CZ" sz="2400" spc="-1" strike="noStrike">
                <a:solidFill>
                  <a:srgbClr val="cc0000"/>
                </a:solidFill>
                <a:latin typeface="Rockwell"/>
              </a:rPr>
              <a:t>písemných smluv a zakládacích listin</a:t>
            </a:r>
            <a:r>
              <a:rPr b="0" lang="cs-CZ" sz="2400" spc="-1" strike="noStrike">
                <a:solidFill>
                  <a:srgbClr val="cc0000"/>
                </a:solidFill>
                <a:latin typeface="Rockwel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Rockwel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cc0000"/>
                </a:solidFill>
                <a:latin typeface="Rockwell"/>
              </a:rPr>
              <a:t>zanikají výmazem z OR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3T12:37:15Z</dcterms:created>
  <dc:creator>Monika</dc:creator>
  <dc:description/>
  <dc:language>en-US</dc:language>
  <cp:lastModifiedBy>Berka</cp:lastModifiedBy>
  <dcterms:modified xsi:type="dcterms:W3CDTF">2014-02-26T07:51:16Z</dcterms:modified>
  <cp:revision>66</cp:revision>
  <dc:subject/>
  <dc:title>PODNIK A PODNIKÁNÍ</dc:title>
</cp:coreProperties>
</file>