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853-B4B5-450D-8226-9434FC1A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407-8F70-4412-A813-930FA94F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5D2-DC8C-47F8-873C-618AEE1E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C15-50AF-4968-BF3B-A97C83D9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E2B3-DA33-4ED9-BF72-92C7BACB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57B6-25B8-4528-B59E-9238A2AB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4703-E213-4037-A648-DA3249B1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B9C2-FA50-42D6-BEAA-5DA7957B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100C-E7C9-4E26-958C-13AD2320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88F6-C6BF-41FF-A558-668D73E1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9B07-554B-4F31-8873-2BB2101E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082-8CE8-4576-9FB4-51E4C919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D23A-1730-4E34-921D-B9C42AB1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C8D2-5878-4646-AF7E-03EBDF5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54C2-BEB0-407B-B10F-83C902BC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14F7-3EE7-4F5C-95DF-3403157B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13B9-A853-4120-B3B1-CE6F0FCA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7DB8D-61BB-43C8-BA3F-DE3E1D77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5A6E-29A1-4C56-AC29-A3809A56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99E17-4FAF-4272-AFCA-8059FAEE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E419B-50AB-4E0E-8B8C-BCB33F39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8EF9-3445-4189-BEA8-C22C98B9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9A2-62C1-460E-8193-3935F22D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D201-B672-4355-9882-8D3DD91C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C873-1330-43D6-ADD8-7ABF3528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88434-618F-4F89-A552-FC8525C7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A5382-BD33-4981-B094-40D8B962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7C1F9-03C2-4786-B3B6-270CDEA4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2CD8-38FC-417D-8221-F5EC8D10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CBAE8-B64E-438F-8FBF-AC84EF82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8ACC0-4487-4163-9D85-DB3589BB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85E46-13A8-4703-BC60-18D5DC62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2E44A-7EDC-483D-96E2-B6C96029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51A-87DD-4919-BA80-10D9F592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AC76C-1034-431B-98FA-9B8D315C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4CC33-E491-48C1-84AF-116B6B67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64A15-F38D-4C0C-857D-DD767718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F69D-F9C7-4C2F-BE92-DFFF289F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20B23-4426-45BF-AD7F-2951245B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279A-C076-430A-ADED-487CC30D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E5607-6FF7-4B81-BAC5-5F0C45D3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5DA0C-326B-42F7-946D-AFFA62EE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E0074-9030-4734-ADC6-CD5D94F3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6D867-C0E7-4AEC-8E9F-2457EC38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E40-73E0-4A3C-A760-BFB62C9A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BF178-1B11-49D4-9827-B47E7A8D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C66CB-61DA-4C18-A223-B2CE4C5B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244BE-2BF7-4B45-94F0-DF7B9DAA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BBBD1-D61E-424E-9ED3-84487097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9CC6C-7E90-4991-864F-C387FAD5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78DEB-4A62-48DA-B8CF-4EE5E589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4CA1A-6CF6-4B3C-AC95-FEA3A4D9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27CAD-C34E-4321-9C34-E2F7766D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0EC55-95E4-4BC1-83C1-3D87EC6B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3568E-D8B9-4CB1-81C3-FCA2382B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BEF-A854-4B72-AFA5-4A1BB0FE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089B2-CA9C-42F1-9A9C-5DA8098C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84949-3AE1-4C9D-93A2-DB48204A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083D5-58CA-4E14-9175-32CFEA27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14DA9-7737-41D7-B5C2-A0C6FDA6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B5ED1-A7A7-4446-B726-F6B32A1C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6DD0-7273-47EF-B177-02408D2E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F7EEB-D1C4-40B7-9DF8-467E3E61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1F22-E846-4FEC-A05C-5F122182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A7DA6-A9EA-44CB-A330-042F004A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F0CFD-7FDE-47B7-8CA8-B3A0C25E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9F6-D86E-41D8-B182-DFF4D740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5833D-4283-41BD-BB29-CB454732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EE4C9-9AA5-46A9-84CB-96B8DB87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1AB2A-CE5C-4675-80CE-9E910CF7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CF1-09DA-4E0A-9FC1-A650258E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D03-707A-46E0-B375-D240AD01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2CDE-0F59-4D18-8226-0F25DA4EF5CD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B303-1B98-4D77-83B2-16EA301802DA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03DA-98E0-46A2-BDFA-5C8870419761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973A-7972-450E-B32A-91F057D85BDF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1FA8-040C-405D-95CB-D0D4E71CFBBB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3D7C-ACE5-4A26-9DF1-C89C560770EC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542880" y="3718080"/>
            <a:ext cx="7991640" cy="2749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7993080" cy="11527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_32_INOVACE_068_Ekonom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Obrázek 3" descr=""/>
          <p:cNvPicPr/>
          <p:nvPr/>
        </p:nvPicPr>
        <p:blipFill>
          <a:blip r:embed="rId2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TRH, TRŽNÍ EKONOMIKA IV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TRH A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Nedokonalá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3300"/>
                </a:solidFill>
                <a:latin typeface="Arial"/>
              </a:rPr>
              <a:t>Oligopol</a:t>
            </a:r>
            <a:r>
              <a:rPr b="1" lang="cs-CZ" sz="2400" spc="-1" strike="noStrike">
                <a:solidFill>
                  <a:srgbClr val="a116e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odvětví průmyslové výro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Typ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   několik firem, stejné zboží, každý může ovlivnit cenu, vstup ostatních je omeze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firmy dodávají diferencované výrobky (spotřební zboží), konkurence v necenové oblas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Model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3300"/>
                </a:solidFill>
                <a:latin typeface="Arial"/>
              </a:rPr>
              <a:t>smluvní oligopol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firmy se dohodnou a vzájemně se respektují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3300"/>
                </a:solidFill>
                <a:latin typeface="Arial"/>
              </a:rPr>
              <a:t>dominantní oligopol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existuje velká firma a řada malých firem, které ji respektují jako cenového vůd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TRH, TRŽNÍ EKONOMIKA IV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TRH A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Nedokonalá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3300"/>
                </a:solidFill>
                <a:latin typeface="Arial"/>
              </a:rPr>
              <a:t>Kartel</a:t>
            </a:r>
            <a:r>
              <a:rPr b="1" lang="cs-CZ" sz="2400" spc="-1" strike="noStrike">
                <a:solidFill>
                  <a:srgbClr val="a116e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dohoda mezi oligopolními firmam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mezení konkurenc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škozují spotřebitel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rtelové dohody jsou u nás zakázá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3300"/>
                </a:solidFill>
                <a:latin typeface="Arial"/>
              </a:rPr>
              <a:t>Selhání trh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nedokonalá konkurence uvnitř trhu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vládní zásahy do ekonomik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7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TRH, TRŽNÍ EKONOMIKA IV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STRUKTURA TRH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Charakteristik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mínky vstupu a výstu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čet podniků na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likost podniků a jejich výr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h výrobku, služ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5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TRH, TRŽNÍ EKONOMIKA IV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STRUKTURA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Nekalá soutě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niká při nedodržení stanovených podmínek tr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kurenční činnost podnikání, která odporuje poctivým zvyklost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klamná reklam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podplácení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napodobování cizích výrobků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poškozování dobrého jména výrobců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porušování obchodního a výrobního tajemství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03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V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STRUKTURA TRH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a116e0"/>
                </a:solidFill>
                <a:latin typeface="Arial"/>
              </a:rPr>
              <a:t>Funkce trh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děluje mzdy, pla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měna zboží (statky, služb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náší inform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dává směr výroby (druhy zboží – mó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V.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06064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Franklin Gothic Book"/>
              </a:rPr>
              <a:t>Záznamový list výukového materiálu</a:t>
            </a: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052640"/>
          <a:ext cx="8229600" cy="557352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412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412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h, tržní ekonomika IV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_32_INOVACE_068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9. 11. 2013, 2. 12. 2013, 3. 12. 201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eriál slouží k získání teoretického přehledu o efektivnosti fungování trhu, konkurenci trhu a struktuře trhu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V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419120"/>
            <a:ext cx="74674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Efektivnost fungování trh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rh a konkur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truktura trh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1. roč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0680" y="18864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V.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068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EFEKTIVNOST FUNGOVÁNÍ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a116e0"/>
                </a:solidFill>
                <a:latin typeface="Arial"/>
              </a:rPr>
              <a:t>Podmínky správného fungování trh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1.    Nasycenost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2.    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Konkurence na trh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íce výrobců a prodávajících na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spěch spotřebitel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těž o zákazní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nižování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zvyšování c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ové výrobky a služ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V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114264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TRH A KONKUR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Druhy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.   Podle nabídky a poptáv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konkurence nabíd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hospodářská soutěž mezi výrobci (prodejci) zbož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konkurence poptáv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hospodářská soutěž mezi spotřebite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V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TRH A KONKUR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Druhy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3300"/>
                </a:solidFill>
                <a:latin typeface="Arial"/>
              </a:rPr>
              <a:t>2. Podle postavení výrobců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dokonalá konkurenc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116e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lký počet výrobců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úplná informovanost trhu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vstup a opouštění daného odvětví není omezen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nedokonalá konkurenc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vzniká na trhu je-li trh omezován monopoly nebo regulován vlád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V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1430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TRH A KONKUR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Druhy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3. Podle prostředků konkurenčního boj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ceno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vede ke snižování c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neceno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firmy bojují o zákazníky kvalitou, množstvím servisních služeb, záručními lhůtami, způsobu dodání, platebními podmínkami, reklamou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TRH, TRŽNÍ EKONOMIKA IV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052640"/>
            <a:ext cx="84358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TRH A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116e0"/>
                </a:solidFill>
                <a:latin typeface="Arial"/>
              </a:rPr>
              <a:t>Nedokonalá konku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ruhy nedokonalé konkure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3300"/>
                </a:solidFill>
                <a:latin typeface="Arial"/>
              </a:rPr>
              <a:t>monopolistická</a:t>
            </a: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„monopol“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ýsadní postavení na trhu, uplatňování subjektivních zájmů a cílů k dosažení ekonomických a jiných výsled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Charakteristik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firmy si konkurují v oblasti necenové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stup a opouštění trhu je volné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dávající nabízejí výrobky a služby, které jsou si blízké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loobchodní sítě, restaur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TRH, TRŽNÍ EKONOMIKA IV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TRH A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Nedokonalá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6ea0b0"/>
                </a:solidFill>
                <a:latin typeface="Arial"/>
              </a:rPr>
              <a:t>úplný (čistý) monopo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diný výrobce na trhu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stup do odvětví je nesnadný, nemožn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robce stanoví cenu i množstv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3300"/>
                </a:solidFill>
                <a:latin typeface="Arial"/>
              </a:rPr>
              <a:t>přirozený monopo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robce může s nejnižšími náklady ovládat tr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odárny, rozvod elektři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07:38:02Z</dcterms:created>
  <dc:creator>Monika</dc:creator>
  <dc:description/>
  <dc:language>en-US</dc:language>
  <cp:lastModifiedBy>Berka</cp:lastModifiedBy>
  <dcterms:modified xsi:type="dcterms:W3CDTF">2014-02-26T07:46:38Z</dcterms:modified>
  <cp:revision>117</cp:revision>
  <dc:subject/>
  <dc:title>EKONOMIKA PODNIKU</dc:title>
</cp:coreProperties>
</file>