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794-2746-4AA0-95F6-226CF0B1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F15-959A-4453-A94C-B019954C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C38-D644-47AE-ABDD-E1E5FA99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B83-5D7C-47F6-9AF6-5EB09176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3E97-3451-4736-9A92-DCA459C3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F235-387C-4D24-B977-67B8B740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25F9-47BF-4BB0-8B52-EFB77848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1D36-8139-4F9B-9B98-41D82C6B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95F4-1D06-441B-914B-BFAE794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19E5-CC54-4D38-8301-2B63966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0123-5F54-469D-ABD6-D5A47D8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7AD-FE45-4164-B395-F1AAC05C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61DF-70A0-4FF1-A5A3-0502214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DF52-460C-49EB-BF13-4F19424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DB04-3FBB-4E9F-A6A4-7AA2C815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62D1-E519-4B2B-B5DA-E1F2785D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48E1-DC52-4019-9276-A06BF86B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0EF9-BBBD-484C-8F16-0261BAD2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256E-738F-4A8A-A332-6AECFC83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B2CB-2E93-4C4C-B3FF-5BC6577E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8FDC-A38D-4897-9E66-06BAA0C4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92E9-BABB-49F3-8B4E-6EEEB545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BA8-6ABA-4E2E-B03A-63D40948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9983-1FD8-46D5-B064-DC88B8BB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F033-CF19-41CC-AFB3-8DBC68E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F3EF-7348-48DC-AC23-C3672A6F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C693-5E1D-4763-A00D-606C7660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1651-BDB0-4AD3-8963-09D20AF7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E45B-B913-4F5A-9B71-E453B369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484D-E984-4A93-A99B-421413C6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B04B-3DAA-47E7-A2FC-80F27FF8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E7AC6-D278-400B-80FD-3E85A89F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CCC6-5074-47DA-ABE5-DA5FDA37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B69-B1EB-4BF5-8FDC-1C7C8756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8717-368D-4E84-92CD-B5F97158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CBBF-BDF2-45C4-BF28-6346F0C3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1A460-FE44-4B72-BB64-30AF77F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040A-5C4D-477E-8AEC-FFC55F01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6300-2985-4C5D-93F0-2E6D672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D2C9-8D05-448C-8F0E-163CAF3D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5A7F0-A528-48A0-B81C-567103C6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7497-8980-453B-90D6-30BB17DD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D043-8850-4A21-936B-C42AC910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FD82-5077-4EFB-8BC3-D1C3D61C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E05-D34B-40EC-A40F-F3FBD200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3FD2-97EE-42A6-ADD6-53B03EB8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C455F-9F63-42D0-8F3A-40A7CA43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668C2-088D-4C85-B2EB-2671E64A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EDD0-39BF-4D05-9A5D-62124BA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E54A3-70E7-473C-8B18-0D2AD55E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069D-174A-4E93-A12D-C5182856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92660-711A-4000-BA7E-9E5F7F8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F3835-DDD4-408B-9AA0-A6837F2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A2FF-C76E-416F-8453-D90F6B7C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6DC41-28BA-4533-BE02-925DCE40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E21-59FF-4F9F-8BBF-8A553830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20DC-B429-4BBE-870A-14488614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3C4D-BE03-4422-8767-681980D6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2F41-78A7-446C-A409-CF956B09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811D-4454-42FB-8837-6A1D7B10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3EC1C-C89F-499D-95AA-E33FFFD4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0553B-E253-422F-BCCF-4AE59A3B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4C2E3-1E0A-4B1D-886C-D3C8C546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C9151-624A-42DF-8F62-BDE7940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5C9FF-31DB-4B3B-B6B8-B1C6F49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E1BB4-85C1-4D61-85F1-EBD1B38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FEC-B147-4547-B7BC-CB5C742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C714-A1FD-4CCA-B82A-A8E162A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0FFA3-B28E-4872-9E67-3B153E96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07E22-3232-46C0-ABD6-67C47734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891-59AC-405A-93CE-9F070947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7FF-417D-45B5-8712-90207F7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0A65-91A5-4209-AD6A-B37B900BB5D5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BD30-8F95-459C-A6CD-322D944AF7BF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8553-3050-46C8-B39B-5EF1951E14C7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47B2-58CC-485A-8EB1-0193AB6DEAC7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722B-DDA1-4480-991E-95E20289A0F3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7D57-2416-4E94-91EF-092F9A1DAF11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V&#253;robn&#237;_faktor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69800" y="3743280"/>
            <a:ext cx="8131320" cy="28526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68360" y="2205000"/>
            <a:ext cx="8136000" cy="1295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VY_32_INOVACE_067_Ekonom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Obrázek 3" descr=""/>
          <p:cNvPicPr/>
          <p:nvPr/>
        </p:nvPicPr>
        <p:blipFill>
          <a:blip r:embed="rId2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1142640"/>
            <a:ext cx="81360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Přizpůsobení trhu při nerovnová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Rovnová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livem tržních sil se ekonomika dostává k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rovnovážné struktuře výr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zájmem obou stra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kupujících, prodávající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Ideální stav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Bod tržní rovnováhy, rovnovážná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vnovážným bodem tržní rovnováhy je ideální stav na trhu, kdy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při rovnovážné ceně vyrábějí firmy přesně takové množství výrobků (služeb), jaké nakupí spotřebite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trhu proto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neexistuje ani přebytek ani nedostat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bož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142640"/>
            <a:ext cx="82915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Bod tržní rovnováhy, rovnovážná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hužel, výrobci dopředu neznají rovnovážnou cenu a jí odpovídající ideální množství vyrobeného zboží na tr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okamžiku výroby daného výrobku (služby) většina zákazníků totiž vůbec netuší, zda budou mít potřebu si dané zboží koup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robcům tedy nezbývá nic jiného, než se pokusit tuto cenu pomocí různých metod odhadn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396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Bod tržní rovnováhy, rovnovážná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dyž se posléze vyhodnocuje reakce poptávající strany, mohou nastat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3 situa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. Výrobci měli hodně dobrý odhad nebo kus obchodnického štěstí a podařilo se jim trefit přímo do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rovnovážné cen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Strana poptávky je spokojená, neboť zakoupila, co chtě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42640"/>
            <a:ext cx="82915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Bod tržní rovnováhy, rovnovážn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Výrobci udali </a:t>
            </a: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příliš nízkou cenu v porovnání s cenou rovnovážno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Při nižší ceně spotřebitelé nakoupí více zboží, než jsou výrobci schopni vyrobit –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nedostatek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převis poptávk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Řešení situa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Výrobci zvýší výrob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zároveň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zvýší cenu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spotřebitelé postupně snižují poptávku až do bodu rovnovážné ce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12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142640"/>
            <a:ext cx="8362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Bod tržní rovnováhy, rovnovážn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 Výrobci zvolili </a:t>
            </a: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cenu vyšší, než je rovnovážná cen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optávající kupují méně zboží (je pro ně drahé), než se vyrobí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  <a:ea typeface="Tahoma"/>
              </a:rPr>
              <a:t>přebytek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(převis nabídk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  <a:ea typeface="Tahoma"/>
              </a:rPr>
              <a:t>Řešení situa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  <a:ea typeface="Tahoma"/>
              </a:rPr>
              <a:t>Výrobci snižují výrobu a cenu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spotřebitelé zvyšují nákup zboží tak dlouho, dokud nedojde k bodu rovnovážné ce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74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1430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Bod tržní rovnováhy, rovnovážn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ímto způsobem se tvoří cena na dokonale konkurenčním trh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ržní mechanismus působí automatick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vnovážný stav na trhu je nejefektivnější – </a:t>
            </a:r>
            <a:r>
              <a:rPr b="0" i="1" lang="cs-CZ" sz="2000" spc="-1" strike="noStrike">
                <a:solidFill>
                  <a:srgbClr val="ff3300"/>
                </a:solidFill>
                <a:latin typeface="Arial"/>
              </a:rPr>
              <a:t>zboží na trhu není příliš mnoho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nekazí se, není likvidováno, výrobní faktor nebyly vynakládány zbytečně – nedochází k jejich plýtvání) </a:t>
            </a:r>
            <a:r>
              <a:rPr b="0" i="1" lang="cs-CZ" sz="2000" spc="-1" strike="noStrike">
                <a:solidFill>
                  <a:srgbClr val="ff3300"/>
                </a:solidFill>
                <a:latin typeface="Arial"/>
              </a:rPr>
              <a:t>a ani příliš málo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nedostatečné uspokojení poptávk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Stav dokonalé konkurence v praxi je téměř nedosažitel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mechanismus tvorby ceny prostřednictvím zákona nabídky a poptávky vždy nemusí fungov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tomto případě se pokouší cenu regulovat stát pomocí </a:t>
            </a:r>
            <a:r>
              <a:rPr b="0" i="1" lang="cs-CZ" sz="2000" spc="-1" strike="noStrike">
                <a:solidFill>
                  <a:srgbClr val="ff3300"/>
                </a:solidFill>
                <a:latin typeface="Arial"/>
              </a:rPr>
              <a:t>státních zásahů a regulac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34880" y="0"/>
            <a:ext cx="746784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Bod tržní rovnováhy, rovnovážná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stroje státu při regulaci ce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Arial"/>
              </a:rPr>
              <a:t>Cenový stro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maximální cena zbož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Arial"/>
              </a:rPr>
              <a:t>Minimální cen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minimální hranice (uplatňuje se především na trhu se zemědělskými produk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3300"/>
                </a:solidFill>
                <a:latin typeface="Arial"/>
              </a:rPr>
              <a:t>Nepřímé daně: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- spotřební daň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cenová přirážka k původní ceně – snaha státu snížit spotřebu vybraných produktů – cigarety, alkohol, pohonné hmoty, …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- daň z přidané hodno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DPH) – stanovená přirážka v % k původní ceně zboží (uplatňuje se téměř na všechno zboží) – rozlišujeme: </a:t>
            </a:r>
            <a:r>
              <a:rPr b="0" i="1" lang="cs-CZ" sz="2000" spc="-1" strike="noStrike">
                <a:solidFill>
                  <a:srgbClr val="ff3300"/>
                </a:solidFill>
                <a:latin typeface="Arial"/>
              </a:rPr>
              <a:t>základní sazba (21 %) a snížená (15 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052280"/>
            <a:ext cx="814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Bod tržní rovnováhy, rovnovážná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Subvence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finanční podpora poskytovaná státem určitému ekonomickému subjektu (firmy, domácnosti) v podobě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jednostranné plat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transferu) nebo v podobě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úlev, slev na dan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Produkční kvó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tát určí množství výrobků, které se mohou vyrobit (nejdrastičtější zásah stá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9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Bod tržní rovnováhy, rovnovážná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Státní intervenční nákupy a prode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tlumí cenové výkyvy na trhu se zemědělskými produk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Intervenční nákup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úroda příliš velká a hrozí, že ceny půjdou prudce dolů (vliv přebytku)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stát provede intervenční nákup (sýpky a sklady)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i="1" lang="cs-CZ" sz="2400" spc="-1" strike="noStrike">
                <a:solidFill>
                  <a:srgbClr val="ff3300"/>
                </a:solidFill>
                <a:latin typeface="Arial"/>
                <a:ea typeface="Tahoma"/>
              </a:rPr>
              <a:t>pokles cen v menším rozsah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(výhodné pro zemědělce/nevýhodné pro spotřebitele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  <a:ea typeface="Tahoma"/>
              </a:rPr>
              <a:t>Intervenční prodej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– úroda příliš malá a hrozí, že ceny půjdou prudce nahoru (vliv nedostatku)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stát provede intervenční prodej (sýpky a sklady)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i="1" lang="cs-CZ" sz="2400" spc="-1" strike="noStrike">
                <a:solidFill>
                  <a:srgbClr val="ff3300"/>
                </a:solidFill>
                <a:latin typeface="Arial"/>
                <a:ea typeface="Tahoma"/>
              </a:rPr>
              <a:t>zvýšení cen v menším rozsah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ahoma"/>
              </a:rPr>
              <a:t> (výhodné pro spotřebitele/nevýhodné pro zemědělc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Franklin Gothic Book"/>
              </a:rPr>
              <a:t>Záznamový list výukového materiálu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981000"/>
          <a:ext cx="8229600" cy="56404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2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h, tržní ekonomika II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67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. 11. 2013, 26. 11. 201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fungování tržního mechanismu a významu tržní ceny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549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ržní ce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ržní mechanis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1. roč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Tržní c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bo-li rovnovážná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na, při níž se rovná nabízené a poptávané množství zbož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trhu neexistuje ani přebytek, ani nedostat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řet poptávkové a nabídkové křiv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000"/>
                </a:solidFill>
                <a:latin typeface="Arial"/>
              </a:rPr>
              <a:t>přebyte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ři konkrétní ceně je nabízené množství vyšší, než množství poptávan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000"/>
                </a:solidFill>
                <a:latin typeface="Arial"/>
              </a:rPr>
              <a:t>nedostate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ři konkrétní ceně je nabízené množství menší, než množství poptávan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2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br>
              <a:rPr sz="4600"/>
            </a:br>
            <a:r>
              <a:rPr b="1" lang="cs-CZ" sz="3600" spc="-1" strike="noStrike">
                <a:solidFill>
                  <a:srgbClr val="ff0000"/>
                </a:solidFill>
                <a:latin typeface="Franklin Gothic Book"/>
              </a:rPr>
              <a:t>Tržní cena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Graf: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Trž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droj: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ilverStar: Commons.wikimedia.org: File:Supply-demand-right-shift-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upply.png [online]. 28 November 2006 [cit. 2012-08-05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419640" y="1676520"/>
            <a:ext cx="4032000" cy="345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143000"/>
            <a:ext cx="81471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Vzájemným působením ceny, nabídky a poptávky reguluje trh množství, kvalitu a cenu vyrobeného a tím i množství spotřebovaného zboží v celém hospodářstv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 většinou s pomocí vhodných zásahů státu vede i k hospodárnému rozdělení hmotných statků a služeb v celé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Trh slaďuje nabídku a poptáv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základním článke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chodu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tržní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Cena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je funkčně závislá na nabídce a poptáv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252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915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Tržní mechanis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39280" y="1773000"/>
            <a:ext cx="8147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Graf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Tržní mechanism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cs.wikipedia.org/wiki/V%C3%BDrobn%C3%AD_faktor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 [online]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[cit. 2012-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08-05]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1940040" y="1773360"/>
            <a:ext cx="5256000" cy="374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142640"/>
            <a:ext cx="82915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Přizpůsobení trhu při nerovnová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Nedosta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Soutěž kupujícíc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jsou ochotni koupit za vyšší c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ávající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zvyšují ceny a nabízené množstv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při vyšších cenách mohou vyrábět s vyššími 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Rozdíl mezi nabídkou a poptávkou se zmenšuje až se vyrovnaj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142640"/>
            <a:ext cx="82915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TRŽNÍ MECHANIS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Přizpůsobení trhu při nerovnová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Přeby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boží nejde na odby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esiluje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soutěž prodávajíc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Snižují ceny a nabízené množ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řebytek se postupně zmenšuje až zanik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07:38:02Z</dcterms:created>
  <dc:creator>Monika</dc:creator>
  <dc:description/>
  <dc:language>en-US</dc:language>
  <cp:lastModifiedBy>Berka</cp:lastModifiedBy>
  <dcterms:modified xsi:type="dcterms:W3CDTF">2014-02-26T07:44:59Z</dcterms:modified>
  <cp:revision>127</cp:revision>
  <dc:subject/>
  <dc:title>EKONOMIKA PODNIKU</dc:title>
</cp:coreProperties>
</file>