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60D-AA6E-4B56-BE5B-3BC6003A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2A9-41F6-4B49-AEF7-6803C734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5E8-E84A-415E-A486-BE417CDE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2D7-B88E-4EBA-82F1-2F8FBCE2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23DD-4A80-4EBB-92B0-CBA01D3C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325A-5BF6-4675-8D54-4E72B742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2940-E044-4F03-8BD7-F6AE4DC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50BA-5E00-4D34-913A-960631A9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0D31-71FF-45AB-81A2-AB0302FD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3477-56DA-4F9A-85BF-0E229BA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1C8C-DAA4-4C14-93E3-431C769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E74-5ED0-4296-8540-6907128F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977-D83F-43DF-8580-F1CC2AC4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49C3-C9EE-4247-8001-CFF022A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8398-E9CE-41CA-9B66-18773DB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B2A6-D78B-4D33-B7D8-A67E8576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7B2F-E36F-4399-9BAF-DADC81B8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6238-E60E-479B-82A5-1FF16CF2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C290-B9FB-4BA9-A245-E69FB708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EC5E-D482-41DC-98B6-4D25A9C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0B1C-33CF-4B2D-897F-6C9B793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EFDF-C3F8-464C-9381-1292757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122-6363-4A07-B699-D179D8F7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EDD7-2895-4376-B8A0-6A1ECF19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8F93-128B-4C57-997B-698AA6E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8C8B-3130-4503-9FA5-BE96959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C70F-88C6-4619-B870-A0E63C0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A35D-5885-4AA8-AD3C-84DAB17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3E39-4B47-49E6-ACD2-774307A2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CCBC-EEFF-4BD9-A070-9D2E2BAE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D7A2-BB0B-494B-84FF-931F912D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61B7-C83E-433E-B3FE-04741F62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8758-9A0B-4CB5-81BE-E58FE837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BDB-98A9-4818-A266-43AA01E7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4988-6D14-4A60-9220-56B2D831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CABF-87D5-42AA-8284-4A563B3B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8EBB5-563D-4EB7-9FE0-EC1DC49B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432C-5070-4FC8-8ED4-A5F61A4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A7F1-FF81-4F7A-8513-AE51642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2383-C8E3-48DF-9855-4681E49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3E7F-4A98-4B1E-BD60-CB5A96CB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5DFA-608D-49B4-A2A3-9C71EEEB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5996-AE5E-43D0-B00E-2BEEF8DC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E1B-92EF-48CF-9131-C81DF6D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F4E-C939-477F-A67B-311AC90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617-C5BC-4F60-8997-601C171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34C-2C34-4926-AE27-3C60C5F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78E-A049-44B4-A5A9-89739A3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1D28-16C8-406F-9C7E-F4A3C233152D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334B-AADD-4C3F-B80D-FBC861F45B7C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23DA-46DB-4255-98B3-B64AF8DEA45F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5363-A815-401A-BA3F-84C3B789344F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Nadpis 1" descr=""/>
          <p:cNvPicPr/>
          <p:nvPr/>
        </p:nvPicPr>
        <p:blipFill>
          <a:blip r:embed="rId1"/>
          <a:stretch/>
        </p:blipFill>
        <p:spPr>
          <a:xfrm>
            <a:off x="609480" y="3498840"/>
            <a:ext cx="7851960" cy="2389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2637000"/>
            <a:ext cx="7854840" cy="72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VY_32_INOVACE_075_Ekonomik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Obrázek 3" descr=""/>
          <p:cNvPicPr/>
          <p:nvPr/>
        </p:nvPicPr>
        <p:blipFill>
          <a:blip r:embed="rId2"/>
          <a:stretch/>
        </p:blipFill>
        <p:spPr>
          <a:xfrm>
            <a:off x="1619280" y="83664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9280" y="1557000"/>
            <a:ext cx="8147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onstantia"/>
              </a:rPr>
              <a:t>Státní podni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2060"/>
                </a:solidFill>
                <a:latin typeface="Constantia"/>
              </a:rPr>
              <a:t>Vznik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nstantia"/>
              </a:rPr>
              <a:t>zápisem do obchodního rejstříku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2060"/>
                </a:solidFill>
                <a:latin typeface="Constantia"/>
              </a:rPr>
              <a:t>Orgány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nstantia"/>
              </a:rPr>
              <a:t>ředitel – statutární orgán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nstantia"/>
              </a:rPr>
              <a:t>dozorčí rada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2060"/>
                </a:solidFill>
                <a:latin typeface="Constantia"/>
              </a:rPr>
              <a:t>Zrušení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nstantia"/>
              </a:rPr>
              <a:t>rozhodnutím zakladatele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nstantia"/>
              </a:rPr>
              <a:t>rozhodnutím soudu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1360" y="8431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Družstv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onstantia"/>
              </a:rPr>
              <a:t>PO zřízená za účelem podnikání nebo uspokojování hospodářských, sociálních a jiných potřeb svých členů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á postavení podnikatele – zapisuje se do 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onstantia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in. počet 5 FO osob nebo 2 PO (max. počet není omeze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dávají členský vkl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neručí za závazky družst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na základě stanov lze určit uhrazovací povinnost na krytí ztrát družst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členská základna proměnlivá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onstantia"/>
              </a:rPr>
              <a:t>Družstv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onstantia"/>
              </a:rPr>
              <a:t>Obchodní firma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ružstva (vedená v O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usí obsahovat </a:t>
            </a:r>
            <a:r>
              <a:rPr b="0" lang="cs-CZ" sz="2600" spc="-1" strike="noStrike">
                <a:solidFill>
                  <a:srgbClr val="7030a0"/>
                </a:solidFill>
                <a:latin typeface="Constantia"/>
              </a:rPr>
              <a:t>„družstvo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onstantia"/>
              </a:rPr>
              <a:t>Základní kapitá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in. 50.000,-- K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ýše vkladu není určující k míře práv a povinností člen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a rovnosti člen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Založení družstv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onstantia"/>
              </a:rPr>
              <a:t>1. Přípravný výbo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615960" indent="-343080">
              <a:spcBef>
                <a:spcPts val="575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zveřejnění informací o možnosti podání přihlášek do termínu ustavující schůz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onstantia"/>
              </a:rPr>
              <a:t>2. Konání ustavující schůz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615960" indent="-343080">
              <a:spcBef>
                <a:spcPts val="575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určení základního kapitálu – způsob splacení vkladů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3" marL="615960" indent="-343080">
              <a:spcBef>
                <a:spcPts val="575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schválení stanov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3" marL="615960" indent="-343080">
              <a:spcBef>
                <a:spcPts val="575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volba orgánů – představenstvo a kontrolní komisi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3" marL="615960" indent="-343080">
              <a:spcBef>
                <a:spcPts val="575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průběh – ověřen notářským zápisem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1756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onstantia"/>
              </a:rPr>
              <a:t>Založení družstv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393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93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onstantia"/>
              </a:rPr>
              <a:t>3. Vznik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393840"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zápisem do 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393840"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při vzniku musí být zřízen nedělitelný fon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ve výši 10 % základního kapitál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navyšování každý rok o 10 % čistého zisku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do ½ výše základního kapitál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0440" y="757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0440" y="141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onstantia"/>
              </a:rPr>
              <a:t>Členství v družstv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onstantia"/>
              </a:rPr>
              <a:t>Vznik členství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2060"/>
                </a:solidFill>
                <a:latin typeface="Constantia"/>
              </a:rPr>
              <a:t>a) podání členské přihlášk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podmínkou je zaplacení vstupního vkladu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2060"/>
                </a:solidFill>
                <a:latin typeface="Constantia"/>
              </a:rPr>
              <a:t>b) převodem členského podílu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575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na člena družstv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575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na 3. osobu – nutný souhlas představenstva (bytové družstvo je výjimkou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2060"/>
                </a:solidFill>
                <a:latin typeface="Constantia"/>
              </a:rPr>
              <a:t>c) přechod členství v důsledku smrti člena družstva na dědic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575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onstantia"/>
              </a:rPr>
              <a:t>dědic může požádat o členství (u bytového družstva není podmínkou souhlas představenstva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0720" y="8492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6040" y="148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Členství v družstv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onstantia"/>
              </a:rPr>
              <a:t>Zánik členství v družstvu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ísemná dohoda mezi členem a družstv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ystoupení na základě výpově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ylouč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hlášení konkurzu na majetek člena družst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ařízení výkonu rozhodnutí na podíl v družstv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mrtí FO, zánik P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stup PO do likvid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vodem členských práv a povinnost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9560" y="920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39560" y="1699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Constantia"/>
              </a:rPr>
              <a:t>Orgány družstv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onstantia"/>
              </a:rPr>
              <a:t>Členská schůze </a:t>
            </a:r>
            <a:r>
              <a:rPr b="1" lang="cs-CZ" sz="32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cs-CZ" sz="32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– nejvyšší orgá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onstantia"/>
              </a:rPr>
              <a:t>Představenstvo</a:t>
            </a: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– statutární orgá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onstantia"/>
              </a:rPr>
              <a:t>Kontrolní komise </a:t>
            </a:r>
            <a:r>
              <a:rPr b="1" lang="cs-CZ" sz="32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– kontrolní orgá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044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onstantia"/>
              </a:rPr>
              <a:t>Orgány družstva – členská schů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Nejvyšší orgán družst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Každý člen má právo účas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Konání nejméně 1 x za ro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řádné schůze - určují stanov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imořádné schůze – mimo termín ve stanová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Platné usnesení – podmínkou j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řítomnost min. ½ člen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ouhlas většiny přítomných (zákon může určit jinak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U velkých družstev náhrada členské schůz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formou dílčích schůz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formou shromáždění delegát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Zápis z jednání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forma notářského zápisu pokud se měnily stanov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171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Orgány družstva – představenstv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Statutární orgá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Kolektivní orgá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navenek jedná předseda nebo místopředse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Pravomoci (rozhoduje o všem co není vyhrazeno jinému orgánu)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volává členskou schůz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obchodní vedení družst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edení seznamu člen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realizace úkolů z členské schůz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Pokud je v družstvu méně než 50 členů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funkci plní členská schůz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tatutárním orgánem je pak předseda družstva volený členskou schůz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4617b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413000"/>
          <a:ext cx="8229600" cy="52401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65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ávní formy podnikání II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VY_32_INOVACE_075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0. 1.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Materiál slouží k získání přehledu o sdružení osob za účelem podnikání, státním podniku, družstvu, nadaci a nadačním fond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Orgány družstva – kontrolní komi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Kontrolní orgá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yjadřuje se k účetní uzávěr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yjadřuje se k návrhu na rozdělení zisku, k úhradě ztrá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4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in. 3 členy volené členskou schůz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ovinnost scházet se min. 1 x za 3 měsí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Oprávnění požadovat informace o hospodaření po představenstv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ovinnost informovat členskou schůzi o kontrolá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ávo požadovat zařazení věci k projednání na členské schůz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Pokud je v družstvu méně než 50 členů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jeho funkci plní členská schůz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3440" y="7700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Nadace a nadační fond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Účelová sdružení majetku pro dosahování obecně prospěšných cílů (duchovní hodnoty, lidská práva, příroda atd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Majetek nadac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nadační jmění – souhrn vkladů a dar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in 500.000,-- Kč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nakládání s majetkem upravuje statu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Zřízení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akladatelská listina (smlouva) nebo závěť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zniká zápisem do nadačního rejstřík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onstantia"/>
              </a:rPr>
              <a:t>Orgány nadac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právní ra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dozorčí rada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1557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nstantia"/>
              </a:rPr>
              <a:t>Použitá literatur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RICHTER, J. Právo podnikání. Karviná: SU OPF, 1996, 187 s. ISBN 80-85879-52-2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CISKALOVÁ, M., GONGOL, T., DUDA, D., RICHTER, J.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</a:rPr>
              <a:t> Právo (vybrané kapitoly)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Karviná: SU OPF, 2010, 138 s. ISBN 978-80-7248-609-0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ákon č. 513/1991 Sb., obchodní zákoník [Online ], [cit. 24.8.2012] Url: http://business.center.cz/business/pravo/zakony/obchzak/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ákon č. 227/1997 Sb. o nadacích a nadačních fondech [Online ], [cit. 24.8.2012] Url: http://zakony-online.cz/?s143&amp;q143=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ákon č. </a:t>
            </a: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77/1997 Sb., o státním podniku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[Online ], [cit. 24.8.2012] Url: http://www.podnikatel.cz/zakony/zakon-c-77-1997-sb-o-statnim-podniku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Nadpis 1" descr=""/>
          <p:cNvPicPr/>
          <p:nvPr/>
        </p:nvPicPr>
        <p:blipFill>
          <a:blip r:embed="rId1"/>
          <a:stretch/>
        </p:blipFill>
        <p:spPr>
          <a:xfrm>
            <a:off x="828720" y="835200"/>
            <a:ext cx="7540560" cy="10126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26920" y="1844640"/>
            <a:ext cx="7632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družení osob za účelem podnikání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tátní podni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Družstv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Nadace, nadační fond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66"/>
                </a:solidFill>
                <a:latin typeface="Constantia"/>
              </a:rPr>
              <a:t>1. roční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onstantia"/>
              </a:rPr>
              <a:t>Sdružení osob za účelem podnikání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onstantia"/>
              </a:rPr>
              <a:t>a) </a:t>
            </a:r>
            <a:r>
              <a:rPr b="1" lang="pl-PL" sz="2800" spc="-1" strike="noStrike">
                <a:solidFill>
                  <a:srgbClr val="002060"/>
                </a:solidFill>
                <a:latin typeface="Constantia"/>
              </a:rPr>
              <a:t>Společenství občanského práv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Zájmové sdružení P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Smlouva o sdružení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onstantia"/>
              </a:rPr>
              <a:t>b) Společenství obchodního práv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Smlouva o tichém společenství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Zájmové sdružení P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Jde o sdružení pouze pro P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Vytvářejí samostatnou P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Založit lze i za jiným účelem než podnikání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2060"/>
                </a:solidFill>
                <a:latin typeface="Constantia"/>
              </a:rPr>
              <a:t>Založení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Zakladatelská smlouva nebo</a:t>
            </a: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schválení na ustavující členské schůz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Základní dokument – stanov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2060"/>
                </a:solidFill>
                <a:latin typeface="Constantia"/>
              </a:rPr>
              <a:t>Vznik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zápis do registru sdružení (krajský úřad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2060"/>
                </a:solidFill>
                <a:latin typeface="Constantia"/>
              </a:rPr>
              <a:t>Zánik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onstantia"/>
              </a:rPr>
              <a:t>vymaz z registru sdružení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341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Smlouva o sdružení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PO i FO se mohou združit ,aby se společně přičinily o sdružení sjednaného účel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Jedná se o zavazující vztah mezi účastníky sdružen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eformální, jednoduché – oblíbená forma společného drobného podnikání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onstantia"/>
              </a:rPr>
              <a:t>Povinná účas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vyvíjet činnost k dosažení společného účel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lze sjednat povinnost poskytnout peníz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majetek se stává spoluvlastnictvím vše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zavazky jsou solidárn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onstantia"/>
              </a:rPr>
              <a:t>Ukončení členství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vystoupením (nesmí být v nevhodnou dobu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vyloučením (ze zavazujících důvodů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rozpuštění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Smlouva o tichém společenství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mlouva mezi podnikatelem a tichém společníkov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2060"/>
                </a:solidFill>
                <a:latin typeface="Constantia"/>
              </a:rPr>
              <a:t>Tichý společník 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– poskytne vkl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2060"/>
                </a:solidFill>
                <a:latin typeface="Constantia"/>
              </a:rPr>
              <a:t>Podnikatel 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– výplata čistého zis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ísemná for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ředáním vkladů – vlastníkem věcí se stává podnikat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ráva a povinnosti z podnikání má pouze podnikat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Tichý společník ručí za podnik pouze v případě, že jeho jmění je součástí obchodní fi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onstantia"/>
              </a:rPr>
              <a:t>Smlouva o tichém společenství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Riziko – tichý společník se podílí na ztrátě podnikate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2060"/>
                </a:solidFill>
                <a:latin typeface="Constantia"/>
              </a:rPr>
              <a:t>Zánik tichého společník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uplynutím do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výpověd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rohlášením konkurz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vklad tichého společníka se v důsledku zkracování rovná n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7030a0"/>
                </a:solidFill>
                <a:latin typeface="Calibri"/>
              </a:rPr>
              <a:t>PRÁVNÍ FORMY PODNIKÁNÍ III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onstantia"/>
              </a:rPr>
              <a:t>Státní podni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nstantia"/>
              </a:rPr>
              <a:t>z. č. 77/1997 Sb., o státním podni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onstantia"/>
              </a:rPr>
              <a:t>Podnikající PO s majetkem stá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dná vlastním jménem a na vlastní odpovědn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má vlastní majetek, pouze hospodaří s majetkem stát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onstantia"/>
              </a:rPr>
              <a:t>Zakladatelem je stát (příslušné ministerstvo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účel - uspokojení veřejně prospěšných zájm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onstantia"/>
              </a:rPr>
              <a:t>Obchodního jméno je doplněno dodatkem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átní podnik nebo „s. p.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06:25Z</dcterms:created>
  <dc:creator>Monička</dc:creator>
  <dc:description/>
  <dc:language>en-US</dc:language>
  <cp:lastModifiedBy>Berka</cp:lastModifiedBy>
  <dcterms:modified xsi:type="dcterms:W3CDTF">2014-02-26T07:55:21Z</dcterms:modified>
  <cp:revision>38</cp:revision>
  <dc:subject/>
  <dc:title>SPOLEČNÉ PODNIKÁNÍ</dc:title>
</cp:coreProperties>
</file>