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EBD-DEB4-43EE-82AA-CFFB0B77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F78-7A82-49D1-AAAB-98731C3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80D-422A-4ACF-A17E-C7BD50E7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F7C-5C37-4FAC-949A-9E0DE699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8D6-F3FB-4D25-B89C-D447A7ED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AF1A-E5BF-4718-B16C-8193F9FB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E62-3A76-427C-9808-FE5ED37E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DBBA-FFB8-40B2-98ED-EFB7ED3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EC2-EE33-4C02-AAF6-E5C10DA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26D-B445-4E38-91F2-3A3E31E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2CB6-64D9-4E85-8CBA-1571748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2D8-5B87-4C0C-A641-4B14106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6E34-C214-4012-9203-D7FB8BE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EFF-7E0A-49C8-AC4F-EAB2E5F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961A-A602-4BFC-95A9-B2443C21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95C1-965D-41A7-AEDB-471894C3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7FE-EF3E-4E04-8717-FED19553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FBCC-7F5F-4CC3-B18B-9F8439C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4D81-17CF-4927-899F-E371676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9898-A1EE-4BC0-A0EE-73DD094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C326-146D-46F9-A408-B383B756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9F5E-E894-49FE-B2BB-B53A5A3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A01-4934-49AE-B0EA-4159F580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64A7-9749-4EC2-936E-D192930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189E-055C-4F7F-9EF7-C2B329B4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0ADF-C4A6-4D22-B840-A701742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0C89-D079-41D4-9514-5DDD196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6930-F3CF-4679-9FC2-74BDF07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8E5E-12AF-41B5-94C6-C40CFEFD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A960-F91F-4817-A929-FA61BAEB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83BF-C415-4873-BC32-0553EAE3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D44F-1148-4E56-B4A5-8E8A4B47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E33D-031F-4010-9F31-3EFB73B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774-2EAC-4670-93F9-4DC6FCAC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C11B-EB35-41A7-9277-0558772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BE2D-6B09-47CA-89B4-84EBEEA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6B45-2DA4-4795-9D1C-75D2FA9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4F42-ECD2-4B33-9452-2F77A72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99BA-10BC-453C-8A0B-38DD325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7C01-6F6D-414A-8675-EA028BDB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8777-3C48-42F7-A8B3-5E345D75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7AFF-1558-4B4C-AC3D-697B1F49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55A9-332F-42F6-827B-2796C03A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553D-1366-45C1-B743-976BA223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0DB-2999-4D17-93BB-84C00DF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3D7F-090E-4437-B6B6-4182B9B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807D-87DE-468C-9D72-A2F19786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7678-F0F2-4848-80DF-1F0CE962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4FCE9-C711-4B6D-B614-5F23CD6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03012-7D34-42CA-AF2E-DAA18AE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455F-2A67-45E9-BAD5-0AB13FA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A6A6-0DAF-489A-A468-FE5B63C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91E9-F544-48DE-A5B8-DBF73FD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0F4F-AB6F-4BB2-9483-AB48215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F406-6485-4FC7-99C1-4F77F0AF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D5E-D9AE-47AE-97D1-77B8B4F7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6312-7704-405C-87C9-3ACE1BA3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7670-002C-456C-B66E-092177F6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450F-DD43-487A-BB28-20B10EEE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BEE9-D520-4C39-9B53-7AEFFB0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4FBF-0603-4F39-904D-AD2AD73D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8426-D761-4993-8B3B-B90CD5CA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5BBF-DCA4-45B7-9441-A9690F46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1F29-FC62-46BD-81F6-8A1E70A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CD07-AE98-4782-BACE-1E10C79F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1BB2B-CA9B-4694-8BBA-A9D6930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499-DC6C-44E5-9D4A-00D2E93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2661-CA5E-4D45-AACA-441D39E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C8A6E-4326-4892-90D9-B5670A7F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6E44-2A49-4BA3-92EB-278F4AB5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A46F-DE9F-4459-83B0-457FBAAE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E6B4-E138-43A0-A448-1133C9D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7663-D7D8-43E2-B932-D8748BDD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ED83-45E4-4434-B1F9-D77BB7BA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EAAA-35A8-4280-9473-613BEC5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DB9C-D158-4B94-AFFF-5624A90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1189E-D02D-4742-A0F9-0ACB7C3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AF6-4A3E-45B1-8DCE-83033A4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8768-587F-4947-87CC-2E9FD67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4ED6-C11C-4C3E-8442-15226DF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1C8B-DB97-4CEB-9D77-C206676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B6D5-8FB0-4EAB-9724-B637C7BC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A04C-4105-4AE4-B518-7C4338E8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40F-F406-4038-8D89-EA198B8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C81-A9FA-4442-AD43-4EE963055D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D86-CB95-46EC-8B87-0013274C0271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1C8-DFD9-4E3F-B01E-4692A9C2D7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067C-D8F4-4A8E-A951-522A10C4D2A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7D7-524F-4C73-AFDB-6F0557D6A2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EFE1-8753-440A-8D13-01122BECB2B0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83B-5DA2-4AA9-ACF5-0071D9A890F3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Nadpis 1" descr=""/>
          <p:cNvPicPr/>
          <p:nvPr/>
        </p:nvPicPr>
        <p:blipFill>
          <a:blip r:embed="rId1"/>
          <a:stretch/>
        </p:blipFill>
        <p:spPr>
          <a:xfrm>
            <a:off x="542880" y="3286080"/>
            <a:ext cx="8058240" cy="2981520"/>
          </a:xfrm>
          <a:prstGeom prst="rect">
            <a:avLst/>
          </a:prstGeom>
          <a:ln w="0">
            <a:noFill/>
          </a:ln>
        </p:spPr>
      </p:pic>
      <p:pic>
        <p:nvPicPr>
          <p:cNvPr id="302" name="Podnadpis 2" descr=""/>
          <p:cNvPicPr/>
          <p:nvPr/>
        </p:nvPicPr>
        <p:blipFill>
          <a:blip r:embed="rId2"/>
          <a:stretch/>
        </p:blipFill>
        <p:spPr>
          <a:xfrm>
            <a:off x="542880" y="2346480"/>
            <a:ext cx="8058240" cy="1298520"/>
          </a:xfrm>
          <a:prstGeom prst="rect">
            <a:avLst/>
          </a:prstGeom>
          <a:ln w="0">
            <a:noFill/>
          </a:ln>
        </p:spPr>
      </p:pic>
      <p:pic>
        <p:nvPicPr>
          <p:cNvPr id="303" name="Obrázek 3" descr=""/>
          <p:cNvPicPr/>
          <p:nvPr/>
        </p:nvPicPr>
        <p:blipFill>
          <a:blip r:embed="rId3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718840" cy="1285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341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Century Gothic"/>
              </a:rPr>
              <a:t>Reálný kapitá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entury Gothic"/>
              </a:rPr>
              <a:t>Produktivní (fixní)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– přímo se účastní výroby (budovy, stroje, zařízení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entury Gothic"/>
              </a:rPr>
              <a:t>Neproduktivní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– neúčastní se výroby (vybavení pro zaměstnanc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entury Gothic"/>
              </a:rPr>
              <a:t>Oběžný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– volně se pohybuje v průběhu výroby (zásob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entury Gothic"/>
              </a:rPr>
              <a:t>Oběhový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– výrobky, které byly vyrobeny, ale ještě nebyly prodán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718840" cy="1395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8360" y="13410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Century Gothic"/>
              </a:rPr>
              <a:t>Peněžní kapitá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eněžní prostředky určené na nákup reálného kapitálu a dalších výrobních faktor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Century Gothic"/>
              </a:rPr>
              <a:t>Fiktivní kapitá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Cenné papíry (akcie, šeky, směnky, dluhopisy, obligace, zástavní listy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71884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cccc"/>
                </a:solidFill>
                <a:latin typeface="Century Gothic"/>
              </a:rPr>
              <a:t>Rozdělení kapitálu z hlediska zdrojů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Vlastní</a:t>
            </a:r>
            <a:r>
              <a:rPr b="0" lang="cs-CZ" sz="3200" spc="-1" strike="noStrike">
                <a:solidFill>
                  <a:srgbClr val="ffffff"/>
                </a:solidFill>
                <a:latin typeface="Century Gothic"/>
              </a:rPr>
              <a:t> – z vlastních peněžních zdrojů (dal k dispozici sám podnikatel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Cizí</a:t>
            </a:r>
            <a:r>
              <a:rPr b="0" lang="cs-CZ" sz="3200" spc="-1" strike="noStrike">
                <a:solidFill>
                  <a:srgbClr val="ffffff"/>
                </a:solidFill>
                <a:latin typeface="Century Gothic"/>
              </a:rPr>
              <a:t> – z cizích peněžních zdrojů (úvěry, leasing, jiné závazky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693280" cy="1073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0526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cccc"/>
                </a:solidFill>
                <a:latin typeface="Century Gothic"/>
              </a:rPr>
              <a:t>Hospodařen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ff00"/>
                </a:solidFill>
                <a:latin typeface="Century Gothic"/>
              </a:rPr>
              <a:t>Účelné nakládání s prostředky, které má společnost k dispozici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 (zaměstnanci, přírodní zdroje, kapitál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ředstavuje každou činnost, kterou uspokojujeme potřeby vynakládáním prostředků tak, aby vztah mezi výsledky činností (výstupy) a vynaloženými prostředky (vstupy) byl co nejpříznivější (hospodárný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 rámci hospodaření může podnik vykazovat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-      </a:t>
            </a:r>
            <a:r>
              <a:rPr b="0" lang="cs-CZ" sz="1800" spc="-1" strike="noStrike">
                <a:solidFill>
                  <a:srgbClr val="33cccc"/>
                </a:solidFill>
                <a:latin typeface="Century Gothic"/>
              </a:rPr>
              <a:t>N </a:t>
            </a:r>
            <a:r>
              <a:rPr b="0" lang="en-US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&lt;</a:t>
            </a:r>
            <a:r>
              <a:rPr b="0" lang="cs-CZ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 V = zis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cccc"/>
                </a:solidFill>
                <a:latin typeface="Century Gothic"/>
              </a:rPr>
              <a:t>      </a:t>
            </a:r>
            <a:r>
              <a:rPr b="0" lang="cs-CZ" sz="1800" spc="-1" strike="noStrike">
                <a:solidFill>
                  <a:srgbClr val="33cccc"/>
                </a:solidFill>
                <a:latin typeface="Century Gothic"/>
              </a:rPr>
              <a:t>-      N </a:t>
            </a:r>
            <a:r>
              <a:rPr b="0" lang="en-US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&gt;</a:t>
            </a:r>
            <a:r>
              <a:rPr b="0" lang="cs-CZ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 V = ztrá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      </a:t>
            </a:r>
            <a:r>
              <a:rPr b="0" lang="cs-CZ" sz="1800" spc="-1" strike="noStrike">
                <a:solidFill>
                  <a:srgbClr val="33cccc"/>
                </a:solidFill>
                <a:latin typeface="Century Gothic"/>
                <a:ea typeface="Arial"/>
              </a:rPr>
              <a:t>-      N = V = nulový hospodářský výslede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Produkce (výroba) a poskytování statků a služeb za úplatu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=&gt;</a:t>
            </a:r>
            <a:r>
              <a:rPr b="0" i="1" lang="cs-CZ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“hospodářská činnost“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570880" cy="1395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cccc"/>
                </a:solidFill>
                <a:latin typeface="Century Gothic"/>
              </a:rPr>
              <a:t>Hospodaření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Zásady hospodařen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Získat maximální výsledek z určitého množství zdroj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Získat potřebný výsledek s minimálními zdroj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V praxi se oba principy kombinuj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Nadpis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64576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Century Gothic"/>
              </a:rPr>
              <a:t>Použitá literatur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KLÍNSKÝ, P., MÜNCH, O. </a:t>
            </a:r>
            <a:r>
              <a:rPr b="0" i="1" lang="cs-CZ" sz="2400" spc="-1" strike="noStrike">
                <a:solidFill>
                  <a:srgbClr val="ffffff"/>
                </a:solidFill>
                <a:latin typeface="Century Gothic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3. vyd. Praha: Eduko nakladatelství, s. r. o., 2010, 152 s. ISBN 978-80-87204-24-5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341360"/>
          <a:ext cx="8229600" cy="5303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Základní ekonomické pojmy I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Y_32_INOVACE_063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4. 10. 2013, 24. 10. 2013, 4. 11. 20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2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ateriál slouží k získání teoretických znalostí o výrobních faktorech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Gothic"/>
              </a:rPr>
              <a:t>Prá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Gothic"/>
              </a:rPr>
              <a:t>Přírodní zdroj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entury Gothic"/>
              </a:rPr>
              <a:t>Kapitá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entury Gothic"/>
              </a:rPr>
              <a:t>1. roční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39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Slouží k výrobě (poskytování) statků a služe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                       </a:t>
            </a:r>
            <a:r>
              <a:rPr b="0" lang="cs-CZ" sz="2400" spc="-1" strike="noStrike">
                <a:solidFill>
                  <a:srgbClr val="00ff00"/>
                </a:solidFill>
                <a:latin typeface="Century Gothic"/>
              </a:rPr>
              <a:t>přemě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Century Gothic"/>
              </a:rPr>
              <a:t>    </a:t>
            </a:r>
            <a:r>
              <a:rPr b="0" lang="cs-CZ" sz="2400" spc="-1" strike="noStrike">
                <a:solidFill>
                  <a:srgbClr val="00ff00"/>
                </a:solidFill>
                <a:latin typeface="Century Gothic"/>
              </a:rPr>
              <a:t>vstup </a:t>
            </a:r>
            <a:r>
              <a:rPr b="0" lang="en-US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=&gt;</a:t>
            </a:r>
            <a:r>
              <a:rPr b="0" lang="cs-CZ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 ------------------- =</a:t>
            </a:r>
            <a:r>
              <a:rPr b="0" lang="en-US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   výstup – statek, služb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                     </a:t>
            </a:r>
            <a:r>
              <a:rPr b="0" lang="cs-CZ" sz="2400" spc="-1" strike="noStrike">
                <a:solidFill>
                  <a:srgbClr val="00ff00"/>
                </a:solidFill>
                <a:latin typeface="Century Gothic"/>
                <a:ea typeface="Arial"/>
              </a:rPr>
              <a:t>zhodnocení         (výsledek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Abychom mohli zahájit výrobu musíme mít </a:t>
            </a:r>
            <a:r>
              <a:rPr b="0" i="1" lang="cs-CZ" sz="2800" spc="-1" strike="noStrike">
                <a:solidFill>
                  <a:srgbClr val="33cccc"/>
                </a:solidFill>
                <a:latin typeface="Century Gothic"/>
                <a:ea typeface="Arial"/>
              </a:rPr>
              <a:t>„výrobní faktory“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(činitele), které jsou součástí výroby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     </a:t>
            </a: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- práce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      </a:t>
            </a: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- přírodní zdroje, </a:t>
            </a: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      </a:t>
            </a:r>
            <a:r>
              <a:rPr b="0" lang="cs-CZ" sz="2800" spc="-1" strike="noStrike">
                <a:solidFill>
                  <a:srgbClr val="00ff00"/>
                </a:solidFill>
                <a:latin typeface="Century Gothic"/>
                <a:ea typeface="Arial"/>
              </a:rPr>
              <a:t>- kapitá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5573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Century Gothic"/>
              </a:rPr>
              <a:t>PRÁ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ředstavuje </a:t>
            </a: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vynakládání fyzické a duševní práce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energie člověka) </a:t>
            </a: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na získání statků a služeb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využití znalostí, dovedností, schopností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V praxi se práce rozlišuje na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fyzická/duševní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   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- jednoduchá/složitá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    </a:t>
            </a:r>
            <a:r>
              <a:rPr b="0" i="1" lang="cs-CZ" sz="2800" spc="-1" strike="noStrike">
                <a:solidFill>
                  <a:srgbClr val="00ff00"/>
                </a:solidFill>
                <a:latin typeface="Century Gothic"/>
              </a:rPr>
              <a:t>- produktivní/neproduktivní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PRÁC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Ve výrobním procesu dochází k </a:t>
            </a:r>
            <a:r>
              <a:rPr b="0" lang="cs-CZ" sz="2000" spc="-1" strike="noStrike">
                <a:solidFill>
                  <a:srgbClr val="33cccc"/>
                </a:solidFill>
                <a:latin typeface="Century Gothic"/>
              </a:rPr>
              <a:t>dělbě práce, specializaci a kooperaci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 (spoluprác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entury Gothic"/>
              </a:rPr>
              <a:t>Intenzita práce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 – množství práce vynaložené za jednotku času (h), s růstem intenzity roste i výkonnost (produktivita prác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entury Gothic"/>
              </a:rPr>
              <a:t>Produktivita práce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 – účinnost vynaložené práce, měří se množstvím produkce na jednotku času (pracovníka), s rostoucím vybavením podniku stroji a zařízením se produktivita práce zvyšu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entury Gothic"/>
              </a:rPr>
              <a:t>Dělba práce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 – umožňuje specializaci a předpokládá kooperac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9440" y="268200"/>
            <a:ext cx="8925120" cy="1073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24000" y="1197000"/>
            <a:ext cx="8286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entury Gothic"/>
              </a:rPr>
              <a:t>PRÁ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Century Gothic"/>
              </a:rPr>
              <a:t>Pracovní síl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Souhrn fyzických a duševních schopností člověka konat prác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275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entury Gothic"/>
              </a:rPr>
              <a:t>Znaky pracovní síl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cccc"/>
                </a:solidFill>
                <a:latin typeface="Century Gothic"/>
              </a:rPr>
              <a:t>Kvalifikace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– souhrn potřebných znalostí, dovedností a vlastností pracovníka vykonávat určitou prác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cccc"/>
                </a:solidFill>
                <a:latin typeface="Century Gothic"/>
              </a:rPr>
              <a:t>Adaptabilita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– přizpůsobivos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cccc"/>
                </a:solidFill>
                <a:latin typeface="Century Gothic"/>
              </a:rPr>
              <a:t>Mobilita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– posun ve sféře pracovních sil: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entury Gothic"/>
              </a:rPr>
              <a:t>     </a:t>
            </a:r>
            <a:r>
              <a:rPr b="0" i="1" lang="cs-CZ" sz="2200" spc="-1" strike="noStrike">
                <a:solidFill>
                  <a:srgbClr val="00ff00"/>
                </a:solidFill>
                <a:latin typeface="Century Gothic"/>
              </a:rPr>
              <a:t>- vertikální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     (THP: povýšení, sesazení na nižší pozici),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i="1" lang="cs-CZ" sz="2200" spc="-1" strike="noStrike">
                <a:solidFill>
                  <a:srgbClr val="00ff00"/>
                </a:solidFill>
                <a:latin typeface="Century Gothic"/>
              </a:rPr>
              <a:t>- horizontální 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 (posun na stejné úrovní , přechod do jiného  podniku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5" descr=""/>
          <p:cNvPicPr/>
          <p:nvPr/>
        </p:nvPicPr>
        <p:blipFill>
          <a:blip r:embed="rId1"/>
          <a:stretch/>
        </p:blipFill>
        <p:spPr>
          <a:xfrm>
            <a:off x="109440" y="268200"/>
            <a:ext cx="8858520" cy="1219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341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PŘÍRODNÍ ZDROJ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ůda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omezená povrchem země, základ pro výrobu, zemědělstv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řírodní bohatství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nerostné suroviny (ropa, uhlí – slouží k výrobě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Přírodní energie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sluneční, větrná, vodní, jaderná, 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0760" cy="1219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267920"/>
            <a:ext cx="8229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Century Gothic"/>
              </a:rPr>
              <a:t>KAPITÁ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Tvoří všechny </a:t>
            </a:r>
            <a:r>
              <a:rPr b="0" lang="cs-CZ" sz="2800" spc="-1" strike="noStrike">
                <a:solidFill>
                  <a:srgbClr val="33cccc"/>
                </a:solidFill>
                <a:latin typeface="Century Gothic"/>
              </a:rPr>
              <a:t>ostatní hmotné činitele, které se v podnikové činnosti používají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(stroje, zásoby, peníz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Century Gothic"/>
              </a:rPr>
              <a:t>Základní členění kapitál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cccc"/>
                </a:solidFill>
                <a:latin typeface="Century Gothic"/>
              </a:rPr>
              <a:t>Reálný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vše, co slouží k výrobě (stroje, budovy, zásob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cccc"/>
                </a:solidFill>
                <a:latin typeface="Century Gothic"/>
              </a:rPr>
              <a:t>Peněžn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cccc"/>
                </a:solidFill>
                <a:latin typeface="Century Gothic"/>
              </a:rPr>
              <a:t>Fiktivní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3:33:24Z</dcterms:created>
  <dc:creator>Monika</dc:creator>
  <dc:description/>
  <dc:language>en-US</dc:language>
  <cp:lastModifiedBy>Berka</cp:lastModifiedBy>
  <dcterms:modified xsi:type="dcterms:W3CDTF">2014-02-26T07:39:38Z</dcterms:modified>
  <cp:revision>41</cp:revision>
  <dc:subject/>
  <dc:title>EKONOMIKA PODNIKU</dc:title>
</cp:coreProperties>
</file>