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A87-5D8F-4FF3-B206-23C3D918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AEA-CB0D-4CB7-A6E9-D34C542B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A2F-4F25-4D37-B379-3F786B16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F4A-6F87-49BA-9078-0308898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DAD-1064-4459-8850-9266D14D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83F7-76C9-44A7-B6C8-8203A6BE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2E86-6CAD-4B32-A808-9ADFD4A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0B22-B633-4F49-A992-A26E5FF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F333-1CE9-46D1-A168-6CD884D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7EC-B9C0-4616-9766-41C1DF7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6E0-23A9-4BA4-A690-55CDCB2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82E-A075-447B-B91A-4D15815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F23-CBB1-4B5E-9401-008BABD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7BE-9A45-4FFD-9390-917BB7A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E131-5F0F-48E9-82BD-88DB4ED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B6F2-3F39-4522-AFC7-850A01D2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4F6-64C0-41DD-83A9-8C255352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7FF7-C418-46C5-883C-54C37C48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563B-55E8-4C28-9359-8D21222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9F3D-2942-4E2C-BC86-6C7BA52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E918-7425-43A3-BC3E-AC418DA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BFE5-17E4-449A-A3F8-023ADF4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DAC-4E0D-4148-A2F7-1C56ABA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0F65-F321-4765-93D2-BDD768C3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5F2B-7159-402A-AA25-F9C99731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1CCA-AA63-4ADE-94B4-17D7DD72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2070-13D7-4744-AFD2-FDD89FD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EA32-E4E1-4B35-A99B-2DBF648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60B8-7318-4A4B-BC07-41B6677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9FC4-10A8-4572-9D76-B7C91BDC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9B66-7D71-409B-977A-94339928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923FE-78D2-4416-97C5-9972721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83D3-7CF6-4F6A-AD69-F3B434E3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0EB-E5D8-423E-959B-DAE36B2C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54EB-0DFF-46B5-8840-0FE5F3A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AEB6-0B21-477F-8E52-63647E0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B3DE-00CB-4505-8E16-55EDA829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61DB-F348-4590-B781-5C33E72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2791-5D72-4B35-B4C1-0D5A6B5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92BA-7D15-4B00-94F9-8BC63CE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E954-DFDC-4EAC-A914-B8FAA146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3D69-4502-4D50-9A71-C9723B4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76D7-680C-4E58-A9FB-EF842F35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7D39-0ACE-4620-B35D-9F4C6BED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E44-393E-427C-B911-8005C232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20E2-DA81-4D74-8AD9-04171E8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7D409-F1EE-4984-BC9D-03244E1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2C79-EAAF-4BF1-83D5-6AADB43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C1AE-6C8E-4A12-BC66-318561AB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B76B-7E9C-451B-B620-970A021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ED6E-04CD-4452-8F76-8119F1F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A639-9710-40EE-B1CC-67FE33F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13FE-11FE-457D-8DA7-740B044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C669-E8D1-4C94-9BA9-DC478FC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244A-2212-433C-BED4-1A108069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35E-7C9D-42E3-97E2-3FFEC783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29EB-AE5A-4C9C-B383-B670649E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149-E49E-450D-B714-CDE9B3B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CAA-8A6F-4988-870A-61653014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79B-D2AF-42D5-9C28-721DBE4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A2F-52A3-4B46-BD7E-4A8E97B842D3}" type="slidenum">
              <a:rPr b="0" lang="cs-CZ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218-FDDC-477B-9A22-7E5CF4D9D9EE}" type="slidenum">
              <a:rPr b="0" lang="cs-CZ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67C-6E71-48BF-9822-41905FD7375C}" type="slidenum">
              <a:rPr b="0" lang="cs-CZ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E79D-AA34-4B86-82AC-912F74070102}" type="slidenum">
              <a:rPr b="0" lang="cs-CZ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4CC-30B7-451D-9E03-9E6F616E1B9C}" type="slidenum">
              <a:rPr b="0" lang="cs-CZ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2914560" y="3432240"/>
            <a:ext cx="5759640" cy="2444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3640" y="249228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Y_32_INOVACE_077_Ekonomika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Obrázek 3" descr=""/>
          <p:cNvPicPr/>
          <p:nvPr/>
        </p:nvPicPr>
        <p:blipFill>
          <a:blip r:embed="rId2"/>
          <a:stretch/>
        </p:blipFill>
        <p:spPr>
          <a:xfrm>
            <a:off x="714240" y="214200"/>
            <a:ext cx="7358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356840"/>
            <a:ext cx="7543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7030a0"/>
                </a:solidFill>
                <a:latin typeface="Trebuchet MS"/>
              </a:rPr>
              <a:t>Pořízení dlouhodobého majetku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Pořizujeme za určitou vstupní cenu, která se označuje rozdílně podle způsobu pořízení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koupí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cs-CZ" sz="1800" spc="-1" strike="noStrike">
                <a:solidFill>
                  <a:srgbClr val="7030a0"/>
                </a:solidFill>
                <a:latin typeface="Trebuchet MS"/>
              </a:rPr>
              <a:t>pořizovací cena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= cena pořízení + vedlejší náklad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vlastní výrobou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– oceňujeme </a:t>
            </a:r>
            <a:r>
              <a:rPr b="0" lang="cs-CZ" sz="1800" spc="-1" strike="noStrike">
                <a:solidFill>
                  <a:srgbClr val="7030a0"/>
                </a:solidFill>
                <a:latin typeface="Trebuchet MS"/>
              </a:rPr>
              <a:t>ve vlastních nákladech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darem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– tzv. </a:t>
            </a:r>
            <a:r>
              <a:rPr b="0" lang="cs-CZ" sz="1800" spc="-1" strike="noStrike">
                <a:solidFill>
                  <a:srgbClr val="7030a0"/>
                </a:solidFill>
                <a:latin typeface="Trebuchet MS"/>
              </a:rPr>
              <a:t>reprodukční cena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(stanoví se odhadem nebo soudním znalcem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majetkovým vkladem společníků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– do obchodní společnosti, u živnostníků přeřazením osobního majetku do podnikání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finančním leasingem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– dlouhodobý pronájem, po skončení pronájmu podnik majetek odkupuje za zůstatkovou cenu, do té doby je majetkem leasingové společnos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e36406"/>
                </a:solidFill>
                <a:latin typeface="Trebuchet MS"/>
              </a:rPr>
              <a:t>operativním leasingem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– krátkodobý pronájem, majetek zůstává majetkem leasingové společnos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357200"/>
            <a:ext cx="74008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Trebuchet MS"/>
              </a:rPr>
              <a:t>Opotřebení dlouhodobého majetk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Postupná ztráta hodnoty z původní ceny, postupná ztráta vlastností majetku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1. </a:t>
            </a: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Fyzické opotřebení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– stroje přestávají být přesné, zrezivění kovů, atd., lze zlepšit pravidelnou údržbou, opravam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2. </a:t>
            </a: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800" spc="-1" strike="noStrike">
                <a:solidFill>
                  <a:srgbClr val="e36406"/>
                </a:solidFill>
                <a:latin typeface="Trebuchet MS"/>
              </a:rPr>
              <a:t>Morální opotřebení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– zastarávání, způsobeno technickým pokrokem, novým designem, je potřeba majetek co nejvíce použív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15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Trebuchet MS"/>
              </a:rPr>
              <a:t>Odepisování dlouhodobého majetk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potřebení dlouhodobého majetku se vyjadřuje formou 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odpisů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potřebení v peněžním vyjádřen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yjadřuje současný stav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yjadřuje skutečné opotřebení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ro podnik představuje 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nákla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88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Trebuchet MS"/>
              </a:rPr>
              <a:t>Odepisování dlouhodobého majetk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pisy členíme 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e36406"/>
                </a:solidFill>
                <a:latin typeface="Trebuchet MS"/>
              </a:rPr>
              <a:t>1.</a:t>
            </a:r>
            <a:r>
              <a:rPr b="0" lang="cs-CZ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e36406"/>
                </a:solidFill>
                <a:latin typeface="Trebuchet MS"/>
              </a:rPr>
              <a:t>Účetn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e36406"/>
                </a:solidFill>
                <a:latin typeface="Trebuchet MS"/>
              </a:rPr>
              <a:t>2. Daňov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6840" y="1357200"/>
            <a:ext cx="754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Odepisová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1. Účetní odpis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yjadřuje skutečné opotřebení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ozhoduje o nich sám podnik (podle doby životnosti – např. 5 let nebo podle výkonu – např. počet ujetých k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Výpočet dle doby životnosti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oční odpis = vstupní cena x odpisová sazba (v %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pisová sazba (v %) = 100/doba použitelnost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7242120" cy="714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6840" y="1143000"/>
            <a:ext cx="7472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Odepisová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2. 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Daňové odpis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tanoveny 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zákonem o dani z příjm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podnik musí odepisovat dle záko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odepisuje se na konci účetního obdob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ákonem se stanovena max. výše odpis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rčuje částku, kterou podnik může zavést do nákladů (pro účely výpočtu daně z příjmů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ajetek musí zařadit dle charakteru do příslušné 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odpisové skupiny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1 – 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ožnost volby mezi odpisováním 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rovnoměrným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(lineárním) nebo 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zrychleným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(degresivní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volený způsob odpisování nesmí v průběhu odpisování měn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6840" y="1357200"/>
            <a:ext cx="754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Odepisová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36406"/>
                </a:solidFill>
                <a:latin typeface="Trebuchet MS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a) 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Rovnoměrné odpis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Roční odpis = (vstupní cena x sazba)/10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b) Zrychlené odpis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Roční odpis (1. rok) = vstupní cena/koeficient pro 1. r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Roční odpis (v dalších letech) = 2 x zůstatková cena/koeficient pro další roky – počet odepsaných 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15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Vyřaze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1. S likvidací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– majetek nelze dál použít (např. zničení, škoda, krádež, at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2. Bez likvidace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– majetek lze dál použít (např. dar, převod do soukromého vlastnictví podnikatele, at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15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LÍNSKÝ, P., MÜNCH, O.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3. vyd. Praha: Eduko nakladatelství, s. r. o., 2010, 152 s. ISBN 978-80-87204-24-5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Ekonomie nejen k maturitě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. Vyd. 1. Kralice na Hané: Computer Media, 2007, 136 s. ISBN 978-80-86686-78-3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57200" y="1125360"/>
          <a:ext cx="8229600" cy="55072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rebuchet MS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7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Dlouhodobý maje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VY_32_INOVACE_077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10. 2.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ateriál slouží k získání přehledu o dlouhodobém majetku, jeho členění, pořízení, opotřebení, odpisování a vyřa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Nadpis 1" descr=""/>
          <p:cNvPicPr/>
          <p:nvPr/>
        </p:nvPicPr>
        <p:blipFill>
          <a:blip r:embed="rId1"/>
          <a:stretch/>
        </p:blipFill>
        <p:spPr>
          <a:xfrm>
            <a:off x="500040" y="639720"/>
            <a:ext cx="7242120" cy="682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499760"/>
            <a:ext cx="723888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Charakteristika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Členění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řízení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potřebení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pisování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yřazení dlouhodobého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7030a0"/>
                </a:solidFill>
                <a:latin typeface="Trebuchet MS"/>
              </a:rPr>
              <a:t>1. roční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34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6840" y="1357200"/>
            <a:ext cx="75438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Charakteristika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stupně se opotřebovává (fyzicky či morálně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potřebení vyjadřujeme formou odpisů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e méně likvidní než krátkodobý majet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Likvidit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chopnost přeměnit majetek na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eníz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856880"/>
            <a:ext cx="7238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Trebuchet MS"/>
              </a:rPr>
              <a:t>Členění dlouhodobého majetk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motný dlouhodobý majet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hmotný dlouhodobý majet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Finanční dlouhodobý majet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1213920"/>
            <a:ext cx="7472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Členě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1. 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Hmotný dlouhodobý majetek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stupní cena vyšší než Kč 40.000,--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episuje 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Trebuchet MS"/>
              </a:rPr>
              <a:t>movitý majetek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(stroje, auta, zařízení, at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Trebuchet MS"/>
              </a:rPr>
              <a:t>nemovitý majetek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(budovy, haly, pozemky, stáda a tažná zvířata, plemenná zvířata, at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Trebuchet MS"/>
              </a:rPr>
              <a:t>drobný hmotný majetek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– nesplňuje hranici Kč 40.000,--, ale užívá se déle než 1 ro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echnické zhodnocen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9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6840" y="121428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Trebuchet MS"/>
              </a:rPr>
              <a:t>Členění dlouhodob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36406"/>
                </a:solidFill>
                <a:latin typeface="Trebuchet MS"/>
              </a:rPr>
              <a:t>2. </a:t>
            </a:r>
            <a:r>
              <a:rPr b="1" lang="cs-CZ" sz="24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400" spc="-1" strike="noStrike">
                <a:solidFill>
                  <a:srgbClr val="e36406"/>
                </a:solidFill>
                <a:latin typeface="Trebuchet MS"/>
              </a:rPr>
              <a:t>Nehmotný dlouhodobý majetek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žívá se déle než 1 r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stupní cena vyšší než Kč 60.000,--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apř. software, značka, ocenitelná práva (know – how), autorská práva, licence, patenty, at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zřizovací výdaje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svolání valné hromady, cestovné, atd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technické zhodnoc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Trebuchet MS"/>
              </a:rPr>
              <a:t>drobný nehmotný majetek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– nesplňuje podmínku vstupní ceny, ale používá se dobu delší než 1 r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0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6840" y="1285560"/>
            <a:ext cx="7472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7030a0"/>
                </a:solidFill>
                <a:latin typeface="Trebuchet MS"/>
              </a:rPr>
              <a:t>Členění dlouhodobého majetku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3. 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	</a:t>
            </a: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Finanční dlouhodobý majetek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ní stanovena vstupní c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záleží na účelu majetk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odepisuje 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apř. další zhodnocení – koupě budov, pozemků starožitností, uměleckých děl, šperku, drahých kovů, atd. pro následný prod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15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499760"/>
            <a:ext cx="723888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7030a0"/>
                </a:solidFill>
                <a:latin typeface="Trebuchet MS"/>
              </a:rPr>
              <a:t>Jiné členění dlouhodobého majetku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Odepisovaný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– auta, stroje, budovy, at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Neodepisovaný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– finanční majetek, pozemky, lesy, podzemní vody, at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Výrobní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– používá se ve výrobě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e36406"/>
                </a:solidFill>
                <a:latin typeface="Trebuchet MS"/>
              </a:rPr>
              <a:t>Nevýrobní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– nepoužívá se ve výrobě (zdravotnictví, cestovní ruch, at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0:44:39Z</dcterms:created>
  <dc:creator>Lukas</dc:creator>
  <dc:description/>
  <dc:language>en-US</dc:language>
  <cp:lastModifiedBy>Berka</cp:lastModifiedBy>
  <dcterms:modified xsi:type="dcterms:W3CDTF">2014-02-26T08:14:35Z</dcterms:modified>
  <cp:revision>27</cp:revision>
  <dc:subject/>
  <dc:title>Snímka 1</dc:title>
</cp:coreProperties>
</file>