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7D31-8F43-4616-85D6-C447FF183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7C64-9DDA-4FA6-9017-3B8D4B8CE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8F03-43FB-44BA-82B4-A051E33F1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02F7-65F3-4949-84D9-3E5F1AA20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F3A70-06AA-4245-B970-2C7491672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B8573-4790-4A76-B8D7-E2C7ABBFF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40183-33F5-422D-A36B-E28382B5D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0BBB3-2098-464A-A0A4-85D0DB4D8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A8ED6-59A4-4253-A1B0-322309A59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D9E54-7310-43DA-80A3-DDF10D398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22D49-48D3-4907-A0A3-1843BB979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BF66-C2E1-4970-AE18-CE8A124C6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1D570-130C-46EF-83E5-B88E9A0A2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DFF18-6786-4447-A511-4DF209015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B6D9E-9F30-406A-A0FE-14B79877B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15E77-76B6-409A-875F-8A52CBBB0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DC5ED-2C53-4321-96CD-F3C97D5D9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09F90-3D20-4FD0-94FB-1AA92C80B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7463B-DC7E-499A-B1AA-1B732A41B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AC439-87B0-4E44-88E0-694B4295F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7B1D7-A585-41C1-AD45-77E2A9295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550DF-92A1-45DE-B3B6-823CE876B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E966-B6E8-4AF3-9257-DCA96AC05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2946A-665E-4DA2-B616-8D91F062C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1F788-4D98-4469-8373-2456B6F85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E5ECD-5EBD-4021-B934-CB2B48EB3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24E77-A821-4C7D-8ADC-E0C08A6A0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FBB26-38B0-405A-805D-87ED41570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E3BF8-9C4B-495D-A65F-2E2E59320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F933D-9564-45A8-A678-17621FFE3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FC322-F0F2-4FDF-8159-F6081B9F9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0EBB1-211D-4697-AC56-DBDCB96D8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0AC2B-AE89-4E0D-936D-7ED615BE5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D4DF-E859-4771-BBB9-F0D12C938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093F5-64DD-4352-87B8-48BA038F7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54D85-07A9-49BC-B2FB-F900A709E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918EF-99E4-4572-A47E-AB6AF8B60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C13EE-1923-467E-9285-1FA0054B6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2D9E8-C9BD-44A6-8E2B-C26435DE6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86EAB0-42B2-443F-99BB-CC7CA1BA9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C3C56-9C42-4ADF-9A5C-BEC39580C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08B39-B0A4-4038-B561-E2CAA79B4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56490-2032-4D05-97AD-90053A566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68D19-994C-47CA-8C3D-351495F7A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2C44-54C0-4425-8C2E-BB6C611E5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B93341-22DC-4B0F-AEA5-E6ED086AF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C01370-910A-479D-B71A-F8DE9639A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6789E8-7CED-48B5-978C-8ECAB1C78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70E8CD-2D77-4829-AFC8-7F03A37B9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BB2FE9-C5D9-4F67-B61E-CA161C89F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F607F5-71A5-4450-9305-E86396A87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8A5B7F-55AC-4652-9B46-21E32FFE7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412BE9-8423-4295-902E-2B13B2362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15D1DE-1E5A-4035-BAFB-8DE56825B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588D7F-129C-4FEF-B6FE-F1DCD56D2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2AAA-7D4A-4547-82E5-3C50F932E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FEAF27-DEDA-4DAC-9252-00FC85BA2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2C8888-CCE4-47FF-9382-26C023203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D8D434-5991-46A9-80C9-709EF306A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A53151-8D36-40DB-BAE0-EE50B39F3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2A9970-F865-4897-8D04-E52C69C1C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3E697B-A0E1-41C4-A10B-23B7F9209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658D01-D94B-46F5-A600-034F046CD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74DE4A-2B4C-4261-A897-55735C231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AF4507-F0AC-4BF8-BA1E-DDC3D1DAF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ED5365-2987-4A49-BDFD-C87A1257F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D88A-A7A7-4AA6-A602-A36E7913A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974824-BB2F-4BA7-8D8A-C81BD1EF5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F7E752-E643-4132-9905-5E9195106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9E7020-2E2B-421D-AAD2-F800F9A3D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FE7B-1C43-4967-82C2-24C55D1D2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AD48-9986-4813-AEFC-ACE8DA7E8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olný tvar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Volný tvar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9A2BC-FCB4-4DE5-AC76-CE758E2D374B}" type="slidenum">
              <a:rPr b="0" lang="cs-CZ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Volný tvar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Volný tvar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8312F-0CD7-426F-90AF-248C717B1D18}" type="slidenum">
              <a:rPr b="0" lang="cs-CZ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Volný tvar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Volný tvar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7C690-5F78-4A5F-9D84-5948022EAD5C}" type="slidenum">
              <a:rPr b="0" lang="cs-CZ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57148-9625-43EB-B147-686F440B51F0}" type="slidenum">
              <a:rPr b="0" lang="cs-CZ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Volný tvar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Volný tvar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2A176-57BA-4101-B19B-500DED4BABB9}" type="slidenum">
              <a:rPr b="0" lang="cs-CZ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3ED4A-DAC9-484F-9FFA-793248141895}" type="slidenum">
              <a:rPr b="0" lang="cs-CZ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Nadpis 1" descr=""/>
          <p:cNvPicPr/>
          <p:nvPr/>
        </p:nvPicPr>
        <p:blipFill>
          <a:blip r:embed="rId1"/>
          <a:stretch/>
        </p:blipFill>
        <p:spPr>
          <a:xfrm>
            <a:off x="542880" y="3571920"/>
            <a:ext cx="7991640" cy="278604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539280" y="2060280"/>
            <a:ext cx="7993080" cy="136836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VY_32_INOVACE_066_Ekonomi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Obrázek 3" descr=""/>
          <p:cNvPicPr/>
          <p:nvPr/>
        </p:nvPicPr>
        <p:blipFill>
          <a:blip r:embed="rId2"/>
          <a:stretch/>
        </p:blipFill>
        <p:spPr>
          <a:xfrm>
            <a:off x="1547640" y="333360"/>
            <a:ext cx="6083640" cy="14842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3960" y="75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a116e0"/>
                </a:solidFill>
                <a:latin typeface="Franklin Gothic Book"/>
              </a:rPr>
              <a:t>TRH, TRŽNÍ EKONOMIKA II.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150920"/>
            <a:ext cx="8362800" cy="54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3300"/>
                </a:solidFill>
                <a:latin typeface="Arial"/>
              </a:rPr>
              <a:t>Nabíd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a116e0"/>
                </a:solidFill>
                <a:latin typeface="Arial"/>
              </a:rPr>
              <a:t>Množství zboží, které výrobci dobrovolně dodávají na trh při určité cen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400"/>
              </a:spcBef>
              <a:buClr>
                <a:srgbClr val="6ea0b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3300"/>
                </a:solidFill>
                <a:latin typeface="Arial"/>
              </a:rPr>
              <a:t>Individuální nabídka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nabídka jednoho výrobce (prodejc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3300"/>
                </a:solidFill>
                <a:latin typeface="Arial"/>
              </a:rPr>
              <a:t>Tržní nabídka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součet individuálních nabídek na určitém trh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3300"/>
                </a:solidFill>
                <a:latin typeface="Arial"/>
              </a:rPr>
              <a:t>Agregátní nabídka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nabídka všech výrobců (prodejců) všech druhů zboží v jednom stát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400"/>
              </a:spcBef>
              <a:buClr>
                <a:srgbClr val="6ea0b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a116e0"/>
                </a:solidFill>
                <a:latin typeface="Arial"/>
              </a:rPr>
              <a:t>Nabízené množství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je předem </a:t>
            </a:r>
            <a:r>
              <a:rPr b="0" lang="cs-CZ" sz="2400" spc="-1" strike="noStrike">
                <a:solidFill>
                  <a:srgbClr val="a116e0"/>
                </a:solidFill>
                <a:latin typeface="Arial"/>
              </a:rPr>
              <a:t>závislé na cen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Trh se řídí zákonem nabídky – </a:t>
            </a:r>
            <a:r>
              <a:rPr b="0" i="1" lang="cs-CZ" sz="2400" spc="-1" strike="noStrike">
                <a:solidFill>
                  <a:srgbClr val="ff3300"/>
                </a:solidFill>
                <a:latin typeface="Arial"/>
              </a:rPr>
              <a:t>„zákon stoupající nabídky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922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600" spc="-1" strike="noStrike">
                <a:solidFill>
                  <a:srgbClr val="a116e0"/>
                </a:solidFill>
                <a:latin typeface="Franklin Gothic Book"/>
              </a:rPr>
              <a:t>TRH, TRŽNÍ EKONOMIKA II.</a:t>
            </a:r>
            <a:br>
              <a:rPr sz="4600"/>
            </a:b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Arial"/>
              </a:rPr>
              <a:t>Nabíd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000"/>
                </a:solidFill>
                <a:latin typeface="Arial"/>
              </a:rPr>
              <a:t>!!! Pozor, rozlišuj!!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nabídka X nabízené množství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0000"/>
                </a:solidFill>
                <a:latin typeface="Arial"/>
              </a:rPr>
              <a:t>nabídka</a:t>
            </a:r>
            <a:r>
              <a:rPr b="0" i="1" lang="cs-CZ" sz="2800" spc="-1" strike="noStrike">
                <a:solidFill>
                  <a:srgbClr val="ffffff"/>
                </a:solidFill>
                <a:latin typeface="Arial"/>
              </a:rPr>
              <a:t> = bod vznikající určitému množství při určité ceně v graf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0000"/>
                </a:solidFill>
                <a:latin typeface="Arial"/>
              </a:rPr>
              <a:t>nabízené množství</a:t>
            </a: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= konkrétní množství, které dodavatelé dodají při konkrétní cen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→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dpovídá jednomu bodu na nabídkové křiv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39560" y="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a116e0"/>
                </a:solidFill>
                <a:latin typeface="Franklin Gothic Book"/>
              </a:rPr>
              <a:t>TRH, TRŽNÍ EKONOMIKA II.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384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i="1" lang="cs-CZ" sz="3000" spc="-1" strike="noStrike">
                <a:solidFill>
                  <a:srgbClr val="ff3300"/>
                </a:solidFill>
                <a:latin typeface="Arial"/>
              </a:rPr>
              <a:t>Nabídk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a116e0"/>
                </a:solidFill>
                <a:latin typeface="Arial"/>
              </a:rPr>
              <a:t>Křivka nabíd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Graf: </a:t>
            </a: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Křivka nabídk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Zdroj: </a:t>
            </a: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SilverStar: Commons.wikimedia.org: File:Supply-demand-right-shift-supply.png   [online]. 28 November 2006 [cit. 2012-08-05]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971640" y="4383000"/>
          <a:ext cx="2808360" cy="1792440"/>
        </p:xfrm>
        <a:graphic>
          <a:graphicData uri="http://schemas.openxmlformats.org/drawingml/2006/table">
            <a:tbl>
              <a:tblPr/>
              <a:tblGrid>
                <a:gridCol w="1444680"/>
                <a:gridCol w="1363680"/>
              </a:tblGrid>
              <a:tr h="69768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ena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nožství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7" name="Line 25"/>
          <p:cNvSpPr/>
          <p:nvPr/>
        </p:nvSpPr>
        <p:spPr>
          <a:xfrm>
            <a:off x="4932360" y="2421000"/>
            <a:ext cx="0" cy="3168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Line 26"/>
          <p:cNvSpPr/>
          <p:nvPr/>
        </p:nvSpPr>
        <p:spPr>
          <a:xfrm>
            <a:off x="4932360" y="5589720"/>
            <a:ext cx="280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Freeform 29"/>
          <p:cNvSpPr/>
          <p:nvPr/>
        </p:nvSpPr>
        <p:spPr>
          <a:xfrm>
            <a:off x="5867280" y="2276640"/>
            <a:ext cx="2303640" cy="2855880"/>
          </a:xfrm>
          <a:custGeom>
            <a:avLst/>
            <a:gdLst/>
            <a:ahLst/>
            <a:rect l="l" t="t" r="r" b="b"/>
            <a:pathLst>
              <a:path w="1451" h="1799">
                <a:moveTo>
                  <a:pt x="1451" y="0"/>
                </a:moveTo>
                <a:cubicBezTo>
                  <a:pt x="1028" y="642"/>
                  <a:pt x="605" y="1285"/>
                  <a:pt x="363" y="1542"/>
                </a:cubicBezTo>
                <a:cubicBezTo>
                  <a:pt x="121" y="1799"/>
                  <a:pt x="60" y="1670"/>
                  <a:pt x="0" y="1542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Text Box 31"/>
          <p:cNvSpPr/>
          <p:nvPr/>
        </p:nvSpPr>
        <p:spPr>
          <a:xfrm>
            <a:off x="7504200" y="5748480"/>
            <a:ext cx="4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Text Box 32"/>
          <p:cNvSpPr/>
          <p:nvPr/>
        </p:nvSpPr>
        <p:spPr>
          <a:xfrm>
            <a:off x="7219440" y="229248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Line 34"/>
          <p:cNvSpPr/>
          <p:nvPr/>
        </p:nvSpPr>
        <p:spPr>
          <a:xfrm flipV="1">
            <a:off x="6877080" y="4365720"/>
            <a:ext cx="43164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Text Box 36"/>
          <p:cNvSpPr/>
          <p:nvPr/>
        </p:nvSpPr>
        <p:spPr>
          <a:xfrm>
            <a:off x="4427640" y="3716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Text Box 39"/>
          <p:cNvSpPr/>
          <p:nvPr/>
        </p:nvSpPr>
        <p:spPr>
          <a:xfrm>
            <a:off x="5989320" y="572760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ahoma"/>
              </a:rPr>
              <a:t>15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Text Box 40"/>
          <p:cNvSpPr/>
          <p:nvPr/>
        </p:nvSpPr>
        <p:spPr>
          <a:xfrm>
            <a:off x="6421320" y="572760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ahoma"/>
              </a:rPr>
              <a:t>3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Text Box 41"/>
          <p:cNvSpPr/>
          <p:nvPr/>
        </p:nvSpPr>
        <p:spPr>
          <a:xfrm>
            <a:off x="6924600" y="572760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ahoma"/>
              </a:rPr>
              <a:t>5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7" name="Picture 2" descr="File:Supply.gif"/>
          <p:cNvPicPr/>
          <p:nvPr/>
        </p:nvPicPr>
        <p:blipFill>
          <a:blip r:embed="rId1"/>
          <a:stretch/>
        </p:blipFill>
        <p:spPr>
          <a:xfrm>
            <a:off x="4732200" y="2192400"/>
            <a:ext cx="3936960" cy="42307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a116e0"/>
                </a:solidFill>
                <a:latin typeface="Franklin Gothic Book"/>
              </a:rPr>
              <a:t>TRH, TRŽNÍ EKONOMIKA II.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6840" y="1052640"/>
            <a:ext cx="8218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ff3300"/>
                </a:solidFill>
                <a:latin typeface="Arial"/>
              </a:rPr>
              <a:t>Nabídk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a116e0"/>
                </a:solidFill>
                <a:latin typeface="Arial"/>
              </a:rPr>
              <a:t>Proč má nabídková křivka stoupající průběh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ýrobci reagují na změny cen, protože porovnávají náklady a možný zi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3300"/>
                </a:solidFill>
                <a:latin typeface="Arial"/>
              </a:rPr>
              <a:t>Průběh ovlivňuj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Rostoucí nákla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truktura výrob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stup na trh – do odvětv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a116e0"/>
                </a:solidFill>
                <a:latin typeface="Franklin Gothic Book"/>
              </a:rPr>
              <a:t>TRH, TRŽNÍ EKONOMIKA II.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6840" y="1341360"/>
            <a:ext cx="82184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3300"/>
                </a:solidFill>
                <a:latin typeface="Arial"/>
              </a:rPr>
              <a:t>Nabíd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a116e0"/>
                </a:solidFill>
                <a:latin typeface="Arial"/>
              </a:rPr>
              <a:t>Co vyjadřuje nabídková křivka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3300"/>
                </a:solidFill>
                <a:latin typeface="Arial"/>
              </a:rPr>
              <a:t>Závislost nabízeného množství na ceně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za předpokladu, že ostatní faktory jsou neměnn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mění-li se některé faktory ztrácí původní </a:t>
            </a:r>
            <a:r>
              <a:rPr b="0" lang="cs-CZ" sz="2800" spc="-1" strike="noStrike">
                <a:solidFill>
                  <a:srgbClr val="a116e0"/>
                </a:solidFill>
                <a:latin typeface="Arial"/>
              </a:rPr>
              <a:t>křivka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ýznam a</a:t>
            </a:r>
            <a:r>
              <a:rPr b="0" lang="cs-CZ" sz="2800" spc="-1" strike="noStrike">
                <a:solidFill>
                  <a:srgbClr val="a116e0"/>
                </a:solidFill>
                <a:latin typeface="Arial"/>
              </a:rPr>
              <a:t> posouvá se doprava či dole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3720" y="-3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a116e0"/>
                </a:solidFill>
                <a:latin typeface="Franklin Gothic Book"/>
              </a:rPr>
              <a:t>TRH, TRŽNÍ EKONOMIKA II.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57200" y="1341000"/>
            <a:ext cx="82915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3300"/>
                </a:solidFill>
                <a:latin typeface="Arial"/>
              </a:rPr>
              <a:t>Nabíd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a116e0"/>
                </a:solidFill>
                <a:latin typeface="Arial"/>
              </a:rPr>
              <a:t>Jiné faktory působící na nabízené množstv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Cena bude stálá, výrobci (prodejci) budou měnit nabízené množství z jiných důvodů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3300"/>
                </a:solidFill>
                <a:latin typeface="Arial"/>
              </a:rPr>
              <a:t>změna nákladů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(ceny vstupů)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3300"/>
                </a:solidFill>
                <a:latin typeface="Arial"/>
              </a:rPr>
              <a:t>změny výrobních podmínek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(struktura výroby)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3300"/>
                </a:solidFill>
                <a:latin typeface="Arial"/>
              </a:rPr>
              <a:t>ceny alternativních výrobků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(nahrazují dané výrobky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94920" y="7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a116e0"/>
                </a:solidFill>
                <a:latin typeface="Franklin Gothic Book"/>
              </a:rPr>
              <a:t>TRH, TRŽNÍ EKONOMIKA II.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98600" y="1150560"/>
            <a:ext cx="8229600" cy="570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ff3300"/>
                </a:solidFill>
                <a:latin typeface="Arial"/>
              </a:rPr>
              <a:t>Nabídka – posun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c000"/>
                </a:solidFill>
                <a:latin typeface="Arial"/>
              </a:rPr>
              <a:t>a) Růst nabídky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osun dopra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ři každé ceně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e nabízí více zboží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důvod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okles nákladů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47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na výrobu</a:t>
            </a:r>
            <a:r>
              <a:rPr b="0" lang="cs-CZ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Graf: </a:t>
            </a: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Posun křivky doprav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Zdroj: </a:t>
            </a: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SilverStar: Commons.wikimedia.org: File:Supply-demand-right-shift-supply.png 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[online]. 28 November 2006 [cit. 2012-08-05]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6" name="Picture 5" descr=""/>
          <p:cNvPicPr/>
          <p:nvPr/>
        </p:nvPicPr>
        <p:blipFill>
          <a:blip r:embed="rId1"/>
          <a:stretch/>
        </p:blipFill>
        <p:spPr>
          <a:xfrm>
            <a:off x="4613400" y="2133720"/>
            <a:ext cx="3487680" cy="3456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34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600" spc="-1" strike="noStrike">
                <a:solidFill>
                  <a:srgbClr val="a116e0"/>
                </a:solidFill>
                <a:latin typeface="Franklin Gothic Book"/>
              </a:rPr>
              <a:t>TRH, TRŽNÍ EKONOMIKA II.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57200" y="1177920"/>
            <a:ext cx="8229600" cy="55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ff3300"/>
                </a:solidFill>
                <a:latin typeface="Arial"/>
              </a:rPr>
              <a:t>Nabídka – posun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c000"/>
                </a:solidFill>
                <a:latin typeface="Arial"/>
              </a:rPr>
              <a:t>b) Pokles nabídky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osun dolev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ři každé ceně se nabízí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méně zboží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důvod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zvýšení nákladů na výrobu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Graf:   </a:t>
            </a: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Posun křivky doprav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Zdroj: </a:t>
            </a: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SilverStar: Commons.wikimedia.org: File:Supply-demand-right-shift-supply.png   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[online]. 28 November 2006 [cit. 2012-08-05]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9" name="Picture 1" descr=""/>
          <p:cNvPicPr/>
          <p:nvPr/>
        </p:nvPicPr>
        <p:blipFill>
          <a:blip r:embed="rId1"/>
          <a:stretch/>
        </p:blipFill>
        <p:spPr>
          <a:xfrm>
            <a:off x="5148360" y="2276640"/>
            <a:ext cx="3168720" cy="33843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6840" y="55368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600" spc="-1" strike="noStrike">
                <a:solidFill>
                  <a:srgbClr val="a116e0"/>
                </a:solidFill>
                <a:latin typeface="Franklin Gothic Book"/>
              </a:rPr>
              <a:t>TRH, TRŽNÍ EKONOMIKA II.</a:t>
            </a:r>
            <a:br>
              <a:rPr sz="4600"/>
            </a:b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1413000"/>
            <a:ext cx="82915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Použitá literatur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KLÍNSKÝ, P., MÜNCH, O. 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Ekonomika 1 pro obchodní akademie a ostatní střední školy.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3. vyd. Praha: Eduko nakladatelství, s. r. o., 2010, 152 s. ISBN 978-80-87204-24-5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850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Franklin Gothic Book"/>
              </a:rPr>
              <a:t>Záznamový list výukového materiálu</a:t>
            </a:r>
            <a:br>
              <a:rPr sz="1800"/>
            </a:b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457200" y="1125360"/>
          <a:ext cx="8229600" cy="5507280"/>
        </p:xfrm>
        <a:graphic>
          <a:graphicData uri="http://schemas.openxmlformats.org/drawingml/2006/table">
            <a:tbl>
              <a:tblPr/>
              <a:tblGrid>
                <a:gridCol w="2962440"/>
                <a:gridCol w="5267160"/>
              </a:tblGrid>
              <a:tr h="406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Název škol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ŠTZ Mohelnice, 1. máje 2, 789 85 Mohelni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ea0b0"/>
                    </a:solidFill>
                  </a:tcPr>
                </a:tc>
              </a:tr>
              <a:tr h="4082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Číslo projektu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ŠTZ Mohelnice, 1. máje 2, 789 85 Mohelni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6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ázev šablony klíčové aktivit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Z.1.07/1.5.00/34.003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378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ázev výukového materiálu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rh, tržní ekonomika II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82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Označení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VY_32_INOVACE_066_Ekonomik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6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Vzdělávací ob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4-41-L/5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7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ematická obla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konomika a práv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6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Roční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rvní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6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ut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gr. Roman Berk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7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atum ověření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8. 11. 2013, 19. 11. 2013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90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notace / metodický popi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ateriál slouží k získání přehledu o fungování nabídky </a:t>
                      </a:r>
                      <a:br>
                        <a:rPr sz="1400"/>
                      </a:b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 poptávky na trhu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7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dpis autor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gr. Roman Berk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6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dpis ředite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600" spc="-1" strike="noStrike">
                <a:solidFill>
                  <a:srgbClr val="a116e0"/>
                </a:solidFill>
                <a:latin typeface="Franklin Gothic Book"/>
              </a:rPr>
              <a:t>TRH, TRŽNÍ EKONOMIKA II.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Arial"/>
              </a:rPr>
              <a:t>Poptávk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Arial"/>
              </a:rPr>
              <a:t>Nabídk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Arial"/>
              </a:rPr>
              <a:t>1. roční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850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a116e0"/>
                </a:solidFill>
                <a:latin typeface="Franklin Gothic Book"/>
              </a:rPr>
              <a:t>TRH, TRŽNÍ EKONOMIKA II.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6840" y="1196640"/>
            <a:ext cx="81471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3300"/>
                </a:solidFill>
                <a:latin typeface="Arial"/>
              </a:rPr>
              <a:t>POPTÁV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a116e0"/>
                </a:solidFill>
                <a:latin typeface="Arial"/>
              </a:rPr>
              <a:t>Množství zboží, které jsou kupující ochotni koupit při určité cen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a trhu se poptávka řídí zákonem poptávky – </a:t>
            </a:r>
            <a:r>
              <a:rPr b="0" i="1" lang="cs-CZ" sz="2800" spc="-1" strike="noStrike">
                <a:solidFill>
                  <a:srgbClr val="ff3300"/>
                </a:solidFill>
                <a:latin typeface="Arial"/>
              </a:rPr>
              <a:t>„zákon klesající poptávky“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– s klesající cenou je kupující ochoten nakupovat větší množstv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a116e0"/>
                </a:solidFill>
                <a:latin typeface="Arial"/>
              </a:rPr>
              <a:t>Agregátní poptávka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– poptávka všech lidí v určitém státě po všech možných statcích a službá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2520" y="3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a116e0"/>
                </a:solidFill>
                <a:latin typeface="Franklin Gothic Book"/>
              </a:rPr>
              <a:t>TRH, TRŽNÍ EKONOMIKA II.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384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ff3300"/>
                </a:solidFill>
                <a:latin typeface="Arial"/>
              </a:rPr>
              <a:t>POPTÁVK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a116e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a116e0"/>
                </a:solidFill>
                <a:latin typeface="Arial"/>
              </a:rPr>
              <a:t>Křivka poptáv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Graf: Poptávk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Zdroj: </a:t>
            </a: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SilverStar:Commons.wikimedia.org:File:</a:t>
            </a:r>
            <a:br>
              <a:rPr sz="1600"/>
            </a:b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Supply-demand-right-shift-supply.png   [online]. 28 November 2006 </a:t>
            </a:r>
            <a:br>
              <a:rPr sz="1600"/>
            </a:b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[cit. 2012-08-05]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971640" y="4365720"/>
          <a:ext cx="2808360" cy="1944720"/>
        </p:xfrm>
        <a:graphic>
          <a:graphicData uri="http://schemas.openxmlformats.org/drawingml/2006/table">
            <a:tbl>
              <a:tblPr/>
              <a:tblGrid>
                <a:gridCol w="1404720"/>
                <a:gridCol w="1403640"/>
              </a:tblGrid>
              <a:tr h="6793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ena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nožství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76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6" name="Line 66"/>
          <p:cNvSpPr/>
          <p:nvPr/>
        </p:nvSpPr>
        <p:spPr>
          <a:xfrm>
            <a:off x="5219640" y="2421000"/>
            <a:ext cx="73080" cy="302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Line 67"/>
          <p:cNvSpPr/>
          <p:nvPr/>
        </p:nvSpPr>
        <p:spPr>
          <a:xfrm>
            <a:off x="5292720" y="5445000"/>
            <a:ext cx="2735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Freeform 72"/>
          <p:cNvSpPr/>
          <p:nvPr/>
        </p:nvSpPr>
        <p:spPr>
          <a:xfrm>
            <a:off x="5724360" y="2421000"/>
            <a:ext cx="2305080" cy="2496960"/>
          </a:xfrm>
          <a:custGeom>
            <a:avLst/>
            <a:gdLst/>
            <a:ahLst/>
            <a:rect l="l" t="t" r="r" b="b"/>
            <a:pathLst>
              <a:path w="1452" h="1573">
                <a:moveTo>
                  <a:pt x="0" y="0"/>
                </a:moveTo>
                <a:cubicBezTo>
                  <a:pt x="264" y="529"/>
                  <a:pt x="529" y="1059"/>
                  <a:pt x="771" y="1316"/>
                </a:cubicBezTo>
                <a:cubicBezTo>
                  <a:pt x="1013" y="1573"/>
                  <a:pt x="1324" y="1498"/>
                  <a:pt x="1452" y="1543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Text Box 73"/>
          <p:cNvSpPr/>
          <p:nvPr/>
        </p:nvSpPr>
        <p:spPr>
          <a:xfrm>
            <a:off x="4691160" y="214776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Text Box 74"/>
          <p:cNvSpPr/>
          <p:nvPr/>
        </p:nvSpPr>
        <p:spPr>
          <a:xfrm>
            <a:off x="7858080" y="56768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Text Box 75"/>
          <p:cNvSpPr/>
          <p:nvPr/>
        </p:nvSpPr>
        <p:spPr>
          <a:xfrm>
            <a:off x="6281640" y="2435400"/>
            <a:ext cx="40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D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Text Box 76"/>
          <p:cNvSpPr/>
          <p:nvPr/>
        </p:nvSpPr>
        <p:spPr>
          <a:xfrm>
            <a:off x="4692240" y="306216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ahoma"/>
              </a:rPr>
              <a:t>15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Text Box 77"/>
          <p:cNvSpPr/>
          <p:nvPr/>
        </p:nvSpPr>
        <p:spPr>
          <a:xfrm>
            <a:off x="4716360" y="3933720"/>
            <a:ext cx="42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ahoma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Text Box 78"/>
          <p:cNvSpPr/>
          <p:nvPr/>
        </p:nvSpPr>
        <p:spPr>
          <a:xfrm>
            <a:off x="4700880" y="47401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Text Box 79"/>
          <p:cNvSpPr/>
          <p:nvPr/>
        </p:nvSpPr>
        <p:spPr>
          <a:xfrm>
            <a:off x="5918760" y="5654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Text Box 80"/>
          <p:cNvSpPr/>
          <p:nvPr/>
        </p:nvSpPr>
        <p:spPr>
          <a:xfrm>
            <a:off x="6495120" y="5654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Text Box 81"/>
          <p:cNvSpPr/>
          <p:nvPr/>
        </p:nvSpPr>
        <p:spPr>
          <a:xfrm>
            <a:off x="7142760" y="5654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Line 82"/>
          <p:cNvSpPr/>
          <p:nvPr/>
        </p:nvSpPr>
        <p:spPr>
          <a:xfrm>
            <a:off x="5651640" y="2924280"/>
            <a:ext cx="28872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9" name="Picture 2" descr="http://upload.wikimedia.org/wikipedia/commons/0/01/Demand.gif"/>
          <p:cNvPicPr/>
          <p:nvPr/>
        </p:nvPicPr>
        <p:blipFill>
          <a:blip r:embed="rId1"/>
          <a:stretch/>
        </p:blipFill>
        <p:spPr>
          <a:xfrm>
            <a:off x="4757760" y="2112840"/>
            <a:ext cx="3757680" cy="42516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1728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a116e0"/>
                </a:solidFill>
                <a:latin typeface="Franklin Gothic Book"/>
              </a:rPr>
              <a:t>TRH, TRŽNÍ EKONOMIKA II.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160640"/>
            <a:ext cx="829152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3300"/>
                </a:solidFill>
                <a:latin typeface="Arial"/>
              </a:rPr>
              <a:t>Poptáv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a116e0"/>
                </a:solidFill>
                <a:latin typeface="Arial"/>
              </a:rPr>
              <a:t>Proč je křivka poptávky klesající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3300"/>
                </a:solidFill>
                <a:latin typeface="Arial"/>
              </a:rPr>
              <a:t>Důchodový efekt (mzdy, platy)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– je-li důchod kupujících daný a neměnný, mohou za něj při nižších cenách koupit větší množství zboží a naopak. Zvýšená cena vyvolá snížení poptávaného množství, protože důchod je dan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3300"/>
                </a:solidFill>
                <a:latin typeface="Arial"/>
              </a:rPr>
              <a:t>Substituční efekt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– při zvýšení ceny určitého výrobku se mění struktura spotřeby. Sníží se podíl zdraženého výrobku a zvýší se podíl jiných výrobků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a116e0"/>
                </a:solidFill>
                <a:latin typeface="Franklin Gothic Book"/>
              </a:rPr>
              <a:t>TRH, TRŽNÍ EKONOMIKA II.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7200" y="1052640"/>
            <a:ext cx="82915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cs-CZ" sz="3600" spc="-1" strike="noStrike">
                <a:solidFill>
                  <a:srgbClr val="ff3300"/>
                </a:solidFill>
                <a:latin typeface="Arial"/>
              </a:rPr>
              <a:t>Poptáv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a116e0"/>
                </a:solidFill>
                <a:latin typeface="Arial"/>
              </a:rPr>
              <a:t>Proč křivka klesá?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2800" spc="-1" strike="noStrike">
                <a:solidFill>
                  <a:srgbClr val="ff3300"/>
                </a:solidFill>
                <a:latin typeface="Arial"/>
              </a:rPr>
              <a:t>(změny jiných faktorů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Cena daného zbož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očet kupující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měny v preferencích (přednost jinému zboží – zájem, móda, …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výšení průměrných mez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měny cen jiných výrobk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Charakteristika trh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čekávání výroby nových výrobk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a116e0"/>
                </a:solidFill>
                <a:latin typeface="Franklin Gothic Book"/>
              </a:rPr>
              <a:t>TRH, TRŽNÍ EKONOMIKA II.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179280" y="980640"/>
            <a:ext cx="864072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Arial"/>
              </a:rPr>
              <a:t>Poptávka – posu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c000"/>
                </a:solidFill>
                <a:latin typeface="Arial"/>
              </a:rPr>
              <a:t>a) Zvýšení poptávk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osun křivky doprav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ři každé ceně se prodá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íce zboží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důvod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nárůst důchodů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zdražení substitut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zlevnění komplementů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Graf:  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Posun křivky dopra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Zdroj: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ilverStar: Commons.wikimedia.org: File:Supply-demand-right-shift-supply.png   [online]. 28 November 2006 [cit. 2012-08-05]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Picture 3" descr=""/>
          <p:cNvPicPr/>
          <p:nvPr/>
        </p:nvPicPr>
        <p:blipFill>
          <a:blip r:embed="rId1"/>
          <a:stretch/>
        </p:blipFill>
        <p:spPr>
          <a:xfrm>
            <a:off x="4572000" y="1916280"/>
            <a:ext cx="3672000" cy="33843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3960" y="0"/>
            <a:ext cx="7467840" cy="1023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600" spc="-1" strike="noStrike">
                <a:solidFill>
                  <a:srgbClr val="a116e0"/>
                </a:solidFill>
                <a:latin typeface="Franklin Gothic Book"/>
              </a:rPr>
              <a:t>TRH, TRŽNÍ EKONOMIKA II.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ff0000"/>
                </a:solidFill>
                <a:latin typeface="Arial"/>
              </a:rPr>
              <a:t>Poptávka – posun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c000"/>
                </a:solidFill>
                <a:latin typeface="Arial"/>
              </a:rPr>
              <a:t>b) Pokles poptáv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osun dole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ři každé ceně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e prodá méně zboží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důvod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zlevnění substitut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zdražení komplementů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Graf:   Posun křivky dole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Graf: </a:t>
            </a: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Křivka nabídk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Zdroj: </a:t>
            </a: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SilverStar: Commons.wikimedia.org: File:Supply-demand-right-shift-supply.png   [online]. 28 November 2006 [cit. 2012-08-05]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Picture 1" descr=""/>
          <p:cNvPicPr/>
          <p:nvPr/>
        </p:nvPicPr>
        <p:blipFill>
          <a:blip r:embed="rId1"/>
          <a:stretch/>
        </p:blipFill>
        <p:spPr>
          <a:xfrm>
            <a:off x="4859280" y="2025720"/>
            <a:ext cx="3756240" cy="3671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6T07:38:02Z</dcterms:created>
  <dc:creator>Monika</dc:creator>
  <dc:description/>
  <dc:language>en-US</dc:language>
  <cp:lastModifiedBy>Berka</cp:lastModifiedBy>
  <dcterms:modified xsi:type="dcterms:W3CDTF">2014-02-26T07:43:12Z</dcterms:modified>
  <cp:revision>128</cp:revision>
  <dc:subject/>
  <dc:title>EKONOMIKA PODNIKU</dc:title>
</cp:coreProperties>
</file>