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632BA-1B31-4822-BF99-25E46616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1B23-155F-4F6E-8E1D-0FA33605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49C62-030B-4D6D-AD5E-48BF2E43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20A99-ABE6-457D-85F8-FAA4F42D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49FC3-1C56-4382-A8DD-144DEAF4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4FFA9-B4B5-4084-BA01-A556D3D5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79C38-9BCA-43F3-861F-BCA911A2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08176-F298-4DBD-8BE1-B0CC4142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14F3D-37E2-415B-9277-C46E49A4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8A3DC-D0B0-4E0C-8204-4B91F1A1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B20C5-F8C2-4F87-9B94-0EB57693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0A7C0-E014-40A6-BF26-542B72E3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4BBDF-04FE-4305-91E0-AECFB4B0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D2223-5C86-44AF-807A-5E6C97A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C8F7A-B9EC-4A5F-B155-1198F367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E853B-6113-4F60-87B6-4FB150EE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E2874-20A8-49F4-A4E1-B3B0FCB4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0567-B73E-4025-9874-0E2572EA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44A79-4944-4ACA-BA36-59D8BD0E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EA54E-4C67-42C5-9169-47DB5326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EEAF0-251D-41F6-BE57-F33C8F6F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E74B-C6DB-47F6-970F-77B14ECF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623B2-7476-411F-9999-7093FF31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6370-27AA-4B5D-B407-DCC0FE73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2550-073D-447C-9215-042EFFE650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C9EE-AAB9-4033-B435-22A9A5EFC0D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3395160"/>
            <a:ext cx="8377200" cy="24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8600"/>
                </a:solidFill>
                <a:latin typeface="Arial"/>
              </a:rPr>
              <a:t>PRÁVNÍ FORMY PODNIKÁNÍ I.</a:t>
            </a:r>
            <a:br>
              <a:rPr sz="4400"/>
            </a:br>
            <a:br>
              <a:rPr sz="4400"/>
            </a:br>
            <a:r>
              <a:rPr b="0" lang="cs-CZ" sz="2800" spc="-1" strike="noStrike">
                <a:solidFill>
                  <a:srgbClr val="ff8600"/>
                </a:solidFill>
                <a:latin typeface="Arial"/>
              </a:rPr>
              <a:t>Autor: Mgr. Roman Berka</a:t>
            </a:r>
            <a:endParaRPr b="0" lang="en-US" sz="2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31960" y="2520720"/>
            <a:ext cx="7315200" cy="87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_32_INOVACE_073_Ekonom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Obrázek 3" descr=""/>
          <p:cNvPicPr/>
          <p:nvPr/>
        </p:nvPicPr>
        <p:blipFill>
          <a:blip r:embed="rId1"/>
          <a:stretch/>
        </p:blipFill>
        <p:spPr>
          <a:xfrm>
            <a:off x="1525680" y="501480"/>
            <a:ext cx="608328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4960" y="312480"/>
            <a:ext cx="7694640" cy="90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8600"/>
                </a:solidFill>
                <a:latin typeface="Arial"/>
              </a:rPr>
              <a:t>PRÁVNÍ FORMY PODNIKÁNÍ 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4840" y="1365120"/>
            <a:ext cx="838008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b050"/>
                </a:solidFill>
                <a:latin typeface="Arial"/>
              </a:rPr>
              <a:t>Druhy živnost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2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8600"/>
                </a:solidFill>
                <a:latin typeface="Arial"/>
              </a:rPr>
              <a:t>1. Ohlašovací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50"/>
                </a:solidFill>
                <a:latin typeface="Arial"/>
              </a:rPr>
              <a:t>     </a:t>
            </a:r>
            <a:r>
              <a:rPr b="0" lang="cs-CZ" sz="2200" spc="-1" strike="noStrike">
                <a:solidFill>
                  <a:srgbClr val="00b050"/>
                </a:solidFill>
                <a:latin typeface="Arial"/>
              </a:rPr>
              <a:t>a) Volné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– obchodník (platí pro všechny živnosti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obecně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věk 18 l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způsobilost k právním úkonů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bezúhonn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nesmí mít vůči finančním orgánům státu daňové nedoplatk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8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b050"/>
                </a:solidFill>
                <a:latin typeface="Arial"/>
              </a:rPr>
              <a:t>b) Řemeslné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– navíc vyžaduje odbornou způsobilost (kovář, truhlář, kadeřník, instalatér, atd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8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8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b050"/>
                </a:solidFill>
                <a:latin typeface="Arial"/>
              </a:rPr>
              <a:t>c) Vázané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- nutné prokázat odbornou způsobilost (výroba strojů,  zdravotnických zařízení, chemická výroba, atd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1920" y="450360"/>
            <a:ext cx="75373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8600"/>
                </a:solidFill>
                <a:latin typeface="Arial"/>
              </a:rPr>
              <a:t>PRÁVNÍ FORMY PODNIKÁNÍ 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1200" y="1366560"/>
            <a:ext cx="802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189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b050"/>
                </a:solidFill>
                <a:latin typeface="Arial"/>
              </a:rPr>
              <a:t>Druhy živnos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189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8600"/>
                </a:solidFill>
                <a:latin typeface="Arial"/>
              </a:rPr>
              <a:t>2. Koncesovan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1896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živnosti, které mohou zvlášť ohrozit zdraví, společnost – nutnost získat koncesi (zbraně, zdravotnické a chemické výrobky, taxislužba, pohřební služb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86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ff8600"/>
                </a:solidFill>
                <a:latin typeface="Arial"/>
              </a:rPr>
              <a:t>3. Provozování živnosti průmyslovým způsob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18960"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činnost, která zahrnuje v rámci jednoho pracovního procesu více dílčích procesů, které sami o sobě naplňují znaky živ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18960"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dysi živnost „pro továrníky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18960"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elké obchodních společnost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18960"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živnostenské oprávnění na finální produk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18960"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nikatel nemusí splňovat zvláštní podmínky provozování živnos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450360"/>
            <a:ext cx="73152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8600"/>
                </a:solidFill>
                <a:latin typeface="Arial"/>
              </a:rPr>
              <a:t>PRÁVNÍ FORMY PODNIKÁNÍ I.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1360" y="1273320"/>
            <a:ext cx="81486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b050"/>
                </a:solidFill>
                <a:latin typeface="Arial"/>
              </a:rPr>
              <a:t>Živnostenské oprávn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8600"/>
                </a:solidFill>
                <a:latin typeface="Arial"/>
              </a:rPr>
              <a:t>a) Ohlašovací živnost:</a:t>
            </a:r>
            <a:r>
              <a:rPr b="1" i="1" lang="cs-CZ" sz="20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400" indent="-339120"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živnostenský li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svědčuje splnění podmíne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400" indent="-339120"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ávo podnikat vzniká dnem ohláš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400" indent="-339120"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ŽL se vydává 15 dnů od ohláš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400" indent="-339120"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dává se na dobu neurčit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8600"/>
                </a:solidFill>
                <a:latin typeface="Arial"/>
              </a:rPr>
              <a:t>b) Koncesová živno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400" indent="-339120"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koncesní listina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pravňuje podnik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400" indent="-339120"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ávo podnikat vzniká dnem právní moci rozhodnut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400" indent="-339120">
              <a:spcBef>
                <a:spcPts val="499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hodnutí se vydává 60 dnů po doručení žádos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400" indent="-339120"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dává se na dobu určitou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347760"/>
            <a:ext cx="748836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8600"/>
                </a:solidFill>
                <a:latin typeface="Arial"/>
              </a:rPr>
              <a:t>PRÁVNÍ FORMY PODNIKÁNÍ 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1200" y="1308240"/>
            <a:ext cx="81486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b050"/>
                </a:solidFill>
                <a:latin typeface="Arial"/>
              </a:rPr>
              <a:t>Rozsah živnostenského oprávn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8600"/>
                </a:solidFill>
                <a:latin typeface="Arial"/>
              </a:rPr>
              <a:t>Rozsah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- jaké konkrétní činnosti je podnikatel oprávněn provozov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loobchod a velkoobc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robní čin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kytování služ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Rozsah se odvozuje z předmětu podnikání </a:t>
            </a:r>
            <a:br>
              <a:rPr sz="2400"/>
            </a:b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v živnostenském listu nebo koncesní listi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1920" y="393480"/>
            <a:ext cx="7537320" cy="74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8600"/>
                </a:solidFill>
                <a:latin typeface="Arial"/>
              </a:rPr>
              <a:t>PRÁVNÍ FORMY PODNIKÁNÍ 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0720" y="1215720"/>
            <a:ext cx="836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b050"/>
                </a:solidFill>
                <a:latin typeface="Arial"/>
              </a:rPr>
              <a:t>Zánik živnostenského oprávně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8600"/>
                </a:solidFill>
                <a:latin typeface="Arial"/>
              </a:rPr>
              <a:t>a) Ze zákona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80000"/>
              </a:lnSpc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mrtí podnikat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80000"/>
              </a:lnSpc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ánikem 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80000"/>
              </a:lnSpc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plynutím doby (je-li na dobu určito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80000"/>
              </a:lnSpc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mazem zahraniční osoby z 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8600"/>
                </a:solidFill>
                <a:latin typeface="Arial"/>
              </a:rPr>
              <a:t>b) Rozhodnutí živnostenského úřadu</a:t>
            </a:r>
            <a:r>
              <a:rPr b="0" lang="cs-CZ" sz="1900" spc="-1" strike="noStrike">
                <a:solidFill>
                  <a:srgbClr val="ff8600"/>
                </a:solidFill>
                <a:latin typeface="Arial"/>
              </a:rPr>
              <a:t> (</a:t>
            </a:r>
            <a:r>
              <a:rPr b="1" lang="cs-CZ" sz="1900" spc="-1" strike="noStrike">
                <a:solidFill>
                  <a:srgbClr val="ff8600"/>
                </a:solidFill>
                <a:latin typeface="Arial"/>
              </a:rPr>
              <a:t>obligatorně</a:t>
            </a:r>
            <a:r>
              <a:rPr b="0" lang="cs-CZ" sz="1900" spc="-1" strike="noStrike">
                <a:solidFill>
                  <a:srgbClr val="ff86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80000"/>
              </a:lnSpc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dnikatel ztratil plnou způsobilost k právním úkon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80000"/>
              </a:lnSpc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dnikatel přestal být bezúhon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80000"/>
              </a:lnSpc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stala překážka provozování živ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80000"/>
              </a:lnSpc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dnikatel sám požádá o zruš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8600"/>
                </a:solidFill>
                <a:latin typeface="Arial"/>
              </a:rPr>
              <a:t>c) Rozhodnutí živnostenského úřadu</a:t>
            </a:r>
            <a:r>
              <a:rPr b="0" lang="cs-CZ" sz="1900" spc="-1" strike="noStrike">
                <a:solidFill>
                  <a:srgbClr val="ff8600"/>
                </a:solidFill>
                <a:latin typeface="Arial"/>
              </a:rPr>
              <a:t> (</a:t>
            </a:r>
            <a:r>
              <a:rPr b="1" lang="cs-CZ" sz="1900" spc="-1" strike="noStrike">
                <a:solidFill>
                  <a:srgbClr val="ff8600"/>
                </a:solidFill>
                <a:latin typeface="Arial"/>
              </a:rPr>
              <a:t>fakultativně</a:t>
            </a:r>
            <a:r>
              <a:rPr b="0" lang="cs-CZ" sz="1900" spc="-1" strike="noStrike">
                <a:solidFill>
                  <a:srgbClr val="ff86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80000"/>
              </a:lnSpc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dnikatel porušuje podmínky udělení konce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80000"/>
              </a:lnSpc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dnikatel neplní závazky vůči stá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80000"/>
              </a:lnSpc>
              <a:spcBef>
                <a:spcPts val="45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dnikatel neprovozuje živnost déle než 4 ro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6000" y="415440"/>
            <a:ext cx="765324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8600"/>
                </a:solidFill>
                <a:latin typeface="Arial"/>
              </a:rPr>
              <a:t>PRÁVNÍ FORMY PODNIKÁNÍ 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515600"/>
            <a:ext cx="73152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b050"/>
                </a:solidFill>
                <a:latin typeface="Arial"/>
              </a:rPr>
              <a:t>Živ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8600"/>
                </a:solidFill>
                <a:latin typeface="Arial"/>
              </a:rPr>
              <a:t>Způsob a rozsah ruče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neomezeně celým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jet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8600"/>
                </a:solidFill>
                <a:latin typeface="Arial"/>
              </a:rPr>
              <a:t>Oprávnění k říze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podnikatel řídí s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8600"/>
                </a:solidFill>
                <a:latin typeface="Arial"/>
              </a:rPr>
              <a:t>Počet zakladatel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jedna fyzická oso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8600"/>
                </a:solidFill>
                <a:latin typeface="Arial"/>
              </a:rPr>
              <a:t>Nároky na počáteční kapitál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není povin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8600"/>
                </a:solidFill>
                <a:latin typeface="Arial"/>
              </a:rPr>
              <a:t>Administrativní náročnost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nízké, živnostenské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právn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8600"/>
                </a:solidFill>
                <a:latin typeface="Arial"/>
              </a:rPr>
              <a:t>Účast na zisku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zůstává celý podnikat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8600"/>
                </a:solidFill>
                <a:latin typeface="Arial"/>
              </a:rPr>
              <a:t>Přístup ke kapitálu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velice omezen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8600"/>
                </a:solidFill>
                <a:latin typeface="Arial"/>
              </a:rPr>
              <a:t>Daňové zatíže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DzP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8600"/>
                </a:solidFill>
                <a:latin typeface="Arial"/>
              </a:rPr>
              <a:t>Zveřejňovací povinnost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n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99840" y="439560"/>
            <a:ext cx="7529400" cy="74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8600"/>
                </a:solidFill>
                <a:latin typeface="Arial"/>
              </a:rPr>
              <a:t>PRÁVNÍ FORMY PODNIKÁNÍ 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6440" y="1249200"/>
            <a:ext cx="79405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Arial"/>
              </a:rPr>
              <a:t>Použitá literatu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ICHTER, J. Právo podnikání. Karviná: SU OPF, 1996, 187 s. ISBN 80-85879-52-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ISKALOVÁ, M., GONGOL, T., DUDA, D., RICHTER, J.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Právo (vybrané kapitoly)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Karviná: SU OPF, 2010, 138 s. ISBN 978-80-7248-609-0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kon č. 455/1991 Sb., o živnostenském podnikání (živnostenský zákon) [Online ], [cit. 24.8.2012] Url: http://www.podnikatel.cz/zakony/zakon-c-455-1991-sb-o-zivnostenskem-podnikani-zivnostensky-zakon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547560"/>
            <a:ext cx="73152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8600"/>
                </a:solidFill>
                <a:latin typeface="Arial"/>
              </a:rPr>
              <a:t>Záznamový list výukového materiálu</a:t>
            </a:r>
            <a:br>
              <a:rPr sz="1800"/>
            </a:br>
            <a:endParaRPr b="0" lang="en-US" sz="2400" spc="-1" strike="noStrike">
              <a:solidFill>
                <a:srgbClr val="ff86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41360" y="1301760"/>
          <a:ext cx="8229600" cy="5245200"/>
        </p:xfrm>
        <a:graphic>
          <a:graphicData uri="http://schemas.openxmlformats.org/drawingml/2006/table">
            <a:tbl>
              <a:tblPr/>
              <a:tblGrid>
                <a:gridCol w="2962080"/>
                <a:gridCol w="5267520"/>
              </a:tblGrid>
              <a:tr h="250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38d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38d9b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ávní formy podnikání 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Y_32_INOVACE_073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. 1. 2014, 14. 1. 2014, 20. 1. 201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eriál slouží k získání přehledu o právních formách podnikání, kritériích volby právní formy podnikání a o živnostech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44680"/>
            <a:ext cx="7315200" cy="101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8600"/>
                </a:solidFill>
                <a:latin typeface="Arial"/>
              </a:rPr>
              <a:t>PRÁVNÍ FORMY PODNIKÁNÍ I.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400" y="2187720"/>
            <a:ext cx="731520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itéria volby právní formy podnik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ávní formy podnik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Živ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Arial"/>
              </a:rPr>
              <a:t>1. roč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1560" y="27000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8600"/>
                </a:solidFill>
                <a:latin typeface="Arial"/>
              </a:rPr>
              <a:t>PRÁVNÍ FORMY PODNIKÁNÍ 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1200" y="1515960"/>
            <a:ext cx="7882200" cy="50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b050"/>
                </a:solidFill>
                <a:latin typeface="Arial"/>
              </a:rPr>
              <a:t>Kritéria volby právní formy podni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působ a rozsah ručení vlastníků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podnik ručí vždy celým svým majetk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právnění k řízen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čet zakladate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ároky na počáteční kapitá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dministrativní nároč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Účast na zis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ístup ke kapitál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aňové zatížen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veřejňovací povin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2280" y="399600"/>
            <a:ext cx="763596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8600"/>
                </a:solidFill>
                <a:latin typeface="Arial"/>
              </a:rPr>
              <a:t>PRÁVNÍ FORMY PODNIKÁNÍ 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3280" y="1574280"/>
            <a:ext cx="823752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bchodní zákoník a další právní normy vymezují různé právní formy podniká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Živ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řejná obchodní společnost (v. o. 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manditní společnost (k. 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polečnost s ručením omezeným (s. r. o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kciová společnost (a. 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ružst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átní pod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státní neziskové organ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Každá právní forma má své výhody a nevýhod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podnikatel ji vybírá přímo pro určitý druh podnik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20560" y="404280"/>
            <a:ext cx="7709040" cy="7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8600"/>
                </a:solidFill>
                <a:latin typeface="Arial"/>
              </a:rPr>
              <a:t>PRÁVNÍ FORMY PODNIKÁNÍ 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20560" y="1248840"/>
            <a:ext cx="82188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b050"/>
                </a:solidFill>
                <a:latin typeface="Arial"/>
              </a:rPr>
              <a:t>Živ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8600"/>
                </a:solidFill>
                <a:latin typeface="Arial"/>
              </a:rPr>
              <a:t>Živnost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soustavná činnost provozovaná samostatně, vlastním jménem, na vlastní zodpovědnost za účelem dosažení zis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Podnikatelem dle ŽZ může bý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uzemská 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uzemská 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hraniční 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hraniční 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zy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6000" y="347760"/>
            <a:ext cx="7653240" cy="7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8600"/>
                </a:solidFill>
                <a:latin typeface="Arial"/>
              </a:rPr>
              <a:t>PRÁVNÍ FORMY PODNIKÁNÍ 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7640" y="1238400"/>
            <a:ext cx="802152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b050"/>
                </a:solidFill>
                <a:latin typeface="Arial"/>
              </a:rPr>
              <a:t>Živ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Živností není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innost zákonem vyhranění stá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užívání výsledku tvůrčí duševní čin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staurování kulturních památ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vádění archeologických výzkum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innost PO stanovená zvláštními předpisy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70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innost bank, pojišť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5040" y="33480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8600"/>
                </a:solidFill>
                <a:latin typeface="Arial"/>
              </a:rPr>
              <a:t>PRÁVNÍ FORMY PODNIKÁNÍ 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20200" y="1459080"/>
            <a:ext cx="81838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b050"/>
                </a:solidFill>
                <a:latin typeface="Arial"/>
              </a:rPr>
              <a:t>Podmínky provozování živ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8600"/>
                </a:solidFill>
                <a:latin typeface="Arial"/>
              </a:rPr>
              <a:t>a) Všeobecné podmínk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věk 1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bezúhonno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způsobilost k právním úkonů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nemá nedoplatky na daních, sociálním zabezpečení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8600"/>
                </a:solidFill>
                <a:latin typeface="Arial"/>
              </a:rPr>
              <a:t>b) Zvláštní podmínky provozování živnos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jen tam, kde stanový zák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kvalifikační předpoklady a prax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živnosti řemeslné, vázané a koncesovan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lze ustanovit odpovědného zástup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1920" y="334800"/>
            <a:ext cx="7537320" cy="71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8600"/>
                </a:solidFill>
                <a:latin typeface="Arial"/>
              </a:rPr>
              <a:t>PRÁVNÍ FORMY PODNIKÁNÍ I.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55120" y="1191960"/>
            <a:ext cx="799812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b050"/>
                </a:solidFill>
                <a:latin typeface="Arial"/>
              </a:rPr>
              <a:t>Živno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8600"/>
                </a:solidFill>
                <a:latin typeface="Arial"/>
              </a:rPr>
              <a:t>Odpovědný zástup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Podnikatel může provozovat živnost prostřednictvím odpovědního zástup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Ve smluveném vztahu k podnikateli – max. ke dvěma podnikatelů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Odpovědný za řádný provoz živnosti a dodržování právních předpis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50"/>
                </a:solidFill>
                <a:latin typeface="Arial"/>
              </a:rPr>
              <a:t>Odpovědného zástupce může ustanovi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podnikatel PO se sídlem v Č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podnikal PO se sídlem v zahranič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550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podnikatelem FO, která nesplňuje zvláštní podmínky    provozování živnost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rozhodnutí FO ustanovit odpovědného zástupce</a:t>
            </a:r>
            <a:r>
              <a:rPr b="0" lang="cs-CZ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0:19:10Z</dcterms:created>
  <dc:creator>Vosatka</dc:creator>
  <dc:description/>
  <dc:language>en-US</dc:language>
  <cp:lastModifiedBy>Berka</cp:lastModifiedBy>
  <dcterms:modified xsi:type="dcterms:W3CDTF">2014-02-26T07:52:30Z</dcterms:modified>
  <cp:revision>59</cp:revision>
  <dc:subject/>
  <dc:title>Podnik a podnikání</dc:title>
</cp:coreProperties>
</file>