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D41-2867-497F-8866-9A3F2A3D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E75-DD6E-492D-AB68-168055D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ABF-62D0-4C80-A56F-FD215CB3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F75-58A9-4E7D-B77F-462B1B27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3483-01E7-4349-9633-107A8C5A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65E2-56DA-480D-BD4A-1D4C7E5D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7686-95D1-4BAB-BDDE-AB65D482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27F2-5A09-4F70-8972-6E97D798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4A32-04C6-4B0C-948F-E5949931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1BB4-65F1-401E-91FA-EAEF7143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3CAA-4200-442A-97C9-3E188F28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350-0BDB-4B22-B975-FEE19741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F4D2-E194-4CD3-B1B9-A74EDD18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94E0-9827-4705-BEEE-F1D7A255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7A15-18F0-47BA-A4AB-971C9439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F1E1-01F5-41F7-BFA7-89C9B4BC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EFE3-D414-4BD2-85CD-1DAA153B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3277-C2A4-48FC-B2F1-A15CA025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9DE0B-A0C8-4314-ADAB-083F773C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1408-15D3-40BC-9B03-ECE921A6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B90D-3B1C-4BB4-AC59-B258767B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191D-B952-40A2-B07D-94A60088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1F7-132E-40D6-8E2F-0E9FD9BF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15D4-948B-4F43-B0B8-F802612B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AD2E-0A38-4920-A1CB-94766428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6BBE-433C-4411-B205-3B78F6CE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611C-6355-440D-BC7A-43F8AD1B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5D6D-1B06-4030-A2B9-FF467725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8BED-7118-4DB1-A129-160405BC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71E5-1363-463C-8373-6E5DD113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4674D-6DCB-4DF4-8A0A-359342B7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FF60-9405-43D9-95B3-A396983B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C797-58E0-48E5-9122-D37D16F8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531-03CB-4C1E-AC70-EF3F1B5D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FBE6-0C1C-431B-B1BD-EBE1546C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94324-A21C-42BF-914A-92FE30D3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2EFD-BD1F-40CC-B434-B3C9FD60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54842-5CA0-456F-8A17-717E95E2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95BA-96E7-469D-91B3-0E76EE98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5006-3B83-49FA-8E4F-D73C5CD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A811-3C58-493F-9119-22C6C8D5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D9E4-FE6F-4B49-A4C0-AD464447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C77D7-A53D-4781-9495-AF4FF385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9670B-2645-44D4-8973-3FDEB244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43D-AB8B-4518-852C-DFE98195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7540-CB1E-4F80-B42D-F52590D5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ECA51-1AAE-400E-8246-F5E232A8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E218F-DADC-4C6A-A8F2-7C9EDA47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65171-09AC-44A7-A97D-303F1985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F390-2895-4125-81E9-4B051688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2FE70-43A2-42A7-AB6D-3325633F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652BB-3211-4FC8-B6C9-1474A087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D1DB2-01BD-4ABB-B2B2-BBCD48A9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2C27F-0AB8-47B5-97A7-711A1981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A2EAC-5D51-423A-8642-B99F2364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F8E-BD75-44AF-B7C1-652E3968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D8C1-40FC-4540-84F1-07B4B187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038F2-94E1-4114-8AFB-307E5B32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DBDA3-1C43-4C92-A11F-550182ED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A9B08-4558-45F3-8A84-59E1EFD8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5DC2-C65C-402C-BB2E-8903A03B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96C77-7E6B-4845-9614-3921DFC8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3734-3293-48C1-A1CA-70D73E7F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F477-76C9-4BD6-AADC-847224EE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48590-E0EE-468B-9A03-AD25DBEC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6184F-AB36-43DF-9273-64C0A9DC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D18-5AFF-41C4-A02F-9876A365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01F4C-172B-4D7C-90D7-7B2AE87D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7AADA-8DAB-4AF5-9E46-C9AB1FCB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EA04A-8799-4FFD-87A9-328F230C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92F75-E45A-49B0-B8E4-2E600E37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F34AB-3FAE-496B-8517-16990B65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15990-F2D3-471E-AD63-E6CA0EED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174A4-B08D-423C-AA14-779C2418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5993B-2336-47B0-870C-31AFBB96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061F-CB9D-424D-846D-055C3B4C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50200-46F1-43BC-958D-1F33DE27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964-A317-457A-9F6E-2D34E14B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C2BF3-B363-4F8F-B728-723B639B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5F12A-0BA3-4A13-8FD0-AC7EBB40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7249A-A870-4F23-81A3-97AC4F78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ABF60-C496-4853-9A68-A7B36696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76E1C-C0F4-4646-9A3A-94F268F6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6A2-9984-415E-8B9C-82C44BD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986E-320A-49C2-B6F2-0518481024F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1F97-C84B-4B4B-8C41-DC0913E645A4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AA0B-65EB-4359-859F-F52F7D1A92F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C2C8-CFA5-4DC9-B13D-8E86444A29D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AEFB-A309-4A84-9ED3-99CB49DB43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5736-ACD8-4313-80CE-00AA3888B327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5292-12E2-4AF2-8443-8BC7B999783F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Nadpis 1" descr=""/>
          <p:cNvPicPr/>
          <p:nvPr/>
        </p:nvPicPr>
        <p:blipFill>
          <a:blip r:embed="rId1"/>
          <a:stretch/>
        </p:blipFill>
        <p:spPr>
          <a:xfrm>
            <a:off x="682560" y="3597120"/>
            <a:ext cx="7772400" cy="2243160"/>
          </a:xfrm>
          <a:prstGeom prst="rect">
            <a:avLst/>
          </a:prstGeom>
          <a:ln w="0">
            <a:noFill/>
          </a:ln>
        </p:spPr>
      </p:pic>
      <p:pic>
        <p:nvPicPr>
          <p:cNvPr id="302" name="Obrázek 3" descr=""/>
          <p:cNvPicPr/>
          <p:nvPr/>
        </p:nvPicPr>
        <p:blipFill>
          <a:blip r:embed="rId2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303" name="TextovéPole 4"/>
          <p:cNvSpPr/>
          <p:nvPr/>
        </p:nvSpPr>
        <p:spPr>
          <a:xfrm>
            <a:off x="1211400" y="2670120"/>
            <a:ext cx="69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alibri"/>
              </a:rPr>
              <a:t>VY_32_INOVACE_074_Ekonom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Nadpis 1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665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96372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5bd3"/>
                </a:solidFill>
                <a:latin typeface="Century Gothic"/>
              </a:rPr>
              <a:t>Zánik a zrušení obchodní společnost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rušení musí vždy předcházet zániku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40059"/>
                </a:solidFill>
                <a:latin typeface="Century Gothic"/>
              </a:rPr>
              <a:t>zrušení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– ukončení ekonomické účast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5bd3"/>
                </a:solidFill>
                <a:latin typeface="Century Gothic"/>
              </a:rPr>
              <a:t>zánik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– ukončení její právní existence jako P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40059"/>
                </a:solidFill>
                <a:latin typeface="Century Gothic"/>
              </a:rPr>
              <a:t>Zrušení na základě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soud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rozhodnutím společníků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5bd3"/>
                </a:solidFill>
                <a:latin typeface="Century Gothic"/>
              </a:rPr>
              <a:t>Způsob zrušení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likvidace i bez likvida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40059"/>
                </a:solidFill>
                <a:latin typeface="Century Gothic"/>
              </a:rPr>
              <a:t>Zánik společností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výmazem z O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výmazem nezaniká ručení společníků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69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087200"/>
            <a:ext cx="822960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5bd3"/>
                </a:solidFill>
                <a:latin typeface="Century Gothic"/>
              </a:rPr>
              <a:t>Zrušení obchodní společnosti likvidací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Likvidací obchodního jmění s cílem uspokojení věřitelů a rozdělení likvidačního zůstatku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Na základě rohodnutí společníku (splněním úkolu, uplynutím doby, dnen uvedený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Na základě soudu  (neplnění povinností, zánik předpokladu, porušení povinností vytvářet povinnou míru rezerv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2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5bd3"/>
                </a:solidFill>
                <a:latin typeface="Century Gothic"/>
              </a:rPr>
              <a:t>Likvidátor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pisuje se do O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Je orgánem společnosti – nese odpovědnost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, p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ovinnosti 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, o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právnění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Návrh na rozdělení likvidačního zůstatku mezi společník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970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261800"/>
            <a:ext cx="82296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5bd3"/>
                </a:solidFill>
                <a:latin typeface="Century Gothic"/>
              </a:rPr>
              <a:t>Zrušení obchodní společnosti bez likvida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Pouze na základě rohodnutí společníků, pokud přechází jmění na právního nástupce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ffffff"/>
                </a:solidFill>
                <a:latin typeface="Century Gothic"/>
              </a:rPr>
              <a:t>K přeměně společnosti může dojít: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e40059"/>
                </a:solidFill>
                <a:latin typeface="Century Gothic"/>
              </a:rPr>
              <a:t>Fúzí</a:t>
            </a: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 – spojení 2 společností nebo více se stejnou právní formou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e40059"/>
                </a:solidFill>
                <a:latin typeface="Century Gothic"/>
              </a:rPr>
              <a:t>Sloučením</a:t>
            </a: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 (1 společnost zaniká a přechází na jinou </a:t>
            </a:r>
            <a:br>
              <a:rPr sz="2300"/>
            </a:b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A + B = A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e40059"/>
                </a:solidFill>
                <a:latin typeface="Century Gothic"/>
              </a:rPr>
              <a:t>Splynutím</a:t>
            </a: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 (obě společnosti zanikají a vytvářejí nový subjekt A + B = C)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e40059"/>
                </a:solidFill>
                <a:latin typeface="Century Gothic"/>
              </a:rPr>
              <a:t>Přechodem jmění na vlastníka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e40059"/>
                </a:solidFill>
                <a:latin typeface="Century Gothic"/>
              </a:rPr>
              <a:t>Rozdělením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e40059"/>
                </a:solidFill>
                <a:latin typeface="Century Gothic"/>
              </a:rPr>
              <a:t>Změna právní formy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701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14408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bd3"/>
                </a:solidFill>
                <a:latin typeface="Century Gothic"/>
              </a:rPr>
              <a:t>Veřejná obchodní společno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9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Způsob a rozsah ručení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společníci celým svým majetke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5bd3"/>
                </a:solidFill>
                <a:latin typeface="Century Gothic"/>
              </a:rPr>
              <a:t>Oprávnění k řízení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všichni společníci, pokud není stanoveno jinak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Počet zakladatelů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minimálně dvě osoby (FO i PO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5bd3"/>
                </a:solidFill>
                <a:latin typeface="Century Gothic"/>
              </a:rPr>
              <a:t>Nároky na počáteční kapitál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není povinnost vytváře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Administrativní náročnost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nízké, sepsání společenské smlouv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5bd3"/>
                </a:solidFill>
                <a:latin typeface="Century Gothic"/>
              </a:rPr>
              <a:t>Účast na zisku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rovným dílem, pokud není stanoveno jinak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Přístup ke kapitálu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omezený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5bd3"/>
                </a:solidFill>
                <a:latin typeface="Century Gothic"/>
              </a:rPr>
              <a:t>Daňové zatížení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daň z příjmu FO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Zveřejňovací povinnost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není, pokud splňuje podmínk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69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741240"/>
            <a:ext cx="8229600" cy="58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5bd3"/>
                </a:solidFill>
                <a:latin typeface="Century Gothic"/>
              </a:rPr>
              <a:t>Komanditní společno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6496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64960" algn="ctr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e40059"/>
                </a:solidFill>
                <a:latin typeface="Century Gothic"/>
              </a:rPr>
              <a:t>Způsob a rozsah ručení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komplementáři neomezeně, komanditisté do výše nesplacených vkladů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5bd3"/>
                </a:solidFill>
                <a:latin typeface="Century Gothic"/>
              </a:rPr>
              <a:t>Oprávnění k řízení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řídí komplementáři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e40059"/>
                </a:solidFill>
                <a:latin typeface="Century Gothic"/>
              </a:rPr>
              <a:t>Počet zakladatelů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min. 1 komanditista a 1 komplementář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5bd3"/>
                </a:solidFill>
                <a:latin typeface="Century Gothic"/>
              </a:rPr>
              <a:t>Nároky na počáteční kapitál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komanditista musí vložit minimálně 5.000,-- Kč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e40059"/>
                </a:solidFill>
                <a:latin typeface="Century Gothic"/>
              </a:rPr>
              <a:t>Administrativní náročnost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nízká, společenská smlouv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5bd3"/>
                </a:solidFill>
                <a:latin typeface="Century Gothic"/>
              </a:rPr>
              <a:t>Účast na zisku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½ zisku komplementáři (dále dělí rovným dílem) a druhou komanditisté (dělí podle vkladů)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e40059"/>
                </a:solidFill>
                <a:latin typeface="Century Gothic"/>
              </a:rPr>
              <a:t>Přístup ke kapitálu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omezené možnosti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5bd3"/>
                </a:solidFill>
                <a:latin typeface="Century Gothic"/>
              </a:rPr>
              <a:t>Daňové zatížení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komplementáři daň z příjmů FO, komanditisté daň z příjmů PO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264960">
              <a:lnSpc>
                <a:spcPct val="7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e40059"/>
                </a:solidFill>
                <a:latin typeface="Century Gothic"/>
              </a:rPr>
              <a:t>Zveřejňovací povinnost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není, pokud splňuje podmínky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598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782280"/>
            <a:ext cx="82296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5bd3"/>
                </a:solidFill>
                <a:latin typeface="Century Gothic"/>
              </a:rPr>
              <a:t>Společnost s ručením omezený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2640">
              <a:lnSpc>
                <a:spcPct val="9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626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Způsob a rozsah ručení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společníci ručí do výše nesplacených vkladů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26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5bd3"/>
                </a:solidFill>
                <a:latin typeface="Century Gothic"/>
              </a:rPr>
              <a:t>Oprávnění k řízení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nejvyšší orgán je valná hromada, statutární orgán (jednatelé) rozhoduje v obchodní činnosti, dozorčí rada (kontrolu statutární orgán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26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Počet zakladatelů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- 1 až 50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26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5bd3"/>
                </a:solidFill>
                <a:latin typeface="Century Gothic"/>
              </a:rPr>
              <a:t>Nároky na počáteční kapitál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200.000,-- Kč, každý společník minimálně 20.000,-- Kč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26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Administrativní náročnost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střední, společenská smlouv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26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5bd3"/>
                </a:solidFill>
                <a:latin typeface="Century Gothic"/>
              </a:rPr>
              <a:t>Účast na zisku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podle poměru vkladů, není-li uvedeno jinak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26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Přístup ke kapitálu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- více možností než předchozí form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26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5bd3"/>
                </a:solidFill>
                <a:latin typeface="Century Gothic"/>
              </a:rPr>
              <a:t>Daňové zatížení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daň z příjmů P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26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Zveřejňovací povinnost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není, pokud splňuje podmínk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229600" cy="579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112400"/>
            <a:ext cx="82296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5bd3"/>
                </a:solidFill>
                <a:latin typeface="Century Gothic"/>
              </a:rPr>
              <a:t>Akciová společno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Způsob a rozsah ručení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- akcionáři ručí do výše vkladu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5bd3"/>
                </a:solidFill>
                <a:latin typeface="Century Gothic"/>
              </a:rPr>
              <a:t>Oprávnění k řízení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valná hromada volí představenstvo (statutární orgán) a dozorčí radu (kontrolní orgán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Počet zakladatelů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1 PO nebo min. 2 F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5bd3"/>
                </a:solidFill>
                <a:latin typeface="Century Gothic"/>
              </a:rPr>
              <a:t>Nároky na počáteční kapitál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min. 2 mil.  Kč (bez veřejné nabídky akcií) nebo min. 20 min. Kč (s veřejnou nabídkou akcií) základního kapitálu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Administrativní náročnost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nejvyšší, kontrola ze strany státu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5bd3"/>
                </a:solidFill>
                <a:latin typeface="Century Gothic"/>
              </a:rPr>
              <a:t>Účast na zisku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podle počtu a hodnoty vlastněných akcií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Přístup ke kapitálu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nejlepší možnost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5bd3"/>
                </a:solidFill>
                <a:latin typeface="Century Gothic"/>
              </a:rPr>
              <a:t>Daňové zatížení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dvojí zdanění (DzPPO, DzPFO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66"/>
                </a:solidFill>
                <a:latin typeface="Century Gothic"/>
              </a:rPr>
              <a:t>Zveřejňovací povinnost </a:t>
            </a:r>
            <a:r>
              <a:rPr b="0" lang="cs-CZ" sz="2200" spc="-1" strike="noStrike">
                <a:solidFill>
                  <a:srgbClr val="ffffff"/>
                </a:solidFill>
                <a:latin typeface="Century Gothic"/>
              </a:rPr>
              <a:t>– účetní výkazy, audi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7858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054080"/>
            <a:ext cx="822960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005bd3"/>
                </a:solidFill>
                <a:latin typeface="Century Gothic"/>
              </a:rPr>
              <a:t>Akciová společnost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66"/>
                </a:solidFill>
                <a:latin typeface="Century Gothic"/>
              </a:rPr>
              <a:t>Akc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CP, s nimž jsou spojena práva akcionáře podílet se na řízení společnosti, na zisku, na likvidačním zůstatku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e40059"/>
                </a:solidFill>
                <a:latin typeface="Century Gothic"/>
              </a:rPr>
              <a:t>Podílnický CP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5bd3"/>
                </a:solidFill>
                <a:latin typeface="Century Gothic"/>
              </a:rPr>
              <a:t>Druh akcií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určuje rozsah práv: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e40059"/>
                </a:solidFill>
                <a:latin typeface="Century Gothic"/>
              </a:rPr>
              <a:t>kmenové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 – obecná práv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e40059"/>
                </a:solidFill>
                <a:latin typeface="Century Gothic"/>
              </a:rPr>
              <a:t>prioritní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 – přednostní právo (dividendy)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5bd3"/>
                </a:solidFill>
                <a:latin typeface="Century Gothic"/>
              </a:rPr>
              <a:t>Forma akcie: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e40059"/>
                </a:solidFill>
                <a:latin typeface="Century Gothic"/>
              </a:rPr>
              <a:t>akcie na majitele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e40059"/>
                </a:solidFill>
                <a:latin typeface="Century Gothic"/>
              </a:rPr>
              <a:t>akcie na jméno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e40059"/>
                </a:solidFill>
                <a:latin typeface="Century Gothic"/>
              </a:rPr>
              <a:t>listinná podoba </a:t>
            </a:r>
            <a:r>
              <a:rPr b="0" lang="cs-CZ" sz="2100" spc="-1" strike="noStrike">
                <a:solidFill>
                  <a:srgbClr val="ffffff"/>
                </a:solidFill>
                <a:latin typeface="Century Gothic"/>
              </a:rPr>
              <a:t>– převod předáním nabyvateli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e40059"/>
                </a:solidFill>
                <a:latin typeface="Century Gothic"/>
              </a:rPr>
              <a:t>zaknihována podob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22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203120"/>
            <a:ext cx="82296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5bd3"/>
                </a:solidFill>
                <a:latin typeface="Century Gothic"/>
              </a:rPr>
              <a:t>Akciová společno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66"/>
                </a:solidFill>
                <a:latin typeface="Century Gothic"/>
              </a:rPr>
              <a:t>Zatímní lis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entury Gothic"/>
              </a:rPr>
              <a:t>Nahrazuje akcii jednoho druhu, jejíž emisní kurz akcionář dosud nesplati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entury Gothic"/>
              </a:rPr>
              <a:t>Po zapsání emisního kurzu výměna za akci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entury Gothic"/>
              </a:rPr>
              <a:t>CP vydává pouze v listinné podobě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entury Gothic"/>
              </a:rPr>
              <a:t>Práva spojená jako z akcií, které nahrazuj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entury Gothic"/>
              </a:rPr>
              <a:t>Povinnost splatit emisní kurz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712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1570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5bd3"/>
                </a:solidFill>
                <a:latin typeface="Century Gothic"/>
              </a:rPr>
              <a:t>Akciová společnos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66"/>
                </a:solidFill>
                <a:latin typeface="Century Gothic"/>
              </a:rPr>
              <a:t>Práva akcionáře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Century Gothic"/>
              </a:rPr>
              <a:t>Podílet se na řízení společnosti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Century Gothic"/>
              </a:rPr>
              <a:t>Právo požadovat svolání valné hromady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Century Gothic"/>
              </a:rPr>
              <a:t>Právo požadovat zařazení věci do jednání valné hromady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Century Gothic"/>
              </a:rPr>
              <a:t>Právo požadovat přezkum jednání představenstva dozorčí radou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Century Gothic"/>
              </a:rPr>
              <a:t>Právo na vydání akcií při splacení emisního kurzu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Century Gothic"/>
              </a:rPr>
              <a:t>Právo podílet se na zisku společnosti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Century Gothic"/>
              </a:rPr>
              <a:t>Právo podílet se na likvidačním zůstatku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Century Gothic"/>
              </a:rPr>
              <a:t>Přednostní právo na úpis nových akcií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Nadpis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4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457200" y="1309680"/>
          <a:ext cx="8229600" cy="5335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rávní formy podnikání I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Y_32_INOVACE_074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rvní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16. 1. 2014, 20. 1. 201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ateriál slouží k získání přehledu o obchodních společnostech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798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249200"/>
            <a:ext cx="822960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5bd3"/>
                </a:solidFill>
                <a:latin typeface="Century Gothic"/>
              </a:rPr>
              <a:t>Akciová společnos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66"/>
                </a:solidFill>
                <a:latin typeface="Century Gothic"/>
              </a:rPr>
              <a:t>Povinnosti akcionářů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Řádně a včas splatit emisní kur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Předložit zatímní list k výměně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Povinnost učinit nabídku převzet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Povinnost při snižování Z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Povinnost oznamovací o překročení podílu na hlasovacích právech emitentov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073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31904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bd3"/>
                </a:solidFill>
                <a:latin typeface="Century Gothic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RICHTER, J. Právo podnikání. Karviná: SU OPF, 1996, 187 s. ISBN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80-85879-52-2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SCISKALOVÁ, M., GONGOL, T., DUDA, D., RICHTER, J.</a:t>
            </a:r>
            <a:r>
              <a:rPr b="0" i="1" lang="cs-CZ" sz="2000" spc="-1" strike="noStrike">
                <a:solidFill>
                  <a:srgbClr val="ffffff"/>
                </a:solidFill>
                <a:latin typeface="Century Gothic"/>
              </a:rPr>
              <a:t> Právo (vybrané kapitoly).</a:t>
            </a: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 Karviná: SU OPF, 2010, 138 s. ISBN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entury Gothic"/>
              </a:rPr>
              <a:t>978-80-7248-609-0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entury Gothic"/>
              </a:rPr>
              <a:t>Zákon č. 513/1991 Sb., obchodní zákoník [Online ], [cit. 24.8.2012] Url: http://business.center.cz/business/pravo/zakony/obchzak/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Nadpis 1" descr=""/>
          <p:cNvPicPr/>
          <p:nvPr/>
        </p:nvPicPr>
        <p:blipFill>
          <a:blip r:embed="rId1"/>
          <a:stretch/>
        </p:blipFill>
        <p:spPr>
          <a:xfrm>
            <a:off x="914400" y="542880"/>
            <a:ext cx="7315200" cy="1017720"/>
          </a:xfrm>
          <a:prstGeom prst="rect">
            <a:avLst/>
          </a:prstGeom>
          <a:ln w="0">
            <a:noFill/>
          </a:ln>
        </p:spPr>
      </p:pic>
      <p:pic>
        <p:nvPicPr>
          <p:cNvPr id="307" name="Podnadpis 2" descr=""/>
          <p:cNvPicPr/>
          <p:nvPr/>
        </p:nvPicPr>
        <p:blipFill>
          <a:blip r:embed="rId2"/>
          <a:stretch/>
        </p:blipFill>
        <p:spPr>
          <a:xfrm>
            <a:off x="914400" y="2189160"/>
            <a:ext cx="693108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017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31904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5bd3"/>
                </a:solidFill>
                <a:latin typeface="Century Gothic"/>
              </a:rPr>
              <a:t>Obchodní společn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PO založena za účelem podnikání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Možnost spojení kapitálu, pracovních schopností a snížení podnikového rizik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6680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5bd3"/>
                </a:solidFill>
                <a:latin typeface="Century Gothic"/>
              </a:rPr>
              <a:t>Členění obchodních společností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e40059"/>
                </a:solidFill>
                <a:latin typeface="Century Gothic"/>
              </a:rPr>
              <a:t>Osobní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50"/>
              </a:spcBef>
              <a:buClr>
                <a:srgbClr val="ff388c"/>
              </a:buClr>
              <a:buSzPct val="80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v. o. s., k. 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osobní účast na podnikán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není vkladová společno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za společenství se jedná společně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společníci ručí společně a nerozdílně celým svým majetke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54116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5bd3"/>
                </a:solidFill>
                <a:latin typeface="Century Gothic"/>
              </a:rPr>
              <a:t>Členění obchodních společností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e40059"/>
                </a:solidFill>
                <a:latin typeface="Century Gothic"/>
              </a:rPr>
              <a:t>b) Kapitálové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s. r. o., a. 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kapitálová účas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vkladová povinnos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společníci neručí za majetek (pouze do výše nesplaceného vkladu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společnost vytváří orgán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Nadpis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738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0299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5bd3"/>
                </a:solidFill>
                <a:latin typeface="Century Gothic"/>
              </a:rPr>
              <a:t>Základní pojm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40059"/>
                </a:solidFill>
                <a:latin typeface="Century Gothic"/>
              </a:rPr>
              <a:t>Základní kapitál</a:t>
            </a:r>
            <a:r>
              <a:rPr b="0" lang="pl-PL" sz="24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– povinně u s. r. o, a. s. (povině zapsán do O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40059"/>
                </a:solidFill>
                <a:latin typeface="Century Gothic"/>
              </a:rPr>
              <a:t>Vklad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– majetek, kterým se společník zavazuje vložit do společnosti peněžní i nepeněžní vkla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40059"/>
                </a:solidFill>
                <a:latin typeface="Century Gothic"/>
              </a:rPr>
              <a:t>Podíl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– účast společníků na společnost a z ní plynoucí práva a povinnosti, každý společník má jen jeden podíl, ale je různý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40059"/>
                </a:solidFill>
                <a:latin typeface="Century Gothic"/>
              </a:rPr>
              <a:t>Rezervní fond</a:t>
            </a:r>
            <a:r>
              <a:rPr b="0" lang="pl-PL" sz="24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– společnost vytvoří rezervní fond v době a ve výši určené ve společenské smlouvě. Není-li rezervní fond vytvořen již při vzniku společnosti, je společnost povinna vytvořit jej z čistého zisku vykázaného v řádné účetní závěrce za rok, v němž poprvé čistý zisk vyrvoří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828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22688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5bd3"/>
                </a:solidFill>
                <a:latin typeface="Century Gothic"/>
              </a:rPr>
              <a:t>Založení a vznik obchodní společnost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e40059"/>
                </a:solidFill>
                <a:latin typeface="Century Gothic"/>
              </a:rPr>
              <a:t>a) Založení osobní obchodní společnosti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uzavřením společenské smlouvy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písemná forma, min. 2 osoby, ověřený podpis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e40059"/>
                </a:solidFill>
                <a:latin typeface="Century Gothic"/>
              </a:rPr>
              <a:t>b) Založení kapitálové obchodní společnosti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společenská smlouva nebo zakladatelská listina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forma norářského podpisu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do 20 dní od založení společnosti musí být podán návrh na vklad do OR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vkladem do OR vzniká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jménem společnosti lze jednat již před jeho vznikem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entury Gothic"/>
              </a:rPr>
              <a:t>jednat může kolektivně, sám vázán právními vztahy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932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28376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5bd3"/>
                </a:solidFill>
                <a:latin typeface="Century Gothic"/>
              </a:rPr>
              <a:t>Správa a splácení vkladů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40059"/>
                </a:solidFill>
                <a:latin typeface="Century Gothic"/>
              </a:rPr>
              <a:t>a) U kapitálových společností musí být v den zápisu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splacen každý peněžní vklad minimálně 30 %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splacen každý nepeněžitý vklad minimálně 100 %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40059"/>
                </a:solidFill>
                <a:latin typeface="Century Gothic"/>
              </a:rPr>
              <a:t>b) Správce vkladu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kladatel pověřený v zakladatelském dokumentu nebo bank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spravuje vklady před zápisem do O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po vzniku společnosti předá vklady společnost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dnem zápisu společnosti do OR na ní přecházejí vlastnická práva ke vkladů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0:19:10Z</dcterms:created>
  <dc:creator>Vosatka</dc:creator>
  <dc:description/>
  <dc:language>en-US</dc:language>
  <cp:lastModifiedBy>Berka</cp:lastModifiedBy>
  <dcterms:modified xsi:type="dcterms:W3CDTF">2014-02-26T07:54:07Z</dcterms:modified>
  <cp:revision>81</cp:revision>
  <dc:subject/>
  <dc:title>Podnik a podnikání</dc:title>
</cp:coreProperties>
</file>