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EF2-DE7D-412C-A473-96449DA1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9A8-0A2A-4162-81B7-0958AA9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99A-77C9-4A0F-846B-A88BA581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BAB-58C7-4844-B690-EBCA3C7C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C3AD-3026-4612-A150-865E6403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9D92-8446-49A0-A0BF-7DA76FF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D344-BD50-4414-9937-A6EB5BE5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B9EE-6714-4E89-BE33-8D93085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E6CB-561F-430F-A972-9E26195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18AF-F168-4C8E-AAF4-1DC0F77E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CF61-6DBB-452F-B037-82E2937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549-6139-4872-B120-8A5DCD4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274-C863-4560-A340-6186167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F1D-617A-4999-8ACC-4A68976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B1B-D193-4171-B4BB-E52F6B9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F20-79A0-41A6-93DB-D9FA8C05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DE4-6940-429B-AFAC-60B315B4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63FC-04A0-436A-BD1A-D17027B0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0F28-607D-43E0-AA6E-0313A40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357F-890C-4CB7-A997-BFFDCFA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31CA9-5DD4-4AC8-8EEC-EEEB2558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9CA2-17B4-4CB6-A294-08B1274A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F9D-31FE-4586-9E49-C42D70C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73F7-39EE-4C47-AB03-E59C806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8DD3-7F25-4DE9-8002-38C2B34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5ACD-8576-4077-A7C8-5346C8D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5E4D-1DF2-4CAA-B775-62DC31A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CC96-3162-4E3A-BC02-EBFADB4B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5B2A-AB04-4A94-8A7B-6D2AC99B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4A89-BB12-42F7-8EEA-C459D132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2743-EADA-48CB-B274-ACA1A37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C94E-14C8-4962-9DFF-B19270AE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1DC8-D252-49AF-9469-F880FE1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3BE-CB8C-49E6-9C2A-8C9EFC1D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E8BE-FF76-48D4-BD48-012AB4C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E0BA-5F00-4C10-BDE5-71D9FA82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070F-D514-46FB-A96F-DF15EE67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10A9-C1C9-4F11-B069-8C7CA18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9E86-EA2A-49CB-B6BC-1F848FD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A89B-477B-444C-AE40-432CE73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194E-66E3-48C5-81DD-DE428775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2457F-1436-4006-9490-200F5899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747F-9F9D-4217-8A82-6CD6D99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9418-BA38-4BBE-A23E-A61608C7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A03-2E1E-416D-9202-ED8BACBC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0143-CAA0-4EFE-AE07-E78507B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B17C-6FDC-4387-B708-0D2F0F9B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5C8C-5005-410F-AC34-2FDAFAF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8BC9-A5C4-4B30-BC0C-3DB4C83E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2A06-52DB-4CC1-B36C-D19E5D66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0E81-061B-4E65-AD4D-91FFFE7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EAD3-32AD-4B57-B979-D7B95A3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DC2A0-ACD7-4255-A4AA-06C9BEA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468F-833A-4079-BED7-6946CCD0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E15C-4915-41AD-B1E9-69840D72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EB1-DB67-4799-9DB0-BCD752FE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07F02-8B8D-4626-96DA-2A0833C8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B124-3147-4010-BBC3-7235E1D3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D8D8-3F39-4CD6-B878-5B574D39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BE279-2553-4EAA-A55B-E10B027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8214-F314-483C-8523-BB538771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C622-CEFA-4221-A935-12C4F5D0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8F84-598D-44FB-807A-8229127F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B897-1751-46C4-ADEA-2901E624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816F-2E28-4A01-8209-010F5EB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3DA7-BAB2-4791-83AA-CEAE845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909-E588-4CD8-84D0-C2B6ABB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5934-821E-44FD-B143-A8D13409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B7B7-BDCF-49D9-B612-F0A8B1FB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74301-7106-4293-A514-9AB9516F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B82-35AD-40FE-A953-C6C1334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5E4-476C-44CE-A2A0-0400E0A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DC82-8CB2-4495-AF94-2EE9654398B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473B-3235-4948-85BC-51D8B8717856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AA17-A20F-43E1-96F7-64A15E59AE4D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81A2-57F6-44FA-BF04-F64B65F6D5CE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2D4-93B0-4157-8B6F-0CCA82CFC9A8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CF85-2FFC-44EE-B4DB-2A9BB41839B5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69800" y="3498840"/>
            <a:ext cx="8204400" cy="3024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1296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Y_32_INOVACE_065_Ekonom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83640" cy="1484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3080" y="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TR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rh chápe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116e0"/>
                </a:solidFill>
                <a:latin typeface="Arial"/>
              </a:rPr>
              <a:t>Prostorově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tržiště, obchodní domy, burza,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konkrétní mís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116e0"/>
                </a:solidFill>
                <a:latin typeface="Arial"/>
              </a:rPr>
              <a:t>Funkčně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trh výrobků a služeb (cen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trh práce (mzd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trh finanční (peněžní, kapitálový)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roková mí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trh výrobních faktorů (práce, přírodní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, kapitá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116e0"/>
                </a:solidFill>
                <a:latin typeface="Arial"/>
              </a:rPr>
              <a:t>Podle místa: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místní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regionální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národní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 mezinárodní (světov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TR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a116e0"/>
                </a:solidFill>
                <a:latin typeface="Arial"/>
              </a:rPr>
              <a:t>Subjekty trh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116e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át, firmy, domác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a116e0"/>
                </a:solidFill>
                <a:latin typeface="Arial"/>
              </a:rPr>
              <a:t>Složky trhu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a, nabídka, cena, konku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Arial"/>
              </a:rPr>
              <a:t>Použitá literatu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18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197000"/>
          <a:ext cx="8229600" cy="54403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h, tržní ekonomika 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65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 11.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znalostí o podstatě fungování tržního hospodářství, funkci zboží a trhu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ržní hospodářstv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bož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rh, členění trh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HOSPODÁŘ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tržním hospodářství žádný ústřední orgán nikomu neurčuje jaké výrobky a služby a jakým způsobem má vytvářet, komu a za jaké ceny je má prodáv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o je ponecháno na rozhodnutí a vzájemném působení jednotlivých kupujících a prodávající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mohou vlastnit majetek a používat ho k podnikání s cílem získání vlastního prospěch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rospěch charakterizuje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„dosažený zisk“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oto výrobci vytvářejí takové výrobky, které zákazníci chtějí a prodávají jim je za ceny, které jsou ochotni zaplat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dosáhnout zisku je vede k tomu, že si konkurují, tj. „soutěží o zákazníky“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3000"/>
            <a:ext cx="821844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TRŽNÍ HOSPODÁŘ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žní hospodářství je založeno na těchto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4 základních předpoklade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Soukromé vlastnictví prostředk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majetek) určených k podnikání – vytváření stat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Volný pohyb c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Dosáhnout zis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podnikaj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nto ekonomický systém se také označuje jako systém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„volného podnikání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3960" y="260280"/>
            <a:ext cx="7467840" cy="88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ZBOŽ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Zbož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robky a služby určené pro směnu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rodukce výrobků, služ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- netrž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slouží jedné osobě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- trž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slouží více osobám – zboží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17320"/>
            <a:ext cx="829152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ZBOŽ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boží na trhu má tyto vlastnost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Užitečnost (užitná hodnota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schopnost uspokojovat potřeby kupujících (rukavice bílé do tanečních, pracovní, kožené, pletené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Cena (směnná hodnota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musí být směnitelný za jiný produkt (pení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ZBOŽ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Hodnot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spotřebované výrobní faktory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vyjadřuje množství výrobních faktorů,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jsou ve zboží obsaže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C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je určena nabídkou a poptávkou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.: 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</a:rPr>
              <a:t>N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&lt;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 P = hodnot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&lt;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       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N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 P = hodnot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        </a:t>
            </a:r>
            <a:r>
              <a:rPr b="0" i="1" lang="cs-CZ" sz="2800" spc="-1" strike="noStrike">
                <a:solidFill>
                  <a:srgbClr val="ff3300"/>
                </a:solidFill>
                <a:latin typeface="Arial"/>
                <a:ea typeface="Arial"/>
              </a:rPr>
              <a:t>N = P = hodnota = 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TRH, TRŽNÍ EKONOMIKA 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417320"/>
            <a:ext cx="829152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TR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116e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a116e0"/>
                </a:solidFill>
                <a:latin typeface="Arial"/>
              </a:rPr>
              <a:t>Místo“ (oblast ekonomiky),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kde se setkávají kupující a prodávající, aby prostřednictvím peněz směnili zboží (výrobky, služby) za peníze nebo za jiné zboží (Barterův obch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tkává se zde </a:t>
            </a:r>
            <a:r>
              <a:rPr b="0" lang="cs-CZ" sz="3200" spc="-1" strike="noStrike">
                <a:solidFill>
                  <a:srgbClr val="a116e0"/>
                </a:solidFill>
                <a:latin typeface="Arial"/>
              </a:rPr>
              <a:t>nabídka a poptáv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spojení (vzájemné působení N a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7:38:02Z</dcterms:created>
  <dc:creator>Monika</dc:creator>
  <dc:description/>
  <dc:language>en-US</dc:language>
  <cp:lastModifiedBy>Berka</cp:lastModifiedBy>
  <dcterms:modified xsi:type="dcterms:W3CDTF">2014-02-26T07:42:13Z</dcterms:modified>
  <cp:revision>122</cp:revision>
  <dc:subject/>
  <dc:title>EKONOMIKA PODNIKU</dc:title>
</cp:coreProperties>
</file>