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3548-16BF-49C5-A8BA-6E7F8108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922C-C282-4021-8D6F-23994176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267D5B-B1E6-4966-8013-5BFF5D5C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9763C6-D0A5-4247-82D3-C6116300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94D80B-A0E2-47B9-873A-8890C14D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713129-D6A3-4814-9BC2-02F01E8D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4C6C8E-F4A6-4FAC-869E-904F91AB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CF8303-30C8-47A3-96F4-7F7DC9D3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463F19-4547-46FC-915F-0E6DC56A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7B1629-6E78-4890-8D6D-575D443E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863478-FFBC-4815-9C70-45BB0A04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3CF2-08B3-434B-8C5A-8B9FE9E0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0AAD-0B73-496E-BD09-B1CC257B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C6E05-AF6A-4E9F-A1A9-48A0836E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B51DE-10F3-45E3-8C12-E929F968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1D9A8-98E4-48D8-B679-B9DEE82D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BCE54-F72C-4168-BCEA-FF3FB9C2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E95C6-AB90-486D-BEAB-B4A0DC7D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D0046-578B-4E00-9E8B-71F2CDFB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4FC42-AF1E-416C-A319-B1BD0754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D70D-77F1-44E9-80EF-DD6ABB8F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B5D4B-EFE4-4578-9007-24A83017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9404A-3C77-496F-A5FE-8F9F3EB0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9D642-4449-484B-ADDC-CCD12C71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3DFF3-8F2D-48B7-A364-EE4044B7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0600E-DC60-458E-A47C-45B2309F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E3796-C5B3-4C62-BCB0-5A98F2D6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A7673-B02F-4101-8F6D-A6D89A01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ECD2B-02D6-4563-81DC-BDE03566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22179-BED1-4558-8AFE-7B4E89A9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BA817-32AE-4E26-ADE9-12714438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65C0-B827-4DAC-9449-EA8162F3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E7F2D-0135-4F33-B46B-14875548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BD168-59C7-4001-86B4-5FEB27FC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563EA-2210-418D-8294-0957FD91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DB4AD-C6CD-491E-AB75-2059D92E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8F771-5A85-44D9-A655-D79BFFB2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4CDEA-DC5F-49EC-B7F7-D45C46D2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78058-D68E-436E-AA63-5087E5A1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A034E9-E289-4EF8-B768-64C92E97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ADEC31-1094-4279-9935-A1FDE19B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519477-8CF3-43C9-8F83-D4E53C14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CF71-170C-48D9-A4FE-248994C1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6DFC51-9077-496B-9D1A-521FE25F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656016-C3E7-493F-8978-1556B49C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86A178-1612-4732-8348-8349760A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BF2913-B1A1-4D38-8CB5-ACCF903D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5803DB-3773-45D6-BA8B-0B148C33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5385F5-9D70-4A6C-9F4D-E6F6D6C1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922395-4777-4813-910F-F337E00B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9D0A5B-EA7F-4B94-90BC-379B6B3C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2B106B-7C24-4056-8B72-2D5D61D4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E16BD-8A1A-4BE2-B07B-641CCAE6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A637-F1F2-4B2D-81C0-443B6A35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DB8A0-477C-4E12-A00D-04558AC2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680EE-0565-4BD8-88B8-80D16555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77C03-E2A1-4A45-87A7-E226FFF0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D9261-F2CE-4734-8B45-3B557892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4B979-1628-48CF-A9D7-1388D087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BEE92-3E73-4E12-9257-4BC45462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07FD3-7A7F-420F-8BA9-60EB3C09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A5FE8-1A2E-4E83-9645-516C7C4D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58DD7-4912-40D1-BEC3-08F6E27D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4403B-8328-4B8F-8D87-5BB384BB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B505-AC6D-4293-9297-6913167D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EB80D-6C2F-4BB3-A012-ACF2FAB5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E21FE-0395-460E-A8F5-E79BF25E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1E0F6-31DA-4142-87EA-D058A46F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26479-6103-4222-956A-28F964A4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DFE5D-A175-4328-A9BA-57BC2662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092E1-2AC0-49D1-891F-7B6D7620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BE340-8D28-4347-839C-2B53F1DB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F8B16-7432-483B-9408-593E5669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D580B-E762-49E7-8011-4CE54630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0CE30-3FCE-4465-9808-42553E0E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2E7F-FF77-4518-AF83-F18ED917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13198-53B8-4DF5-8095-975C13A1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24B40-107B-4C93-B591-114918CA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8B8C9-CB52-47C4-AF23-E17CE99A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2A278-02B6-4EEC-A000-61CDADC2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3C1CB-6FA1-4BB4-B422-E761A761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FAA48-D4EF-4A17-92A5-00103522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98BA9-73D4-4C01-BB73-A562E287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CD620-A876-434F-B5B5-E8B3F722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C11B8-3733-43AA-B2BF-A5648BF5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BCD05-1E8C-4584-87BE-E9C956E6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D2E2-22C9-47C5-A6CA-45FEE89D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9827C-7B11-4B36-88F5-31666782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92D44-84C6-4919-9067-778652AC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0F98F-F5C3-40DD-AACC-C4C41C5C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12422-2A7C-4DFD-B35F-8271F176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A4516-F49E-46F5-9EDB-F9089044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7DF73D-BF1D-4146-B4B4-2D49558A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76FF0A-DF48-42A3-99E3-0A776242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6AFA34-C4AE-4B31-9931-DED652B2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8AEF04-89A1-4C6B-8687-E09CBDF4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7E04E2-C452-40BE-AAEC-233F09FB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7EBE-A1BC-4AAA-8EBA-3AAD1328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9E6638-47C6-4BF8-93E9-A1F79F64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709A14-0919-4F4A-86EC-29E4CBAF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6720F6-D5DD-489D-BF5B-B76A2DD3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4440E2-A6DA-4892-9E37-01AECB30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94E2EE-3517-4BE5-86A2-E09A5D65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606916-B3A3-4AA2-B983-38782E90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F58EC5-D73D-45DB-880B-DAFFF9E9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A4FAD9-BE1E-406B-931E-5C680E1D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2CB0EF-FDD9-4C8D-8BD5-4E26E5B3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B78140-44F3-47CE-A949-24ECAD0F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bdélník se zakulaceným příčným rohem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Obdélník se zakulaceným příčným rohem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0B9F-83B7-4F77-BDDC-E44E97EE6834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Obdélník se zakulaceným příčným rohem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Obdélník se zakulaceným příčným rohem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6463-CE8F-4526-9C9D-A5A6ED17F47F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Obdélník se zakulaceným příčným rohem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Obdélník se zakulaceným příčným rohem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Obdélní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3063-638A-4A06-B34E-2496BA9BC480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bdélník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69C5-5107-44B1-8854-AD7A90C05FF9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bdélník se zakulaceným příčným rohem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Obdélník se zakulaceným příčným rohem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Obdélní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6DF7-8055-420F-ACAF-77CD825B048B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Obdélník se zakulaceným příčným rohem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Obdélník se zakulaceným příčným rohem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Obdélník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bdélník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83D6-55C8-4173-B50A-A8EABCA19A63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Obdélník se zakulaceným příčným rohem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Obdélník se zakulaceným příčným rohem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Obdélní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C9EF-140F-4106-806D-5BACCD510FC0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EDC9-77AA-4A63-AA18-F7563838DB6D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4D4F-E871-49BD-B6FD-0BF7F3CB74AC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Nadpis 1" descr=""/>
          <p:cNvPicPr/>
          <p:nvPr/>
        </p:nvPicPr>
        <p:blipFill>
          <a:blip r:embed="rId1"/>
          <a:stretch/>
        </p:blipFill>
        <p:spPr>
          <a:xfrm>
            <a:off x="463680" y="3498840"/>
            <a:ext cx="8229600" cy="25970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63680" y="2852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Rockwell"/>
              </a:rPr>
              <a:t>VY_32_INOVACE_070_Ekonomik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6" name="Obrázek 3" descr=""/>
          <p:cNvPicPr/>
          <p:nvPr/>
        </p:nvPicPr>
        <p:blipFill>
          <a:blip r:embed="rId2"/>
          <a:stretch/>
        </p:blipFill>
        <p:spPr>
          <a:xfrm>
            <a:off x="1536840" y="530280"/>
            <a:ext cx="6083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457200" y="4284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00"/>
                </a:solidFill>
                <a:latin typeface="Rockwell"/>
              </a:rPr>
              <a:t>Vznik podniku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Podnik jako PO začíná existovat </a:t>
            </a: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dnem zápisu do OR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, který vede obchodní soud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Výpis z obchodního rejstříku – tzv. </a:t>
            </a:r>
            <a:r>
              <a:rPr b="0" i="1" lang="cs-CZ" sz="2800" spc="-1" strike="noStrike">
                <a:solidFill>
                  <a:srgbClr val="cc0000"/>
                </a:solidFill>
                <a:latin typeface="Rockwell"/>
              </a:rPr>
              <a:t>„rodný list podniku“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IČ (identifikační číslo)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– registrace, přiděluje státní orgán získaný od Českého statistického úřadu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7200" y="6480"/>
            <a:ext cx="8229600" cy="11458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-2858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Rockwell"/>
              </a:rPr>
              <a:t>Vznik podniku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Před zahájením podnikání musí být splněny další povinnosti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požádat o </a:t>
            </a: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registraci u správce daní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(příslušný finanční orgán) – přidělí </a:t>
            </a: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DIČ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(daňové identifikační číslo),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přihlásit zaměstnance ke zdravotní pojišťovně a k sociálnímu pojištění,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zřídit </a:t>
            </a: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běžný účet u banky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(jiného peněžního ústavu),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označit sídlo podniku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(provozovny obchodní firmy)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7200" y="36360"/>
            <a:ext cx="8229600" cy="11401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Rockwell"/>
              </a:rPr>
              <a:t>Jednání jménem podniku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590400" indent="-5904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590400" indent="-5904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590400" indent="-590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0000"/>
                </a:solidFill>
                <a:latin typeface="Rockwell"/>
              </a:rPr>
              <a:t>1. Podnik založený a vedený jednotlivcem (FO)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590400" indent="-59040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představitelem firmy je </a:t>
            </a:r>
            <a:r>
              <a:rPr b="0" i="1" lang="cs-CZ" sz="2800" spc="-1" strike="noStrike">
                <a:solidFill>
                  <a:srgbClr val="ffcc00"/>
                </a:solidFill>
                <a:latin typeface="Rockwell"/>
              </a:rPr>
              <a:t>jednotlivec (vlastník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590400" indent="-59040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jedná a provádí </a:t>
            </a:r>
            <a:r>
              <a:rPr b="0" i="1" lang="cs-CZ" sz="2800" spc="-1" strike="noStrike">
                <a:solidFill>
                  <a:srgbClr val="ffcc00"/>
                </a:solidFill>
                <a:latin typeface="Rockwell"/>
              </a:rPr>
              <a:t>právní úkony ve všech věcech</a:t>
            </a: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firmy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590400" indent="-59040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590400" indent="-590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0000"/>
                </a:solidFill>
                <a:latin typeface="Rockwell"/>
              </a:rPr>
              <a:t>2. Podnik jako kolektiv (PO)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590400" indent="-59040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za podnik jedná </a:t>
            </a:r>
            <a:r>
              <a:rPr b="0" i="1" lang="cs-CZ" sz="2800" spc="-1" strike="noStrike">
                <a:solidFill>
                  <a:srgbClr val="ffcc00"/>
                </a:solidFill>
                <a:latin typeface="Rockwell"/>
              </a:rPr>
              <a:t>statutární orgán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590400" indent="-59040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je oprávněn </a:t>
            </a:r>
            <a:r>
              <a:rPr b="0" i="1" lang="cs-CZ" sz="2800" spc="-1" strike="noStrike">
                <a:solidFill>
                  <a:srgbClr val="ffcc00"/>
                </a:solidFill>
                <a:latin typeface="Rockwell"/>
              </a:rPr>
              <a:t>jednat jménem podniku ve všech právních úkonech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7200" y="190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48392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80080" indent="-280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Rockwell"/>
              </a:rPr>
              <a:t>Jednání jménem podniku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Statutární orgá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Kdo ho určuje je uvedeno v </a:t>
            </a: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Obchodním zákoníku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(živnostenském zákoně, zákon o státním podniku, …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Zapisuje se do </a:t>
            </a: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obchodního rejstříku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Uvádí se na </a:t>
            </a: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živnostenském listu, koncesní listině nebo jiném oprávnění podnikání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Může jím být: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- jednotlivec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(jednatel, předseda, ředitel),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           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- kolektiv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      (představenstvo, jednatelé, 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komplementáři)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Musí být stanoveno, </a:t>
            </a: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kdo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tento kolektivní orgán zastupuje navenek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Jakým způsobem dochází ke</a:t>
            </a: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 společnému stanovisku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(hlasování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457200" y="6480"/>
            <a:ext cx="8229600" cy="11458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cc00"/>
                </a:solidFill>
                <a:latin typeface="Rockwell"/>
              </a:rPr>
              <a:t>Zastupování podniku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Představitelé podniku se mohou nechat při právních úkonech zastupovat pověřeným zástupcem a to na základě udělení plné moci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Plná moc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– písemná forma (práva a povinnosti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Druhy plné moci: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generální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– na všechny úkony v podniku,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speciální </a:t>
            </a: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– na určitou činnost, úkon,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kolektivní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– skupina lidí,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jednotlivá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– jednotlivec,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Prokura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457200" y="6480"/>
            <a:ext cx="8229600" cy="11458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cc00"/>
                </a:solidFill>
                <a:latin typeface="Rockwell"/>
              </a:rPr>
              <a:t>Zastupování podniku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0000"/>
                </a:solidFill>
                <a:latin typeface="Rockwell"/>
              </a:rPr>
              <a:t>Prokura: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cc00"/>
                </a:solidFill>
                <a:latin typeface="Rockwell"/>
              </a:rPr>
              <a:t>zvláštní forma plné moci</a:t>
            </a: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zmocňuje prokuristu (pouze FO) </a:t>
            </a:r>
            <a:r>
              <a:rPr b="0" lang="cs-CZ" sz="2800" spc="-1" strike="noStrike">
                <a:solidFill>
                  <a:srgbClr val="cc0000"/>
                </a:solidFill>
                <a:latin typeface="Rockwell"/>
              </a:rPr>
              <a:t>ke všem právním úkonům, 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k nímž dochází při provozu podniku,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o udělení prokury musí být </a:t>
            </a:r>
            <a:r>
              <a:rPr b="0" i="1" lang="cs-CZ" sz="2800" spc="-1" strike="noStrike">
                <a:solidFill>
                  <a:srgbClr val="cc0000"/>
                </a:solidFill>
                <a:latin typeface="Rockwell"/>
              </a:rPr>
              <a:t>zápis v OR</a:t>
            </a:r>
            <a:r>
              <a:rPr b="0" lang="cs-CZ" sz="2800" spc="-1" strike="noStrike">
                <a:solidFill>
                  <a:srgbClr val="cc0000"/>
                </a:solidFill>
                <a:latin typeface="Rockwell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prokurista </a:t>
            </a: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nesmí zatěžovat majetek podniku, zcizovat, musí jedna v zájmu podniku,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při podepisování písemností za podpis uvádí </a:t>
            </a:r>
            <a:r>
              <a:rPr b="0" i="1" lang="cs-CZ" sz="2800" spc="-1" strike="noStrike">
                <a:solidFill>
                  <a:srgbClr val="cc0000"/>
                </a:solidFill>
                <a:latin typeface="Rockwell"/>
              </a:rPr>
              <a:t>„p. p. – per prokuram“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(v zastoupení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463680" y="2376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446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00"/>
                </a:solidFill>
                <a:latin typeface="Rockwell"/>
              </a:rPr>
              <a:t>Zrušení podniku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cc0000"/>
                </a:solidFill>
                <a:latin typeface="Rockwell"/>
              </a:rPr>
              <a:t>Nejčastější důvody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Nepříznivý vývoj hospodaření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Finanční problém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Nenaplnění očekávaných cílů podniku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Naplnění očekávaných cílů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457200" y="2376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80080" indent="-280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Rockwell"/>
              </a:rPr>
              <a:t>Zrušení podniku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0000"/>
                </a:solidFill>
                <a:latin typeface="Rockwell"/>
              </a:rPr>
              <a:t>O zrušení rozhodne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Příslušný orgán podniku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dobrovolně (dohoda vedení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0000"/>
                </a:solidFill>
                <a:latin typeface="Rockwell"/>
              </a:rPr>
              <a:t>Zakladatel: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 - ukončí činnost,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- sloučí se s jiným podnikem (fúze),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    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- rozdělí se na více menších 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      podniků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- změní právní formu podnikání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Soud rozhodne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- </a:t>
            </a:r>
            <a:r>
              <a:rPr b="0" i="1" lang="cs-CZ" sz="2800" spc="-1" strike="noStrike">
                <a:solidFill>
                  <a:srgbClr val="cc0000"/>
                </a:solidFill>
                <a:latin typeface="Rockwell"/>
              </a:rPr>
              <a:t>vyhlášení konkurzu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(předlužení, neschopnost splácet své závazky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457200" y="6480"/>
            <a:ext cx="8229600" cy="11458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25240" indent="-5252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Rockwell"/>
              </a:rPr>
              <a:t>Zrušení podniku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525240" indent="-525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525240" indent="-525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cc0000"/>
                </a:solidFill>
                <a:latin typeface="Rockwell"/>
              </a:rPr>
              <a:t>Způsob zrušení podniku: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525240" indent="-52524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525240" indent="-525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a) Bez likvidace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– sloučení podniku (fúze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525240" indent="-525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525240" indent="-525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b) S likvidací: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525240" indent="-525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- rozprodání majetku,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525240" indent="-525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         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- uhrazení dluhů a rozdělení majetku majitelům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525240" indent="-525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marL="525240" indent="-525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525240" indent="-525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cc0000"/>
                </a:solidFill>
                <a:latin typeface="Rockwell"/>
              </a:rPr>
              <a:t>Konkurz:  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525240" indent="-525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- na základě insolvenčního zákona se podává 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  soudu návrh na zrušení firmy,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525240" indent="-525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- soud rozhoduje o dluzích, které budou uhrazeny,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525240" indent="-525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         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- vyhlášení konkurzu předchází vyrovnání (forma 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  splátkového kalendáře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525240" indent="-525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525240" indent="-525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525240" indent="-525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525240" indent="-52524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Nadpis 1" descr=""/>
          <p:cNvPicPr/>
          <p:nvPr/>
        </p:nvPicPr>
        <p:blipFill>
          <a:blip r:embed="rId1"/>
          <a:stretch/>
        </p:blipFill>
        <p:spPr>
          <a:xfrm>
            <a:off x="457200" y="190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00"/>
                </a:solidFill>
                <a:latin typeface="Rockwell"/>
              </a:rPr>
              <a:t>Zánik podniku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Dnem výmazu podniku z obchodního rejstříku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Nadpis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8" name=""/>
          <p:cNvGraphicFramePr/>
          <p:nvPr/>
        </p:nvGraphicFramePr>
        <p:xfrm>
          <a:off x="457200" y="1600200"/>
          <a:ext cx="8229600" cy="494352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Rockwell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Rockwell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Podnik I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2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VY_32_INOVACE_070_Ekonomi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64-41-L/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prv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1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19. 12. 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6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Materiál slouží k získání znalostí o založení podniku, vzniku podniku, jednání jménem podniku, zastupování podniku, zrušení podniku a zániku podniku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Nadpis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Použitá literatura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Rockwell"/>
              </a:rPr>
              <a:t>KLÍNSKÝ, P., MÜNCH, O. </a:t>
            </a:r>
            <a:r>
              <a:rPr b="0" i="1" lang="cs-CZ" sz="2000" spc="-1" strike="noStrike">
                <a:solidFill>
                  <a:srgbClr val="ffffff"/>
                </a:solidFill>
                <a:latin typeface="Rockwell"/>
              </a:rPr>
              <a:t>Ekonomika 1 pro obchodní akademie a ostatní střední školy. </a:t>
            </a:r>
            <a:r>
              <a:rPr b="0" lang="cs-CZ" sz="2000" spc="-1" strike="noStrike">
                <a:solidFill>
                  <a:srgbClr val="ffffff"/>
                </a:solidFill>
                <a:latin typeface="Rockwell"/>
              </a:rPr>
              <a:t>3. vyd. Praha: Eduko nakladatelství, s. r. o., 2010, 152 s. ISBN 978-80-87204-24-5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Nadpis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Založení podniku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Vznik podniku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Jednání jménem podniku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Zastupování podniku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Zrušení podniku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Zánik podniku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Rockwell"/>
              </a:rPr>
              <a:t>1. ročník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611280" y="1628280"/>
            <a:ext cx="8153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Rockwell"/>
              </a:rPr>
              <a:t>Založení podniku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590400" indent="-5904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590400" indent="-590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Při založení podniku musí být řešeny tyto otázky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590400" indent="-590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590400" indent="-590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0000"/>
                </a:solidFill>
                <a:latin typeface="Rockwell"/>
              </a:rPr>
              <a:t>1. Vymezení předmětu a místa podnikání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590400" indent="-590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590400" indent="-590400">
              <a:lnSpc>
                <a:spcPct val="9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čím se bude podnik zabývat,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590400" indent="-590400">
              <a:lnSpc>
                <a:spcPct val="9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v jakém rozsahu,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590400" indent="-590400">
              <a:lnSpc>
                <a:spcPct val="9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na jaký okruh zákazníků se chce zaměřit,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590400" indent="-590400">
              <a:lnSpc>
                <a:spcPct val="9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kde bude podnik sídlit (místo provozovny)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Rockwell"/>
              </a:rPr>
              <a:t>Založení podniku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0000"/>
                </a:solidFill>
                <a:latin typeface="Rockwell"/>
              </a:rPr>
              <a:t>2. Výběr právní formy podnikání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podnik jednotlivce,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podnikání společné,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jméno podniku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0000"/>
                </a:solidFill>
                <a:latin typeface="Rockwell"/>
              </a:rPr>
              <a:t>3. Stanovení počáteční spotřeby pracovníků, majetku a kapitálu a předpokládaný objem výkonů a nákladů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zpracování podnikatelského záměru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7200" y="2376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Rockwell"/>
              </a:rPr>
              <a:t>Založení podniku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Založení a vznik podniku, jeho zrušení a zánik se děje na základě </a:t>
            </a:r>
            <a:r>
              <a:rPr b="0" i="1" lang="cs-CZ" sz="2800" spc="-1" strike="noStrike">
                <a:solidFill>
                  <a:srgbClr val="cc0000"/>
                </a:solidFill>
                <a:latin typeface="Rockwell"/>
              </a:rPr>
              <a:t>ručitelnosti zakladatele a příslušných orgánů státní správy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Rozsah administrativních a právních výkonů a finanční náročnosti pro zakladatele závisí na tom, </a:t>
            </a: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zda půjde o podnik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0000"/>
                </a:solidFill>
                <a:latin typeface="Rockwell"/>
              </a:rPr>
              <a:t>jednotlivce,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0000"/>
                </a:solidFill>
                <a:latin typeface="Rockwell"/>
              </a:rPr>
              <a:t>kolektivní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42696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Rockwell"/>
              </a:rPr>
              <a:t>Založení podniku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0000"/>
                </a:solidFill>
                <a:latin typeface="Rockwell"/>
              </a:rPr>
              <a:t>a) Fyzická osoba (FO)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získání </a:t>
            </a: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oprávnění k podnikání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(živnostenský úřad),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splnění </a:t>
            </a: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podmínek předepsané zákonem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registrace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příslušné osoby</a:t>
            </a:r>
            <a:r>
              <a:rPr b="0" lang="cs-CZ" sz="2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0000"/>
                </a:solidFill>
                <a:latin typeface="Rockwell"/>
              </a:rPr>
              <a:t>b) Právnická osoba (PO)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získání </a:t>
            </a: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oprávnění k podnikání,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založení podniku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– rozhodnutí zakladatelů o společném podnikání určité právní formy (písemná forma úředně ověřená)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-2858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Rockwell"/>
              </a:rPr>
              <a:t>Založení podniku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0000"/>
                </a:solidFill>
                <a:latin typeface="Rockwell"/>
              </a:rPr>
              <a:t>Druhy dokumentů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Společenská smlouva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 – podmínky pro kolektiv </a:t>
            </a:r>
            <a:br>
              <a:rPr sz="2400"/>
            </a:b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(v. o. s., k. s.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Zápis ustavující členské schůze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– ověřen notářem </a:t>
            </a: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(družstva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Zakladatelská listina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– práva a povinnosti, základní informace o podniku – vyhotovena ve formě notářského zápisu </a:t>
            </a: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(a. s., s. r. o.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Zakládací listina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– podle zřizovatele </a:t>
            </a: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(státní podniky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457200" y="2376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Rockwell"/>
              </a:rPr>
              <a:t>Založení podniku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Rockwell"/>
              </a:rPr>
              <a:t>Př.:  </a:t>
            </a:r>
            <a:r>
              <a:rPr b="0" i="1" lang="cs-CZ" sz="2800" spc="-1" strike="noStrike">
                <a:solidFill>
                  <a:srgbClr val="cc0000"/>
                </a:solidFill>
                <a:latin typeface="Rockwell"/>
              </a:rPr>
              <a:t>Postup vzniku akciové společnosti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(vznik na základě upsání akcií)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uzavření zakladatelské smlouvy,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0000"/>
                </a:solidFill>
                <a:latin typeface="Rockwell"/>
              </a:rPr>
              <a:t>upisování akcií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(další osoby se zavazují ke koupi akcií),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ustanovující valná hromada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– rozhoduje o založení společnosti a schvaluje výši základního jmění, jmenuje statutární orgán, přijímá stanovy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12:37:15Z</dcterms:created>
  <dc:creator>Monika</dc:creator>
  <dc:description/>
  <dc:language>en-US</dc:language>
  <cp:lastModifiedBy>Berka</cp:lastModifiedBy>
  <dcterms:modified xsi:type="dcterms:W3CDTF">2014-02-26T07:48:59Z</dcterms:modified>
  <cp:revision>71</cp:revision>
  <dc:subject/>
  <dc:title>PODNIK A PODNIKÁNÍ</dc:title>
</cp:coreProperties>
</file>