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4BE-387A-435E-94C7-346F6AE8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DE1-DC73-491F-8DCD-8131D0C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D05-5006-4ACC-AA0C-1C79F36E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B30-BFB3-4949-A622-E1125117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9803-BC3A-4F40-A19A-F394FE09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83BE-55CD-4AA7-9CC3-6F3A7C99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98EA-8A89-4293-BD15-EC6652B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7BAE-089F-4893-B3B3-9D811F0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72C5-D6BA-4E90-BBD0-1A72C27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5562-24EB-4388-9538-D1E2E9F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C580-4115-4429-BD66-E3671B0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D59-5C5A-4C8C-B01B-E0170B03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CCEF-E572-4EE6-BCD3-7960508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189-242E-45F9-871E-1A083215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C548-EA2E-4E98-81B7-B6BB1B22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F042-1324-4F51-99F9-C60DC2D9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1B6-8C75-4B1E-8AD7-61949D45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60A0-9F5F-4E19-9FF8-91EC6F34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12A4-3166-48DD-9208-CCE36D6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95FD-5DBD-4D2F-9710-1C8B62E9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FFE8-B3F6-4E5B-A996-6D76F96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38DA-0491-49A2-93B8-ACC51FA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2CF-430E-4575-8930-5856905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C87B-54A2-40FE-B119-D65A21EC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E15D-8FB1-49D7-A624-999067B4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604C-47D6-4140-8BDD-4AF49065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FE063-7CD5-4B14-A70A-68815ED3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6836-9DE5-4938-9705-D332B481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7ED7-68B7-4516-A39E-AC34039D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3913-77FD-4D1B-A290-971F2235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1352-0D0E-4ACD-82EA-3252D5B3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C658-06EC-470A-B4B3-3B0BD4E4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5D09-2E1B-4CD8-B2B1-490BB346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0B0-E430-49AB-8E8B-7400340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22A2-1E62-43A7-8D47-99E1636D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6F74-E2FD-46B5-939B-938E18E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2D0F-03A3-47C0-8D54-BA86C49D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5740-1CCC-4C30-A8BB-0C7F713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E58-EE5B-4AC1-B024-FD3E1BA6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51B9-193A-47E5-B03E-98F1479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F20B-A7BE-4199-B97D-80744F0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5D28-750D-4D9C-B7F0-B6B827FC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A56B-800E-43AF-B0C1-624BEF87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B438-82F2-48B5-A6E2-9B796CD7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87F-3852-4E5F-8B41-E301B08F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9D8C-5AA1-4712-B727-EB50B3D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FEBF-3D7D-4422-85AB-D2CEF8D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B150-F6D6-4075-9851-856FEF23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2615-1139-4D90-B32F-3CAE8A3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B263-7EA3-4C1D-9561-8E51A729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2E50E-B489-4873-B976-60E14444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2D272-1F9A-414A-89C2-7C5954B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D33C-2B8D-4ADC-938D-4AB29B9F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EC75-D697-416B-B4DA-D86131FF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F76B-E869-4C56-848B-AC3B3245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87D-8E5D-4DBB-8AB4-E3870B2E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63874-1525-4177-B5A6-CFFA2E0A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304-52E2-40BF-932E-19E6C97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7B7-1F91-4611-872A-E2C3F9A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794-C2F3-467A-8CC7-24A1862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6B28-295D-49F5-824C-542349F41BFD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římá spojnice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77A0-68B9-4366-9DA1-F031E34C28C9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B4B1-E647-42A8-9EC1-F492BD5C4B7C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3461-2D33-426B-B067-BA7ECF016EE4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378C-9BB5-403D-8CFC-5797B45705AB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Nadpis 1" descr=""/>
          <p:cNvPicPr/>
          <p:nvPr/>
        </p:nvPicPr>
        <p:blipFill>
          <a:blip r:embed="rId1"/>
          <a:stretch/>
        </p:blipFill>
        <p:spPr>
          <a:xfrm>
            <a:off x="3273480" y="3498840"/>
            <a:ext cx="5108400" cy="1944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2637000"/>
            <a:ext cx="511488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rebuchet MS"/>
              </a:rPr>
              <a:t>VY_32_INOVACE_076_Ekonomik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Obrázek 3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7353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30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a8d3d"/>
                </a:solidFill>
                <a:latin typeface="Trebuchet MS"/>
              </a:rPr>
              <a:t>Koloběh oběžného majetku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b13f9a"/>
                </a:solidFill>
                <a:latin typeface="Trebuchet MS"/>
              </a:rPr>
              <a:t>Rychlost obratu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udává, kolikrát se zásoby za sledované období obrátí (kolikrát proběhne koloběh zásob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O= celková spotřeba/ průměrná zásob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13f9a"/>
                </a:solidFill>
                <a:latin typeface="Trebuchet MS"/>
              </a:rPr>
              <a:t>Vyšší rychlost obratu přináší vyšší zisk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13f9a"/>
                </a:solidFill>
                <a:latin typeface="Trebuchet MS"/>
              </a:rPr>
              <a:t>Zrychlení obratu snižuje množství potřebných finančních prostředků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Jak zrychlit obra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e6c36"/>
                </a:solidFill>
                <a:latin typeface="Trebuchet MS"/>
              </a:rPr>
              <a:t>zrychlit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výrobu nebo poskytnutí služb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e6c36"/>
                </a:solidFill>
                <a:latin typeface="Trebuchet MS"/>
              </a:rPr>
              <a:t>zvýšit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prodej bez ohledu na rychlost obrat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e6c36"/>
                </a:solidFill>
                <a:latin typeface="Trebuchet MS"/>
              </a:rPr>
              <a:t>zkrátit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platební termíny odběratel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e6c36"/>
                </a:solidFill>
                <a:latin typeface="Trebuchet MS"/>
              </a:rPr>
              <a:t>snížit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zásoby materiálu, polotovarů, výrobk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a8d3d"/>
                </a:solidFill>
                <a:latin typeface="Trebuchet MS"/>
              </a:rPr>
              <a:t>Koloběh oběžného majetk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9303cd"/>
                </a:solidFill>
                <a:latin typeface="Trebuchet MS"/>
              </a:rPr>
              <a:t>2. Doba obratu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říká, kolik dní trvá jeden obrat (za jak dlouho se peníze přemění opět v peníz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DO = 360/rychlost obrat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9303cd"/>
                </a:solidFill>
                <a:latin typeface="Trebuchet MS"/>
              </a:rPr>
              <a:t>3. Koeficient obratu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- udává, jaká hodnota zásob připadá na 1,-- Kč spotřeb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KO = průměrná zásoba/celková spotřeb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e6c36"/>
                </a:solidFill>
                <a:latin typeface="Trebuchet MS"/>
              </a:rPr>
              <a:t>Zásady zásobování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303cd"/>
                </a:solidFill>
                <a:latin typeface="Trebuchet MS"/>
              </a:rPr>
              <a:t>Nakupujeme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 jen to, </a:t>
            </a:r>
            <a:r>
              <a:rPr b="0" lang="cs-CZ" sz="2800" spc="-1" strike="noStrike">
                <a:solidFill>
                  <a:srgbClr val="ff0000"/>
                </a:solidFill>
                <a:latin typeface="Trebuchet MS"/>
              </a:rPr>
              <a:t>co spotřebuje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303cd"/>
                </a:solidFill>
                <a:latin typeface="Trebuchet MS"/>
              </a:rPr>
              <a:t>Nakupujeme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 jen tolik, </a:t>
            </a:r>
            <a:r>
              <a:rPr b="0" lang="cs-CZ" sz="2800" spc="-1" strike="noStrike">
                <a:solidFill>
                  <a:srgbClr val="ff0000"/>
                </a:solidFill>
                <a:latin typeface="Trebuchet MS"/>
              </a:rPr>
              <a:t>kolik potřebuje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303cd"/>
                </a:solidFill>
                <a:latin typeface="Trebuchet MS"/>
              </a:rPr>
              <a:t>Zvažujeme náklady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související s </a:t>
            </a:r>
            <a:r>
              <a:rPr b="0" lang="cs-CZ" sz="2800" spc="-1" strike="noStrike">
                <a:solidFill>
                  <a:srgbClr val="ff0000"/>
                </a:solidFill>
                <a:latin typeface="Trebuchet MS"/>
              </a:rPr>
              <a:t>pořízením záso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303cd"/>
                </a:solidFill>
                <a:latin typeface="Trebuchet MS"/>
              </a:rPr>
              <a:t>Znalost objemu výroby,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který je firma </a:t>
            </a:r>
            <a:r>
              <a:rPr b="0" lang="cs-CZ" sz="2800" spc="-1" strike="noStrike">
                <a:solidFill>
                  <a:srgbClr val="ff0000"/>
                </a:solidFill>
                <a:latin typeface="Trebuchet MS"/>
              </a:rPr>
              <a:t>schopna na trhu prod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303cd"/>
                </a:solidFill>
                <a:latin typeface="Trebuchet MS"/>
              </a:rPr>
              <a:t>Zásoba optimální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(zabezpečí plynulý chod výroby při optimálních nákladech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30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50560" y="1267920"/>
            <a:ext cx="7705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de6c36"/>
                </a:solidFill>
                <a:latin typeface="Trebuchet MS"/>
              </a:rPr>
              <a:t>Plánování záso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Plánování zásob vychází z bilance:</a:t>
            </a: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 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otřeba  =  zdroj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Trebuchet MS"/>
              </a:rPr>
              <a:t>potřeba =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spotřeba materiálu + konečná zásob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Trebuchet MS"/>
              </a:rPr>
              <a:t>zdroj     =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počáteční zásoba + nákup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303cd"/>
                </a:solidFill>
                <a:latin typeface="Trebuchet MS"/>
              </a:rPr>
              <a:t>spotřeba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(výpočet pomocí metody technické dokumentace, indexové metody či metody dle výtěžnosti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303cd"/>
                </a:solidFill>
                <a:latin typeface="Trebuchet MS"/>
              </a:rPr>
              <a:t>konečná zásoba 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(určuje se s ohledem na předpoklad výše počáteční zásoby v následujícím období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303cd"/>
                </a:solidFill>
                <a:latin typeface="Trebuchet MS"/>
              </a:rPr>
              <a:t>počáteční zásoba</a:t>
            </a:r>
            <a:r>
              <a:rPr b="0" lang="cs-CZ" sz="2200" spc="-1" strike="noStrike">
                <a:solidFill>
                  <a:srgbClr val="9303cd"/>
                </a:solidFill>
                <a:latin typeface="Trebuchet MS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(zásoba na počátku nového období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303cd"/>
                </a:solidFill>
                <a:latin typeface="Trebuchet MS"/>
              </a:rPr>
              <a:t>nákup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(spotřeba + konečná zásoba – počáteční zásoba</a:t>
            </a:r>
            <a:r>
              <a:rPr b="0" lang="cs-CZ" sz="21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9528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de6c36"/>
                </a:solidFill>
                <a:latin typeface="Trebuchet MS"/>
              </a:rPr>
              <a:t>Metody výpočtu budoucí spotřeb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a) Metoda podle technické dokument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tanovení norem spotřeby materiál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b) Indexní meto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ychází ze spotřeby minulých l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c) Metoda podle výtěžnost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éně přesná, u zásob, u který nelze přesně stanovit spotřebu na jednotk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př.: jatka- výtěžnost masa v 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95280" y="1196640"/>
            <a:ext cx="7561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e6c36"/>
                </a:solidFill>
                <a:latin typeface="Trebuchet MS"/>
              </a:rPr>
              <a:t>Metody výpočtu budoucí spotřeb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303cd"/>
                </a:solidFill>
                <a:latin typeface="Trebuchet MS"/>
              </a:rPr>
              <a:t>Závisí na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</a:rPr>
              <a:t>výrobním programu podniku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</a:rPr>
              <a:t>jeho velikosti i úrovni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</a:rPr>
              <a:t>schopnosti pracovníků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6840" y="1071360"/>
            <a:ext cx="76150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e6c36"/>
                </a:solidFill>
                <a:latin typeface="Trebuchet MS"/>
              </a:rPr>
              <a:t>Řízení záso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1. Metoda ABC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= zásoby jsou rozděleny do 3 skupin (skupina A, skupina B, skupina C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2. Just in time (JIT)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‒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„právě včas“ – pochází z Japonsk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3. Systém KANBAN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- materiál se má dodávat přesně v tom okamžiku, kdy je výrobní proces potřebuje, u opakujících se operací, používání karet, štítků (pohybové/přesunové, výrobní, pro externí dodavatel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4. Systém tahu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podnik čeká s výrobou dokud ji zákazník nepožaduj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5. Systém tlaku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– prognózování, předpokládání prodej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Nadpis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242120" cy="586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28400" y="857160"/>
            <a:ext cx="7715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de6c36"/>
                </a:solidFill>
                <a:latin typeface="Trebuchet MS"/>
              </a:rPr>
              <a:t>Řízení zásob – metoda AB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Skupina A</a:t>
            </a:r>
            <a:r>
              <a:rPr b="0" lang="cs-CZ" sz="2400" spc="-1" strike="noStrike">
                <a:solidFill>
                  <a:srgbClr val="9303cd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- materiál, který je </a:t>
            </a:r>
            <a:r>
              <a:rPr b="0" lang="cs-CZ" sz="2000" spc="-1" strike="noStrike">
                <a:solidFill>
                  <a:srgbClr val="ff0000"/>
                </a:solidFill>
                <a:latin typeface="Trebuchet MS"/>
              </a:rPr>
              <a:t>nejpoužívanější, tvoří </a:t>
            </a:r>
            <a:br>
              <a:rPr sz="2000"/>
            </a:br>
            <a:r>
              <a:rPr b="0" lang="cs-CZ" sz="2000" spc="-1" strike="noStrike">
                <a:solidFill>
                  <a:srgbClr val="ff0000"/>
                </a:solidFill>
                <a:latin typeface="Trebuchet MS"/>
              </a:rPr>
              <a:t>60 – 80 % spotřeby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(dřevo, plast, atd.), lze stanovit optimální velikosti dodávek, případně stanovit minimální zásobu – metodou </a:t>
            </a:r>
            <a:r>
              <a:rPr b="0" lang="cs-CZ" sz="2000" spc="-1" strike="noStrike">
                <a:solidFill>
                  <a:srgbClr val="b13f9a"/>
                </a:solidFill>
                <a:latin typeface="Trebuchet MS"/>
              </a:rPr>
              <a:t>„normování zásob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Skupina B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cs-CZ" sz="2000" spc="-1" strike="noStrike">
                <a:solidFill>
                  <a:srgbClr val="ff0000"/>
                </a:solidFill>
                <a:latin typeface="Trebuchet MS"/>
              </a:rPr>
              <a:t>různorodé, méně používané druhy materiálu,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které lze jednoduše nahradit,</a:t>
            </a:r>
            <a:r>
              <a:rPr b="0" lang="cs-CZ" sz="2000" spc="-1" strike="noStrike">
                <a:solidFill>
                  <a:srgbClr val="ff0000"/>
                </a:solidFill>
                <a:latin typeface="Trebuchet MS"/>
              </a:rPr>
              <a:t> tvoří asi 15 ‒ 20 % spotřeby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pomocný materiál – barvy, laky, šrouby, atd.), stačí určit maximální zásobu nebo její výši odhadnout, užívá se metoda </a:t>
            </a:r>
            <a:r>
              <a:rPr b="0" lang="cs-CZ" sz="2000" spc="-1" strike="noStrike">
                <a:solidFill>
                  <a:srgbClr val="b13f9a"/>
                </a:solidFill>
                <a:latin typeface="Trebuchet MS"/>
              </a:rPr>
              <a:t>„min. skladových zásob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Skupina C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cs-CZ" sz="2000" spc="-1" strike="noStrike">
                <a:solidFill>
                  <a:srgbClr val="ff0000"/>
                </a:solidFill>
                <a:latin typeface="Trebuchet MS"/>
              </a:rPr>
              <a:t>druhy materiálu, které je možné snadno získat nebo se nevyplatí je skladovat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kancelářské potřeby, hygienické, úklidové, atd.), tvoří asi </a:t>
            </a:r>
            <a:r>
              <a:rPr b="0" lang="cs-CZ" sz="2000" spc="-1" strike="noStrike">
                <a:solidFill>
                  <a:srgbClr val="ff0000"/>
                </a:solidFill>
                <a:latin typeface="Trebuchet MS"/>
              </a:rPr>
              <a:t>5 % spotřeby,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nakupuje se v okamžiku potřeby – metoda </a:t>
            </a:r>
            <a:r>
              <a:rPr b="0" lang="cs-CZ" sz="2000" spc="-1" strike="noStrike">
                <a:solidFill>
                  <a:srgbClr val="b13f9a"/>
                </a:solidFill>
                <a:latin typeface="Trebuchet MS"/>
              </a:rPr>
              <a:t>„souhrnného finančního normativu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125360"/>
            <a:ext cx="7686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de6c36"/>
                </a:solidFill>
                <a:latin typeface="Trebuchet MS"/>
              </a:rPr>
              <a:t>Normativní zásob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Každý druh </a:t>
            </a:r>
            <a:r>
              <a:rPr b="0" i="1" lang="cs-CZ" sz="2400" spc="-1" strike="noStrike">
                <a:solidFill>
                  <a:srgbClr val="b13f9a"/>
                </a:solidFill>
                <a:latin typeface="Trebuchet MS"/>
              </a:rPr>
              <a:t>zásob 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zařazený do </a:t>
            </a:r>
            <a:r>
              <a:rPr b="0" i="1" lang="cs-CZ" sz="2400" spc="-1" strike="noStrike">
                <a:solidFill>
                  <a:srgbClr val="b13f9a"/>
                </a:solidFill>
                <a:latin typeface="Trebuchet MS"/>
              </a:rPr>
              <a:t>skupiny A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 (metoda řízení zásob ABC) </a:t>
            </a:r>
            <a:r>
              <a:rPr b="0" i="1" lang="cs-CZ" sz="2400" spc="-1" strike="noStrike">
                <a:solidFill>
                  <a:srgbClr val="b13f9a"/>
                </a:solidFill>
                <a:latin typeface="Trebuchet MS"/>
              </a:rPr>
              <a:t>má 3 normativní ukazatel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Trebuchet MS"/>
              </a:rPr>
              <a:t>zásoba běžná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– vydává se průběžně podle požadavků výrob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Trebuchet MS"/>
              </a:rPr>
              <a:t>zásoba pojistná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– pro případ, kdy se opozdí dodávka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ve skladě je navíc nad běžnou zásobu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Trebuchet MS"/>
              </a:rPr>
              <a:t>zásoba technická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– bývá pouze u některých druhů zásob nejsme schopni ji předčasně čerpat (dřevo, káva, sýry, víno, whisky, atd.)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de6c36"/>
                </a:solidFill>
                <a:latin typeface="Trebuchet MS"/>
              </a:rPr>
              <a:t>Normativní zásob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Schéma:   Dodávkový cyklu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Zdroj:      </a:t>
            </a:r>
            <a:r>
              <a:rPr b="0" lang="sk-SK" sz="800" spc="-1" strike="noStrike">
                <a:solidFill>
                  <a:srgbClr val="000000"/>
                </a:solidFill>
                <a:latin typeface="Trebuchet MS"/>
              </a:rPr>
              <a:t>http://www.google.cz/search?q=normativn%C3%AD+z%C3%A1soba+graf&amp;source=lnms&amp;tbm=isch&amp;sa=X&amp;ei=RVrxUfc-iYq0Bq6tgeAB&amp;ved=0CAcQ_AUoAQ&amp;biw=1920&amp;bih=979</a:t>
            </a:r>
            <a:r>
              <a:rPr b="0" i="1" lang="cs-CZ" sz="800" spc="-1" strike="noStrike">
                <a:solidFill>
                  <a:srgbClr val="000000"/>
                </a:solidFill>
                <a:latin typeface="Trebuchet MS"/>
              </a:rPr>
              <a:t> , dne 5. 8. 2013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325440" y="2781360"/>
            <a:ext cx="7054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Nadpis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7242120" cy="71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57200" y="836640"/>
          <a:ext cx="8229600" cy="58104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rebuchet MS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4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Zásob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VY_32_INOVACE_076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27. 1. 2014, 10. 2. 20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Materiál slouží k získání přehledu o zásobovacích činnostech, členění zásob, pořizování zásob, řízení zásob a normativní zásobě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00040" y="1143000"/>
            <a:ext cx="75722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de6c36"/>
                </a:solidFill>
                <a:latin typeface="Trebuchet MS"/>
              </a:rPr>
              <a:t>Řízení zásob – metoda J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b13f9a"/>
                </a:solidFill>
                <a:latin typeface="Trebuchet MS"/>
              </a:rPr>
              <a:t>JIT – právě včas uplatňuje zásad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emít žádné zásob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žádné sklady a skladní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ovážet materiál přímo do výrob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rebuchet MS"/>
              </a:rPr>
              <a:t>Cílem JIT j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téměř úplná likvidace záso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odávky materiálu probíhají v okamžiku, kdy je  materiál potřebný ve výrobě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ýrazné snížení nákladů na skladová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6840" y="1213920"/>
            <a:ext cx="754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a8d3d"/>
                </a:solidFill>
                <a:latin typeface="Trebuchet MS"/>
              </a:rPr>
              <a:t>Použitá literatura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LÍNSKÝ, P., MÜNCH, O. 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Ekonomika 1 pro obchodní akademie a ostatní střední školy.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3. vyd. Praha: Eduko nakladatelství, s. r. o., 2010, 152 s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ISBN 978-80-87204-24-5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TELMACH, K. 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Podniková ekonomika v pojmech a příkladech.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. vyd. Karviná: SU OPF:2010, 213 s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ISBN 978-80-7248-610-6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ĚMEC, F. </a:t>
            </a: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Logistika.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. vyd. Karviná: SU OPF: 2007, 138 s. ISBN 80-85879-24-7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579600" y="262080"/>
            <a:ext cx="8064360" cy="933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68160" y="1557360"/>
            <a:ext cx="7888320" cy="439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ásobovací činn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ásob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Pořízení zásob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Rychlost obratu záso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potřeba materiál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elikost záso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etody řízení záso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Řízení  záso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ormativní zásob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7944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00"/>
                </a:solidFill>
                <a:latin typeface="Trebuchet MS"/>
              </a:rPr>
              <a:t>1. roční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71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26560" y="1628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e36406"/>
                </a:solidFill>
                <a:latin typeface="Trebuchet MS"/>
              </a:rPr>
              <a:t>Zásobování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74396"/>
                </a:solidFill>
                <a:latin typeface="Trebuchet MS"/>
              </a:rPr>
              <a:t>Činnost, při které podnik zajišťuje zásob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určitého druh, množství, jakos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v určité době, kdy ho podnik bude potřebov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za „optimální ceny“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30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e36406"/>
                </a:solidFill>
                <a:latin typeface="Trebuchet MS"/>
              </a:rPr>
              <a:t>Zásobování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74396"/>
                </a:solidFill>
                <a:latin typeface="Trebuchet MS"/>
              </a:rPr>
              <a:t>Zásobovací činnost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jištění potřeby materiálu (výpoče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ajištění dodavatele, výběr dodavate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jednání s dodavatelem, uzavření kupní smlouv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ajištění dodávek, příjem dodávky, kontrola dodáv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kladování materiálu a výdej do spotřeb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ásobovací činnost má na starost </a:t>
            </a:r>
            <a:r>
              <a:rPr b="1" lang="cs-CZ" sz="2400" spc="-1" strike="noStrike">
                <a:solidFill>
                  <a:srgbClr val="e36406"/>
                </a:solidFill>
                <a:latin typeface="Trebuchet MS"/>
              </a:rPr>
              <a:t>zásobovací útva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03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341360"/>
            <a:ext cx="7238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e36406"/>
                </a:solidFill>
                <a:latin typeface="Trebuchet MS"/>
              </a:rPr>
              <a:t>Zásob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Materiál</a:t>
            </a:r>
            <a:r>
              <a:rPr b="0" lang="cs-CZ" sz="2400" spc="-1" strike="noStrike">
                <a:solidFill>
                  <a:srgbClr val="9303cd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základní suroviny – stavební hmoty, kov, dřevo), pomocné materiály (barvy, maziva), obaly (plechovky, kartony), pohonné hmoty (nafta, benzin), drobné nářadí (šroubováky, klíče), kancelářské potřeby (papíry, tužky), čistící prostředky (pro hygienu zaměstnanců, úklid prostorů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Nedokončená výroba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nedokončené výrobky v takovém stupni technologické rozpracovanosti, že nejsou zatím prodejné – rozešité kalhoty, neupečený rohlík)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e36406"/>
                </a:solidFill>
                <a:latin typeface="Trebuchet MS"/>
              </a:rPr>
              <a:t>Zásob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Polotovary</a:t>
            </a: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rozpracované výrobky, které jsou z hlediska některého technologického stupně už dokončené a daly by se prodat – odlitky, deska dřev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Hotové výrobky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výrobky, které už firma dokončila a připravuje je k prodeji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Zboží</a:t>
            </a: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vše, co je zakoupené za účelem prodej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303cd"/>
                </a:solidFill>
                <a:latin typeface="Trebuchet MS"/>
              </a:rPr>
              <a:t>Zvířata</a:t>
            </a: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(specifický druh zásob typický pro zemědělskou výrobu (hejna husí, kachen, včelstva) plemenné koně a býky- zajišťují reprodukci chovu – D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579600" y="457200"/>
            <a:ext cx="7242120" cy="16034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71640" y="4869000"/>
            <a:ext cx="6346800" cy="12240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b13f9a"/>
                </a:solidFill>
                <a:latin typeface="Trebuchet MS"/>
              </a:rPr>
              <a:t>Pro oběžný majetek je charakteristické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b13f9a"/>
                </a:solidFill>
                <a:latin typeface="Trebuchet MS"/>
              </a:rPr>
              <a:t>že soustavně mění svoji podobu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988640"/>
            <a:ext cx="3521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a) Nákup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materiál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zboží </a:t>
            </a: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zvířat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77800" y="1711080"/>
            <a:ext cx="352116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303cd"/>
                </a:solidFill>
                <a:latin typeface="Trebuchet MS"/>
              </a:rPr>
              <a:t>b) Vlastní výrob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89240" indent="-21456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nedokončená výrob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89240" indent="-21456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polotovary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89240" indent="-21456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výrobky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89240" indent="-21456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c6c6c"/>
                </a:solidFill>
                <a:latin typeface="Trebuchet MS"/>
              </a:rPr>
              <a:t>zvířat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a8d3d"/>
                </a:solidFill>
                <a:latin typeface="Trebuchet MS"/>
              </a:rPr>
              <a:t>Koloběh oběžného majet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Graf: Koloběh oběžného majetku firm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Zdroj: http://google.cz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68407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9:42:17Z</dcterms:created>
  <dc:creator>Ing. Jana Švejdová</dc:creator>
  <dc:description>Autorem materiálu a všech jeho částí, není-li uvedeno jinak, je Jana Švejdová. Dostupné z Metodického portálu www.rvp. cz, ISSN: 1802-4785, financovaného z ESF a státního rozpočtu ČR. Provozováno Výzkumným ústavem pedagogickým v Praze.</dc:description>
  <dc:language>en-US</dc:language>
  <cp:lastModifiedBy>Berka</cp:lastModifiedBy>
  <dcterms:modified xsi:type="dcterms:W3CDTF">2014-02-26T08:13:29Z</dcterms:modified>
  <cp:revision>247</cp:revision>
  <dc:subject>Ekonomika</dc:subject>
  <dc:title>Zásoby a logistika II.</dc:title>
</cp:coreProperties>
</file>