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460-1875-4046-9B93-6EC66600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F40-260C-45AB-B0F5-5536E4DC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951-34F7-4BB7-B68F-55E27419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727-EDA6-46DC-8F68-BB3D7CA6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1316-DECE-423E-983C-694B6670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3B6A-1ABF-4BE5-957C-C6FB367E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20B5-668F-4D04-8A6C-0FC4D797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1614-D5F7-451C-99DC-AA32E21B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8844-AE4B-42AE-888F-16EAEAF5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D7F5-E451-4F9B-B409-0408AFA1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9D75-68CD-468F-A12B-5055C424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81F-5D67-4FB4-99DA-456872C5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A282-4730-410C-B662-5EDF0442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B1AB-45B0-49E2-BB9A-4F7FA6F1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68A5-E720-437D-BF25-5261B8B6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FF9B-3C95-4AD3-8439-2CCE8FF5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61C3-757E-47BC-B035-4823EDD6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A08CE-7AE8-4B7D-AC1E-3B2B3036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0D45-7FA0-4B72-BC44-B0E8364B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5986-A055-4E8B-9193-94E822E5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9819-430A-4D70-A241-2845E3AF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EA688-B17B-45B4-8EE1-3757D573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BB7-42AB-4852-A950-A3CA35E3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CD77-2E22-4176-8C0C-EE02A177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3509-FF76-439A-A5A4-BA856E3B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7EBB3-D309-4755-A580-8E756FC9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08DF-6D20-4A86-BB5C-F97DC6DC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C9E50-703E-4CF6-AA5A-39D96F1C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30710-36BF-46AA-9F27-71730239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6895-16D3-4283-A20F-656D2B2F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A239-3115-4EF4-A9C5-3CC998B3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02BF2-4BE7-4A99-A64C-FBC73107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326F3-CDF8-4414-924B-AD4B4497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C656-6832-469F-9310-09060251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53D4-7C93-4887-A54E-719CC01E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7A79E-EB47-42CE-9122-E0012F5B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BFAA7-1653-4128-B23F-8E876980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7DD55-8E7F-4D84-AAA4-69B9B106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A76FE-5D11-4DC7-B395-CFE1D95A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F807C-E2AE-4BB2-889C-7E27B114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7B15-E078-4309-9231-FDCB090D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1193-3E43-4D64-A227-88B7065B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9E76F-9304-418C-951E-C5A5877D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1BBDC-AB48-44BB-8CBA-433AAFAD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D4B-4493-4C92-AEEF-8CC54F52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D59EC-7AE4-4C3A-A6BE-3AA68A47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371AA-3853-4BD0-AEC0-71B6D321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B2112-9C9B-4546-A295-DD26C5CD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3D93E-917C-44B7-A884-65C073AC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B6660-236F-45B0-B1E7-FACCA719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C7B54-EF07-40B6-AB72-1EAC9A6D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7FB0B-D21B-45AF-AB6D-E9CD5590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1AB42-17EE-466F-AB82-C9C3E7E1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5219F-7508-46FA-8D11-42B542AB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7BFB2-25D4-40C4-87FE-1180E266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814-7472-4F21-A9ED-70DB426A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E0BFE-5C61-405A-BAB0-A95443EA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0C4B1-10C7-4C28-B67E-CD1D3C4B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BE8B2-C117-44CF-9186-D202E4D1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0D2D5-5909-4583-857A-520B41AD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F55F4-66C4-4E42-83A1-086E094C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24541-6B97-4D5A-80CF-527F2FF9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31A75-6F2E-460A-BDD8-E2E02E0F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7FF67-F87B-4249-9E23-79B4CF43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1C349-4DF8-447B-B5C6-D5FA55D1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ACAB3-744C-4706-BDAB-362F8F61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86C-FABF-45F7-B7B5-C6264924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50736-F6E3-4884-83DB-809B6FA5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3E999-BDBC-419B-99B3-E421104F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ED334-6995-4288-BD2F-253757C0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A4E-696D-4A54-8E12-0261A12D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951-FA88-489E-9F8B-24EFD7C5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1CDD-27CF-4D87-91FF-E6EB8AAB6C10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57FB-661A-4E0B-A9BD-E548255A0BC7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1CA3-B8D6-4E93-A75A-7CBD49C87A51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CABD-D36A-4608-ADA2-302FE1BF5CF5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D486-0E79-41FC-8D17-EF4BEC3C42C2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9744-C9E6-499F-845C-FCADBB138419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542880" y="3498840"/>
            <a:ext cx="7954920" cy="2305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133640" y="15573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Calibri"/>
              </a:rPr>
              <a:t>VY_32_INOVACE_062_Ekonom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Obrázek 3" descr=""/>
          <p:cNvPicPr/>
          <p:nvPr/>
        </p:nvPicPr>
        <p:blipFill>
          <a:blip r:embed="rId2"/>
          <a:stretch/>
        </p:blipFill>
        <p:spPr>
          <a:xfrm>
            <a:off x="1332000" y="49536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cccc"/>
                </a:solidFill>
                <a:latin typeface="Franklin Gothic Book"/>
              </a:rPr>
              <a:t>ZÁKLADNÍ EKONOMICKÉ POJMY II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Arial"/>
              </a:rPr>
              <a:t>STAT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sou zpravidla produkty lidské práce, kterými lze uspokojit lidské 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cccc"/>
                </a:solidFill>
                <a:latin typeface="Franklin Gothic Book"/>
              </a:rPr>
              <a:t>Z</a:t>
            </a:r>
            <a:r>
              <a:rPr b="1" lang="cs-CZ" sz="4000" spc="-1" strike="noStrike">
                <a:solidFill>
                  <a:srgbClr val="33cccc"/>
                </a:solidFill>
                <a:latin typeface="Franklin Gothic Book"/>
              </a:rPr>
              <a:t>ÁKLADNÍ EKONOMICKÉ POJMY II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ff00"/>
                </a:solidFill>
                <a:latin typeface="Arial"/>
              </a:rPr>
              <a:t>STAT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cccc"/>
                </a:solidFill>
                <a:latin typeface="Arial"/>
              </a:rPr>
              <a:t>Členění stat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Arial"/>
              </a:rPr>
              <a:t>Hmot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každá věc, kterou lze uspokojit lidské potřeby (oblečení, auto, nábyte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Arial"/>
              </a:rPr>
              <a:t>Nehmot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každý duševní výtvor člověka (schopnosti, dovednosti, znalost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Arial"/>
              </a:rPr>
              <a:t>Voln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jsou neomezeně k dispozici (vzduch, světlo, vod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Arial"/>
              </a:rPr>
              <a:t>Ekonom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yskytují je v omezené míře, musí se určitým způsobem rozdělovat, podílet se na jejich výrob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cccc"/>
                </a:solidFill>
                <a:latin typeface="Franklin Gothic Book"/>
              </a:rPr>
              <a:t>ZÁKLADNÍ EKONOMICKÉ POJMY II.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Arial"/>
              </a:rPr>
              <a:t>STAT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cccc"/>
                </a:solidFill>
                <a:latin typeface="Arial"/>
              </a:rPr>
              <a:t>Členění podle použit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Arial"/>
              </a:rPr>
              <a:t>Spotřební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– slouží de konečné spotřebě (pračka v domácnosti, potraviny, 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Arial"/>
              </a:rPr>
              <a:t>Kapitálov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slouží k další výrobě (pračka v prádelně, potraviny jako součást nového produktu, 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cccc"/>
                </a:solidFill>
                <a:latin typeface="Franklin Gothic Book"/>
              </a:rPr>
              <a:t>ZÁKLADNÍ EKONOMICKÉ POJMY II.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Arial"/>
              </a:rPr>
              <a:t>SLUŽB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sou cizí činnosti, které svým průběhem uspokojují potřeby lid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cccc"/>
                </a:solidFill>
                <a:latin typeface="Arial"/>
              </a:rPr>
              <a:t>Členění služe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Arial"/>
              </a:rPr>
              <a:t>Věcné (materiální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svým průběhem obnovují nebo zlepšují hmotné statky (oprava auta,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Arial"/>
              </a:rPr>
              <a:t>Osobní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cizí činnosti, které svým průběhem působí přímo na člověka (kadeřník, škola,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283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cccc"/>
                </a:solidFill>
                <a:latin typeface="Franklin Gothic Book"/>
              </a:rPr>
              <a:t>ZÁKLADNÍ EKONOMICKÉ POJMY II.</a:t>
            </a:r>
            <a:br>
              <a:rPr sz="4000"/>
            </a:br>
            <a:br>
              <a:rPr sz="1400"/>
            </a:br>
            <a:br>
              <a:rPr sz="1400"/>
            </a:br>
            <a:r>
              <a:rPr b="0" lang="cs-CZ" sz="1800" spc="-1" strike="noStrike">
                <a:solidFill>
                  <a:srgbClr val="ffffff"/>
                </a:solidFill>
                <a:latin typeface="Franklin Gothic Book"/>
              </a:rPr>
              <a:t>Graf:   Činitelé uspokojující lidské potřeby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Franklin Gothic Book"/>
              </a:rPr>
              <a:t>Zdroj: Vlastní zpracování</a:t>
            </a:r>
            <a:br>
              <a:rPr sz="5400"/>
            </a:b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8" name="Organization Chart 65"/>
          <p:cNvGrpSpPr/>
          <p:nvPr/>
        </p:nvGrpSpPr>
        <p:grpSpPr>
          <a:xfrm>
            <a:off x="666720" y="2637000"/>
            <a:ext cx="8008200" cy="3248280"/>
            <a:chOff x="666720" y="2637000"/>
            <a:chExt cx="8008200" cy="3248280"/>
          </a:xfrm>
        </p:grpSpPr>
        <p:cxnSp>
          <p:nvCxnSpPr>
            <p:cNvPr id="289" name="_s2052"/>
            <p:cNvCxnSpPr>
              <a:stCxn id="290" idx="0"/>
              <a:endCxn id="291" idx="2"/>
            </p:cNvCxnSpPr>
            <p:nvPr/>
          </p:nvCxnSpPr>
          <p:spPr>
            <a:xfrm flipV="1" rot="16200000">
              <a:off x="5423760" y="3182760"/>
              <a:ext cx="650160" cy="2156040"/>
            </a:xfrm>
            <a:prstGeom prst="bentConnector3">
              <a:avLst>
                <a:gd name="adj1" fmla="val 127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2" name="_s2053"/>
            <p:cNvCxnSpPr>
              <a:stCxn id="293" idx="0"/>
              <a:endCxn id="291" idx="2"/>
            </p:cNvCxnSpPr>
            <p:nvPr/>
          </p:nvCxnSpPr>
          <p:spPr>
            <a:xfrm flipH="1" flipV="1" rot="5400000">
              <a:off x="3267720" y="3182400"/>
              <a:ext cx="650160" cy="2157120"/>
            </a:xfrm>
            <a:prstGeom prst="bentConnector3">
              <a:avLst>
                <a:gd name="adj1" fmla="val 127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1" name="_s2054"/>
            <p:cNvSpPr/>
            <p:nvPr/>
          </p:nvSpPr>
          <p:spPr>
            <a:xfrm>
              <a:off x="2823120" y="2637000"/>
              <a:ext cx="3696120" cy="12992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b3b"/>
                  </a:solidFill>
                  <a:latin typeface="Tahoma"/>
                </a:rPr>
                <a:t>Činitelé uspokojující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b3b"/>
                  </a:solidFill>
                  <a:latin typeface="Tahoma"/>
                </a:rPr>
                <a:t>lidské potřeby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_s2055"/>
            <p:cNvSpPr/>
            <p:nvPr/>
          </p:nvSpPr>
          <p:spPr>
            <a:xfrm>
              <a:off x="666720" y="4586040"/>
              <a:ext cx="3696120" cy="12992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b3b"/>
                  </a:solidFill>
                  <a:latin typeface="Tahoma"/>
                </a:rPr>
                <a:t>Statky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_s2056"/>
            <p:cNvSpPr/>
            <p:nvPr/>
          </p:nvSpPr>
          <p:spPr>
            <a:xfrm>
              <a:off x="4978800" y="4586040"/>
              <a:ext cx="3696120" cy="12992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b3b"/>
                  </a:solidFill>
                  <a:latin typeface="Tahoma"/>
                </a:rPr>
                <a:t>Služby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cccc"/>
                </a:solidFill>
                <a:latin typeface="Franklin Gothic Book"/>
              </a:rPr>
              <a:t>ZÁKLADNÍ EKONOMICKÉ POJMY II.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Arial"/>
              </a:rPr>
              <a:t>Použitá literatur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Ekonomika 1 pro obchodní akademie a ostatní střední školy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. vyd. Praha: Eduko nakladatelství, s. r. o., 2010, 152 s. ISBN 978-80-87204-24-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Franklin Gothic Book"/>
              </a:rPr>
              <a:t>Záznamový list výukového materiálu</a:t>
            </a:r>
            <a:br>
              <a:rPr sz="18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8360" y="1341360"/>
          <a:ext cx="8229600" cy="5284800"/>
        </p:xfrm>
        <a:graphic>
          <a:graphicData uri="http://schemas.openxmlformats.org/drawingml/2006/table">
            <a:tbl>
              <a:tblPr/>
              <a:tblGrid>
                <a:gridCol w="2962080"/>
                <a:gridCol w="5267520"/>
              </a:tblGrid>
              <a:tr h="389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ákladní ekonomické pojmy I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_32_INOVACE_062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9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9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9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. 9. 2013, 1. 10.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eriál slouží k získání přehledu o pojmech potřeby, statky </a:t>
                      </a:r>
                      <a:br>
                        <a:rPr sz="1400"/>
                      </a:b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 služby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9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33cccc"/>
                </a:solidFill>
                <a:latin typeface="Franklin Gothic Book"/>
              </a:rPr>
              <a:t>ZÁKLADNÍ EKONOMICKÉ POJMY II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t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Arial"/>
              </a:rPr>
              <a:t>1. roční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cccc"/>
                </a:solidFill>
                <a:latin typeface="Franklin Gothic Book"/>
              </a:rPr>
              <a:t>ZÁKLADNÍ EKONOMICKÉ POJMY II.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8147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Arial"/>
              </a:rPr>
              <a:t>POTŘEB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lověk žije v určitém společenském prostředí. Ke svému životu potřebuje jídlo, pití, oblečení, spánek, atd. Projevuje však i své city, stýká se s lidmi, cestuje, poznává okolí a svět. Pocítí-li člověk nějaký nedostatek, projeví se u něj potřeba jej odstran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Potře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cccc"/>
                </a:solidFill>
                <a:latin typeface="Arial"/>
              </a:rPr>
              <a:t>Požadavky, které si člověk uvědomuje a pociťuje jejich nedostatek nejsou-li uspokoje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cccc"/>
                </a:solidFill>
                <a:latin typeface="Franklin Gothic Book"/>
              </a:rPr>
              <a:t>ZÁKLADNÍ EKONOMICKÉ POJMY II.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Arial"/>
              </a:rPr>
              <a:t>POTŘEB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cccc"/>
                </a:solidFill>
                <a:latin typeface="Arial"/>
              </a:rPr>
              <a:t>Základní členění potře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Arial"/>
              </a:rPr>
              <a:t>Hmotné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vyjadřuje naše požadavky, </a:t>
            </a:r>
            <a:r>
              <a:rPr b="0" lang="cs-CZ" sz="2800" spc="-1" strike="noStrike">
                <a:solidFill>
                  <a:srgbClr val="33cccc"/>
                </a:solidFill>
                <a:latin typeface="Arial"/>
              </a:rPr>
              <a:t>mít  a užívat určitou věc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auto, dům, oblečení,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Arial"/>
              </a:rPr>
              <a:t>Nehmotn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vyjadřuje naše požadavky, </a:t>
            </a:r>
            <a:r>
              <a:rPr b="0" lang="cs-CZ" sz="2800" spc="-1" strike="noStrike">
                <a:solidFill>
                  <a:srgbClr val="33cccc"/>
                </a:solidFill>
                <a:latin typeface="Arial"/>
              </a:rPr>
              <a:t>mít a užívat určité city, vlastnosti, znalosti a dovednost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láska, přátelství, uznání dobré práce, umět řídit auto,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43444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cccc"/>
                </a:solidFill>
                <a:latin typeface="Franklin Gothic Book"/>
              </a:rPr>
              <a:t>ZÁKLADNÍ EKONOMICKÉ POJMY II.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125360"/>
            <a:ext cx="83628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ff00"/>
                </a:solidFill>
                <a:latin typeface="Arial"/>
              </a:rPr>
              <a:t>POTŘEB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cccc"/>
                </a:solidFill>
                <a:latin typeface="Arial"/>
              </a:rPr>
              <a:t>Členění podle jiného hledis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Arial"/>
              </a:rPr>
              <a:t>Zbytné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méně důležité (jít do kina, cestova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Arial"/>
              </a:rPr>
              <a:t>Nezbytné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nelze bez nich existovat (jídlo, pití, spán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Arial"/>
              </a:rPr>
              <a:t>Biologické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jídlo, pití, spá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Arial"/>
              </a:rPr>
              <a:t>Kulturní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zábava, poučení (kino, divadlo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Arial"/>
              </a:rPr>
              <a:t>Současné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najíst se, napít se, jít sp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Arial"/>
              </a:rPr>
              <a:t>Budoucí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domov, zaměstnání, maturi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Arial"/>
              </a:rPr>
              <a:t>Ekonomické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mít dům, a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Arial"/>
              </a:rPr>
              <a:t>Neekonomické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jít na procház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Arial"/>
              </a:rPr>
              <a:t>Individuální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potřeba jedince (mít kolo, in-line brus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Arial"/>
              </a:rPr>
              <a:t>Společenské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potřeba skupiny lidí (konce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Arial"/>
              </a:rPr>
              <a:t>Stálé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jíst, pít, sp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Arial"/>
              </a:rPr>
              <a:t>Občasné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jít do kina, divad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cccc"/>
                </a:solidFill>
                <a:latin typeface="Franklin Gothic Book"/>
              </a:rPr>
              <a:t>ZÁKLADNÍ EKONOMICKÉ POJMY II.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Arial"/>
              </a:rPr>
              <a:t>POTŘEB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cccc"/>
                </a:solidFill>
                <a:latin typeface="Arial"/>
              </a:rPr>
              <a:t>Charakteristické znaky potře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sou rozdílné u každého jedi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dna potřeba vyvolává další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ění se s rozvojem společnosti (podněcuje její rozvoj, pokro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lověk si je uvědomí a snaží se je svou činností uspokoj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110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cccc"/>
                </a:solidFill>
                <a:latin typeface="Franklin Gothic Book"/>
              </a:rPr>
              <a:t>ZÁKLADNÍ EKONOMICKÉ POJMY II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9992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Arial"/>
              </a:rPr>
              <a:t>POTŘEB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cccc"/>
                </a:solidFill>
                <a:latin typeface="Arial"/>
              </a:rPr>
              <a:t>Maslowova motivační pyram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potřeb podle důležit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Graf:  Maslowova pyramida potře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droj: Vlastní zpracová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Diagram 6"/>
          <p:cNvGrpSpPr/>
          <p:nvPr/>
        </p:nvGrpSpPr>
        <p:grpSpPr>
          <a:xfrm>
            <a:off x="3900240" y="4253760"/>
            <a:ext cx="1812960" cy="2039040"/>
            <a:chOff x="3900240" y="4253760"/>
            <a:chExt cx="1812960" cy="2039040"/>
          </a:xfrm>
        </p:grpSpPr>
        <p:sp>
          <p:nvSpPr>
            <p:cNvPr id="272" name="_s1028"/>
            <p:cNvSpPr/>
            <p:nvPr/>
          </p:nvSpPr>
          <p:spPr>
            <a:xfrm flipV="1">
              <a:off x="4625280" y="4253400"/>
              <a:ext cx="362880" cy="407880"/>
            </a:xfrm>
            <a:custGeom>
              <a:avLst/>
              <a:gdLst>
                <a:gd name="textAreaLeft" fmla="*/ 130320 w 362880"/>
                <a:gd name="textAreaRight" fmla="*/ 232560 w 362880"/>
                <a:gd name="textAreaTop" fmla="*/ 146160 h 407880"/>
                <a:gd name="textAreaBottom" fmla="*/ 261720 h 40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ea0b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00"/>
                  </a:solidFill>
                  <a:latin typeface="Tahoma"/>
                </a:rPr>
                <a:t>SEBEREALIZACE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rozvoj talentu, osobnosti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_s1029"/>
            <p:cNvSpPr/>
            <p:nvPr/>
          </p:nvSpPr>
          <p:spPr>
            <a:xfrm flipV="1">
              <a:off x="4444200" y="4662000"/>
              <a:ext cx="725040" cy="407520"/>
            </a:xfrm>
            <a:custGeom>
              <a:avLst/>
              <a:gdLst>
                <a:gd name="textAreaLeft" fmla="*/ 159480 w 725040"/>
                <a:gd name="textAreaRight" fmla="*/ 565560 w 725040"/>
                <a:gd name="textAreaTop" fmla="*/ 89640 h 407520"/>
                <a:gd name="textAreaBottom" fmla="*/ 317880 h 40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ea0b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00"/>
                  </a:solidFill>
                  <a:latin typeface="Tahoma"/>
                </a:rPr>
                <a:t>USPOKOJENÍ Z PRÁCE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uznání úspěšnosti, radost z práce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_s1030"/>
            <p:cNvSpPr/>
            <p:nvPr/>
          </p:nvSpPr>
          <p:spPr>
            <a:xfrm flipV="1">
              <a:off x="4263480" y="5068800"/>
              <a:ext cx="1086840" cy="407880"/>
            </a:xfrm>
            <a:custGeom>
              <a:avLst/>
              <a:gdLst>
                <a:gd name="textAreaLeft" fmla="*/ 188640 w 1086840"/>
                <a:gd name="textAreaRight" fmla="*/ 898200 w 1086840"/>
                <a:gd name="textAreaTop" fmla="*/ 70560 h 407880"/>
                <a:gd name="textAreaBottom" fmla="*/ 337320 h 40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6ea0b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00"/>
                  </a:solidFill>
                  <a:latin typeface="Tahoma"/>
                </a:rPr>
                <a:t>SOCIÁLN´POTŘEBY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přátelství, láska, pocit sounáležitosti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_s1031"/>
            <p:cNvSpPr/>
            <p:nvPr/>
          </p:nvSpPr>
          <p:spPr>
            <a:xfrm flipV="1">
              <a:off x="4081320" y="5476680"/>
              <a:ext cx="1451160" cy="407880"/>
            </a:xfrm>
            <a:custGeom>
              <a:avLst/>
              <a:gdLst>
                <a:gd name="textAreaLeft" fmla="*/ 218160 w 1451160"/>
                <a:gd name="textAreaRight" fmla="*/ 1233000 w 1451160"/>
                <a:gd name="textAreaTop" fmla="*/ 61200 h 407880"/>
                <a:gd name="textAreaBottom" fmla="*/ 346680 h 40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ea0b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00"/>
                  </a:solidFill>
                  <a:latin typeface="Tahoma"/>
                </a:rPr>
                <a:t>JISTOTA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zaměstnání, zabezpečení ve stáří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_s1032"/>
            <p:cNvSpPr/>
            <p:nvPr/>
          </p:nvSpPr>
          <p:spPr>
            <a:xfrm flipV="1">
              <a:off x="3900240" y="5884560"/>
              <a:ext cx="1812960" cy="407880"/>
            </a:xfrm>
            <a:custGeom>
              <a:avLst/>
              <a:gdLst>
                <a:gd name="textAreaLeft" fmla="*/ 247320 w 1812960"/>
                <a:gd name="textAreaRight" fmla="*/ 1565640 w 1812960"/>
                <a:gd name="textAreaTop" fmla="*/ 55440 h 407880"/>
                <a:gd name="textAreaBottom" fmla="*/ 352440 h 40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6ea0b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00"/>
                  </a:solidFill>
                  <a:latin typeface="Tahoma"/>
                </a:rPr>
                <a:t>BIOLOGICKÉ POTŘEBY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jídlo, pití, spánek, oblečení, bydlení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cccc"/>
                </a:solidFill>
                <a:latin typeface="Franklin Gothic Book"/>
              </a:rPr>
              <a:t>ZÁKLADNÍ EKONOMICKÉ POJMY II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Arial"/>
              </a:rPr>
              <a:t>Uspokojování potře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třeby jsou uspokojovány prostřednictví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Stat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Služ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3:33:24Z</dcterms:created>
  <dc:creator>Monika</dc:creator>
  <dc:description/>
  <dc:language>en-US</dc:language>
  <cp:lastModifiedBy>Berka</cp:lastModifiedBy>
  <dcterms:modified xsi:type="dcterms:W3CDTF">2014-02-26T07:38:06Z</dcterms:modified>
  <cp:revision>42</cp:revision>
  <dc:subject/>
  <dc:title>EKONOMIKA PODNIKU</dc:title>
</cp:coreProperties>
</file>