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1391-962A-4459-80D8-D82E942B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3BE-78E2-41F5-B4D2-FF011360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E39485-B805-4CBD-9F35-1F9444C1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DEFC90-6D05-47A3-8F86-2106F341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6E5D5F-16C8-45F4-A473-6FFB5BF2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888456-9AA2-425B-BACA-60EE858D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0E5FDC-A3B9-421B-9394-DDB3F10B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06F300-2A3B-4AEC-BB33-0F62781F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A76473-09DC-4EFD-909D-76DF53B1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499C3A-45E1-4009-AC3B-A842ABCE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82D6FE-90D3-44F4-8AC7-B14207C6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7FB-E8D9-4D65-A488-1CA0AB24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02D2-6744-4014-8394-9646919E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85B38-2376-48DD-8876-E0317F9A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4C498-4094-4050-AA37-ECE0A19E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2109D-DB97-4C06-9EFC-30A10683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F65F2-E6D1-460C-9889-9082EAD7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73B37-7A68-4E2B-9C7E-3DA4F2F9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43627-38FD-4FDB-B31E-9D2B6D00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E1916-D088-47EA-A4F2-DB319E94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BC0E-B9CB-4DF7-A645-C2F8A362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FB710-6FBA-4F22-AF73-31C90F9B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145BA-914B-41B7-8C36-923F6142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BF482-BE0B-4B72-90FF-0295EDC3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76A3F-B388-4DE8-8F56-CDE9339C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B4F6D-E92C-4B4E-BD42-ADC63074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43D05-98EF-4A12-A7D3-987E52FE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7EC39-ECF1-427D-B056-8C52046E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EB5FA-9784-4964-B560-CD84EE0A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47931-0EFD-4765-8B01-7E2FCDD6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04E8E-F10A-4B1B-BCB5-CA8B69E7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2DA-1CF8-42ED-B7F2-492099B0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4C206-22B0-4BBB-AFDE-7828A0CE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8442B-B51B-4B66-BB2F-379302F7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A7193-5F46-4018-BE2F-FCBE3248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B2F92-DD78-468F-83A1-CBA3AA6C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43C11-1A73-40C6-AEF2-EBFF6684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51B46-EEF8-4E2E-A528-8097C9BD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1A5B2-15EE-4B68-A6CE-0716E3C1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0BC64F-1A49-4BDA-B984-A7B8E818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A4291B-3B73-43DB-BD91-BA6125FD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301E7F-377C-42A7-B1FA-D8C4D3C7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1D5-047B-4829-A0EF-DCA7DFA8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B1C0CF-3070-4563-B135-E487CE00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EC642E-D74A-4DFC-A714-A31285E3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A23D13-F1E9-4479-BC0A-B2F7C5FE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B6A9AB-C211-4BC5-8390-37C0FDBA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2504F6-BF20-4E57-8AEA-59E43489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FD768E-FB36-4EBD-A87B-B769E6DA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70A224-E03C-407D-A71B-B3E157D0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CB9C08-6CE3-44AC-8FEB-A79B7080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6E7ECE-5BFB-4D7A-BDFB-182972D1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B0DB6-F8F7-4E5F-954D-0081BC54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D3FD-179B-4C70-BF41-B50EEAA6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92CFE-40BE-42A5-A094-A9DB47F8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ED4C0-BF0E-4182-BD7A-2CCAAEFA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5B2CF-D96D-46B5-A834-713DD4F9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61235-96C9-4A13-93F2-E192FC38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01B9C-C9FD-44CE-A7E2-A1CCE154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1A16F-82ED-4FF4-A70A-E2772421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950F3-3D16-4DD2-B431-03D5D852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2A24D-8E60-4D09-92D1-87C834C6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1E89F-BD3A-4E32-9C30-1992A3F6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5AC6A-D59D-406E-890C-25BEA9FD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714F-CDDD-4B3B-888E-7F64DB2B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88312-C84C-4955-9FC7-4D8C8D85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1740F-23E3-4B54-B842-E10F8CB8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9B9D1-6BCD-4DB0-9AF7-C1BD7D04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E8624-305E-459E-8B2F-AE8FB2D5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E4554-2777-4C63-B3B0-7EF87B7D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FD88F-855F-49C8-817A-1D4D759C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CE9D3-09E8-481F-93E2-B0F041D1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886C9-5A98-4102-BDC6-4557663B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17DE7-7BDD-4E3A-AEF4-89D89713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003FF-3943-4A72-968A-01D202EE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2A80-11CA-4FF7-AE39-1B918BCF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951F8-3B03-43CB-882C-41292E8B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C3AB3-2A7A-4C93-9798-8C87DB63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B3C5B-EA6C-439F-9533-9312CB3F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1A597-35D6-42FB-8E7C-373983A5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2CDDC-DF5F-4101-9C89-BFD2584C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41F22-013D-44D7-94DF-41621017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296F2-20C2-4666-8C65-8D5EA51C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93007-E2D5-454E-AC5F-742FE851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85608-D8D3-4334-9F0A-990C71CF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6C381-1367-4952-834F-65EA8C41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C96F-FB91-4C27-8E2E-EF80AE4C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396B5-B944-4CB0-B5E6-97692D65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85ECD-47BD-4FF3-9FAD-70A52C57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4A3DE-ADAC-4EDE-9616-B1AB150B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8A1FB-02AA-4212-8032-9EBBF7EF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CDB69-4F5A-4F44-ABFF-16482A3B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3339C7-31BD-43EF-BA91-1934D86C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B9D22F-7ADD-49D7-9336-09807558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E46CCD-4037-4910-97CB-6B3F3968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7402EB-6566-466F-BF25-B405706C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29F8EF-B5CE-45BF-A67A-93502A5F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9448-C015-4AD2-B104-6D59D64E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2E4038-E172-4AEF-ACE0-5A4F8A78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326DC0-A247-482C-B7FF-9BEAF815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8C25F3-4BDE-40EB-88C3-224E7782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FB5E5A-CD8E-4D33-AD05-AA96A1DD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33ED00-CD98-4874-AE10-3FBDE233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C3B11B-FF8E-4987-A161-E0DF68F6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4EFEE0-471D-488F-ACF4-1BC79CFF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060D55-6941-4A8A-8FC4-E1438535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D2A8B5-DE07-4A3B-BEA7-0210F5B0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FBC6B9-5D06-45D0-8F52-3A9540AA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délník se zakulaceným příčným rohem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Obdélník se zakulaceným příčným rohem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74C8-227A-4817-ABA5-0AB9E3B576C9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bdélník se zakulaceným příčným rohem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Obdélník se zakulaceným příčným rohem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8903-D78F-49BF-ADA1-2D9511AFC89B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Obdélník se zakulaceným příčným rohem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Obdélník se zakulaceným příčným rohem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Obdélní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3BD7-517B-4316-87E6-4CB140ED9340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délní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DEAD-EE71-4970-A9CD-FBB85EAD5253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bdélník se zakulaceným příčným rohem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Obdélník se zakulaceným příčným rohem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Obdélní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5780-EACC-466B-8549-E311C896F761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Obdélník se zakulaceným příčným rohem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Obdélník se zakulaceným příčným rohem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Obdélní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bdélní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AF5A-2129-4BEE-B1A3-980B27C26118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Obdélník se zakulaceným příčným rohem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Obdélník se zakulaceným příčným rohem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Obdélní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F8D8-29F7-4CAF-8294-9C13DFF78D58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4781-2901-45D1-ABAF-FA19EC408689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B262-6EAA-467E-B376-6F57F294B3F0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Nadpis 1" descr=""/>
          <p:cNvPicPr/>
          <p:nvPr/>
        </p:nvPicPr>
        <p:blipFill>
          <a:blip r:embed="rId1"/>
          <a:stretch/>
        </p:blipFill>
        <p:spPr>
          <a:xfrm>
            <a:off x="676440" y="3498840"/>
            <a:ext cx="7785000" cy="26272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76440" y="2349000"/>
            <a:ext cx="7783200" cy="129564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Rockwell"/>
              </a:rPr>
              <a:t>VY_32_INOVACE_069_Ekonomik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6" name="Obrázek 3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4507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Druhy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5. Podle vztahu k státnímu rozpočtu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Hospodářské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– mají příjmy, výdaje, výnosy a náklady, zisk, odvod daní do státního rozpočtu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Rozpočtové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– nemají příjmy ani výnosy, výdaje a náklady se hradí ze státního rozpočtu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Příspěvkové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– mají menší příjmy, výnosy, ze státního rozpočtu dostávají příspěvek k uhrazení nákladů a výdaji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Rockwell"/>
              </a:rPr>
              <a:t>Druhy podniku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0000"/>
                </a:solidFill>
                <a:latin typeface="Rockwell"/>
              </a:rPr>
              <a:t>6. Podle velikosti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– podle počtu pracovníků, objemu výkonů, velikosti majetku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cc00"/>
                </a:solidFill>
                <a:latin typeface="Rockwell"/>
              </a:rPr>
              <a:t>nejmenší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– do 10 zaměstnanců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cc00"/>
                </a:solidFill>
                <a:latin typeface="Rockwell"/>
              </a:rPr>
              <a:t>malé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– do 50 zaměstnanců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cc00"/>
                </a:solidFill>
                <a:latin typeface="Rockwell"/>
              </a:rPr>
              <a:t>střední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– do 500 zaměstnanců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cc00"/>
                </a:solidFill>
                <a:latin typeface="Rockwell"/>
              </a:rPr>
              <a:t>velké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– nad 500 zaměstnanců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7200" y="190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Rockwell"/>
              </a:rPr>
              <a:t>Druhy podniku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Malé a střední podniky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pružně reagují na změny na trhu,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vlastní je jedna nebo více osob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(partnerství) – možnost většího kapitálu, vzájemné doplňování, zastupování, riziko ručení a více osob, nebezpečí vzniku konfliktů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Velké podniky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-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hrají v některých odvětvích nezastupitelnou roli (těžební, energetika, strojírenství), vlastnictví více osob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Nadpis 1" descr=""/>
          <p:cNvPicPr/>
          <p:nvPr/>
        </p:nvPicPr>
        <p:blipFill>
          <a:blip r:embed="rId1"/>
          <a:stretch/>
        </p:blipFill>
        <p:spPr>
          <a:xfrm>
            <a:off x="438120" y="6480"/>
            <a:ext cx="8229600" cy="11458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Rockwell"/>
              </a:rPr>
              <a:t>Použitá literatura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Rockwell"/>
              </a:rPr>
              <a:t>Ekonomika 1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3. vyd. Praha: Eduko nakladatelství, s. r. o., 2010, 152 s. ISBN 978-80-87204-24-5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Nadpis 1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296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"/>
          <p:cNvGraphicFramePr/>
          <p:nvPr/>
        </p:nvGraphicFramePr>
        <p:xfrm>
          <a:off x="457200" y="1566720"/>
          <a:ext cx="8229600" cy="50990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Rockwell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Rockwell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72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3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Podnik 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VY_32_INOVACE_069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2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64-41-L/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2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prv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13. 12. 2013,  16. 12. 201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Materiál slouží k získání znalostí o podniku, samostatnosti podniku a druzích podniku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3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4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6840" y="16462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Rockwell"/>
              </a:rPr>
              <a:t>Podnik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Rockwell"/>
              </a:rPr>
              <a:t>Samostatnost podniku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Rockwell"/>
              </a:rPr>
              <a:t>Druhy podniku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cc00"/>
                </a:solidFill>
                <a:latin typeface="Rockwell"/>
              </a:rPr>
              <a:t>1. ročník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4446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4592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Rockwell"/>
              </a:rPr>
              <a:t>Podnik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Je právní celek vytvořený předepsaným způsobe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Je tvořen z </a:t>
            </a:r>
            <a:r>
              <a:rPr b="0" lang="cs-CZ" sz="3200" spc="-1" strike="noStrike">
                <a:solidFill>
                  <a:srgbClr val="ffcc00"/>
                </a:solidFill>
                <a:latin typeface="Rockwell"/>
              </a:rPr>
              <a:t>lidí, hmotného, nehmotného a finančního majet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Založený proto, aby </a:t>
            </a:r>
            <a:r>
              <a:rPr b="0" i="1" lang="cs-CZ" sz="3200" spc="-1" strike="noStrike">
                <a:solidFill>
                  <a:srgbClr val="cc0000"/>
                </a:solidFill>
                <a:latin typeface="Rockwell"/>
              </a:rPr>
              <a:t>produkoval a prodával své výkony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(výrobky, zboží, služby) a svým vlastníků </a:t>
            </a:r>
            <a:r>
              <a:rPr b="0" i="1" lang="cs-CZ" sz="3200" spc="-1" strike="noStrike">
                <a:solidFill>
                  <a:srgbClr val="cc0000"/>
                </a:solidFill>
                <a:latin typeface="Rockwell"/>
              </a:rPr>
              <a:t>zhodnocoval kapitál dosahováním zis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92120" y="148428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78520" indent="-578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Rockwell"/>
            </a:endParaRPr>
          </a:p>
          <a:p>
            <a:pPr marL="578520" indent="-578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c000"/>
                </a:solidFill>
                <a:latin typeface="Rockwell"/>
              </a:rPr>
              <a:t>Samostatnost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578520" indent="-578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578520" indent="-578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Rockwell"/>
              </a:rPr>
              <a:t>1. </a:t>
            </a:r>
            <a:r>
              <a:rPr b="0" lang="cs-CZ" sz="20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cs-CZ" sz="2800" spc="-1" strike="noStrike">
                <a:solidFill>
                  <a:srgbClr val="ff0000"/>
                </a:solidFill>
                <a:latin typeface="Rockwell"/>
              </a:rPr>
              <a:t>Právní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78520" indent="-57852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c000"/>
                </a:solidFill>
                <a:latin typeface="Rockwell"/>
              </a:rPr>
              <a:t>právní způsobilost</a:t>
            </a:r>
            <a:r>
              <a:rPr b="0" lang="cs-CZ" sz="2800" spc="-1" strike="noStrike">
                <a:solidFill>
                  <a:srgbClr val="ffc000"/>
                </a:solidFill>
                <a:latin typeface="Rockwel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– může zakládat, měnit a rušit vztahy k jiným organizacím a lidem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78520" indent="-57852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při uskutečňování své činnosti jedná v rámci zákonných předpisů a to </a:t>
            </a:r>
            <a:r>
              <a:rPr b="0" i="1" lang="cs-CZ" sz="2800" spc="-1" strike="noStrike">
                <a:solidFill>
                  <a:srgbClr val="ffc000"/>
                </a:solidFill>
                <a:latin typeface="Rockwell"/>
              </a:rPr>
              <a:t>samostatně a svým jménem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78520" indent="-57852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578520" indent="-578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Rockwell"/>
              </a:rPr>
              <a:t>2.    Ekonomická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78520" indent="-57852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c000"/>
                </a:solidFill>
                <a:latin typeface="Rockwell"/>
              </a:rPr>
              <a:t>hospodaří s majetkem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78520" indent="-57852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o hospodaření je </a:t>
            </a:r>
            <a:r>
              <a:rPr b="0" i="1" lang="cs-CZ" sz="2800" spc="-1" strike="noStrike">
                <a:solidFill>
                  <a:srgbClr val="ffc000"/>
                </a:solidFill>
                <a:latin typeface="Rockwell"/>
              </a:rPr>
              <a:t>povinen vést</a:t>
            </a:r>
            <a:r>
              <a:rPr b="0" lang="cs-CZ" sz="2800" spc="-1" strike="noStrike">
                <a:solidFill>
                  <a:srgbClr val="ffc000"/>
                </a:solidFill>
                <a:latin typeface="Rockwell"/>
              </a:rPr>
              <a:t> </a:t>
            </a:r>
            <a:r>
              <a:rPr b="0" i="1" lang="cs-CZ" sz="2800" spc="-1" strike="noStrike">
                <a:solidFill>
                  <a:srgbClr val="ffc000"/>
                </a:solidFill>
                <a:latin typeface="Rockwell"/>
              </a:rPr>
              <a:t>účetnictví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78520" indent="-57852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po odvodu daní státu podnik </a:t>
            </a:r>
            <a:r>
              <a:rPr b="0" i="1" lang="cs-CZ" sz="2800" spc="-1" strike="noStrike">
                <a:solidFill>
                  <a:srgbClr val="ffc000"/>
                </a:solidFill>
                <a:latin typeface="Rockwell"/>
              </a:rPr>
              <a:t>používá čistý zisk a hospodaří na vlastní úče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78520" indent="-578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3967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1904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Rockwell"/>
              </a:rPr>
              <a:t>Druhy podniku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0000"/>
                </a:solidFill>
                <a:latin typeface="Rockwell"/>
              </a:rPr>
              <a:t>1.   Podle druhu činnosti (výkonů)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Obchodní, výrobní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Dopravní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Zpracovatelské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590400" indent="-59040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Těžební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426960" y="36360"/>
            <a:ext cx="8229600" cy="11401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592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Druhy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0000"/>
                </a:solidFill>
                <a:latin typeface="Rockwell"/>
              </a:rPr>
              <a:t>2. Podle forem vlastnictví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Soukromé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Družstevní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Státní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Církevní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Politické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Nadac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Zájmová sdružení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396720" y="-9684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Druhy podnik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0000"/>
                </a:solidFill>
                <a:latin typeface="Rockwell"/>
              </a:rPr>
              <a:t>3. Podle zaměření a způsobu hospodaření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cc00"/>
                </a:solidFill>
                <a:latin typeface="Rockwell"/>
              </a:rPr>
              <a:t>Ziskové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– </a:t>
            </a:r>
            <a:r>
              <a:rPr b="0" i="1" lang="cs-CZ" sz="3200" spc="-1" strike="noStrike">
                <a:solidFill>
                  <a:srgbClr val="cc0000"/>
                </a:solidFill>
                <a:latin typeface="Rockwell"/>
              </a:rPr>
              <a:t>výdělečné, finančně nezávislé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(ze svých výnosů kryjí náklady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cc00"/>
                </a:solidFill>
                <a:latin typeface="Rockwell"/>
              </a:rPr>
              <a:t>Neziskové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– </a:t>
            </a:r>
            <a:r>
              <a:rPr b="0" i="1" lang="cs-CZ" sz="3200" spc="-1" strike="noStrike">
                <a:solidFill>
                  <a:srgbClr val="cc0000"/>
                </a:solidFill>
                <a:latin typeface="Rockwell"/>
              </a:rPr>
              <a:t>nevýdělečné, finančně závislé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(není schopen ze svých výnosů krýt náklady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3967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Rockwell"/>
              </a:rPr>
              <a:t>Druhy podniku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500" spc="-1" strike="noStrike">
                <a:solidFill>
                  <a:srgbClr val="cc0000"/>
                </a:solidFill>
                <a:latin typeface="Rockwell"/>
              </a:rPr>
              <a:t>4. Podle druhu kapitálu: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Podniky s převahou vlastního kapitál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Podniky s převahou cizího, zahraničního kapitálu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2:37:15Z</dcterms:created>
  <dc:creator>Monika</dc:creator>
  <dc:description/>
  <dc:language>en-US</dc:language>
  <cp:lastModifiedBy>Berka</cp:lastModifiedBy>
  <dcterms:modified xsi:type="dcterms:W3CDTF">2014-02-26T07:48:01Z</dcterms:modified>
  <cp:revision>54</cp:revision>
  <dc:subject/>
  <dc:title>PODNIK A PODNIKÁNÍ</dc:title>
</cp:coreProperties>
</file>