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D72D-0CC9-4E89-A759-F59ADA81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FA8B-EBF2-4D0C-9A5D-DCF1D810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53102A-FC9A-4160-B147-5A030454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309CFA-D572-442E-AE5D-A1316D3B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EC3D5B-5614-4BDF-8243-C6252F98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E600AE-2ADA-4C68-BF30-EEC0AC9A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4FB0EA-BF88-4FDC-9D27-74CD8CBD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27C14E-CF20-452F-83D1-6B704AFB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F36A42-8649-47B9-8913-C4E75DE7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AEA033-75FC-4022-93F6-76FD38BAA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414434-E6E7-4091-B335-7F0C871A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6D96-87AF-4820-B4C3-055D9F7C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4425-DF0A-41BC-A85C-F77A582A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8C060-5D11-4B6D-9BC9-A3A6FED6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67A18-70B3-4A5C-B174-B9E2EA96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AE3FE-FB05-4C98-9775-DEF03210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1F348-B980-48FD-A610-F4E96210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BC520-F741-4C86-A18E-A5BC9B87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22879-F522-4CBC-A232-4B63F353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90EE9-561F-43FE-8D61-3CA10D6C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5263-6C3C-4C02-9F04-424CE82B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1C003-ED09-4E51-93EE-4B0E4EF4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01077-371E-4BE8-98AC-E693A33B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5C091-9F7E-4DFF-83BE-FB034E83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E3B37-2716-43A8-8C09-F68207CD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D2F60-6EBF-4E9E-BBDF-28A65F88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43F9A-4355-48C1-86AC-EE99BC2F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E7C54-215C-44DE-9C11-CD480033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C04F7-5061-4F54-A474-01800BCD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D831D-30B6-4EB6-B965-4322A6F4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2F8B5-282E-4DCF-BCE4-5029E265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E3F4-19B7-4D06-B7D6-17524C5F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20641-BC9D-4E34-8514-214CFBA9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10D69-15E3-46B3-84ED-C70D1003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8F03C-9867-4E36-A4F8-624491D8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FA385-297A-4D91-834C-82E98768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2ABAD-CC3A-4949-AEB8-4EB6C675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822C5-7A26-4E14-A279-B1D0C0B2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37C5B-355D-4378-BE91-788A6E8E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1B6F38-E218-4601-9E2A-F1CDF64C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C67A14-EC8D-43FC-8CA0-6A658AFC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DFB8CA-9C83-41BD-B57F-6069150C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23EA-CE44-41ED-B91A-4A929E1B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7EEA86-7924-4669-96D8-40DA4DC7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352882-083D-47DF-84AD-D73C1A47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457FF0-047E-48A7-B453-E3407A51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D55A94-295F-4494-97F3-8E560A3D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4495AE-873A-445C-A2DA-FE275290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CC7FCF-19DE-4B8F-85A4-E3F602AB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5AE283-A55B-43A2-815C-18C97780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409942-92C9-43B9-AF06-6DEEB1513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395AB0-E226-4468-AE61-960E606D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C106F-DB38-42CC-AFDB-4BA9EBB2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D00D-4021-4B54-AFF6-A2330C2F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0CDBF-D757-43F3-98CC-C4379722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B184B-61E2-4E06-849C-84957E63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3F395-7159-419E-A23E-4BED6855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58B17-504D-4D97-8AC2-A58E1C39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186F6-8367-4056-9E34-644529A2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72DE0-258D-4541-B9EB-7585F593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5B2FB-6756-4DAD-8E1F-CFBED762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9B617-5E63-488D-8D50-92991D85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DBF91-8C84-4251-B0AF-D6D55C32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42A90-4F1C-4FE3-9A5B-CAAD7BD01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8210-FE41-4AC1-ADED-9A33A8B1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D14A3-9B58-46CC-85A9-BC776E59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857FF-E07D-4AEE-8B7F-FC92DB03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80149-F8BE-497F-BCF4-AD0AA124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D0469-D7C9-4FCC-B0BF-D2673293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A6884-4E19-4F7B-9505-A63A04EE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26EF3-27B7-4A32-BCAA-5D44BE0F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EB3D1-48D0-4615-A7E3-6DC9CA14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8045E-E9FD-414A-9187-E8EB96E7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F7640-E7B1-4F0B-A833-4822ABCB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BD7EC-7DA4-46C9-861C-F2675A33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B765-3274-4C2B-BBBB-C5F763EA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5232A-9B4B-440C-AA2B-C9CC7150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89FD2-6BA2-4200-9B34-992AF38A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0C74F-2EA3-4436-B1AC-F19EA06B4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6C069-EB38-4936-A300-F81F42AF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67040-240E-4ACA-8566-705C8325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742C4-BD84-448B-8CE2-EB8898D2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65D79-5DCF-4E80-B473-FB33C9D1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19D7C-D4F4-4889-A9E5-9E9E9641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E3773-3DE4-4E41-AB9E-CD476A9D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83992-A653-49C2-942B-0BBE01E9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CA61-BA05-4932-8D84-AA6A51A7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B942F-D0D7-4494-85DC-4847CC84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25A4F-3BBF-4999-970B-C6D189F7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A71E0-1417-4D5F-8FC8-0C8B4D4E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43D2E-1AF6-4565-A0C8-7CDF8A64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6DBD8-55C3-4408-9963-3E4E34A54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E9AD95-42EE-46A8-BB9B-DF0EAF64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F9FF83-E506-4CFD-A96E-222C8F38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A30AC1-50F4-4AC6-A70F-3080F5B4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0CF1E7-0A3A-4EBA-99DD-FC430B31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7E278F-C962-4A20-AF1B-22003442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42D2-1E46-421E-B15A-26F9F6A5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9FC3A8-71C1-4943-97EA-F18BDD94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79AA7C-CC84-4F14-8E8E-CDAC5A83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200B2B-9A71-4507-B3FC-48E5034A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852D29-743A-4B46-BB9F-70CBC9C2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A0D862-BC86-4BD5-ACEC-2BD3438F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6886FD-CF01-4EC2-9FE5-21FCCA09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B26864-AC56-4F05-93A8-6263AEEFF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523E18-80D6-4F27-9842-3889A6798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B256CB-2606-4201-A287-5651A2E7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B2A394-FDBA-4D22-A09B-52DB6AF5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bdélník se zakulaceným příčným rohem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Obdélník se zakulaceným příčným rohem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2DE0-7BE5-4A5B-B171-B706308FF337}" type="slidenum">
              <a:rPr b="0" lang="cs-C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Obdélník se zakulaceným příčným rohem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Obdélník se zakulaceným příčným rohem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9430-2B2A-4164-8AA4-73BBC8DE754B}" type="slidenum">
              <a:rPr b="0" lang="cs-C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Obdélník se zakulaceným příčným rohem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Obdélník se zakulaceným příčným rohem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Obdélní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1251-C1F7-4279-940F-6D3E6C554190}" type="slidenum">
              <a:rPr b="0" lang="cs-C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Obdélník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E8E6-2D33-4B20-B534-512E8947BE1A}" type="slidenum">
              <a:rPr b="0" lang="cs-C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bdélník se zakulaceným příčným rohem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Obdélník se zakulaceným příčným rohem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Obdélní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4B64-3615-4FA0-8A58-4A80152BB791}" type="slidenum">
              <a:rPr b="0" lang="cs-C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Obdélník se zakulaceným příčným rohem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Obdélník se zakulaceným příčným rohem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Obdélník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bdélník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24EC-91CD-43C2-9D25-D9EEE55F0DCE}" type="slidenum">
              <a:rPr b="0" lang="cs-C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Obdélník se zakulaceným příčným rohem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Obdélník se zakulaceným příčným rohem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Obdélní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071F-4BBE-4C72-BA33-F317AA042AD9}" type="slidenum">
              <a:rPr b="0" lang="cs-C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2E84-90D1-43A6-8460-A40E1F889F5F}" type="slidenum">
              <a:rPr b="0" lang="cs-C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DC80-9D1C-47CB-B4B2-38A33B052603}" type="slidenum">
              <a:rPr b="0" lang="cs-C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Nadpis 1" descr=""/>
          <p:cNvPicPr/>
          <p:nvPr/>
        </p:nvPicPr>
        <p:blipFill>
          <a:blip r:embed="rId1"/>
          <a:stretch/>
        </p:blipFill>
        <p:spPr>
          <a:xfrm>
            <a:off x="463680" y="3432240"/>
            <a:ext cx="8229600" cy="270648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63680" y="2819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Rockwell"/>
              </a:rPr>
              <a:t>VY_32_INOVACE_071_Ekonomika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396" name="Obrázek 3" descr=""/>
          <p:cNvPicPr/>
          <p:nvPr/>
        </p:nvPicPr>
        <p:blipFill>
          <a:blip r:embed="rId2"/>
          <a:stretch/>
        </p:blipFill>
        <p:spPr>
          <a:xfrm>
            <a:off x="1536840" y="547560"/>
            <a:ext cx="6083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Nadpis 1" descr=""/>
          <p:cNvPicPr/>
          <p:nvPr/>
        </p:nvPicPr>
        <p:blipFill>
          <a:blip r:embed="rId1"/>
          <a:stretch/>
        </p:blipFill>
        <p:spPr>
          <a:xfrm>
            <a:off x="43344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cc00"/>
                </a:solidFill>
                <a:latin typeface="Rockwell"/>
              </a:rPr>
              <a:t>Obchodní firma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0000"/>
                </a:solidFill>
                <a:latin typeface="Rockwell"/>
              </a:rPr>
              <a:t>1. Obchodní firma – jednotlivec (FO)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90000"/>
              </a:lnSpc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9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Rockwell"/>
              </a:rPr>
              <a:t>Jméno: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9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cc0000"/>
                </a:solidFill>
                <a:latin typeface="Rockwell"/>
              </a:rPr>
              <a:t>jméno + příjmení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(Jan Novák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9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cc0000"/>
                </a:solidFill>
                <a:latin typeface="Rockwell"/>
              </a:rPr>
              <a:t>jméno + dodatek osobní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(Jan Novák a syn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9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cc0000"/>
                </a:solidFill>
                <a:latin typeface="Rockwell"/>
              </a:rPr>
              <a:t>jméno + dodatek věcný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(Jan Novák, obchodník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9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cc0000"/>
                </a:solidFill>
                <a:latin typeface="Rockwell"/>
              </a:rPr>
              <a:t>jméno + místo podnikání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(Jan Novák, Mohelnice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9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cc0000"/>
                </a:solidFill>
                <a:latin typeface="Rockwell"/>
              </a:rPr>
              <a:t>jméno + kombinace</a:t>
            </a:r>
            <a:r>
              <a:rPr b="0" i="1" lang="cs-CZ" sz="2400" spc="-1" strike="noStrike">
                <a:solidFill>
                  <a:srgbClr val="cc0000"/>
                </a:solidFill>
                <a:latin typeface="Rockwell"/>
              </a:rPr>
              <a:t>	</a:t>
            </a:r>
            <a:r>
              <a:rPr b="0" i="1" lang="cs-CZ" sz="2400" spc="-1" strike="noStrike">
                <a:solidFill>
                  <a:srgbClr val="cc0000"/>
                </a:solidFill>
                <a:latin typeface="Rockwel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(Jan Novák a syn, 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Mohelnice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Nadpis 1" descr=""/>
          <p:cNvPicPr/>
          <p:nvPr/>
        </p:nvPicPr>
        <p:blipFill>
          <a:blip r:embed="rId1"/>
          <a:stretch/>
        </p:blipFill>
        <p:spPr>
          <a:xfrm>
            <a:off x="457200" y="4284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cc00"/>
                </a:solidFill>
                <a:latin typeface="Rockwell"/>
              </a:rPr>
              <a:t>Obchodní firma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cc0000"/>
                </a:solidFill>
                <a:latin typeface="Rockwell"/>
              </a:rPr>
              <a:t>2. Obchodní firma – PO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Rockwell"/>
              </a:rPr>
              <a:t> </a:t>
            </a:r>
            <a:r>
              <a:rPr b="0" lang="cs-CZ" sz="3200" spc="-1" strike="noStrike">
                <a:solidFill>
                  <a:srgbClr val="ffcc00"/>
                </a:solidFill>
                <a:latin typeface="Rockwell"/>
              </a:rPr>
              <a:t>Název obchodní firmy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 je zapsán v OR 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+ dodatek, který označuje jeho </a:t>
            </a:r>
            <a:r>
              <a:rPr b="0" lang="cs-CZ" sz="3200" spc="-1" strike="noStrike">
                <a:solidFill>
                  <a:srgbClr val="ffcc00"/>
                </a:solidFill>
                <a:latin typeface="Rockwell"/>
              </a:rPr>
              <a:t>právní formu podnikání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 (Palomo, a. s.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Nadpis 1" descr=""/>
          <p:cNvPicPr/>
          <p:nvPr/>
        </p:nvPicPr>
        <p:blipFill>
          <a:blip r:embed="rId1"/>
          <a:stretch/>
        </p:blipFill>
        <p:spPr>
          <a:xfrm>
            <a:off x="457200" y="4284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00"/>
                </a:solidFill>
                <a:latin typeface="Rockwell"/>
              </a:rPr>
              <a:t>Podnikatelský záměr (plán)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Rockwell"/>
              </a:rPr>
              <a:t>Definuje a kvantifikuje podnikatelské cíle a strategii zvolenou k jejich dosažení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000"/>
                </a:solidFill>
                <a:latin typeface="Rockwell"/>
              </a:rPr>
              <a:t>Cílem</a:t>
            </a:r>
            <a:r>
              <a:rPr b="1" i="1" lang="cs-CZ" sz="2400" spc="-1" strike="noStrike">
                <a:solidFill>
                  <a:srgbClr val="ffc000"/>
                </a:solidFill>
                <a:latin typeface="Rockwell"/>
              </a:rPr>
              <a:t> </a:t>
            </a:r>
            <a:r>
              <a:rPr b="0" lang="cs-CZ" sz="2400" spc="-1" strike="noStrike">
                <a:solidFill>
                  <a:srgbClr val="ffc000"/>
                </a:solidFill>
                <a:latin typeface="Rockwell"/>
              </a:rPr>
              <a:t>podnikatelského záměru je odhalení slabin a silných stránek budoucího podnikání, tzn.: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Rockwell"/>
              </a:rPr>
              <a:t>- </a:t>
            </a:r>
            <a:r>
              <a:rPr b="1" lang="cs-CZ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vymezení produktu, který budeme vyrábět a 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nabízet, </a:t>
            </a:r>
            <a:r>
              <a:rPr b="1" lang="cs-CZ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Rockwell"/>
              </a:rPr>
              <a:t>- </a:t>
            </a:r>
            <a:r>
              <a:rPr b="1" lang="cs-CZ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vymezení trhu a okruhu zákazníků,</a:t>
            </a:r>
            <a:r>
              <a:rPr b="1" lang="cs-CZ" sz="2400" spc="-1" strike="noStrike">
                <a:solidFill>
                  <a:srgbClr val="ffffff"/>
                </a:solidFill>
                <a:latin typeface="Rockwell"/>
              </a:rPr>
              <a:t> 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Rockwell"/>
              </a:rPr>
              <a:t>- </a:t>
            </a:r>
            <a:r>
              <a:rPr b="1" lang="cs-CZ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zmapování konkurence,</a:t>
            </a:r>
            <a:r>
              <a:rPr b="1" lang="cs-CZ" sz="2400" spc="-1" strike="noStrike">
                <a:solidFill>
                  <a:srgbClr val="ffffff"/>
                </a:solidFill>
                <a:latin typeface="Rockwell"/>
              </a:rPr>
              <a:t> 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Rockwell"/>
              </a:rPr>
              <a:t>- </a:t>
            </a:r>
            <a:r>
              <a:rPr b="1" lang="cs-CZ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zvážení kapitálové náročnosti podnikání a způsobů 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jeho financování,</a:t>
            </a:r>
            <a:r>
              <a:rPr b="1" lang="cs-CZ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musí být doplněn finančním 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plánem, východiskem je identifikování zdrojů 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(vstupů), potřebných pro zahájení podnikání, 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včetně jejich potřeby a dostupnosti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Nadpis 1" descr=""/>
          <p:cNvPicPr/>
          <p:nvPr/>
        </p:nvPicPr>
        <p:blipFill>
          <a:blip r:embed="rId1"/>
          <a:stretch/>
        </p:blipFill>
        <p:spPr>
          <a:xfrm>
            <a:off x="433440" y="4284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57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Rockwell"/>
              </a:rPr>
              <a:t>Podnikatelský záměr (plán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0000"/>
                </a:solidFill>
                <a:latin typeface="Rockwell"/>
              </a:rPr>
              <a:t>Otázky, na které si musí podnikatel odpovědět:</a:t>
            </a:r>
            <a:r>
              <a:rPr b="1" i="1" lang="cs-CZ" sz="2400" spc="-1" strike="noStrike">
                <a:solidFill>
                  <a:srgbClr val="990000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předpokládaný rozsah produkce a výrobní kapacita,</a:t>
            </a:r>
            <a:r>
              <a:rPr b="1" i="1" lang="cs-CZ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množství materiálních vstupů, výrobní prostory, dlouhodobý majetek (stroje –výrobní kapacita, vč. speciálních potřeb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Rockwell"/>
              </a:rPr>
              <a:t>velikost 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kapitálu na startu a při zahájení provozu,</a:t>
            </a:r>
            <a:r>
              <a:rPr b="1" i="1" lang="cs-CZ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jak získat kapitál a za jakých podmínek,</a:t>
            </a:r>
            <a:r>
              <a:rPr b="1" i="1" lang="cs-CZ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jaké má podnikatel vlastní finanční možnosti, příp. partnery,</a:t>
            </a:r>
            <a:r>
              <a:rPr b="1" lang="cs-CZ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jaká je kvalita lidského potenciálu, který může být využit,</a:t>
            </a:r>
            <a:r>
              <a:rPr b="1" i="1" lang="cs-CZ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lze očekávat přiměřený finanční výnos?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Nadpis 1" descr=""/>
          <p:cNvPicPr/>
          <p:nvPr/>
        </p:nvPicPr>
        <p:blipFill>
          <a:blip r:embed="rId1"/>
          <a:stretch/>
        </p:blipFill>
        <p:spPr>
          <a:xfrm>
            <a:off x="457200" y="2376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Rockwell"/>
              </a:rPr>
              <a:t>Podnikatelský záměr (plán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Rockwell"/>
              </a:rPr>
              <a:t>Podnikatelský záměr má splňovat tyto požadavky</a:t>
            </a:r>
            <a:r>
              <a:rPr b="1" i="1" lang="cs-CZ" sz="2400" spc="-1" strike="noStrike">
                <a:solidFill>
                  <a:srgbClr val="cc0000"/>
                </a:solidFill>
                <a:latin typeface="Rockwel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být stručný a přehledný,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jednoduchý - nezacházet do technických a technologických detailů,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orientovat se na budoucnost,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být co nejvěrohodnější a realistický,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nebýt příliš optimistický a ani příliš pesimistický,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nezakrývat slabá místa a rizika projektu,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upozornit na konkurenční výhody projektu, silné stránky firmy a kompetenci manažerského týmu,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být zpracován kvalitně i po formální stránce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Nadpis 1" descr=""/>
          <p:cNvPicPr/>
          <p:nvPr/>
        </p:nvPicPr>
        <p:blipFill>
          <a:blip r:embed="rId1"/>
          <a:stretch/>
        </p:blipFill>
        <p:spPr>
          <a:xfrm>
            <a:off x="457200" y="6480"/>
            <a:ext cx="8229600" cy="11458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Rockwell"/>
              </a:rPr>
              <a:t>Podnikatelský záměr (plán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c0000"/>
                </a:solidFill>
                <a:latin typeface="Rockwell"/>
              </a:rPr>
              <a:t>Podnikatelský záměr se skládá ze tří dílčích částí: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c000"/>
                </a:solidFill>
                <a:latin typeface="Rockwell"/>
              </a:rPr>
              <a:t>1. Popisná část </a:t>
            </a:r>
            <a:r>
              <a:rPr b="1" i="1" lang="cs-CZ" sz="2800" spc="-1" strike="noStrike">
                <a:solidFill>
                  <a:srgbClr val="ffffff"/>
                </a:solidFill>
                <a:latin typeface="Rockwell"/>
              </a:rPr>
              <a:t>- 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 uvádí souvislosti, předpoklady a plánované aktivity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c000"/>
                </a:solidFill>
                <a:latin typeface="Rockwell"/>
              </a:rPr>
              <a:t>2. Číselná část </a:t>
            </a:r>
            <a:r>
              <a:rPr b="1" i="1" lang="cs-CZ" sz="2800" spc="-1" strike="noStrike">
                <a:solidFill>
                  <a:srgbClr val="ffffff"/>
                </a:solidFill>
                <a:latin typeface="Rockwell"/>
              </a:rPr>
              <a:t>- 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 dokumentuje účinek předpokladů a aktivit na počet zaměstnanců podniku, obrat, investice, likviditu a zisky, atd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c000"/>
                </a:solidFill>
                <a:latin typeface="Rockwell"/>
              </a:rPr>
              <a:t>3. Příloha </a:t>
            </a:r>
            <a:r>
              <a:rPr b="1" i="1" lang="cs-CZ" sz="2800" spc="-1" strike="noStrike">
                <a:solidFill>
                  <a:srgbClr val="ffffff"/>
                </a:solidFill>
                <a:latin typeface="Rockwell"/>
              </a:rPr>
              <a:t>- 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obsahuje obrázky, grafy, studie trhu, podrobné výpočty, smlouvy a další důležité podklady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Nadpis 1" descr=""/>
          <p:cNvPicPr/>
          <p:nvPr/>
        </p:nvPicPr>
        <p:blipFill>
          <a:blip r:embed="rId1"/>
          <a:stretch/>
        </p:blipFill>
        <p:spPr>
          <a:xfrm>
            <a:off x="45720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57200" y="14130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00"/>
                </a:solidFill>
                <a:latin typeface="Rockwell"/>
              </a:rPr>
              <a:t>Podnikatelský záměr (plán)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Rockwell"/>
              </a:rPr>
              <a:t>Obsah podnikatelského záměru: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Rockwell"/>
              </a:rPr>
              <a:t>přehled obsahu,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Rockwell"/>
              </a:rPr>
              <a:t>realizační resumé,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Rockwell"/>
              </a:rPr>
              <a:t>charakteristika firmy a jejich cílů,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Rockwell"/>
              </a:rPr>
              <a:t>klíčové osobnosti a organizace podniku,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Rockwell"/>
              </a:rPr>
              <a:t>popis nabízených výrobků a služeb,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Rockwell"/>
              </a:rPr>
              <a:t>marketing - popis výrobního programu, resp. poskytovaných služeb,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Rockwell"/>
              </a:rPr>
              <a:t>analýza trhu a konkurence,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Rockwell"/>
              </a:rPr>
              <a:t>odbytová strategie, plán odbytu,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Rockwell"/>
              </a:rPr>
              <a:t>cenová strategie,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Rockwell"/>
              </a:rPr>
              <a:t>opatření na podporu prodeje,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Rockwell"/>
              </a:rPr>
              <a:t>technologie, 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Rockwell"/>
              </a:rPr>
              <a:t>informatika,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Rockwell"/>
              </a:rPr>
              <a:t>finanční plánování,  financování ,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Rockwell"/>
              </a:rPr>
              <a:t>přílohy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Nadpis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Rockwell"/>
              </a:rPr>
              <a:t>Podnikatelský záměr (plán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Rockwell"/>
              </a:rPr>
              <a:t>Součástí realizačního resumé má být: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Rockwell"/>
              </a:rPr>
              <a:t>název a adresa firmy, číslo telefonu a faxu, kontaktní osoby,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Rockwell"/>
              </a:rPr>
              <a:t>charakteristika produktu</a:t>
            </a:r>
            <a:r>
              <a:rPr b="0" i="1" lang="cs-CZ" sz="2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cs-CZ" sz="2000" spc="-1" strike="noStrike">
                <a:solidFill>
                  <a:srgbClr val="ffffff"/>
                </a:solidFill>
                <a:latin typeface="Rockwell"/>
              </a:rPr>
              <a:t>resp. služby, které jsou náplní podnikatelského projektu,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Rockwell"/>
              </a:rPr>
              <a:t>popis trhů</a:t>
            </a:r>
            <a:r>
              <a:rPr b="0" lang="cs-CZ" sz="2000" spc="-1" strike="noStrike">
                <a:solidFill>
                  <a:srgbClr val="ffffff"/>
                </a:solidFill>
                <a:latin typeface="Rockwell"/>
              </a:rPr>
              <a:t>, na kterých se chce firma uplatnit a distribučních cest, kterých hodlá využít k dosažení těchto trhů,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Rockwell"/>
              </a:rPr>
              <a:t>strategické zaměření firmy na období příštích 3 až 5 let</a:t>
            </a:r>
            <a:r>
              <a:rPr b="0" lang="cs-CZ" sz="2000" spc="-1" strike="noStrike">
                <a:solidFill>
                  <a:srgbClr val="ffffff"/>
                </a:solidFill>
                <a:latin typeface="Rockwell"/>
              </a:rPr>
              <a:t>, včetně jejích dlouhodobých cílů, způsobů jejich dosažení,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Rockwell"/>
              </a:rPr>
              <a:t>zhodnocení manažerských zkušeností a kvality klíčových pracovníků</a:t>
            </a:r>
            <a:r>
              <a:rPr b="0" i="1" lang="cs-CZ" sz="2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Rockwell"/>
              </a:rPr>
              <a:t>firmy ve vztahu k danému podnikatelskému projektu,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Rockwell"/>
              </a:rPr>
              <a:t>finanční aspekty zahrnující odhady zisku v následujících pěti letech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Nadpis 1" descr=""/>
          <p:cNvPicPr/>
          <p:nvPr/>
        </p:nvPicPr>
        <p:blipFill>
          <a:blip r:embed="rId1"/>
          <a:stretch/>
        </p:blipFill>
        <p:spPr>
          <a:xfrm>
            <a:off x="43344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Rockwell"/>
              </a:rPr>
              <a:t>Použitá literatura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Rockwell"/>
              </a:rPr>
              <a:t>KLÍNSKÝ, P., MÜNCH, O. </a:t>
            </a:r>
            <a:r>
              <a:rPr b="0" i="1" lang="cs-CZ" sz="2000" spc="-1" strike="noStrike">
                <a:solidFill>
                  <a:srgbClr val="ffffff"/>
                </a:solidFill>
                <a:latin typeface="Rockwell"/>
              </a:rPr>
              <a:t>Ekonomika 1 pro obchodní akademie a ostatní střední školy. </a:t>
            </a:r>
            <a:r>
              <a:rPr b="0" lang="cs-CZ" sz="2000" spc="-1" strike="noStrike">
                <a:solidFill>
                  <a:srgbClr val="ffffff"/>
                </a:solidFill>
                <a:latin typeface="Rockwell"/>
              </a:rPr>
              <a:t>3. vyd. Praha: Eduko nakladatelství, s. r. o., 2010, 152 s. ISBN 978-80-87204-24-5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Nadpis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3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8" name=""/>
          <p:cNvGraphicFramePr/>
          <p:nvPr/>
        </p:nvGraphicFramePr>
        <p:xfrm>
          <a:off x="457200" y="1600200"/>
          <a:ext cx="8229600" cy="496080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43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Rockwell"/>
                          <a:ea typeface="Calibri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Rockwell"/>
                          <a:ea typeface="Times New Roman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342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3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2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Podniká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3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VY_32_INOVACE_071_Ekonomi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2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64-41-L/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3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Ekonomika a prá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2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prv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3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2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7. 1. 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6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Materiál slouží k získání přehledu o podstatě podnikání, cílech a růstu podnikání, významu obchodní firmy a podnikatelském záměru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3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2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Rockwell"/>
                          <a:ea typeface="Calibri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592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Podstata podnikání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Cíl podnikání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Růst podnikání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Obchodní firma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Podnikatelský záměr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00"/>
                </a:solidFill>
                <a:latin typeface="Rockwell"/>
              </a:rPr>
              <a:t>1. ročník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45720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cc00"/>
                </a:solidFill>
                <a:latin typeface="Rockwell"/>
              </a:rPr>
              <a:t> </a:t>
            </a:r>
            <a:r>
              <a:rPr b="1" i="1" lang="cs-CZ" sz="3200" spc="-1" strike="noStrike">
                <a:solidFill>
                  <a:srgbClr val="ffcc00"/>
                </a:solidFill>
                <a:latin typeface="Rockwell"/>
              </a:rPr>
              <a:t>Podstata podnikání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Podnikání je vymezeno a upraveno </a:t>
            </a:r>
            <a:r>
              <a:rPr b="0" lang="cs-CZ" sz="2800" spc="-1" strike="noStrike">
                <a:solidFill>
                  <a:srgbClr val="cc0000"/>
                </a:solidFill>
                <a:latin typeface="Rockwell"/>
              </a:rPr>
              <a:t>právními normami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 (zákony).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Nejvyšší právní normou je </a:t>
            </a:r>
            <a:r>
              <a:rPr b="0" i="1" lang="cs-CZ" sz="2800" spc="-1" strike="noStrike">
                <a:solidFill>
                  <a:srgbClr val="cc0000"/>
                </a:solidFill>
                <a:latin typeface="Rockwell"/>
              </a:rPr>
              <a:t>Ústava ČR a Ústavní zákony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 – ostatní zákony z ní musí vycházet: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Rockwell"/>
              </a:rPr>
              <a:t>obchodní zákoník,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Rockwell"/>
              </a:rPr>
              <a:t>občanský zákoník,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Rockwell"/>
              </a:rPr>
              <a:t>živnostenský zákon,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Rockwell"/>
              </a:rPr>
              <a:t>zákon o účetnictví,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Rockwell"/>
              </a:rPr>
              <a:t>daňové zákony,…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Nadpis 1" descr=""/>
          <p:cNvPicPr/>
          <p:nvPr/>
        </p:nvPicPr>
        <p:blipFill>
          <a:blip r:embed="rId1"/>
          <a:stretch/>
        </p:blipFill>
        <p:spPr>
          <a:xfrm>
            <a:off x="43344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cc00"/>
                </a:solidFill>
                <a:latin typeface="Rockwell"/>
              </a:rPr>
              <a:t>Podstata podnikání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Pojem </a:t>
            </a:r>
            <a:r>
              <a:rPr b="0" lang="cs-CZ" sz="3200" spc="-1" strike="noStrike">
                <a:solidFill>
                  <a:srgbClr val="cc0000"/>
                </a:solidFill>
                <a:latin typeface="Rockwell"/>
              </a:rPr>
              <a:t>„podnikání“ 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je vymezen v obchodním zákoníku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000"/>
                </a:solidFill>
                <a:latin typeface="Rockwell"/>
              </a:rPr>
              <a:t>„</a:t>
            </a:r>
            <a:r>
              <a:rPr b="0" lang="cs-CZ" sz="3200" spc="-1" strike="noStrike">
                <a:solidFill>
                  <a:srgbClr val="ffc000"/>
                </a:solidFill>
                <a:latin typeface="Rockwell"/>
              </a:rPr>
              <a:t>Podnikání je soustavná činnost, provozovaná samostatně podnikatelem, na vlastní jméno, na vlastní odpovědnost </a:t>
            </a:r>
            <a:br>
              <a:rPr sz="3200"/>
            </a:br>
            <a:r>
              <a:rPr b="0" lang="cs-CZ" sz="3200" spc="-1" strike="noStrike">
                <a:solidFill>
                  <a:srgbClr val="ffc000"/>
                </a:solidFill>
                <a:latin typeface="Rockwell"/>
              </a:rPr>
              <a:t>a s cílem dosáhnout zisk“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7200" y="4284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Rockwell"/>
              </a:rPr>
              <a:t>Cíl podnikání</a:t>
            </a:r>
            <a:r>
              <a:rPr b="1" lang="cs-CZ" sz="32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Soustava cílů můžeme formulovat takto: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7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cc0000"/>
                </a:solidFill>
                <a:latin typeface="Rockwell"/>
              </a:rPr>
              <a:t>Zajištění dlouhodobé existence podniku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7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7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Zajištění </a:t>
            </a:r>
            <a:r>
              <a:rPr b="0" lang="cs-CZ" sz="2400" spc="-1" strike="noStrike">
                <a:solidFill>
                  <a:srgbClr val="ffcc00"/>
                </a:solidFill>
                <a:latin typeface="Rockwell"/>
              </a:rPr>
              <a:t>rozvoje (růstu) podniku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 a zvyšování podílu na trhu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7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7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Trvalé </a:t>
            </a:r>
            <a:r>
              <a:rPr b="0" i="1" lang="cs-CZ" sz="2400" spc="-1" strike="noStrike">
                <a:solidFill>
                  <a:srgbClr val="cc0000"/>
                </a:solidFill>
                <a:latin typeface="Rockwell"/>
              </a:rPr>
              <a:t>zajištění pracovních míst pro pracovníky, zajištění spokojenosti pracovníků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7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70000"/>
              </a:lnSpc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Rockwell"/>
              </a:rPr>
              <a:t>Finanční cíle: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 zvyšovat tzv. </a:t>
            </a:r>
            <a:r>
              <a:rPr b="0" i="1" lang="cs-CZ" sz="2400" spc="-1" strike="noStrike">
                <a:solidFill>
                  <a:srgbClr val="cc0000"/>
                </a:solidFill>
                <a:latin typeface="Rockwell"/>
              </a:rPr>
              <a:t>„finanční zdraví podniku“,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 které je dáno zvyšováním tržní hodnoty podniku 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(a. s. – zvyšování hodnoty akcií). Finančním cílem není jen zvyšování zisku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444600" y="1908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539640" y="126792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80080" indent="-28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Rockwell"/>
              </a:rPr>
              <a:t>Růst podnikání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Při podnikání je třeba </a:t>
            </a:r>
            <a:r>
              <a:rPr b="0" i="1" lang="cs-CZ" sz="2800" spc="-1" strike="noStrike">
                <a:solidFill>
                  <a:srgbClr val="cc0000"/>
                </a:solidFill>
                <a:latin typeface="Rockwell"/>
              </a:rPr>
              <a:t>zajistit jeho rozvoj</a:t>
            </a: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 – neustále zajišťovat a rozšiřovat odbyt výrobků a služeb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Rockwell"/>
              </a:rPr>
              <a:t>K tomu je zapotřebí: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udržovat si zákazníky a získávat nové,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orientovat se podle požadavků trhu,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Rockwell"/>
              </a:rPr>
              <a:t>odlišovat se od konkurence,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457200" y="6480"/>
            <a:ext cx="8229600" cy="11458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88880" y="148392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5840" indent="-28584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Rockwell"/>
              </a:rPr>
              <a:t>Růst podnikání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7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Rockwell"/>
              </a:rPr>
              <a:t>vyrábět kvalitní výrobky, doplňovat výrobní program novými výrobky, poskytovat služby, hledat nové odbytové cesty, provádět propagaci, budovat </a:t>
            </a:r>
            <a:r>
              <a:rPr b="0" i="1" lang="cs-CZ" sz="2600" spc="-1" strike="noStrike">
                <a:solidFill>
                  <a:srgbClr val="cc0000"/>
                </a:solidFill>
                <a:latin typeface="Rockwell"/>
              </a:rPr>
              <a:t>„public relation“</a:t>
            </a:r>
            <a:r>
              <a:rPr b="0" lang="cs-CZ" sz="2600" spc="-1" strike="noStrike">
                <a:solidFill>
                  <a:srgbClr val="ffffff"/>
                </a:solidFill>
                <a:latin typeface="Rockwell"/>
              </a:rPr>
              <a:t> (styk s veřejností),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7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Rockwell"/>
              </a:rPr>
              <a:t>snižovat náklady</a:t>
            </a:r>
            <a:r>
              <a:rPr b="0" lang="cs-CZ" sz="2600" spc="-1" strike="noStrike">
                <a:solidFill>
                  <a:srgbClr val="ffffff"/>
                </a:solidFill>
                <a:latin typeface="Rockwell"/>
              </a:rPr>
              <a:t> a vytvářet si tak předpoklad pro snižování cen výrobků, služeb,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7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7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cc0000"/>
                </a:solidFill>
                <a:latin typeface="Rockwell"/>
              </a:rPr>
              <a:t>zdokonalovat organizaci podniku a kvalifikaci pracovníků,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7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70000"/>
              </a:lnSpc>
              <a:buClr>
                <a:srgbClr val="72a376"/>
              </a:buClr>
              <a:buSzPct val="70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Rockwell"/>
              </a:rPr>
              <a:t>neustále sledovat a </a:t>
            </a:r>
            <a:r>
              <a:rPr b="0" lang="cs-CZ" sz="2600" spc="-1" strike="noStrike">
                <a:solidFill>
                  <a:srgbClr val="ffcc00"/>
                </a:solidFill>
                <a:latin typeface="Rockwell"/>
              </a:rPr>
              <a:t>hodnotit finanční hospodaření</a:t>
            </a:r>
            <a:r>
              <a:rPr b="0" lang="cs-CZ" sz="2600" spc="-1" strike="noStrike">
                <a:solidFill>
                  <a:srgbClr val="ffffff"/>
                </a:solidFill>
                <a:latin typeface="Rockwell"/>
              </a:rPr>
              <a:t> podniku</a:t>
            </a:r>
            <a:r>
              <a:rPr b="0" lang="cs-CZ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45720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cc00"/>
                </a:solidFill>
                <a:latin typeface="Rockwell"/>
              </a:rPr>
              <a:t>Obchodní firma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0000"/>
                </a:solidFill>
                <a:latin typeface="Rockwell"/>
              </a:rPr>
              <a:t> </a:t>
            </a:r>
            <a:r>
              <a:rPr b="0" lang="cs-CZ" sz="3200" spc="-1" strike="noStrike">
                <a:solidFill>
                  <a:srgbClr val="cc0000"/>
                </a:solidFill>
                <a:latin typeface="Rockwell"/>
              </a:rPr>
              <a:t>Obchodní jméno (firma) 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– je </a:t>
            </a:r>
            <a:r>
              <a:rPr b="0" i="1" lang="cs-CZ" sz="3200" spc="-1" strike="noStrike">
                <a:solidFill>
                  <a:srgbClr val="ffcc00"/>
                </a:solidFill>
                <a:latin typeface="Rockwell"/>
              </a:rPr>
              <a:t>název, </a:t>
            </a:r>
            <a:br>
              <a:rPr sz="3200"/>
            </a:br>
            <a:r>
              <a:rPr b="0" i="1" lang="cs-CZ" sz="3200" spc="-1" strike="noStrike">
                <a:solidFill>
                  <a:srgbClr val="ffcc00"/>
                </a:solidFill>
                <a:latin typeface="Rockwell"/>
              </a:rPr>
              <a:t>pod nímž podnikatel jedná při své podnikatelské činnosti</a:t>
            </a:r>
            <a:r>
              <a:rPr b="0" lang="cs-CZ" sz="3200" spc="-1" strike="noStrike">
                <a:solidFill>
                  <a:srgbClr val="ffcc00"/>
                </a:solidFill>
                <a:latin typeface="Rockwel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Musí se odlišovat od obchodních jmen jiných podnikatelů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3T12:37:15Z</dcterms:created>
  <dc:creator>Monika</dc:creator>
  <dc:description/>
  <dc:language>en-US</dc:language>
  <cp:lastModifiedBy>Berka</cp:lastModifiedBy>
  <dcterms:modified xsi:type="dcterms:W3CDTF">2014-02-26T07:50:15Z</dcterms:modified>
  <cp:revision>64</cp:revision>
  <dc:subject/>
  <dc:title>PODNIK A PODNIKÁNÍ</dc:title>
</cp:coreProperties>
</file>