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9F5-69DE-434D-8ADF-B39EA2F3FD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záhlaví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Zástupný symbol pro číslo snímk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7D6-2160-4BAA-8063-BB56AB10E96F}" type="slidenum">
              <a:rPr b="0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F2F8-3FA1-44FB-BD9D-42ED433E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D9B7-9827-4F51-9569-EC1C9A2E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A4B1-F99E-4F39-BDC4-A160F558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8EC2-EF92-486C-B30C-F3CCD9A6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B539-740A-4B44-8335-09E461E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96D4-096A-4205-9F62-F064E84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2123-1847-4C24-8DBD-68733407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312F-58B5-4967-9CAB-E8F3CE34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21C5-A594-4D36-8032-4AA0B938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9DAC-6A02-414B-8C8C-D808A33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7D86-77A8-417D-8080-692B111F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9CC1-1DF9-40E4-ABE6-B9EC3EBE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492-4B0D-445E-94F6-8F15E6EF3C5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3320" y="3141720"/>
            <a:ext cx="7315200" cy="22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FINANCOVÁNÍ PODNIKU III.</a:t>
            </a:r>
            <a:br>
              <a:rPr sz="4000"/>
            </a:br>
            <a:br>
              <a:rPr sz="4000"/>
            </a:br>
            <a:r>
              <a:rPr b="0" lang="cs-CZ" sz="3200" spc="-1" strike="noStrike">
                <a:solidFill>
                  <a:srgbClr val="ff8600"/>
                </a:solidFill>
                <a:latin typeface="Arial"/>
              </a:rPr>
              <a:t>Autor: Mgr. Roman Berka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3320" y="227664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_32_INOVACE_080_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Obrázek 3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08328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341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Ukazatelé efektivnosti inve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Čistá současná hodnota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ozdíl mezi současnou hodnotou čistých výnosů z investic a současnou hodnotou investovaného kapitálu pro stanovený počet časových období při dané úrokové mí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nitřní výnosové procento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úroveň rentability (ziskovosti) uvažované investice při zohlednění časové hodnoty peně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ýnosnos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kolik Kč nám vynese 1 investovaná kor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41264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Ukazatelé efektivnosti inve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26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Koeficient dodatkových investic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která z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bízených investic je výhod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Bod zvra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kolik musíme vyprodukov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ů, abychom uhradili 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oba návratnost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za jakou dobu se nám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ložené prostředky vrá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8040" y="188640"/>
            <a:ext cx="73152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7280" y="1197000"/>
            <a:ext cx="7775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Průběh investičního proc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  Průběh investičního proces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  Matusiková, L., Wagnerová, E. Nauka o podniku, 1. vydání, Karviná: 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  OPF 2003, 230 s., ISBN 80-7248-243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813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73152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0000"/>
                </a:solidFill>
                <a:latin typeface="Arial"/>
              </a:rPr>
              <a:t>FINANCOVÁNÍ</a:t>
            </a: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05372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Průběh investičního proc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. Iniciační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vzniká námět na investici, často vychází z marketingového útvaru či útvaru vědeckotechnického rozvo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00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2. Koncepční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ámět na investici posuzuje vrcholové vedení podniku, zda je v souladu se strategickými cíli podniku, v případě akceptace námětu se stanoví základní technické, ekologické, ekonomické parametry a vypracuje se koncepce daného investičního zámě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3. Návrhová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zpracování technického projektu, projektové dokumentace, vychází z platných technických, bezpečnostních, ekologických norem a předpis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125360"/>
            <a:ext cx="806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Průběh investičního proc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4. Zajišťovací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jednání s dodavateli o dodávkách (stavební, strojní, materiálu), vytváření vztahů s finančními institucemi (úvěry, formy financování, zajišťování potřebného kapitá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5. Prováděcí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probíhá vlastní výstavba, pořizování (realizace) investice, zajišťování jednotlivých dodávek, instalace zařízení, příprava zaměstnanců, podpora prodeje pro uvedení produkce na t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0920" y="1341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Průběh investičního proc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6. Období záběhu nové investi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zaměstnanci si osvojují novou kapacitu, odstraňují se případné drobné nedostatky, probíhá doladění a koordinace všech procesů tak, aby bylo dosaženo normálního provozu, výkonu a efektivnosti s dodržením všech stanovených parametrů, provádějí se závěrečné technickoekonomické vyhodnoc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7. Likvidační fáz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astává tehdy, je-li investice plně znehodnocena, nemůže efektivně či věcně plnit svoji funkci (opotřebení ekonomické, technické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1341360"/>
            <a:ext cx="7991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Účastníci investiční čin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 procesu investiční činnosti se můžeme setkat 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a) Investor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iniciátor celého procesu, osoba, pro kterou se připravuje či provádí investiční výstavba, disponuje s potřebnými finančními prostředky, stává se vlastníkem investi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b) Projektant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FO či PO oprávněná k projektové činnosti, zabezpečuje zpracování projektové dokumentace, koordinuje komplexní projektovou činnost včetně realiz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196640"/>
            <a:ext cx="7991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Účastníci investiční čin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Dodavatel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zabezpečuje dodávku celé investice či její čá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d) Peněžní ústav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poskytuje finanční prostředky v případě, že je jich nedostatek u invest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e) Orgány státní správy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vstupují do investičního procesu ze zákona, hájí státní a společenské zájmy, orgány zabývající se územním plánováním, životním prostředím, obecní, městské či okresní úřady, orgány požární ochrany, bezpečnosti práce, úřady práce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152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5640" y="134136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Členění a zdroje financování inve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Členění inves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Čisté investic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vynakládané na pořízení nového majet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Hrubé investic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čisté investice plus prostředky vynaložené na obnovu stávajícího, opotřebovaného majet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droje financová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Vlastní zdroj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použitelný zisk, odpisy DM, prostředky z prodeje akcií (u a. 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Cizí zdroj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prodej podnikových obligací, investiční úvěry, obchodní úvěry, stálá pasiva, koupě na splátky, dlouhodobé směn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152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0920" y="119664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Reprodukce a technický rozv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Reprodukce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zajišťuje systematické a plánovité nahrazování opotřebeného investičního majetku nový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Reprodukci člením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ostá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– starý stroj je nahrazen novým strojem stejného výkon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Rozšířená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– starý stroje je nahrazen novým strojem s vyšším výkonem, případně dvěma stroji stejného výkonu (velký zájem trh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Zúžená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– starý stroj je nahrazen novým strojem s menším výkonem nebo se starý stroj zlikviduje bez náhrady (krizový pokles poptávky na trh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3152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Záznamový list výukového materiálu</a:t>
            </a:r>
            <a:br>
              <a:rPr sz="2400"/>
            </a:b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268280"/>
          <a:ext cx="8302680" cy="5435640"/>
        </p:xfrm>
        <a:graphic>
          <a:graphicData uri="http://schemas.openxmlformats.org/drawingml/2006/table">
            <a:tbl>
              <a:tblPr/>
              <a:tblGrid>
                <a:gridCol w="2989440"/>
                <a:gridCol w="5313240"/>
              </a:tblGrid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nancování podniku I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80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 2.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investiční činnosti, průběhu investiční činnosti, účastnících, zdrojích financování investic, investičním riziku a analýze rizik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126792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Reprodukce a technický rozvo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Technický rozvoj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zavádění nových, výkonnějších, efektivnějších, ekologičtějších a progresivnějších technologií (součástí konkurenčního bo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kladním problémem jsou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náklad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 ním spoje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lastní vývoj a výzkum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jí pouz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apitálově silné podni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malé a střed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hou spoléhat na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inanční leasing, příp. rizikový „venture“ kapit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3120" y="26028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00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Investiční riz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neoddělitelnou součástí podnikání. Na investiční riziko se můžeme dívat ze dvou hledis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iziko pozitiv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vychází z naděje úspěšnosti, uplatnění na trhu, dosažení vysokého zisku (hnací motor podnik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iziko negativ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ebezpečí dosažení horších výsledků, než jsme očekávali, případně vznikem ztrá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62864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Investiční rizi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aktory rizika, se kterými se můžeme setk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aznějš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změny poptáv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doucí k poklesu prode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měny prodejních cen a změny cen vstupů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dcenění investičních nákladů a pracovního kapitál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měny techniky a technologií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změny hospodářské politiky stát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měny mezinárod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konomické a politické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itu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152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125360"/>
            <a:ext cx="79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Analýza rizika inves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ílem analýzy je zvýšit pravděpodobnost úspěšnosti investice a minimalizovat nebezpečí neúspěchu v rozsahu, který neohrožuje finanční stabilitu firmy s následkem jejího úpadk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Analýza investičního rizika musí zjist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faktory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(náklady, poptávku, prodejní cenu aj.) jež jsou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významné a nejvíce ovlivňují riziko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daného investičního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ojektu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velikost a přijatelnost rizika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opatření,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s nimiž je možné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snížit riziko na přijatelnou mír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628640"/>
            <a:ext cx="7315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8600"/>
                </a:solidFill>
                <a:latin typeface="Arial"/>
              </a:rPr>
              <a:t>Použitá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tusiková, L., Wagnerová, E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. Nauka o podniku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vydání, Karviná: Distanční studijní opora OPF 2004, 230 s.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 80-7248-243-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040" y="1844280"/>
            <a:ext cx="768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275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čin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h investičního proce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Účastníci investiční čin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lenění inve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 financování inve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produkce a technický rozv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riziko, analýza ri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4280"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860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28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Investiční čin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Aktivita podniku, která souvisí s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rozšiřováním hodnoty majetku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dniku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jeho modernizací či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rekonstrukc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Rozšiřování hodnoty majetku se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vztahuje k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 delšímu časovému 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obdob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1412640"/>
            <a:ext cx="770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Investiční čin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činnost se může týkat jednak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ěcných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činite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innosti podniku (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ěcné investi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řízení strojů, zařízení, budov, pozemků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ak tzv.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finančních investic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nákup akcií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bligací, podílů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ýrobních a obchodních podnicích a v podnicích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lužeb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těžiště investiční činnosti tvoř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ěcné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nvesti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kdežto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inanční investice mají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doplňkový charakt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0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podniků, jejichž hlavní činností jsou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finančn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perace, je tomu naop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0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00"/>
                </a:solidFill>
                <a:latin typeface="Arial"/>
              </a:rPr>
              <a:t>Inve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peněžité i hmotné výdaje do podniká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na pořízení dalšího majetku zejména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ouhodobého charakter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Investi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majetek před zahájením použí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louhodobý (investiční) maje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majetek v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í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řípadě rozsáhlých investic je třeba zváži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cc0000"/>
                </a:solidFill>
                <a:latin typeface="Arial"/>
              </a:rPr>
              <a:t>nutnost pořízení, kde získat finance, do </a:t>
            </a:r>
            <a:r>
              <a:rPr b="0" i="1" lang="cs-CZ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cc0000"/>
                </a:solidFill>
                <a:latin typeface="Arial"/>
              </a:rPr>
              <a:t>čeho prostředky vlož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557360"/>
            <a:ext cx="7315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Inve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0000"/>
                </a:solidFill>
                <a:latin typeface="Arial"/>
              </a:rPr>
              <a:t>Potřeba investic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chází z bilance výrobní kapacity a z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porovnávání skutečné výrobní kapacity s požadovanou kapacitou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640" y="1196640"/>
            <a:ext cx="77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Investiční rozhod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ždé investiční rozhodnutí je závažný úkon, protože každá invest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vlivňuj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likviditu podniku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louhodobým vázáním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ředků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vlivňuje na dlouhou dobu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a odpisy, event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úroky, náklady na údržbu, opravy, revize, …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ují dlouhodob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ruh a výkonnost podnik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inančním problémem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 v momentě pořízení, ta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mentě vyřazení i po celou dobu užívá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41300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Efektivnost inve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 rozhodování o nové investici je třeba zváži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jí efektivnost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(jakých výsledků dosáhnem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uto investic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Porovnáváme vstupy s výstu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a) vstupy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  jednorázové investiční 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b) výstupy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přírůstek tržeb, úspora nákladů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0:46:17Z</dcterms:created>
  <dc:creator>Huk</dc:creator>
  <dc:description/>
  <dc:language>en-US</dc:language>
  <cp:lastModifiedBy>Berka</cp:lastModifiedBy>
  <dcterms:modified xsi:type="dcterms:W3CDTF">2014-02-26T08:18:17Z</dcterms:modified>
  <cp:revision>124</cp:revision>
  <dc:subject/>
  <dc:title>EKONOMIKA PODNIKU</dc:title>
</cp:coreProperties>
</file>