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67F0-0866-4B59-8FA0-553B779F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D45F-5C82-4F8B-BF24-E5626F9A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B6D6-C629-4423-9C2E-3F566286B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ED94-61BC-4CB2-B727-D986F717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066F-E357-4AB1-A264-CFB9A9E4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BDC1-D004-4DFB-8FA6-72075624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1917-C4E2-460F-8061-8474476D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4E50-E3B2-40B2-9C53-A9CDCC39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11D6-CA67-4E3F-888D-2DCCE3AB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2E08-F306-42D6-AC00-3DED9327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1AD0-3673-4447-B6D7-7461F617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6180-AFEA-4021-A3EE-0D336586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81CD-44B4-4805-B772-94E7D7C4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B2DA-A5A6-484F-8D72-8CC52AA2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8982-070C-4BB6-BA61-9D2A887B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74B4-6AC5-48A6-BEDE-DA23138B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9CED-CA02-4E5F-AEB2-8A2E5C9B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8E6FEE-94C3-48FB-80BE-F7B33FD8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6994D-D8AF-44BB-9A7E-6DF48DB2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49DDA-EAD5-450D-B0CF-79F1960E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36E572-FCCB-4577-9747-EDBD76BB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F163F-DD25-4311-82E7-7686ECF9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4F34-7A0A-44E1-BFBD-C26A9885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7EF062-CC50-4B5B-B70F-0C0AE92B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CD9339-7311-497C-9A1F-35AAE40A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D5ACD-EFF8-4067-ABDD-CA21DA60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E0D34E-35DC-49DC-9D4D-C0C5362F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24104-8F27-4C2A-BFBA-4CF4CF4D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3C6D9-5D09-439A-AD51-2108FF0A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32188B-9E6F-4731-A904-D024893A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ACBCB-C093-440E-8493-0FFE88E2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90958-4A42-497F-A2FD-9D4E4A6F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3F843-271E-4250-B9F0-5834A419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02E-66C5-47BD-A27A-AD1271D1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E5026-A8E9-4F80-8150-AF6EA90B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448A0-7F4C-4547-A15B-FD3F4C78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EE06B-62D4-4708-AC20-3C767C82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BC812-D97C-4392-BE46-78BB3880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18EA8-7C6F-45B4-BF8D-6EA66C05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E103A-3B5E-42EB-887D-23B946AC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C907A-D5A3-4929-84C8-D4AFC8DD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40632-A5AA-435F-8A34-43EE4F7F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9B206-DBD6-4724-8087-035C5E9C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5704-A7A0-4837-BC2A-7C962D6F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4BD8-FD0D-46A1-8C9E-0F8C1F89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54A6-CE91-4BD3-88D7-1795B695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764C-E871-4D19-AD8A-18796AA3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3C1F-EB61-4DC3-B9E8-184BAD22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E4D7-E93B-47BE-AC0B-788FE13417C7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bdélník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Obdélník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Obdélník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bdélník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bdélník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Zaoblený obdélník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Zaoblený obdélník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Obdélník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Obdélník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Obdélník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Obdélník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CCED-F851-45BB-BE6F-896C5B0999D6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A92C-0749-44AB-BA63-341DC3F5BA5E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bdélní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Obdélní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Obdélní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Obdélní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Obdélní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Zaoblený obdélní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Zaoblený obdélní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Obdélní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Obdélní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Obdélní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Obdélní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Obdélní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Obdélní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92F2-12A3-4BFC-82B6-54D34380E03A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80139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Calibri"/>
              </a:rPr>
              <a:t>VY_32_INOVACE_096_Ekonomika</a:t>
            </a: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826920" y="4436640"/>
            <a:ext cx="72741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424456"/>
                </a:solidFill>
                <a:latin typeface="Georgia"/>
              </a:rPr>
              <a:t>Bankovní o</a:t>
            </a:r>
            <a:r>
              <a:rPr b="1" lang="cs-CZ" sz="4000" spc="-1" strike="noStrike">
                <a:solidFill>
                  <a:srgbClr val="424456"/>
                </a:solidFill>
                <a:latin typeface="Georgia"/>
              </a:rPr>
              <a:t>perace I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24456"/>
                </a:solidFill>
                <a:latin typeface="Georgia"/>
              </a:rPr>
              <a:t>Autor: Mgr. Roman Berk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Obrázek 3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083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484280"/>
            <a:ext cx="82296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Georgia"/>
              </a:rPr>
              <a:t>Aktivní bankovní operac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Členění úvěrů dle zajištění 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30a0"/>
                </a:solidFill>
                <a:latin typeface="Georgia"/>
              </a:rPr>
              <a:t>Zajištěné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– ručitel, zástavní právo k nemovitosti nebo movitost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30a0"/>
                </a:solidFill>
                <a:latin typeface="Georgia"/>
              </a:rPr>
              <a:t>Nezajištěné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– není nutné ručení, ale je podstatně vyšší úro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24456"/>
                </a:solidFill>
                <a:latin typeface="Trebuchet MS"/>
              </a:rPr>
              <a:t>BANKOVNÍ OPERACE I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3410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047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Georgia"/>
              </a:rPr>
              <a:t>Aktivní bankovní opera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47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47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Typy úvěrů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47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47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Georgia"/>
              </a:rPr>
              <a:t>Exportní úvěr</a:t>
            </a: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– pro podnikatele zabývající se zahraničním obchodem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47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1047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bývá používán na </a:t>
            </a:r>
            <a:r>
              <a:rPr b="0" lang="cs-CZ" sz="2400" spc="-1" strike="noStrike">
                <a:solidFill>
                  <a:srgbClr val="c00000"/>
                </a:solidFill>
                <a:latin typeface="Georgia"/>
              </a:rPr>
              <a:t>financování investičních celků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četně doprovodných služeb a uvedení investice do provozu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47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1047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na </a:t>
            </a:r>
            <a:r>
              <a:rPr b="0" lang="cs-CZ" sz="2400" spc="-1" strike="noStrike">
                <a:solidFill>
                  <a:srgbClr val="7030a0"/>
                </a:solidFill>
                <a:latin typeface="Georgia"/>
              </a:rPr>
              <a:t>financování dodávek strojírenského charakteru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četně náhradních dílů (nepoužívá se na spotřební zboží nebo zemědělské produkty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47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1047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banky často spojují poskytování úvěru s </a:t>
            </a:r>
            <a:r>
              <a:rPr b="0" lang="cs-CZ" sz="2400" spc="-1" strike="noStrike">
                <a:solidFill>
                  <a:srgbClr val="c00000"/>
                </a:solidFill>
                <a:latin typeface="Georgia"/>
              </a:rPr>
              <a:t>poradenskými službami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při hledání vhodného zahraničního partner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1300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6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c00000"/>
                </a:solidFill>
                <a:latin typeface="Georgia"/>
              </a:rPr>
              <a:t>Aktivní bankovní operac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Georgia"/>
              </a:rPr>
              <a:t>Typy úvěrů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7030a0"/>
                </a:solidFill>
                <a:latin typeface="Georgia"/>
              </a:rPr>
              <a:t>2. Úvěr ze stavebního spoření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– účelový úvěr pro občany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ouze na </a:t>
            </a:r>
            <a:r>
              <a:rPr b="0" lang="cs-CZ" sz="2600" spc="-1" strike="noStrike">
                <a:solidFill>
                  <a:srgbClr val="c00000"/>
                </a:solidFill>
                <a:latin typeface="Georgia"/>
              </a:rPr>
              <a:t>financování bytových potřeb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okud je poskytnut ještě před vznikem nároku, je to tzv. </a:t>
            </a:r>
            <a:r>
              <a:rPr b="0" lang="cs-CZ" sz="2600" spc="-1" strike="noStrike">
                <a:solidFill>
                  <a:srgbClr val="7030a0"/>
                </a:solidFill>
                <a:latin typeface="Georgia"/>
              </a:rPr>
              <a:t>„překlenovací úvěr“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(v této době platí klient pouze úroky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oskytnutí je vázáno na </a:t>
            </a:r>
            <a:r>
              <a:rPr b="0" lang="cs-CZ" sz="2600" spc="-1" strike="noStrike">
                <a:solidFill>
                  <a:srgbClr val="c00000"/>
                </a:solidFill>
                <a:latin typeface="Georgia"/>
              </a:rPr>
              <a:t>splnění podmínek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tavebního spoření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úvěr má obvykle </a:t>
            </a:r>
            <a:r>
              <a:rPr b="0" lang="cs-CZ" sz="2600" spc="-1" strike="noStrike">
                <a:solidFill>
                  <a:srgbClr val="7030a0"/>
                </a:solidFill>
                <a:latin typeface="Georgia"/>
              </a:rPr>
              <a:t>pevnou úrokovou míru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484280"/>
            <a:ext cx="850752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c00000"/>
                </a:solidFill>
                <a:latin typeface="Georgia"/>
              </a:rPr>
              <a:t>Aktivní bankovní operac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Georgia"/>
              </a:rPr>
              <a:t>Typy úvěrů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7030a0"/>
                </a:solidFill>
                <a:latin typeface="Georgia"/>
              </a:rPr>
              <a:t>3. Obchodní úvěr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– poskytuje prodávající kupujícímu, běžný případ, kdy se kupuje na fakturu s odloženou splatností (obvykle 14 dnů), kupující má zboží dříve, než zaplatí, výše úvěru je ve výši hodnot zboží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7030a0"/>
                </a:solidFill>
                <a:latin typeface="Georgia"/>
              </a:rPr>
              <a:t>4. Bankovní  úvěr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– poskytuje banka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7030a0"/>
                </a:solidFill>
                <a:latin typeface="Georgia"/>
              </a:rPr>
              <a:t>5. Nebankovní úvěr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– poskytují nebankovní finanční společnosti (Home Credit, Provident, aj.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16280"/>
            <a:ext cx="82296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c00000"/>
                </a:solidFill>
                <a:latin typeface="Georgia"/>
              </a:rPr>
              <a:t>Aktivní bankovní operac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Typy úvěrů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30a0"/>
                </a:solidFill>
                <a:latin typeface="Georgia"/>
              </a:rPr>
              <a:t>6. Státní úvěr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– poskytuje stát (např. pro podporu exportérů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30a0"/>
                </a:solidFill>
                <a:latin typeface="Georgia"/>
              </a:rPr>
              <a:t>7. Mezivládní úvěr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– poskytuje vláda jednoho státu vládě druhého státu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030a0"/>
                </a:solidFill>
                <a:latin typeface="Georgia"/>
              </a:rPr>
              <a:t>8. Další úvěry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– sezónní, importní, překlenovací, směnečný, akceptační úvěr, aj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24456"/>
                </a:solidFill>
                <a:latin typeface="Trebuchet MS"/>
              </a:rPr>
              <a:t>BANKOVNÍ OPERACE I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34136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6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Georgia"/>
              </a:rPr>
              <a:t>Aktivní bankovní opera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Žádost o úvěr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7030a0"/>
                </a:solidFill>
                <a:latin typeface="Georgia"/>
              </a:rPr>
              <a:t>1. Úvodní schůzka</a:t>
            </a:r>
            <a:r>
              <a:rPr b="0" lang="cs-CZ" sz="2000" spc="-1" strike="noStrike">
                <a:solidFill>
                  <a:srgbClr val="7030a0"/>
                </a:solidFill>
                <a:latin typeface="Georgi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- představení obou stran, jejich požadavky a nabídky, banka požaduje doklady a informace o spolehlivosti klien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7030a0"/>
                </a:solidFill>
                <a:latin typeface="Georgia"/>
              </a:rPr>
              <a:t>2. Žádost o úvěr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- až na základě předběžného souhlasu banky, k žádosti se přikládají dokumenty, které obsahují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Georgia"/>
              </a:rPr>
              <a:t>zajištění úvěru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– proti nesplácení (zástava majetku, záruka - ručitel), pojištění, aj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Georgia"/>
              </a:rPr>
              <a:t>finanční situace žadatele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– banka musí prověřit, zda žadatel bude vůbec schopen splácet (vyplňuje zaměstnavatel, u podniků daňové přiznání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cs-CZ" sz="2400" spc="-1" strike="noStrike">
                <a:solidFill>
                  <a:srgbClr val="c00000"/>
                </a:solidFill>
                <a:latin typeface="Georgia"/>
              </a:rPr>
              <a:t>účel úvěru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– u účelových úvěrů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700280"/>
            <a:ext cx="80755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Georgia"/>
              </a:rPr>
              <a:t>Aktivní bankovní opera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Žádost o úvěr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Georgia"/>
              </a:rPr>
              <a:t>3. Analýza žádosti o úvěr </a:t>
            </a: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reálnost úvěru a schopnost spláce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Georgia"/>
              </a:rPr>
              <a:t>4. Poskytnutí úvěru, úvěrová smlouva </a:t>
            </a: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získané informace o klientovi banka prověřuje např. u dodavatelů, v centrálním registru úvěrů, aj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41300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Georgia"/>
              </a:rPr>
              <a:t>Aktivní bankovní opera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Porovnání nabídek úvěrů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Je nutné pečlivě zvážit výběr subjektu (banky), u kterého si chceme vypůjčit, musíme zohlednit: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ýši úrokové sazby a poplatků (RPSN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ýši úvěru, kterou nám banka poskytn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účel úvěru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ručení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Georgia"/>
              </a:rPr>
              <a:t>RPSN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1" lang="cs-CZ" sz="2400" spc="-1" strike="noStrike">
                <a:solidFill>
                  <a:srgbClr val="7030a0"/>
                </a:solidFill>
                <a:latin typeface="Georgia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oční </a:t>
            </a:r>
            <a:r>
              <a:rPr b="1" lang="cs-CZ" sz="2400" spc="-1" strike="noStrike">
                <a:solidFill>
                  <a:srgbClr val="7030a0"/>
                </a:solidFill>
                <a:latin typeface="Georgi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rocentní </a:t>
            </a:r>
            <a:r>
              <a:rPr b="1" lang="cs-CZ" sz="2400" spc="-1" strike="noStrike">
                <a:solidFill>
                  <a:srgbClr val="7030a0"/>
                </a:solidFill>
                <a:latin typeface="Georgia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azba </a:t>
            </a:r>
            <a:r>
              <a:rPr b="1" lang="cs-CZ" sz="2400" spc="-1" strike="noStrike">
                <a:solidFill>
                  <a:srgbClr val="7030a0"/>
                </a:solidFill>
                <a:latin typeface="Georgia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ákladů (vždy roční)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procentní podíl z dlužné částky, který musí dlužník zaplatit v souvislosti se splátkami, správou a dalšími náklady souvisejícími s čerpáním úvěru za jeden ro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484280"/>
            <a:ext cx="82296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Georgia"/>
              </a:rPr>
              <a:t>Aktivní bankovní opera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Georgia"/>
              </a:rPr>
              <a:t>Splácení úvěrů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7030a0"/>
                </a:solidFill>
                <a:latin typeface="Georgia"/>
              </a:rPr>
              <a:t>1. Splátka jistiny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– původně půjčená částka, která se splácením snižuj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7030a0"/>
                </a:solidFill>
                <a:latin typeface="Georgia"/>
              </a:rPr>
              <a:t>2. Splátka úroku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– výnos banky a navýšený náklad dlužníka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úrok je dán ve smlouvě </a:t>
            </a:r>
            <a:r>
              <a:rPr b="0" i="1" lang="cs-CZ" sz="2600" spc="-1" strike="noStrike">
                <a:solidFill>
                  <a:srgbClr val="c00000"/>
                </a:solidFill>
                <a:latin typeface="Georgia"/>
              </a:rPr>
              <a:t>úrokovou sazbou</a:t>
            </a:r>
            <a:r>
              <a:rPr b="0" lang="cs-CZ" sz="26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nebo </a:t>
            </a:r>
            <a:r>
              <a:rPr b="0" i="1" lang="cs-CZ" sz="2600" spc="-1" strike="noStrike">
                <a:solidFill>
                  <a:srgbClr val="c00000"/>
                </a:solidFill>
                <a:latin typeface="Georgia"/>
              </a:rPr>
              <a:t>úrokovou mírou</a:t>
            </a:r>
            <a:r>
              <a:rPr b="0" lang="cs-CZ" sz="26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(v % p. a.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úroková míra může být </a:t>
            </a:r>
            <a:r>
              <a:rPr b="0" lang="cs-CZ" sz="2600" spc="-1" strike="noStrike">
                <a:solidFill>
                  <a:srgbClr val="7030a0"/>
                </a:solidFill>
                <a:latin typeface="Georgia"/>
              </a:rPr>
              <a:t>pevná (fixní)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nebo </a:t>
            </a:r>
            <a:r>
              <a:rPr b="0" lang="cs-CZ" sz="2600" spc="-1" strike="noStrike">
                <a:solidFill>
                  <a:srgbClr val="7030a0"/>
                </a:solidFill>
                <a:latin typeface="Georgia"/>
              </a:rPr>
              <a:t>proměnlivá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77300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Georgia"/>
              </a:rPr>
              <a:t>Použitá literatura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KLÍNSKÝ, Petr a Otto MÜNCH. </a:t>
            </a:r>
            <a:r>
              <a:rPr b="0" i="1" lang="cs-CZ" sz="2400" spc="-1" strike="noStrike">
                <a:solidFill>
                  <a:srgbClr val="000000"/>
                </a:solidFill>
                <a:latin typeface="Georgia"/>
              </a:rPr>
              <a:t>Ekonomika pro obchodní akademie a ostatní střední školy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. 3., upr. vyd. Praha: Eduko, 2010-2011. ISBN 978-80-87204-38-24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ZLÁMAL, Jaroslav a Zdeněk MENDL. </a:t>
            </a:r>
            <a:r>
              <a:rPr b="0" i="1" lang="cs-CZ" sz="2400" spc="-1" strike="noStrike">
                <a:solidFill>
                  <a:srgbClr val="000000"/>
                </a:solidFill>
                <a:latin typeface="Georgia"/>
              </a:rPr>
              <a:t>Ekonomie nejen k maturitě.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Vyd. 1. Kralice na Hané: Computer Media, 2007, 136 s. ISBN 978-80-86686-78-3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ZLÁMAL, Jaroslav a Zdeněk MENDL. Ekonomie nejen k maturitě. Vyd. 1. Kralice na Hané: Computer Media, 2007, 128 s. ISBN 978-80-86686-76-9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24456"/>
                </a:solidFill>
                <a:latin typeface="Trebuchet MS"/>
              </a:rPr>
              <a:t>Záznamový list výukového materiálu</a:t>
            </a:r>
            <a:br>
              <a:rPr sz="1800"/>
            </a:b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68360" y="1628640"/>
          <a:ext cx="8229600" cy="5067360"/>
        </p:xfrm>
        <a:graphic>
          <a:graphicData uri="http://schemas.openxmlformats.org/drawingml/2006/table">
            <a:tbl>
              <a:tblPr/>
              <a:tblGrid>
                <a:gridCol w="2962080"/>
                <a:gridCol w="5267520"/>
              </a:tblGrid>
              <a:tr h="351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eorgia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Georgia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51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4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Bankovní operace I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VY_32_INOVACE_096_Ekonom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64-41-L/51 Podnik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druh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9.12.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4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Materiál slouží k získání přehledu o bankovních operacích, zásadách bankovních operací a aktivních bankovních operacích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Bankovní opera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Zásady bankovních operac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Aktivní bankovní opera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7030a0"/>
                </a:solidFill>
                <a:latin typeface="Georgia"/>
              </a:rPr>
              <a:t>2. roční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844280"/>
            <a:ext cx="822960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Georgia"/>
              </a:rPr>
              <a:t>Bankovní operac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7030a0"/>
                </a:solidFill>
                <a:latin typeface="Georgia"/>
              </a:rPr>
              <a:t>Aktivní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– bance vznikají pohledávky (poskytování úvěrů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7030a0"/>
                </a:solidFill>
                <a:latin typeface="Georgia"/>
              </a:rPr>
              <a:t>Pasivní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– bance vznikají závazky (vklady, vydávání vlastních akcií, aj.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7030a0"/>
                </a:solidFill>
                <a:latin typeface="Georgia"/>
              </a:rPr>
              <a:t>Zprostředkovatelské (neutrální)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– směnárenská činnost, úschova cenných papírů, vystavování bankovních záruk, převody depozit, tvorba bezhotovostních plateb mezi bankami, aj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28280"/>
            <a:ext cx="822960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6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c00000"/>
                </a:solidFill>
                <a:latin typeface="Georgia"/>
              </a:rPr>
              <a:t>Zásady bankovních operací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7030a0"/>
                </a:solidFill>
                <a:latin typeface="Georgia"/>
              </a:rPr>
              <a:t>Likvidita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 – schopnost přeměnit aktiva na peníz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7030a0"/>
                </a:solidFill>
                <a:latin typeface="Georgia"/>
              </a:rPr>
              <a:t>Solventnost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 – schopnost platit (hradit své závazky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7030a0"/>
                </a:solidFill>
                <a:latin typeface="Georgia"/>
              </a:rPr>
              <a:t>Ziskovost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 – banky hospodaří s cílem dosažení zisku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7030a0"/>
                </a:solidFill>
                <a:latin typeface="Georgia"/>
              </a:rPr>
              <a:t>Bankovní jistota 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– banka musí zajistit bezpečnostní opatření proti krádežím, zpronevěře, atd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7030a0"/>
                </a:solidFill>
                <a:latin typeface="Georgia"/>
              </a:rPr>
              <a:t>Ochrana bankovního tajemství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7030a0"/>
                </a:solidFill>
                <a:latin typeface="Georgia"/>
              </a:rPr>
              <a:t>Opatření proti legalizaci trestné činnosti (tzv. „praní špinavých peněz“)</a:t>
            </a:r>
            <a:r>
              <a:rPr b="0" lang="cs-CZ" sz="2500" spc="-1" strike="noStrike">
                <a:solidFill>
                  <a:srgbClr val="000000"/>
                </a:solidFill>
                <a:latin typeface="Georgia"/>
              </a:rPr>
              <a:t> – banka musí prověřovat podezřelé osoby, znesnadnit financování terorismu, při platbách nad určitý limit prověřovat účastníky, atd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41300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Georgia"/>
              </a:rPr>
              <a:t>Aktivní bankovní operac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Jde především o poskytování úvěrů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Georgia"/>
              </a:rPr>
              <a:t>ÚVĚR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= dočasně půjčené peněžní prostředk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Členění úvěrů z hlediska času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30a0"/>
                </a:solidFill>
                <a:latin typeface="Georgia"/>
              </a:rPr>
              <a:t>Krátkodobé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– do 1 roku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30a0"/>
                </a:solidFill>
                <a:latin typeface="Georgia"/>
              </a:rPr>
              <a:t>Střednědobé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– od 1 do 4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30a0"/>
                </a:solidFill>
                <a:latin typeface="Georgia"/>
              </a:rPr>
              <a:t>Dlouhodobé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– nad 4 rok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28280"/>
            <a:ext cx="822960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Georgia"/>
              </a:rPr>
              <a:t>Aktivní bankovní opera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Georgia"/>
              </a:rPr>
              <a:t>Členění úvěrů dle účelu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7030a0"/>
                </a:solidFill>
                <a:latin typeface="Georgia"/>
              </a:rPr>
              <a:t>Účelové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7030a0"/>
                </a:solidFill>
                <a:latin typeface="Georgia"/>
              </a:rPr>
              <a:t>Neúčelové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c00000"/>
                </a:solidFill>
                <a:latin typeface="Georgia"/>
              </a:rPr>
              <a:t>Podnikatelské úvěry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– na zásoby, pohledávky, sezónní výkyvy, na investice, úvěrové výpomoci (na splácení jiných úvěrů), aj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9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c00000"/>
                </a:solidFill>
                <a:latin typeface="Georgia"/>
              </a:rPr>
              <a:t>Úvěry občanům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– na nákup spotřebního zboží, automobilu, nemovitostí, aj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484280"/>
            <a:ext cx="82296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08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Georgia"/>
              </a:rPr>
              <a:t>Aktivní bankovní operac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Neúčelové úvěry pro občany i podnikate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30a0"/>
                </a:solidFill>
                <a:latin typeface="Georgia"/>
              </a:rPr>
              <a:t>Kontokorentní úvěr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– účet, na kterém můžeme neúčelově čerpat „do mínusu“, tyto peníze jsou součástí našeho účtu, splatnost do 1 roku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30a0"/>
                </a:solidFill>
                <a:latin typeface="Georgia"/>
              </a:rPr>
              <a:t>Eskontní úvěr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– banky odkupují od svých klientů směnky před datem jejich splatnost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7030a0"/>
                </a:solidFill>
                <a:latin typeface="Georgia"/>
              </a:rPr>
              <a:t>Půjčka v hotovosti nebo převodem na účet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– značně vyšší úrok než u účelového úvěru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24456"/>
                </a:solidFill>
                <a:latin typeface="Trebuchet MS"/>
              </a:rPr>
              <a:t>BANKOVNÍ OPERACE I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95280" y="1267920"/>
            <a:ext cx="8569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0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c00000"/>
                </a:solidFill>
                <a:latin typeface="Georgia"/>
              </a:rPr>
              <a:t>Aktivní bankovní opera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Neúčelové úvěry pro občany i podnikatel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Georgia"/>
              </a:rPr>
              <a:t>4. Kreditní karty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– dluh veden na samostatném úvěrovém účtu, prostředky lze čerpat při nákupu v obchodech i při výběru hotovosti, banka může vydat, i když u ní nemáme vedení běžný účet, má tzv. „bezúročné období“ (např. 45 dnů), následuje velmi vysoký úro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Georgia"/>
              </a:rPr>
              <a:t>5. Americká hypotéka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– dlouhodobý úvěr, nutná zástava nemovitosti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Georgia"/>
              </a:rPr>
              <a:t>6. Revolvingový úvěr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– krátkodobý úvěr poskytovaný opakovaně (s každou splátkou se „spoří“ částka, kterou banka znovu půjčí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030a0"/>
                </a:solidFill>
                <a:latin typeface="Georgia"/>
              </a:rPr>
              <a:t>7. Lombardní úvěr 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– krátkodobý úvěr poskytovaný na zástavu movité věci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6T13:40:46Z</dcterms:created>
  <dc:creator>Acer</dc:creator>
  <dc:description/>
  <dc:language>en-US</dc:language>
  <cp:lastModifiedBy>Berka</cp:lastModifiedBy>
  <dcterms:modified xsi:type="dcterms:W3CDTF">2014-02-13T08:29:36Z</dcterms:modified>
  <cp:revision>23</cp:revision>
  <dc:subject/>
  <dc:title>VY_32_INOVACE_061_Ekonomika</dc:title>
</cp:coreProperties>
</file>