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BC25-2350-4FEA-A7B1-DE125B38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413B-CDD1-4FC5-AE0A-E678018C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144F-A2D3-4EDB-9E62-22388838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430B-C3DA-4C0D-BCDE-8023D048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7CF8-C1D4-451D-949C-2C208E85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9059-F934-4E6F-9BBB-E5CD7395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9BAD-4E8C-48D3-A159-E15A36FC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F763-B588-4D87-98D1-7BDBD160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A906-1554-4986-9C6F-BD8B5743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95E4-00D5-4950-95EA-807764B5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0491-3352-4C06-9D63-1CE33298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B227-8052-4F70-8060-C844812E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66A9-9FC9-4875-B15F-5AEDD2B5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4E2B-3495-4F58-A786-BDFA526B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490F-CDE0-4D0A-80F7-7C36DCC9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D74F-D073-41F9-81DD-B2E75BC2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5C4B-5792-477F-9E14-537455ED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E1556F-511A-42E7-8FAF-CE757BB8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CEEDC-4C96-4589-8545-22976E50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6E6B24-516A-42C1-910D-6278EE42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19A29-9168-4AE7-A81C-0089B387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5AE614-2A21-4060-8DA6-07A493D1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A641-9407-4306-8C6F-B2BB52ED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1734F-B485-44E7-9591-12F3DB71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36DCD-252E-4AF2-AA52-8C2610B3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30077-5A6E-4034-AFE6-7957023F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7C283A-4841-4D64-9A0A-90532108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B808B-2D46-4020-B308-AF6A241F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4D88E-1498-49C9-8B22-F694ED59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4A1D64-E5F6-41DC-A06E-2ECC807E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00063-9936-4BF9-A6A5-F655C79F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D177D-2E24-446E-AE14-EB8344DD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AC9CD-FBC2-461C-8187-487BFF78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B3CE-8BA7-427A-AA02-FD8F596B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070F0-5FF6-42B7-BE5A-36666097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FCCF2-5337-42F4-ACCF-04CB5994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4C5C6-91AE-4148-BF9D-82F9E188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9E236-E135-4953-AC9C-107D42A8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5196D-94CA-4468-BC93-C4333C20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2C51A-782C-41BA-9D6E-C3D1586E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57FAC-BBBC-4EEC-9EF1-F39C05EC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CA1C4-1FAE-4998-B093-1265B76D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DBD9A-8E66-47ED-B7AB-AB1D7804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71F-296D-40BD-A74D-E1C0DF4C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3FC-C5A3-4554-8051-B4DF7361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19C1-7E4B-4B76-844A-FE715BA2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AA64-1B7A-485C-8AF8-760E58AB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9D87-1FC5-4F58-819A-9605B0D4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1494-E1B7-4320-B5F0-7E908785C03F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bdélník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Obdélník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Obdélník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bdélník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bdélník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Zaoblený obdélník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Zaoblený obdélník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Obdélník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Obdélník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Obdélník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Obdélník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8450-FDCB-40D9-9AB7-B0A6D010DAF1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90C1-4EBE-413F-A67B-021AABDD4ABC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7163-0332-482A-A371-441A3F6E72BB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80139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Calibri"/>
              </a:rPr>
              <a:t>VY_32_INOVACE_097_Ekonomika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26920" y="4436640"/>
            <a:ext cx="7345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424456"/>
                </a:solidFill>
                <a:latin typeface="Georgia"/>
              </a:rPr>
              <a:t>Bankovní operace II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24456"/>
                </a:solidFill>
                <a:latin typeface="Georgia"/>
              </a:rPr>
              <a:t>Autor: Mgr. Roman Berk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Obrázek 3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268280"/>
            <a:ext cx="8578800" cy="53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c00000"/>
                </a:solidFill>
                <a:latin typeface="Georgia"/>
              </a:rPr>
              <a:t>Pasivní bankovní operace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Georgia"/>
              </a:rPr>
              <a:t>Bankovní a jiné poplatk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banka si sama zvolí sazby jednotlivých poplatků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poplatky vybírají i pojišťovny, spořitelny, a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např.: za vedení účtu, internetové bankovnictví, měsíční výpis, aj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často se využívají tzv. balíčky služeb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Georgia"/>
              </a:rPr>
              <a:t>Zrušení účt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lient má právo kdykoli zrušit úče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je třeba zrušit trvalé příkazy, vrátit platební karty, šekové knížky, aj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po zúčtování všech plateb, úroků a poplatků se účet uzavře a zbylá částka se vyplatí majiteli účt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24456"/>
                </a:solidFill>
                <a:latin typeface="Trebuchet MS"/>
              </a:rPr>
              <a:t>BANKOVNÍ OPERACE II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341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c00000"/>
                </a:solidFill>
                <a:latin typeface="Georgia"/>
              </a:rPr>
              <a:t>Pasivní bankovní operac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Devizový úč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účet vedený </a:t>
            </a:r>
            <a:r>
              <a:rPr b="0" lang="cs-CZ" sz="2800" spc="-1" strike="noStrike">
                <a:solidFill>
                  <a:srgbClr val="7030a0"/>
                </a:solidFill>
                <a:latin typeface="Georgia"/>
              </a:rPr>
              <a:t>v cizí měn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deviza je cizí měna v bezhotovostní podob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yužívají firmy, které mají časté obraty ve velkých částkách (nevýhodný pro běžného občan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elmi nízký, někdy žádný úro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řepočet cizí měny podle aktuálního kurzovního lístk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8428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Georgia"/>
              </a:rPr>
              <a:t>Úročení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Pro vklady i úvěry máme </a:t>
            </a:r>
            <a:r>
              <a:rPr b="1" lang="cs-CZ" sz="3200" spc="-1" strike="noStrike">
                <a:solidFill>
                  <a:srgbClr val="000000"/>
                </a:solidFill>
                <a:latin typeface="Georgia"/>
              </a:rPr>
              <a:t>3 základní typy úročení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030a0"/>
                </a:solidFill>
                <a:latin typeface="Georgia"/>
              </a:rPr>
              <a:t>1. Jednoduché úročení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- používá se u finančních produktů s dobou trvání do 1 roku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030a0"/>
                </a:solidFill>
                <a:latin typeface="Georgia"/>
              </a:rPr>
              <a:t>2. Složené úročení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- používá se, pokud vklad popř. půjčka trvá déle než 1 rok, úrok se počítá pomocí tzv. úročitel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484280"/>
            <a:ext cx="850752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c00000"/>
                </a:solidFill>
                <a:latin typeface="Georgia"/>
              </a:rPr>
              <a:t>Úročení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7030a0"/>
                </a:solidFill>
                <a:latin typeface="Georgia"/>
              </a:rPr>
              <a:t>3. Kombinované úročení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- používá se v případech, kdy </a:t>
            </a:r>
            <a:r>
              <a:rPr b="0" lang="cs-CZ" sz="2600" spc="-1" strike="noStrike">
                <a:solidFill>
                  <a:srgbClr val="c00000"/>
                </a:solidFill>
                <a:latin typeface="Georgia"/>
              </a:rPr>
              <a:t>celkovou dobu tvoří více než jedno úrokovací období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a ještě část dalšího úrokového období, </a:t>
            </a:r>
            <a:r>
              <a:rPr b="0" lang="cs-CZ" sz="2600" spc="-1" strike="noStrike">
                <a:solidFill>
                  <a:srgbClr val="c00000"/>
                </a:solidFill>
                <a:latin typeface="Georgia"/>
              </a:rPr>
              <a:t>kombinuje se zde jednoduché a složené úročení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(za celá období složeným, za část jednoduchým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7030a0"/>
                </a:solidFill>
                <a:latin typeface="Georgia"/>
              </a:rPr>
              <a:t>Období úročení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roční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p. a.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ololetní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p. s.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čtvrtletní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p. q.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měsíční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p. m.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1628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c00000"/>
                </a:solidFill>
                <a:latin typeface="Georgia"/>
              </a:rPr>
              <a:t>Neutrální bankovní operac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měnárenská činno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oradenstv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ronájem bezpečnostních schráne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oskytování informac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práva  majetku klientů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34136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Georgia"/>
              </a:rPr>
              <a:t>Neutrální bankovní operac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Směnárenská činnost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 rámci zprostředkovatelských bankovních operací nabízí banka </a:t>
            </a:r>
            <a:r>
              <a:rPr b="0" lang="cs-CZ" sz="2800" spc="-1" strike="noStrike">
                <a:solidFill>
                  <a:srgbClr val="c00000"/>
                </a:solidFill>
                <a:latin typeface="Georgia"/>
              </a:rPr>
              <a:t>nákup a prodej cizí měny,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ať už ve formě valuty nebo deviz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ro směnárny vydává každý den </a:t>
            </a:r>
            <a:r>
              <a:rPr b="0" lang="cs-CZ" sz="2800" spc="-1" strike="noStrike">
                <a:solidFill>
                  <a:srgbClr val="7030a0"/>
                </a:solidFill>
                <a:latin typeface="Georgia"/>
              </a:rPr>
              <a:t>ČNB aktuální kurzovní lístek s kurzy jednotlivých měn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(nákup i prodej, valuty i deviz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 lístku zveřejňuje </a:t>
            </a:r>
            <a:r>
              <a:rPr b="0" lang="cs-CZ" sz="2800" spc="-1" strike="noStrike">
                <a:solidFill>
                  <a:srgbClr val="c00000"/>
                </a:solidFill>
                <a:latin typeface="Georgia"/>
              </a:rPr>
              <a:t>ČNB pro každou měnu 1 kurz,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který pak dále slouží pro obchody s ostatními bankami, pro přepočty v účetnictví, celnictví, aj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000" y="1557360"/>
            <a:ext cx="843444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Georgia"/>
              </a:rPr>
              <a:t>Neutrální bankovní oper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Poradenství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Banka jedná s klientem, nabízí mu dle jeho situace nejvhodnější bankovní produk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Pronájem bezpečnostních schránek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Klienti mohou využívat bezpečnostní schránky pro úschovu cenností, listin, cenných papírů, aj., do schránek se nesmí ukládat střelivo, hořlavé či jedovaté látky apod., banka zodpovídá za uložené věci v plné míře, roční poplatek za pronájem se pohybuje mezi Kč 1.200 – 15.000,--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413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c00000"/>
                </a:solidFill>
                <a:latin typeface="Georgia"/>
              </a:rPr>
              <a:t>Neutrální bankovní operace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eorgia"/>
              </a:rPr>
              <a:t>Poskytování informací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Banka má povinnost poskytovat klientům informace o veškerých </a:t>
            </a:r>
            <a:r>
              <a:rPr b="0" lang="cs-CZ" sz="2600" spc="-1" strike="noStrike">
                <a:solidFill>
                  <a:srgbClr val="7030a0"/>
                </a:solidFill>
                <a:latin typeface="Georgia"/>
              </a:rPr>
              <a:t>podmínkách obchodu,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do kterého klient s bankou vstupuje, ze strany klienta banka vyžaduje informace o tzv. </a:t>
            </a:r>
            <a:r>
              <a:rPr b="0" lang="cs-CZ" sz="2600" spc="-1" strike="noStrike">
                <a:solidFill>
                  <a:srgbClr val="7030a0"/>
                </a:solidFill>
                <a:latin typeface="Georgia"/>
              </a:rPr>
              <a:t>bonitě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(fin. situaci klienta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eorgia"/>
              </a:rPr>
              <a:t>Správa majetku klientů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Banka by podle požadavků klienta měla jeho majetek vhodně investovat, měla by vytvořit vyrovnané </a:t>
            </a:r>
            <a:r>
              <a:rPr b="0" lang="cs-CZ" sz="2600" spc="-1" strike="noStrike">
                <a:solidFill>
                  <a:srgbClr val="7030a0"/>
                </a:solidFill>
                <a:latin typeface="Georgia"/>
              </a:rPr>
              <a:t>portfolio</a:t>
            </a:r>
            <a:r>
              <a:rPr b="1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optimalizovat výnosnost a rizikovost investic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70028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c00000"/>
                </a:solidFill>
                <a:latin typeface="Georgia"/>
              </a:rPr>
              <a:t>Moderní formy bankovnictví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lužby bank se stále zdokonalují a nabízejí klientům co možná nejsnadnější přístup k penězům, samoobslužné zóny při vstupu do banky, možnost internetového bankovnictví a jiné dodatkové služb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atří sem především </a:t>
            </a: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přímé bankovnictv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70028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Georgia"/>
              </a:rPr>
              <a:t>Moderní formy bankovnictví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Přímé bankovnictví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tyk s bankou lze bez přímého a osobního kontaktu s personálem banky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důkladné zabezpečení (heslem, šifrovanými údaji, aj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Georgia"/>
              </a:rPr>
              <a:t>1. Samoobslužné zón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 bance je vymezen prostor (u vstupu) přístupný 24 hodin denně s automaty (bankomat, automat na výpisy, noční trezor, aj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24456"/>
                </a:solidFill>
                <a:latin typeface="Trebuchet MS"/>
              </a:rPr>
              <a:t>Záznamový list výukového materiálu</a:t>
            </a:r>
            <a:br>
              <a:rPr sz="18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68360" y="1628640"/>
          <a:ext cx="8229600" cy="5094360"/>
        </p:xfrm>
        <a:graphic>
          <a:graphicData uri="http://schemas.openxmlformats.org/drawingml/2006/table">
            <a:tbl>
              <a:tblPr/>
              <a:tblGrid>
                <a:gridCol w="2962080"/>
                <a:gridCol w="5267520"/>
              </a:tblGrid>
              <a:tr h="354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eorgia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53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Bankovní operace  I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3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VY_32_INOVACE_097_Ekonom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64-41-L/51 Podnik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4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3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3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4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9.12.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Materiál slouží k získání přehledu o pasivních bankovních operacích, úročení, neutrálních bankovních operacích a moderních formách bankovnictví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4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3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6840" y="1700280"/>
            <a:ext cx="8435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06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Georgia"/>
              </a:rPr>
              <a:t>Moderní formy bankovnictví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0a0"/>
                </a:solidFill>
                <a:latin typeface="Georgia"/>
              </a:rPr>
              <a:t>2. Ovládání účtu na dálku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Georgia"/>
              </a:rPr>
              <a:t>a) phonebanking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– příkazy jsou zadávány pomocí pevné linky nebo mobilního telefonu, GSM banking – využívá se technologie SIM TOOTHIT (instalovaný v mobilu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Georgia"/>
              </a:rPr>
              <a:t>b) homebanking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– dálkové propojení s bankou pomocí software, nahrazuje veškeré papírování a příkazy (využívají podniky, které mají hodně pohybů na účtu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84428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Georgia"/>
              </a:rPr>
              <a:t>Moderní formy bankovnictví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Georgia"/>
              </a:rPr>
              <a:t>c) internetbanking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– umožňuje komunikovat s bankou prostřednictvím internetu pomocí běžného prohlížeče (24 hodin denně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0a0"/>
                </a:solidFill>
                <a:latin typeface="Georgia"/>
              </a:rPr>
              <a:t>3. Platební karty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(debetní a kreditní kart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77300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Georgia"/>
              </a:rPr>
              <a:t>Použitá literatura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KLÍNSKÝ, Petr a Otto MÜNCH. </a:t>
            </a:r>
            <a:r>
              <a:rPr b="0" i="1" lang="cs-CZ" sz="2400" spc="-1" strike="noStrike">
                <a:solidFill>
                  <a:srgbClr val="000000"/>
                </a:solidFill>
                <a:latin typeface="Georgia"/>
              </a:rPr>
              <a:t>Ekonomika pro obchodní akademie a ostatní střední školy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. 3., upr. vyd. Praha: Eduko, 2010-2011. ISBN 978-80-87204-38-24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ZLÁMAL, Jaroslav a Zdeněk MENDL. </a:t>
            </a:r>
            <a:r>
              <a:rPr b="0" i="1" lang="cs-CZ" sz="2400" spc="-1" strike="noStrike">
                <a:solidFill>
                  <a:srgbClr val="000000"/>
                </a:solidFill>
                <a:latin typeface="Georgia"/>
              </a:rPr>
              <a:t>Ekonomie nejen k maturitě.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yd. 1. Kralice na Hané: Computer Media, 2007, 136 s. ISBN 978-80-86686-78-3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ZLÁMAL, Jaroslav a Zdeněk MENDL. Ekonomie nejen k maturitě. Vyd. 1. Kralice na Hané: Computer Media, 2007, 128 s. ISBN 978-80-86686-76-9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2249640"/>
            <a:ext cx="81471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Georgia"/>
              </a:rPr>
              <a:t>Pasivní bankovní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oper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Úročen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Neutrální bankovní oper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oderní formy bankovnictv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7030a0"/>
                </a:solidFill>
                <a:latin typeface="Georgia"/>
              </a:rPr>
              <a:t>2. roční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28280"/>
            <a:ext cx="822960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Georgia"/>
              </a:rPr>
              <a:t>Pasivní bankovní oper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Vkladové služby ban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rostřednictvím vkladů získávají banky prostředky na poskytování úvěrů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klady lze zřídit v korunách nebo v cizí měně (devizový účet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Georgia"/>
              </a:rPr>
              <a:t>1. Vklady na běžném účtu</a:t>
            </a:r>
            <a:r>
              <a:rPr b="0" lang="cs-CZ" sz="2400" spc="-1" strike="noStrike">
                <a:solidFill>
                  <a:srgbClr val="7030a0"/>
                </a:solidFill>
                <a:latin typeface="Georgi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- jde především o provádění platebního styku, nejsou pro banku stabilní, proto nízký úro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413000"/>
            <a:ext cx="8362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Georgia"/>
              </a:rPr>
              <a:t>Pasivní bankovní oper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Vkladové služby ban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Georgia"/>
              </a:rPr>
              <a:t>2. Spořící účet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- pro libovolné ukládání prostředků, větší úrok než na BÚ, určitá omezení pro výběr nebo disponování s těmito prostředky, často stanovena určitá výpovědní lhů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Georgia"/>
              </a:rPr>
              <a:t>3. Vkladní knížka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- tradiční způsob ukládání prostředků, potvrzuje vklad, pokud s ním chceme disponovat, musíme hotovost vybrat, často výpovědní lhů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Georgia"/>
              </a:rPr>
              <a:t>4. Termínované vklady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- vklady určené na pevně stanovenou částku a dobu, po vypršení lhůty můžeme hotovost vybrat, v případě předčasného výběru sankční poplate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413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Georgia"/>
              </a:rPr>
              <a:t>Pasivní bankovní operac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Pojištění vkladů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ro lepší bezpečnost zřízen </a:t>
            </a: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Fond pojištění vkladů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z příspěvků bank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 případě zkrachování banky proplatí Fond dlužné částky vkladatelům, s určitou omezenou částkou (100 000 EUR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Do této hranice proplatí Fond celý vklad, nad hranici nikoliv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268280"/>
            <a:ext cx="8362800" cy="53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Georgia"/>
              </a:rPr>
              <a:t>Pasivní bankovní oper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Účty – zřízení, vedení, zrušení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účet v bance se otevře na základě písemné </a:t>
            </a:r>
            <a:r>
              <a:rPr b="0" lang="cs-CZ" sz="2400" spc="-1" strike="noStrike">
                <a:solidFill>
                  <a:srgbClr val="7030a0"/>
                </a:solidFill>
                <a:latin typeface="Georgia"/>
              </a:rPr>
              <a:t>smlouvy o zřízení a vedení účtu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je třeba prokázat </a:t>
            </a:r>
            <a:r>
              <a:rPr b="0" lang="cs-CZ" sz="2400" spc="-1" strike="noStrike">
                <a:solidFill>
                  <a:srgbClr val="c00000"/>
                </a:solidFill>
                <a:latin typeface="Georgia"/>
              </a:rPr>
              <a:t>právní subjektivitu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(OP, výpis z obchodního rejstříku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tanovení </a:t>
            </a:r>
            <a:r>
              <a:rPr b="0" lang="cs-CZ" sz="2400" spc="-1" strike="noStrike">
                <a:solidFill>
                  <a:srgbClr val="7030a0"/>
                </a:solidFill>
                <a:latin typeface="Georgia"/>
              </a:rPr>
              <a:t>výpisů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dohoda, jak často budou klientovi chodit výpisy z účtu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Georgia"/>
              </a:rPr>
              <a:t>podpisový vzor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- zmocnění pro osoby, které budou s účtem nakládat (majitel účtu, jiné osoby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banka poskytuje k účtu i další </a:t>
            </a:r>
            <a:r>
              <a:rPr b="0" lang="cs-CZ" sz="2400" spc="-1" strike="noStrike">
                <a:solidFill>
                  <a:srgbClr val="7030a0"/>
                </a:solidFill>
                <a:latin typeface="Georgia"/>
              </a:rPr>
              <a:t>služby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platební karty, internetové bankovnictví, kontokorent, aj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Georgia"/>
              </a:rPr>
              <a:t>devizový účet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- účet, na kterém lze mít peníze v cizí měně (EUR, USD, aj.), lze vybírat v cizí měně nebo v korunách podle aktuálního kurzovního lístku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8428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08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Georgia"/>
              </a:rPr>
              <a:t>Pasivní bankovní operac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Účt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9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Georgia"/>
              </a:rPr>
              <a:t>pro podnikatele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– banka nesráží daň z úroků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9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Georgia"/>
              </a:rPr>
              <a:t>pro občany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– banka je povinna vypočítat, srazit a odvést daň z úroků za klienta, nižší poplatky než na podnikatelském účtu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9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Ukládání peněz na účet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9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ukládat na účet může prakticky kdokoliv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9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u vyšších částek z bezpečnostních důvodů nutné prokázat totožnost vkladatele (OP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9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uložit lze </a:t>
            </a:r>
            <a:r>
              <a:rPr b="0" lang="cs-CZ" sz="2400" spc="-1" strike="noStrike">
                <a:solidFill>
                  <a:srgbClr val="7030a0"/>
                </a:solidFill>
                <a:latin typeface="Georgia"/>
              </a:rPr>
              <a:t>hotově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pokladní složenka, noční trezor, poštovní poukázka) nebo </a:t>
            </a:r>
            <a:r>
              <a:rPr b="0" lang="cs-CZ" sz="2400" spc="-1" strike="noStrike">
                <a:solidFill>
                  <a:srgbClr val="7030a0"/>
                </a:solidFill>
                <a:latin typeface="Georgia"/>
              </a:rPr>
              <a:t>bezhotovostně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zaslání prostředků z jiného účtu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95280" y="1267920"/>
            <a:ext cx="8569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6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Georgia"/>
              </a:rPr>
              <a:t>Pasivní bankovní oper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latby z účtu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před provedením úhrady musí banka ověřit, zda je na účtu dostatek prostředků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dále musí ověřit totožnost osoby, která platbu požaduje (podpisový vzor, kód, aj.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c00000"/>
                </a:solidFill>
                <a:latin typeface="Georgia"/>
              </a:rPr>
              <a:t>1. Výběr hotovosti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na přepážce banky pomocí </a:t>
            </a:r>
            <a:r>
              <a:rPr b="0" lang="cs-CZ" sz="2200" spc="-1" strike="noStrike">
                <a:solidFill>
                  <a:srgbClr val="7030a0"/>
                </a:solidFill>
                <a:latin typeface="Georgia"/>
              </a:rPr>
              <a:t>výběrového lístku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(nutné prokázání totožnosti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v bankomatu pomocí </a:t>
            </a:r>
            <a:r>
              <a:rPr b="0" lang="cs-CZ" sz="2200" spc="-1" strike="noStrike">
                <a:solidFill>
                  <a:srgbClr val="7030a0"/>
                </a:solidFill>
                <a:latin typeface="Georgia"/>
              </a:rPr>
              <a:t>platební kart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c00000"/>
                </a:solidFill>
                <a:latin typeface="Georgia"/>
              </a:rPr>
              <a:t>2. Platby zprostředkované poštou - poštovní poukázky: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030a0"/>
                </a:solidFill>
                <a:latin typeface="Georgia"/>
              </a:rPr>
              <a:t>A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– pro odeslání hotovosti na účet v banc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030a0"/>
                </a:solidFill>
                <a:latin typeface="Georgia"/>
              </a:rPr>
              <a:t>B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– k proplacení hotovosti z účtu u bank (přeplatky, výživné,…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030a0"/>
                </a:solidFill>
                <a:latin typeface="Georgia"/>
              </a:rPr>
              <a:t>C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– k proplacení peněz zaslaných hotově od jiného plátc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6T13:40:46Z</dcterms:created>
  <dc:creator>Acer</dc:creator>
  <dc:description/>
  <dc:language>en-US</dc:language>
  <cp:lastModifiedBy>Berka</cp:lastModifiedBy>
  <dcterms:modified xsi:type="dcterms:W3CDTF">2014-02-13T08:27:33Z</dcterms:modified>
  <cp:revision>42</cp:revision>
  <dc:subject/>
  <dc:title>VY_32_INOVACE_061_Ekonomika</dc:title>
</cp:coreProperties>
</file>