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FB4-317F-4096-9CE1-FFE002E3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3D0-3E00-4B9D-AAEC-94F08646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C22-7528-40A3-B99E-6191A1AA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BC0-9863-4FC0-A2F1-2B3F4052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DD11-147F-4E72-8C44-D33F444E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C8DA-F03D-4D93-A6B3-8F458693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2DE7-65B2-4BCB-9753-310C8C7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FF6-BFDA-4EDA-BC6A-707F674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000-519E-418B-BA9A-BA8A856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B452-1042-4FC4-8371-21C392E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A0AE-750C-4A99-92C2-C505325B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09E-92C4-4CBB-AC96-DF0944E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C8C6-6B6A-4AC2-A6F7-3B155CB7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D3C8-8919-4FFD-A4F4-385AC98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694F-BFEA-465C-91CC-EA729576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2BAF-DBEB-4188-A593-04240C69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C69A-BA88-482B-B844-BFB84B15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D91F8-F691-4083-A889-7E27AABE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AB5E9-1011-446F-BB52-2D814B0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1C33-65E0-48E8-803E-36E4F3C8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C251-9689-4405-A891-3E8DA357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8649-DC61-4F86-9035-08E08AB6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994-6F0D-4690-ABA2-C23CEBC3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4600-CAE9-4545-8B7C-8EBDCC9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6E42-80A0-4F71-9748-1FA1908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A489-DD6A-4FCB-8B4A-8F5C7DA3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17A0-DE16-428C-B8DA-4D3C29B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232F-B528-43C0-9646-8D357BB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7ABA-6993-4621-9413-27A73BC1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7C46-9601-4156-ADC7-EB48F23F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0BD6-B500-46DC-85B5-597D14C8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D6DA-1684-4E2F-A8F5-C6859D1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56B22-8244-4AA7-82A1-139B08AE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B99-FCDE-4EB4-8D75-28183BEC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9012-5C62-40C5-8F91-9C9FF4EB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F815-343C-4971-AD63-0A13EA28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CEA6-C587-4FD0-954F-2B99F2DC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3D6E1-DFB1-4438-A0DC-B897D2CE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C48B-4283-463F-AE04-9A435AB2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E23B-FB82-42F5-86F6-14120A3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6C61-7CD7-4A18-B636-23CED862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6F488-70CE-4C43-9D08-46175E2E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AD73-6723-4BE0-A9B9-6D2F1B61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4D423-37AE-407C-9A48-E0EAC83B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E22-D311-4DAB-8831-79126893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1757-12E6-46BC-8B8B-56C11D2D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AF54-40FD-45AA-93AE-BD26FB1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0F57-AC6C-421F-B530-72432156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DE1D-86D0-4AE3-88AB-A1CA671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3AA70-76AD-4DFE-9593-7C510E90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CD069-C33D-484B-8138-880A717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2EF9-2A2E-4E2F-A701-52350C0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436D7-7597-4B7F-9069-BA57E745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EDDE-2F85-4CC4-A7EC-F0203261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30DC-F0D0-45CC-8496-92B3DB57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BD7-FE2E-4A10-9C47-03662C9C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7D414-CA26-41C4-9041-8556446E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1537-D299-43C5-BC3E-402313FE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BF3A0-E09F-4A8E-9195-132C1AF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167D4-9624-4419-8C96-BE99C950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BBC03-CF18-4048-A9DC-8B95E83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CBA2-9DBF-420C-8C18-A9D501C0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059DF-2C2C-4924-B7CC-82CD8DF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0665-6217-4610-A3A9-051C019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1E84-59D1-4697-B7D4-F252FE1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090E-6FD0-45EA-9AA1-F9E69E20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061-FF99-4C1F-B500-C7516BFD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06D1B-355F-4D04-963D-7A8FE463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5C8B9-A18B-4EDD-A414-90D844A0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48D34-8021-4CA2-80D5-D7C0A496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4974A-86C0-4E49-A936-439B15C3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A0369-0FCC-48BB-8CFF-DC30CE98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E5915-B90B-4AE4-84EE-7C477F6C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C239D-4B18-48B8-A6F0-B4305E83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3ACB-C84B-4AA2-939C-1496AE0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861B-37FF-464E-BAFC-793CAEB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ADBC3-DFBF-417C-AE3D-F898F2A2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F35-11DF-4EDD-A3CA-1635B06E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A6776-5BF6-4A3B-92EE-AB139EF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8049-B74F-45B9-AA69-9500C62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7C212-7DBA-4CAA-A9CE-16D6FE2E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9AD69-E8DD-4EE5-93B1-225672C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C3589-6174-4A20-8C57-0E71E22E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4DF9D-9457-4D35-A73C-B4FEE82D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8FC4B-05EA-4FC5-BC52-3EC4288F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80CD3-90C2-40F9-9665-43F9606A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94A17-ADC0-4CB0-8FE2-F53BC94F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CAD40-0BDA-4548-80F8-09F45230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B67-45CB-4DC3-A4FB-C9E67701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98281-E742-4981-AF94-178C4FA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6D03-AB60-4390-826A-9F63EAE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84F9-A7E1-49EB-98EE-CF8D247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5B57-584F-4E48-AF6D-B7243F03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39A4F-06CC-4708-9005-AB33748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E3078-DAAB-49E2-925C-A7C2D98B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7C73E-BAF2-4F7F-9931-5B7E6DC5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44B-AC62-47CC-B4A4-E13A32550780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368-D87F-491E-AF20-85461766AD91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CF90-7B5D-4FCF-98E1-93E61CFA31BC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C61F-B26B-426D-8C2C-B0A4057C97FB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6B79-58B9-4DD6-BF9C-B3644983DCA2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921A-4E8B-4081-BD9F-6E2C922562BC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2821-5B57-4A27-8022-D63F1D733C0E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425F-EC63-4D6B-8084-0E06C42D5612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Nadpis 1" descr=""/>
          <p:cNvPicPr/>
          <p:nvPr/>
        </p:nvPicPr>
        <p:blipFill>
          <a:blip r:embed="rId1"/>
          <a:stretch/>
        </p:blipFill>
        <p:spPr>
          <a:xfrm>
            <a:off x="426960" y="3340080"/>
            <a:ext cx="8320320" cy="22986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33080" y="1544760"/>
            <a:ext cx="82422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alibri"/>
              </a:rPr>
              <a:t>VY_32_INOVACE_085_Ekonom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3.  Náklady podle organizačních složek podn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ětší podniky jsou zpravidla </a:t>
            </a:r>
            <a:r>
              <a:rPr b="0" lang="cs-CZ" sz="1800" spc="-1" strike="noStrike">
                <a:solidFill>
                  <a:srgbClr val="a116e0"/>
                </a:solidFill>
                <a:latin typeface="Arial"/>
              </a:rPr>
              <a:t>uspořádány do vnitropodnikových organizačních útvarů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v jejichž čele stojí jednotliví vedoucí s určitou mírou pravomoci a odpověd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by náklady podniku byly co nejnižší je nutné </a:t>
            </a:r>
            <a:r>
              <a:rPr b="0" i="1" lang="cs-CZ" sz="1800" spc="-1" strike="noStrike">
                <a:solidFill>
                  <a:srgbClr val="6ea0b0"/>
                </a:solidFill>
                <a:latin typeface="Arial"/>
              </a:rPr>
              <a:t>plánovat a zjišťovat náklady i podle vnitropodnikových organizačních útvarů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které uskutečňují jednotlivé provozní a řídící čin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116e0"/>
                </a:solidFill>
                <a:latin typeface="Arial"/>
              </a:rPr>
              <a:t>Mezi útvary dochází k vnitropodnikové kooperaci a k poskytování a spotřebě výkonů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zahrnují </a:t>
            </a:r>
            <a:r>
              <a:rPr b="0" i="1" lang="cs-CZ" sz="1800" spc="-1" strike="noStrike">
                <a:solidFill>
                  <a:srgbClr val="6ea0b0"/>
                </a:solidFill>
                <a:latin typeface="Arial"/>
              </a:rPr>
              <a:t>náklady prvotní i druhotné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(prvotní – náklady na opravy strojů provedené dodavateli, druhotné – opravy provedené vlastním opravářským střediskem pomocné výroby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dle činností a organizačních složek podniku jsou </a:t>
            </a:r>
            <a:r>
              <a:rPr b="0" lang="cs-CZ" sz="1800" spc="-1" strike="noStrike">
                <a:solidFill>
                  <a:srgbClr val="a116e0"/>
                </a:solidFill>
                <a:latin typeface="Arial"/>
              </a:rPr>
              <a:t>náklady uspořádány v manažerském účetnictv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(tj. v rozpočetnictví a vnitropodnikovém účetnictv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chéma:  Přehled členění nákladů podle organizačních složek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droj:       Vlastní zprac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Organization Chart 6"/>
          <p:cNvGrpSpPr/>
          <p:nvPr/>
        </p:nvGrpSpPr>
        <p:grpSpPr>
          <a:xfrm>
            <a:off x="433440" y="3068640"/>
            <a:ext cx="8208360" cy="3023280"/>
            <a:chOff x="433440" y="3068640"/>
            <a:chExt cx="8208360" cy="3023280"/>
          </a:xfrm>
        </p:grpSpPr>
        <p:cxnSp>
          <p:nvCxnSpPr>
            <p:cNvPr id="372" name="_s2052"/>
            <p:cNvCxnSpPr>
              <a:stCxn id="373" idx="0"/>
              <a:endCxn id="374" idx="2"/>
            </p:cNvCxnSpPr>
            <p:nvPr/>
          </p:nvCxnSpPr>
          <p:spPr>
            <a:xfrm flipV="1" rot="16200000">
              <a:off x="5671440" y="3142800"/>
              <a:ext cx="605160" cy="2873520"/>
            </a:xfrm>
            <a:prstGeom prst="bentConnector3">
              <a:avLst>
                <a:gd name="adj1" fmla="val 263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5" name="_s2053"/>
            <p:cNvCxnSpPr>
              <a:stCxn id="376" idx="0"/>
              <a:endCxn id="374" idx="2"/>
            </p:cNvCxnSpPr>
            <p:nvPr/>
          </p:nvCxnSpPr>
          <p:spPr>
            <a:xfrm flipV="1">
              <a:off x="4537800" y="4277160"/>
              <a:ext cx="3600" cy="60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2054"/>
            <p:cNvCxnSpPr>
              <a:stCxn id="378" idx="0"/>
              <a:endCxn id="374" idx="2"/>
            </p:cNvCxnSpPr>
            <p:nvPr/>
          </p:nvCxnSpPr>
          <p:spPr>
            <a:xfrm flipH="1" flipV="1" rot="5400000">
              <a:off x="2798640" y="3143160"/>
              <a:ext cx="605160" cy="2873520"/>
            </a:xfrm>
            <a:prstGeom prst="bentConnector3">
              <a:avLst>
                <a:gd name="adj1" fmla="val 2636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74" name="_s2055"/>
            <p:cNvSpPr/>
            <p:nvPr/>
          </p:nvSpPr>
          <p:spPr>
            <a:xfrm>
              <a:off x="3306240" y="3068640"/>
              <a:ext cx="2462400" cy="12092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NÁKLADY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ODNIKU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_s2056"/>
            <p:cNvSpPr/>
            <p:nvPr/>
          </p:nvSpPr>
          <p:spPr>
            <a:xfrm>
              <a:off x="433440" y="4882680"/>
              <a:ext cx="2462400" cy="12092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Náklady správ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_s2057"/>
            <p:cNvSpPr/>
            <p:nvPr/>
          </p:nvSpPr>
          <p:spPr>
            <a:xfrm>
              <a:off x="3306240" y="4882680"/>
              <a:ext cx="2462400" cy="12092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provozní složky č. 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_s2058"/>
            <p:cNvSpPr/>
            <p:nvPr/>
          </p:nvSpPr>
          <p:spPr>
            <a:xfrm>
              <a:off x="6179400" y="4882680"/>
              <a:ext cx="2462400" cy="12092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provozní složky č. 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5. Náklady podle závislosti na objemu výk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Mezi celkové náklady podniku a objemem výkonů je vztah přímé závisl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čím vyšší je objem výkonů podniku,  tím jsou vyšší i jeho celkové náklady –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.: jestliže podnik vyrobí 100 ks výrobků, bude mít vyšší náklady, než když vyrobí jen 50 k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Pro všechny složky nákladů, které v podniku vznikají, to však neplat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(př.: dokáže-li podnik na stávajících strojích zvýšit výrobu o 10 %, odpisy ze strojů se nezvýší, nebo spotřeba energie na svícen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341360"/>
            <a:ext cx="8147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5. Náklady podle závislosti na objemu výko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le závislosti nákladů na objemu uskutečňovaných výkonů rozlišuje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Náklady stálé (fixní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při změně objemu výkonů se nem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při růstu objemu výkonů se jejich velikost připadající na jednotku výkonu snižuje, při poklesu objemu se naopak zvyšuje) –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jsou vyvolány udržováním určité kapacity a řízením podni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rozšíření výrobní kapacity) – odpisy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Náklady proměnné (variabilní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při změně objemu výkonů se m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při růstu objemu výkonů se jejich celková velikost zvyšuje, při poklesu objemu výkonů se snižuje) – spotřeba materiálu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341360"/>
            <a:ext cx="8075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5. Náklady podle závislosti na objemu výko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b) Náklady proměnné (variabilní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se dále člení n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Proporcionální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a116e0"/>
                </a:solidFill>
                <a:latin typeface="Arial"/>
              </a:rPr>
              <a:t>mění se stejně jako objem výkonů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(zvýší-li podnik prodej zboží o 10 % a prodavači jsou odměňováni podílovou mzdou, zvýší se jejich mzda o 10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ea0b0"/>
                </a:solidFill>
                <a:latin typeface="Arial"/>
              </a:rPr>
              <a:t>Degresivní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a116e0"/>
                </a:solidFill>
                <a:latin typeface="Arial"/>
              </a:rPr>
              <a:t>při růstu objemu výkonů se zvyšují pomalej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podíl připadající na jednotku výkonu se snižuje (zvýší-li obchodní podnik prodej zboží o 10 % a prodavači jsou odměňováni časovou mzdou s prémií, zvýší se prémie, vzroste tím i celková mzda, ale méně než o 10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Progresivní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a116e0"/>
                </a:solidFill>
                <a:latin typeface="Arial"/>
              </a:rPr>
              <a:t>při růstu objemu výkonů se zvyšují rychlej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podíl připadající na jednotku výkonu se zvětšuje (zvýší-li obchodní podnik prodej zboží o 10 % prodloužením prodejní doby a prodavači budou muset pracovat přesčas, zvýší se jejich mzda rychleji, protože za přesčasovou práci jim kromě základní mzdy náleží příplate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Náklady podle závislosti na objemu výkon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běh stálých a proměnných nákladů při růstu objemu výkon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5003640" y="2276640"/>
            <a:ext cx="0" cy="33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5003640" y="566100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684680" y="1824120"/>
            <a:ext cx="187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celkové náklady v Kč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7560720" y="573408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objem výkonů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12"/>
          <p:cNvSpPr/>
          <p:nvPr/>
        </p:nvSpPr>
        <p:spPr>
          <a:xfrm>
            <a:off x="6877080" y="59500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13"/>
          <p:cNvSpPr/>
          <p:nvPr/>
        </p:nvSpPr>
        <p:spPr>
          <a:xfrm flipV="1">
            <a:off x="4716360" y="2276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5003640" y="458136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6128280" y="494172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stálé (fixní) náklad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6084720" y="4092480"/>
            <a:ext cx="26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proměnné (variabilní) náklad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19"/>
          <p:cNvSpPr/>
          <p:nvPr/>
        </p:nvSpPr>
        <p:spPr>
          <a:xfrm flipV="1">
            <a:off x="5003640" y="1988640"/>
            <a:ext cx="2160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20"/>
          <p:cNvSpPr/>
          <p:nvPr/>
        </p:nvSpPr>
        <p:spPr>
          <a:xfrm flipV="1">
            <a:off x="5003640" y="2707920"/>
            <a:ext cx="208944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21"/>
          <p:cNvSpPr/>
          <p:nvPr/>
        </p:nvSpPr>
        <p:spPr>
          <a:xfrm flipV="1">
            <a:off x="5003640" y="3357360"/>
            <a:ext cx="2448000" cy="122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174800" y="183816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00"/>
                </a:solidFill>
                <a:latin typeface="Tahoma"/>
              </a:rPr>
              <a:t>progresivní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23"/>
          <p:cNvSpPr/>
          <p:nvPr/>
        </p:nvSpPr>
        <p:spPr>
          <a:xfrm>
            <a:off x="7157880" y="25588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ea0b0"/>
                </a:solidFill>
                <a:latin typeface="Tahoma"/>
              </a:rPr>
              <a:t>proporcionální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7469280" y="320688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5050"/>
                </a:solidFill>
                <a:latin typeface="Tahoma"/>
              </a:rPr>
              <a:t>degresivní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34100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6. Náklady explicitní a implicit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a116e0"/>
                </a:solidFill>
                <a:latin typeface="Arial"/>
              </a:rPr>
              <a:t>a) </a:t>
            </a:r>
            <a:r>
              <a:rPr b="0" lang="cs-CZ" sz="1600" spc="-1" strike="noStrike">
                <a:solidFill>
                  <a:srgbClr val="a116e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Náklady explicit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jsou </a:t>
            </a:r>
            <a:r>
              <a:rPr b="1" i="1" lang="cs-CZ" sz="2000" spc="-1" strike="noStrike">
                <a:solidFill>
                  <a:srgbClr val="6ea0b0"/>
                </a:solidFill>
                <a:latin typeface="Arial"/>
              </a:rPr>
              <a:t>náklady placen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v penězích)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někomu, kdo není vlastníkem firm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davatelům (materiál, doprava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covníkům (mz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ance (úroky za vypůjčený kapitá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jišťovně (pojiště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Náklady implicit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– jsou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náklady na zdroje, které firma sama vlastní a používá k podnik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a rozdíl od explicitních nákladů firma nemusí sama sobě za jejich použití platit (použití budovy, kterou firma vlastní, a tedy nemusí platit nájemn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ahoma"/>
              </a:rPr>
              <a:t>=&gt;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ahoma"/>
              </a:rPr>
              <a:t> jejich používáním se však firma připravuje o možnost získávat nájemné pronajímáním budovy někomu jinému –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  <a:ea typeface="Tahoma"/>
              </a:rPr>
              <a:t>„ušlé nájemné“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ahoma"/>
              </a:rPr>
              <a:t> - 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  <a:ea typeface="Tahoma"/>
              </a:rPr>
              <a:t>skrytý implicitní náklad</a:t>
            </a:r>
            <a:r>
              <a:rPr b="0" i="1" lang="cs-CZ" sz="1600" spc="-1" strike="noStrike">
                <a:solidFill>
                  <a:srgbClr val="6ea0b0"/>
                </a:solidFill>
                <a:latin typeface="Arial"/>
                <a:ea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c7c8b"/>
                </a:solidFill>
                <a:latin typeface="Aria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2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467840" cy="8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9640" y="1123920"/>
          <a:ext cx="8229600" cy="5551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409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klady podnik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85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.11.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2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nákladech podniku a jejich členění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26920" y="1600200"/>
            <a:ext cx="709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ákladní vymezení náklad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2. roční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6ea0b0"/>
                </a:solidFill>
                <a:latin typeface="Arial"/>
              </a:rPr>
              <a:t>Základní vymezení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áklady podniku rozumíme peněžní vyjádření spotřeby prostředků, služeb, práce, vynaložených na vytvářené statky a služby –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„peněžní vyjádření spotřeby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nuje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cenu spotřebovaného materiálu, odpisy DM, mzdy a ostatní sociální náklady, cenu spotřebovaných služeb, platby finanční povah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daně, pokuty, penále, ztráty, manka a škody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c7c8b"/>
                </a:solidFill>
                <a:latin typeface="Arial"/>
              </a:rPr>
              <a:t>Členění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odle nákladových druh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v jaké podobě byly vynalože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odle účelu – činností a výkon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na co byly vynalože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odle organizačních složek podnik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kde a kým byly vynalože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odle závislosti na objemu výkon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jak se mění při změně objemu výkon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Náklady explicitní a implicit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84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8920" y="83664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Náklady podle druh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ajímáme se o to, </a:t>
            </a: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co podnik spotřeboval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materiál, energie, opravy a údržba, cestovné, mzdy, odpisy, úroky, …) –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áklady „prvotní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účetnictví jsou uspořádány do těchto skup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spotřebované nákup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spotřeba materiálu, energie, prodané zboží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služb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opravy a údržba, cestovné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osobní náklad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mzdy, SP, ZP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daně a poplat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daň silniční, z nemovitos, i, soudní a správní poplatky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jiné provozní náklad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dary, smluvní pokuty a penále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odpisy, rezervy, opravné polož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odpisy DM, tvorba a zúčtování rezerv, opravných polož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finanční náklad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úroky, kurzové ztráty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mimořádné náklad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manka a škody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116e0"/>
                </a:solidFill>
                <a:latin typeface="Arial"/>
              </a:rPr>
              <a:t>daň z příjmů a převodové úč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daň z příjmů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19664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1. Náklady podle druhů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vedené uspořádání umožňuje odlišit náklad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provozní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na provozní činnost) – výroba výrobků, prodej zboží, doprava –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úč. skupina 1 – 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finanční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na finanční činnost) – obchodování s CP, úvěr –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úč. skupina 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mimořádné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na mimořádnou činnost) – manka a škody, … -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úč. skupina 7, 8,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83628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2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. Náklady podle účelu (činnosti, výkon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kud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podnik uskutečňuje více provozních činností a v jejich rámci vytváří více druhů výkon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(větší podniky se zpravidla nezabývají jedinou provozní činností, v níž by vznikal jeden druh výrobku, případně pouze jeden druh služeb – zemědělský podnik má výrobu živočišnou a rostlinnou a v jejich rámci vytváří různé výrobky – mléko, obilí, brambory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 členění nákladů vzniká problém v tom, že pouze u části nákladů jsme schopni přímo zjistit, které provozní činnosti se týkají –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část nákladů je společn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spojené s řízením podniku jako celku, nebo jednotlivých organizačních složek (mzdy zaměstnanců, odpisy, spotřeba energie, …) –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„režijní náklady</a:t>
            </a:r>
            <a:r>
              <a:rPr b="0" i="1" lang="cs-CZ" sz="2000" spc="-1" strike="noStrike">
                <a:solidFill>
                  <a:srgbClr val="6ea0b0"/>
                </a:solidFill>
                <a:latin typeface="Arial"/>
              </a:rPr>
              <a:t>“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PODNIKU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Členění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Náklady podle účelu (činnosti, výkon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Schéma:   Přehled členění nákladů podle účel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      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Organization Chart 6"/>
          <p:cNvGrpSpPr/>
          <p:nvPr/>
        </p:nvGrpSpPr>
        <p:grpSpPr>
          <a:xfrm>
            <a:off x="431640" y="4005360"/>
            <a:ext cx="8208360" cy="2039400"/>
            <a:chOff x="431640" y="4005360"/>
            <a:chExt cx="8208360" cy="2039400"/>
          </a:xfrm>
        </p:grpSpPr>
        <p:cxnSp>
          <p:nvCxnSpPr>
            <p:cNvPr id="360" name="_s1028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767920" y="3587760"/>
              <a:ext cx="408600" cy="2873520"/>
            </a:xfrm>
            <a:prstGeom prst="bentConnector3">
              <a:avLst>
                <a:gd name="adj1" fmla="val 263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3" name="_s1029"/>
            <p:cNvCxnSpPr>
              <a:stCxn id="364" idx="0"/>
              <a:endCxn id="362" idx="2"/>
            </p:cNvCxnSpPr>
            <p:nvPr/>
          </p:nvCxnSpPr>
          <p:spPr>
            <a:xfrm flipV="1">
              <a:off x="4536000" y="4820400"/>
              <a:ext cx="3600" cy="40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5" name="_s1030"/>
            <p:cNvCxnSpPr>
              <a:stCxn id="366" idx="0"/>
              <a:endCxn id="362" idx="2"/>
            </p:cNvCxnSpPr>
            <p:nvPr/>
          </p:nvCxnSpPr>
          <p:spPr>
            <a:xfrm flipH="1" flipV="1" rot="5400000">
              <a:off x="2895120" y="3588120"/>
              <a:ext cx="408600" cy="2873520"/>
            </a:xfrm>
            <a:prstGeom prst="bentConnector3">
              <a:avLst>
                <a:gd name="adj1" fmla="val 263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62" name="_s1031"/>
            <p:cNvSpPr/>
            <p:nvPr/>
          </p:nvSpPr>
          <p:spPr>
            <a:xfrm>
              <a:off x="3304440" y="4005360"/>
              <a:ext cx="2462400" cy="81576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NÁKLADY PODNIKU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_s1032"/>
            <p:cNvSpPr/>
            <p:nvPr/>
          </p:nvSpPr>
          <p:spPr>
            <a:xfrm>
              <a:off x="431640" y="5229000"/>
              <a:ext cx="2462400" cy="81576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Náklady společné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režijní – přímé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epřímé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_s1033"/>
            <p:cNvSpPr/>
            <p:nvPr/>
          </p:nvSpPr>
          <p:spPr>
            <a:xfrm>
              <a:off x="3304440" y="5229000"/>
              <a:ext cx="2462400" cy="81576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Náklady na činnost X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_s1034"/>
            <p:cNvSpPr/>
            <p:nvPr/>
          </p:nvSpPr>
          <p:spPr>
            <a:xfrm>
              <a:off x="6177600" y="5229000"/>
              <a:ext cx="2462400" cy="81576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b3b3b"/>
                  </a:solidFill>
                  <a:latin typeface="Tahoma"/>
                </a:rPr>
                <a:t>Náklady na činnost 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48:08Z</dcterms:created>
  <dc:creator>Monika</dc:creator>
  <dc:description/>
  <dc:language>en-US</dc:language>
  <cp:lastModifiedBy>Berka</cp:lastModifiedBy>
  <dcterms:modified xsi:type="dcterms:W3CDTF">2014-02-13T08:08:12Z</dcterms:modified>
  <cp:revision>86</cp:revision>
  <dc:subject/>
  <dc:title>EKONOMIKA  PODNIKU</dc:title>
</cp:coreProperties>
</file>