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7C2-53D1-4409-904B-169A2D87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4BF-C60F-46AE-B4D0-BFFAEEE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164-0C0B-43B7-BF5E-A596857E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D35-E26D-4DC0-9BBE-BD87A0A0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5786-1991-47AF-AF30-C83B89CC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3FDC-4479-4E5D-AFD7-F3055F41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BA1-5A46-498B-ACC6-528C9CA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AC57-6521-4E9F-BEAC-D6BFC45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6187-7AD9-44F9-BFDD-C2ED9BF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441A-0436-4FD8-BB1C-3096F4A0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3233-848D-449F-936E-931D9C7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B1D-DC34-43BD-909B-F93CFFC2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153C-16E9-4647-A73B-E32FE47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A6B-9ECD-4AA1-8DD4-3850C7F4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AE3-C401-430F-B8BF-1A57113B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753-FC8E-49C2-84D5-4328E7D2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B446-0C40-4935-AE56-A0F92CA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40F1-0F50-4CEA-A85E-8E317EAF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DEEF-0816-4865-BB52-1722E90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AADE-81D6-4D5F-99E3-0F515DA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F187-C381-4BC6-9B13-FD82CFF7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4332-DEAE-4F3C-A75E-F5BD258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1B2-B1EA-49D0-944F-11D4021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3310-12CE-4ACC-A430-2D5E8A2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C8BA-E4D5-4426-B356-CEBC5AC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F7AC-3258-4471-A0CA-606591E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79EE-398C-4DF5-9D84-49C3B2A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5405-35EB-4B63-9AD1-B6DDCA0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8656-D18C-460F-A60A-0DC6C271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8B09-ED69-4159-B2DB-1CF3EE3A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9F9F-B9F2-4718-87B4-8D4A43B3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F179-0750-4185-9410-E8BDC04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DA78-564D-4D57-A03F-95F26BE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38E-1EE8-4F90-A4A6-BEC7737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2AB4-6F43-4773-B51C-AEE7ACCE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A356-1C42-48FB-9301-2F3D9102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22F4-FBFE-4AE3-842F-64EC5A1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851D-E61D-4145-9E5B-896CD03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38E2-A901-4972-8432-7E9DE8FF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1ACC-2623-4433-8B58-C5EAAF4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7179-60E6-41DA-9C16-4131A88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615E1-A472-48C0-A63C-FB129605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A08A-9634-44F7-80EF-B8E413F0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0C21-A5E6-499C-B86B-6DE273F9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989-C46F-488B-9A18-85E993F1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D492-4B23-41BC-9F85-4A1E101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08C5-58EA-4949-AEFB-974D258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0155-08DB-4E8E-954F-3D6F1F8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5178-6E76-41B9-9D3E-FC40E5F7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D0F5-D101-463E-8473-42869B0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DDE9-6059-4AAC-B6C1-C12435D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099F-8E73-44A0-9368-5A0C52C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8D9F-91D2-4BD4-B7C4-93C18941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C513-B440-4388-BE3C-55D72A83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DEC6-EFE1-4443-8416-E4B41862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FBC-EA31-410E-8CCE-84CA3B9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469E-218B-42D3-96AA-EC7A7EBD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DF99-9E82-46D4-82ED-FC651F27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7B941-15E9-4023-9FAD-9EA9689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CF14B-EE34-4DCE-A717-81FFAFA2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4ADBB-BE1C-4A7D-8FA2-461123F5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7FDE-D8C5-4BA1-A13F-59BE557F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C9DD1-8B0F-473D-A158-D75C7B3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3EF2-F3F6-46FA-84D2-597433C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AEC3-98C4-413F-8E37-4358786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A9F66-3EE7-4838-BDDD-30AB0EF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FDA-6C28-4E77-A5B8-2C88EC8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7DAC-4F06-4DDD-9C67-6F00BA1C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CDFA-F6D2-46C6-A082-F42FD9E2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FD21E-301B-45FE-8E31-FE4DB12E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1A34-5BE6-429C-AC2F-4C30D777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29BE-0A35-43A5-9ABE-428C519E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A1A1-BE5A-46A7-88DF-FA95F3C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8C0F-F7D8-4DE6-84C0-51B36E3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9E0D2-9A32-4C89-8A40-82011E7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B7D2-934A-47B9-BC14-A78FC78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FB6E-5F1A-4220-9393-7E1C894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9DC-62A5-493E-9934-E3BEE12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941D-2238-4B48-A4A6-F226FF2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6F9D-047A-405B-9D05-B197F22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7C15B-091F-4A4A-8814-5DB4BCA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68DC7-5886-4295-9B5E-C5D18DB6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BBDC-8B56-4187-A253-C327CCC1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55D-F258-499C-AD9B-B472925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8283-1069-48D1-9E6A-5A76764287B5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632-9AB0-4396-9AC3-37B7272DB408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637-1B2F-4DFD-88AB-274E89F591E6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CD2-7EB0-4AA9-88FC-6DB1B6B9D4F2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9F4F-3130-41E1-A872-B04BFC0CDBC4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2F8C-0BAE-4663-9FA7-1BEDB5700BB9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římá spojnice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Přímá spojnice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Přímá spojnice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Přímá spojnice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Přímá spojnice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Přímá spojnice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Přímá spojnice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Přímá spojnice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Přímá spojnice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Přímá spojnice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BC81-0227-4780-B5D7-DFC5FF8378A2}" type="slidenum">
              <a:rPr b="0" lang="cs-CZ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847800" y="3468600"/>
            <a:ext cx="7772400" cy="2992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47800" y="197604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VY_32_INOVACE_081_Ekonomik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Obrázek 3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Vznik podniku (právní subjektivit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157a"/>
                </a:solidFill>
                <a:latin typeface="Corbel"/>
              </a:rPr>
              <a:t>Obchodní rejstří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Je 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veřejná listina, do které se zapisují subjekty podnikání na území našeho stát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Vedou je pověřené soudy – </a:t>
            </a:r>
            <a:r>
              <a:rPr b="1" lang="cs-CZ" sz="2400" spc="-1" strike="noStrike">
                <a:solidFill>
                  <a:srgbClr val="00ccff"/>
                </a:solidFill>
                <a:latin typeface="Corbel"/>
              </a:rPr>
              <a:t>„rejstříkové soudy“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Do obchodního rejstříku se zapisují všechny podniky bez ohledu na vlastnické a  právní form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Do obchodního rejstříku může každý nahlédnout, pořídit si výpis či potvrze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ccff"/>
                </a:solidFill>
                <a:latin typeface="Corbel"/>
              </a:rPr>
              <a:t>Zánik podnik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cs-CZ" sz="2200" spc="-1" strike="noStrike">
                <a:solidFill>
                  <a:srgbClr val="ea157a"/>
                </a:solidFill>
                <a:latin typeface="Corbel"/>
              </a:rPr>
              <a:t>Zákon vymezuje řadu možností zániku podniku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Sloučení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fúze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Rozdělení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Zrušení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z vlastní vůle, uplynutím doby, na kterou byl podnik založen, po splnění cílů, pro které byl podnik založen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Likvida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Uvalení konkurzu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podnik se dostane do platební neschopnosti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Smrt majitele nebo společník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Na způsobu a době zániku se mohou zakladatelé dohodnou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00280"/>
            <a:ext cx="77724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Členění podnik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1. Podle druh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podle výkonu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podniky vyrábějící hmotné statky (těžební průmysl, zemědělství, energetické, zpracovatelské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podniky poskytující služb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836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Členění podnik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157a"/>
                </a:solidFill>
                <a:latin typeface="Corbel"/>
              </a:rPr>
              <a:t>Podniky poskytující služby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Rozdělení a směna hmotných statků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obchodní, skladovací, dopravní podniky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Zajištění peněžních prostředků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a hospodaření s nimi (banky, jiné peněžní ústavy – spořitelny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Údržba a oprava výrobků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servisní podniky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Zajišťování 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ochrany majetku a osob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pojišťovny, soudy, bezpečností agentury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Péče o zdraví a tělesnou a duševní kondici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zdravotnictví, lázeňství, tělovýchova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Ubytování, přeprava osob a informací, rekre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Výchova a vzdělání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školy, školky, psychologické ústavy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Členění podnik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2. Podle velik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počtu zaměstnanců)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Nejmenší podnik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do 10 zaměstnanc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Malé podnik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několik desítek zaměstnanc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Střední podnik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několik set zaměstnanc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Velké podniky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nad 500 zaměstnanců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1280" y="1483920"/>
            <a:ext cx="820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Členění podnik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ff00"/>
                </a:solidFill>
                <a:latin typeface="Corbel"/>
              </a:rPr>
              <a:t>3. </a:t>
            </a:r>
            <a:r>
              <a:rPr b="1" i="1" lang="cs-CZ" sz="2200" spc="-1" strike="noStrike">
                <a:solidFill>
                  <a:srgbClr val="00ff00"/>
                </a:solidFill>
                <a:latin typeface="Corbel"/>
              </a:rPr>
              <a:t>Podle příslušnosti k určitému odvětví</a:t>
            </a: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– rozdělení podle podobnosti výkonů, využití podobných materiálů a investičního majetku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Zemědělství, myslivost, lesní hospodářství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chov zvířat, pěstování plodin, les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Rybolov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Dobývání nerostných surovin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využití přírody k dobývání surovin, využití ner. surovin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Obchod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nákup, prodej – doprava, skladování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Pohostinství, ubytování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bary, restaurace, ubytovny – hotely, motely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Školství 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(vzdělávání, výchova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Dopravní podniky</a:t>
            </a:r>
            <a:r>
              <a:rPr b="0" lang="cs-CZ" sz="2200" spc="-1" strike="noStrike">
                <a:solidFill>
                  <a:srgbClr val="ffffff"/>
                </a:solidFill>
                <a:latin typeface="Corbel"/>
              </a:rPr>
              <a:t> (ČD, autobusová, letecká, vodní doprava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ff"/>
                </a:solidFill>
                <a:latin typeface="Corbel"/>
              </a:rPr>
              <a:t>Členění podnik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„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JOIN VENTURES“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zvláštní případ podniku – podnik se zahraniční kapitálovou účast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1280" y="1413000"/>
            <a:ext cx="8353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Formy podnikán</a:t>
            </a:r>
            <a:r>
              <a:rPr b="1" lang="cs-CZ" sz="1600" spc="-1" strike="noStrike">
                <a:solidFill>
                  <a:srgbClr val="00ccff"/>
                </a:solidFill>
                <a:latin typeface="Corbel"/>
              </a:rPr>
              <a:t>í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Státní podniky: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- ziskový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(podnikatelského zaměření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                                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- neziskový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pro uspokojování veřejně prospěšných zájmů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Podniky jednotlivců (živnosti):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z hlediska zahájení činnosti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(ohlašovací – řemeslné, vázané, volné, koncesové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z hlediska předmětu podnikání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výrobní, obchodní, poskytování služeb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Družstva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– společenství neuzavřeného počtu FO i PO založené za účelem podnikání nebo zajišťování sociálních, hospodářských a jiných potřeb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Obchodní společnosti: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- kapitálové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(s. r. o., a. s.),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cs-CZ" sz="2000" spc="-1" strike="noStrike">
                <a:solidFill>
                  <a:srgbClr val="00ccff"/>
                </a:solidFill>
                <a:latin typeface="Corbel"/>
              </a:rPr>
              <a:t> osobní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     (v. o. s., k. s.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Corbel"/>
              </a:rPr>
              <a:t>Ostatní (jiná forma podnikání)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 – holding, kartel, join ventures, tichý společník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ff00"/>
                </a:solidFill>
                <a:latin typeface="Corbel"/>
              </a:rPr>
              <a:t>OKOLÍ PODNIK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Při své činnosti podnik spolupracuje se svým okolím (odběratelé, dodavatelé, banky, úřady, …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ccff"/>
                </a:solidFill>
                <a:latin typeface="Corbel"/>
              </a:rPr>
              <a:t>Členění okolí podniku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Přírodně technické okol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spodářské okol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ociálně kulturní okol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Politicko správní okol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ff00"/>
                </a:solidFill>
                <a:latin typeface="Corbel"/>
              </a:rPr>
              <a:t>OKOLÍ PODNIKU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1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.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Přírodně technické oko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Geografická poloha, nerostné bohatstv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echnický rozvoj (jaké technologie používají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Klima, ekologie (ekologické hledisko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Úroveň infrastruktury (inženýrské sítě), zajištění energie (stav rozvodových sítí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eeff"/>
                </a:solidFill>
                <a:latin typeface="Consolas"/>
              </a:rPr>
              <a:t>Záznamový list výukového materiálu</a:t>
            </a:r>
            <a:br>
              <a:rPr sz="18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1280" y="1268280"/>
          <a:ext cx="8229600" cy="535320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nik a jeho postavení v národním hospodářstv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Y_32_INOVACE_081_Ekonom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25.11.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ateriál slouží k získání přehledu o postavení podniku v národním hospodářství a o okolí podniku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500" spc="-1" strike="noStrike">
                <a:solidFill>
                  <a:srgbClr val="00ff00"/>
                </a:solidFill>
                <a:latin typeface="Corbel"/>
              </a:rPr>
              <a:t>OKOLÍ PODNIKU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2. Hospodářské oko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ituace na trhu zbož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Úroveň a rozsah konkuren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Úroveň a struktura hospodářství (odvětví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Objem průmyslové produk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Vývoj cen surovin a energi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Vývoj kapitálového trh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Vývoj trhu prá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Míra inflace (ceny výrobků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Úroveň domácnost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valifikace pracovník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55700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OKOLÍ PODNIK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ccff"/>
                </a:solidFill>
                <a:latin typeface="Corbel"/>
              </a:rPr>
              <a:t>3</a:t>
            </a:r>
            <a:r>
              <a:rPr b="0" lang="cs-CZ" sz="2600" spc="-1" strike="noStrike">
                <a:solidFill>
                  <a:srgbClr val="00ccff"/>
                </a:solidFill>
                <a:latin typeface="Corbel"/>
              </a:rPr>
              <a:t>. Sociálně kulturní okolí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ěková struktura obyvatelst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truktura podle pohlav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Povolání, příjm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Úroveň rodiny a jejího vnitřního život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Kulturní hodnoty a tradi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Školská soustava a její úroveň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Náboženství a filozofi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ájmy a mód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OKOLÍ PODNIKU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ccff"/>
                </a:solidFill>
                <a:latin typeface="Corbel"/>
              </a:rPr>
              <a:t>4</a:t>
            </a:r>
            <a:r>
              <a:rPr b="0" lang="cs-CZ" sz="3200" spc="-1" strike="noStrike">
                <a:solidFill>
                  <a:srgbClr val="00ccff"/>
                </a:solidFill>
                <a:latin typeface="Corbel"/>
              </a:rPr>
              <a:t>. Politicko správní okolí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Právní normy – stát (zákony, nařízení, vyhlášky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Corbel"/>
              </a:rPr>
              <a:t>Použitá literatura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Ekonomika 1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3. vyd. Praha: Eduko nakladatelství, s. r. o., 2010, 152 s. ISBN 978-80-87204-24-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LÍNSKÝ, P., MÜNCH, O. </a:t>
            </a: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Ekonomika 2 pro obchodní akademie a ostatní střední školy.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3. vyd. Praha: Eduko nakladatelství, s. r. o., 2010, 180 s. ISBN 978-80-87204-30-6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ccff"/>
                </a:solidFill>
                <a:latin typeface="Consolas"/>
              </a:rPr>
              <a:t>PODNIK A JEHO POSTAVENÍ </a:t>
            </a:r>
            <a:br>
              <a:rPr sz="3600"/>
            </a:br>
            <a:r>
              <a:rPr b="0" lang="cs-CZ" sz="3600" spc="-1" strike="noStrike">
                <a:solidFill>
                  <a:srgbClr val="33ccff"/>
                </a:solidFill>
                <a:latin typeface="Consolas"/>
              </a:rPr>
              <a:t>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784520"/>
            <a:ext cx="761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dnik a jeho vymeze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kolí podnik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2. roční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4360" y="134136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Podni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Je 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základním hospodářským článkem národního hospodářství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který plní určité cíle a vykonává různé funk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edstavuje </a:t>
            </a: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samostatně hospodařící subjekt podnikání,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který může mít různou formu vlastnictví, velikost, způsob a cíle podnikatelské činnost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vou základní funkci – </a:t>
            </a:r>
            <a:r>
              <a:rPr b="0" i="1" lang="cs-CZ" sz="2400" spc="-1" strike="noStrike">
                <a:solidFill>
                  <a:srgbClr val="00ff00"/>
                </a:solidFill>
                <a:latin typeface="Corbel"/>
              </a:rPr>
              <a:t>„zabezpečování výkonů“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– plní na základě samostatného financování (samostatného získávání a užívání zdrojů – kapitálu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ff"/>
                </a:solidFill>
                <a:latin typeface="Corbel"/>
              </a:rPr>
              <a:t>Vstupuje na trh, kde prodává své vý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(statky, služby) a dosahuje zisku (kladný hospodářský výsledek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00000" y="141300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Ekonomická samostatnost podniku umožňuje, ž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Samostatně hospodaří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ze svých výnosů hradí náklady a dosahuje zisku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a trhu vystupuje jako samostatný subjek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Své zdroje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kapitál) 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používá k zajištění svých cílů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Samostatně si určuje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předmět své podnikatelské činnosti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by mohl podnik takto samostatně ekonomicky rozhodovat, musí mít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„právní samostatnost“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– podnik vystupuje vůči svému okolí jako subjekt, který má jméno, práva a plní své povinnosti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á-li podnik právní samostatnost, říkáme,</a:t>
            </a: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že má </a:t>
            </a:r>
            <a:r>
              <a:rPr b="0" lang="cs-CZ" sz="2800" spc="-1" strike="noStrike">
                <a:solidFill>
                  <a:srgbClr val="00ccff"/>
                </a:solidFill>
                <a:latin typeface="Corbel"/>
              </a:rPr>
              <a:t>„právní subjektivitu“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vymezena platnými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Vznik podniku (právní subjektivit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a základě žádosti, kterou podává subjekt podnikání (soukromý podnikatel,obchodní společnost, družstvo) nebo ten, kdo podnik zakládá (ministerstvo u státních podniků), se provede 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„zápis do obchodního rejstříku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55280" y="1484280"/>
            <a:ext cx="7931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Vznik podnik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Corbel"/>
              </a:rPr>
              <a:t>Zápis obsahuje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Obchodní jméno, sídlo, popř. bydliš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IČO (identifikační číslo organizace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edmět podnikání (činnos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rávní formu podniká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Jméno a bydliště osoby nebo osob, které jsou statutárním orgánem, s uvedením způsobu, jakým jednaj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Jméno nebo jména zakladatelů (společníků – s.r.o.)a výše základního jmění (členských vkladů) a rozsah splácení vklad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Základní (kmenové) jmění (kapitál) - celkov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ff"/>
                </a:solidFill>
                <a:latin typeface="Consolas"/>
              </a:rPr>
              <a:t>PODNIK A JEHO POSTAVENÍ V NÁRODNÍM HOSPODÁŘSTVÍ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Corbel"/>
              </a:rPr>
              <a:t>PODNIK A JEHO VYMEZENÍ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ff"/>
                </a:solidFill>
                <a:latin typeface="Corbel"/>
              </a:rPr>
              <a:t>Vznik podniku (právní subjektivit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ojde-li v průběhu činnosti podniku ke 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změná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které mohou mít vliv na obchodní činnost podniku a jeho partnerů, </a:t>
            </a:r>
            <a:r>
              <a:rPr b="0" i="1" lang="cs-CZ" sz="2800" spc="-1" strike="noStrike">
                <a:solidFill>
                  <a:srgbClr val="00ff00"/>
                </a:solidFill>
                <a:latin typeface="Corbel"/>
              </a:rPr>
              <a:t>musí být v obchodním rejstříku zaznamenané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(vstup podniku do likvidace, prohlášení konkurzu, změnu nebo zápis zapsaných skutečností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2:33:01Z</dcterms:created>
  <dc:creator>Monika</dc:creator>
  <dc:description/>
  <dc:language>en-US</dc:language>
  <cp:lastModifiedBy>Berka</cp:lastModifiedBy>
  <dcterms:modified xsi:type="dcterms:W3CDTF">2014-02-13T08:01:21Z</dcterms:modified>
  <cp:revision>38</cp:revision>
  <dc:subject/>
  <dc:title>EKONOMIKA PODNIKU</dc:title>
</cp:coreProperties>
</file>