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2B86-30EF-4C92-9023-D27747D20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Působíme jako banka státu a poskytujeme státu a veřejnému sektoru bankovní služb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Spravujeme devizové rezerv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769-5A9B-4897-A792-29DB31F66CD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6C5-DFC4-4655-943A-2C8C57B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F01-E644-469A-B3B5-5FF25448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22D-77BB-44E0-A77D-1A949420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33D-C2C7-4BC7-A802-74461F9E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A408-847A-4BEF-966B-6DCECA2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38F-5F81-4F6F-8BDF-078DD73D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4CB-505B-4988-97C6-D2771EB9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37E5-6E08-48C6-BA7D-BFB636F1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1FE-92F4-4468-8EA8-95C3579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688-8FBF-4196-9F24-50FB15B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2BB-8FDA-470B-9444-8EBF637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CCD-FE1A-42D7-BE29-541CDB00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25A5-FC89-490A-A6CE-362473F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1F68-6558-4F76-B3BE-A05D05E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D235-E683-402D-9C1A-C785FC0F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9667-E297-4B11-A641-246F8B22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FEA-6D84-4964-823E-A3F293A7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58EC-CDD9-4D6D-9594-C82D75E1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F36B-6AF9-42E4-9098-17BF9188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7D7C-1E88-410D-BFDD-A3C6AD4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7F7A-9B1B-4123-AA8E-1579E62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C12C-D8A9-424D-B7A2-5CBD2DCF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7B2-BE2C-48C5-8430-B36B562B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5271-6A5A-4B72-8BB0-A007E315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D60B-0AB0-4F81-86A7-F82C2D4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8CFF-7F30-4EDC-BF46-B30DBE4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979E-D9D7-48D1-B80D-B7707D2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A0D2-A9FF-4C22-A7B0-22EEE68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6E28-B830-4010-9B20-B89E4DAD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94E2-1007-49D4-992D-901C985D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3DD5-71DD-4208-9C6A-F8B8813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2624-1516-48A2-92B1-043FFDB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3CCC-C526-49AB-BF51-CED43549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306-F12D-4223-A3C3-0E01B38B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9F50-6A4B-4FC0-924B-480B7E4D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2D53-CD4B-478F-98CF-F1ADA10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BD0D-68BE-40BD-B303-63DD0FD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40F4-73E1-4D4F-97F0-3F77CF1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4A88-C9B5-4CA6-B652-8EEB3AC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6CF5-0ADD-4A21-B09E-7571AC6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E518-8F37-417E-9192-0D4A7B2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1933C-7991-4A5A-B5DC-D2BD0C35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3329-2A76-40C9-8B52-2DC66894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49D7-6187-413D-B279-59054358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072-4E44-4B28-A31D-13440D6A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F4BA-34B2-429B-9C57-B9D51B04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E11B-6E3D-402B-85F7-76AE991D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854D-CB34-44AC-9C9D-93D6CC1D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943B-51D0-431F-8268-63DB2B9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B833-C844-4ABA-B976-3C869EBF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06B0-9308-45F8-A80B-AF1445F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6C51-2CCE-48C4-A1EE-7C8B7C4B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0F63-2808-47FC-8691-521F645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E06F9-3F93-4FAD-AF20-996AF12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5FFA8-90DE-40FE-B479-ADC05B65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8CA-76B6-4A15-B513-2E019112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A040-FAEB-4341-A3E1-00D46AF1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A8FE-2930-4B66-8D46-8FC157C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B816-0B00-4ECE-819D-7A40F5F9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F9D5-CC3D-46EE-A9BF-1778766A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E7DB-8AEA-47D8-B82E-C7D678C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DB284-D4E5-4F7F-89AF-267E369D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47DB-0BFA-4E85-B3EC-7A4574EC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B732B-3E6F-41E3-B227-2477E0D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5A59E-3E30-407D-82DD-9687D1B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AE102-B1F4-47BF-90B0-AC769A1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971-749A-4805-B066-A116AEC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4FF5B-23FF-4E7A-B8DE-FFEB18C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23D9-0726-45A0-869E-AAF27BF5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5FAF-7402-4EF0-B5F9-685EE85B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F564-742D-42BA-A720-BC3F7E80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B93E-85C4-4750-977D-EDE0821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FC08-9886-467D-8D05-DF097FA2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14EC-9AED-46CF-A86B-EE4184A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0692A-AE84-430B-8795-7F13E41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FF949-B462-4881-8E43-79FBA70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105E-7BD5-425D-A934-F2D5F526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92F-D346-4527-BB57-39EDB875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7351C-56E9-4FC9-8452-BEBC953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0417-0F85-4AAD-AAD5-8EFF7FA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54C0-C116-4E34-89AD-8DCB4605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BDC9-4BAB-45D2-9CE4-5ED23AEA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7968-5238-45D9-AFA8-C62A090B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32A-2A46-4DF1-AE37-0B0A0878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E7A-2019-431D-801B-DED1C35F3745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1282-84BB-499A-98A2-4F375D22F365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5D8-E180-4859-A119-718DBA1A74B6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9A6-3A78-4091-985F-B8712C12BA6C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28E6-3F47-416C-8B2F-619E352220DD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C03-D360-41EF-9F20-B84C696DA83A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E6E2-56A3-4A3E-A5D1-4870483AF6BC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0120" y="2565360"/>
            <a:ext cx="8136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VY_32_INOVACE_095_Ekonomika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26560" y="3716280"/>
            <a:ext cx="741852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Autor: Mgr. Roman Ber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625760" y="765000"/>
            <a:ext cx="6084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39280" y="1341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1b6fd"/>
                </a:solidFill>
                <a:latin typeface="Candara"/>
              </a:rPr>
              <a:t>Nástroje ČNB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Povinné minimální rezervy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– ČNB stanovuje povinnou část vkladu klientů, které u ní musí obchodní banky držet jako vkla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Diskontní sazba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– sazba, za kterou ČNB půjčuje obchodním bankám, obchodní banky poté stanoví vlastní (vyšší) úrokové sazby, úrok obchodních bank obsahuje diskontní sazbu ČNB + náklady obchodní banky + riziko obchodní bank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Operace na volném trhu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– banka nakupuje nebo prodává cenné papír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1196640"/>
            <a:ext cx="842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Měnové agregáty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oužívají se k vyjádření množství peněz v ekonomice (tzv.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peněžní zásoba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)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M0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 - hotovostní oběživo (bankovky a mince) v držbě domácích subjektů (v Kč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M1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– M0 + vklady na běžných účtech (netermínované vklady) v bankách v držbě domácích subjektů v českých bankách (v Kč)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M2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 – M1 + netermínované vklady domácích a zahraničních subjektů (v cizích měnách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L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 – M2 + státní pokladniční poukázky v držení domácích nebankovních subjektů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73e87"/>
                </a:solidFill>
                <a:latin typeface="Candara"/>
              </a:rPr>
              <a:t>ČNB používá k řízení peněžní zásoby agregát M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39640" y="1341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Zdroj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ndara"/>
              </a:rPr>
              <a:t>http://www.google.cz/search?gs_rn=19&amp;gs_ri=psy-ab&amp;cp=2&amp;gs_id=6&amp;xhr=t&amp;q=%C4%8Dnb&amp;bav=on.2,or.r_qf.&amp;bvm=bv.48705608,d.bGE&amp;biw=1366&amp;bih=610&amp;um=1&amp;ie=UTF-8&amp;hl=cs&amp;tbm=isch&amp;source=og&amp;sa=N&amp;tab=wi&amp;ei=2CblUfS7B47sO7DjgNgL</a:t>
            </a: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600360" cy="3024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5110200" y="2781360"/>
            <a:ext cx="2917800" cy="1743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2252520" cy="131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4"/>
          <a:stretch/>
        </p:blipFill>
        <p:spPr>
          <a:xfrm>
            <a:off x="4167360" y="4724280"/>
            <a:ext cx="450504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39640" y="162864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73e87"/>
                </a:solidFill>
                <a:latin typeface="Candara"/>
              </a:rPr>
              <a:t>Obchodní banky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Akciové společnosti (např. Komerční banka, ČSOB, Česká spořitelna, aj.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Podnikají na základě </a:t>
            </a:r>
            <a:r>
              <a:rPr b="1" lang="cs-CZ" sz="3000" spc="-1" strike="noStrike">
                <a:solidFill>
                  <a:srgbClr val="31b6fd"/>
                </a:solidFill>
                <a:latin typeface="Candara"/>
              </a:rPr>
              <a:t>bankovní licence </a:t>
            </a: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udělené od ČNB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V rámci bankovní soustavy jsou </a:t>
            </a:r>
            <a:r>
              <a:rPr b="1" lang="cs-CZ" sz="3000" spc="-1" strike="noStrike">
                <a:solidFill>
                  <a:srgbClr val="000000"/>
                </a:solidFill>
                <a:latin typeface="Candara"/>
              </a:rPr>
              <a:t>podřízeny ČNB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Podnikají na finančním trhu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ndara"/>
              </a:rPr>
              <a:t>Hlavním cílem je dosažení </a:t>
            </a:r>
            <a:r>
              <a:rPr b="1" lang="cs-CZ" sz="3000" spc="-1" strike="noStrike">
                <a:solidFill>
                  <a:srgbClr val="31b6fd"/>
                </a:solidFill>
                <a:latin typeface="Candara"/>
              </a:rPr>
              <a:t>zisku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34100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73e87"/>
                </a:solidFill>
                <a:latin typeface="Candara"/>
              </a:rPr>
              <a:t>Obchodní banky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Bankovní licenc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Uděluje ČNB pouze a. s., jejíž </a:t>
            </a: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základní kapitál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je vyšší než </a:t>
            </a: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500 mil. Kč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Žadatel musí </a:t>
            </a: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prokázat původ kapitálu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(zabránění trestné činnosti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Předložit </a:t>
            </a: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obchodní plán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podložený kalkulacem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Prokázat </a:t>
            </a: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technické a personální vybavení, odbornou způsobilost, důvěryhodno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Banka může získat </a:t>
            </a:r>
            <a:r>
              <a:rPr b="1" lang="cs-CZ" sz="2400" spc="-1" strike="noStrike">
                <a:solidFill>
                  <a:srgbClr val="073e87"/>
                </a:solidFill>
                <a:latin typeface="Candara"/>
              </a:rPr>
              <a:t>plnou bankovní licenci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(pro všechny typy finančních operací) nebo </a:t>
            </a:r>
            <a:r>
              <a:rPr b="1" lang="cs-CZ" sz="2400" spc="-1" strike="noStrike">
                <a:solidFill>
                  <a:srgbClr val="073e87"/>
                </a:solidFill>
                <a:latin typeface="Candara"/>
              </a:rPr>
              <a:t>omezenou bankovní licenci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(pouze pro některé typy finančních operací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6800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73e87"/>
                </a:solidFill>
                <a:latin typeface="Candara"/>
              </a:rPr>
              <a:t>Obchodní banky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Činnosti obchodních bank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otevření a vedení účt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zprostředkování platebního styk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vkladové a úvěrové služb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devizová a směnárenská činno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obchodování s cennými papír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bankovní úschov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poradenství, a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341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ndara"/>
              </a:rPr>
              <a:t>Použitá literatura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KLÍNSKÝ, Petr a Otto MÜNCH. </a:t>
            </a:r>
            <a:r>
              <a:rPr b="0" i="1" lang="cs-CZ" sz="2200" spc="-1" strike="noStrike">
                <a:solidFill>
                  <a:srgbClr val="000000"/>
                </a:solidFill>
                <a:latin typeface="Candara"/>
              </a:rPr>
              <a:t>Ekonomika pro obchodní akademie a ostatní střední školy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. 3., upr. vyd. Praha: Eduko, 2010-2011. ISBN 978-80-87204-38-24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ZLÁMAL, Jaroslav a Zdeněk MENDL. </a:t>
            </a:r>
            <a:r>
              <a:rPr b="0" i="1" lang="cs-CZ" sz="2200" spc="-1" strike="noStrike">
                <a:solidFill>
                  <a:srgbClr val="000000"/>
                </a:solidFill>
                <a:latin typeface="Candara"/>
              </a:rPr>
              <a:t>Ekonomie nejen k maturitě.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Vyd. 1. Kralice na Hané: Computer Media, 2007, 136 s. ISBN 978-80-86686-78-3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ZLÁMAL, Jaroslav a Zdeněk MENDL. Ekonomie nejen k maturitě. Vyd. 1. Kralice na Hané: Computer Media, 2007, 128 s. ISBN 978-80-86686-76-9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www.cnb.cz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ndara"/>
              </a:rPr>
              <a:t>Záznamový list výukového materiál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268280"/>
          <a:ext cx="8435880" cy="5373720"/>
        </p:xfrm>
        <a:graphic>
          <a:graphicData uri="http://schemas.openxmlformats.org/drawingml/2006/table">
            <a:tbl>
              <a:tblPr/>
              <a:tblGrid>
                <a:gridCol w="3036960"/>
                <a:gridCol w="5398920"/>
              </a:tblGrid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ndara"/>
                          <a:ea typeface="Calibri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andara"/>
                          <a:ea typeface="Times New Roman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Ban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VY_32_INOVACE_095_Ekonom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64-41-L/51 Podnik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Ekonomika a prá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druh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Mgr. 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16.12.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Materiál slouží k získání přehledu o bankovním systému ČR, ČNB a obchodních bankác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Mgr. Roman Ber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ndara"/>
                          <a:ea typeface="Calibri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1628280"/>
            <a:ext cx="740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73e87"/>
                </a:solidFill>
                <a:latin typeface="Candara"/>
              </a:rPr>
              <a:t>Bankovní systém ČR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73e87"/>
                </a:solidFill>
                <a:latin typeface="Candara"/>
              </a:rPr>
              <a:t>ČNB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73e87"/>
                </a:solidFill>
                <a:latin typeface="Candara"/>
              </a:rPr>
              <a:t>Obchodní bank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73e87"/>
                </a:solidFill>
                <a:latin typeface="Candara"/>
              </a:rPr>
              <a:t>2. roční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280" y="155700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73e87"/>
                </a:solidFill>
                <a:latin typeface="Candara"/>
              </a:rPr>
              <a:t>Bankovní systém ČR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ndara"/>
              </a:rPr>
              <a:t>Bankovní soustava ČR je dvoustupňová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ndara"/>
              </a:rPr>
              <a:t>stupeň – </a:t>
            </a:r>
            <a:r>
              <a:rPr b="1" lang="cs-CZ" sz="3200" spc="-1" strike="noStrike">
                <a:solidFill>
                  <a:srgbClr val="31b6fd"/>
                </a:solidFill>
                <a:latin typeface="Candara"/>
              </a:rPr>
              <a:t>Ústře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ndara"/>
              </a:rPr>
              <a:t>stupeň – </a:t>
            </a:r>
            <a:r>
              <a:rPr b="1" lang="cs-CZ" sz="3200" spc="-1" strike="noStrike">
                <a:solidFill>
                  <a:srgbClr val="31b6fd"/>
                </a:solidFill>
                <a:latin typeface="Candara"/>
              </a:rPr>
              <a:t>Obchodní bank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1413000"/>
            <a:ext cx="79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ČNB je stanovena </a:t>
            </a:r>
            <a:r>
              <a:rPr b="0" i="1" lang="cs-CZ" sz="2000" spc="-1" strike="noStrike">
                <a:solidFill>
                  <a:srgbClr val="000000"/>
                </a:solidFill>
                <a:latin typeface="Candara"/>
              </a:rPr>
              <a:t>Ústavou Č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1b6fd"/>
                </a:solidFill>
                <a:latin typeface="Candara"/>
              </a:rPr>
              <a:t>Sídlo:</a:t>
            </a:r>
            <a:r>
              <a:rPr b="1" i="1" lang="cs-CZ" sz="2000" spc="-1" strike="noStrike">
                <a:solidFill>
                  <a:srgbClr val="31b6fd"/>
                </a:solidFill>
                <a:latin typeface="Candara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Na Příkopě 28, 115 03 Praha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1b6fd"/>
                </a:solidFill>
                <a:latin typeface="Candara"/>
              </a:rPr>
              <a:t>Guvernér: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Miroslav Singe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1b6fd"/>
                </a:solidFill>
                <a:latin typeface="Candara"/>
              </a:rPr>
              <a:t>Bankovní rada:</a:t>
            </a:r>
            <a:r>
              <a:rPr b="1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Miroslav Singer 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guvernér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Mojmír Hampl 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víceguverné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Vladimír Tomšík  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víceguverné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Kamil Janáček 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čle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Lubomír Lízal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čle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Pavel Řežábek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čle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Eva Zamrazilová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- členk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1b6fd"/>
                </a:solidFill>
                <a:latin typeface="Candara"/>
              </a:rPr>
              <a:t>Poradní orgány bankovní rady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1b6fd"/>
                </a:solidFill>
                <a:latin typeface="Candara"/>
              </a:rPr>
              <a:t>	</a:t>
            </a:r>
            <a:r>
              <a:rPr b="0" i="1" lang="cs-CZ" sz="1800" spc="-1" strike="noStrike">
                <a:solidFill>
                  <a:srgbClr val="31b6fd"/>
                </a:solidFill>
                <a:latin typeface="Candara"/>
              </a:rPr>
              <a:t>	</a:t>
            </a:r>
            <a:r>
              <a:rPr b="0" i="1" lang="cs-CZ" sz="1800" spc="-1" strike="noStrike">
                <a:solidFill>
                  <a:srgbClr val="31b6fd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Rozkladová komis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ndara"/>
              </a:rPr>
              <a:t>Výbor pro finanční trh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4360" y="1484280"/>
            <a:ext cx="8208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1b6fd"/>
                </a:solidFill>
                <a:latin typeface="Candara"/>
              </a:rPr>
              <a:t>Bankovní rada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Nejvyšší řídící orgán ČNB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Určuje měnovou politiku a nástroje pro její uskutečňování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Rozhoduje o zásadních měnově politických opatřeních  ČN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a opatřeních v oblasti dohledu nad finančním trhem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1b6fd"/>
                </a:solidFill>
                <a:latin typeface="Candara"/>
              </a:rPr>
              <a:t>Rozkladová komise</a:t>
            </a:r>
            <a:r>
              <a:rPr b="0" lang="cs-CZ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oradní orgán bankovní rady pro přípravu návrhů rozhodnutí bankovní rady ČNB vydávaných ve správním řízení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1b6fd"/>
                </a:solidFill>
                <a:latin typeface="Candara"/>
              </a:rPr>
              <a:t>Výbor pro finanční trh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oradní orgán bankovní rady pro oblast dohledu nad finančním trhem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9640" y="1341360"/>
            <a:ext cx="80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Pobočky ČNB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Zodpovídají za dohled a devizovou kontrolu osob oprávněných vykonávat směnárenskou činnost na základě registrace, investičních a pojišťovacích zprostředkovatelů, poskytovatelů platebních služeb a vydavatelů elektronických peněz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Odpovídají za správu zásob peněz, provádění platebního styku, vedení účtů státního rozpočtu a svých ostatních klientů a zajišťují sběr, kontrolu a zpracování dat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Jsou kontaktními místy pro orgány státní správy a samospráv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raha, Plzeň, Hradec Králové, Brno, Ostrava, Ústí nad Labem, České Budějovic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Funkce ČNB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ečuje o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stabilitu měny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(měnová politika) – udržení nízké a stabilní inflac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Dohlíží nad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stabilitou finančního systému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- podporuje vyvážený a plynulý rozvoj finančního trhu Č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Zajišťuje hladký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oběh peněz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a plynulý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platební styk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Vydává bankovky a mince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Působí jako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banka státu 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a poskytuje státu a veřejnému sektoru bankovní služb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Spravuje devizové rezerv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Vykonává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dohled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 nad prováděním bankovních operací, kapitálovým fondem, pojišťovnictvím, atd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Podporuje</a:t>
            </a:r>
            <a:r>
              <a:rPr b="0" lang="cs-CZ" sz="2200" spc="-1" strike="noStrike">
                <a:solidFill>
                  <a:srgbClr val="000000"/>
                </a:solidFill>
                <a:latin typeface="Candara"/>
              </a:rPr>
              <a:t> obecnou </a:t>
            </a:r>
            <a:r>
              <a:rPr b="1" lang="cs-CZ" sz="2200" spc="-1" strike="noStrike">
                <a:solidFill>
                  <a:srgbClr val="000000"/>
                </a:solidFill>
                <a:latin typeface="Candara"/>
              </a:rPr>
              <a:t>hospodářskou politiku vlády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0920" y="1341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73e87"/>
                </a:solidFill>
                <a:latin typeface="Candara"/>
              </a:rPr>
              <a:t>Česká národní banka (ČNB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1b6fd"/>
                </a:solidFill>
                <a:latin typeface="Candara"/>
              </a:rPr>
              <a:t>ČNB dále provozuj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Clearingové centrum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– zpracovává tuzemské mezibankovní platby (započítává vzájemné platby mezi bankami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ndara"/>
              </a:rPr>
              <a:t>Centrální registr úvěrů </a:t>
            </a:r>
            <a:r>
              <a:rPr b="0" lang="cs-CZ" sz="2400" spc="-1" strike="noStrike">
                <a:solidFill>
                  <a:srgbClr val="000000"/>
                </a:solidFill>
                <a:latin typeface="Candara"/>
              </a:rPr>
              <a:t>– databázový systém, který obsahuje informace o jednotlivých klientech a jejich závazcích vůči bankám v ČR, poskytuje informace o splátkové morálce klientů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Candara"/>
              </a:rPr>
              <a:t>BANK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09:03:35Z</dcterms:created>
  <dc:creator>Acer</dc:creator>
  <dc:description/>
  <dc:language>en-US</dc:language>
  <cp:lastModifiedBy>Berka</cp:lastModifiedBy>
  <dcterms:modified xsi:type="dcterms:W3CDTF">2014-02-13T08:26:04Z</dcterms:modified>
  <cp:revision>29</cp:revision>
  <dc:subject/>
  <dc:title>VY_32_INOVACE_číslo přílohy_název DUMu</dc:title>
</cp:coreProperties>
</file>