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11F-A657-4C1A-BF92-A8383737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661-A670-4F11-B695-A0D10C0B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CE4A-DD70-43A5-865D-384A9EE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06535-D220-4500-A718-D6CDB190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D1001-27A5-4E5F-889F-99283A1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51564-5C08-4A36-B2CA-89A4DC3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2B316-FB7E-497E-8255-935FFCD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6550D-2F3E-4050-9BE5-6E8E093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98C60-06D6-4EC8-984F-303405C2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7967B-68AD-484C-AA60-1E4A8A95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E48CA-0684-4A87-A274-B81F19B9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E1A-C6AF-4B26-A98A-97139AB5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F30-7123-4A15-9A70-9D71B41F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34E3-667D-44AA-8409-4A01684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3AF4-55DB-4925-836A-4CDC1BD1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BD62-7160-4BBA-881D-A5EAC605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E204-29EB-45D0-99DE-EF3D960C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B71E-D996-4034-B3F6-477B441E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3879-A8A5-428F-9B1B-1A572DF7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F977-E0A4-4F67-BBDC-1109DC7F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BB2-3AB5-4C96-B3BF-C5DC1754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2C3F-66A7-4A3B-9C5B-C9C0AEA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107B-2965-43C0-A7B0-72F1314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2593-B944-4934-8FFC-9AC05FCB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C4B-B131-4470-BC1B-D0409EED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5E81-5E1B-4D57-8EA0-0C84FEAC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B8A5-21C0-485F-BEBB-09DEFBCD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C3D2-6453-4EC9-A95D-FCB4DCB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9C66-FF2B-43E8-99FD-5254E91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4C75D-CE15-4AA7-BA18-5C3738D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7D93-78FC-4647-B5CE-E069364F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A8F-7A6A-4C11-BB59-92812863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824F-6CA7-4E49-8AFF-CA6EE22A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462A-D2B7-4A03-8D40-3705C08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B9B3-2C5A-4771-AF7F-919A6A2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C623-ECC9-4822-8226-0CFC40A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6788-7DF4-4A71-A9D2-1F4807F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59A1-EBB2-4D3C-8AAF-8D683AA0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0093-51FA-4BAE-9555-C7A667CE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FA7D-B754-4F4F-B2C3-EDCF6FED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CF98-BE01-40AF-A66D-7284EA41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44043-A9CF-40CE-B93D-951EE8D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590-8D8E-4011-A7C7-6075EFBB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DD10-F3EF-4889-84C2-C1CC688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8E76-6B63-4AED-9E82-E5CE4E17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5E6F-732B-426B-B94C-2635A0C5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8219-9823-48DC-9751-6A0B975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F78A-AA7D-4D95-91C7-57F9B9B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E759-1669-46EC-B9F8-64B7CCD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44BD-989D-44B3-88B3-50075E8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83BA5-E092-4290-824F-23E4B24F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A01B-AE82-438A-B66D-E15A727C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7514-8548-41A1-8D33-3FD654F6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340-ECEE-4958-A645-EE8974F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9DA1E-A896-4F47-8FC1-92D78510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7FD5-EEE7-40DF-95D1-FC688D8E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70E9-6EFA-47AD-9E15-C30D645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1C5C-0465-4C08-8ADD-D8C83ECE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C5AA-C127-4266-A02F-1919F6CE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B68EB-BC75-4224-8E90-2F2AA17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F7D59-EE07-4BAF-861A-CD62D76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6509E-A3CA-4A2E-9B5A-4055ABF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8D5F2-6B96-4240-B078-EC619E6D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A91BF-53AC-4F7B-BE99-C8DA09A7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A37-DE1C-4802-9540-84041FE9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742D-E1C0-4BA8-9F6A-4DFF1B6C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F6E3-60E0-4BAC-B97C-DE431A2E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8F42A-231C-453B-B8FD-33CBEAC0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ACD2-6266-477F-BBFA-90DF5281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DCD18-5B39-43C9-AB7A-CD50ADC1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5B2E2-2D64-45AA-B6D9-80CEB75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43D90-DAED-4B5B-BCCA-F0DB2EFE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C820-FEBE-4C21-A384-201E56E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A2007-4437-47B9-BD48-88D00831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5B7D-8B6C-4F0C-84E7-8809140B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194-9215-4C77-960C-C2F2D30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CA440-3F93-4BE4-A7F1-6251CB4C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C705-0568-4CEF-A0C3-FCC89275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27498-9970-4D1A-8506-DC7C2572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B26C5-E25B-46CD-B09F-FA1376DE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32D8-A8D8-4DAE-A6CA-71EE2956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DCF0E-5DE9-4133-951B-85200AA2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F87AB-7E9A-42DA-8732-B278EEF3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EB60E-E773-4540-BE31-A7C4A96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6B2F8-0D5A-4EC9-B001-A3C1F9A1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E37F1-82EE-44B3-8D6C-5A6AFA8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604-78B9-473D-B26A-0DF5A6A6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63FA-0201-4271-A04E-1AF7604D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2072-A49C-4E7D-9D09-ECA3CCF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527F9-223A-4D6D-B5F3-94107907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4A18F-D291-4C19-848A-BCE7B021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6F6D2-B062-4051-93DE-2C77B999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7C6FD-F6ED-4DDE-B28E-089939A8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2F2D7-1629-4212-BA9B-00AF6C07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DFF0C-60DD-43EF-BC4D-EACAA174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F609E-9682-4FD6-AB3D-39636481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E3C62-A9B7-4586-857F-5239D781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2BB-E156-4C1B-ACA0-38F94CE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D7069-B772-4DFB-9C2C-DD314937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271F8-8116-4D25-994C-9F19CA84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3B94-58CC-45B9-AC2D-3E0B8198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8217-A89C-4ACA-9792-44A5D72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5752-B557-413D-8936-9245BC81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3BA89-6CC3-45CE-B441-819DFB9A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9A9A1-759A-432B-A40B-21B8041B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0387C-E14D-464B-94DE-550109A0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3DABA-3A3D-4719-869B-6CC6C22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1F9DA-D955-4655-8D4E-95897820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A364-F0CF-4F5D-A62B-4B7F8EDD58E5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43C3-41F4-4EDD-8356-935800D3612B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926-6913-43DC-9E7E-BDB785C74626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4D89-5290-4806-B90F-43E7DB3F9B99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E7F-50A6-4543-8F6C-930F9C8C5CF8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2E0-2F75-4F67-B3C9-F1139CE30540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římá spojnice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nice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Přímá spojnice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Přímá spojnice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Přímá spojnice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Přímá spojnice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Přímá spojnice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nice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Přímá spojnice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Přímá spojnice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E871-DA6A-4DF6-B31E-7384B6D45DE2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B2A1-5880-4E2A-89CD-5DA080F980F3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B963-5617-42A0-A4B8-C3734814926F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Nadpis 1" descr=""/>
          <p:cNvPicPr/>
          <p:nvPr/>
        </p:nvPicPr>
        <p:blipFill>
          <a:blip r:embed="rId1"/>
          <a:stretch/>
        </p:blipFill>
        <p:spPr>
          <a:xfrm>
            <a:off x="914400" y="3219480"/>
            <a:ext cx="7772400" cy="310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26920" y="198288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alibri"/>
              </a:rPr>
              <a:t>VY_32_INOVACE_082_Ekonomik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0" name="Obrázek 3" descr=""/>
          <p:cNvPicPr/>
          <p:nvPr/>
        </p:nvPicPr>
        <p:blipFill>
          <a:blip r:embed="rId2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00000" y="1268280"/>
            <a:ext cx="7772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Sektory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Primární sektor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prvovýroba (zemědělství, lesnictví,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Sekundární sektor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 zpracovatelský průmysl, výroba, výroba energie, plynu, stavebnictví, strojírenství,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Terciální sektor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služby obyvatelstvu (doprava, školství, zdravotnictví, velkoobchod, maloobchod, 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Kvartální sektor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věda, technik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1341000"/>
            <a:ext cx="370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NÁRODNÍ HOSPODÁŘSTV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ff"/>
                </a:solidFill>
                <a:latin typeface="Corbel"/>
              </a:rPr>
              <a:t>Subjekty N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tá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irm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Domácnost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Graf: Subjekty NH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Zdroj: Vlastní zpracování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91" name="Diagram 6"/>
          <p:cNvGrpSpPr/>
          <p:nvPr/>
        </p:nvGrpSpPr>
        <p:grpSpPr>
          <a:xfrm>
            <a:off x="3951720" y="3356640"/>
            <a:ext cx="4012560" cy="2035440"/>
            <a:chOff x="3951720" y="3356640"/>
            <a:chExt cx="4012560" cy="2035440"/>
          </a:xfrm>
        </p:grpSpPr>
        <p:sp>
          <p:nvSpPr>
            <p:cNvPr id="492" name="_s1028"/>
            <p:cNvSpPr/>
            <p:nvPr/>
          </p:nvSpPr>
          <p:spPr>
            <a:xfrm>
              <a:off x="3951720" y="3927960"/>
              <a:ext cx="2487960" cy="1464120"/>
            </a:xfrm>
            <a:prstGeom prst="donut">
              <a:avLst>
                <a:gd name="adj" fmla="val 16666"/>
              </a:avLst>
            </a:pr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_s1029"/>
            <p:cNvSpPr/>
            <p:nvPr/>
          </p:nvSpPr>
          <p:spPr>
            <a:xfrm>
              <a:off x="7298640" y="4006800"/>
              <a:ext cx="665640" cy="3247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tát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_s1030"/>
            <p:cNvSpPr/>
            <p:nvPr/>
          </p:nvSpPr>
          <p:spPr>
            <a:xfrm>
              <a:off x="4366440" y="4172040"/>
              <a:ext cx="1658160" cy="976320"/>
            </a:xfrm>
            <a:prstGeom prst="donut">
              <a:avLst>
                <a:gd name="adj" fmla="val 25000"/>
              </a:avLst>
            </a:pr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_s1031"/>
            <p:cNvSpPr/>
            <p:nvPr/>
          </p:nvSpPr>
          <p:spPr>
            <a:xfrm>
              <a:off x="7298640" y="3681720"/>
              <a:ext cx="665640" cy="32508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irm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_s1032"/>
            <p:cNvSpPr/>
            <p:nvPr/>
          </p:nvSpPr>
          <p:spPr>
            <a:xfrm>
              <a:off x="4780800" y="4416120"/>
              <a:ext cx="829440" cy="48780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_s1033"/>
            <p:cNvSpPr/>
            <p:nvPr/>
          </p:nvSpPr>
          <p:spPr>
            <a:xfrm>
              <a:off x="7298640" y="3356640"/>
              <a:ext cx="665640" cy="3247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omácnosti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980640"/>
            <a:ext cx="37022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Koloběh v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Stát </a:t>
            </a:r>
            <a:r>
              <a:rPr b="0" i="1" lang="en-US" sz="2400" spc="-1" strike="noStrike">
                <a:solidFill>
                  <a:srgbClr val="00ff00"/>
                </a:solidFill>
                <a:latin typeface="Corbel"/>
                <a:ea typeface="Arial"/>
              </a:rPr>
              <a:t>&lt;=&gt;</a:t>
            </a:r>
            <a:r>
              <a:rPr b="0" i="1" lang="cs-CZ" sz="2400" spc="-1" strike="noStrike">
                <a:solidFill>
                  <a:srgbClr val="00ff00"/>
                </a:solidFill>
                <a:latin typeface="Corbel"/>
                <a:ea typeface="Arial"/>
              </a:rPr>
              <a:t> firm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(veřejné statky, úhrady/daně, statky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  <a:ea typeface="Arial"/>
              </a:rPr>
              <a:t>Stát </a:t>
            </a:r>
            <a:r>
              <a:rPr b="0" i="1" lang="en-US" sz="2400" spc="-1" strike="noStrike">
                <a:solidFill>
                  <a:srgbClr val="00ff00"/>
                </a:solidFill>
                <a:latin typeface="Corbel"/>
                <a:ea typeface="Arial"/>
              </a:rPr>
              <a:t>&lt;=&gt;</a:t>
            </a:r>
            <a:r>
              <a:rPr b="0" i="1" lang="cs-CZ" sz="2400" spc="-1" strike="noStrike">
                <a:solidFill>
                  <a:srgbClr val="00ff00"/>
                </a:solidFill>
                <a:latin typeface="Corbel"/>
                <a:ea typeface="Arial"/>
              </a:rPr>
              <a:t> domácnosti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(veřejné statky, odměna/daně, prác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  <a:ea typeface="Arial"/>
              </a:rPr>
              <a:t>Domácnosti </a:t>
            </a:r>
            <a:r>
              <a:rPr b="0" i="1" lang="en-US" sz="2400" spc="-1" strike="noStrike">
                <a:solidFill>
                  <a:srgbClr val="00ff00"/>
                </a:solidFill>
                <a:latin typeface="Corbel"/>
                <a:ea typeface="Arial"/>
              </a:rPr>
              <a:t>&lt;=&gt;</a:t>
            </a:r>
            <a:r>
              <a:rPr b="0" i="1" lang="cs-CZ" sz="2400" spc="-1" strike="noStrike">
                <a:solidFill>
                  <a:srgbClr val="00ff00"/>
                </a:solidFill>
                <a:latin typeface="Corbel"/>
                <a:ea typeface="Arial"/>
              </a:rPr>
              <a:t> firm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  <a:ea typeface="Arial"/>
              </a:rPr>
              <a:t> (práce, kapitál, úhrady/odměny, statky a služb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Graf:   Koloběh v NH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Zdroj: Vlastní zpracování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00" name="Diagram 6"/>
          <p:cNvGrpSpPr/>
          <p:nvPr/>
        </p:nvGrpSpPr>
        <p:grpSpPr>
          <a:xfrm>
            <a:off x="5409000" y="1639440"/>
            <a:ext cx="2578320" cy="1864440"/>
            <a:chOff x="5409000" y="1639440"/>
            <a:chExt cx="2578320" cy="1864440"/>
          </a:xfrm>
        </p:grpSpPr>
        <p:sp>
          <p:nvSpPr>
            <p:cNvPr id="501" name="_s2052"/>
            <p:cNvSpPr/>
            <p:nvPr/>
          </p:nvSpPr>
          <p:spPr>
            <a:xfrm>
              <a:off x="5815800" y="1738080"/>
              <a:ext cx="1766520" cy="1132200"/>
            </a:xfrm>
            <a:custGeom>
              <a:avLst/>
              <a:gdLst>
                <a:gd name="textAreaLeft" fmla="*/ 0 w 1766520"/>
                <a:gd name="textAreaRight" fmla="*/ 1766880 w 176652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_s2053"/>
            <p:cNvSpPr/>
            <p:nvPr/>
          </p:nvSpPr>
          <p:spPr>
            <a:xfrm rot="7200000">
              <a:off x="6373440" y="1688760"/>
              <a:ext cx="1131840" cy="176652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766520"/>
                <a:gd name="textAreaBottom" fmla="*/ 1766880 h 17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_s2054"/>
            <p:cNvSpPr/>
            <p:nvPr/>
          </p:nvSpPr>
          <p:spPr>
            <a:xfrm rot="14400000">
              <a:off x="5890680" y="1687680"/>
              <a:ext cx="1132200" cy="176652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766520"/>
                <a:gd name="textAreaBottom" fmla="*/ 1766880 h 17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_s2055"/>
            <p:cNvSpPr/>
            <p:nvPr/>
          </p:nvSpPr>
          <p:spPr>
            <a:xfrm>
              <a:off x="7183080" y="1945080"/>
              <a:ext cx="7088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stát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_s2056"/>
            <p:cNvSpPr/>
            <p:nvPr/>
          </p:nvSpPr>
          <p:spPr>
            <a:xfrm>
              <a:off x="6346080" y="2876400"/>
              <a:ext cx="7088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firmy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_s2057"/>
            <p:cNvSpPr/>
            <p:nvPr/>
          </p:nvSpPr>
          <p:spPr>
            <a:xfrm>
              <a:off x="5505840" y="1945800"/>
              <a:ext cx="7088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domácnosti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7" name="Diagram 15"/>
          <p:cNvGrpSpPr/>
          <p:nvPr/>
        </p:nvGrpSpPr>
        <p:grpSpPr>
          <a:xfrm>
            <a:off x="5774760" y="4035240"/>
            <a:ext cx="2201760" cy="1962360"/>
            <a:chOff x="5774760" y="4035240"/>
            <a:chExt cx="2201760" cy="1962360"/>
          </a:xfrm>
        </p:grpSpPr>
        <p:sp>
          <p:nvSpPr>
            <p:cNvPr id="508" name="_s2060"/>
            <p:cNvSpPr/>
            <p:nvPr/>
          </p:nvSpPr>
          <p:spPr>
            <a:xfrm flipH="1">
              <a:off x="6214320" y="4035240"/>
              <a:ext cx="1323360" cy="1396800"/>
            </a:xfrm>
            <a:custGeom>
              <a:avLst/>
              <a:gdLst>
                <a:gd name="textAreaLeft" fmla="*/ 360 w 1323360"/>
                <a:gd name="textAreaRight" fmla="*/ 1324080 w 1323360"/>
                <a:gd name="textAreaTop" fmla="*/ 0 h 1396800"/>
                <a:gd name="textAreaBottom" fmla="*/ 1397160 h 139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_s2061"/>
            <p:cNvSpPr/>
            <p:nvPr/>
          </p:nvSpPr>
          <p:spPr>
            <a:xfrm flipH="1" rot="14400000">
              <a:off x="5998320" y="4400640"/>
              <a:ext cx="1396080" cy="1323360"/>
            </a:xfrm>
            <a:custGeom>
              <a:avLst/>
              <a:gdLst>
                <a:gd name="textAreaLeft" fmla="*/ 360 w 1396080"/>
                <a:gd name="textAreaRight" fmla="*/ 1396800 w 1396080"/>
                <a:gd name="textAreaTop" fmla="*/ 0 h 1323360"/>
                <a:gd name="textAreaBottom" fmla="*/ 1323720 h 132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_s2062"/>
            <p:cNvSpPr/>
            <p:nvPr/>
          </p:nvSpPr>
          <p:spPr>
            <a:xfrm flipH="1" rot="7200000">
              <a:off x="6355800" y="4398120"/>
              <a:ext cx="1396080" cy="1323360"/>
            </a:xfrm>
            <a:custGeom>
              <a:avLst/>
              <a:gdLst>
                <a:gd name="textAreaLeft" fmla="*/ 360 w 1396080"/>
                <a:gd name="textAreaRight" fmla="*/ 1396800 w 1396080"/>
                <a:gd name="textAreaTop" fmla="*/ 0 h 1323360"/>
                <a:gd name="textAreaBottom" fmla="*/ 1323720 h 132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7fd13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_s2063"/>
            <p:cNvSpPr/>
            <p:nvPr/>
          </p:nvSpPr>
          <p:spPr>
            <a:xfrm>
              <a:off x="5984640" y="4290840"/>
              <a:ext cx="5299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omácnosti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_s2064"/>
            <p:cNvSpPr/>
            <p:nvPr/>
          </p:nvSpPr>
          <p:spPr>
            <a:xfrm>
              <a:off x="6611040" y="5437080"/>
              <a:ext cx="5299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firm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_s2065"/>
            <p:cNvSpPr/>
            <p:nvPr/>
          </p:nvSpPr>
          <p:spPr>
            <a:xfrm>
              <a:off x="7237800" y="4290840"/>
              <a:ext cx="5299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stát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680" y="1484280"/>
            <a:ext cx="7537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Corbe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Ekonomika 2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eeff"/>
                </a:solidFill>
                <a:latin typeface="Consolas"/>
              </a:rPr>
              <a:t>Záznamový list výukového materiálu</a:t>
            </a:r>
            <a:br>
              <a:rPr sz="18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684360" y="1268280"/>
          <a:ext cx="8229600" cy="535320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7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rbe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rodní hospodářství 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VY_32_INOVACE_082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9.9.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ateriál slouží k získání přehledu o národním hospodářství, jeho sektorech, subjektech a koloběhu národního hospodářství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ff"/>
                </a:solidFill>
                <a:latin typeface="Consolas"/>
              </a:rPr>
              <a:t>NÁRODNÍ HOSPODÁŘSTVÍ I.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Corbel"/>
              </a:rPr>
              <a:t>Národní hospodářství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Corbel"/>
              </a:rPr>
              <a:t>Členění národního hospodářství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Corbel"/>
              </a:rPr>
              <a:t>Sektory národního hospodářství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Corbel"/>
              </a:rPr>
              <a:t>Subjekty národního hospodářství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Corbel"/>
              </a:rPr>
              <a:t>Koloběh národního hospodářství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00ff00"/>
                </a:solidFill>
                <a:latin typeface="Corbel"/>
              </a:rPr>
              <a:t>2. ročník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ccff"/>
                </a:solidFill>
                <a:latin typeface="Corbel"/>
              </a:rPr>
              <a:t>Národní hospodářství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Corbel"/>
              </a:rPr>
              <a:t>Souhrn činností hospodářského charakteru uskutečňovaných na určitém státním území za účasti všech jeho výrobních faktorů 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(práce, přírodní zdroje, kapitá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ff"/>
                </a:solidFill>
                <a:latin typeface="Corbel"/>
              </a:rPr>
              <a:t>Hlediska členění N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Podle vztahu ke státnímu rozpočtu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Dělba prác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Vytvářené výkony a poskytované služb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4400" y="1413000"/>
            <a:ext cx="7772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Hlediska členění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1. Podle vztahu ke státnímu rozpočtu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do jaké míry jsou podniky dotovány ze SR (do jaké míry jsou na něm závislé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Rozpočtové organizace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jejich provoz je plně hrazen ze SR (policie, armáda, soudy, školy ,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Příspěvkové organizace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jejich činnost je hrazena pouze částečně (příspěvek) a částečně ze své činnosti (divadla, knihovny, školy,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Hlediska členění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1. Podle vztahu ke státnímu rozpočtu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do jaké míry jsou podniky dotovány ze SR (do jaké míry jsou na něm závislé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Hospodářské organizace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nejsou dotovány ze SR, jejich provoz je hrazen z vlastní činnosti (výrobní a obchodní podniky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Zájmová sdružení občanů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jejich provoz je hrazen ze členských příspěvků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85000" indent="-58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4000" y="1341360"/>
            <a:ext cx="813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Hlediska členění NH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2. Podle dělby práce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členění na hospodářská odvětví (umožňuje specializaci, předpokládá kooperaci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Zemědělství, lesnictví, rybolov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zabezpečují výživu obyvatelstva, poskytují suroviny pro potravinářský průmysl, pro jiná prům. odvětví (len, dřevo, 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Těžební průmys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zajišťuje suroviny pro zpracovatelský průmysl (těžba uhlí, železné rudy,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Zpracovatelský průmys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zpracovává suroviny, které dodává zemědělství, lesnictví, těžební průmysl (průmysl hutnický, strojírenský, dřevařský, potravinářský, textilní,…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NÁRODNÍ HOSPODÁŘSTVÍ I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ff"/>
                </a:solidFill>
                <a:latin typeface="Corbel"/>
              </a:rPr>
              <a:t>Hlediska členění NH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2. Podle dělby práce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členění na hospodářská odvětví (umožňuje specializaci, předpokládá kooperaci)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Výroba energie, plynu, zásobování vodou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Stavebnictv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Velkoobchod, maloobchod a služby pro domácnost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– spojují výrobu se spotřebiteli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2:33:01Z</dcterms:created>
  <dc:creator>Monika</dc:creator>
  <dc:description/>
  <dc:language>en-US</dc:language>
  <cp:lastModifiedBy>Berka</cp:lastModifiedBy>
  <dcterms:modified xsi:type="dcterms:W3CDTF">2014-02-13T08:05:53Z</dcterms:modified>
  <cp:revision>44</cp:revision>
  <dc:subject/>
  <dc:title>EKONOMIKA PODNIKU</dc:title>
</cp:coreProperties>
</file>