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CD1-4062-452F-98CF-B08FC46C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1BB-C866-4973-A6D1-63B1542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E67-02B1-4741-85CF-5E594318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E57-D920-4F4A-B72B-036875AD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7862-CE5D-4FD4-BC61-53764E65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EA3C-E289-4D29-818E-0B7A72B9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137A-BA08-4E14-95FC-053A74F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59B9-87CA-4482-B09D-4AC3308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EBD5-6F07-41B8-824C-B60092BF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23F2-AF18-4F37-AC7A-28830028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59C-F398-4001-9BCC-0A35B5C0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E1D-49E3-45F1-91CB-51B8042A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2B06-92DE-40D3-9147-4E53422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C28C-CC35-44F1-95F6-47C81A33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5F18-B7D5-4245-B1A5-95318431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6392-6827-4EA2-9EEF-95BE617F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74D4-A81E-43B9-9BF7-106A4706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6A4C-24A4-4AC1-B2D7-636B62AE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A989-7FDF-4047-8813-2C41E73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110A-5F8D-434F-84D8-671094E9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4C60-192D-4C7E-ACEC-CDC4E9C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15E5-09B6-4564-BEC1-E58E931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1C7-581E-4523-9D8D-12B127D0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40E77-B69F-4BB4-BA1A-5A2C245E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3C7E-61F9-4FF0-8923-2CD2E84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D09E9-1EED-4330-A26D-A725A6D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E5F4-02F9-4BE3-8003-9ED640B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CDF5-C530-4281-9F14-2FB9685B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1D97-F5C2-49E7-96B0-C1B2373F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E5A0-CF37-4765-9345-39E83E54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E4EA7-BBC1-452B-A47A-AECDDE3D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6A178-B209-42E3-B11F-0DF8A01F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C79B-3874-481C-BFB3-2297BBB3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DB1-EEDA-4A02-AD4B-0F37D727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DB15-539E-40F3-BE62-C83ABDE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B19D-6BA2-433E-B0E9-55724B04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B4829-80DF-4E42-8C2F-85AA9267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4EC3-BCE0-4A15-9423-7274FB6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E6BA-C290-4E43-B2CB-0F925F2C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C233-0572-461B-858C-E983AED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1D00-4D89-4096-87B3-0A31E847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77D1-1EF1-4C08-92A2-FCDB27CE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CEA7-16F1-4331-9AAC-7FCA8C8F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A6CF8-EDA3-4856-B785-8023BF5B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F30-9227-4DA2-964A-0D197E99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2D9B2-DEC7-4912-AB06-3BE4D90A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A6BB-0F0D-478C-B84D-C7A3004B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A077-4F42-4DB8-88F1-96BF8F7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F1A3-F4E4-430E-8D0C-BEC2623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C154-FAB7-4254-9CB9-D5721F7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C2E4E-6D50-4CCB-A3CD-EC437C48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2B571-5ABA-4C19-BBF4-59FAAFA4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1FE62-5309-4061-A7C4-4EAD8D9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F95EF-E090-4BF6-AD72-6978A7A1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6E38-3E2A-47D3-9277-8BF47757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21B-EB3C-4044-84A9-9E1E60B4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2C058-4A02-463A-9784-C1FC2B32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4A3-C4D1-4F21-B520-B17CC0B5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01C-B324-42E1-BD77-C695557A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9D4-03F3-4210-ACC9-E77276B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ĺžni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ĺžnik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Zaoblený obdĺžnik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BE89-8466-43A5-BFDA-AAA963C3306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ĺžnik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Zaoblený obdĺžni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C39-0E12-436B-B6BD-0A8D91A4A9E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ĺžnik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Zaoblený obdĺžni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7142-D84D-4CE2-87D2-8A60C4F7E41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BC87-9679-4B4E-9A80-5A5934BA8A0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ĺžnik s jedným zaobleným roho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8C31-DA75-4544-8F07-0DDD692B2BE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search?q=&#353;eky&amp;psj=1&amp;bav=on.2,or.r_qf.&amp;bvm=bv.48705608,d.Yms&amp;biw=1143&amp;bih=672&amp;um=1&amp;ie=UTF-8&amp;hl=cs&amp;tbm=isch&amp;source=og&amp;sa=N&amp;tab=wi&amp;ei=tTbVUYapHIfKtQbwuYFA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cs-CZ" sz="3200" spc="-1" strike="noStrike">
                <a:solidFill>
                  <a:srgbClr val="ff8d3e"/>
                </a:solidFill>
                <a:latin typeface="Calibri"/>
              </a:rPr>
              <a:t>VY_32_INOVACE_093_Ekonomika</a:t>
            </a:r>
            <a:br>
              <a:rPr sz="41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4240" y="378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600"/>
            </a:b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ENĚŽNÍHO TRHU I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9766f"/>
                </a:solidFill>
                <a:latin typeface="Calibri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Obrázek 3" descr=""/>
          <p:cNvPicPr/>
          <p:nvPr/>
        </p:nvPicPr>
        <p:blipFill>
          <a:blip r:embed="rId1"/>
          <a:stretch/>
        </p:blipFill>
        <p:spPr>
          <a:xfrm>
            <a:off x="1571760" y="71424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78596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Še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Šek k zúčtování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 vyplácen pouze </a:t>
            </a: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bezhotovostn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ČNB stanovila pro šeky </a:t>
            </a:r>
            <a:r>
              <a:rPr b="0" lang="cs-CZ" sz="2400" spc="-1" strike="noStrike">
                <a:solidFill>
                  <a:srgbClr val="604878"/>
                </a:solidFill>
                <a:latin typeface="Verdana"/>
              </a:rPr>
              <a:t>univerzální tiskopisy,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teré jsou bankami v ČR respektová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Šeky jsou </a:t>
            </a: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splatné na viděnou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po předložení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stavení nekrytého šeku může mít za následek i trestní postih (jde o podvo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04878"/>
                </a:solidFill>
                <a:latin typeface="Verdana"/>
              </a:rPr>
              <a:t>Remiten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je majitel vystaveného šeku </a:t>
            </a:r>
            <a:r>
              <a:rPr b="0" lang="cs-CZ" sz="2400" spc="-1" strike="noStrike">
                <a:solidFill>
                  <a:srgbClr val="604878"/>
                </a:solidFill>
                <a:latin typeface="Verdana"/>
              </a:rPr>
              <a:t>(věřit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785600"/>
            <a:ext cx="7858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Še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estovní šek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latební nástroj v oblasti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cestovního ruch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sou vystavovány </a:t>
            </a:r>
            <a:r>
              <a:rPr b="0" lang="cs-CZ" sz="2800" spc="-1" strike="noStrike">
                <a:solidFill>
                  <a:srgbClr val="604878"/>
                </a:solidFill>
                <a:latin typeface="Verdana"/>
              </a:rPr>
              <a:t>banka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sou upraveny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obchodním zákoník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8d3e"/>
                </a:solidFill>
                <a:latin typeface="Verdana"/>
              </a:rPr>
              <a:t>CENNÉ PAPÍRY PENĚŽNÍHO TRHU I.</a:t>
            </a:r>
            <a:br>
              <a:rPr sz="2200"/>
            </a:br>
            <a:r>
              <a:rPr b="1" lang="cs-CZ" sz="2400" spc="-1" strike="noStrike">
                <a:solidFill>
                  <a:srgbClr val="604878"/>
                </a:solidFill>
                <a:latin typeface="Verdana"/>
              </a:rPr>
              <a:t>Šeky</a:t>
            </a:r>
            <a:br>
              <a:rPr sz="2200"/>
            </a:b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roj:</a:t>
            </a:r>
            <a:br>
              <a:rPr sz="2200"/>
            </a:br>
            <a:r>
              <a:rPr b="0" lang="cs-CZ" sz="11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s://www.google.cz/search?q=%C5%A1eky&amp;psj=1&amp;bav=on.2,or.r_qf.&amp;bvm=bv.48705608,d.Yms&amp;biw=1143&amp;bih=672&amp;um=1&amp;ie=UTF-8&amp;hl=cs&amp;tbm=isch&amp;source=og&amp;sa=N&amp;tab=wi&amp;ei=tTbVUYapHIfKtQbwuYFA</a:t>
            </a: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dne 4. 7. 2013</a:t>
            </a:r>
            <a:br>
              <a:rPr sz="1100"/>
            </a:br>
            <a:endParaRPr b="1" lang="en-US" sz="11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785880" y="3286080"/>
            <a:ext cx="3214800" cy="2214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4500720" y="3214800"/>
            <a:ext cx="3857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71432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604878"/>
                </a:solidFill>
                <a:latin typeface="Verdana"/>
              </a:rPr>
              <a:t>Další CP peněžního tr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epozitní certifikát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kladové listy vydávané </a:t>
            </a: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banka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</a:t>
            </a:r>
            <a:r>
              <a:rPr b="0" lang="cs-CZ" sz="2600" spc="-1" strike="noStrike">
                <a:solidFill>
                  <a:srgbClr val="604878"/>
                </a:solidFill>
                <a:latin typeface="Verdana"/>
              </a:rPr>
              <a:t>na majitel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anonymita vklad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anovená </a:t>
            </a: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splatnost i úroková mí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nadno </a:t>
            </a:r>
            <a:r>
              <a:rPr b="0" lang="cs-CZ" sz="2600" spc="-1" strike="noStrike">
                <a:solidFill>
                  <a:srgbClr val="604878"/>
                </a:solidFill>
                <a:latin typeface="Verdana"/>
              </a:rPr>
              <a:t>obchodovatelné a převoditel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platí se z nich žádné poplat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8d3e"/>
                </a:solidFill>
                <a:latin typeface="Verdana"/>
              </a:rPr>
              <a:t>CENNÉ PAPÍRY PENĚŽNÍHO TRHU I.</a:t>
            </a:r>
            <a:br>
              <a:rPr sz="2500"/>
            </a:br>
            <a:r>
              <a:rPr b="1" lang="cs-CZ" sz="2500" spc="-1" strike="noStrike">
                <a:solidFill>
                  <a:srgbClr val="604878"/>
                </a:solidFill>
                <a:latin typeface="Verdana"/>
              </a:rPr>
              <a:t>Depozitní certifikáty</a:t>
            </a:r>
            <a:br>
              <a:rPr sz="2500"/>
            </a:br>
            <a:br>
              <a:rPr sz="2500"/>
            </a:b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droj:</a:t>
            </a:r>
            <a:br>
              <a:rPr sz="2500"/>
            </a:b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https://www.google.cz/search?q=%C5%A1eky&amp;psj=1&amp;bav=on.2,or.r_qf.&amp;bvm=bv.48705608,d.Yms&amp;biw=1143&amp;bih=672&amp;um=1&amp;ie=UTF 8&amp;hl=cs&amp;tbm=isch&amp;source=og&amp;sa=N&amp;tab=wi&amp;ei=tTbVUYapHIfKtQbwuYFA#um=1&amp;hl=cs&amp;tbm=isch&amp;sa=1&amp;q=depozitn%C3%AD+certifik%C3%A1t&amp;oq=depozitn%C3%AD+cert&amp;gs_l=img.1.0.0j0i24l3.685971.688803.0.690595.14.4.0.3.3.0.978.1802.2-2j1j6-1.4.0....0...1c.1.19.img.MD4OyrOBPO8&amp;bav=on.2,or.r_qf.&amp;bvm=bv.48705608,d.Yms&amp;fp=786daa5a8baa03ca&amp;biw=1143&amp;bih=672, dne 4. 7. 2013</a:t>
            </a:r>
            <a:endParaRPr b="1" lang="en-US" sz="1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2000160" cy="2566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6143760" y="3357720"/>
            <a:ext cx="1928520" cy="264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3643200" y="3357720"/>
            <a:ext cx="1976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71680" y="1856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604878"/>
                </a:solidFill>
                <a:latin typeface="Verdana"/>
              </a:rPr>
              <a:t>Další CP peněžního tr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2. Náložní listy a lodní konosament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kumenty vystavené přeprav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tvrzují příjem nákladu (námořní doprav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3. Skladištní list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eznam zboží ve skladiš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4. Kupó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0920" y="2133360"/>
            <a:ext cx="8040600" cy="439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04878"/>
                </a:solidFill>
                <a:latin typeface="Verdana"/>
              </a:rPr>
              <a:t>Šeky a další CP peněžního tr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užitá literatur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LÍNSKÝ, Petr a Otto MÜNCH.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nomika pro obchodní akademie a ostatní střední školy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. 3., upr. vyd. Praha: Eduko, 2010-2011. ISBN 978-80-87204-38-24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LÁMAL, Jaroslav a Zdeněk MENDL.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konomie nejen k maturitě.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yd. 1. Kralice na Hané: Computer Media, 2007, 136 s. ISBN 978-80-86686-78-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LÁMAL, Jaroslav a Zdeněk MENDL. Ekonomie nejen k maturitě. Vyd. 1. Kralice na Hané: Computer Media, 2007, 128 s. ISBN 978-80-86686-76-9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d3e"/>
                </a:solidFill>
                <a:latin typeface="Verdana"/>
              </a:rPr>
              <a:t>Záznamový list výukového materiálu</a:t>
            </a:r>
            <a:br>
              <a:rPr sz="18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42960" y="1428840"/>
          <a:ext cx="7715160" cy="4868640"/>
        </p:xfrm>
        <a:graphic>
          <a:graphicData uri="http://schemas.openxmlformats.org/drawingml/2006/table">
            <a:tbl>
              <a:tblPr/>
              <a:tblGrid>
                <a:gridCol w="2776680"/>
                <a:gridCol w="4938480"/>
              </a:tblGrid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nné papíry peněžního trhu 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93_Ekonom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-41-L/51 Podnik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konomika a prá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h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ál slouží k získání přehledu o šecích, depozitních certifikátech a dalších cenných papírech peněžního trh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71720" y="2214360"/>
            <a:ext cx="7000560" cy="390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e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alší cenné papíry peněžního trh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7030a0"/>
                </a:solidFill>
                <a:latin typeface="Verdana"/>
              </a:rPr>
              <a:t>2. roční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856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sou </a:t>
            </a:r>
            <a:r>
              <a:rPr b="0" lang="cs-CZ" sz="2800" spc="-1" strike="noStrike">
                <a:solidFill>
                  <a:srgbClr val="604878"/>
                </a:solidFill>
                <a:latin typeface="Verdana"/>
              </a:rPr>
              <a:t>určitou formou peně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sou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směnitelné za jiné formy peně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ze jimi i </a:t>
            </a:r>
            <a:r>
              <a:rPr b="0" lang="cs-CZ" sz="2800" spc="-1" strike="noStrike">
                <a:solidFill>
                  <a:srgbClr val="604878"/>
                </a:solidFill>
                <a:latin typeface="Verdana"/>
              </a:rPr>
              <a:t>plat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stavují určitou finanční hodno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usí mít zákonem předepsané náležitosti – </a:t>
            </a:r>
            <a:r>
              <a:rPr b="0" i="1" lang="cs-CZ" sz="2800" spc="-1" strike="noStrike">
                <a:solidFill>
                  <a:srgbClr val="f07f09"/>
                </a:solidFill>
                <a:latin typeface="Verdana"/>
              </a:rPr>
              <a:t>Směnečný a šekový zák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78596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 cenné papíry peněžního trhu jsou považován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Š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Še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Další cenné papíry peněžního trhu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depozitní certifikáty, náložní listy a lodní konosamenty, skladištní listy, kupóny, aj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818352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04878"/>
                </a:solidFill>
                <a:latin typeface="Verdana"/>
              </a:rPr>
              <a:t>Šek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ekem dává 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výstavce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říkaz bance, aby doručiteli nebo osobě uvedené na šeku zaplatila částku,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na kterou je šek vystaven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Šek je tedy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individuální cenný papí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157176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Še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ruhy še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Na jmé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Na doručit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Šeky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mohou být vystaveny i </a:t>
            </a: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na řad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mohou být převoditelné na jinou osobu uvedenou na rubu šeku ) –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„žiro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ělení šeků podle výstav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Soukromý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kvalita šeku záleží na bonitě výstav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Bankov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výstavcem šeku je banka, která ručí za krytí šek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856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04878"/>
                </a:solidFill>
                <a:latin typeface="Verdana"/>
              </a:rPr>
              <a:t>Šek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užití šeku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běr hotov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mé platby za služby nebo zboží</a:t>
            </a:r>
            <a:br>
              <a:rPr sz="2800"/>
            </a:b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714680"/>
            <a:ext cx="8183520" cy="475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Še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hůty proplacení še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Do 8 dnů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v případě, že je šek vystavený i splatný v téže z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Do 20 dnů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v případě, že je šek vystavený i splatný v různých zemích stejného kontinen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Do 70 dnů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v případě, že je splatný v jiném světadíle než je vystaven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8:11:04Z</dcterms:created>
  <dc:creator>Lukas</dc:creator>
  <dc:description/>
  <dc:language>en-US</dc:language>
  <cp:lastModifiedBy>Berka</cp:lastModifiedBy>
  <dcterms:modified xsi:type="dcterms:W3CDTF">2014-02-13T08:24:12Z</dcterms:modified>
  <cp:revision>19</cp:revision>
  <dc:subject/>
  <dc:title>VY_32_INOVACE_číslo přílohy_název DUMu</dc:title>
</cp:coreProperties>
</file>