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754-D9E8-4A0F-8C20-88C661DA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ADF-8216-4148-BB86-6AD8CE6F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9B2-42D0-446C-AF3C-39618689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B89-2F3B-4CD6-B0EF-B6C8A8F8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7C27-9AED-42AD-8E3F-BA0A34E1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F7EE-4591-4B9E-88EB-D2B5A717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7EC9-311F-432B-8E68-B0912D1F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5010-6370-4120-B5C4-D360D482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1170-CDC2-4A62-9085-83153C9B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ADD7-5796-41AD-979E-CD7BE151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2FFA-29EF-4B1E-B4E8-D8967155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DFB-9BC4-44EE-BBC8-638DB617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C71F-B3D1-4CC7-A978-20FDC6C3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9D5A-8365-4D49-AF4B-BDDCD26B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0A2B-4A10-48F0-9958-BE9591BC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481E-8AC3-4BB5-84E2-56614AB6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2501-913B-415F-B2FF-70FAA6C6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A3F7D-412A-4D3F-B66C-4F8EC089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AC7F-5FEC-4052-A69E-ABE5D305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49B6-F6DD-47B9-BB0E-33F0166F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FB76-009D-4CF2-BAF4-D072E273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4C7E-AA91-44D1-9658-26EBED61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420-D47D-4A2C-B155-FE8C6B8D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B8F1-FAF9-4251-84F6-6FD4652A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A0EC8-CB5B-46EB-9DAD-A7EA132E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1847B-5294-4E01-9547-4AEBB4E0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1F4B-1B63-4A9C-A475-AF85F02F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2D44-E6B2-495B-BC6C-35BEA833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BD45D-D4E2-4328-840E-AAFE264D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BEC0-C897-49A0-A88A-D8FA6B81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8B8E6-929B-408E-A616-AB548BEC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A8239-35AB-4A23-98F3-F608992E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72A4-9B10-4A27-8B65-F755D53A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58B-E7D0-4840-B9AD-8CAC8D36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2C257-6240-4950-9762-77C24E7C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A824E-6A0A-4B9A-9A64-C0A5370D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E1C6-AFAA-4262-94E4-EBCABE84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7A2CA-E753-46E1-9BF8-C07D76FD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5ACA8-8FEB-42F9-9DB4-12209142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5D150-1C2C-4575-BD82-B44B28C9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B11F-548C-4816-8713-41B92915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FC924-BE56-4F14-92D0-FA130E0E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DB79D-F464-45DF-A70C-1D68D159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6CB4E-4AB6-47D5-8B2A-A9AEF04F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B05-2E39-416C-BC29-22A75C75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1307E-177C-4722-B01E-B3ECCE54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58602-B4F5-4EEB-B211-DBC8BB8B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CCBAA-246A-4CFB-84D1-C34AE524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263F-7564-43AD-A9A9-D526F91F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89591-9F07-4163-B67F-594F8BFF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D8817-6FDE-4BB4-AA41-4C8A01A9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6038D-C815-4F36-86BE-2FD16C90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26E1A-16A6-4439-8DF4-48E2A24F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D5478-0B03-44BB-AB88-0CE093BF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5D648-95D1-4BBB-A342-5F7E0BC2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65B-D5EC-42A6-B2D0-94EE11AC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E788-AD86-4042-8A9C-30C96671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CD7-46D5-47A2-A414-9AC4DA5D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397-0A8C-47C3-8165-C6426A8A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3E0-A2DD-4F1B-A51F-4A2F41DC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ĺžni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ĺžnik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Zaoblený obdĺžnik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24DA-926A-4593-B441-E0C41C5D9AF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ĺžni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ĺžnik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Zaoblený obdĺžnik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4200-DB2B-4D65-A9DE-9489D6B806C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ĺžni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ĺžnik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Zaoblený obdĺžnik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E0F5-E91A-43FA-90C1-84C66EE01A8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ĺžni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E80D-B0F2-42A0-9273-8A001BCC508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ĺžni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ĺžnik s jedným zaobleným roho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E0EC-8D93-4FC0-87CD-A4B4630F45C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1" lang="cs-CZ" sz="3200" spc="-1" strike="noStrike">
                <a:solidFill>
                  <a:srgbClr val="ff8d3e"/>
                </a:solidFill>
                <a:latin typeface="Calibri"/>
              </a:rPr>
              <a:t>VY_32_INOVACE_094_Ekonomika</a:t>
            </a:r>
            <a:br>
              <a:rPr sz="41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7200" y="3860280"/>
            <a:ext cx="7772400" cy="205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9766f"/>
                </a:solidFill>
                <a:latin typeface="Calibri"/>
              </a:rPr>
              <a:t>Autor: Mgr. Roman Ber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Obrázek 3" descr=""/>
          <p:cNvPicPr/>
          <p:nvPr/>
        </p:nvPicPr>
        <p:blipFill>
          <a:blip r:embed="rId1"/>
          <a:stretch/>
        </p:blipFill>
        <p:spPr>
          <a:xfrm>
            <a:off x="1571760" y="714240"/>
            <a:ext cx="6083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0040" y="178596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2. Směnka cizí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stavce (trasant) dává </a:t>
            </a:r>
            <a:r>
              <a:rPr b="0" lang="cs-CZ" sz="2600" spc="-1" strike="noStrike">
                <a:solidFill>
                  <a:srgbClr val="f07f09"/>
                </a:solidFill>
                <a:latin typeface="Verdana"/>
              </a:rPr>
              <a:t>příkaz třetí osobě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hlavnímu dlužníkovi – trasát), aby v určitém čase místo něj </a:t>
            </a:r>
            <a:r>
              <a:rPr b="0" lang="cs-CZ" sz="2600" spc="-1" strike="noStrike">
                <a:solidFill>
                  <a:srgbClr val="f07f09"/>
                </a:solidFill>
                <a:latin typeface="Verdana"/>
              </a:rPr>
              <a:t>zaplat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 směnečnou částku majiteli směnky (remiten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měnka musí obsahovat </a:t>
            </a:r>
            <a:r>
              <a:rPr b="0" lang="cs-CZ" sz="2800" spc="-1" strike="noStrike">
                <a:solidFill>
                  <a:srgbClr val="604878"/>
                </a:solidFill>
                <a:latin typeface="Verdana"/>
              </a:rPr>
              <a:t>„za tuto směnku ZAPLAŤTE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07f09"/>
                </a:solidFill>
                <a:latin typeface="Verdana"/>
              </a:rPr>
              <a:t>směnečník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musí tuto směnku</a:t>
            </a:r>
            <a:r>
              <a:rPr b="0" lang="cs-CZ" sz="2600" spc="-1" strike="noStrike">
                <a:solidFill>
                  <a:srgbClr val="f07f09"/>
                </a:solidFill>
                <a:latin typeface="Verdana"/>
              </a:rPr>
              <a:t> akceptov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4360" y="1844280"/>
            <a:ext cx="764208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lení směnek podle účetního hledisk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Směnka k inkasu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– pohledáv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Směnka k úhradě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závaz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83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2900"/>
            </a:br>
            <a:r>
              <a:rPr b="1" lang="cs-CZ" sz="29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br>
              <a:rPr sz="22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9640" y="1699920"/>
            <a:ext cx="8183520" cy="5041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ělení směnek podle lhůty splatnos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Na viděnou (vistasměnka)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proplacena ihned po předlože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Lhůtní vistasměnka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splatná určitý čas po předložení (např. 14 dní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Datosměnk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- splatná určitý čas od vystavení (např. 3 měsíce, atd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Fixní (denní) směnka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– splatná v určitý 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1835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br>
              <a:rPr sz="25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10920" y="1773000"/>
            <a:ext cx="8111880" cy="482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Ekonomická funkce směnk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latební prostřed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středek k získání </a:t>
            </a:r>
            <a:r>
              <a:rPr b="0" lang="cs-CZ" sz="2800" spc="-1" strike="noStrike">
                <a:solidFill>
                  <a:srgbClr val="604878"/>
                </a:solidFill>
                <a:latin typeface="Verdana"/>
              </a:rPr>
              <a:t>hotovosti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před lhůtou splat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středek </a:t>
            </a: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ruče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středek k získání </a:t>
            </a:r>
            <a:r>
              <a:rPr b="0" lang="cs-CZ" sz="2800" spc="-1" strike="noStrike">
                <a:solidFill>
                  <a:srgbClr val="604878"/>
                </a:solidFill>
                <a:latin typeface="Verdana"/>
              </a:rPr>
              <a:t>eskontního úvě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středek k získání </a:t>
            </a: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obchodního úvě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0040" y="171432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perace se směnkam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Získání peněz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– majitel počká na splatnost směnky a vyinkasuje pení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Převod na řad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– pokud vlastník potřebuje peníze dřív, směnku prodá a převede rubopisem, při větším počtu rubopisů se ke směnce připojí tzv.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„alonž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71680" y="1857240"/>
            <a:ext cx="8183520" cy="4308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Operace se směnkam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07f09"/>
                </a:solidFill>
                <a:latin typeface="Verdana"/>
              </a:rPr>
              <a:t>3. Eskont směnky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převod bance proti eskontnímu úv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07f09"/>
                </a:solidFill>
                <a:latin typeface="Verdana"/>
              </a:rPr>
              <a:t>4. Reeskont směnky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banka převádí směnky ČN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07f09"/>
                </a:solidFill>
                <a:latin typeface="Verdana"/>
              </a:rPr>
              <a:t>5. Krytí úvěru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majitel může směnku použít k pokrytí dluh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9640" y="1628280"/>
            <a:ext cx="8183520" cy="496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Zdroj: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https://www.google.cz/search?q=sm%C4%9Bnky&amp;tbm=isch&amp;tbo=u&amp;source=univ&amp;sa=X&amp;ei=IQHlUY70I4nFPfD7gLAI&amp;sqi=2&amp;ved=0CEMQsAQ&amp;biw=1366&amp;bih=610#facrc=_&amp;imgdii=_&amp;imgrc=x2dEtWSfh4JhzM%3A%3BziMUf3hXa2zIZM%3Bhttp%253A%252F%252Fwww.osobniblog.cz%252Fwp-content%252Fuploads%252Fvzor_smenky.jpg%3Bhttp%253A%252F%252Fwww.osobniblog.cz%252F2011%252F08%252Fsmenka-jak-napsat-vzor-ke-stazeni-1-dil%252F%3B800%3B563, 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dne 15. 7. 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s://encrypted-tbn1.gstatic.com/images?q=tbn:ANd9GcSXLeacvUGR4C_IFPmsTei6PAR1sH9tDpFASc4QmDtiGDOjct57LQ"/>
          <p:cNvPicPr/>
          <p:nvPr/>
        </p:nvPicPr>
        <p:blipFill>
          <a:blip r:embed="rId2"/>
          <a:stretch/>
        </p:blipFill>
        <p:spPr>
          <a:xfrm>
            <a:off x="4932360" y="3716280"/>
            <a:ext cx="3311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42600" y="1928880"/>
            <a:ext cx="8040600" cy="4379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oužitá literatu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KLÍNSKÝ, Petr a Otto MÜNCH. </a:t>
            </a:r>
            <a:r>
              <a:rPr b="0" i="1" lang="cs-CZ" sz="1700" spc="-1" strike="noStrike">
                <a:solidFill>
                  <a:srgbClr val="000000"/>
                </a:solidFill>
                <a:latin typeface="Verdana"/>
              </a:rPr>
              <a:t>Ekonomika pro obchodní akademie a ostatní střední školy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. 3., upr. vyd. Praha: Eduko, 2010-2011. ISBN 978-80-87204-38-24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LÁMAL, Jaroslav a Zdeněk MENDL.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Ekonomie nejen k maturitě.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yd. 1. Kralice na Hané: Computer Media, 2007, 136 s. ISBN 978-80-86686-78-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LÁMAL, Jaroslav a Zdeněk MENDL. Ekonomie nejen k maturitě. Vyd. 1. Kralice na Hané: Computer Media, 2007, 128 s. ISBN 978-80-86686-76-9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8d3e"/>
                </a:solidFill>
                <a:latin typeface="Verdana"/>
              </a:rPr>
              <a:t>Záznamový list výukového materiálu</a:t>
            </a:r>
            <a:br>
              <a:rPr sz="18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42960" y="1428840"/>
          <a:ext cx="7715160" cy="4868640"/>
        </p:xfrm>
        <a:graphic>
          <a:graphicData uri="http://schemas.openxmlformats.org/drawingml/2006/table">
            <a:tbl>
              <a:tblPr/>
              <a:tblGrid>
                <a:gridCol w="2776680"/>
                <a:gridCol w="4938480"/>
              </a:tblGrid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enné papíry peněžního trhu I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094_Ekonom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4-41-L/51 Podnik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konomika a prá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uh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3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ál slouží k získání přehledu o směnkách, jejich výhodách, druzích, náležitostech, ekonomických funkcích a operacích se směnkam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gr. Roman Ber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2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I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71720" y="2214360"/>
            <a:ext cx="7000560" cy="390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Sm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ěn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Výhody používání směn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Druhy směne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Náležitosti směn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Ekonomické funkce směn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Operace se směnka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7030a0"/>
                </a:solidFill>
                <a:latin typeface="Verdana"/>
              </a:rPr>
              <a:t>2. roční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1628640"/>
            <a:ext cx="8183520" cy="46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enné papíry, které obsahují bezpodmínečný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říkaz zaplatit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měnečnou částku (směnka cizí), nebo bezpodmínečný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vazek zaplatit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vedenou částku (směnka vlastní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užívají se pro </a:t>
            </a: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krátkodobé financová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měnečně zavazovat se může každá PO a zletilá F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785960"/>
            <a:ext cx="8001000" cy="45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hody používání směn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dnoduchý platební nástr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lmi dobrá obchodovatel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brá vymahatel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714320"/>
            <a:ext cx="8183520" cy="4235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ruhy směnek podle důvodu vystavení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07f09"/>
                </a:solidFill>
                <a:latin typeface="Verdana"/>
              </a:rPr>
              <a:t>Obchodn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– při prodeji zboží nebo služ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07f09"/>
                </a:solidFill>
                <a:latin typeface="Verdana"/>
              </a:rPr>
              <a:t>Finančn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– při půjčování peně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2800"/>
            </a:br>
            <a:r>
              <a:rPr b="1" lang="cs-CZ" sz="28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0040" y="1571760"/>
            <a:ext cx="8072640" cy="4736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ředepsané náležitosti směnk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lovo </a:t>
            </a:r>
            <a:r>
              <a:rPr b="0" lang="cs-CZ" sz="2400" spc="-1" strike="noStrike">
                <a:solidFill>
                  <a:srgbClr val="604878"/>
                </a:solidFill>
                <a:latin typeface="Verdana"/>
              </a:rPr>
              <a:t>„směnka“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prostřed tex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ezpodmínečný příkaz – slovo </a:t>
            </a: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„zaplatím“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bo </a:t>
            </a:r>
            <a:r>
              <a:rPr b="0" lang="cs-CZ" sz="2400" spc="-1" strike="noStrike">
                <a:solidFill>
                  <a:srgbClr val="f07f09"/>
                </a:solidFill>
                <a:latin typeface="Verdana"/>
              </a:rPr>
              <a:t>„zaplaťte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daj o splat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údaj o místu, kde se má plat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méno, kdo má platit (směnečník nebo výstav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méno, komu se má platit (remiten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atum a místo vystavení směn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dpis výstav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 II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0040" y="18568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kladní druhy směn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měnka vlast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měnka ciz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CENNÉ PAPÍRY </a:t>
            </a:r>
            <a:br>
              <a:rPr sz="3200"/>
            </a:b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ENĚŽNÍHO TRHU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0040" y="1714680"/>
            <a:ext cx="8183520" cy="475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04878"/>
                </a:solidFill>
                <a:latin typeface="Verdana"/>
              </a:rPr>
              <a:t>Směn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1. Směnka vlastní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výstavce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(dlužník, trasant) </a:t>
            </a:r>
            <a:r>
              <a:rPr b="0" lang="cs-CZ" sz="2800" spc="-1" strike="noStrike">
                <a:solidFill>
                  <a:srgbClr val="f07f09"/>
                </a:solidFill>
                <a:latin typeface="Verdana"/>
              </a:rPr>
              <a:t>se zavazuje, že zaplatí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 určitém čase majiteli směnky (věřitel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měnka musí obsahovat </a:t>
            </a:r>
            <a:r>
              <a:rPr b="0" lang="cs-CZ" sz="2800" spc="-1" strike="noStrike">
                <a:solidFill>
                  <a:srgbClr val="604878"/>
                </a:solidFill>
                <a:latin typeface="Verdana"/>
              </a:rPr>
              <a:t>„za tuto směnku ZAPLATÍM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8:11:04Z</dcterms:created>
  <dc:creator>Lukas</dc:creator>
  <dc:description/>
  <dc:language>en-US</dc:language>
  <cp:lastModifiedBy>Berka</cp:lastModifiedBy>
  <dcterms:modified xsi:type="dcterms:W3CDTF">2014-02-13T08:25:07Z</dcterms:modified>
  <cp:revision>34</cp:revision>
  <dc:subject/>
  <dc:title>VY_32_INOVACE_číslo přílohy_název DUMu</dc:title>
</cp:coreProperties>
</file>