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7433-0AF4-414F-824D-852C6400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3E60-3169-41CC-984E-78E270D0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B425-D776-4E1B-9237-A91D18EA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A7E6-BE2A-468D-B97F-D00DFEF8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AC85-478C-468F-8B3D-868903A4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C91A-12F9-4A2C-B0FF-DD8E7725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99E8-C7C6-4090-837E-61F19331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2D98-49A9-4B65-AE93-D93F892A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2684-3BE6-495E-8AA3-C45BA670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257F-40AA-44C2-8630-C24E0589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8FCF-5546-471E-AB6B-96A0D35F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B817-EE4B-43CC-B5B9-6C85F429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B9DF-A289-4B34-8EBE-2398E087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2E0E-CFC7-4E19-8500-A7705CE6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3E45-AE42-4FC5-A949-1268B002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BA21-6CC0-4A57-A3B6-D0A0CF8B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CAD4-C40D-4177-9B4F-CC765FA7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88E08-5BEF-40AB-8D8E-BC26CA5B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AF004-E05E-4D0D-8A62-EBAA70F4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94774-6BE4-4F96-A796-F04E8B63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B4089-0DD2-406D-914C-6F13C123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9F342-BC38-412D-BE4B-45EB8FBD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9208-B285-470F-9438-351424A4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1A80E-3EB4-423D-B5BC-011D508A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05FAB-2267-4BA6-A595-B0701D06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85CBA-664B-4C42-992B-40543C8E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44184-96D8-492E-B128-0504A4BB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A319D-515D-4473-B2D9-7B33AFB5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22A63-1B14-4EE9-BFEA-535C270D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3D8EE-BBFA-49B9-838A-A58BB5E3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B9CD6-E3BC-40F2-A833-9A478333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187C5-92EA-4014-B473-44385C27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16679-CA7B-4698-8238-26FF4FBE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CFEF-868D-459A-872A-E1EA13AE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B356E-03DE-4F98-8812-2BC01098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0009F-1E60-45C9-A0B0-77CD3B5B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DC6AD-F13F-4478-B390-399C2CD1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D3EF0-9848-462A-BB8D-5CA92F24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467DE-D0DA-42C4-A310-57D1C566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40C70-CEFC-4141-BE71-17E03519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93EE1-E023-450F-8593-D896AAE8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4097F-B2D0-4145-9DBF-324F8673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431C6-587F-4F34-B799-477EE5A9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1D755-E421-483E-8D97-D70705FE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9026-AE70-42DE-8B8D-9DE01583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C3AE4-B3D8-4FF8-A5D3-4AD3969B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EE0AD-FFD4-4E7A-9BC6-6777BCFB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DEF8A-BF58-4970-BD15-0182164E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D02A5-3122-400A-BDC7-637C444E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0B5C3-940B-44D0-867D-8B1DC5A1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E6FA6-39D8-4B74-84A7-65ED03DE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25AC0-BAA3-42E1-9BB9-5028A749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51AD3-2D89-48FF-A91E-DC57D38F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E9044-EB20-4951-B51C-0DAB5092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078F7-2F1E-4358-9AF9-D38B4F66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8699-45DE-42F8-AAA6-72934D37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5DE19-BCB5-4998-B835-7DC036D7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4C768-ADCE-402E-B29E-E27D073E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9F628-7A6F-4F18-BA45-B27C6044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E2ABA-5896-43DE-B750-8EAF5B1C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CE800-1947-495C-B87A-EF8A522A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FF8A2-D588-436D-90DB-79539A32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BF096-0F39-4D31-B672-2F7A9C0A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AA3C6-BF61-44C8-9504-8DC745F2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F076B-44F8-41E6-B13C-B57FB73E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27BAB-F190-4F61-B905-87E46A52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ECAA-F02A-4928-95B9-77AFB0D6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A23F2-02CE-412F-B692-DBF2075A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3B20F-1A0A-41B4-B6FC-B0E4E5F5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D206A-5B8E-4B2F-91EE-F0E27562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3BBC-0F0C-4D07-8D38-F4D602CE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3C4E-C0C2-44F4-AE02-4AAB8135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C046-59DA-49BE-929D-00D14E0AD002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Volný tvar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Volný tvar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4BA1-9B52-46F3-B241-3C1FF90BF37F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Volný tvar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Volný tvar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1E39-4AA1-4737-A796-72D7B484DD3B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EF99-5C7A-4BE8-B604-036D399C2560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Volný tvar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Volný tvar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4577-C8E9-4CB2-8742-294AF59E5B7B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341B-220E-4430-99EE-AA620950113E}" type="slidenum">
              <a:rPr b="0" lang="cs-C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Nadpis 1" descr=""/>
          <p:cNvPicPr/>
          <p:nvPr/>
        </p:nvPicPr>
        <p:blipFill>
          <a:blip r:embed="rId1"/>
          <a:stretch/>
        </p:blipFill>
        <p:spPr>
          <a:xfrm>
            <a:off x="426960" y="3340080"/>
            <a:ext cx="8174160" cy="2610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080" y="1544760"/>
            <a:ext cx="788364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Calibri"/>
              </a:rPr>
              <a:t>VY_32_INOVACE_084_Ekonom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Obrázek 3" descr=""/>
          <p:cNvPicPr/>
          <p:nvPr/>
        </p:nvPicPr>
        <p:blipFill>
          <a:blip r:embed="rId2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NÁKLADY A VÝNOSY PODNIKU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6ea0b0"/>
                </a:solidFill>
                <a:latin typeface="Arial"/>
              </a:rPr>
              <a:t>DVĚ STRÁNKY ČINNOSTI PODNI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116e0"/>
                </a:solidFill>
                <a:latin typeface="Arial"/>
              </a:rPr>
              <a:t>Hospodaření podni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brým hospodařením podniku myslíme, že </a:t>
            </a:r>
            <a:r>
              <a:rPr b="0" i="1" lang="cs-CZ" sz="2800" spc="-1" strike="noStrike">
                <a:solidFill>
                  <a:srgbClr val="6ea0b0"/>
                </a:solidFill>
                <a:latin typeface="Arial"/>
              </a:rPr>
              <a:t>produkuje výkony, které je schopen prodat, při úsporném vynakládání prostředků a prá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harakterizujeme ho </a:t>
            </a: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za rok v peněžních jednotkách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(děje se tak na základě </a:t>
            </a:r>
            <a:r>
              <a:rPr b="0" i="1" lang="cs-CZ" sz="2800" spc="-1" strike="noStrike">
                <a:solidFill>
                  <a:srgbClr val="6ea0b0"/>
                </a:solidFill>
                <a:latin typeface="Arial"/>
              </a:rPr>
              <a:t>nákladů a výnosů a výsledku hospodařen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účetnictví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NÁKLADY A VÝNOSY PODNIKU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268280"/>
            <a:ext cx="8147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6ea0b0"/>
                </a:solidFill>
                <a:latin typeface="Arial"/>
              </a:rPr>
              <a:t>DVĚ STRÁNKY ČINNOSTI PODNI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a116e0"/>
                </a:solidFill>
                <a:latin typeface="Arial"/>
              </a:rPr>
              <a:t>Hospodaření podni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chéma: Přehled hospodaření podni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a116e0"/>
                </a:solidFill>
                <a:latin typeface="Arial"/>
              </a:rPr>
              <a:t>VSTUPY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               ------------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&gt;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ahoma"/>
              </a:rPr>
              <a:t>                      </a:t>
            </a:r>
            <a:r>
              <a:rPr b="0" lang="cs-CZ" sz="1800" spc="-1" strike="noStrike">
                <a:solidFill>
                  <a:srgbClr val="a116e0"/>
                </a:solidFill>
                <a:latin typeface="Arial"/>
                <a:ea typeface="Tahoma"/>
              </a:rPr>
              <a:t>VÝ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ahoma"/>
              </a:rPr>
              <a:t>            </a:t>
            </a:r>
            <a:r>
              <a:rPr b="0" lang="cs-CZ" sz="1800" spc="-1" strike="noStrike">
                <a:solidFill>
                  <a:srgbClr val="6ea0b0"/>
                </a:solidFill>
                <a:latin typeface="Arial"/>
                <a:ea typeface="Tahoma"/>
              </a:rPr>
              <a:t>(náklady)                                                                    (výnos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ateriál (spotřeba materiálu)   Kč 50.000,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M (odpisy)                              Kč 10.000,--              výkony (tržby z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prodej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áce (mzdy)                            Kč 20.000,--               </a:t>
            </a:r>
            <a:r>
              <a:rPr b="0" lang="cs-CZ" sz="1800" spc="-1" strike="noStrike">
                <a:solidFill>
                  <a:srgbClr val="6ea0b0"/>
                </a:solidFill>
                <a:latin typeface="Arial"/>
              </a:rPr>
              <a:t>Kč 100.000,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-------------------------      --------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r>
              <a:rPr b="0" lang="cs-CZ" sz="1800" spc="-1" strike="noStrike">
                <a:solidFill>
                  <a:srgbClr val="6ea0b0"/>
                </a:solidFill>
                <a:latin typeface="Arial"/>
              </a:rPr>
              <a:t>Kč 80.000,--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cs-CZ" sz="1800" spc="-1" strike="noStrike">
                <a:solidFill>
                  <a:srgbClr val="7030a0"/>
                </a:solidFill>
                <a:latin typeface="Arial"/>
              </a:rPr>
              <a:t>Zisk 20.000,--</a:t>
            </a:r>
            <a:r>
              <a:rPr b="0" lang="cs-CZ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V – 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a116e0"/>
                </a:solidFill>
                <a:latin typeface="Franklin Gothic Book"/>
              </a:rPr>
              <a:t>NÁKLADY A VÝNOSY PODNIKU 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4c7c8b"/>
                </a:solidFill>
                <a:latin typeface="Arial"/>
              </a:rPr>
              <a:t>Použitá literatura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NSKÝ, P., MÜNCH, O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Ekonomika 1 pro obchodní akademie a ostatní střední školy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3. vyd. Praha: Eduko nakladatelství, s. r. o., 2010, 152 s. ISBN 978-80-87204-24-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NSKÝ, P., MÜNCH, O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Ekonomika 2 pro obchodní akademie a ostatní střední školy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3. vyd. Praha: Eduko nakladatelství, s. r. o., 2010, 180 s. ISBN 978-80-87204-30-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Franklin Gothic Book"/>
              </a:rPr>
              <a:t>Záznamový list výukového materiálu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68360" y="1197000"/>
          <a:ext cx="8229600" cy="4948200"/>
        </p:xfrm>
        <a:graphic>
          <a:graphicData uri="http://schemas.openxmlformats.org/drawingml/2006/table">
            <a:tbl>
              <a:tblPr/>
              <a:tblGrid>
                <a:gridCol w="2962080"/>
                <a:gridCol w="526752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áklady a výnosy podnik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Y_32_INOVACE_084_Ekonom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4-41-L/51 Podniká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ruh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.11.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teriál slouží k získání přehledu o hospodaření podniku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NÁKLADY A VÝNOSY PODNIKU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10920" y="17733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Dvě stránky činnosti podnik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Hospodaření podnik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70c0"/>
                </a:solidFill>
                <a:latin typeface="Arial"/>
              </a:rPr>
              <a:t>2. roční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116e0"/>
                </a:solidFill>
                <a:latin typeface="Franklin Gothic Book"/>
              </a:rPr>
              <a:t>NÁKLADY A VÝNOSY PODNIKU I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341000"/>
            <a:ext cx="7467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6ea0b0"/>
                </a:solidFill>
                <a:latin typeface="Arial"/>
              </a:rPr>
              <a:t>DVĚ STRÁNKY ČINNOSTI PODNI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lnSpc>
                <a:spcPct val="7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edoucí pracovníci podniku stanoví </a:t>
            </a: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dlouhodobější cíle podniku, strategii a nástroje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 jejich dosažení a rozhodnutí</a:t>
            </a: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 realizo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lnSpc>
                <a:spcPct val="7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lnSpc>
                <a:spcPct val="7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ávaznost jednotlivých činností je následující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lnSpc>
                <a:spcPct val="7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a základě soustavného sledování a práce s trhem se uskutečňují </a:t>
            </a:r>
            <a:r>
              <a:rPr b="0" i="1" lang="cs-CZ" sz="2400" spc="-1" strike="noStrike">
                <a:solidFill>
                  <a:srgbClr val="6ea0b0"/>
                </a:solidFill>
                <a:latin typeface="Arial"/>
              </a:rPr>
              <a:t>změny ve výrobním programu (sortimentu)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zařazení nových výrobků, zlepšení,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lnSpc>
                <a:spcPct val="7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lnSpc>
                <a:spcPct val="70000"/>
              </a:lnSpc>
              <a:spcBef>
                <a:spcPts val="4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acovníci investiční výstavby, zásobování a personalisté zabezpečují podnik </a:t>
            </a: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dlouhodobým majetkem, materiálem, službami, zaměstnanci, </a:t>
            </a:r>
            <a:r>
              <a:rPr b="0" lang="cs-CZ" sz="1600" spc="-1" strike="noStrike">
                <a:solidFill>
                  <a:srgbClr val="a116e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a116e0"/>
                </a:solidFill>
                <a:latin typeface="Franklin Gothic Book"/>
              </a:rPr>
              <a:t>NÁKLADY A VÝNOSY PODNIKU 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8360" y="1341360"/>
            <a:ext cx="81360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6ea0b0"/>
                </a:solidFill>
                <a:latin typeface="Arial"/>
              </a:rPr>
              <a:t>DVĚ STRÁNKY ČINNOSTI PODNIK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c7c8b"/>
                </a:solidFill>
                <a:latin typeface="Arial"/>
              </a:rPr>
              <a:t>3.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vozní pracovníci pomocí strojů a nástrojů </a:t>
            </a:r>
            <a:r>
              <a:rPr b="0" i="1" lang="cs-CZ" sz="2800" spc="-1" strike="noStrike">
                <a:solidFill>
                  <a:srgbClr val="6ea0b0"/>
                </a:solidFill>
                <a:latin typeface="Arial"/>
              </a:rPr>
              <a:t>výrobky vyrábějí</a:t>
            </a:r>
            <a:r>
              <a:rPr b="0" lang="cs-CZ" sz="2800" spc="-1" strike="noStrike">
                <a:solidFill>
                  <a:srgbClr val="6ea0b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ea0b0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acovníci prodeje </a:t>
            </a: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(odbytu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výrobky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a116e0"/>
                </a:solidFill>
                <a:latin typeface="Arial"/>
              </a:rPr>
              <a:t>prodávaj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6ea0b0"/>
                </a:solidFill>
                <a:latin typeface="Arial"/>
              </a:rPr>
              <a:t>Protože koloběh věcí, služeb a práce se v podniku stále opakuje, podstata činnosti podniku je chápána z hmotné stránky – uspokojení potřeb zákazníků užitečnými statky a službam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116e0"/>
                </a:solidFill>
                <a:latin typeface="Franklin Gothic Book"/>
              </a:rPr>
              <a:t>NÁKLADY A VÝNOSY PODNIKU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413000"/>
            <a:ext cx="8075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6ea0b0"/>
                </a:solidFill>
                <a:latin typeface="Arial"/>
              </a:rPr>
              <a:t>DVĚ STRÁNKY ČINNOSTI PODNI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droje k produkci statků a služeb jsou omezené. Důležitou roli přitom hrají </a:t>
            </a: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peníz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ovlivňují, do jakých činností budou rozmístěny hmotné a lidské zdroje, kterou má k produkci statků a služe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Investoři (majitelé, věřitelé) vkládají </a:t>
            </a:r>
            <a:r>
              <a:rPr b="0" i="1" lang="cs-CZ" sz="2400" spc="-1" strike="noStrike">
                <a:solidFill>
                  <a:srgbClr val="6ea0b0"/>
                </a:solidFill>
                <a:latin typeface="Arial"/>
              </a:rPr>
              <a:t>peníz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do podniku, aby je </a:t>
            </a:r>
            <a:r>
              <a:rPr b="0" i="1" lang="cs-CZ" sz="2400" spc="-1" strike="noStrike">
                <a:solidFill>
                  <a:srgbClr val="6ea0b0"/>
                </a:solidFill>
                <a:latin typeface="Arial"/>
              </a:rPr>
              <a:t>zhodnotil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Je spojeno s otázkami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Kolik to bude stá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Kde a jak na to získáme peníz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Vyplatí se nám t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116e0"/>
                </a:solidFill>
                <a:latin typeface="Arial"/>
              </a:rPr>
              <a:t>Kdy a v jakém množství se vynaložené peníze vrátí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NÁKLADY A VÝNOSY PODNIKU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412640"/>
            <a:ext cx="79311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6ea0b0"/>
                </a:solidFill>
                <a:latin typeface="Arial"/>
              </a:rPr>
              <a:t>DVĚ STRÁNKY ČINNOSTI PODNIK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7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7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Činnost podniku má i </a:t>
            </a:r>
            <a:r>
              <a:rPr b="0" i="1" lang="cs-CZ" sz="3000" spc="-1" strike="noStrike">
                <a:solidFill>
                  <a:srgbClr val="6ea0b0"/>
                </a:solidFill>
                <a:latin typeface="Arial"/>
              </a:rPr>
              <a:t>stránku finanční</a:t>
            </a: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 – musí být zabezpečena penězi (v penězích probíhá, vyjadřuje se jak podnik hospodaří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7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7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Řízení podniku z finanční stránky je zaměřeno tak, aby podnik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7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7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a116e0"/>
                </a:solidFill>
                <a:latin typeface="Arial"/>
              </a:rPr>
              <a:t>dobře hospodařil (dosáhl zisku)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7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a116e0"/>
                </a:solidFill>
                <a:latin typeface="Arial"/>
              </a:rPr>
              <a:t>schopnost krýt své závazky (likvidita) – splácet své dluh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NÁKLADY A VÝNOSY PODNIKU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70" name="Organization Chart 6"/>
          <p:cNvGrpSpPr/>
          <p:nvPr/>
        </p:nvGrpSpPr>
        <p:grpSpPr>
          <a:xfrm>
            <a:off x="539640" y="2781360"/>
            <a:ext cx="8208000" cy="3541680"/>
            <a:chOff x="539640" y="2781360"/>
            <a:chExt cx="8208000" cy="3541680"/>
          </a:xfrm>
        </p:grpSpPr>
        <p:cxnSp>
          <p:nvCxnSpPr>
            <p:cNvPr id="271" name="_s1028"/>
            <p:cNvCxnSpPr>
              <a:stCxn id="272" idx="0"/>
              <a:endCxn id="273" idx="2"/>
            </p:cNvCxnSpPr>
            <p:nvPr/>
          </p:nvCxnSpPr>
          <p:spPr>
            <a:xfrm flipV="1" rot="16200000">
              <a:off x="5394240" y="3446640"/>
              <a:ext cx="708840" cy="2210040"/>
            </a:xfrm>
            <a:prstGeom prst="bentConnector3">
              <a:avLst>
                <a:gd name="adj1" fmla="val 161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4" name="_s1029"/>
            <p:cNvCxnSpPr>
              <a:stCxn id="275" idx="0"/>
              <a:endCxn id="273" idx="2"/>
            </p:cNvCxnSpPr>
            <p:nvPr/>
          </p:nvCxnSpPr>
          <p:spPr>
            <a:xfrm flipH="1" flipV="1" rot="5400000">
              <a:off x="3184560" y="3446280"/>
              <a:ext cx="708840" cy="2210760"/>
            </a:xfrm>
            <a:prstGeom prst="bentConnector3">
              <a:avLst>
                <a:gd name="adj1" fmla="val 161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73" name="_s1030"/>
            <p:cNvSpPr/>
            <p:nvPr/>
          </p:nvSpPr>
          <p:spPr>
            <a:xfrm>
              <a:off x="2750040" y="2781360"/>
              <a:ext cx="3788280" cy="1416600"/>
            </a:xfrm>
            <a:prstGeom prst="roundRect">
              <a:avLst>
                <a:gd name="adj" fmla="val 16667"/>
              </a:avLst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ČINNOST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PODNIKU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_s1031"/>
            <p:cNvSpPr/>
            <p:nvPr/>
          </p:nvSpPr>
          <p:spPr>
            <a:xfrm>
              <a:off x="539640" y="4906440"/>
              <a:ext cx="3788280" cy="1416600"/>
            </a:xfrm>
            <a:prstGeom prst="roundRect">
              <a:avLst>
                <a:gd name="adj" fmla="val 16667"/>
              </a:avLst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b3b3b"/>
                  </a:solidFill>
                  <a:latin typeface="Tahoma"/>
                </a:rPr>
                <a:t>HMOTNÁ STRÁNKA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(koloběh věcí, služeb,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práce)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_s1032"/>
            <p:cNvSpPr/>
            <p:nvPr/>
          </p:nvSpPr>
          <p:spPr>
            <a:xfrm>
              <a:off x="4959360" y="4906440"/>
              <a:ext cx="3788280" cy="1416600"/>
            </a:xfrm>
            <a:prstGeom prst="roundRect">
              <a:avLst>
                <a:gd name="adj" fmla="val 16667"/>
              </a:avLst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b3b3b"/>
                  </a:solidFill>
                  <a:latin typeface="Tahoma"/>
                </a:rPr>
                <a:t>FINANČNÍ STRÁNKA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(koloběh peněz)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1640" y="1196640"/>
            <a:ext cx="8461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6ea0b0"/>
                </a:solidFill>
                <a:latin typeface="Arial"/>
              </a:rPr>
              <a:t>DVĚ STRÁNKY ČINNOSTI PODNI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Graf:   Činnosti podnik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Zdroj: Vlastní zpracován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116e0"/>
                </a:solidFill>
                <a:latin typeface="Franklin Gothic Book"/>
              </a:rPr>
              <a:t>NÁKLADY A VÝNOSY PODNIKU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78" name="Organization Chart 6"/>
          <p:cNvGrpSpPr/>
          <p:nvPr/>
        </p:nvGrpSpPr>
        <p:grpSpPr>
          <a:xfrm>
            <a:off x="611280" y="2421000"/>
            <a:ext cx="8208000" cy="3815280"/>
            <a:chOff x="611280" y="2421000"/>
            <a:chExt cx="8208000" cy="3815280"/>
          </a:xfrm>
        </p:grpSpPr>
        <p:cxnSp>
          <p:nvCxnSpPr>
            <p:cNvPr id="279" name="_s2052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69720" y="2891160"/>
              <a:ext cx="763560" cy="2873520"/>
            </a:xfrm>
            <a:prstGeom prst="bentConnector3">
              <a:avLst>
                <a:gd name="adj1" fmla="val 127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2" name="_s2053"/>
            <p:cNvCxnSpPr>
              <a:stCxn id="283" idx="0"/>
              <a:endCxn id="281" idx="2"/>
            </p:cNvCxnSpPr>
            <p:nvPr/>
          </p:nvCxnSpPr>
          <p:spPr>
            <a:xfrm flipV="1">
              <a:off x="4715280" y="3946320"/>
              <a:ext cx="3600" cy="763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4" name="_s2054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897280" y="2891520"/>
              <a:ext cx="763560" cy="2873520"/>
            </a:xfrm>
            <a:prstGeom prst="bentConnector3">
              <a:avLst>
                <a:gd name="adj1" fmla="val 127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81" name="_s2055"/>
            <p:cNvSpPr/>
            <p:nvPr/>
          </p:nvSpPr>
          <p:spPr>
            <a:xfrm>
              <a:off x="3484080" y="242100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CÍL ŘÍZENÍ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DNIKU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_s2056"/>
            <p:cNvSpPr/>
            <p:nvPr/>
          </p:nvSpPr>
          <p:spPr>
            <a:xfrm>
              <a:off x="611280" y="471024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b3b"/>
                  </a:solidFill>
                  <a:latin typeface="Tahoma"/>
                </a:rPr>
                <a:t>Uspokojení potřeb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b3b"/>
                  </a:solidFill>
                  <a:latin typeface="Tahoma"/>
                </a:rPr>
                <a:t>cílových trhů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užitečnými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statky a službami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3" name="_s2057"/>
            <p:cNvSpPr/>
            <p:nvPr/>
          </p:nvSpPr>
          <p:spPr>
            <a:xfrm>
              <a:off x="3484080" y="471024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Dosahování zisku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b3b"/>
                  </a:solidFill>
                  <a:latin typeface="Tahoma"/>
                </a:rPr>
                <a:t>(rentabilita)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0" name="_s2058"/>
            <p:cNvSpPr/>
            <p:nvPr/>
          </p:nvSpPr>
          <p:spPr>
            <a:xfrm>
              <a:off x="6356880" y="471024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Udržování platební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schopnosti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b3b3b"/>
                  </a:solidFill>
                  <a:latin typeface="Tahoma"/>
                </a:rPr>
                <a:t>(likvidita)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77612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6ea0b0"/>
                </a:solidFill>
                <a:latin typeface="Arial"/>
              </a:rPr>
              <a:t>         </a:t>
            </a:r>
            <a:r>
              <a:rPr b="1" i="1" lang="cs-CZ" sz="2400" spc="-1" strike="noStrike">
                <a:solidFill>
                  <a:srgbClr val="6ea0b0"/>
                </a:solidFill>
                <a:latin typeface="Arial"/>
              </a:rPr>
              <a:t>DVĚ STRÁNKY ČINNOSTI PODNI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Graf:   Činnosti podnik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Zdroj: Vlastní zpracován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11:48:08Z</dcterms:created>
  <dc:creator>Monika</dc:creator>
  <dc:description/>
  <dc:language>en-US</dc:language>
  <cp:lastModifiedBy>Berka</cp:lastModifiedBy>
  <dcterms:modified xsi:type="dcterms:W3CDTF">2014-02-13T08:07:14Z</dcterms:modified>
  <cp:revision>66</cp:revision>
  <dc:subject/>
  <dc:title>EKONOMIKA  PODNIKU</dc:title>
</cp:coreProperties>
</file>