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B541-F6E6-4AF2-8240-537831CA1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AD6C-8612-4C3D-BCF7-3B38E351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058E-1B98-41A6-9A71-88300E481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BD17-EAE0-4258-970B-90AA43F09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B41B-7EE8-4746-8AD1-F3826EBC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9859-322D-4BBE-AAC3-50635584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6BEA-E36C-4C25-88F3-4C6D3229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7ED9-F495-4F9F-9ECA-54419E15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1932-2041-4467-AE30-6AD54E4E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5518-18A3-452B-860E-F686EB3A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0682-DBE3-4A0B-8201-A6FE1CB9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9339-CCA1-4A23-BC46-A1B46DE9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F7C6-901E-4E3B-8645-3932A094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87CD-4F56-4E50-AA2E-78425116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5F51-19C9-4B86-ADB8-20FEEF11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BF81-DAFD-4738-9A6E-16F0F8139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21F1-60E9-473B-84A1-8E0DB98DE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50D90-A25D-4012-AA8F-E0E851EEE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99F4C-F856-45C2-B94B-0480591C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BE002-814D-44BE-9644-B42EFA25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F727A-D36C-4C3B-ABE3-88154393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5A9B7-1AA8-4512-A4FE-88C8CBDF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C7FB-3366-42C0-A54B-8A4F9A2C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44059-6B5D-4CAE-BEB2-2F50C916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E6330-C610-406D-B62B-441B8131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010EA-8BD5-4CDE-B2C4-6FFCF093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F333B-914C-4F32-BA51-B1DAED39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61106-B7EA-4428-A622-6AB04A14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B3F4F-EC4D-4318-A911-A57BD5DCC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4612A-F0DF-4F41-8408-25978ADD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FF08F-E712-420D-B834-AAC62E8E6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68D15-D504-4C9B-B426-4E86BA2D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97C72-E854-4CA7-AA47-880A3043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C668-A223-4F09-B869-DDCC31D1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41238-3496-4BBC-9864-AB872CCF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DB12B-C90C-422D-BFB0-279F4A0E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0A1AD-8B12-427C-B777-6DD6A7F3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292F4-B25A-414E-86F4-70121C3A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B68E2-A65C-4F24-A6E4-5B715FF8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CA776-D6E7-4C36-89E8-FC97F498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A8538-4C5C-418B-B8D8-A818988C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1486B-3BEC-4245-B515-D309098AE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E5051-D11A-464E-BEF1-20BD61C1B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82742-E5F1-4407-8135-B1F1A3F1D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35DF-AC37-41DE-839C-993F3DCE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10E9E-2641-4AD9-9A52-46659543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66A65-33D5-4F9C-9EB5-F3D3ECB9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927E2-3D84-4C51-927E-39B46E1E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67933-6338-41B7-BB6A-249F27F4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DBD23-20B2-4F43-895C-B7FA9E96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F2A8D-4EBE-48D6-A7AD-0E17228B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46FB9-96DF-4F9B-8F67-71547FB0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35C74-E759-4C5F-9A58-B14A7D27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E1B63-F213-4DE0-A090-36CBC05D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40BDD-C432-4EE1-B988-1F23A4B3E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414D-6CCD-4FE1-9F44-9B4A741E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9141F-98FB-49B5-92EB-D89EE5885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94F79-DC4B-4F47-9FCB-F00E9096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9D866-986F-4CFF-B514-479A1FA4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27449-38E6-4F4D-A151-D07408CD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57B6A-1671-4FC2-A4C1-6461C513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D1663-9E73-402B-B77D-5698D21B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47353-1B66-4363-970B-DFEFA7CB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F3371-555A-43A2-8B45-21266F54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E50D8-830C-4C48-B438-ED1FE42E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50AAF-F48B-4BE7-974E-7ED32E47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3FAE-5707-4B48-9A38-2A72FA2F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AF745-C95A-4AB2-BBD0-F507CD26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0C454-4EC9-4D82-94B2-FA29BD72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5FFE1-CA6A-4DB9-BF9E-8F05466A4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DCABB-C8F1-4EE4-9773-9060563E2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498C0-1D14-4FC2-9208-AC46B8C1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89821-38B5-47BE-B4D5-88EFCD4C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81262-7C10-4850-80B5-EED1CF74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5168D-6FA1-4A06-8FD8-D4D11440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85743-74B3-46A2-8453-BECFF502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900CC-F794-4E18-B466-7F214BAE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9873-6A12-497E-86A7-6D1BE8DA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9D589-AF46-4506-985B-7D0B7AC5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E84D0-32CF-470D-88A1-A14978D3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B88EB-C721-454E-BBB2-B7D38F2D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C244E-1095-4BD2-986D-7D05B3C08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95C50-97D6-432D-A7E9-F02551B8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5E49C-461F-43DE-A97D-3D229E87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66889-8288-4CE8-AEAD-8761D308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49A8E-158F-4118-B42D-3966E969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A39F7-9BFB-4107-9389-1837B857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C9D34-BD7D-4FF7-B772-ED643E2C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B541-1713-464D-8803-47FD56D8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05F76-74C8-41F1-A931-4DA3AF64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B81AD-4287-4DB5-AA9D-6D795EC9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F9A73-530D-4E8E-BE3B-545ACC66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68CEF-97AA-4EBA-B78A-E9FA1B93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5F3D5-B49B-4500-8BA3-D202077B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E2516-95A8-4B04-94DC-D26F44095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532D1-3C4F-4AB9-9AF1-6A4512F4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Volný tvar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4F75-C4D6-4919-B13F-B1BE75518065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Volný tvar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Volný tvar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7F5E-BEA9-406B-AAF5-F2B8C373BD39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Volný tvar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Volný tvar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81CC-3A0B-4F47-9EC5-D3380FB631DF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5DFD-F4FA-43C4-B7F5-F4743907F924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Volný tvar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Volný tvar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9449-B3DB-4D19-A53C-5ACABB944E2D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62FC-5E10-4B83-BE00-37A5E556C023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Volný tvar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Volný tvar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A94A-91F0-41E9-9A86-34AFA2A5C110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Volný tvar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Volný tvar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39E7-D101-4180-B851-14B80695E443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Nadpis 1" descr=""/>
          <p:cNvPicPr/>
          <p:nvPr/>
        </p:nvPicPr>
        <p:blipFill>
          <a:blip r:embed="rId1"/>
          <a:stretch/>
        </p:blipFill>
        <p:spPr>
          <a:xfrm>
            <a:off x="426960" y="3340080"/>
            <a:ext cx="8247240" cy="229860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33080" y="1544760"/>
            <a:ext cx="82422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Calibri"/>
              </a:rPr>
              <a:t>VY_32_INOVACE_086_Ekonom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Obrázek 3" descr=""/>
          <p:cNvPicPr/>
          <p:nvPr/>
        </p:nvPicPr>
        <p:blipFill>
          <a:blip r:embed="rId2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VÝNOSY PODNIKU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4c7c8b"/>
                </a:solidFill>
                <a:latin typeface="Arial"/>
              </a:rPr>
              <a:t>Členění výnos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chéma:  Přehled členění výnosů podle organizačních složek podni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Zdroj:       Vlastní zpracová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Organization Chart 6"/>
          <p:cNvGrpSpPr/>
          <p:nvPr/>
        </p:nvGrpSpPr>
        <p:grpSpPr>
          <a:xfrm>
            <a:off x="431640" y="3068640"/>
            <a:ext cx="8208360" cy="2807280"/>
            <a:chOff x="431640" y="3068640"/>
            <a:chExt cx="8208360" cy="2807280"/>
          </a:xfrm>
        </p:grpSpPr>
        <p:cxnSp>
          <p:nvCxnSpPr>
            <p:cNvPr id="370" name="_s2052"/>
            <p:cNvCxnSpPr>
              <a:stCxn id="371" idx="0"/>
              <a:endCxn id="372" idx="2"/>
            </p:cNvCxnSpPr>
            <p:nvPr/>
          </p:nvCxnSpPr>
          <p:spPr>
            <a:xfrm flipV="1" rot="16200000">
              <a:off x="5691600" y="3034800"/>
              <a:ext cx="561600" cy="2873520"/>
            </a:xfrm>
            <a:prstGeom prst="bentConnector3">
              <a:avLst>
                <a:gd name="adj1" fmla="val 2636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73" name="_s2053"/>
            <p:cNvCxnSpPr>
              <a:stCxn id="374" idx="0"/>
              <a:endCxn id="372" idx="2"/>
            </p:cNvCxnSpPr>
            <p:nvPr/>
          </p:nvCxnSpPr>
          <p:spPr>
            <a:xfrm flipV="1">
              <a:off x="4536000" y="4191120"/>
              <a:ext cx="3600" cy="561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75" name="_s2054"/>
            <p:cNvCxnSpPr>
              <a:stCxn id="376" idx="0"/>
              <a:endCxn id="372" idx="2"/>
            </p:cNvCxnSpPr>
            <p:nvPr/>
          </p:nvCxnSpPr>
          <p:spPr>
            <a:xfrm flipH="1" flipV="1" rot="5400000">
              <a:off x="2818440" y="3035160"/>
              <a:ext cx="561600" cy="2873520"/>
            </a:xfrm>
            <a:prstGeom prst="bentConnector3">
              <a:avLst>
                <a:gd name="adj1" fmla="val 2636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72" name="_s2055"/>
            <p:cNvSpPr/>
            <p:nvPr/>
          </p:nvSpPr>
          <p:spPr>
            <a:xfrm>
              <a:off x="3304440" y="3068640"/>
              <a:ext cx="2462400" cy="1122840"/>
            </a:xfrm>
            <a:prstGeom prst="roundRect">
              <a:avLst>
                <a:gd name="adj" fmla="val 16667"/>
              </a:avLst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VÝNOSY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PODNIKU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6" name="_s2056"/>
            <p:cNvSpPr/>
            <p:nvPr/>
          </p:nvSpPr>
          <p:spPr>
            <a:xfrm>
              <a:off x="431640" y="4753080"/>
              <a:ext cx="2462400" cy="1122840"/>
            </a:xfrm>
            <a:prstGeom prst="roundRect">
              <a:avLst>
                <a:gd name="adj" fmla="val 16667"/>
              </a:avLst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b3b3b"/>
                  </a:solidFill>
                  <a:latin typeface="Tahoma"/>
                </a:rPr>
                <a:t>Výnosy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b3b3b"/>
                  </a:solidFill>
                  <a:latin typeface="Tahoma"/>
                </a:rPr>
                <a:t>provozní složky 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4" name="_s2057"/>
            <p:cNvSpPr/>
            <p:nvPr/>
          </p:nvSpPr>
          <p:spPr>
            <a:xfrm>
              <a:off x="3304440" y="4753080"/>
              <a:ext cx="2462400" cy="1122840"/>
            </a:xfrm>
            <a:prstGeom prst="roundRect">
              <a:avLst>
                <a:gd name="adj" fmla="val 16667"/>
              </a:avLst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b3b3b"/>
                  </a:solidFill>
                  <a:latin typeface="Tahoma"/>
                </a:rPr>
                <a:t>Výnosy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b3b3b"/>
                  </a:solidFill>
                  <a:latin typeface="Tahoma"/>
                </a:rPr>
                <a:t>provozní složky 2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1" name="_s2058"/>
            <p:cNvSpPr/>
            <p:nvPr/>
          </p:nvSpPr>
          <p:spPr>
            <a:xfrm>
              <a:off x="6177600" y="4753080"/>
              <a:ext cx="2462400" cy="1122840"/>
            </a:xfrm>
            <a:prstGeom prst="roundRect">
              <a:avLst>
                <a:gd name="adj" fmla="val 16667"/>
              </a:avLst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b3b3b"/>
                  </a:solidFill>
                  <a:latin typeface="Tahoma"/>
                </a:rPr>
                <a:t>Výnosy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b3b3b"/>
                  </a:solidFill>
                  <a:latin typeface="Tahoma"/>
                </a:rPr>
                <a:t>provozní složky 3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a116e0"/>
                </a:solidFill>
                <a:latin typeface="Franklin Gothic Book"/>
              </a:rPr>
              <a:t>VÝNOSY PODNIKU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197000"/>
            <a:ext cx="8147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6ea0b0"/>
                </a:solidFill>
                <a:latin typeface="Arial"/>
              </a:rPr>
              <a:t>ZJIŠŤOVÁNÍ NÁKLADU A VÝNOS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díl mezi náklady a výnosy představuje výsledek hospodaření – </a:t>
            </a: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„hospodářský výsledek“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výsledek činnosti podniku z finanční stránk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0" i="1" lang="cs-CZ" sz="2800" spc="-1" strike="noStrike">
                <a:solidFill>
                  <a:srgbClr val="6ea0b0"/>
                </a:solidFill>
                <a:latin typeface="Arial"/>
              </a:rPr>
              <a:t>nejdůležitějším ukazatelem hospodaření podniku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(charakterizuje hospodárnost podniku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ůže být: </a:t>
            </a: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- zisk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(V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&gt;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Tahoma"/>
              </a:rPr>
              <a:t> N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Tahoma"/>
              </a:rPr>
              <a:t>                     </a:t>
            </a:r>
            <a:r>
              <a:rPr b="0" lang="cs-CZ" sz="2800" spc="-1" strike="noStrike">
                <a:solidFill>
                  <a:srgbClr val="a116e0"/>
                </a:solidFill>
                <a:latin typeface="Arial"/>
                <a:ea typeface="Tahoma"/>
              </a:rPr>
              <a:t>- ztrát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Tahoma"/>
              </a:rPr>
              <a:t> (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&gt;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Tahoma"/>
              </a:rPr>
              <a:t> V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Tahoma"/>
              </a:rPr>
              <a:t>                     </a:t>
            </a:r>
            <a:r>
              <a:rPr b="0" lang="cs-CZ" sz="2800" spc="-1" strike="noStrike">
                <a:solidFill>
                  <a:srgbClr val="a116e0"/>
                </a:solidFill>
                <a:latin typeface="Arial"/>
                <a:ea typeface="Tahoma"/>
              </a:rPr>
              <a:t>- hospodářský výsledek 0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Tahoma"/>
              </a:rPr>
              <a:t> (N = V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a116e0"/>
                </a:solidFill>
                <a:latin typeface="Franklin Gothic Book"/>
              </a:rPr>
              <a:t>VÝNOSY PODNIKU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267920"/>
            <a:ext cx="8147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6ea0b0"/>
                </a:solidFill>
                <a:latin typeface="Arial"/>
              </a:rPr>
              <a:t>ZJIŠŤOVÁNÍ NÁKLADU A VÝNOS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Hospodářský výsledek (N a V) se zjišťují v různé struktuř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a116e0"/>
                </a:solidFill>
                <a:latin typeface="Arial"/>
              </a:rPr>
              <a:t>Ve finančním účetnictv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týká se </a:t>
            </a:r>
            <a:r>
              <a:rPr b="0" i="1" lang="cs-CZ" sz="2400" spc="-1" strike="noStrike">
                <a:solidFill>
                  <a:srgbClr val="6ea0b0"/>
                </a:solidFill>
                <a:latin typeface="Arial"/>
              </a:rPr>
              <a:t>podniků zapsaných v OR, které nevedou zjednodušenou formu účetnictv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(daňová eviden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a116e0"/>
                </a:solidFill>
                <a:latin typeface="Arial"/>
              </a:rPr>
              <a:t>V rozpočetnictví a vnitropodnikovém účetnictv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(složky manažerského účetnictví) – se výsledek hospodaření (N a V) zjišťují </a:t>
            </a:r>
            <a:r>
              <a:rPr b="0" i="1" lang="cs-CZ" sz="2400" spc="-1" strike="noStrike">
                <a:solidFill>
                  <a:srgbClr val="6ea0b0"/>
                </a:solidFill>
                <a:latin typeface="Arial"/>
              </a:rPr>
              <a:t>podle jednotlivých činností a podle vnitropodnikových útvarů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, je v pravomoci podniku jako formou ho povede a v jakém rozsah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VÝNOSY PODNIKU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6ea0b0"/>
                </a:solidFill>
                <a:latin typeface="Arial"/>
              </a:rPr>
              <a:t>ZJIŠŤOVÁNÍ NÁKLADU A VÝNOS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Schéma: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Zjišťování výsledu hospodaření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Zdroj: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  Vlastní zpracování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Organization Chart 6"/>
          <p:cNvGrpSpPr/>
          <p:nvPr/>
        </p:nvGrpSpPr>
        <p:grpSpPr>
          <a:xfrm>
            <a:off x="1262160" y="2492280"/>
            <a:ext cx="6370560" cy="4147200"/>
            <a:chOff x="1262160" y="2492280"/>
            <a:chExt cx="6370560" cy="4147200"/>
          </a:xfrm>
        </p:grpSpPr>
        <p:cxnSp>
          <p:nvCxnSpPr>
            <p:cNvPr id="384" name="_s3076"/>
            <p:cNvCxnSpPr>
              <a:stCxn id="385" idx="0"/>
              <a:endCxn id="386" idx="2"/>
            </p:cNvCxnSpPr>
            <p:nvPr/>
          </p:nvCxnSpPr>
          <p:spPr>
            <a:xfrm flipV="1">
              <a:off x="4447080" y="4150800"/>
              <a:ext cx="9000" cy="830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86" name="_s3077"/>
            <p:cNvSpPr/>
            <p:nvPr/>
          </p:nvSpPr>
          <p:spPr>
            <a:xfrm>
              <a:off x="1262160" y="2492280"/>
              <a:ext cx="6370560" cy="1658880"/>
            </a:xfrm>
            <a:prstGeom prst="roundRect">
              <a:avLst>
                <a:gd name="adj" fmla="val 16667"/>
              </a:avLst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Tahoma"/>
                </a:rPr>
                <a:t>FINANČNÍ ÚČETNICTVÍ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5" name="_s3078"/>
            <p:cNvSpPr/>
            <p:nvPr/>
          </p:nvSpPr>
          <p:spPr>
            <a:xfrm>
              <a:off x="1262160" y="4980600"/>
              <a:ext cx="6370560" cy="1658880"/>
            </a:xfrm>
            <a:prstGeom prst="roundRect">
              <a:avLst>
                <a:gd name="adj" fmla="val 16667"/>
              </a:avLst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3b3b3b"/>
                  </a:solidFill>
                  <a:latin typeface="Tahoma"/>
                </a:rPr>
                <a:t>PROVOZNÍ VH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+</a:t>
              </a:r>
              <a:r>
                <a:rPr b="0" lang="cs-CZ" sz="12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VH z finančních operací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200" spc="-1" strike="noStrike">
                  <a:solidFill>
                    <a:srgbClr val="a116e0"/>
                  </a:solidFill>
                  <a:latin typeface="Tahoma"/>
                  <a:ea typeface="Tahoma"/>
                </a:rPr>
                <a:t>= VH z běžné činnosti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+</a:t>
              </a:r>
              <a:r>
                <a:rPr b="0" lang="cs-CZ" sz="12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mimořádný VH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3b3b3b"/>
                  </a:solidFill>
                  <a:latin typeface="Tahoma"/>
                  <a:ea typeface="Tahoma"/>
                </a:rPr>
                <a:t>= VH před zdaněním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------------------------------------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</a:t>
              </a:r>
              <a:r>
                <a:rPr b="0" lang="cs-CZ" sz="12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aň z příjmů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= </a:t>
              </a:r>
              <a:r>
                <a:rPr b="0" i="1" lang="cs-CZ" sz="1400" spc="-1" strike="noStrike">
                  <a:solidFill>
                    <a:srgbClr val="a116e0"/>
                  </a:solidFill>
                  <a:latin typeface="Tahoma"/>
                  <a:ea typeface="Tahoma"/>
                </a:rPr>
                <a:t>ČISTÝ VH PODNIKU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VÝNOSY PODNIKU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6ea0b0"/>
                </a:solidFill>
                <a:latin typeface="Arial"/>
              </a:rPr>
              <a:t>ZJIŠŤOVÁNÍ NÁKLADU A VÝNOS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Schéma: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Zjišťování výsledu hospodaření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Zdroj:       Vlastní zpracován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9" name="Organization Chart 6"/>
          <p:cNvGrpSpPr/>
          <p:nvPr/>
        </p:nvGrpSpPr>
        <p:grpSpPr>
          <a:xfrm>
            <a:off x="431640" y="2997360"/>
            <a:ext cx="8208000" cy="3526200"/>
            <a:chOff x="431640" y="2997360"/>
            <a:chExt cx="8208000" cy="3526200"/>
          </a:xfrm>
        </p:grpSpPr>
        <p:cxnSp>
          <p:nvCxnSpPr>
            <p:cNvPr id="390" name="_s4100"/>
            <p:cNvCxnSpPr>
              <a:stCxn id="391" idx="0"/>
              <a:endCxn id="392" idx="2"/>
            </p:cNvCxnSpPr>
            <p:nvPr/>
          </p:nvCxnSpPr>
          <p:spPr>
            <a:xfrm flipV="1" rot="16200000">
              <a:off x="5287680" y="3655080"/>
              <a:ext cx="705960" cy="2210040"/>
            </a:xfrm>
            <a:prstGeom prst="bentConnector3">
              <a:avLst>
                <a:gd name="adj1" fmla="val 2632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93" name="_s4101"/>
            <p:cNvCxnSpPr>
              <a:stCxn id="394" idx="0"/>
              <a:endCxn id="392" idx="2"/>
            </p:cNvCxnSpPr>
            <p:nvPr/>
          </p:nvCxnSpPr>
          <p:spPr>
            <a:xfrm flipH="1" flipV="1" rot="5400000">
              <a:off x="3078000" y="3654720"/>
              <a:ext cx="705960" cy="2210760"/>
            </a:xfrm>
            <a:prstGeom prst="bentConnector3">
              <a:avLst>
                <a:gd name="adj1" fmla="val 2632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92" name="_s4102"/>
            <p:cNvSpPr/>
            <p:nvPr/>
          </p:nvSpPr>
          <p:spPr>
            <a:xfrm>
              <a:off x="2642040" y="2997360"/>
              <a:ext cx="3788280" cy="1410480"/>
            </a:xfrm>
            <a:prstGeom prst="roundRect">
              <a:avLst>
                <a:gd name="adj" fmla="val 16667"/>
              </a:avLst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ROZPOČETNICTVÍ    VNITROPODNIKOVÉ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                       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ÚČETNICTVÍ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4" name="_s4103"/>
            <p:cNvSpPr/>
            <p:nvPr/>
          </p:nvSpPr>
          <p:spPr>
            <a:xfrm>
              <a:off x="431640" y="5113080"/>
              <a:ext cx="3788280" cy="1410480"/>
            </a:xfrm>
            <a:prstGeom prst="roundRect">
              <a:avLst>
                <a:gd name="adj" fmla="val 16667"/>
              </a:avLst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ffffff"/>
                  </a:solidFill>
                  <a:latin typeface="Tahoma"/>
                </a:rPr>
                <a:t>VH z činnosti „A“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+</a:t>
              </a:r>
              <a:r>
                <a:rPr b="0" lang="cs-CZ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VH z činnosti „B“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+</a:t>
              </a:r>
              <a:r>
                <a:rPr b="0" lang="cs-CZ" sz="1600" spc="-1" strike="noStrike">
                  <a:solidFill>
                    <a:srgbClr val="ffffff"/>
                  </a:solidFill>
                  <a:latin typeface="Tahoma"/>
                </a:rPr>
                <a:t> VH z činnosti „C“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3b3b3b"/>
                  </a:solidFill>
                  <a:latin typeface="Tahoma"/>
                </a:rPr>
                <a:t>= VH podniku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1" name="_s4104"/>
            <p:cNvSpPr/>
            <p:nvPr/>
          </p:nvSpPr>
          <p:spPr>
            <a:xfrm>
              <a:off x="4851360" y="5113080"/>
              <a:ext cx="3788280" cy="1410480"/>
            </a:xfrm>
            <a:prstGeom prst="roundRect">
              <a:avLst>
                <a:gd name="adj" fmla="val 16667"/>
              </a:avLst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ffffff"/>
                  </a:solidFill>
                  <a:latin typeface="Tahoma"/>
                </a:rPr>
                <a:t>VH střediska 1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+</a:t>
              </a:r>
              <a:r>
                <a:rPr b="0" lang="cs-CZ" sz="1600" spc="-1" strike="noStrike">
                  <a:solidFill>
                    <a:srgbClr val="ffffff"/>
                  </a:solidFill>
                  <a:latin typeface="Tahoma"/>
                </a:rPr>
                <a:t> VH střediska 2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+</a:t>
              </a:r>
              <a:r>
                <a:rPr b="0" lang="cs-CZ" sz="1600" spc="-1" strike="noStrike">
                  <a:solidFill>
                    <a:srgbClr val="ffffff"/>
                  </a:solidFill>
                  <a:latin typeface="Tahoma"/>
                </a:rPr>
                <a:t> VH střediska 3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3b3b3b"/>
                  </a:solidFill>
                  <a:latin typeface="Tahoma"/>
                </a:rPr>
                <a:t>= VH podniku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935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116e0"/>
                </a:solidFill>
                <a:latin typeface="Franklin Gothic Book"/>
              </a:rPr>
              <a:t>    </a:t>
            </a:r>
            <a:r>
              <a:rPr b="1" lang="cs-CZ" sz="2800" spc="-1" strike="noStrike">
                <a:solidFill>
                  <a:srgbClr val="a116e0"/>
                </a:solidFill>
                <a:latin typeface="Franklin Gothic Book"/>
              </a:rPr>
              <a:t>VÝNOSY PODNIKU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a116e0"/>
                </a:solidFill>
                <a:latin typeface="Franklin Gothic Book"/>
              </a:rPr>
              <a:t>  </a:t>
            </a:r>
            <a:r>
              <a:rPr b="1" lang="cs-CZ" sz="2000" spc="-1" strike="noStrike">
                <a:solidFill>
                  <a:srgbClr val="a116e0"/>
                </a:solidFill>
                <a:latin typeface="Franklin Gothic Book"/>
              </a:rPr>
              <a:t>ROZVAHA                                   VÝKAZ ZISKU A ZTRÁTY</a:t>
            </a:r>
            <a:br>
              <a:rPr sz="2000"/>
            </a:br>
            <a:r>
              <a:rPr b="1" lang="cs-CZ" sz="2000" spc="-1" strike="noStrike">
                <a:solidFill>
                  <a:srgbClr val="a116e0"/>
                </a:solidFill>
                <a:latin typeface="Franklin Gothic Book"/>
              </a:rPr>
              <a:t>aktiva             pasiva                            (výsledovka) 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611280" y="1773360"/>
          <a:ext cx="3600360" cy="2117520"/>
        </p:xfrm>
        <a:graphic>
          <a:graphicData uri="http://schemas.openxmlformats.org/drawingml/2006/table">
            <a:tbl>
              <a:tblPr/>
              <a:tblGrid>
                <a:gridCol w="1800000"/>
                <a:gridCol w="1800360"/>
              </a:tblGrid>
              <a:tr h="1749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jet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lastní kapitá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-----------------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6ea0b0"/>
                          </a:solidFill>
                          <a:latin typeface="Tahoma"/>
                        </a:rPr>
                        <a:t>čistý z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izí kapitá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7" name=""/>
          <p:cNvGraphicFramePr/>
          <p:nvPr/>
        </p:nvGraphicFramePr>
        <p:xfrm>
          <a:off x="5003640" y="1844640"/>
          <a:ext cx="3313440" cy="2016000"/>
        </p:xfrm>
        <a:graphic>
          <a:graphicData uri="http://schemas.openxmlformats.org/drawingml/2006/table">
            <a:tbl>
              <a:tblPr/>
              <a:tblGrid>
                <a:gridCol w="1657440"/>
                <a:gridCol w="1656000"/>
              </a:tblGrid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nos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6ea0b0"/>
                          </a:solidFill>
                          <a:latin typeface="Tahoma"/>
                        </a:rPr>
                        <a:t>čistý zis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6ea0b0"/>
                </a:solidFill>
                <a:latin typeface="Arial"/>
              </a:rPr>
              <a:t>ZJIŠŤOVÁNÍ NÁKLADU A VÝNOS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14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Schéma:   Vztah rozvahy a výkazu zisku a ztrá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4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Zdroj:        Vlastní zpracování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4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a116e0"/>
                </a:solidFill>
                <a:latin typeface="Arial"/>
              </a:rPr>
              <a:t>Čistý zisk podnik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na konci účetního období zjištěný ve finančním účetnictví se vykáže v </a:t>
            </a:r>
            <a:r>
              <a:rPr b="0" i="1" lang="cs-CZ" sz="2000" spc="-1" strike="noStrike">
                <a:solidFill>
                  <a:srgbClr val="6ea0b0"/>
                </a:solidFill>
                <a:latin typeface="Arial"/>
              </a:rPr>
              <a:t>rozvaze a výkazu zisku a ztrát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výsledovk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Line 76"/>
          <p:cNvSpPr/>
          <p:nvPr/>
        </p:nvSpPr>
        <p:spPr>
          <a:xfrm>
            <a:off x="4356000" y="3141720"/>
            <a:ext cx="50328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VÝNOSY PODNIKU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1267920"/>
            <a:ext cx="8075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6ea0b0"/>
                </a:solidFill>
                <a:latin typeface="Arial"/>
              </a:rPr>
              <a:t>SNIŽOVÁNÍ NÁKLA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Cesty ke snižování náklad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a116e0"/>
                </a:solidFill>
                <a:latin typeface="Arial"/>
              </a:rPr>
              <a:t>Provozní povah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účinné nor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etření materiálem, používání kvalitního materiálu (malý odpad, bez zmetků), ostatními surovinami, šetření energ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užívat stroje s malou spotřebou a vyšším výkon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právná organizace prá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edcházení vzniků mank a šk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právné skladování a evidence zás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a116e0"/>
                </a:solidFill>
                <a:latin typeface="Franklin Gothic Book"/>
              </a:rPr>
              <a:t>VÝNOSY PODNIKU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6840" y="1412640"/>
            <a:ext cx="8002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6ea0b0"/>
                </a:solidFill>
                <a:latin typeface="Arial"/>
              </a:rPr>
              <a:t>SNIŽOVÁNÍ NÁKLA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Cesty ke snižování náklad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a116e0"/>
                </a:solidFill>
                <a:latin typeface="Arial"/>
              </a:rPr>
              <a:t>2. Mzdové povah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aměstnávat optimální počet zaměstnanc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bát na využití pracovní do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valifikace pracovník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a116e0"/>
                </a:solidFill>
                <a:latin typeface="Arial"/>
              </a:rPr>
              <a:t>3. Finanční povah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co nejmenší úvě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pouštět se do rizikových obchod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7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a116e0"/>
                </a:solidFill>
                <a:latin typeface="Franklin Gothic Book"/>
              </a:rPr>
              <a:t>VÝNOSY PODNIKU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6840" y="1125360"/>
            <a:ext cx="81471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6ea0b0"/>
                </a:solidFill>
                <a:latin typeface="Arial"/>
              </a:rPr>
              <a:t>ZVYŠOVÁNÍ VÝNOS</a:t>
            </a:r>
            <a:r>
              <a:rPr b="1" i="1" lang="cs-CZ" sz="2800" spc="-1" strike="noStrike">
                <a:solidFill>
                  <a:srgbClr val="6ea0b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naha dosáhnout co nejvyššího zisku. Podnik může zisk zvýši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a116e0"/>
                </a:solidFill>
                <a:latin typeface="Arial"/>
              </a:rPr>
              <a:t>1.  </a:t>
            </a:r>
            <a:r>
              <a:rPr b="0" lang="cs-CZ" sz="2000" spc="-1" strike="noStrike">
                <a:solidFill>
                  <a:srgbClr val="a116e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a116e0"/>
                </a:solidFill>
                <a:latin typeface="Arial"/>
              </a:rPr>
              <a:t>Snižováním nákladů na jednotku výkonu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nížení spotřeby (energie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nížením ocenění spotřeby (bude-li energii kupovat levněji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a116e0"/>
                </a:solidFill>
                <a:latin typeface="Arial"/>
              </a:rPr>
              <a:t>2.  </a:t>
            </a:r>
            <a:r>
              <a:rPr b="0" lang="cs-CZ" sz="2000" spc="-1" strike="noStrike">
                <a:solidFill>
                  <a:srgbClr val="a116e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a116e0"/>
                </a:solidFill>
                <a:latin typeface="Arial"/>
              </a:rPr>
              <a:t>Zvyšováním výnosů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výšení výkonů (vyšší prodej výrobků/služeb – kvalitnější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výšením jejich ocenění (prodá-li výrobky/služby za vyšší cenu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6ea0b0"/>
                </a:solidFill>
                <a:latin typeface="Arial"/>
              </a:rPr>
              <a:t>Trvalé snižování nákladů umožňuje snižování spotřeby prostředků, služeb a práce na jednotku výkon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6ea0b0"/>
                </a:solidFill>
                <a:latin typeface="Arial"/>
              </a:rPr>
              <a:t>Trvalý růst výnosů může podnik dosáhnout především zvyšováním objemu výkonů a jejich zdokonalování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a116e0"/>
                </a:solidFill>
                <a:latin typeface="Franklin Gothic Book"/>
              </a:rPr>
              <a:t>VÝNOSY PODNIKU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c7c8b"/>
                </a:solidFill>
                <a:latin typeface="Arial"/>
              </a:rPr>
              <a:t>Použitá literatur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[1] KLÍNSKÝ, P., MÜNCH, O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Ekonomika 1 pro obchodní akademie a ostatní střední školy.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3. vyd. Praha: Eduko nakladatelství, s. r. o., 2010, 152 s. ISBN 978-80-87204-24-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[2] KLÍNSKÝ, P., MÜNCH, O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Ekonomika 2 pro obchodní akademie a ostatní střední školy.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3. vyd. Praha: Eduko nakladatelství, s. r. o., 2010, 180 s. ISBN 978-80-87204-30-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467840" cy="7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Franklin Gothic Book"/>
              </a:rPr>
              <a:t>Záznamový list výukového materiálu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457200" y="1052640"/>
          <a:ext cx="8229600" cy="553392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88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390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8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4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ýnosy podnik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8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Y_32_INOVACE_086_Ekonomi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0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4-41-L/51 Podniká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9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konomika a prá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8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ruh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8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0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.12.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5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teriál slouží k získání přehledu o výnosech podniku a jejich členění, zjišťování nákladů a výnosů, způsobech snižování nákladů a zvyšování výnosů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0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8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a116e0"/>
                </a:solidFill>
                <a:latin typeface="Franklin Gothic Book"/>
              </a:rPr>
              <a:t>VÝNOSY PODNIKU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755640" y="1773000"/>
            <a:ext cx="71690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640">
              <a:lnSpc>
                <a:spcPct val="90000"/>
              </a:lnSpc>
              <a:spcBef>
                <a:spcPts val="72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ff"/>
                </a:solidFill>
                <a:latin typeface="Arial"/>
              </a:rPr>
              <a:t>Základní vymezení výnosů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5640">
              <a:lnSpc>
                <a:spcPct val="90000"/>
              </a:lnSpc>
              <a:spcBef>
                <a:spcPts val="72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ff"/>
                </a:solidFill>
                <a:latin typeface="Arial"/>
              </a:rPr>
              <a:t>Členění výnosů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5640">
              <a:lnSpc>
                <a:spcPct val="90000"/>
              </a:lnSpc>
              <a:spcBef>
                <a:spcPts val="72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ff"/>
                </a:solidFill>
                <a:latin typeface="Arial"/>
              </a:rPr>
              <a:t>Zjišťování nákladů a výnosů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5640">
              <a:lnSpc>
                <a:spcPct val="90000"/>
              </a:lnSpc>
              <a:spcBef>
                <a:spcPts val="72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ff"/>
                </a:solidFill>
                <a:latin typeface="Arial"/>
              </a:rPr>
              <a:t>Snižování nákladů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5640">
              <a:lnSpc>
                <a:spcPct val="90000"/>
              </a:lnSpc>
              <a:spcBef>
                <a:spcPts val="72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ff"/>
                </a:solidFill>
                <a:latin typeface="Arial"/>
              </a:rPr>
              <a:t>Zvyšování výnosů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5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64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70c0"/>
                </a:solidFill>
                <a:latin typeface="Arial"/>
              </a:rPr>
              <a:t>2. roční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VÝNOSY PODNIKU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6840" y="1341360"/>
            <a:ext cx="8218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6ea0b0"/>
                </a:solidFill>
                <a:latin typeface="Arial"/>
              </a:rPr>
              <a:t>Základní vymezení výnos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ýnosy rozumíme oceněné výkony podniku – </a:t>
            </a:r>
            <a:r>
              <a:rPr b="0" lang="cs-CZ" sz="2400" spc="-1" strike="noStrike">
                <a:solidFill>
                  <a:srgbClr val="a116e0"/>
                </a:solidFill>
                <a:latin typeface="Arial"/>
              </a:rPr>
              <a:t>„cena uskutečněných výstupů“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Hlavní složkou výnosů jsou </a:t>
            </a:r>
            <a:r>
              <a:rPr b="0" i="1" lang="cs-CZ" sz="2400" spc="-1" strike="noStrike">
                <a:solidFill>
                  <a:srgbClr val="6ea0b0"/>
                </a:solidFill>
                <a:latin typeface="Arial"/>
              </a:rPr>
              <a:t>tržb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za vlastní výkony a zboží (s tržbami jsou spojeny příjmy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c7c8b"/>
                </a:solidFill>
                <a:latin typeface="Arial"/>
              </a:rPr>
              <a:t>Členění výnosů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ýnosy podle druh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ýnosy podle účelu (činnosti, výkonů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ýnosy podle organizačních složek podnik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VÝNOSY PODNIKU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6840" y="1267920"/>
            <a:ext cx="84358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6ea0b0"/>
                </a:solidFill>
                <a:latin typeface="Arial"/>
              </a:rPr>
              <a:t>Členění výnos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a116e0"/>
                </a:solidFill>
                <a:latin typeface="Arial"/>
              </a:rPr>
              <a:t>Výnosy podle druh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ajímáme se o to, </a:t>
            </a:r>
            <a:r>
              <a:rPr b="0" i="1" lang="cs-CZ" sz="2000" spc="-1" strike="noStrike">
                <a:solidFill>
                  <a:srgbClr val="6ea0b0"/>
                </a:solidFill>
                <a:latin typeface="Arial"/>
              </a:rPr>
              <a:t>jakou podobu má výnos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tržby z prodeje výkonů, aktivace majetku vytvořeného vlastní činností, přijaté pokuty, penále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dle uspořádání výnosů v účetnictví je dále člením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a116e0"/>
                </a:solidFill>
                <a:latin typeface="Arial"/>
              </a:rPr>
              <a:t>tržby za vlastní výkony a zbož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za vlastní výrobky, z prodeje služeb, za zboží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a116e0"/>
                </a:solidFill>
                <a:latin typeface="Arial"/>
              </a:rPr>
              <a:t>změna stavu vnitropodnikových zásob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změna stavu výrobků, polotovarů, nedokončené výroby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a116e0"/>
                </a:solidFill>
                <a:latin typeface="Arial"/>
              </a:rPr>
              <a:t>aktivace majetku vytvořeného vlastní výrobo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aktivace materiálu a zboží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a116e0"/>
                </a:solidFill>
                <a:latin typeface="Arial"/>
              </a:rPr>
              <a:t>ostatní provozní výnos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tržby z prodeje DM, materiálu, přijaté pokuty a penále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a116e0"/>
                </a:solidFill>
                <a:latin typeface="Arial"/>
              </a:rPr>
              <a:t>finanční výnos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tržby z prodeje C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a116e0"/>
                </a:solidFill>
                <a:latin typeface="Arial"/>
              </a:rPr>
              <a:t>mimořádné výnos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náhrady od pojišťovny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VÝNOSY PODNIKU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341360"/>
            <a:ext cx="80755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6ea0b0"/>
                </a:solidFill>
                <a:latin typeface="Arial"/>
              </a:rPr>
              <a:t>Členění výnos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Výnosy podle druh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vedené uspořádání umožňuje odlišit výnosy n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6ea0b0"/>
                </a:solidFill>
                <a:latin typeface="Arial"/>
              </a:rPr>
              <a:t>Provoz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(výnosy z provozní činnosti) – </a:t>
            </a:r>
            <a:r>
              <a:rPr b="0" lang="cs-CZ" sz="2400" spc="-1" strike="noStrike">
                <a:solidFill>
                  <a:srgbClr val="a116e0"/>
                </a:solidFill>
                <a:latin typeface="Arial"/>
              </a:rPr>
              <a:t>úč. skupina 1 -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6ea0b0"/>
                </a:solidFill>
                <a:latin typeface="Arial"/>
              </a:rPr>
              <a:t>Finanč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(výnosy z finanční činnosti) - </a:t>
            </a:r>
            <a:r>
              <a:rPr b="0" lang="cs-CZ" sz="2400" spc="-1" strike="noStrike">
                <a:solidFill>
                  <a:srgbClr val="a116e0"/>
                </a:solidFill>
                <a:latin typeface="Arial"/>
              </a:rPr>
              <a:t>úč. skupina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6ea0b0"/>
                </a:solidFill>
                <a:latin typeface="Arial"/>
              </a:rPr>
              <a:t>Mimořádné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(výnosy z mimořádné činnosti) – </a:t>
            </a:r>
            <a:r>
              <a:rPr b="0" lang="cs-CZ" sz="2400" spc="-1" strike="noStrike">
                <a:solidFill>
                  <a:srgbClr val="a116e0"/>
                </a:solidFill>
                <a:latin typeface="Arial"/>
              </a:rPr>
              <a:t>úč. skupina 7, 8,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a116e0"/>
                </a:solidFill>
                <a:latin typeface="Franklin Gothic Book"/>
              </a:rPr>
              <a:t>VÝNOSY PODNIKU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341360"/>
            <a:ext cx="8147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4c7c8b"/>
                </a:solidFill>
                <a:latin typeface="Arial"/>
              </a:rPr>
              <a:t>Členění výnos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2. Výnosy podle účelu (činnosti, výkonů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kud </a:t>
            </a:r>
            <a:r>
              <a:rPr b="0" i="1" lang="cs-CZ" sz="2800" spc="-1" strike="noStrike">
                <a:solidFill>
                  <a:srgbClr val="6ea0b0"/>
                </a:solidFill>
                <a:latin typeface="Arial"/>
              </a:rPr>
              <a:t>podnik uskutečňuje více provozních činnost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(výrobní činnost, dopravní činnost, obchodní činnost) vytváří různé druhy výrobků nebo poskytuje různé služby je dobré vědět, jaké výnosy má z těchto výkon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oto členění umožňuje, jak je určitá </a:t>
            </a: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činnost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(výrobek, služba) </a:t>
            </a: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pro podnik zisková či ztrátov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 </a:t>
            </a: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VÝNOSY PODNIKU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4c7c8b"/>
                </a:solidFill>
                <a:latin typeface="Arial"/>
              </a:rPr>
              <a:t>Členění výnos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Schéma:  Přehled členění výnosů podle účel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Zdroj:      Vlastní zpracování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7" name="Organization Chart 6"/>
          <p:cNvGrpSpPr/>
          <p:nvPr/>
        </p:nvGrpSpPr>
        <p:grpSpPr>
          <a:xfrm>
            <a:off x="431640" y="3141720"/>
            <a:ext cx="8208360" cy="3166200"/>
            <a:chOff x="431640" y="3141720"/>
            <a:chExt cx="8208360" cy="3166200"/>
          </a:xfrm>
        </p:grpSpPr>
        <p:cxnSp>
          <p:nvCxnSpPr>
            <p:cNvPr id="358" name="_s1028"/>
            <p:cNvCxnSpPr>
              <a:stCxn id="359" idx="0"/>
              <a:endCxn id="360" idx="2"/>
            </p:cNvCxnSpPr>
            <p:nvPr/>
          </p:nvCxnSpPr>
          <p:spPr>
            <a:xfrm flipV="1" rot="16200000">
              <a:off x="5655240" y="3287520"/>
              <a:ext cx="633960" cy="2873520"/>
            </a:xfrm>
            <a:prstGeom prst="bentConnector3">
              <a:avLst>
                <a:gd name="adj1" fmla="val 2636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61" name="_s1029"/>
            <p:cNvCxnSpPr>
              <a:stCxn id="362" idx="0"/>
              <a:endCxn id="360" idx="2"/>
            </p:cNvCxnSpPr>
            <p:nvPr/>
          </p:nvCxnSpPr>
          <p:spPr>
            <a:xfrm flipV="1">
              <a:off x="4536000" y="4407480"/>
              <a:ext cx="3600" cy="633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63" name="_s1030"/>
            <p:cNvCxnSpPr>
              <a:stCxn id="364" idx="0"/>
              <a:endCxn id="360" idx="2"/>
            </p:cNvCxnSpPr>
            <p:nvPr/>
          </p:nvCxnSpPr>
          <p:spPr>
            <a:xfrm flipH="1" flipV="1" rot="5400000">
              <a:off x="2782440" y="3287880"/>
              <a:ext cx="633960" cy="2873520"/>
            </a:xfrm>
            <a:prstGeom prst="bentConnector3">
              <a:avLst>
                <a:gd name="adj1" fmla="val 2636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60" name="_s1031"/>
            <p:cNvSpPr/>
            <p:nvPr/>
          </p:nvSpPr>
          <p:spPr>
            <a:xfrm>
              <a:off x="3304440" y="3141720"/>
              <a:ext cx="2462400" cy="1266480"/>
            </a:xfrm>
            <a:prstGeom prst="roundRect">
              <a:avLst>
                <a:gd name="adj" fmla="val 16667"/>
              </a:avLst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VÝNOSY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PODNIKU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4" name="_s1032"/>
            <p:cNvSpPr/>
            <p:nvPr/>
          </p:nvSpPr>
          <p:spPr>
            <a:xfrm>
              <a:off x="431640" y="5041440"/>
              <a:ext cx="2462400" cy="1266480"/>
            </a:xfrm>
            <a:prstGeom prst="roundRect">
              <a:avLst>
                <a:gd name="adj" fmla="val 16667"/>
              </a:avLst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b3b"/>
                  </a:solidFill>
                  <a:latin typeface="Tahoma"/>
                </a:rPr>
                <a:t>Výnosy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b3b"/>
                  </a:solidFill>
                  <a:latin typeface="Tahoma"/>
                </a:rPr>
                <a:t>z činnosti „A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“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2" name="_s1033"/>
            <p:cNvSpPr/>
            <p:nvPr/>
          </p:nvSpPr>
          <p:spPr>
            <a:xfrm>
              <a:off x="3304440" y="5041440"/>
              <a:ext cx="2462400" cy="1266480"/>
            </a:xfrm>
            <a:prstGeom prst="roundRect">
              <a:avLst>
                <a:gd name="adj" fmla="val 16667"/>
              </a:avLst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b3b"/>
                  </a:solidFill>
                  <a:latin typeface="Tahoma"/>
                </a:rPr>
                <a:t>Výnosy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b3b"/>
                  </a:solidFill>
                  <a:latin typeface="Tahoma"/>
                </a:rPr>
                <a:t>Z činnosti „B“: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výkony 1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výkony 2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9" name="_s1034"/>
            <p:cNvSpPr/>
            <p:nvPr/>
          </p:nvSpPr>
          <p:spPr>
            <a:xfrm>
              <a:off x="6177600" y="5041440"/>
              <a:ext cx="2462400" cy="1266480"/>
            </a:xfrm>
            <a:prstGeom prst="roundRect">
              <a:avLst>
                <a:gd name="adj" fmla="val 16667"/>
              </a:avLst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b3b"/>
                  </a:solidFill>
                  <a:latin typeface="Tahoma"/>
                </a:rPr>
                <a:t>Výnosy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b3b"/>
                  </a:solidFill>
                  <a:latin typeface="Tahoma"/>
                </a:rPr>
                <a:t>z činnosti „C“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99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116e0"/>
                </a:solidFill>
                <a:latin typeface="Franklin Gothic Book"/>
              </a:rPr>
              <a:t>VÝNOSY PODNIKU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196640"/>
            <a:ext cx="8075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4c7c8b"/>
                </a:solidFill>
                <a:latin typeface="Arial"/>
              </a:rPr>
              <a:t>Členění výnos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a116e0"/>
                </a:solidFill>
                <a:latin typeface="Arial"/>
              </a:rPr>
              <a:t>3. Výnosy podle organizačních složek podnik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Jednotlivé provozní činnosti </a:t>
            </a:r>
            <a:r>
              <a:rPr b="0" i="1" lang="cs-CZ" sz="2000" spc="-1" strike="noStrike">
                <a:solidFill>
                  <a:srgbClr val="6ea0b0"/>
                </a:solidFill>
                <a:latin typeface="Arial"/>
              </a:rPr>
              <a:t>uskutečňují vnitropodnikové organizační útvar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rámci těchto útvarů je </a:t>
            </a:r>
            <a:r>
              <a:rPr b="0" lang="cs-CZ" sz="2000" spc="-1" strike="noStrike">
                <a:solidFill>
                  <a:srgbClr val="a116e0"/>
                </a:solidFill>
                <a:latin typeface="Arial"/>
              </a:rPr>
              <a:t>nutné snižovat náklady a zvyšovat výnos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výnosy se plánují a zjišťují podle organizačních složek podniku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nosy vnitropodnikových organizačních útvarů mohou bý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6ea0b0"/>
                </a:solidFill>
                <a:latin typeface="Arial"/>
              </a:rPr>
              <a:t>Prvot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prodej výkonů externím odběratelům – prodejn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6ea0b0"/>
                </a:solidFill>
                <a:latin typeface="Arial"/>
              </a:rPr>
              <a:t>Druhotné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vnitropodnikově poskytované výkony – výroba energie samotným podnike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nosy jsou evidovány </a:t>
            </a:r>
            <a:r>
              <a:rPr b="0" lang="cs-CZ" sz="2000" spc="-1" strike="noStrike">
                <a:solidFill>
                  <a:srgbClr val="a116e0"/>
                </a:solidFill>
                <a:latin typeface="Arial"/>
              </a:rPr>
              <a:t>v manažerském účetnictv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– tj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 rozpočetnictví a ve vnitropodnikovém účetnictv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7T11:48:08Z</dcterms:created>
  <dc:creator>Monika</dc:creator>
  <dc:description/>
  <dc:language>en-US</dc:language>
  <cp:lastModifiedBy>Berka</cp:lastModifiedBy>
  <dcterms:modified xsi:type="dcterms:W3CDTF">2014-02-13T08:15:10Z</dcterms:modified>
  <cp:revision>100</cp:revision>
  <dc:subject/>
  <dc:title>EKONOMIKA  PODNIKU</dc:title>
</cp:coreProperties>
</file>