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F2E6-FEF2-44E0-ADD5-F30CC09D0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697D-3C10-4FA9-8353-D26A3258E60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CBA-9A2E-43EB-B83F-E65882BF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619-4B03-436F-8E9B-84C65F68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D4A-D791-40D2-B0BE-7A3D518C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237-F86E-4564-84E4-E68A8F3E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5C2C-7BFE-4E22-AE62-4FE7AB70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A4ED-6343-4984-9F17-FACB7D19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0A8E-ACEE-4FF6-95E6-4270941C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B781-D894-4D22-BE98-B2D4F723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05C0-42BC-45C1-84CC-DEEFE554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B9F2-E74E-4C9E-AF2B-7569F2EF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137D-C25B-477A-ADCE-02344221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825-D937-4A89-B52C-4671B184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4831-E8FA-4BC4-A873-7EA28E09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F17F-3005-4C0B-8C24-10BF542A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2A4C-BD04-4AD4-84B1-877D0721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A6BE-ED0F-4CE4-BF46-054949CB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E280-88F0-4F1C-B9D9-92EDAE58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B061-B320-4ECF-9269-9DB805AA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6370-D057-4CCA-98CE-4450D411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9E2C2-DDA4-4BF6-B217-B1D520CE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7E22-B0FE-450F-A5F6-92A3F21C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0618D-86A6-47F0-BDFB-66539972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549-C3DD-4B4E-BC90-C112920A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E959-D602-489F-B089-B543E88E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F29B5-DFE9-4E0D-8B7C-D883AAE3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D944-D088-4F38-914D-8EB9F44A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A95A2-0CB3-4408-AD0C-FA4F4E24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87512-024C-447A-B2AA-6225C6B3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9F2E1-C96F-48E5-B42E-83CAF770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281F-3A10-4B5C-8E51-E446B43F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394A0-375F-4A66-907E-E798747B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134B4-7FF1-4BAD-B0C6-9B8A78E1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0E63-8A30-4465-B999-CBB5B760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BE6-A7FB-42D0-A120-743ABC3B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D7E61-33AA-4062-91A3-69714B95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F14EF-D38D-4414-85E7-2505E5C8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825B-92AE-4AE0-ACC1-96309EB1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0598D-8314-4A28-9B9E-F605EB47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F44BA-1919-465C-9224-DAE7E51A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50B5D-D103-4125-9F6F-43E49A73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5E4C4-119C-42BB-BBF3-F47AF325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C2B50-1420-4602-85B1-4F7A6ECD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E26C3-F037-4011-942D-A58446AE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738-7B52-4011-9326-A00FB9F7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ACD-328C-4A38-B04D-2EF147D7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3E6-022C-42B6-8AEB-5BED746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ED8-20D4-4BA1-B8F9-7ECD3A3D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B35-C895-4774-BD3B-BB3A59B7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51E9-067A-4B21-A17C-F1F0949C4C01}" type="slidenum">
              <a:rPr b="0" lang="cs-CZ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2D6E-76AC-4589-A0A5-8A6F9D556B1C}" type="slidenum">
              <a:rPr b="0" lang="cs-CZ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0D79-D180-4E35-9CE9-475C0C38541F}" type="slidenum">
              <a:rPr b="0" lang="cs-CZ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AEF3-3D52-4CF3-93F5-4375DF41E79E}" type="slidenum">
              <a:rPr b="0" lang="cs-CZ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z/search?gs_rn=21&amp;gs_ri=psy" TargetMode="External"/><Relationship Id="rId2" Type="http://schemas.openxmlformats.org/officeDocument/2006/relationships/hyperlink" Target="http://www.google.cz/search?gs_rn=21&amp;gs_ri=psy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7120" y="2852280"/>
            <a:ext cx="662436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_32_INOVACE_098_Ekonomika</a:t>
            </a:r>
            <a:br>
              <a:rPr sz="43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714680" y="3860640"/>
            <a:ext cx="5711760" cy="21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65e9c"/>
                </a:solidFill>
                <a:latin typeface="Franklin Gothic Book"/>
              </a:rPr>
              <a:t>PENÍZE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465e9c"/>
                </a:solidFill>
                <a:latin typeface="Franklin Gothic Book"/>
              </a:rPr>
              <a:t>Autor: Mgr. Roman Berk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527120" y="1189080"/>
            <a:ext cx="60850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b050"/>
                </a:solidFill>
                <a:latin typeface="Constantia"/>
              </a:rPr>
              <a:t>PENÍZ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71640" y="1557360"/>
            <a:ext cx="72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aa2b1e"/>
                </a:solidFill>
                <a:latin typeface="Franklin Gothic Book"/>
              </a:rPr>
              <a:t>Vývoj peněz</a:t>
            </a:r>
            <a:endParaRPr b="0" lang="en-US" sz="3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aa2b1e"/>
                </a:solidFill>
                <a:latin typeface="Franklin Gothic Book"/>
              </a:rPr>
              <a:t>7. Elektronické peníze: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Franklin Gothic Book"/>
              </a:rPr>
              <a:t>nejmodernější forma 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Franklin Gothic Book"/>
              </a:rPr>
              <a:t>bezhotovostních peněz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Franklin Gothic Book"/>
              </a:rPr>
              <a:t>Zdroj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Franklin Gothic Book"/>
              </a:rPr>
              <a:t>http://www.google.cz/search?hl=cs&amp;site=imghp&amp;tbm=isch&amp;source=hp&amp;biw=1366&amp;bih=610&amp;q=drah%C3%A9+kovy&amp;oq=drah%C3%A9+kovy&amp;gs_l=img.12..0j0i24l7.9742.11883.0.14370.10.7.0.2.2.0.498.1462.2j3j4-2.7.0....0...1ac.1.21.img.LfPHJtM2yhg#hl=cs&amp;site=imghp&amp;tbm=isch&amp;sa=1&amp;q=elektronick%C3%A9+pen%C3%ADze&amp;oq=elektronick%C3%A9+pen%C3%ADze&amp;gs_l=img.1.0.0i24l3.389326.409713.0.412133.28.25.0.0.0.2.384.2767.7j10j0j3.20.0....0...1c.1.21.img.n6x_SZjK0uE&amp;bav=on.2,or.r_qf.&amp;fp=b03be54c93ac7505&amp;biw=1366&amp;bih=610&amp;imgdii=_, </a:t>
            </a:r>
            <a:r>
              <a:rPr b="1" lang="cs-CZ" sz="1300" spc="-1" strike="noStrike">
                <a:solidFill>
                  <a:srgbClr val="000000"/>
                </a:solidFill>
                <a:latin typeface="Franklin Gothic Book"/>
              </a:rPr>
              <a:t>dne 15. 7: 2013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4572000" y="2155680"/>
            <a:ext cx="3456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b050"/>
                </a:solidFill>
                <a:latin typeface="Constantia"/>
              </a:rPr>
              <a:t>PENÍZ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87280" y="1628640"/>
            <a:ext cx="67694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Franklin Gothic Book"/>
              </a:rPr>
              <a:t>Funkce peněz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Franklin Gothic Book"/>
              </a:rPr>
              <a:t>Měřítko cen – míra hodnoty, všeobecný ekvivalent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Franklin Gothic Book"/>
              </a:rPr>
              <a:t>Prostředek směny – umožňují nákup a prodej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Franklin Gothic Book"/>
              </a:rPr>
              <a:t>Platidlo – slouží k úhradě závazků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Franklin Gothic Book"/>
              </a:rPr>
              <a:t>Mezinárodní platidlo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Franklin Gothic Book"/>
              </a:rPr>
              <a:t>Ukazatel hodnoty – fungují jako poklad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b050"/>
                </a:solidFill>
                <a:latin typeface="Constantia"/>
              </a:rPr>
              <a:t>PENÍZ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186920" y="1628640"/>
            <a:ext cx="69850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a2b1e"/>
                </a:solidFill>
                <a:latin typeface="Franklin Gothic Book"/>
              </a:rPr>
              <a:t>Ochranné prvky bankovek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Franklin Gothic Book"/>
              </a:rPr>
              <a:t>Speciální papír na bankovky (nezaměnitelný)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Franklin Gothic Book"/>
              </a:rPr>
              <a:t>Ruční rytina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Franklin Gothic Book"/>
              </a:rPr>
              <a:t>Mikropísmo (mikrotext)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Franklin Gothic Book"/>
              </a:rPr>
              <a:t>Vodoznak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Franklin Gothic Book"/>
              </a:rPr>
              <a:t>Ochranný proužek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Franklin Gothic Book"/>
              </a:rPr>
              <a:t>Chemická vlákna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Franklin Gothic Book"/>
              </a:rPr>
              <a:t>Soutisková značka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Franklin Gothic Book"/>
              </a:rPr>
              <a:t>Opticky proměnlivá barva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Franklin Gothic Book"/>
              </a:rPr>
              <a:t>Perforace (mikroperforace)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6964560" cy="59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b050"/>
                </a:solidFill>
                <a:latin typeface="Constantia"/>
              </a:rPr>
              <a:t>PENÍZ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16000" y="1413000"/>
            <a:ext cx="6912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a2b1e"/>
                </a:solidFill>
                <a:latin typeface="Franklin Gothic Book"/>
              </a:rPr>
              <a:t>Ochranné prvky bankovek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Zdroj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Franklin Gothic Book"/>
              </a:rPr>
              <a:t>http://www.google.cz/search?hl=cs&amp;site=imghp&amp;tbm=isch&amp;source=hp&amp;biw=1366&amp;bih=610&amp;q=drah%C3%A9+kovy&amp;oq=drah%C3%A9+kovy&amp;gs_l=img.12..0j0i24l7.9742.11883.0.14370.10.7.0.2.2.0.498.1462.2j3j4-2.7.0....0...1ac.1.21.img.LfPHJtM2yhg#hl=cs&amp;site=imghp&amp;tbm=isch&amp;sa=1&amp;q=ochrann+prvky+bankovek&amp;oq=ochrann+prvky+bankovek&amp;gs_l=img.12...14964.27767.0.30417.47.37.7.0.0.1.2288.13368.6j10j6j3j0j2j2j0j1j2.32.0....0...1c.1.21.img.0ARCJLK9wNE&amp;bav=on.2,or.r_qf.&amp;fp=b03be54c93ac7505&amp;biw=1366&amp;bih=610&amp;imgdii=_, </a:t>
            </a:r>
            <a:r>
              <a:rPr b="1" lang="cs-CZ" sz="1000" spc="-1" strike="noStrike">
                <a:solidFill>
                  <a:srgbClr val="000000"/>
                </a:solidFill>
                <a:latin typeface="Franklin Gothic Book"/>
              </a:rPr>
              <a:t>dne 15. 7. 2013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897200" y="2060640"/>
            <a:ext cx="5256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b050"/>
                </a:solidFill>
                <a:latin typeface="Constantia"/>
              </a:rPr>
              <a:t>PENÍZ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87280" y="1989000"/>
            <a:ext cx="6769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Franklin Gothic Book"/>
              </a:rPr>
              <a:t>Použitá literatura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Franklin Gothic Book"/>
              </a:rPr>
              <a:t>KLÍNSKÝ, Petr a Otto MÜNCH. </a:t>
            </a:r>
            <a:r>
              <a:rPr b="0" i="1" lang="cs-CZ" sz="2000" spc="-1" strike="noStrike">
                <a:solidFill>
                  <a:srgbClr val="000000"/>
                </a:solidFill>
                <a:latin typeface="Franklin Gothic Book"/>
              </a:rPr>
              <a:t>Ekonomika pro obchodní akademie a ostatní střední školy</a:t>
            </a:r>
            <a:r>
              <a:rPr b="0" lang="cs-CZ" sz="2000" spc="-1" strike="noStrike">
                <a:solidFill>
                  <a:srgbClr val="000000"/>
                </a:solidFill>
                <a:latin typeface="Franklin Gothic Book"/>
              </a:rPr>
              <a:t>. 3., upr. vyd. Praha: Eduko, 2010-2011. ISBN 978-80-87204-38-24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Franklin Gothic Book"/>
              </a:rPr>
              <a:t>ZLÁMAL, Jaroslav a Zdeněk MENDL. </a:t>
            </a:r>
            <a:r>
              <a:rPr b="0" i="1" lang="cs-CZ" sz="2000" spc="-1" strike="noStrike">
                <a:solidFill>
                  <a:srgbClr val="000000"/>
                </a:solidFill>
                <a:latin typeface="Franklin Gothic Book"/>
              </a:rPr>
              <a:t>Ekonomie nejen k maturitě. </a:t>
            </a:r>
            <a:r>
              <a:rPr b="0" lang="cs-CZ" sz="2000" spc="-1" strike="noStrike">
                <a:solidFill>
                  <a:srgbClr val="000000"/>
                </a:solidFill>
                <a:latin typeface="Franklin Gothic Book"/>
              </a:rPr>
              <a:t>Vyd. 1. Kralice na Hané: Computer Media, 2007, 136 s. ISBN 978-80-86686-78-3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Záznamový list výukového materiálu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71640" y="1700280"/>
          <a:ext cx="7129440" cy="4511520"/>
        </p:xfrm>
        <a:graphic>
          <a:graphicData uri="http://schemas.openxmlformats.org/drawingml/2006/table">
            <a:tbl>
              <a:tblPr/>
              <a:tblGrid>
                <a:gridCol w="2566800"/>
                <a:gridCol w="4562640"/>
              </a:tblGrid>
              <a:tr h="285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a02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a023"/>
                    </a:solidFill>
                  </a:tcPr>
                </a:tc>
              </a:tr>
              <a:tr h="28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Pení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5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VY_32_INOVACE_098_Ekonom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64-41-L/51 Podnik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5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19.12.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Materiál slouží k získání přehledu o vývoji peněz, funkcích peněz, ochranných známkách bankovek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2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b050"/>
                </a:solidFill>
                <a:latin typeface="Constantia"/>
              </a:rPr>
              <a:t>PENÍZ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463400" y="2421000"/>
            <a:ext cx="619596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Franklin Gothic Book"/>
              </a:rPr>
              <a:t>Vývoj pen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ěz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Funkce peněz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Ochranné prvky bankove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Franklin Gothic Book"/>
              </a:rPr>
              <a:t>2. roční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966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b050"/>
                </a:solidFill>
                <a:latin typeface="Constantia"/>
              </a:rPr>
              <a:t>PENÍZ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aa2b1e"/>
                </a:solidFill>
                <a:latin typeface="Franklin Gothic Book"/>
              </a:rPr>
              <a:t>Vývoj peněz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Franklin Gothic Book"/>
              </a:rPr>
              <a:t>Vývoj peněz souvisí s vývojem směny zboží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a2b1e"/>
                </a:solidFill>
                <a:latin typeface="Franklin Gothic Book"/>
              </a:rPr>
              <a:t>1. Prostá směna zboží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aa2b1e"/>
                </a:solidFill>
                <a:latin typeface="Franklin Gothic Book"/>
              </a:rPr>
              <a:t>(barterový obchod) </a:t>
            </a:r>
            <a:r>
              <a:rPr b="0" lang="cs-CZ" sz="2800" spc="-1" strike="noStrike">
                <a:solidFill>
                  <a:srgbClr val="000000"/>
                </a:solidFill>
                <a:latin typeface="Franklin Gothic Book"/>
              </a:rPr>
              <a:t>– jedno zboží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ranklin Gothic Book"/>
              </a:rPr>
              <a:t>bylo v určitém poměru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Franklin Gothic Book"/>
              </a:rPr>
              <a:t>vyměňováno za určité zboží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Franklin Gothic Book"/>
              </a:rPr>
              <a:t>Zdroj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Franklin Gothic Book"/>
              </a:rPr>
              <a:t>http://www.google.cz/search?q=prost%C3%A1+sm%C4%9Bna+zbo%C5%BE%C3%AD&amp;source=lnms&amp;tbm=isch&amp;sa=X&amp;ei=d0fmUZfDC4eN7Qb244HwBg&amp;ved=0CAcQ_AUoAQ&amp;biw=1366&amp;bih=610#tbm=isch&amp;sa=1&amp;q=barterov%C3%BD+obchod&amp;oq=barterov%C3%BD&amp;gs_l=img.1.0.0i24l5.91879.95991.0.98568.26.16.0.0.0.4.475.1926.4j9j4-1.14.0....0...1c.1.21.img.f2UDoBzn8NA&amp;bav=on.2,or.r_qf.&amp;bvm=bv.49405654,d.ZGU&amp;fp=451ab4d5cf89285e&amp;biw=1366&amp;bih=610, </a:t>
            </a:r>
            <a:r>
              <a:rPr b="1" lang="cs-CZ" sz="1000" spc="-1" strike="noStrike">
                <a:solidFill>
                  <a:srgbClr val="000000"/>
                </a:solidFill>
                <a:latin typeface="Franklin Gothic Book"/>
              </a:rPr>
              <a:t>dne 15. 7. 2013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6227640" y="2637000"/>
            <a:ext cx="19432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5120" y="817200"/>
            <a:ext cx="69642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b050"/>
                </a:solidFill>
                <a:latin typeface="Constantia"/>
              </a:rPr>
              <a:t>PENÍZ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115640" y="1699920"/>
            <a:ext cx="6985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a2b1e"/>
                </a:solidFill>
                <a:latin typeface="Franklin Gothic Book"/>
              </a:rPr>
              <a:t>Vývoj peněz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a2b1e"/>
                </a:solidFill>
                <a:latin typeface="Franklin Gothic Book"/>
              </a:rPr>
              <a:t>2. Komoditní peníze  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- v každé izolované společnosti se z prosté směny vyvinulo zboží, které bylo přijatelné pro všechny (plátno, mušle, kameny, aj.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Zdroj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d83e2c"/>
                </a:solidFill>
                <a:uFillTx/>
                <a:latin typeface="Franklin Gothic Book"/>
                <a:hlinkClick r:id="rId1"/>
              </a:rPr>
              <a:t>http://</a:t>
            </a:r>
            <a:r>
              <a:rPr b="0" lang="cs-CZ" sz="1100" spc="-1" strike="noStrike" u="sng">
                <a:solidFill>
                  <a:srgbClr val="d83e2c"/>
                </a:solidFill>
                <a:uFillTx/>
                <a:latin typeface="Franklin Gothic Book"/>
                <a:hlinkClick r:id="rId2"/>
              </a:rPr>
              <a:t>www.google.cz/search?gs_rn=21&amp;gs_ri=psy</a:t>
            </a:r>
            <a:r>
              <a:rPr b="0" lang="cs-CZ" sz="1100" spc="-1" strike="noStrike">
                <a:solidFill>
                  <a:srgbClr val="000000"/>
                </a:solidFill>
                <a:latin typeface="Franklin Gothic Book"/>
              </a:rPr>
              <a:t> ab&amp;cp=12&amp;gs_id=18&amp;xhr=t&amp;q=komoditn%C3%AD+pen%C3%ADze&amp;biw=1366&amp;bih=610&amp;bav=on.2,or.r_qf.&amp;bvm=bv.49405654,d.ZWU&amp;um=1&amp;ie=UTF-8&amp;hl=cs&amp;tbm=isch&amp;source=og&amp;sa=N&amp;tab=wi&amp;ei=SUrmUZz8HuSR7Abe34CoDg, </a:t>
            </a:r>
            <a:r>
              <a:rPr b="1" lang="cs-CZ" sz="1100" spc="-1" strike="noStrike">
                <a:solidFill>
                  <a:srgbClr val="000000"/>
                </a:solidFill>
                <a:latin typeface="Franklin Gothic Book"/>
              </a:rPr>
              <a:t>dne 15. 7. 2013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3"/>
          <a:stretch/>
        </p:blipFill>
        <p:spPr>
          <a:xfrm>
            <a:off x="3348000" y="3875040"/>
            <a:ext cx="24303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b050"/>
                </a:solidFill>
                <a:latin typeface="Constantia"/>
              </a:rPr>
              <a:t>PENÍZ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42920" y="1484280"/>
            <a:ext cx="7129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aa2b1e"/>
                </a:solidFill>
                <a:latin typeface="Franklin Gothic Book"/>
              </a:rPr>
              <a:t>Vývoj peněz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a2b1e"/>
                </a:solidFill>
                <a:latin typeface="Franklin Gothic Book"/>
              </a:rPr>
              <a:t>3. Drahé kovy 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- lehce směnitelné, snadno přijatelné, nepodléhají času (zlato, stříbro, aj.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Zdroj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Franklin Gothic Book"/>
              </a:rPr>
              <a:t>http://www.google.cz/search?hl=cs&amp;site=imghp&amp;tbm=isch&amp;source=hp&amp;biw=1366&amp;bih=610&amp;q=drah%C3%A9+kovy&amp;oq=drah%C3%A9+kovy&amp;gs_l=img.12..0j0i24l7.9742.11883.0.14370.10.7.0.2.2.0.498.1462.2j3j4-2.7.0....0...1ac.1.21.img.LfPHJtM2yhg, </a:t>
            </a:r>
            <a:r>
              <a:rPr b="1" lang="cs-CZ" sz="1100" spc="-1" strike="noStrike">
                <a:solidFill>
                  <a:srgbClr val="000000"/>
                </a:solidFill>
                <a:latin typeface="Franklin Gothic Book"/>
              </a:rPr>
              <a:t>dne 15. 7. 2013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302436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6040" y="747720"/>
            <a:ext cx="6964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b050"/>
                </a:solidFill>
                <a:latin typeface="Constantia"/>
              </a:rPr>
              <a:t>PENÍZ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16000" y="907920"/>
            <a:ext cx="7128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aa2b1e"/>
                </a:solidFill>
                <a:latin typeface="Franklin Gothic Book"/>
              </a:rPr>
              <a:t>Vývoj peněz 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aa2b1e"/>
                </a:solidFill>
                <a:latin typeface="Franklin Gothic Book"/>
              </a:rPr>
              <a:t>4. Mince</a:t>
            </a:r>
            <a:r>
              <a:rPr b="0" lang="cs-CZ" sz="1900" spc="-1" strike="noStrike">
                <a:solidFill>
                  <a:srgbClr val="000000"/>
                </a:solidFill>
                <a:latin typeface="Franklin Gothic Book"/>
              </a:rPr>
              <a:t> (15. – 16. století):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Franklin Gothic Book"/>
              </a:rPr>
              <a:t>období monometalismu (mince z 1 kovu)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Franklin Gothic Book"/>
              </a:rPr>
              <a:t>období bimetalismu (ze 2 kovů)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Franklin Gothic Book"/>
              </a:rPr>
              <a:t>období zlata   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Franklin Gothic Book"/>
              </a:rPr>
              <a:t>např. denáry, 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Franklin Gothic Book"/>
              </a:rPr>
              <a:t>groše, tolary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Franklin Gothic Book"/>
              </a:rPr>
              <a:t>Zdroj: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Franklin Gothic Book"/>
              </a:rPr>
              <a:t>http://www.google.cz/search?hl=cs&amp;site=imghp&amp;tbm=isch&amp;source=hp&amp;biw=1366&amp;bih=610&amp;q=drah%C3%A9+kovy&amp;oq=drah%C3%A9+kovy&amp;gs_l=img.12..0j0i24l7.9742.11883.0.14370.10.7.0.2.2.0.498.1462.2j3j4-2.7.0....0...1ac.1.21.img.LfPHJtM2yhg#hl=cs&amp;site=imghp&amp;tbm=isch&amp;sa=1&amp;q=tolar&amp;oq=tolar&amp;gs_l=img.12...0.0.7.26.0.0.0.0.0.0.0.0..0.0....0...1c..21.img.AHbKDH4gAXo&amp;bav=on.2,or.r_qf.&amp;bvm=bv.49405654,d.ZGU&amp;fp=f0a16d4749457961&amp;biw=1366&amp;bih=610, </a:t>
            </a:r>
            <a:r>
              <a:rPr b="1" lang="cs-CZ" sz="900" spc="-1" strike="noStrike">
                <a:solidFill>
                  <a:srgbClr val="000000"/>
                </a:solidFill>
                <a:latin typeface="Franklin Gothic Book"/>
              </a:rPr>
              <a:t>dne 15. 7. 2013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3995640" y="30686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6264360" y="3657600"/>
            <a:ext cx="1342800" cy="133344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5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216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368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3"/>
          <a:stretch/>
        </p:blipFill>
        <p:spPr>
          <a:xfrm>
            <a:off x="5864400" y="126828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"/>
          <p:cNvPicPr/>
          <p:nvPr/>
        </p:nvPicPr>
        <p:blipFill>
          <a:blip r:embed="rId4"/>
          <a:stretch/>
        </p:blipFill>
        <p:spPr>
          <a:xfrm>
            <a:off x="1908000" y="3789360"/>
            <a:ext cx="1740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280" y="620640"/>
            <a:ext cx="69656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b050"/>
                </a:solidFill>
                <a:latin typeface="Constantia"/>
              </a:rPr>
              <a:t>PENÍZ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71640" y="1699920"/>
            <a:ext cx="712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a2b1e"/>
                </a:solidFill>
                <a:latin typeface="Franklin Gothic Book"/>
              </a:rPr>
              <a:t>Vývoj peněz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a2b1e"/>
                </a:solidFill>
                <a:latin typeface="Franklin Gothic Book"/>
              </a:rPr>
              <a:t>	</a:t>
            </a:r>
            <a:r>
              <a:rPr b="0" lang="cs-CZ" sz="2400" spc="-1" strike="noStrike">
                <a:solidFill>
                  <a:srgbClr val="aa2b1e"/>
                </a:solidFill>
                <a:latin typeface="Franklin Gothic Book"/>
              </a:rPr>
              <a:t>	</a:t>
            </a:r>
            <a:r>
              <a:rPr b="0" lang="cs-CZ" sz="2400" spc="-1" strike="noStrike">
                <a:solidFill>
                  <a:srgbClr val="aa2b1e"/>
                </a:solidFill>
                <a:latin typeface="Franklin Gothic Book"/>
              </a:rPr>
              <a:t>      </a:t>
            </a:r>
            <a:r>
              <a:rPr b="0" lang="cs-CZ" sz="2400" spc="-1" strike="noStrike">
                <a:solidFill>
                  <a:srgbClr val="aa2b1e"/>
                </a:solidFill>
                <a:latin typeface="Franklin Gothic Book"/>
              </a:rPr>
              <a:t>5. Papírové peníze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Franklin Gothic Book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Franklin Gothic Book"/>
              </a:rPr>
              <a:t>bankocetle“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tiskly se za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Marie Terez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Franklin Gothic Book"/>
              </a:rPr>
              <a:t>směnitelné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Franklin Gothic Book"/>
              </a:rPr>
              <a:t>Zdroj: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Franklin Gothic Book"/>
              </a:rPr>
              <a:t>http://www.google.cz/search?hl=cs&amp;site=imghp&amp;tbm=isch&amp;source=hp&amp;biw=1366&amp;bih=610&amp;q=drah%C3%A9+kovy&amp;oq=drah%C3%A9+kovy&amp;gs_l=img.12..0j0i24l7.9742.11883.0.14370.10.7.0.2.2.0.498.1462.2j3j4-2.7.0....0...1ac.1.21.img.LfPHJtM2yhg#hl=cs&amp;site=imghp&amp;tbm=isch&amp;sa=1&amp;q=bankocetle+marie+terezie&amp;oq=bankocetle+marie+terezie&amp;gs_l=img.12...0.0.11.2286.0.0.0.0.0.0.0.0..0.0....0...1c..21.img.BuAZhCslrGs&amp;bav=on.2,or.r_qf.&amp;bvm=bv.49405654,d.ZGU&amp;fp=525299bfa69565c9&amp;biw=1366&amp;bih=610&amp;facrc=_&amp;imgdii=_&amp;imgrc=icdt_8CbYmxHzM%3A%3B2QHZ_hcer4u5aM%3Bhttp%253A%252F%252Fsimonak.eu%252Fimages%252Fobrazky_ostatni_strany%252Fh_k%252F10_20_2.jpg%3Bhttp%253A%252F%252Fsimonak.eu%252Findex.php%253Fstranka%253Dpages%252Fh_k%252F10_20.htm%3B378%3B678, </a:t>
            </a:r>
            <a:r>
              <a:rPr b="1" lang="cs-CZ" sz="1100" spc="-1" strike="noStrike">
                <a:solidFill>
                  <a:srgbClr val="000000"/>
                </a:solidFill>
                <a:latin typeface="Franklin Gothic Book"/>
              </a:rPr>
              <a:t>dne 15. 7. 2013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1943280" cy="2959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6012000" y="1332000"/>
            <a:ext cx="1873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38240" y="765000"/>
            <a:ext cx="696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b050"/>
                </a:solidFill>
                <a:latin typeface="Constantia"/>
              </a:rPr>
              <a:t>PENÍZ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99640" y="1413000"/>
            <a:ext cx="7272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aa2b1e"/>
                </a:solidFill>
                <a:latin typeface="Franklin Gothic Book"/>
              </a:rPr>
              <a:t>Vývoj peněz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aa2b1e"/>
                </a:solidFill>
                <a:latin typeface="Franklin Gothic Book"/>
              </a:rPr>
              <a:t>6. Bezhotovostní peníze: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Franklin Gothic Book"/>
              </a:rPr>
              <a:t>bezhotovostní převod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Franklin Gothic Book"/>
              </a:rPr>
              <a:t>první formou byly směnky a šeky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Franklin Gothic Book"/>
              </a:rPr>
              <a:t>Zdroj: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Franklin Gothic Book"/>
              </a:rPr>
              <a:t>http://www.google.cz/search?hl=cs&amp;site=imghp&amp;tbm=isch&amp;source=hp&amp;biw=1366&amp;bih=610&amp;q=drah%C3%A9+kovy&amp;oq=drah%C3%A9+kovy&amp;gs_l=img.12..0j0i24l7.9742.11883.0.14370.10.7.0.2.2.0.498.1462.2j3j4-2.7.0....0...1ac.1.21.img.LfPHJtM2yhg#hl=cs&amp;site=imghp&amp;tbm=isch&amp;sa=1&amp;q=sm%C4%9Bnka&amp;oq=sm%C4%9Bnka&amp;gs_l=img.1.0.0l10.52184.65193.15.68643.22.16.6.0.0.1.204.1630.7j5j2.14.0....0...1c.1.21.img.bWkGOA6oOEI&amp;bav=on.2,or.r_qf.&amp;bvm=bv.49405654,d.ZGU&amp;fp=2b22a1f70e615d9&amp;biw=1366&amp;bih=610&amp;facrc=_&amp;imgdii=_&amp;imgrc=-LDb_gWa_v7ZKM%3A%3BAxsi4mqNtFz-KM%3Bhttp%253A%252F%252Fwww.osobni-vymahani.cz%252Fpictures%252Fsmenka.jpg%3Bhttp%253A%252F%252Fwww.osobni-vymahani.cz%252Fsmenka.htm%3B300%3B200, </a:t>
            </a:r>
            <a:r>
              <a:rPr b="1" lang="cs-CZ" sz="1100" spc="-1" strike="noStrike">
                <a:solidFill>
                  <a:srgbClr val="000000"/>
                </a:solidFill>
                <a:latin typeface="Franklin Gothic Book"/>
              </a:rPr>
              <a:t>dne 15. 7. 2013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908000" y="3089160"/>
            <a:ext cx="2962440" cy="1543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5435640" y="1844640"/>
            <a:ext cx="2565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07:13:13Z</dcterms:created>
  <dc:creator>Acer</dc:creator>
  <dc:description/>
  <dc:language>en-US</dc:language>
  <cp:lastModifiedBy>Berka</cp:lastModifiedBy>
  <dcterms:modified xsi:type="dcterms:W3CDTF">2014-02-13T08:28:50Z</dcterms:modified>
  <cp:revision>19</cp:revision>
  <dc:subject/>
  <dc:title>VY_32_INOVACE_061_Ekonomika</dc:title>
</cp:coreProperties>
</file>