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E91D-4FA3-4371-B99D-E5BDA6CA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6558-6BE8-43D3-BBCF-31C5EE23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C279-5CBF-40F3-80B6-97AEA458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E84A-68BB-4341-8F5F-55BBDFB9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69B5-3064-43FD-A44D-BA902020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EFBF-F85E-4FBC-AC91-36C76FA2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8070-2620-4D2C-AC55-17E4945C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D951-D0C0-4BC8-AAEB-A5AFF7AA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217F-BFE7-4B7C-B180-540CFD5F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B9C9-6EC6-4F84-96CD-E65D4C4A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7C5A-A53A-4061-A105-7B4AC4D1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D2D4-A8AB-448C-98E6-E68E68B2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F74B-3283-4009-968B-21F324FD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4C40-B1B4-4102-871E-5BECDEE6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EE3E-D591-4113-BB19-2C6AF8C5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1869-4639-45FC-8242-26BD776B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1CBF-6F97-4259-8A93-29CE80A61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F916B4-0F95-4F0B-9DF1-78F8CA43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26202A-B221-4F5A-A6AD-B7ABD223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16FC2B-C2A3-4835-8E47-203987DC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148F3F-F185-4FA6-92AD-FC7863B3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9DD436-8340-4C41-A604-CDF40056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4464-CAB8-4B74-92A2-1487E73F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2C2250-FFA5-44ED-BA89-47E92694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D77AC4-5E81-44C5-A245-E28D8898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396965-A838-467C-838C-5B932008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16F7D3-EE3B-452C-88EC-120FDD09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FA475E-0267-4A95-A9CD-74831ED9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D821E5-D8E6-478C-9774-BC6D8E9B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FEDAC3-C2D3-4828-A5FD-06CF6872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AB83A-98E3-45C4-993E-96626810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DE419-0496-49AA-9470-7821CB81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E8C5E-B542-42F4-9DD2-1D7D2D8E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A354-D726-484B-87F9-9075E0D1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FA9EC-626B-4B98-8B90-061A049A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6159A-63AC-4C89-B691-CC7A7CD0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EE684-171B-41EF-8178-C1F9B2B2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C42B0-24B4-4321-8454-7DC973ED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E50BB-9057-479D-BB6E-9C60A845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6DC9E-BFD6-4637-B320-9E8556D6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9ECBD-EA17-4C2F-9729-F65AAFB7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A5168-B095-42A5-B05A-374E0F72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D3988-2342-4EF4-9817-F514C377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4A066E-9482-42ED-8EDB-0DED298C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36D7-1298-484E-B067-A17957DA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EFFBA7-79B2-4825-9E5B-EB1C9F2E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1DAD88-6194-455A-BC68-5A556A30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AC8796-1D8D-45AF-8A80-9EE288D0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897049-DE27-4643-A510-18991F19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92DC4C-67F9-4029-9556-303CB123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DE6083-44F5-4E3A-B30C-75E21DB0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CEE901-4913-4DA8-BB65-71A1294A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5CCF9E-C10A-465C-9D2C-3489D40B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ABEC07-858A-475E-A1CD-D82917EE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1A8DAE-CEEF-4C41-AF1A-37EE4354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9B0B-29CE-4CD3-B083-247DB49E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DF834B-A35A-4F52-ABC0-21ED9116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405D1C-7995-4E28-9BC2-5F5500A0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194907-9283-4252-AD22-7B957ABD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8C3E1A-AEDA-42A4-8C29-72AD95CB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0BA21F-C884-4D1D-B05B-CEA5A85E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81979E-0815-4AA4-A018-6BF517D7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A8D9BB-6399-4BCF-AA50-2758B272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B37DFE-CBBE-4F7A-BF6A-332C7A30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05DA51-DE23-4C53-BC42-65272DB2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7809EB-3B06-4C88-9BCC-671B2A74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6E44-1B0E-49C1-AE75-A7C4963A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3F0946-2651-4418-BEA6-4B4D9AA5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635645-8456-4654-84C3-8D14A9F6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F15568-9242-4545-B580-AA2CB74F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AC55CC-CE9A-4459-9896-6667FA58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FBD461-D108-4B6E-A158-A604BA45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F913C5-5CBD-4E1B-A650-F784B716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77FBC8-B9B5-47F1-B7BD-E8A64894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63B6AE-AE93-4FD0-81EC-8C35F9F0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7AD557-E81E-4894-98E0-6651255D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1914B3-B0F6-4CCB-ACD1-6A3E9F9F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CBB0-F737-4FDB-9394-A9DDC95B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BDF0E8-6C4A-46C4-B338-78FEEEFA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E87DEA-E8BE-4A6A-974C-476D0FF7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D3D66A-2CC1-48D5-A51B-35945170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F40862-965A-422D-B586-C1F8B093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44F549-F424-4DA1-BE8C-10C04557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56CF-A4CF-428E-BCE8-028452C8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vná spojnic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vná spojnic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vná spojnic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ĺžni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ovná spojnic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á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ADED-884C-41A1-8EA7-15DC10B10219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ĺžni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ĺžni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ĺžni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dĺžni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vná spojnic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vná spojnic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vná spojnic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vná spojnic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vná spojnic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vná spojnica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ĺžnik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á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á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á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á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á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7761-096C-4490-B465-D9552B6D1C01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ovná spojnic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vná spojnic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vná spojnic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ĺžni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vná spojnic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á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0B6A-7826-4B68-A6DC-1E8EDF11F4AD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ĺžni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ĺžni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ĺžni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ĺžni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ovná spojnic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ovná spojnic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ovná spojnic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ovná spojnic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ovná spojnic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ĺžni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á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á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á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á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á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vná spojnica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A385-4B99-41DE-AE16-57E28AE60EA7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ovná spojnic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ovná spojnic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ovná spojnic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dĺžni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ovná spojnic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á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3F7F-EC07-40A2-A348-87EEB0E62581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ovná spojnic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ovná spojnica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ovná spojnica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ovná spojnica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ĺžnik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ovná spojnica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á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2EF3-FBC2-4E4C-96D7-203A2DCA000B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ovná spojnic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á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ovná spojnic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dĺžni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ovná spojnic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ovná spojnica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ovná spojnica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00D2-CEE7-48C2-A214-AC564FA02057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34920" y="2060280"/>
            <a:ext cx="70578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575f6d"/>
                </a:solidFill>
                <a:latin typeface="Calibri"/>
              </a:rPr>
              <a:t>VY_32_INOVACE_092_EKONOMIKA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3500280"/>
            <a:ext cx="6172200" cy="28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45e70"/>
                </a:solidFill>
                <a:latin typeface="Century Schoolbook"/>
              </a:rPr>
              <a:t>CE</a:t>
            </a:r>
            <a:r>
              <a:rPr b="1" lang="cs-CZ" sz="2400" spc="-1" strike="noStrike">
                <a:solidFill>
                  <a:srgbClr val="545e70"/>
                </a:solidFill>
                <a:latin typeface="Century Schoolbook"/>
              </a:rPr>
              <a:t>NNÉ PAPÍR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45e70"/>
                </a:solidFill>
                <a:latin typeface="Century Schoolbook"/>
              </a:rPr>
              <a:t>KAPITÁLOVÉHO TRHU </a:t>
            </a:r>
            <a:br>
              <a:rPr sz="6000"/>
            </a:br>
            <a:r>
              <a:rPr b="1" lang="cs-CZ" sz="2800" spc="-1" strike="noStrike">
                <a:solidFill>
                  <a:srgbClr val="575f6d"/>
                </a:solidFill>
                <a:latin typeface="Century Schoolbook"/>
              </a:rPr>
              <a:t>ÚVĚROVÉ CENNÉ PAPÍRY II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575f6d"/>
                </a:solidFill>
                <a:latin typeface="Calibri"/>
              </a:rPr>
              <a:t>Autor: Mgr. Roman Berk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Obrázek 3" descr=""/>
          <p:cNvPicPr/>
          <p:nvPr/>
        </p:nvPicPr>
        <p:blipFill>
          <a:blip r:embed="rId1"/>
          <a:stretch/>
        </p:blipFill>
        <p:spPr>
          <a:xfrm>
            <a:off x="2214720" y="428760"/>
            <a:ext cx="6083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45e70"/>
                </a:solidFill>
                <a:latin typeface="Century Schoolbook"/>
              </a:rPr>
              <a:t>CE</a:t>
            </a:r>
            <a:r>
              <a:rPr b="1" lang="cs-CZ" sz="2800" spc="-1" strike="noStrike">
                <a:solidFill>
                  <a:srgbClr val="545e70"/>
                </a:solidFill>
                <a:latin typeface="Century Schoolbook"/>
              </a:rPr>
              <a:t>NNÉ PAPÍRY KAPITÁLOVÉHO TRHU </a:t>
            </a:r>
            <a:br>
              <a:rPr sz="6600"/>
            </a:br>
            <a:r>
              <a:rPr b="1" lang="cs-CZ" sz="3200" spc="-1" strike="noStrike">
                <a:solidFill>
                  <a:srgbClr val="575f6d"/>
                </a:solidFill>
                <a:latin typeface="Century Schoolbook"/>
              </a:rPr>
              <a:t>ÚVĚROVÉ CENNÉ PAPÍRY II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1280" y="1600200"/>
            <a:ext cx="79214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a3d01"/>
                </a:solidFill>
                <a:latin typeface="Century Schoolbook"/>
              </a:rPr>
              <a:t>Státní pokladniční poukázk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Vydávají se ve vysoké nominální hodnotě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(1 mil. Kč a více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Vhodné pro velké investor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V současné době obvykle střednědobé (vyvinuly se z původně krátkodobých pokladničních poukázek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45e70"/>
                </a:solidFill>
                <a:latin typeface="Century Schoolbook"/>
              </a:rPr>
              <a:t>CE</a:t>
            </a:r>
            <a:r>
              <a:rPr b="1" lang="cs-CZ" sz="2800" spc="-1" strike="noStrike">
                <a:solidFill>
                  <a:srgbClr val="545e70"/>
                </a:solidFill>
                <a:latin typeface="Century Schoolbook"/>
              </a:rPr>
              <a:t>NNÉ PAPÍRY KAPITÁLOVÉHO TRHU </a:t>
            </a:r>
            <a:br>
              <a:rPr sz="6500"/>
            </a:br>
            <a:r>
              <a:rPr b="1" lang="cs-CZ" sz="3200" spc="-1" strike="noStrike">
                <a:solidFill>
                  <a:srgbClr val="575f6d"/>
                </a:solidFill>
                <a:latin typeface="Century Schoolbook"/>
              </a:rPr>
              <a:t>ÚVĚROVÉ CENNÉ PAPÍRY II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859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a3d01"/>
                </a:solidFill>
                <a:latin typeface="Century Schoolbook"/>
              </a:rPr>
              <a:t>Státní pokladniční poukázk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Schoolbook"/>
              </a:rPr>
              <a:t>Důvody emise státních pokladničních poukázek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vyrovnání schodku státního rozpočtu (chybějící příjmy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provádění měnové politiky (prodejem ČNB stahuje peníze z oběhu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45e70"/>
                </a:solidFill>
                <a:latin typeface="Century Schoolbook"/>
              </a:rPr>
              <a:t>CE</a:t>
            </a:r>
            <a:r>
              <a:rPr b="1" lang="cs-CZ" sz="2800" spc="-1" strike="noStrike">
                <a:solidFill>
                  <a:srgbClr val="545e70"/>
                </a:solidFill>
                <a:latin typeface="Century Schoolbook"/>
              </a:rPr>
              <a:t>NNÉ PAPÍRY KAPITÁLOVÉHO TRHU </a:t>
            </a:r>
            <a:br>
              <a:rPr sz="6000"/>
            </a:br>
            <a:r>
              <a:rPr b="1" lang="cs-CZ" sz="3200" spc="-1" strike="noStrike">
                <a:solidFill>
                  <a:srgbClr val="575f6d"/>
                </a:solidFill>
                <a:latin typeface="Century Schoolbook"/>
              </a:rPr>
              <a:t>ÚVĚROVÉ CENNÉ PAPÍRY II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7786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a3d01"/>
                </a:solidFill>
                <a:latin typeface="Century Schoolbook"/>
              </a:rPr>
              <a:t>Státní pokladniční poukázk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entury Schoolbook"/>
              </a:rPr>
              <a:t>Zdroj:</a:t>
            </a:r>
            <a:br>
              <a:rPr sz="2800"/>
            </a:b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https://www.google.cz/search?q=dluhopisy&amp;biw=1143&amp;bih=672&amp;source=lnms&amp;tbm=isch&amp;sa=X&amp;ei=YFfUUdfRIIWdtAb_p4CIDA&amp;ved=0CAcQ_AUoAQ#tbm=isch&amp;sa=1&amp;q=st%C3%A1tn%C3%AD+pokladni%C4%8Dn%C3%AD+pouk%C3%A1zky&amp;oq=st%C3%A1tn%C3%AD+pokladni%C4%8Dn%C3%AD+&amp;gs_l=img.1.0.0i24l6.863413.868221.2.870157.19.13.0.6.6.0.336.2415.2j6j3j2.13.0....0...1c.1.19.img.KOG8wRZIrCQ&amp;bav=on.2,or.r_qf.&amp;bvm=bv.48705608,d.Yms&amp;fp=1a926794fe1d2ac0&amp;biw=1143&amp;bih=672</a:t>
            </a:r>
            <a:r>
              <a:rPr b="1" lang="cs-CZ" sz="1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br>
              <a:rPr sz="1000"/>
            </a:br>
            <a:r>
              <a:rPr b="1" lang="cs-CZ" sz="1000" spc="-1" strike="noStrike">
                <a:solidFill>
                  <a:srgbClr val="000000"/>
                </a:solidFill>
                <a:latin typeface="Century Schoolbook"/>
              </a:rPr>
              <a:t>dne 3. 7. 2013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2195640" y="2397240"/>
            <a:ext cx="4464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45e70"/>
                </a:solidFill>
                <a:latin typeface="Century Schoolbook"/>
              </a:rPr>
              <a:t>CE</a:t>
            </a:r>
            <a:r>
              <a:rPr b="1" lang="cs-CZ" sz="2800" spc="-1" strike="noStrike">
                <a:solidFill>
                  <a:srgbClr val="545e70"/>
                </a:solidFill>
                <a:latin typeface="Century Schoolbook"/>
              </a:rPr>
              <a:t>NNÉ PAPÍRY KAPITÁLOVÉHO TRHU </a:t>
            </a:r>
            <a:br>
              <a:rPr sz="6600"/>
            </a:br>
            <a:r>
              <a:rPr b="1" lang="cs-CZ" sz="3200" spc="-1" strike="noStrike">
                <a:solidFill>
                  <a:srgbClr val="575f6d"/>
                </a:solidFill>
                <a:latin typeface="Century Schoolbook"/>
              </a:rPr>
              <a:t>ÚVĚROVÉ CENNÉ PAPÍRY II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643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a3d01"/>
                </a:solidFill>
                <a:latin typeface="Century Schoolbook"/>
              </a:rPr>
              <a:t>Státní pokladniční poukázk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entury Schoolbook"/>
              </a:rPr>
              <a:t>Zdroj:</a:t>
            </a:r>
            <a:br>
              <a:rPr sz="3200"/>
            </a:b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https://www.google.cz/search?q=dluhopisy&amp;biw=1143&amp;bih=672&amp;source=lnms&amp;tbm=isch&amp;sa=X&amp;ei=YFfUUdfRIIWdtAb_p4CIDA&amp;ved=0CAcQ_AUoAQ#tbm=isch&amp;sa=1&amp;q=st%C3%A1tn%C3%AD+pokladni%C4%8Dn%C3%AD+pouk%C3%A1zky&amp;oq=st%C3%A1tn%C3%AD+pokladni%C4%8Dn%C3%AD+&amp;gs_l=img.1.0.0i24l6.863413.868221.2.870157.19.13.0.6.6.0.336.2415.2j6j3j2.13.0....0...1c.1.19.img.KOG8wRZIrCQ&amp;bav=on.2,or.r_qf.&amp;bvm=bv.48705608,d.Yms&amp;fp=1a926794fe1d2ac0&amp;biw=1143&amp;bih=672</a:t>
            </a:r>
            <a:r>
              <a:rPr b="1" lang="cs-CZ" sz="1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br>
              <a:rPr sz="1000"/>
            </a:br>
            <a:r>
              <a:rPr b="1" lang="cs-CZ" sz="1000" spc="-1" strike="noStrike">
                <a:solidFill>
                  <a:srgbClr val="000000"/>
                </a:solidFill>
                <a:latin typeface="Century Schoolbook"/>
              </a:rPr>
              <a:t>dne 3. 7. 2013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1700280" y="2305080"/>
            <a:ext cx="5175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45e70"/>
                </a:solidFill>
                <a:latin typeface="Century Schoolbook"/>
              </a:rPr>
              <a:t>CE</a:t>
            </a:r>
            <a:r>
              <a:rPr b="1" lang="cs-CZ" sz="2800" spc="-1" strike="noStrike">
                <a:solidFill>
                  <a:srgbClr val="545e70"/>
                </a:solidFill>
                <a:latin typeface="Century Schoolbook"/>
              </a:rPr>
              <a:t>NNÉ PAPÍRY KAPITÁLOVÉHO TRHU </a:t>
            </a:r>
            <a:br>
              <a:rPr sz="6600"/>
            </a:br>
            <a:r>
              <a:rPr b="1" lang="cs-CZ" sz="3200" spc="-1" strike="noStrike">
                <a:solidFill>
                  <a:srgbClr val="575f6d"/>
                </a:solidFill>
                <a:latin typeface="Century Schoolbook"/>
              </a:rPr>
              <a:t>ÚVĚROVÉ CENNÉ PAPÍRY II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539280" y="1857240"/>
            <a:ext cx="77043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a3d01"/>
                </a:solidFill>
                <a:latin typeface="Century Schoolbook"/>
              </a:rPr>
              <a:t>Použitá literatur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ZLÁMAL, Jaroslav a Zdeněk MENDL. </a:t>
            </a:r>
            <a:r>
              <a:rPr b="0" i="1" lang="cs-CZ" sz="2000" spc="-1" strike="noStrike">
                <a:solidFill>
                  <a:srgbClr val="000000"/>
                </a:solidFill>
                <a:latin typeface="Century Schoolbook"/>
              </a:rPr>
              <a:t>Ekonomie nejen k maturitě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. Vyd. 1. Kralice na Hané: Computer Media, 2007, 136 s. ISBN 978-80-86686-78-3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KLÍNSKÝ, Petr a Otto MÜNCH. </a:t>
            </a:r>
            <a:r>
              <a:rPr b="0" i="1" lang="cs-CZ" sz="2000" spc="-1" strike="noStrike">
                <a:solidFill>
                  <a:srgbClr val="000000"/>
                </a:solidFill>
                <a:latin typeface="Century Schoolbook"/>
              </a:rPr>
              <a:t>Ekonomika pro obchodní akademie a ostatní střední školy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. 3., upr. vyd. Praha: Eduko, 2010-2011. ISBN 978-80-87204-38-24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575f6d"/>
                </a:solidFill>
                <a:latin typeface="Century Schoolbook"/>
              </a:rPr>
              <a:t>ZÁZNAMOVÝ LIST VÝUKOVÉHO MATERIÁLU</a:t>
            </a:r>
            <a:br>
              <a:rPr sz="1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857160" y="1357200"/>
          <a:ext cx="7215120" cy="4843440"/>
        </p:xfrm>
        <a:graphic>
          <a:graphicData uri="http://schemas.openxmlformats.org/drawingml/2006/table">
            <a:tbl>
              <a:tblPr/>
              <a:tblGrid>
                <a:gridCol w="2597400"/>
                <a:gridCol w="461772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enné papíry kapitálového trhu, úvěrové cenné papíry I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092_Ekonom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4-41-L/51 Podnik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konomika a práv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ruh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gr. Roman Ber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eriál slouží k získání přehledu o hypotečních zástavních listech a státních pokladničních poukázkách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gr. Roman Ber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13744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45e70"/>
                </a:solidFill>
                <a:latin typeface="Century Schoolbook"/>
              </a:rPr>
              <a:t>CE</a:t>
            </a:r>
            <a:r>
              <a:rPr b="1" lang="cs-CZ" sz="2800" spc="-1" strike="noStrike">
                <a:solidFill>
                  <a:srgbClr val="545e70"/>
                </a:solidFill>
                <a:latin typeface="Century Schoolbook"/>
              </a:rPr>
              <a:t>NNÉ PAPÍRY KAPITÁLOVÉHO TRHU </a:t>
            </a:r>
            <a:br>
              <a:rPr sz="6500"/>
            </a:br>
            <a:r>
              <a:rPr b="1" lang="cs-CZ" sz="3200" spc="-1" strike="noStrike">
                <a:solidFill>
                  <a:srgbClr val="575f6d"/>
                </a:solidFill>
                <a:latin typeface="Century Schoolbook"/>
              </a:rPr>
              <a:t>ÚVĚROVÉ CENNÉ PAPÍRY II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26920" y="1785960"/>
            <a:ext cx="70581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Hypoteční zástavní lis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Státní pokladniční poukáz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e75c01"/>
                </a:solidFill>
                <a:latin typeface="Century Schoolbook"/>
              </a:rPr>
              <a:t>2. roční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45e70"/>
                </a:solidFill>
                <a:latin typeface="Century Schoolbook"/>
              </a:rPr>
              <a:t>CE</a:t>
            </a:r>
            <a:r>
              <a:rPr b="1" lang="cs-CZ" sz="2800" spc="-1" strike="noStrike">
                <a:solidFill>
                  <a:srgbClr val="545e70"/>
                </a:solidFill>
                <a:latin typeface="Century Schoolbook"/>
              </a:rPr>
              <a:t>NNÉ PAPÍRY KAPITÁLOVÉHO TRHU </a:t>
            </a:r>
            <a:br>
              <a:rPr sz="6600"/>
            </a:br>
            <a:r>
              <a:rPr b="1" lang="cs-CZ" sz="3200" spc="-1" strike="noStrike">
                <a:solidFill>
                  <a:srgbClr val="575f6d"/>
                </a:solidFill>
                <a:latin typeface="Century Schoolbook"/>
              </a:rPr>
              <a:t>ÚVĚROVÉ CENNÉ PAPÍRY II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55280" y="1714680"/>
            <a:ext cx="7745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a3d01"/>
                </a:solidFill>
                <a:latin typeface="Century Schoolbook"/>
              </a:rPr>
              <a:t>Mezi úvěrové cenné papíry kapitálového trhu patří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Dluhopisy (obligace, bondy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Hypoteční zástavní lis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Státní pokladniční poukázk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45e70"/>
                </a:solidFill>
                <a:latin typeface="Century Schoolbook"/>
              </a:rPr>
              <a:t>CE</a:t>
            </a:r>
            <a:r>
              <a:rPr b="1" lang="cs-CZ" sz="2800" spc="-1" strike="noStrike">
                <a:solidFill>
                  <a:srgbClr val="545e70"/>
                </a:solidFill>
                <a:latin typeface="Century Schoolbook"/>
              </a:rPr>
              <a:t>NNÉ PAPÍRY KAPITÁLOVÉHO TRHU </a:t>
            </a:r>
            <a:br>
              <a:rPr sz="6500"/>
            </a:br>
            <a:r>
              <a:rPr b="1" lang="cs-CZ" sz="3200" spc="-1" strike="noStrike">
                <a:solidFill>
                  <a:srgbClr val="575f6d"/>
                </a:solidFill>
                <a:latin typeface="Century Schoolbook"/>
              </a:rPr>
              <a:t>ÚVĚROVÉ CENNÉ PAPÍRY II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1280" y="1557000"/>
            <a:ext cx="76327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a3d01"/>
                </a:solidFill>
                <a:latin typeface="Century Schoolbook"/>
              </a:rPr>
              <a:t>Hypoteční zástavní list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Tyto cenné papíry souvisejí </a:t>
            </a:r>
            <a:r>
              <a:rPr b="0" lang="cs-CZ" sz="2800" spc="-1" strike="noStrike">
                <a:solidFill>
                  <a:srgbClr val="244583"/>
                </a:solidFill>
                <a:latin typeface="Century Schoolbook"/>
              </a:rPr>
              <a:t>s hypotečními úvěry </a:t>
            </a: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(zajištění zástavou nemovitosti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Emituje je banka, která má na to </a:t>
            </a:r>
            <a:r>
              <a:rPr b="0" lang="cs-CZ" sz="2800" spc="-1" strike="noStrike">
                <a:solidFill>
                  <a:srgbClr val="9a3d01"/>
                </a:solidFill>
                <a:latin typeface="Century Schoolbook"/>
              </a:rPr>
              <a:t>licenci od ČNB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44583"/>
                </a:solidFill>
                <a:latin typeface="Century Schoolbook"/>
              </a:rPr>
              <a:t>Bezpečné cenné papíry, </a:t>
            </a: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jsou kryté splátkami úvěrů a zastavenými nemovitostm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45e70"/>
                </a:solidFill>
                <a:latin typeface="Century Schoolbook"/>
              </a:rPr>
              <a:t>CE</a:t>
            </a:r>
            <a:r>
              <a:rPr b="1" lang="cs-CZ" sz="2800" spc="-1" strike="noStrike">
                <a:solidFill>
                  <a:srgbClr val="545e70"/>
                </a:solidFill>
                <a:latin typeface="Century Schoolbook"/>
              </a:rPr>
              <a:t>NNÉ PAPÍRY KAPITÁLOVÉHO TRHU </a:t>
            </a:r>
            <a:br>
              <a:rPr sz="6600"/>
            </a:br>
            <a:r>
              <a:rPr b="1" lang="cs-CZ" sz="3200" spc="-1" strike="noStrike">
                <a:solidFill>
                  <a:srgbClr val="575f6d"/>
                </a:solidFill>
                <a:latin typeface="Century Schoolbook"/>
              </a:rPr>
              <a:t>ÚVĚROVÉ CENNÉ PAPÍRY II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755640" y="1700280"/>
            <a:ext cx="7251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a3d01"/>
                </a:solidFill>
                <a:latin typeface="Century Schoolbook"/>
              </a:rPr>
              <a:t>Hypoteční zástavní list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Jsou vhodné </a:t>
            </a:r>
            <a:r>
              <a:rPr b="0" lang="cs-CZ" sz="2800" spc="-1" strike="noStrike">
                <a:solidFill>
                  <a:srgbClr val="9a3d01"/>
                </a:solidFill>
                <a:latin typeface="Century Schoolbook"/>
              </a:rPr>
              <a:t>pro konzervativní investory </a:t>
            </a: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(averzní vůči riziku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Tyto cenné papíry bývají </a:t>
            </a:r>
            <a:r>
              <a:rPr b="0" lang="cs-CZ" sz="2800" spc="-1" strike="noStrike">
                <a:solidFill>
                  <a:srgbClr val="244583"/>
                </a:solidFill>
                <a:latin typeface="Century Schoolbook"/>
              </a:rPr>
              <a:t>veřejně obchodovateln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a3d01"/>
                </a:solidFill>
                <a:latin typeface="Century Schoolbook"/>
              </a:rPr>
              <a:t>Úrok</a:t>
            </a: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 mají většinou </a:t>
            </a:r>
            <a:r>
              <a:rPr b="0" lang="cs-CZ" sz="2800" spc="-1" strike="noStrike">
                <a:solidFill>
                  <a:srgbClr val="9a3d01"/>
                </a:solidFill>
                <a:latin typeface="Century Schoolbook"/>
              </a:rPr>
              <a:t>fixní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17600" y="-360"/>
            <a:ext cx="807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900" spc="-1" strike="noStrike">
                <a:solidFill>
                  <a:srgbClr val="545e70"/>
                </a:solidFill>
                <a:latin typeface="Century Schoolbook"/>
              </a:rPr>
              <a:t>CE</a:t>
            </a:r>
            <a:r>
              <a:rPr b="1" lang="cs-CZ" sz="2900" spc="-1" strike="noStrike">
                <a:solidFill>
                  <a:srgbClr val="545e70"/>
                </a:solidFill>
                <a:latin typeface="Century Schoolbook"/>
              </a:rPr>
              <a:t>NNÉ PAPÍRY KAPITÁLOVÉHO TRHU </a:t>
            </a:r>
            <a:br>
              <a:rPr sz="6500"/>
            </a:br>
            <a:r>
              <a:rPr b="1" lang="cs-CZ" sz="3200" spc="-1" strike="noStrike">
                <a:solidFill>
                  <a:srgbClr val="575f6d"/>
                </a:solidFill>
                <a:latin typeface="Century Schoolbook"/>
              </a:rPr>
              <a:t>ÚVĚROVÉ CENNÉ PAPÍRY II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197000"/>
            <a:ext cx="7467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a3d01"/>
                </a:solidFill>
                <a:latin typeface="Century Schoolbook"/>
              </a:rPr>
              <a:t>Hypoteční zástavní list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Schoolbook"/>
              </a:rPr>
              <a:t>Zdroj: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https://www.google.cz/search?q=dluhopisy&amp;biw=1143&amp;bih=672&amp;source=lnms&amp;tbm=isch&amp;sa=X&amp;ei=YFfUUdfRIIWdtAb_p4CIDA&amp;ved=0CAcQ_AUoAQ#tbm=isch&amp;sa=1&amp;q=hypote%C4%8Dn%C3%AD+z%C3%A1stavn%C3%AD+listy&amp;oq=hypote%C4%8Dn%C3%AD+z%C3%A1stavn%C3%AD+listy&amp;gs_l=img.1.0.0j0i24l4.780811.789437.0.790627.32.17.0.15.15.4.283.2783.1j11j5.17.0....0...1c.1.19.img.j5vQHPv-uDo&amp;bav=on.2,or.r_qf.&amp;bvm=bv.48705608,d.Yms&amp;fp=309932b3be8335ae&amp;biw=1143&amp;bih=672, </a:t>
            </a:r>
            <a:br>
              <a:rPr sz="1000"/>
            </a:br>
            <a:r>
              <a:rPr b="1" lang="cs-CZ" sz="1000" spc="-1" strike="noStrike">
                <a:solidFill>
                  <a:srgbClr val="000000"/>
                </a:solidFill>
                <a:latin typeface="Century Schoolbook"/>
              </a:rPr>
              <a:t>dne 3. 7. 2013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2987640" y="1916280"/>
            <a:ext cx="28796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45e70"/>
                </a:solidFill>
                <a:latin typeface="Century Schoolbook"/>
              </a:rPr>
              <a:t>CE</a:t>
            </a:r>
            <a:r>
              <a:rPr b="1" lang="cs-CZ" sz="2800" spc="-1" strike="noStrike">
                <a:solidFill>
                  <a:srgbClr val="545e70"/>
                </a:solidFill>
                <a:latin typeface="Century Schoolbook"/>
              </a:rPr>
              <a:t>NNÉ PAPÍRY KAPITÁLOVÉHO TRHU </a:t>
            </a:r>
            <a:br>
              <a:rPr sz="6600"/>
            </a:br>
            <a:r>
              <a:rPr b="1" lang="cs-CZ" sz="3200" spc="-1" strike="noStrike">
                <a:solidFill>
                  <a:srgbClr val="575f6d"/>
                </a:solidFill>
                <a:latin typeface="Century Schoolbook"/>
              </a:rPr>
              <a:t>ÚVĚROVÉ CENNÉ PAPÍRY II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84360" y="1484280"/>
            <a:ext cx="748800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a3d01"/>
                </a:solidFill>
                <a:latin typeface="Century Schoolbook"/>
              </a:rPr>
              <a:t>Hypoteční zástavní lis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entury Schoolbook"/>
              </a:rPr>
              <a:t>Zdroj:</a:t>
            </a:r>
            <a:br>
              <a:rPr sz="900"/>
            </a:br>
            <a:r>
              <a:rPr b="0" lang="cs-CZ" sz="900" spc="-1" strike="noStrike">
                <a:solidFill>
                  <a:srgbClr val="000000"/>
                </a:solidFill>
                <a:latin typeface="Century Schoolbook"/>
              </a:rPr>
              <a:t>https://</a:t>
            </a:r>
            <a:r>
              <a:rPr b="0" lang="cs-CZ" sz="1000" spc="-1" strike="noStrike">
                <a:solidFill>
                  <a:srgbClr val="000000"/>
                </a:solidFill>
                <a:latin typeface="Century Schoolbook"/>
              </a:rPr>
              <a:t>www.google.cz/search?q=dluhopisy&amp;biw=1143&amp;bih=672&amp;source=lnms&amp;tbm=isch&amp;sa=X&amp;ei=YFfUUdfRIIWdtAb_p4CIDA&amp;ved=0CAcQ_AUoAQ#tbm=isch&amp;sa=1&amp;q=hypote%C4%8Dn%C3%AD+z%C3%A1stavn%C3%AD+listy&amp;oq=hypote%C4%8Dn%C3%AD+z%C3%A1stavn%C3%AD+listy&amp;gs_l=img.1.0.0j0i24l4.780811.789437.0.790627.32.17.0.15.15.4.283.2783.1j11j5.17.0....0...1c.1.19.img.j5vQHPv-uDo&amp;bav=on.2,or.r_qf.&amp;bvm=bv.48705608,d.Yms&amp;fp=309932b3be8335ae&amp;biw=1143&amp;bih=672, </a:t>
            </a:r>
            <a:br>
              <a:rPr sz="1000"/>
            </a:br>
            <a:r>
              <a:rPr b="1" lang="cs-CZ" sz="1000" spc="-1" strike="noStrike">
                <a:solidFill>
                  <a:srgbClr val="000000"/>
                </a:solidFill>
                <a:latin typeface="Century Schoolbook"/>
              </a:rPr>
              <a:t>dne 3. 7. 2013</a:t>
            </a:r>
            <a:br>
              <a:rPr sz="2800"/>
            </a:b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2050920" y="2205000"/>
            <a:ext cx="4681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45e70"/>
                </a:solidFill>
                <a:latin typeface="Century Schoolbook"/>
              </a:rPr>
              <a:t>CE</a:t>
            </a:r>
            <a:r>
              <a:rPr b="1" lang="cs-CZ" sz="2800" spc="-1" strike="noStrike">
                <a:solidFill>
                  <a:srgbClr val="545e70"/>
                </a:solidFill>
                <a:latin typeface="Century Schoolbook"/>
              </a:rPr>
              <a:t>NNÉ PAPÍRY KAPITÁLOVÉHO TRHU </a:t>
            </a:r>
            <a:br>
              <a:rPr sz="6500"/>
            </a:br>
            <a:r>
              <a:rPr b="1" lang="cs-CZ" sz="3200" spc="-1" strike="noStrike">
                <a:solidFill>
                  <a:srgbClr val="575f6d"/>
                </a:solidFill>
                <a:latin typeface="Century Schoolbook"/>
              </a:rPr>
              <a:t>ÚVĚROVÉ CENNÉ PAPÍRY II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1280" y="1600200"/>
            <a:ext cx="7818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9a3d01"/>
                </a:solidFill>
                <a:latin typeface="Century Schoolbook"/>
              </a:rPr>
              <a:t>Státní pokladniční poukázky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Úvěrové cenné papíry emitované státem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Specifické pro Č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Vydává je ČNB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Schoolbook"/>
              </a:rPr>
              <a:t>Jsou bezpečné, protože za ně ručí stá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3T16:11:28Z</dcterms:created>
  <dc:creator>Lukas</dc:creator>
  <dc:description/>
  <dc:language>en-US</dc:language>
  <cp:lastModifiedBy>Berka</cp:lastModifiedBy>
  <dcterms:modified xsi:type="dcterms:W3CDTF">2014-02-13T08:23:07Z</dcterms:modified>
  <cp:revision>34</cp:revision>
  <dc:subject/>
  <dc:title>VY_32_INOVACE_číslo přílohy_název DUMu</dc:title>
</cp:coreProperties>
</file>