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478D-99AB-4B4A-8271-68B07747A1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2C4C-8FAF-4B74-B27D-A9AFAE1CC0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B3F-1191-4D60-A83A-EF818EE2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05D-731E-4D4E-84A0-FF93826F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3E5-AFE9-4D7E-A076-CE534059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E51-7715-4039-B6A2-43F8A46F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6BA3-71AA-4375-A4A9-AB8E52C1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2081-198A-4AD0-97AA-E50C5A0F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6744-F25C-4339-A255-2D6C65A6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D03F-4572-4609-8C87-117D54F9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575A-3880-4A4F-B511-FCCFBEFC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DB81-8AD6-43D0-A4CE-951C0F4C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CC2C-B20E-4EE5-88CC-D0150571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7A3-16C3-4A45-9A56-83BCAA02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91EE-74E5-47E8-933F-638FAA1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1F35-81DA-4DD3-AE4B-764ABF80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41C1-5B88-4621-8BDD-024AD788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CF13-A732-4A23-8DC3-86847C31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2D04-1FE5-40D4-8E2B-3CFFA1D8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0E8D-EB8B-4B74-BD6B-363D1FCF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27CA-D767-4E70-8758-5F623421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BBC4-F622-4A41-B2CC-3F6522EC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B1E7-DA1A-4224-8B90-5C3C575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050C-DAAF-4989-A989-1E43B23C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29F-FD9B-4F96-A58C-7D0834BE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D8D2-9531-402D-9778-37ED1E73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FFA8-7424-4A3D-BFF8-80860A6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66C60-9791-4544-A8C9-54ACD7B0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FB16-C446-4E1D-832D-9648C07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6E2D-0574-44E7-90B8-FE58DBAF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9AD6-FFE4-4B1B-84E7-85B07DA6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1598-3038-4A71-A3CF-74BE9F6C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BA67-4C4C-4D9E-B9A2-04CA0A5E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1EA32-3054-4F6C-A055-988EC3D3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9DB37-3982-427F-B1C7-7C1D8A34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789-547A-4D92-B366-E48364C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3B979-FCAD-4A64-B4E5-6B6DD4E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4DC9-C359-4E46-BF8D-BE0B3823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3A6BF-2C3D-4E0A-B486-EAA3D976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9390-A144-4703-94B6-54F5BBC9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5067-4B44-4F60-8640-F897862C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2A4E-C3C1-42D8-8572-6ECEC8C5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3DB6-FC27-437A-85BD-2F91BBC7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B120-20CD-488B-A562-5DEEC8EC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6006-2BD8-438E-AF8B-C6772F90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6FBD0-5963-40F0-8A9F-258543B7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9FA-77FA-41A5-A92A-65A8B06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BFFD9-239D-471F-88E4-78AF9BE1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796E4-F273-40AA-9DF4-AFBDC0E6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5A978-77BB-4D18-9D19-C7584506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A4AEC-3AEF-4896-A9AC-A6732842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C50E-4C89-41AE-B0EB-6C36EAAE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84D3D-5512-45FE-84F3-84626B1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78E4-522E-4726-86E1-E1A376A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5A1F-FEDD-424C-A7C9-CDD1994D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FAEEE-CCE1-45A6-B84A-5CFD9590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D6AF-89E6-4660-A82F-963AC20C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DE1-3E8F-41C1-B258-7B91E692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207B-C7C3-4DB7-A568-B941B952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64E8A-A2DE-4DBC-B035-43283597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F5A6-5976-4568-821C-68DE3B95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BEC60-D3E2-4A79-AFA8-6373CFB9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93D5D-20D2-4CE4-ADBE-79F6D4BF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7950E-B566-4112-B64D-F884F358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F0FD9-AFF4-4FFD-AD55-3FFAB83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EE61-892F-421C-A7A2-74A2BFDE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891B9-1471-4F0F-B4BD-7048F648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4FFE0-8757-4B02-AE54-876A0829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92E-871E-410B-815E-F4A5A1FE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77992-40C7-4AE7-9AEF-D679D2D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D12F-560D-4975-A397-0E975033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5040C-21B8-4323-8576-ECD5F766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4BF8A-E083-46F8-A8B7-C7F050D0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D9480-EBF1-4EE4-B75B-F0241DF6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071AA-72DB-4E26-A06A-17DBD793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5305A-F0B4-4561-ACA7-E6B175AF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EE29-BD93-4C54-A3C3-C316476E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24718-F431-4DC7-8AE0-C56A9F29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10670-C07B-4BA5-9591-85F6E419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674-C673-4389-8A8A-969F38D2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E925D-49A2-4B5B-885C-98A7565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0F88B-468B-4E66-9457-1A48E26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24F36-98F4-4D8C-82B9-DD24BDB1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0A28E-8CAC-4274-A215-0ECD9686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701FD-9651-487F-9974-58EA489B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AA0-88AA-4B15-A693-F6E777C2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olá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á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ec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rstenec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Obdĺž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5CA4-8B53-41F7-A090-45A14211DB65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bdĺž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Koláč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á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ec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rstenec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Obdĺž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ĺž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á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á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á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043C-7ADB-47B8-BF8B-6E1B5D35C535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ĺžni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ĺžni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á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á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á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BE23-8188-40DB-B0AA-806EBB0CB9E0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A2DE-BAEB-4B6A-980C-84B7F7C3B6EF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bdĺžni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ĺžni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36FA-D647-40CE-8880-5B6DF59AD238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A5F0-52CC-45D3-95A1-B107E2418D64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Obdĺžni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Obdĺžni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Vývojový 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Vývojový 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CE14-AF76-4B13-8E16-34495D1C3156}" type="slidenum">
              <a:rPr b="0" lang="cs-CZ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7280" y="2071800"/>
            <a:ext cx="7685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1" lang="cs-CZ" sz="3200" spc="-1" strike="noStrike">
                <a:solidFill>
                  <a:srgbClr val="572314"/>
                </a:solidFill>
                <a:latin typeface="Calibri"/>
              </a:rPr>
              <a:t>VY_32_INOVACE_089_Ekonomika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14280" y="3429000"/>
            <a:ext cx="7624800" cy="3000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3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3300"/>
            </a:br>
            <a:r>
              <a:rPr b="0" lang="sk-SK" sz="33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3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20e04"/>
                </a:solidFill>
                <a:latin typeface="Calibri"/>
              </a:rPr>
              <a:t>Autor: Mgr. Roman Berk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Obrázek 3" descr=""/>
          <p:cNvPicPr/>
          <p:nvPr/>
        </p:nvPicPr>
        <p:blipFill>
          <a:blip r:embed="rId1"/>
          <a:stretch/>
        </p:blipFill>
        <p:spPr>
          <a:xfrm>
            <a:off x="178272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4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7636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Gill Sans MT"/>
              </a:rPr>
              <a:t>AKC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22223"/>
                </a:solidFill>
                <a:latin typeface="Gill Sans MT"/>
              </a:rPr>
              <a:t>Kurz akcie je závislý 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abídce a poptávce na finančním trh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a hospodaření společnos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hodnotě dividend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na dalších faktorech (politické prostředí, zaměstnanost, aj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9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03280" y="1331640"/>
            <a:ext cx="749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70c0"/>
                </a:solidFill>
                <a:latin typeface="Gill Sans MT"/>
              </a:rPr>
              <a:t>AKCI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22223"/>
                </a:solidFill>
                <a:latin typeface="Gill Sans MT"/>
              </a:rPr>
              <a:t>Emisní ážio 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– rozdíl mezi nominální hodnotou a tzv. emisní hodnotou, v rozvaze se uvádí jako součást vlastního kapitálu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22223"/>
                </a:solidFill>
                <a:latin typeface="Gill Sans MT"/>
              </a:rPr>
              <a:t>Dividenda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 – peněžní plnění vyplácené akcionářům podle rozhodnutí valné hromad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922223"/>
                </a:solidFill>
                <a:latin typeface="Gill Sans MT"/>
              </a:rPr>
              <a:t>Tantiéma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 – podíl na zisku akciové společnosti určený pro členy představenstva a dozorčí rad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07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59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431720" y="1557000"/>
            <a:ext cx="7407000" cy="5086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70c0"/>
                </a:solidFill>
                <a:latin typeface="Gill Sans MT"/>
              </a:rPr>
              <a:t>PRIORITNÍ AKCI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20e04"/>
                </a:solidFill>
                <a:latin typeface="Gill Sans MT"/>
              </a:rPr>
              <a:t>Zdroj:</a:t>
            </a:r>
            <a:r>
              <a:rPr b="0" lang="cs-CZ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lang="cs-CZ" sz="1400" spc="-1" strike="noStrike">
                <a:solidFill>
                  <a:srgbClr val="320e04"/>
                </a:solidFill>
                <a:latin typeface="Gill Sans MT"/>
              </a:rPr>
              <a:t>https://www.google.cz/search?gs_rn=19&amp;gs_ri=psy-ab&amp;cp=4&amp;gs_id=2r&amp;xhr=t&amp;q=akcie&amp;bav=on.2,or.r_qf.&amp;bvm=bv.48705608,d.ZWU&amp;biw=1143&amp;bih=672&amp;um=1&amp;ie=UTF,  dne 3. 7. 201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4751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60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628280"/>
            <a:ext cx="74995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70c0"/>
                </a:solidFill>
                <a:latin typeface="Gill Sans MT"/>
              </a:rPr>
              <a:t>AKCIE NA JMÉ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Zdroj:</a:t>
            </a:r>
            <a:r>
              <a:rPr b="0" lang="cs-CZ" sz="1400" spc="-1" strike="noStrike">
                <a:solidFill>
                  <a:srgbClr val="000000"/>
                </a:solidFill>
                <a:latin typeface="Gill Sans MT"/>
              </a:rPr>
              <a:t> https://www.google.cz/search?gs_rn=19&amp;gs_ri=psy-ab&amp;cp=4&amp;gs_id=2r&amp;xhr=t&amp;q=akcie&amp;bav=on.2,or.r_qf.&amp;bvm=bv.48705608,d.ZWU&amp;biw=1143&amp;bih=672&amp;um=1&amp;ie=UTF,  dne 3. 7. 201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4824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79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557360"/>
            <a:ext cx="7499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70c0"/>
                </a:solidFill>
                <a:latin typeface="Gill Sans MT"/>
              </a:rPr>
              <a:t>AKCIE NA MAJITE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Zdroj:</a:t>
            </a:r>
            <a:r>
              <a:rPr b="0" lang="cs-CZ" sz="1400" spc="-1" strike="noStrike">
                <a:solidFill>
                  <a:srgbClr val="000000"/>
                </a:solidFill>
                <a:latin typeface="Gill Sans MT"/>
              </a:rPr>
              <a:t> https://www.google.cz/search?gs_rn=19&amp;gs_ri=psy-ab&amp;cp=4&amp;gs_id=2r&amp;xhr=t&amp;q=akcie&amp;bav=on.2,or.r_qf.&amp;bvm=bv.48705608,d.ZWU&amp;biw=1143&amp;bih=672&amp;um=1&amp;ie=UTF,  dne 3. 7. 201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896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0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Gill Sans MT"/>
              </a:rPr>
              <a:t>Použitá literatur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KLÍNSKÝ, Petr a Otto MÜNCH. </a:t>
            </a:r>
            <a:r>
              <a:rPr b="0" i="1" lang="cs-CZ" sz="2400" spc="-1" strike="noStrike">
                <a:solidFill>
                  <a:srgbClr val="000000"/>
                </a:solidFill>
                <a:latin typeface="Gill Sans MT"/>
              </a:rPr>
              <a:t>Ekonomika pro obchodní akademie a ostatní střední školy</a:t>
            </a: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. 3., upr. vyd. Praha: Eduko, 4 sv. ISBN 978-80-87204-38-24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ZLÁMAL, Jaroslav a Zdeněk MENDL. </a:t>
            </a:r>
            <a:r>
              <a:rPr b="0" i="1" lang="cs-CZ" sz="2400" spc="-1" strike="noStrike">
                <a:solidFill>
                  <a:srgbClr val="000000"/>
                </a:solidFill>
                <a:latin typeface="Gill Sans MT"/>
              </a:rPr>
              <a:t>Ekonomie nejen k maturitě</a:t>
            </a: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. Vyd. 1. Kralice na Hané: Computer Media, 2007. ISBN 978-80-86686-78-3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2314"/>
                </a:solidFill>
                <a:latin typeface="Gill Sans MT"/>
              </a:rPr>
              <a:t>Záznamový list výukového materiálu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357200" y="1214280"/>
          <a:ext cx="7329600" cy="5214960"/>
        </p:xfrm>
        <a:graphic>
          <a:graphicData uri="http://schemas.openxmlformats.org/drawingml/2006/table">
            <a:tbl>
              <a:tblPr/>
              <a:tblGrid>
                <a:gridCol w="2638440"/>
                <a:gridCol w="4691160"/>
              </a:tblGrid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nné papíry kapitálového trhu, majetkové cenné papíry 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89_Ekonom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64-41-L/51 Podnik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konomika a prá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uh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ál slouží k získání přehledu o akciích, jejich druzích, náležitostech, hodnotě, emisním ážiu, dividendě a tantiém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720" y="260280"/>
            <a:ext cx="77911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32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142640" y="1785960"/>
            <a:ext cx="72867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Akc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ill Sans MT"/>
              </a:rPr>
              <a:t>Druhy akcií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ill Sans MT"/>
              </a:rPr>
              <a:t>Náležitosti akc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ill Sans MT"/>
              </a:rPr>
              <a:t>Hodnota akc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Gill Sans MT"/>
              </a:rPr>
              <a:t>Emisní ážio, dividenda, tantié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2a6d7d"/>
                </a:solidFill>
                <a:latin typeface="Gill Sans MT"/>
              </a:rPr>
              <a:t>2. roční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0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42640" y="1628640"/>
            <a:ext cx="77914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70c0"/>
                </a:solidFill>
                <a:latin typeface="Gill Sans MT"/>
              </a:rPr>
              <a:t>AKCI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Majetkový cenný papír, který vyjadřuje právo akcionáře podílet se na majetku, řízení, zisku a likvidačním zůstatku akciové společnos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Patří mezi nejrizikovější cenné papíry (akcionář může přijít o investovaný kapitá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0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13920" y="1557360"/>
            <a:ext cx="772020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0070c0"/>
                </a:solidFill>
                <a:latin typeface="Gill Sans MT"/>
              </a:rPr>
              <a:t>AKCIE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22223"/>
                </a:solidFill>
                <a:latin typeface="Gill Sans MT"/>
              </a:rPr>
              <a:t>Druhy akcií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70c0"/>
                </a:solidFill>
                <a:latin typeface="Gill Sans MT"/>
              </a:rPr>
              <a:t>1. Kmenové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 – s vlastnictvím těchto akcií jsou spojena všechny práva (na řízení společnosti, zisku, aj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70c0"/>
                </a:solidFill>
                <a:latin typeface="Gill Sans MT"/>
              </a:rPr>
              <a:t>2. Prioritní</a:t>
            </a:r>
            <a:r>
              <a:rPr b="0" lang="cs-CZ" sz="3000" spc="-1" strike="noStrike">
                <a:solidFill>
                  <a:srgbClr val="000000"/>
                </a:solidFill>
                <a:latin typeface="Gill Sans MT"/>
              </a:rPr>
              <a:t> – akcionář má přednostní právo na výplatu dividend, může ale mít omezené právo hlasovací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499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9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03280" y="1412640"/>
            <a:ext cx="7499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Gill Sans MT"/>
              </a:rPr>
              <a:t>AKC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22223"/>
                </a:solidFill>
                <a:latin typeface="Gill Sans MT"/>
              </a:rPr>
              <a:t>Druhy akcií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70c0"/>
                </a:solidFill>
                <a:latin typeface="Gill Sans MT"/>
              </a:rPr>
              <a:t>3. Zaměstnanecké</a:t>
            </a: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 – jsou vydávány výhradně zaměstnancům a. s. obvykle za výhodnější cenu, mají motivovat zaměstnance k pracovnímu výkonu, tyto akcie se po ukončení pracovního poměru vracejí zpět (za předem stanovených podmínek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20000"/>
              </a:lnSpc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70c0"/>
                </a:solidFill>
                <a:latin typeface="Gill Sans MT"/>
              </a:rPr>
              <a:t>4. Úrokové</a:t>
            </a: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 – majitelům těchto akcií je vyplácen úrok v předem stanovené výši, pokud dividenda přesahuje úrok, majitel dostane plnou výši dividen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3200"/>
            </a:br>
            <a:r>
              <a:rPr b="0" lang="sk-SK" sz="36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6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13920" y="1213920"/>
            <a:ext cx="7720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70c0"/>
                </a:solidFill>
                <a:latin typeface="Gill Sans MT"/>
              </a:rPr>
              <a:t>AKCI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922223"/>
                </a:solidFill>
                <a:latin typeface="Gill Sans MT"/>
              </a:rPr>
              <a:t>Předepsané náležitosti akci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70c0"/>
                </a:solidFill>
                <a:latin typeface="Gill Sans MT"/>
              </a:rPr>
              <a:t>Plášť akcie – </a:t>
            </a: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musí obsahovat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obchodní jméno, sídlo společnosti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číselné označení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jmenovitou hodnot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označení druhu akci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jméno akcionář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výše základního kapitál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počet vydaných akcií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datum vystavení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ill Sans MT"/>
              </a:rPr>
              <a:t>podpisy 2 členů představenstv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3200"/>
            </a:br>
            <a:r>
              <a:rPr b="0" lang="sk-SK" sz="36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6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Gill Sans MT"/>
              </a:rPr>
              <a:t>AKC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22223"/>
                </a:solidFill>
                <a:latin typeface="Gill Sans MT"/>
              </a:rPr>
              <a:t>Předepsané náležitosti akc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70c0"/>
                </a:solidFill>
                <a:latin typeface="Gill Sans MT"/>
              </a:rPr>
              <a:t>2. Kuponový arch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– musí obsahova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jednotlivé kupony, které slouží k odebrání dividend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talón – slouží k získání nového kuponového arch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72314"/>
                </a:solidFill>
                <a:latin typeface="Gill Sans MT"/>
              </a:rPr>
              <a:t>CE</a:t>
            </a:r>
            <a:r>
              <a:rPr b="0" lang="cs-CZ" sz="3200" spc="-1" strike="noStrike">
                <a:solidFill>
                  <a:srgbClr val="572314"/>
                </a:solidFill>
                <a:latin typeface="Gill Sans MT"/>
              </a:rPr>
              <a:t>NNÉ PAPÍRY KAPITÁLOVÉHO TRHU </a:t>
            </a:r>
            <a:br>
              <a:rPr sz="4900"/>
            </a:br>
            <a:r>
              <a:rPr b="0" lang="sk-SK" sz="3900" spc="-1" strike="noStrike">
                <a:solidFill>
                  <a:srgbClr val="572314"/>
                </a:solidFill>
                <a:latin typeface="Gill Sans MT"/>
              </a:rPr>
              <a:t>MAJETKOV</a:t>
            </a:r>
            <a:r>
              <a:rPr b="0" lang="cs-CZ" sz="3900" spc="-1" strike="noStrike">
                <a:solidFill>
                  <a:srgbClr val="572314"/>
                </a:solidFill>
                <a:latin typeface="Gill Sans MT"/>
              </a:rPr>
              <a:t>É CENNÉ PAPÍRY I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02920" y="1557000"/>
            <a:ext cx="720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Gill Sans MT"/>
              </a:rPr>
              <a:t>AKC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Hodnota akcie uvedená na plášti je tzv. </a:t>
            </a:r>
            <a:r>
              <a:rPr b="0" lang="cs-CZ" sz="3200" spc="-1" strike="noStrike">
                <a:solidFill>
                  <a:srgbClr val="922223"/>
                </a:solidFill>
                <a:latin typeface="Gill Sans MT"/>
              </a:rPr>
              <a:t>„nominální“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(jmenovitá) hodnota akc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Akcie se obchodují za tzv. </a:t>
            </a:r>
            <a:r>
              <a:rPr b="0" lang="cs-CZ" sz="3200" spc="-1" strike="noStrike">
                <a:solidFill>
                  <a:srgbClr val="922223"/>
                </a:solidFill>
                <a:latin typeface="Gill Sans MT"/>
              </a:rPr>
              <a:t>„tržní hodnotu“ </a:t>
            </a: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(kurz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ill Sans MT"/>
              </a:rPr>
              <a:t>Kurz není hodnota uvedená na akci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3T12:08:05Z</dcterms:created>
  <dc:creator>Lukas</dc:creator>
  <dc:description/>
  <dc:language>en-US</dc:language>
  <cp:lastModifiedBy>Berka</cp:lastModifiedBy>
  <dcterms:modified xsi:type="dcterms:W3CDTF">2014-02-13T08:19:54Z</dcterms:modified>
  <cp:revision>40</cp:revision>
  <dc:subject/>
  <dc:title>VY_32_INOVACE_číslo přílohy_název DUMu</dc:title>
</cp:coreProperties>
</file>