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13F-2655-4494-AADF-3C2F13EA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F72-CBEC-44A2-9C14-260B57D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EFD-E77F-4815-9BD3-90250F78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E27-7D16-42D2-BCE3-8BC21CFC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E3BD-AA1F-4748-93F1-D8A03D51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487D-ABFA-4940-A53A-8D899D3F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FDDD-D639-4572-B6B7-6543A9A2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B7D9-7C30-4577-8BB0-F2A07264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060C-2D51-4E0F-9C98-4095B44F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5F80-6898-406F-945E-8B46A0B6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935A-C471-41B4-9D71-147DE1C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472-B0FC-414F-B00F-B3CC0A2C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3CBE-9906-4CE3-A5C0-C3A8E367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A13C-8EB2-461E-B670-5FFC0EBB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024C-46E7-448C-94E5-88F13653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5A11-6A63-42D6-8E64-6025B46E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031B-DBD9-42EE-8FA1-0A7651FA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2464F-CBB7-4D5C-9DFB-DBBB346D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E29F-3087-43F7-8A17-EB8E9871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31CC-EE9A-4A7F-94A8-E0C4F9DE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0A79-3410-40DC-B258-51F5E51D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5BF6-ED57-438C-B55C-EFF46CEB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39B-2F3C-419E-A02B-82B2A9EF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C51A-BE2F-4903-B8B6-34D1F019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C992-8F4B-447D-8CD5-E393CE77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10C8-65DE-4654-9223-8DAA048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7660-A782-4213-AA66-5A2C2B50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2A02-BED4-40DB-A461-8EBB9529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6AA6-DFD0-434C-8B57-DD52F969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E3B0-1613-4D6C-9949-48BF169E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E943-D03B-432B-A500-9B591050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48DD-3134-49C8-BC29-25EFC028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78E9F-F52C-4762-B929-70A32339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D4D-8BC8-4A16-8225-6C1C7236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F2C4-482F-4CBA-B4DE-79489CC2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B3F5D-A45A-47FF-9418-DDD280A9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FAD9-87ED-4FD7-BA23-831AEC66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64CF5-5571-4488-AF16-D427DE8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06398-E0EB-4559-91B1-B219B12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2A5DB-5D4B-451D-8CF7-DA7353AD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3B2E9-579B-43BA-8734-8DE80843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1A46F-7578-4F9D-8AC8-610969FD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FAB10-7CEF-4415-8BCD-2574EE19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A472F-6FE7-482F-AEBC-116EA9FA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296-8F7E-4C4A-96EF-5DF0CCB8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2C446-A7A1-43F4-9158-5DDE4119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DCB9-0BC7-459C-A5D7-BFE2ED01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E31F-E0E9-47A1-B59F-E2AB22A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0193-36A2-4524-979D-0069F12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C7BB5-A584-4DD6-AB94-D51EF696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22A50-46C1-45CD-BBEC-2EBE299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A350E-E92B-49CE-AE77-117265C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E7D67-3ECF-4FAB-9CD2-41929D20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FDF6-B85F-4139-AF6D-E6EC3B89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F3029-A7CA-4057-9C02-43DF448E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7C3-F9CA-46F1-B79B-EDC5BD8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5E433-5C90-4F30-9AA7-A6468B31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84016-3375-48A9-975D-6E0E125A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2ED78-1CDF-419D-8F33-54B8BCF8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35D6-7AA3-43AF-9318-F0FC8876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9EDFE-0D7E-46DD-8F9A-F11FDC17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2F1ED-007D-491C-856B-6FAB70EA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80B6D-9BF0-4AD1-9158-1AD34CFB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FAC3A-7B23-4E0D-8BBE-1A923AE3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6CC08-DB19-4735-BD65-F8842581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E58D-894D-450A-B78C-34E3562F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994-A262-4675-8916-C227AE8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9009-AEEC-4B42-93DE-CC1191E2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A99C4-164F-4188-B5DB-51BEB8E1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5E5A2-8FFE-478C-B9AD-67D75E21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B13-4C7E-410D-A59F-BFDF3D2C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13D-A0D7-469E-B7B4-5E48E62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552F-CEAD-4C38-BFF0-A1A694E0CB48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3F3C-E7FD-4BBE-A3EC-85C416F3FD1D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2219-B0DE-47E6-840C-074D714DC6B8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FBED-887D-4AA2-93F2-2B837211C41A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ACB3-C4D2-4319-BC89-F4FDCE18D11A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093A-348A-4602-A847-0109E4C76719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z/" TargetMode="External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1042920" y="4005360"/>
            <a:ext cx="6985080" cy="22986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80000" cy="1224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VY_32_INOVACE_087_Ekonom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Obrázek 3" descr=""/>
          <p:cNvPicPr/>
          <p:nvPr/>
        </p:nvPicPr>
        <p:blipFill>
          <a:blip r:embed="rId2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6ea0b0"/>
                </a:solidFill>
                <a:latin typeface="Arial"/>
              </a:rPr>
              <a:t>Kalkulační vzor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římý materiál (osivo nakupené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olotovary vlastní výroby (osivo vlastně vyrobené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římé mzdy (traktoristé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Ostatní přímé náklady (spotřeba pohonných hmo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ýrobní režie (odpisy traktorů, garáží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a116e0"/>
                </a:solidFill>
                <a:latin typeface="Arial"/>
              </a:rPr>
              <a:t>VLASTNÍ NÁKLADY VÝRO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ahoma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ásobovací režie (mzdy zásobovačů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právní režie (platy ředitelství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a116e0"/>
                </a:solidFill>
                <a:latin typeface="Arial"/>
              </a:rPr>
              <a:t>VLASTNÍ NÁKLADY VÝKO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ahoma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Tahoma"/>
              </a:rPr>
              <a:t>Přímé odbytové náklady (nevratné da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Tahoma"/>
              </a:rPr>
              <a:t>Odbytová režie (platy skladníků, odpisy skladů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Tahoma"/>
              </a:rPr>
              <a:t>---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0" lang="cs-CZ" sz="1600" spc="-1" strike="noStrike">
                <a:solidFill>
                  <a:srgbClr val="a116e0"/>
                </a:solidFill>
                <a:latin typeface="Arial"/>
                <a:ea typeface="Tahoma"/>
              </a:rPr>
              <a:t>ÚPNÉ VLASTNÍ NÁKLADY VÝKO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ahoma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Tahoma"/>
              </a:rPr>
              <a:t>Zis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Tahoma"/>
              </a:rPr>
              <a:t>---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0" lang="cs-CZ" sz="1600" spc="-1" strike="noStrike">
                <a:solidFill>
                  <a:srgbClr val="6ea0b0"/>
                </a:solidFill>
                <a:latin typeface="Arial"/>
                <a:ea typeface="Tahoma"/>
              </a:rPr>
              <a:t>PRODEJNÍ CE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341360"/>
            <a:ext cx="8435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Kalkulace neúplný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5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kritiky tradičních kalkulac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plných nákladů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zešly kalkulac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úplných nákladů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Kritika byla směrována do těchto oblast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lkulace úplných nákladů předpokládá znalost vyráběného množství jednotlivých druhů výrobků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latí jen pro objem produkce, na který byly  sestaven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těžuje rozhodnutí v podniku, např. volbu optimálního výrobního program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ní schopna přesně stanovit  minimální cenu, výrobky s nižší cenou </a:t>
            </a:r>
            <a:r>
              <a:rPr b="1" lang="cs-CZ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važuje za nerentabil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Arial"/>
              </a:rPr>
              <a:t>Kalkulace neúplný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12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lkulační jednici se přiřazuje pouze část nákladů (odtud název kalkulace) a to </a:t>
            </a:r>
            <a:r>
              <a:rPr b="1" lang="cs-CZ" sz="2800" spc="-1" strike="noStrike">
                <a:solidFill>
                  <a:srgbClr val="7030a0"/>
                </a:solidFill>
                <a:latin typeface="Arial"/>
              </a:rPr>
              <a:t>náklady variabilní pova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lnSpc>
                <a:spcPct val="120000"/>
              </a:lnSpc>
              <a:spcBef>
                <a:spcPts val="1749"/>
              </a:spcBef>
              <a:buClr>
                <a:srgbClr val="6ea0b0"/>
              </a:buClr>
              <a:buFont typeface="Wingdings" charset="2"/>
              <a:buChar char="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 kalkulací neúplných nákladů je spjat </a:t>
            </a:r>
            <a:r>
              <a:rPr b="1" lang="cs-CZ" sz="2800" spc="-1" strike="noStrike">
                <a:solidFill>
                  <a:srgbClr val="4c7c8b"/>
                </a:solidFill>
                <a:latin typeface="Arial"/>
              </a:rPr>
              <a:t>ukazatel </a:t>
            </a:r>
            <a:r>
              <a:rPr b="1" lang="cs-CZ" sz="2800" spc="-1" strike="noStrike">
                <a:solidFill>
                  <a:srgbClr val="4c7c8b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4c7c8b"/>
                </a:solidFill>
                <a:latin typeface="Arial"/>
              </a:rPr>
              <a:t>příspěvek na úhradu fixních nákladů a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lnSpc>
                <a:spcPct val="120000"/>
              </a:lnSpc>
              <a:spcBef>
                <a:spcPts val="1749"/>
              </a:spcBef>
              <a:buClr>
                <a:srgbClr val="6ea0b0"/>
              </a:buClr>
              <a:buFont typeface="Wingdings" charset="2"/>
              <a:buChar char="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spívá na úhradu fixních nákladů a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715160" cy="194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34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cs-CZ" sz="3200" spc="-1" strike="noStrike">
                <a:solidFill>
                  <a:srgbClr val="6ea0b0"/>
                </a:solidFill>
                <a:latin typeface="Franklin Gothic Book"/>
              </a:rPr>
              <a:t>Příspěvek na úhradu fixních nákladů a zisku</a:t>
            </a:r>
            <a:br>
              <a:rPr sz="3200"/>
            </a:br>
            <a:br>
              <a:rPr sz="2800"/>
            </a:br>
            <a:r>
              <a:rPr b="0" i="1" lang="cs-CZ" sz="1800" spc="-1" strike="noStrike">
                <a:solidFill>
                  <a:srgbClr val="ffffff"/>
                </a:solidFill>
                <a:latin typeface="Franklin Gothic Book"/>
              </a:rPr>
              <a:t>Schéma:   Příspěvek na úhradu</a:t>
            </a:r>
            <a:br>
              <a:rPr sz="1800"/>
            </a:br>
            <a:r>
              <a:rPr b="0" i="1" lang="cs-CZ" sz="1800" spc="-1" strike="noStrike">
                <a:solidFill>
                  <a:srgbClr val="ffffff"/>
                </a:solidFill>
                <a:latin typeface="Franklin Gothic Book"/>
              </a:rPr>
              <a:t>                    Zdroj:        </a:t>
            </a:r>
            <a:r>
              <a:rPr b="0" lang="cs-CZ" sz="1800" spc="-1" strike="noStrike" u="sng">
                <a:solidFill>
                  <a:srgbClr val="00c8c3"/>
                </a:solidFill>
                <a:uFillTx/>
                <a:latin typeface="Franklin Gothic Book"/>
                <a:hlinkClick r:id="rId1"/>
              </a:rPr>
              <a:t>www.google.cz</a:t>
            </a:r>
            <a:r>
              <a:rPr b="0" i="1" lang="cs-CZ" sz="1800" spc="-1" strike="noStrike">
                <a:solidFill>
                  <a:srgbClr val="ffffff"/>
                </a:solidFill>
                <a:latin typeface="Franklin Gothic Book"/>
              </a:rPr>
              <a:t>, dne 12. 9. 2012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Arial"/>
              </a:rPr>
              <a:t>KALKU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82" name="Zástupný symbol pro obsah 3"/>
          <p:cNvGraphicFramePr/>
          <p:nvPr/>
        </p:nvGraphicFramePr>
        <p:xfrm>
          <a:off x="755640" y="1557360"/>
          <a:ext cx="770400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Zástupný symbol pro obsah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70400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Franklin Gothic Book"/>
              </a:rPr>
              <a:t>Metody stanovení nákladů na kalkulační jed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í náklady na kalkulační jednici stanovíme přímo nebo nepří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přímo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náklady přímé (jednicové)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dají se zjistit přímo na kalkulační jed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nepřímo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náklady nepřímé (režijní)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jsou společné pro několik výrobků a musí se rozpočítat podle určitého klíče na jednot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eznáváme 3 druhy kalkula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Kalkulace děl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Kalkulace pomocí poměrových čís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Kalkulace přiráž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Franklin Gothic Book"/>
              </a:rPr>
              <a:t>Metody stanovení nákladů na kalkulační jed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6ea0b0"/>
                </a:solidFill>
                <a:latin typeface="Arial"/>
              </a:rPr>
              <a:t>Kalkulace děle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rábí se </a:t>
            </a:r>
            <a:r>
              <a:rPr b="0" lang="cs-CZ" sz="3200" spc="-1" strike="noStrike">
                <a:solidFill>
                  <a:srgbClr val="a116e0"/>
                </a:solidFill>
                <a:latin typeface="Arial"/>
              </a:rPr>
              <a:t>jeden druh výrob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žijní náklady připadající na 1 kalkulační jednici zjistíme tak, že </a:t>
            </a:r>
            <a:r>
              <a:rPr b="0" i="1" lang="cs-CZ" sz="3200" spc="-1" strike="noStrike">
                <a:solidFill>
                  <a:srgbClr val="6ea0b0"/>
                </a:solidFill>
                <a:latin typeface="Arial"/>
              </a:rPr>
              <a:t>celkovou výši režijních nákladů dělíme počtem výrob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83920"/>
            <a:ext cx="836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Franklin Gothic Book"/>
              </a:rPr>
              <a:t>Metody stanovení nákladů na kalkulační jed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Kalkulace pomocí poměrových čí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několik stejnorodých výrobků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stejné technologie výroby, výrobky se liší pouze velikostí, hmotnost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stupujeme ta, že 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jeden z výrobků určíme jako hlavní a ostatní výrobky přepočtem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a tento hlavní výrobek 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pomocí poměrových čísel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koeficientů) podle určité vlast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Franklin Gothic Book"/>
              </a:rPr>
              <a:t>Metody stanovení nákladů na kalkulační jed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3. Kalkulace přirážk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několik různorodých výrobků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židle, vrtačky – jiný technologický post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žijní náklady rozdělujeme na jednotlivé výrobky pomocí 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„rozvrhové základny“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ukazatel –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římé mzdy, přímý materiál, popř. jejich součt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c7c8b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2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80 s. ISBN 978-80-87204-30-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Franklin Gothic Book"/>
              </a:rPr>
              <a:t>Záznamový list výukového materiálu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052640"/>
          <a:ext cx="8229600" cy="5659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alkul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87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12.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základním vymezení kalkulací, členění kalkulací,  členění nákladů v rámci kalkulace ceny, metodách stanovení nákladů na kalkulační jednici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16000" y="1599840"/>
            <a:ext cx="7416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vymezení kalku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lenění nákladů v rámci kalkulace c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lenění kalkul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tody stanovení nákladů na kalkulační jedn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636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70c0"/>
                </a:solidFill>
                <a:latin typeface="Arial"/>
              </a:rPr>
              <a:t>2. roční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341360"/>
            <a:ext cx="8147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Arial"/>
              </a:rPr>
              <a:t>Základní vymezení kalku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ouží k tvorbě c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bývá se vyčíslováním jednotlivých složek nákladů na kalkulační jedn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obné sledování struktury a výše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Členění kalkulace z hlediska čas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předběžn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provádí se před výrob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výsledná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zjišťují se skutečné náklady na jednotku kalkulační jed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3628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000" y="98100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c7c8b"/>
                </a:solidFill>
                <a:latin typeface="Arial"/>
              </a:rPr>
              <a:t>Členění nákladů v rámci kalkulace ce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římé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náklady, které lze přesně určit na jednotku výkonu (kalkulační jedn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nepřím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jsou společné pro více druhů výrobků podle užitného klíče (užitné náklady) se rozpočítávají na jednotlivé výkony (DPH, poštovné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Kalkulační jednic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dnotka výkonu užívaná při kalkulaci vlastních výkonů (kg, l, ks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6ea0b0"/>
                </a:solidFill>
                <a:latin typeface="Arial"/>
              </a:rPr>
              <a:t>Členění kalkula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20000"/>
              </a:lnSpc>
              <a:spcBef>
                <a:spcPts val="2001"/>
              </a:spcBef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lkulace úplný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20000"/>
              </a:lnSpc>
              <a:spcBef>
                <a:spcPts val="2001"/>
              </a:spcBef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alkulace neúplný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268280"/>
            <a:ext cx="8218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Arial"/>
              </a:rPr>
              <a:t>Kalkulace úplný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20000"/>
              </a:lnSpc>
              <a:spcBef>
                <a:spcPts val="15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lba rozvrhové základny je vždy spojena s vysokou mírou nepřesnosti při kalkulování, ta pramení ze snahy přerozdělit veškeré náklady na kalkulační jed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četně nepřímých (režijních) nákladů. Podstatnou část nepřímých nákladů tvoří fixní náklady, </a:t>
            </a:r>
            <a:r>
              <a:rPr b="0" lang="cs-CZ" sz="2400" spc="-1" strike="noStrike" u="sng">
                <a:solidFill>
                  <a:srgbClr val="7030a0"/>
                </a:solidFill>
                <a:uFillTx/>
                <a:latin typeface="Arial"/>
              </a:rPr>
              <a:t>jejichž vznik nemá příčinnou souvislost s daným výkon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20000"/>
              </a:lnSpc>
              <a:spcBef>
                <a:spcPts val="15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lkulace platí jen pro objem produkce, pro které byla sestav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Arial"/>
              </a:rPr>
              <a:t>Kalkulace úplný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lnSpc>
                <a:spcPct val="12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lasická kalkulace úplných nákladů vychází z představy, že pro úspěšné řízení podniku je třeba znát „úplné náklady vlastního výkonu“ pro jednotlivé výkony (viz všeobecný kalkulační vzore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72880">
              <a:lnSpc>
                <a:spcPct val="120000"/>
              </a:lnSpc>
              <a:spcBef>
                <a:spcPts val="1500"/>
              </a:spcBef>
              <a:buClr>
                <a:srgbClr val="6ea0b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 základě postupného přičítání jednotlivých nákladových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ložek se tvoří kalkulace úplných nákladů, což prezentuje </a:t>
            </a:r>
            <a:r>
              <a:rPr b="0" lang="cs-CZ" sz="2400" spc="-1" strike="noStrike">
                <a:solidFill>
                  <a:srgbClr val="7030a0"/>
                </a:solidFill>
                <a:latin typeface="Arial"/>
              </a:rPr>
              <a:t>přirážková kalku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116e0"/>
                </a:solidFill>
                <a:latin typeface="Franklin Gothic Book"/>
              </a:rPr>
              <a:t>KALKULAC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41264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6ea0b0"/>
                </a:solidFill>
                <a:latin typeface="Arial"/>
              </a:rPr>
              <a:t>Kalkulace úplných náklad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by byla zajištěna jednotnost při sestavování kalkulací je stanoven směrnicí MF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„typový kalkulační vzorec“,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ve kterém jsou sestaveny jednotlivé druhy náklad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275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Kalkulační vzorec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je souhrn jednotlivých nákladových položek při výrobě určitého produ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užívá se u </a:t>
            </a:r>
            <a:r>
              <a:rPr b="0" lang="cs-CZ" sz="2800" spc="-1" strike="noStrike">
                <a:solidFill>
                  <a:srgbClr val="7030a0"/>
                </a:solidFill>
                <a:latin typeface="Arial"/>
              </a:rPr>
              <a:t>kalkulace úplný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1:48:08Z</dcterms:created>
  <dc:creator>Monika</dc:creator>
  <dc:description/>
  <dc:language>en-US</dc:language>
  <cp:lastModifiedBy>Berka</cp:lastModifiedBy>
  <dcterms:modified xsi:type="dcterms:W3CDTF">2014-02-13T08:16:18Z</dcterms:modified>
  <cp:revision>119</cp:revision>
  <dc:subject/>
  <dc:title>EKONOMIKA  PODNIKU</dc:title>
</cp:coreProperties>
</file>