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B0CA-EC47-4290-BCB3-A2D3C0EA4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EB1E-9E90-4245-9258-B3DAAFEDA31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796-3397-49B1-B1EB-902DB534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CC9-0FD3-424F-85EF-44303A8E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E6E65-67C1-4C79-86AD-2F8B41D9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7C74E-93DE-40BC-B51C-4C62C55C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03BD1-04BA-4772-8B55-6704166B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14952-F06B-4583-8A48-85DF565D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A4210-F80E-4CF6-BD7B-9E883AF3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B9D4C-3A6C-4BD2-97B1-FDF59C7B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103AA-204E-441A-9738-055B813B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5162F-7CDB-4F5C-9525-0AA69005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D97AC-3B5C-4766-835D-945FC622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48F74-7170-46F7-9573-06692110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02F-7D9E-452D-9AEA-71AF06C2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6D344-F91D-4DF4-B721-D920B8E4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191CA-9089-44DF-8BB6-0184A875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2D03B-9A3F-4F43-B8AC-900E41FE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41ECA-2902-42B0-965D-09245571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ADF1E-78BC-4BD3-9E49-AB336DBB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0711A-6611-40F0-86CF-9E567F38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98D0E-2310-4D97-9DB9-0C038FF9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AEEA1-DEAC-48B5-8FD1-A8D2B313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4969D-C1B7-4C4A-8B86-8344A373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95771-49CD-4255-AB64-30D3E757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437-2E94-4A76-8B7F-09EC76B1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88679-0A2D-4988-8ECC-B299F290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9BF52-5930-455B-81D9-861B3A78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C2773-9A0F-4052-9CE3-B12B389D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437E5-7DEB-4CFB-8560-9E891DCA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DF502-6012-42D3-9DA9-2749695F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4772E-A800-42C2-9106-D8AF3C5E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CC842-0D68-443A-BB17-AF9093EF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75B81-88E4-4290-A171-2874BD7B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01368-FD5B-4184-8F10-F09FB581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6199B-7F51-4D9A-A29B-C17BFC3B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20A1-D12F-493C-BA95-CD889BA7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95E79-64AD-4226-B6BF-55C63D99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DB642-CC30-4993-8036-493CF052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857A0-2053-416C-919F-EF5EF066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A3009-6C92-43B9-9113-2413E70C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38DDB-28F1-40D7-9A2D-DE0F6371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C6974-A08F-47FA-9268-509B42EC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0524B-AD13-447B-A1D1-66094562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F8B92-6149-42FE-94C6-370F7159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FA7C5-44AB-454A-A685-5045FB9D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CCE09-0579-4B6D-B42A-B2D19B46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6338-140A-40FB-8BF6-7EEF2CBA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DA7A8-272A-412A-9700-B3972804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5368E-4ED2-4B35-8CBA-265E9099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B420A-6126-427F-949A-4FEAA8EA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88790-C6F3-42F8-B23B-2A125AF9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696D7-A1D0-4A88-9902-F8AEC61E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ADEF-17B9-4D8C-BB83-A10EF53C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0D18-7303-45F2-BF66-00DA6D64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89B6-DB57-4C09-B766-1ED2769E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EC1B-A193-41EB-B5DB-9CFDE10F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EC01-37F0-46DE-8623-B1FD5543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792-8CEA-4760-B806-91098949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0053-5F56-4ACF-A1EE-F0FEF628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E9BD-1CB9-48A8-947D-07263388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444E-3200-4DC7-A2CD-357BA1C6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8871-8E98-494A-B5E5-36CFE6A4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01FF-A5A9-49F3-A460-20915295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C600-C4EA-4819-87EC-FA52CD04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8CD3-86FC-4DE5-B89F-48558B44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63B32-8592-4D79-B9E2-75D46FD7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FD4B-64A4-41D9-8BD1-23413D18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0055-A82E-4686-AAF0-77DDBF7E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0BC-05F7-4889-B609-ABC13152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83A8-4FAB-4D88-A3AC-8D9DAD36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4B5C-E1CE-452B-B9D3-BCE5BD17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8742-8F1F-476B-9771-2CA3EA4C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11A5-E7D3-458D-BB17-347E6593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A32C-88B1-444B-93AF-4DAC3782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55F5-066E-419D-9011-1BF25B70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58325-09B1-4FF9-9EA3-7E3E029A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B628-A081-4A7F-832C-12F7CD87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DA55-D673-4A23-9B26-18AAFBA4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C338-83FC-4252-986F-F044E34C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8DB-05CE-4400-806C-9C46652E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566A-B244-475A-AE21-52D6DFF4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DE8E5-E08F-488C-BD72-3354F59F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A3A27-340D-4003-8073-AAECF1CA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65B2-5CBB-477A-B24E-6592C3DB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0E927-D110-4DB8-9813-27AA33A2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A031-ED02-447D-A5B3-E3BFD4A2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D65A0-F572-4AC5-A955-FC01D20E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A1D9-6FCD-4E57-95FD-4AFF79E1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ACA42-E12E-43A5-BBFB-266937C4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8B91B-5620-4231-B4F8-CDD710D5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907-55E1-4AE2-A9D5-540B7F13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754CB-9C96-4220-AFF5-9E73FC49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005F-E740-4956-998E-95D2DBEF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929A-C24F-4FEC-90CD-E061E487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4D31-43C3-454A-B84F-F355F9B4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64870-8F45-44BF-B20F-E145DEB9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BC270-13DA-4E3E-83AD-5D3F22E7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5E141-DC82-430F-B851-BC74969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3163A-5C16-4E65-A19B-3CD78C51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8F5F2-5FE7-4980-8E04-87D46189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092D-4E22-4E1A-B5C0-7385A98A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B00-5546-4CDE-BFD0-46C964A6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353B0-FC36-49A6-836B-26C08CFC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CF560-B45C-4AFF-BD75-6CCC9F7E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DAD3-C49B-4D35-B748-80DCF0C9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6FFA2-5E5D-4154-832D-01953857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9E118-2196-43CE-99E1-880B54E2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4B6AF-308E-44B0-9BC1-EA38A9C8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7A2D9-EA00-4867-98B0-C346020D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02712-FECB-4287-A18E-44C38AC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1000-6848-4ACA-A634-B9F9B52F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7EEC-1942-4397-A516-7C0C94E0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0BA-EC0E-4B49-8EFF-38BA656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E8BDD-9E40-4C24-A145-FEF7A7AA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4B1BD-46A2-43A7-B06E-9F7719AF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16FE6-B46C-4F7C-AE86-0F45CC8B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52A6-541D-41C1-9B44-56E0FE78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3DC22-2C99-4B3E-AEE5-6EF4FD68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BC12E-BC45-4625-A04C-13C6F7B4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A4139-2FD9-4EA2-87CB-77DDA3B5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DFBDF-AEF2-4014-8AF0-26F2CFDF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433C1-9D38-4FC4-9B1B-1DC27A8D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7BD29-EBE1-48AF-BB7C-4BFB1172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9A6-BE87-4311-9F49-47156423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A3E71-E983-450D-8AB0-775C4D9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82A44-8775-4BF5-9FB3-CDAB0F0D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063C4-53D3-4ED7-A7A3-F06EC525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2BE3-2269-474B-8FFA-E8C51337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130C2-F18F-4D67-9F54-C8F59E66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CD784-7F68-43C4-AD79-175A3513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ECE2A-024A-4EE7-99FA-9A2AE1C5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0BE60-94E2-4788-8271-37E9620B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1BD19-5285-4C8F-BC51-59ADAF58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F086B-3256-492E-88DD-B9F60D95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4C8-104C-4A4E-BE60-38FABF2C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274AF-0FFA-414D-8D0C-BAAFD572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6E70B-0176-47DB-95AC-CD4C47C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82A19-8DDA-4296-BEC2-485F07C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BE476-6903-4EE7-948B-AD6E1EA6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3853C-3D57-47C7-A630-A5273CE4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ADFFE-53AA-4368-8A42-510E452A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43A31-F298-4DE2-A4C3-A76700F5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81433-E18D-4CC5-94CE-82167C42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0332E-AF08-4AF1-9E64-C5FED062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694DF-0F05-4C89-80C1-214A2C94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římá spojnice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362A-4BB5-436C-B60D-C763AFFDCE2E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nice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Obdélní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Obdélní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Obdélní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Obdélní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á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á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Obdélní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711B-CB90-4A73-BB6B-E4E0EBBD8F88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římá spojnice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86F6-2A88-4321-9826-396780F81A07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Obdélní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Obdélní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Obdélní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římá spojnice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á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á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C397-DD57-448C-AADD-009A6FB28AE3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bdélní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římá spojnice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á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á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2A5-0EEF-4A4F-AD03-DC769400CF50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římá spojnice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61E2-4E06-4D40-B4E4-F0D1C6F00ABA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Obdélní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Obdélní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Obdélní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Obdélní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bdélní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římá spojnice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á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á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FA07-8337-4922-8F31-F5D3FCEA45A5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římá spojnice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římá spojnice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D29D-B3DB-4513-AF61-31188BF8908E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nice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Obdélní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bdélní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Obdélní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bdélní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římá spojnice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bdélní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á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á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AC8E-67ED-4C2C-A80A-3C8536CAEC6C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římá spojnice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á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á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A747-5244-4AFB-8B05-22E12EA25F53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Obdélní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Obdélní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C97C-0B92-4C12-803A-7C1AFAAB3A9F}" type="slidenum"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Obdélní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bdélní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Obdélní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Obdélní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Obdélní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římá spojnice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á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á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bdélní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D879-29E5-45DE-9063-FE0467A350D1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826560" y="4005360"/>
            <a:ext cx="741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646b86"/>
                </a:solidFill>
                <a:latin typeface="Georgia"/>
              </a:rPr>
              <a:t>PLATEBN</a:t>
            </a:r>
            <a:r>
              <a:rPr b="1" lang="cs-CZ" sz="3200" spc="-1" strike="noStrike">
                <a:solidFill>
                  <a:srgbClr val="646b86"/>
                </a:solidFill>
                <a:latin typeface="Georgia"/>
              </a:rPr>
              <a:t>Í STYK I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646b86"/>
                </a:solidFill>
                <a:latin typeface="Georgia"/>
              </a:rPr>
              <a:t>AUTOR: MGR. ROMAN BERK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831960" y="2781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cs-CZ" sz="3600" spc="-1" strike="noStrike">
                <a:solidFill>
                  <a:srgbClr val="d16349"/>
                </a:solidFill>
                <a:latin typeface="Calibri"/>
              </a:rPr>
              <a:t>VY_32_INOVACE_099_Ekonomika</a:t>
            </a:r>
            <a:br>
              <a:rPr sz="48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Obrázek 3" descr=""/>
          <p:cNvPicPr/>
          <p:nvPr/>
        </p:nvPicPr>
        <p:blipFill>
          <a:blip r:embed="rId1"/>
          <a:stretch/>
        </p:blipFill>
        <p:spPr>
          <a:xfrm>
            <a:off x="1676520" y="54936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68360" y="1844640"/>
            <a:ext cx="833760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Bezhotovostní platební sty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Bezhotovostní platební styk je způsob </a:t>
            </a: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platby bez použití fyzických peněz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(bankovek, mincí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lacení se uskutečňuje pouze </a:t>
            </a: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písemným převodem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z účtu na úč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řevažující forma placení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Bezpečné, časově nenáročné, přesn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Není jistota plat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68360" y="1628640"/>
            <a:ext cx="8207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Bezhotovostní platební sty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Georgia"/>
              </a:rPr>
              <a:t>Doklady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d16349"/>
                </a:solidFill>
                <a:latin typeface="Georgia"/>
              </a:rPr>
              <a:t>1. Příkaz k úhradě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bezhotovostní platba z účtu plátce na účet příjemc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druhy: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a) jednotlivý 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- 1 platba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b) hromadný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- více plateb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c) trvalý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- pro opakující se platby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údaje na příkazu k úhradě: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a) na vrub účtu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(plátce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b) ve prospěch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(příjemce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c) kód banky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d) konstantní symbol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(kód platby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94920" y="1699920"/>
            <a:ext cx="841068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6349"/>
                </a:solidFill>
                <a:latin typeface="Georgia"/>
              </a:rPr>
              <a:t>Bezhotovostní platební styk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6349"/>
                </a:solidFill>
                <a:latin typeface="Georgia"/>
              </a:rPr>
              <a:t>1. Příkaz k úhradě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d16349"/>
                </a:solidFill>
                <a:latin typeface="Georgia"/>
              </a:rPr>
              <a:t>konstantní symbol</a:t>
            </a:r>
            <a:r>
              <a:rPr b="0" lang="cs-CZ" sz="21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je od roku 2004 nepovinný, výjimkou je platba ve vztahu ke státnímu rozpočtu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d16349"/>
                </a:solidFill>
                <a:latin typeface="Georgia"/>
              </a:rPr>
              <a:t>variabilní symbol</a:t>
            </a:r>
            <a:r>
              <a:rPr b="0" lang="cs-CZ" sz="21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vyjadřuje určení platby (obvykle číslo faktury nebo rodné číslo plátce), není povinný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d16349"/>
                </a:solidFill>
                <a:latin typeface="Georgia"/>
              </a:rPr>
              <a:t>datum splatnosti</a:t>
            </a:r>
            <a:r>
              <a:rPr b="0" lang="cs-CZ" sz="21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uvedeme, pokud máme konkrétní požadavek na okamžik provedení platby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d16349"/>
                </a:solidFill>
                <a:latin typeface="Georgia"/>
              </a:rPr>
              <a:t>specifický symbol</a:t>
            </a:r>
            <a:r>
              <a:rPr b="0" lang="cs-CZ" sz="21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pomáhá blíže specifikovat platbu (dnes jen výjimečně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zpráva pro příjemc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autorizace (před uvedením prověřen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Georgia"/>
              </a:rPr>
              <a:t>podpis a odeslání (popř. razítko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628280"/>
            <a:ext cx="8504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d16349"/>
                </a:solidFill>
                <a:latin typeface="Georgia"/>
              </a:rPr>
              <a:t>Příkaz k úhradě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Georgia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Georgia"/>
              </a:rPr>
              <a:t>http://www.google.cz/search?q=v%C3%BD%C4%8Detka+platidel&amp;tbm=isch&amp;tbo=u&amp;source=univ&amp;sa=X&amp;ei=rJPmUZO0OOfE7Ab-5ICQCQ&amp;sqi=2&amp;ved=0CDEQsAQ&amp;biw=1366&amp;bih=610#tbm=isch&amp;sa=1&amp;q=p%C5%99%C3%ADkaz+k+%C3%BAhrad%C4%9B&amp;oq=p%C5%99%C3%ADkaz+k+%C3%BAhrad%C4%9B&amp;gs_l=img.3..0l4j0i24l6.1811703.1826854.2.1827615.55.19.0.6.6.4.1192.7659.1j5j1j1j6-1j5.14.0....0...1c.1.21.img.W3XJfkcrRD4&amp;bav=on.2,or.r_qf.&amp;bvm=bv.49405654,d.ZGU&amp;fp=33ca7e05c3546773&amp;biw=1366&amp;bih=610&amp;facrc=_&amp;imgdii=_&amp;imgrc=a0H4UnoN8lkaRM%3A%3BAjpBR4Y62NIclM%3Bhttp%253A%252F%252Fwww.finance.cz%252Ffinance%252Fgalerie%252Fimg%252F2619.jpg%3Bhttp%253A%252F%252Fwww.finance.cz%252Fucty-a-sporeni%252Fbezne-ucty%252Fabeceda-beznych-uctu%252Fjak-platit-z-bezneho-uctu%252F%3B500%3B346, </a:t>
            </a:r>
            <a:r>
              <a:rPr b="1" lang="cs-CZ" sz="1000" spc="-1" strike="noStrike">
                <a:solidFill>
                  <a:srgbClr val="000000"/>
                </a:solidFill>
                <a:latin typeface="Georgia"/>
              </a:rPr>
              <a:t>dne 15. 7. 2013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3600360" cy="23036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4932360" y="2367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39280" y="1700280"/>
            <a:ext cx="8288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6349"/>
                </a:solidFill>
                <a:latin typeface="Georgia"/>
              </a:rPr>
              <a:t>Bezhotovostní platební styk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Georgia"/>
              </a:rPr>
              <a:t>Doklad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2. Příkaz k inkasu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říkaz zadává příjemce peněz (např. u plateb za telefon, energii, stravování, aj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ajitel účtu musí předem dát povolení k inkas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zároveň může určit limit maximální inkasované částk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24000" y="1699920"/>
            <a:ext cx="85039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Příkaz k inkas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Georgia"/>
              </a:rPr>
              <a:t>Zdroj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Georgia"/>
              </a:rPr>
              <a:t>http://www.google.cz/search?q=v%C3%BD%C4%8Detka+platidel&amp;tbm=isch&amp;tbo=u&amp;source=univ&amp;sa=X&amp;ei=rJPmUZO0OOfE7Ab-5ICQCQ&amp;sqi=2&amp;ved=0CDEQsAQ&amp;biw=1366&amp;bih=610#tbm=isch&amp;sa=1&amp;q=p%C5%99%C3%ADkaz+k+inkasu&amp;oq=p%C5%99%C3%ADkaz+k+inkasu&amp;gs_l=img.3..0j0i24l3.472675.476551.0.477482.12.9.0.2.2.2.823.3417.2j1j2j1j6-3.9.0....0...1c.1.21.img.SdMLuzPlseU&amp;bav=on.2,or.r_qf.&amp;fp=f4e5c24597f2322c&amp;biw=1366&amp;bih=610&amp;imgdii=_, </a:t>
            </a:r>
            <a:r>
              <a:rPr b="1" lang="cs-CZ" sz="1300" spc="-1" strike="noStrike">
                <a:solidFill>
                  <a:srgbClr val="000000"/>
                </a:solidFill>
                <a:latin typeface="Georgia"/>
              </a:rPr>
              <a:t>dne 15. 7. 2013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5003640" y="2313000"/>
            <a:ext cx="3384720" cy="25923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3527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39640" y="1557000"/>
            <a:ext cx="8266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Bezhotovostní platební sty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Doklady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6349"/>
                </a:solidFill>
                <a:latin typeface="Georgia"/>
              </a:rPr>
              <a:t>3. Platební karty (debetní, kreditní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Georgia"/>
              </a:rPr>
              <a:t>a) Debetní karty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ydávají se </a:t>
            </a:r>
            <a:r>
              <a:rPr b="0" lang="cs-CZ" sz="2000" spc="-1" strike="noStrike">
                <a:solidFill>
                  <a:srgbClr val="d16349"/>
                </a:solidFill>
                <a:latin typeface="Georgia"/>
              </a:rPr>
              <a:t>po založení účt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užívají se při placení za zboží nebo služby v obchodech, restauracích, při výběru hotovost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eněžní částka je odepsána z účtu kupujícího a připsána na účet prodávajícíh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kud máme sjednaný kontokorent, lze čerpat i do mínusu (jinak do výše finančních prostředků na účtu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Georgia"/>
              </a:rPr>
              <a:t>  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Georgia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Georgia"/>
              </a:rPr>
              <a:t>http://www.google.cz/search?q=v%C3%BD%C4%8Detka+platidel&amp;tbm=isch&amp;tbo=u&amp;source=univ&amp;sa=X&amp;ei=rJPmUZO0OOfE7Ab-5ICQCQ&amp;sqi=2&amp;ved=0CDEQsAQ&amp;biw=1366&amp;bih=610#biw=1366&amp;bih=610&amp;tbm=isch&amp;sa=1&amp;q=debetn%C3%AD+karta&amp;oq=debetn%C3%AD+karta&amp;gs_l=img.12...0.0.3.10497.0.0.0.0.0.0.0.0..0.0....0...1c..21.img.k-AEtyUlrAE&amp;bav=on.2,or.r_qf.&amp;fp=2f6d807d5160f9c1&amp;imgdii=_, </a:t>
            </a:r>
            <a:r>
              <a:rPr b="1" lang="cs-CZ" sz="1100" spc="-1" strike="noStrike">
                <a:solidFill>
                  <a:srgbClr val="000000"/>
                </a:solidFill>
                <a:latin typeface="Georgia"/>
              </a:rPr>
              <a:t>dne 15. 7. 2013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5940360" y="1481040"/>
            <a:ext cx="295272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8440" y="1699920"/>
            <a:ext cx="8502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6349"/>
                </a:solidFill>
                <a:latin typeface="Georgia"/>
              </a:rPr>
              <a:t>Bezhotovostní platební styk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b) Kreditní (úvěrové) karty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odobně jako debetní karty, na rozdíl od debetní karty však čerpá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finanční prostředky z úvěru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banky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(do výše uvedeného limitu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Georgia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Georgia"/>
              </a:rPr>
              <a:t>http://www.google.cz/search?q=v%C3%BD%C4%8Detka+platidel&amp;tbm=isch&amp;tbo=u&amp;source=univ&amp;sa=X&amp;ei=rJPmUZO0OOfE7Ab-5ICQCQ&amp;sqi=2&amp;ved=0CDEQsAQ&amp;biw=1366&amp;bih=610#tbm=isch&amp;sa=1&amp;q=kreditn%C3%AD+karta&amp;oq=kreditn%C3%AD+karta&amp;gs_l=img.3..0l10.5923.10948.0.11934.28.15.0.0.0.3.838.2373.3j1j5-2j1.7.0....0...1c.1.21.img.2w6tjd05BoE&amp;bav=on.2,or.r_qf.&amp;fp=c8f209454c2d6df1&amp;biw=1366&amp;bih=610&amp;imgdii=_, </a:t>
            </a:r>
            <a:r>
              <a:rPr b="1" lang="cs-CZ" sz="1000" spc="-1" strike="noStrike">
                <a:solidFill>
                  <a:srgbClr val="000000"/>
                </a:solidFill>
                <a:latin typeface="Georgia"/>
              </a:rPr>
              <a:t>dne 15. 7. 2013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4932360" y="3421080"/>
            <a:ext cx="3600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4000" y="1699920"/>
            <a:ext cx="784836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Použitá literatura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KLÍNSKÝ, Petr a Otto MÜNCH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Ekonomika pro obchodní akademie a ostatní střední škol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. 3., upr. vyd. Praha: Eduko, 2010-2011. ISBN 978-80-87204-38-24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ZLÁMAL, Jaroslav a Zdeněk MENDL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Ekonomie nejen k maturitě.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yd. 1. Kralice na Hané: Computer Media, 2007, 136 s. ISBN 978-80-86686-78-3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07520"/>
            <a:ext cx="853452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b9899"/>
                </a:solidFill>
                <a:latin typeface="Georgia"/>
              </a:rPr>
              <a:t>Záznamový list výukového materiálu</a:t>
            </a:r>
            <a:br>
              <a:rPr sz="24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457200" y="1600200"/>
          <a:ext cx="8229600" cy="4924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Platební styk 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VY_32_INOVACE_099_Ekonom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6.1. 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ateriál slouží k získání přehledu o platebním styku a jeho členění, hotovostním a bezhotovostním platebním styku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755280" y="2349360"/>
            <a:ext cx="777708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latební styk a jeho členění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Hotovostní platební sty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edení pokla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Bezhotovostní platební sty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d16349"/>
                </a:solidFill>
                <a:latin typeface="Georgia"/>
              </a:rPr>
              <a:t>2. roční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95280" y="1844640"/>
            <a:ext cx="83534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Platební styk a jeho členěn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Platební styk -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zprostředkování plateb mezi 2 subjek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Členění platebního styku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Hotovostní platební sty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Bezhotovostní platební sty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699920"/>
            <a:ext cx="85042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Hotovostní platební sty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Hotovostní platební styk je takový způsob platby, při kterém používáme </a:t>
            </a:r>
            <a:r>
              <a:rPr b="0" lang="cs-CZ" sz="2500" spc="-1" strike="noStrike">
                <a:solidFill>
                  <a:srgbClr val="d16349"/>
                </a:solidFill>
                <a:latin typeface="Georgia"/>
              </a:rPr>
              <a:t>hotovostní peníze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(mince, papírové bankovky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Hotovostní placení je </a:t>
            </a:r>
            <a:r>
              <a:rPr b="0" lang="cs-CZ" sz="2500" spc="-1" strike="noStrike">
                <a:solidFill>
                  <a:srgbClr val="d16349"/>
                </a:solidFill>
                <a:latin typeface="Georgia"/>
              </a:rPr>
              <a:t>operativní,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peníze máme stále k </a:t>
            </a:r>
            <a:r>
              <a:rPr b="0" lang="cs-CZ" sz="2500" spc="-1" strike="noStrike">
                <a:solidFill>
                  <a:srgbClr val="d16349"/>
                </a:solidFill>
                <a:latin typeface="Georgia"/>
              </a:rPr>
              <a:t>dispozici, jistota zaplacení,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používá se např. na drobné nákup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Časově náročné, </a:t>
            </a:r>
            <a:r>
              <a:rPr b="0" lang="cs-CZ" sz="2500" spc="-1" strike="noStrike">
                <a:solidFill>
                  <a:srgbClr val="d16349"/>
                </a:solidFill>
                <a:latin typeface="Georgia"/>
              </a:rPr>
              <a:t>málo zabezpečené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(krádež hotovosti), </a:t>
            </a:r>
            <a:r>
              <a:rPr b="0" lang="cs-CZ" sz="2500" spc="-1" strike="noStrike">
                <a:solidFill>
                  <a:srgbClr val="d16349"/>
                </a:solidFill>
                <a:latin typeface="Georgia"/>
              </a:rPr>
              <a:t>méně spolehlivé, nepřesné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(hrozí špatné vracení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628280"/>
            <a:ext cx="8504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6349"/>
                </a:solidFill>
                <a:latin typeface="Georgia"/>
              </a:rPr>
              <a:t>Hotovostní platební styk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Georgia"/>
              </a:rPr>
              <a:t>Doklady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cs-CZ" sz="2700" spc="-1" strike="noStrike">
                <a:solidFill>
                  <a:srgbClr val="d16349"/>
                </a:solidFill>
                <a:latin typeface="Georgia"/>
              </a:rPr>
              <a:t>1. Výčetka platidel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klady a výběry na přepáž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obsahuje seznam bankovek a mincí dle jejich hodnoty s uvedením počtu kusů a celkové částk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Georgia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Georgia"/>
              </a:rPr>
              <a:t>http://www.google.cz/search?q=v%C3%BD%C4%8Detka+platidel&amp;tbm=isch&amp;tbo=u&amp;source=univ&amp;sa=X&amp;ei=rJPmUZO0OOfE7Ab-5ICQCQ&amp;sqi=2&amp;ved=0CDEQsAQ&amp;biw=1366&amp;bih=610, </a:t>
            </a:r>
            <a:r>
              <a:rPr b="1" lang="cs-CZ" sz="1000" spc="-1" strike="noStrike">
                <a:solidFill>
                  <a:srgbClr val="000000"/>
                </a:solidFill>
                <a:latin typeface="Georgia"/>
              </a:rPr>
              <a:t>dne 15. 7: 2013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6156360" y="1052640"/>
            <a:ext cx="25192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755640" y="1773360"/>
            <a:ext cx="77040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Hotovostní platební sty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Doklad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6349"/>
                </a:solidFill>
                <a:latin typeface="Georgia"/>
              </a:rPr>
              <a:t>2. Příjmový a výdajový pokladní dokla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ystavuje pokladní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louží k evidenci příjmů a výdajů z pokladny, pro potřeby účetnictví, evidence poklad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628280"/>
            <a:ext cx="8504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Hotovostní platební sty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Georgia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Georgia"/>
              </a:rPr>
              <a:t>http://www.google.cz/search?q=v%C3%BD%C4%8Detka+platidel&amp;tbm=isch&amp;tbo=u&amp;source=univ&amp;sa=X&amp;ei=rJPmUZO0OOfE7Ab-5ICQCQ&amp;sqi=2&amp;ved=0CDEQsAQ&amp;biw=1366&amp;bih=610#tbm=isch&amp;sa=1&amp;q=p%C5%99%C3%ADjmov%C3%BD+a+v%C3%BDdajov%C3%BD+pokladn%C3%AD+doklad&amp;oq=p%C5%99%C3%ADjmov%C3%BD+a+v%C3%BDdajov%C3%BD+pokladn%C3%AD+doklad&amp;gs_l=img.12...461276.524164.0.528151.52.28.0.0.0.0.0.0..0.0....0...1c.1.21.img.i6Jt-kfjZTE&amp;bav=on.2,or.r_qf.&amp;bvm=bv.49405654,d.ZGU&amp;fp=451ab4d5cf89285e&amp;biw=1366&amp;bih=610&amp;facrc=_&amp;imgdii=_&amp;imgrc=hsQykj66W6vQRM%3A%3B0snqTmvbAHJSLM%3Bhttp%253A%252F%252Fwww.papirnictvipavlik.cz%252Fgalerie%252F1_8715%252Fvydajovy-pokladni-doklad-propisujici-optys-1083-original.jpg%3Bhttp%253A%252F%252Fwww.papirnictvipavlik.cz%252Fvydajovy-pokladni-doklad-propisujici-optys-1083%252F%3B800%3B618, </a:t>
            </a:r>
            <a:r>
              <a:rPr b="1" lang="cs-CZ" sz="1100" spc="-1" strike="noStrike">
                <a:solidFill>
                  <a:srgbClr val="000000"/>
                </a:solidFill>
                <a:latin typeface="Georgia"/>
              </a:rPr>
              <a:t>dne 15. 7. 2013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612720" y="2205000"/>
            <a:ext cx="3529080" cy="23036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4929120" y="220356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300" spc="-1" strike="noStrike">
                <a:solidFill>
                  <a:srgbClr val="7b9899"/>
                </a:solidFill>
                <a:latin typeface="Georgia"/>
              </a:rPr>
              <a:t>PLATEBN</a:t>
            </a:r>
            <a:r>
              <a:rPr b="1" lang="cs-CZ" sz="3300" spc="-1" strike="noStrike">
                <a:solidFill>
                  <a:srgbClr val="7b9899"/>
                </a:solidFill>
                <a:latin typeface="Georgia"/>
              </a:rPr>
              <a:t>Í STYK I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39640" y="1699920"/>
            <a:ext cx="81360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Vedení pokladn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okladnu vede </a:t>
            </a: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pokladník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Musí být starší 18 le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Musí podepsat dohodu o hmotné odpovědnost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ede pokladní knihu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orovnává účetní zápisy se skutečným stave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ystavuje na výdej peněz VPD a na příjem PPD (2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rovádí inventuru pokladny (pokladní skonto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12:26:23Z</dcterms:created>
  <dc:creator>Acer</dc:creator>
  <dc:description/>
  <dc:language>en-US</dc:language>
  <cp:lastModifiedBy>Berka</cp:lastModifiedBy>
  <dcterms:modified xsi:type="dcterms:W3CDTF">2014-02-13T08:31:38Z</dcterms:modified>
  <cp:revision>21</cp:revision>
  <dc:subject/>
  <dc:title>VY_32_INOVACE_061_Ekonomika</dc:title>
</cp:coreProperties>
</file>