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788-C09D-4057-9EEC-6171CAFC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5CF-242B-46C9-AF93-4F959EE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3FF-C833-46E6-BE27-ABA8F0B7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D73-CDFB-4492-835A-3EDB0836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CC7-DA36-44F0-8896-67A8EB07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08B0-24C4-47A0-B2D3-1314342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F4E9-F15C-4652-BF9A-70EBAF0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68FE-EBD5-4CF8-8588-EAB04D8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0605-A2DF-4000-A4FF-3798FBA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CC0F-497F-4E82-AA1C-839319CC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3DFA-0DAC-4A4D-8971-F4F61EC5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BD9-4940-4B51-B7B3-D85744A7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4360-31C2-4565-8850-8C93DBE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5BD6-D4E0-45EB-B93E-F3EA8C4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4A9E-787C-41D2-A088-B716DD0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6853-F398-4040-8236-9A1C65FB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960E-22B1-4E77-8541-A945FE38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410BC-0852-4D21-824A-990D15A6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13F94-C2A8-4060-945B-FFAF0C0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94E14-A873-48B7-AB84-7B24E73E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C2EE5-D200-421B-AFD2-617FAB12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685CC-6D96-4EC4-A6D1-AF13797A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026-050A-49B3-A4AF-094AF8BC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1EFA2-901E-4000-B131-2CB27250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F022D-24BD-4F0D-B74D-4EC671C9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99B1E-6616-40D0-8B89-7907F0CB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F7E09-47AB-42B4-B2D7-5ECDA725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3E634-9CBB-4B97-9597-56CC93A1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6D01A-ACC1-48A5-8137-7A8FA6EC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BC0C5-C874-4975-BB4F-DCED594C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93F5-16B6-448D-B0FF-CDCD79D4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A0EB-8D6C-4781-B0D7-90810D6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9FFF-BCDE-4B99-9FED-5B1CAD7C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414-5870-4296-A17F-9C3D8590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6C2C-3C0A-4330-9ACD-1A8E1E6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712B-EC7D-4058-ABEF-1DC040B9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9485-EDC9-47DB-996F-F70D1F5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F8B0-DC9C-4A78-9776-B6172C2E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A9DAE-94F5-4787-8640-421FAFF2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E29A-8D5C-4C87-BB4E-4E5C303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8A79B-FE41-4E0A-A007-B74BDA63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2D90-3C9F-47EF-9B5B-948F2F7C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B663-A75B-4FC4-94C9-AF8CC754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6284D-38D3-4DFB-97FB-0DA36405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0A1-A027-43C2-8E57-E5A9E1FA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BF1EF-3C55-4588-B556-4F121249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E4026-95C0-432D-9728-739AB261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81453-92E5-484C-A926-BE34D937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CA282-5B2D-42EA-8069-1F0873AB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F6FAB-1DD0-4A87-8337-0CAAE724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BD0CD-EE4B-4680-B168-01DFB87C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8054A-C906-4C2F-8CEE-7BB06CB4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79F54-1A86-4C91-9D9E-1D9D421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AD3B3-6DE0-4D78-B5A5-358E6C91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A6E91-F127-4E04-9C4E-D1BC6FE7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55D-19E7-4B6B-A8E4-FE7DB1B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8B12E-D3CD-4EBD-8034-AF7C333B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5CD27-464F-4EF7-9B75-7BC93979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74F09-E1DC-4A72-A336-D4D07240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3B3DC-B6F8-4E8F-B5A2-BBB2EB44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40A9B-DBAF-4439-B923-95316B95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161E7-0D95-482A-8B3F-BE415ED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1DEF8-72E6-4315-8421-3EC34B9F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4B704-A38C-4BDB-8624-872F32B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8D11D-A5E1-4D50-9393-B0729C5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CC675-CE05-45BF-964C-7278B46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89E-F0AD-4742-93AA-9B89966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8904E-27D4-43B4-9269-B3692F5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BAEC7-8524-4A86-93DE-26332613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AAB2D-25B6-4E00-A74F-78AE21B9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D29BF-9428-485A-810B-ECD40748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DB4FE-1A03-4C67-B9D4-CF9E8AE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5CC9A-6429-4C8E-BDF5-8BDA700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201B7-FF1D-47B3-81A5-45FB039B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AEDA9-8C6C-4312-84FA-421B923B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E93A1-8078-4350-827A-DBA5891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8ECDE-DCCB-4C92-AAF4-1A8491DD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C6D-9F34-467C-9376-B73BC5A1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459FF-F52C-4345-A292-3579B378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D74D2-7704-40D4-88DF-8E25D6B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F734A-79EF-4673-A58A-1761A83E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075B9-ECD0-4EF5-ACAF-B6AC982C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28631-50E9-408A-BFFC-55ECD0BC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925-F650-4DA2-8C33-FEE8353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EE7A-C36E-4B19-941E-842D3D5FFF83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ĺžni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ĺžni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ĺžni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ĺžni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vná spojnic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vná spojnic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vná spojnic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vná spojnic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vná spojnic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vná spojnic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ĺžni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á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á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á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á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á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45B9-68DA-4FDC-990F-746AB61D5351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4F6-6A8A-47C2-90CE-536F1C59D98F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ĺžni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ĺžni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vná spojnic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vná spojnic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vná spojnic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vná spojnic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vná spojnic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ĺžni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á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á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á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á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á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vná spojnic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DA9-505C-4C0D-88BB-6AE9A12A5B95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ovná spojnic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vná spojnic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vná spojnic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dĺžni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vná spojnic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á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B635-8931-4AD5-920C-23F2E1E177BD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ovná spojnic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vná spojnic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ovná spojnic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vná spojnic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ĺžni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vná spojnic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á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4F5-72C7-483D-ABF7-9B072FB2686E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vná spojnic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á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vná spojnic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dĺžni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vná spojnic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vná spojnic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vná spojnic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5EBD-ADEC-48C0-9BC7-6DE8354BFC38}" type="slidenum">
              <a:rPr b="1" lang="cs-CZ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5280" y="1912680"/>
            <a:ext cx="68421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575f6d"/>
                </a:solidFill>
                <a:latin typeface="Calibri"/>
              </a:rPr>
              <a:t>VY_32_INOVACE_091_EKONOMIK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3429000"/>
            <a:ext cx="6172200" cy="29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400" spc="-1" strike="noStrike">
                <a:solidFill>
                  <a:srgbClr val="545e70"/>
                </a:solidFill>
                <a:latin typeface="Century Schoolbook"/>
              </a:rPr>
              <a:t>NNÉ PAPÍR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45e70"/>
                </a:solidFill>
                <a:latin typeface="Century Schoolbook"/>
              </a:rPr>
              <a:t>KAPITÁLOVÉHO TRHU </a:t>
            </a:r>
            <a:br>
              <a:rPr sz="6000"/>
            </a:br>
            <a:r>
              <a:rPr b="1" lang="cs-CZ" sz="28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75f6d"/>
                </a:solidFill>
                <a:latin typeface="Calibri"/>
              </a:rPr>
              <a:t>Autor: Mgr. Roman Ber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Obrázek 3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Členění obligací podle stanovení výnosu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a3d01"/>
                </a:solidFill>
                <a:latin typeface="Century Schoolbook"/>
              </a:rPr>
              <a:t>Pevně úročené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– úrok stanoven v % nominální hodnoty, je vyplácen v předem stanoveném termínu (ročně, pololetně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a3d01"/>
                </a:solidFill>
                <a:latin typeface="Century Schoolbook"/>
              </a:rPr>
              <a:t>S pohyblivým úrokem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– úrok je stanoven podle aktuální úrokové míry na kapitálovém trh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a3d01"/>
                </a:solidFill>
                <a:latin typeface="Century Schoolbook"/>
              </a:rPr>
              <a:t>Ziskové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– úrok je závislý na zisku, kterého emitent dosáh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931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Schoolbook"/>
              </a:rPr>
              <a:t>Členění obligací podle stanovení výnosu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a3d01"/>
                </a:solidFill>
                <a:latin typeface="Century Schoolbook"/>
              </a:rPr>
              <a:t>4. </a:t>
            </a:r>
            <a:r>
              <a:rPr b="1" lang="cs-CZ" sz="1300" spc="-1" strike="noStrike">
                <a:solidFill>
                  <a:srgbClr val="9a3d01"/>
                </a:solidFill>
                <a:latin typeface="Century Schoolbook"/>
              </a:rPr>
              <a:t>  </a:t>
            </a:r>
            <a:r>
              <a:rPr b="0" lang="cs-CZ" sz="2400" spc="-1" strike="noStrike">
                <a:solidFill>
                  <a:srgbClr val="9a3d01"/>
                </a:solidFill>
                <a:latin typeface="Century Schoolbook"/>
              </a:rPr>
              <a:t>Neúročené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– emitent prodává obligaci za nižší cenu, než je cena nominální, rozdíl mezi kupní a nominální cenou je výnos kupujícího, který je vyplacen jednorázově při splacení nominální hodnoty oblig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a3d01"/>
                </a:solidFill>
                <a:latin typeface="Century Schoolbook"/>
              </a:rPr>
              <a:t>5.</a:t>
            </a:r>
            <a:r>
              <a:rPr b="0" lang="cs-CZ" sz="2400" spc="-1" strike="noStrike">
                <a:solidFill>
                  <a:srgbClr val="9a3d01"/>
                </a:solidFill>
                <a:latin typeface="Century Schoolbook"/>
              </a:rPr>
              <a:t>	</a:t>
            </a:r>
            <a:r>
              <a:rPr b="0" lang="cs-CZ" sz="2400" spc="-1" strike="noStrike">
                <a:solidFill>
                  <a:srgbClr val="9a3d01"/>
                </a:solidFill>
                <a:latin typeface="Century Schoolbook"/>
              </a:rPr>
              <a:t>Prémiové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– mohou výt i slosovatelné, mají nižší                     úrokovou mír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a3d01"/>
                </a:solidFill>
                <a:latin typeface="Century Schoolbook"/>
              </a:rPr>
              <a:t>6. </a:t>
            </a:r>
            <a:r>
              <a:rPr b="0" lang="cs-CZ" sz="2400" spc="-1" strike="noStrike">
                <a:solidFill>
                  <a:srgbClr val="9a3d01"/>
                </a:solidFill>
                <a:latin typeface="Century Schoolbook"/>
              </a:rPr>
              <a:t>Indexované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– emitent se zavazuje, že bude zvyšovat nominální hodnotu obligace podle míry inf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643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entury Schoolbook"/>
              </a:rPr>
              <a:t>Zdro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https://www.google.cz/search?q=dluhopisy&amp;biw=1143&amp;bih=672&amp;source=lnms&amp;tbm=isch&amp;sa=X&amp;ei=YFfUUdfRIIWdtAb_p4CIDA&amp;ved=0CAcQ_AUoAQ, 3. 7. 2013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464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02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5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entury Schoolbook"/>
              </a:rPr>
              <a:t>Zdro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https://www.google.cz/search?q=dluhopisy&amp;biw=1143&amp;bih=672&amp;source=lnms&amp;tbm=isch&amp;sa=X&amp;ei=YFfUUdfRIIWdtAb_p4CIDA&amp;ved=0CAcQ_AUoAQ, 3. 7. 2013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3887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1857240"/>
            <a:ext cx="76327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a3d01"/>
                </a:solidFill>
                <a:latin typeface="Century Schoolbook"/>
              </a:rPr>
              <a:t>Použitá literatura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ZLÁMAL, Jaroslav a Zdeněk MENDL.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Ekonomie nejen k maturitě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 Vyd. 1. Kralice na Hané: Computer Media, 2007, 136 s. ISBN 978-80-86686-78-3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KLÍNSKÝ, Petr a Otto MÜNCH. </a:t>
            </a:r>
            <a:r>
              <a:rPr b="0" i="1" lang="cs-CZ" sz="2000" spc="-1" strike="noStrike">
                <a:solidFill>
                  <a:srgbClr val="000000"/>
                </a:solidFill>
                <a:latin typeface="Century Schoolbook"/>
              </a:rPr>
              <a:t>Ekonomika pro obchodní akademie a ostatní střední školy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. 3., upr. vyd. Praha: Eduko, 2010-2011. ISBN 978-80-87204-38-24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75f6d"/>
                </a:solidFill>
                <a:latin typeface="Century Schoolbook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857160" y="1357200"/>
          <a:ext cx="7215120" cy="4829400"/>
        </p:xfrm>
        <a:graphic>
          <a:graphicData uri="http://schemas.openxmlformats.org/drawingml/2006/table">
            <a:tbl>
              <a:tblPr/>
              <a:tblGrid>
                <a:gridCol w="2597400"/>
                <a:gridCol w="4617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nné papíry kapitálového trhu, úv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ěrové cenné papíry 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91_Ekonom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entury Schoolbook"/>
                          <a:ea typeface="Calibri"/>
                        </a:rPr>
                        <a:t>64-41-L/51 Podnik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konomika a prá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uh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ál slouží k získání přehledu o dluhopisech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58920" y="1785960"/>
            <a:ext cx="64562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Dluhopis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entury Schoolbook"/>
              </a:rPr>
              <a:t>Člen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ění dluhopisů podle emitent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Členění dluhopisů podle stanovení výnos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75c01"/>
                </a:solidFill>
                <a:latin typeface="Century Schoolbook"/>
              </a:rPr>
              <a:t>2. roční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4674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5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5900"/>
            </a:br>
            <a:r>
              <a:rPr b="1" lang="cs-CZ" sz="29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4000" y="1844280"/>
            <a:ext cx="75596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Mezi úvěrové cenné papíry kapitálového trhu patří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Dluhopisy (obligace, bond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Hypoteční zástavní lis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Státní pokladniční poukázk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0920" y="1600200"/>
            <a:ext cx="7746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Cenné papíry, ve kterých </a:t>
            </a:r>
            <a:r>
              <a:rPr b="0" lang="cs-CZ" sz="2800" spc="-1" strike="noStrike">
                <a:solidFill>
                  <a:srgbClr val="244583"/>
                </a:solidFill>
                <a:latin typeface="Century Schoolbook"/>
              </a:rPr>
              <a:t>se vydavatel zavazuje splatit dlužnou částku a vyplácet výnosy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(úrok) k určitému dat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Často v zaknihované podob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K emisi dluhopisů je třeba </a:t>
            </a: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povolení Ministerstva financí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002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5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6920" y="1557360"/>
            <a:ext cx="7490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U dluhopisů je dána doba splatnosti (termín vrácení vložené částk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o dobu vlastnictví má majitel nárok na výplatu výnosů (obvykle roční úrok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5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5900"/>
            </a:br>
            <a:r>
              <a:rPr b="1" lang="cs-CZ" sz="29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28280"/>
            <a:ext cx="797256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Na rozdíl od majetkových cenných papírů </a:t>
            </a:r>
            <a:r>
              <a:rPr b="0" lang="cs-CZ" sz="2800" spc="-1" strike="noStrike">
                <a:solidFill>
                  <a:srgbClr val="244583"/>
                </a:solidFill>
                <a:latin typeface="Century Schoolbook"/>
              </a:rPr>
              <a:t>nemá majitel právo zasahovat do řízení společnosti emitenta,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 nepodílí se na majetku společnost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rodejem obligací získává emitent </a:t>
            </a: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prostředky na svou činnos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0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39640" y="1600200"/>
            <a:ext cx="7777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Zároveň </a:t>
            </a:r>
            <a:r>
              <a:rPr b="0" lang="cs-CZ" sz="2800" spc="-1" strike="noStrike">
                <a:solidFill>
                  <a:srgbClr val="244583"/>
                </a:solidFill>
                <a:latin typeface="Century Schoolbook"/>
              </a:rPr>
              <a:t>se zavazuje 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po uplynutí doby splatnosti </a:t>
            </a:r>
            <a:r>
              <a:rPr b="0" lang="cs-CZ" sz="2800" spc="-1" strike="noStrike">
                <a:solidFill>
                  <a:srgbClr val="244583"/>
                </a:solidFill>
                <a:latin typeface="Century Schoolbook"/>
              </a:rPr>
              <a:t>koupit obligace zpě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Obligace má svoji nominální hodnot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Kurz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 obligace se mění (na rozdíl od akcie) velmi pomalu, kurz je udáván </a:t>
            </a: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v % nominální hodno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45e70"/>
                </a:solidFill>
                <a:latin typeface="Century Schoolbook"/>
              </a:rPr>
              <a:t>CE</a:t>
            </a:r>
            <a:r>
              <a:rPr b="1" lang="cs-CZ" sz="2800" spc="-1" strike="noStrike">
                <a:solidFill>
                  <a:srgbClr val="545e70"/>
                </a:solidFill>
                <a:latin typeface="Century Schoolbook"/>
              </a:rPr>
              <a:t>NNÉ PAPÍRY KAPITÁLOVÉHO TRHU </a:t>
            </a:r>
            <a:br>
              <a:rPr sz="6600"/>
            </a:br>
            <a:r>
              <a:rPr b="1" lang="cs-CZ" sz="3200" spc="-1" strike="noStrike">
                <a:solidFill>
                  <a:srgbClr val="575f6d"/>
                </a:solidFill>
                <a:latin typeface="Century Schoolbook"/>
              </a:rPr>
              <a:t>ÚVĚROVÉ CENNÉ PAPÍRY I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a3d01"/>
                </a:solidFill>
                <a:latin typeface="Century Schoolbook"/>
              </a:rPr>
              <a:t>Dluhopisy (obligace, bond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Schoolbook"/>
              </a:rPr>
              <a:t>Členění obligací podle emitenta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Státní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 – vydávané vládou, málo rizikové, nižší úro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Komunální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 – emitují je ob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Podnikové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 – emitované podniky, rizikovější, větší úro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a3d01"/>
                </a:solidFill>
                <a:latin typeface="Century Schoolbook"/>
              </a:rPr>
              <a:t>Bankovní</a:t>
            </a:r>
            <a:r>
              <a:rPr b="0" lang="cs-CZ" sz="2800" spc="-1" strike="noStrike">
                <a:solidFill>
                  <a:srgbClr val="000000"/>
                </a:solidFill>
                <a:latin typeface="Century Schoolbook"/>
              </a:rPr>
              <a:t> – emitují je bank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16:11:28Z</dcterms:created>
  <dc:creator>Lukas</dc:creator>
  <dc:description/>
  <dc:language>en-US</dc:language>
  <cp:lastModifiedBy>Berka</cp:lastModifiedBy>
  <dcterms:modified xsi:type="dcterms:W3CDTF">2014-02-13T08:22:11Z</dcterms:modified>
  <cp:revision>36</cp:revision>
  <dc:subject/>
  <dc:title>VY_32_INOVACE_číslo přílohy_název DUMu</dc:title>
</cp:coreProperties>
</file>