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CBA-7F29-4679-8064-44C5ECDC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13DD-93D2-44C5-817C-EB79D5A4352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1CB-158A-46E3-8B9A-287BD2AB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8DB-3D0B-4895-ABC8-494EDCAB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BE81C-CD04-4A73-BAD4-C45C5A4D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6D07B-1E4C-489A-B904-39CF45D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5C5CD-CA27-4926-AFEF-7EE243F0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5A3D3-B7C5-4CC2-9D26-075FDE7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CF2ED-854E-4100-A3E2-40DD1A9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807E3-7A36-47AA-A5A1-9D40118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6E975-C612-4FCE-8407-BDB7742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3062E-209A-4978-AD44-9D3EF5D5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9BB75-12E7-4538-8C47-75309F83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37DE7-E132-4F8C-941D-E1F6CFB8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99A-9506-4872-80C5-E7F897E2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112AE-D325-4085-AB58-8605F9B2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AF59E-E781-4B85-965B-270D745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F5AC5-94E0-456E-8812-EFFC04E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0CF40-C5FC-4E08-B02C-227F9D1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8AB0C-FF88-4A6B-B2CA-34FAE8CC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1B215-3F2E-452D-AFB7-9ED02F5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6BE5D-3C37-4EF1-8381-61274D6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D1B7A-DF9D-45EC-86EE-CDD6F9D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D4CC9-555E-4F53-AE18-97375A9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DB4B2-6697-4E3E-A1D6-D78D55D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449-2B62-4EE0-AB0E-717462AE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EDC91-8E5B-4DF2-9610-351B6B7C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FA17-DD14-44F9-A41C-CE97597B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02D2-C2B1-4A7A-A5FE-00B0035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8715-E534-46A3-AF48-CB8E46D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A4E39-DBB3-4AAC-9BE6-BCB91CC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2C4FF-E184-4F0C-86D0-7CBD8D7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53CF-2CBD-4A83-AC9C-5388DB5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327F7-4B14-43E6-B78F-0B05CCB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0C695-4729-4CB9-B75B-76FCD185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0621-C1DB-4B96-A37A-C798ED0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840-8BE2-464A-91A6-A955C13E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D7CE-7CCF-4AE2-8074-4DFA4B8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F40D0-2654-4281-966A-BCBCAA79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26044-A2B4-47C5-A6C3-CF347BC8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4998F-8FB8-4703-8FD0-1BA26D6D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BDBF4-FCC7-4BA0-A7E9-F12D99E6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53518-521C-4397-8F5A-6204AD0F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3ED6F-F368-44F3-B9E9-74F0392E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931DB-15BB-4142-B366-FC1932FA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AF4A9-E659-4F15-B8B7-9A525C02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905B7-70E2-456A-AE34-0F6B791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464-8C26-49F1-99A0-804E9E8E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51F76-8CF8-44D3-AFB5-C88D6FD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7603E-DA5B-4B37-B9A9-03A62A40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3306F-3C1E-4F8A-9D69-DECD150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E483D-7900-45C7-B190-CDF0F995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34B6A-7A33-4BE1-B73E-5945591F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CBB-F3A2-4C1F-9FDE-F1BF897F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D99-4DA6-4585-8AC9-494A43FA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77F-F73E-4EDC-A9F9-4464A19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8B25-9C85-49DC-8DC9-39CDBF0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2750-F766-4716-BA02-6396CC5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A01-8184-4470-97B4-AA268C7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B9E8-6225-41A9-8D44-FB917E6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561E-4EBE-4DCB-A416-DE036B6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9088-1401-49EC-8F04-9B95158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7FED-BC44-440A-BCD7-97573573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C9F2-3116-4696-A6BE-E3945789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3AEAE-93AF-4F0F-B2E7-D3BF61C0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4D7F-D131-4C2B-9029-0784016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A71B-7E64-49E3-8054-1E40F04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92AF-AA3F-4866-A20C-F38F31A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1CF5-6DBE-419E-A0DB-4985C51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01B-296B-4FBB-8440-2BF89B19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186B-3CBF-4A6B-A8F9-FD2DADF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67E1-BC6B-4E53-8FE4-58C883E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FD2A-4377-420A-AD15-5E98204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6F9B-870E-423B-9567-AE6F13F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F9F2-8557-4615-9B32-B3CDC9E7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6FF4-2BE0-4366-901B-2AFBC45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7059-C52D-458E-A594-82E4C048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0DB27-EE8D-4EA4-8F35-BA1E01E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8851-3984-49D9-9A7B-327731C5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FAB4-52CA-4A97-B848-7887014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0EC-30A5-4157-B340-9243CE86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CBE8-6D90-41E2-B90A-E0ED1070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AABE-D9B7-43CE-98DF-48E2076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36E8-BF7C-455F-B09B-9CD0706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FE1B-BFB2-4F0E-9AA0-482D762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3E72-7339-480C-B089-4A8F7D0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A19B-F479-4EBC-BC3B-D9A0E98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21BF-C29A-4B8A-B11D-EC0264D9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321E-703A-490B-96A2-5DA38176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F179-60B3-4B91-B7AE-6A867AB4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81CA-159E-45FD-88E7-7179E33D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BE5-7CA7-411C-B239-B6CE3DF9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09AA-C7A9-4ED7-AA84-FA9E905B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5A419-5B99-471F-90EB-0A6A0CFD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B504-4CCE-4FA0-950B-3BED7B9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337CA-9047-4A86-8A8A-9EC9CFF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9545-F3AB-4618-BFA0-7CBC208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4BC81-C5A4-4CDB-ADA3-3F8379D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3A94-661E-4904-BC8B-D651354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7E2CD-AFFD-4D29-89D3-101F9E3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2707-5247-41FD-A7D3-1F203D3F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5FDC-18EC-4AA4-843F-53F73F43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19B-9132-4B55-A46C-B30533A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B718F-A338-43E5-9F45-D23CE7BF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F12C-681A-4B1E-9AAF-B5A6369B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9E5E-F7B6-45AD-9F0A-3789B66A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3372D-805D-44DF-B59C-C7E9E47B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57D8-A23D-486D-83BE-D1C19A4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1401A-B5DB-4CE6-88ED-DDA93CB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C947-83A3-41C5-A1FA-F18E2E1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4C3A-907F-4508-80C6-798EC80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4D55-521C-4C02-B6DD-FF745597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5D39-307A-4230-9263-59B913D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DF9-6A4B-4BE5-BEC6-0823562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C9FC-EE15-4098-88D3-02285098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45C3-5489-40C8-A654-69D25C09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987E-67D2-4653-9B93-4FFF80AC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6850-5FD1-4E18-B252-56200DD2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C7A6-8648-417D-8DBD-0A9A6442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E51F-71F6-42DB-AF6C-A977A8D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0060-8E12-482E-9C77-8FAD2AB2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BFBC-74CA-4F14-AADD-92C0720F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9721B-D075-417C-94AB-7DE25E53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5C00-1442-4A40-818E-970BBE4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9E8-CAD0-41D5-AA96-2E566E2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B32A-EE46-429E-ABEF-6B3E468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DC53-C5EE-4923-AC2C-625F175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C9F0-6099-4BFB-8AAD-BD80E18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0CBC-DADF-4B15-B2C1-FF029B69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5BDA-7ABB-40BF-8FFE-6533C09C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37216-5FEF-48B9-842B-2CD58552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C538-04A7-4D43-9354-56E85BB4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1687-FCFE-4DED-BB5A-1E0B432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C60FB-A4EF-435C-B799-099C567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2478-37F4-4062-9C3A-19A1746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04D-8476-4AD3-A0B8-F835CF5E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8FE4-46A8-4B55-8C1A-8AA90D8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4455-A6A2-4326-833E-26A99BF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5E5C8-3FF2-489A-AC33-604CFCF8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0D720-DBB0-4642-BE28-13DD061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08A4-8743-4A36-907E-9D8DB3E9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6F039-89F2-4AC3-B580-6DD328A3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8DFF-476E-43A5-B6D0-6447C1EC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113DA-7E6E-46C4-A104-69F8A5BC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E0A4C-7B0C-4B76-99F2-602F251B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885E1-0AD4-49B6-A7B0-1E3F2C2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DF61-F0A7-4413-BE72-8190CED5D89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nice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á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á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701-EC33-4513-81C3-E6E330DF5195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6ED8-09E9-4275-9726-F6044AD7425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nice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á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á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DB5E-D380-4C21-9E31-9447C94715C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nice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á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á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DFB-5869-42CF-B975-C395DBE98BD8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4A7-9D20-4639-929C-ABEC9796B6E2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nice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á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á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C2E-E798-4D52-BA89-F9602D01E28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nice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F76-D5D4-445A-81AD-9B820499493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nice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nice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á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á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792-4A37-46EC-B58E-FFB480BE5E36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4C6-44B2-4336-ACD5-1AF9DC27764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1F4-0485-4912-842A-8F919912C353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nice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á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á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F7FD-9155-480B-8343-FC7608E563E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4360" y="4076640"/>
            <a:ext cx="763272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646b86"/>
                </a:solidFill>
                <a:latin typeface="Georgia"/>
              </a:rPr>
              <a:t>PLATEBNÍ STYK II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646b86"/>
                </a:solidFill>
                <a:latin typeface="Georgia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3600" spc="-1" strike="noStrike">
                <a:solidFill>
                  <a:srgbClr val="d16349"/>
                </a:solidFill>
                <a:latin typeface="Calibri"/>
              </a:rPr>
              <a:t>VY_32_INOVACE_100_Ekonomika</a:t>
            </a:r>
            <a:br>
              <a:rPr sz="48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Obrázek 3" descr=""/>
          <p:cNvPicPr/>
          <p:nvPr/>
        </p:nvPicPr>
        <p:blipFill>
          <a:blip r:embed="rId1"/>
          <a:stretch/>
        </p:blipFill>
        <p:spPr>
          <a:xfrm>
            <a:off x="167652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8360" y="1628640"/>
            <a:ext cx="8207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latební styk ve vztahu k zahranič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Georgia"/>
              </a:rPr>
              <a:t>Dokumentární inkas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Z pohledu banky zprostředkovatelská činnost,  která je prováděna na žádost prodávajícího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užívá se běžně v tržních ekonomikách u dlouhodobých zavedených obchodních styků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e upraveno těmito předpisy: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Obchodní zákoník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Zákon směnečný a šekov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Mezinárodní pravidla pro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inkasa (URC 522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/P – vydat dokumenty proti zaplacení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/A – závazek kryt směnkou (dokumenty proti akceptaci směnky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10920" y="1699920"/>
            <a:ext cx="81946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6349"/>
                </a:solidFill>
                <a:latin typeface="Georgia"/>
              </a:rPr>
              <a:t>Platební styk ve vztahu k zahraničí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Dokumentární inkas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Fáz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1. Předání příkazu bance a odeslání dokument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2. Předložení dokladů a úhrada (banka sdělí odběrateli podmínky předání dokumentů, po provedení platby je banka vydá)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8360" y="1628280"/>
            <a:ext cx="8337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d16349"/>
                </a:solidFill>
                <a:latin typeface="Georgia"/>
              </a:rPr>
              <a:t>Dokumentární inkas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dokument%C3%A1rn%C3%AD+inkaso+sch%C3%A9ma&amp;oq=dokument%C3%A1rn%C3%AD+inkaso&amp;gs_l=img.1.1.0j0i24l4.1008945.1016192.2.1019143.24.15.1.8.9.0.168.1352.7j6.13.0....0...1c.1.21.img.uQV-l4oCDSQ&amp;bav=on.2,or.r_qf.&amp;fp=43251c20bd5f5c0a&amp;biw=1366&amp;bih=610&amp;imgdii=_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76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39280" y="1699920"/>
            <a:ext cx="82882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6349"/>
                </a:solidFill>
                <a:latin typeface="Georgia"/>
              </a:rPr>
              <a:t>Platební styk ve vztahu k zahranič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Georgia"/>
              </a:rPr>
              <a:t>Dokumentární akreditiv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římý závazek banky odběratele, že poskytne úhradu za zboží nebo služby po splnění akreditivních podmíne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Georgia"/>
              </a:rPr>
              <a:t>Předpisy:</a:t>
            </a:r>
            <a:r>
              <a:rPr b="1" i="1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chodní zákoní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Jednotné zvyklosti a pravidla pro dokumentární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akreditiv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Georgia"/>
              </a:rPr>
              <a:t>Druhy:</a:t>
            </a:r>
            <a:r>
              <a:rPr b="1" i="1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a) odvolatelný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podmínky mohou být změněny nebo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zrušeny bez souhlasu příjemce kdykoliv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b) neodvolatelný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změněn nebo zrušen pouze se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ouhlasem všech str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c) potvrzený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za platbu ručí obě bank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d) avizovaný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banka odběrateli pouze oznamuje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mínky, tím akreditiv zprostředkovává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39640" y="1527120"/>
            <a:ext cx="8266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latební styk ve vztahu k zahranič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Dokumentární akrediti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Fáze: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1. Sjednání podmínek mezi oběma stranam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2. Otevření dokumentárního akreditivu – banka otevře na základě písemné smlouvy s příkazc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3. Realizace akreditivu – při splnění podmínek může být čerpána akreditivní částka, dokumenty jsou bankou řádně kontrolován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24000" y="1699920"/>
            <a:ext cx="85039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Dokumentární akreditiv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dokument%C3%A1rn%C3%AD+akreditiv+sch%C3%A9ma&amp;oq=dokument%C3%A1rn%C3%AD+akreditiv+sch%C3%A9ma&amp;gs_l=img.12..0.856120.870762.4.873607.15.15.0.0.0.0.143.1294.12j3.15.0....0...1c.1.21.img._WD6IHT9feE&amp;bav=on.2,or.r_qf.&amp;fp=fd18d61f0be1a13c&amp;biw=1366&amp;bih=610&amp;imgdii=_,</a:t>
            </a:r>
            <a:r>
              <a:rPr b="1" lang="cs-CZ" sz="13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6624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39640" y="1557000"/>
            <a:ext cx="8266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Dokumenty používané při dokumentárních platbá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Dopravn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– siliční nebo nákladní list, říční námořní list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ojistné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– pojistka, pojistný certifikát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Skladovací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– skladištní list, zemědělský skladní list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Obchodní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– faktura, dodací list, osvědčení o původu zboží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4000" y="1699920"/>
            <a:ext cx="784836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oužitá literatur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3., upr. vyd. Praha: Eduko, 2010-2011. ISBN 978-80-87204-38-24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e nejen k maturitě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d. 1. Kralice na Hané: Computer Media, 2007, 136 s. ISBN 978-80-86686-78-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07520"/>
            <a:ext cx="853452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b9899"/>
                </a:solidFill>
                <a:latin typeface="Georgia"/>
              </a:rPr>
              <a:t>Záznamový list výukového materiálu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57200" y="1600200"/>
          <a:ext cx="8229600" cy="49338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latební styk I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Y_32_INOVACE_100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.1.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ateriál slouží k získání přehledu o platbách zprostředkovaných poštou a platebním styku se zahraničím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55280" y="2349360"/>
            <a:ext cx="777708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latby zprostředkované pošto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latební styk se zahraničí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d16349"/>
                </a:solidFill>
                <a:latin typeface="Georgia"/>
              </a:rPr>
              <a:t>2. roční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95280" y="162864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6349"/>
                </a:solidFill>
                <a:latin typeface="Georgia"/>
              </a:rPr>
              <a:t>Platby zprostředkované pošto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 platebnímu styku prostřednictvím pošty se používají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štovní poukázk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štovní poukázky: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d16349"/>
                </a:solidFill>
                <a:latin typeface="Georgia"/>
              </a:rPr>
              <a:t>Poukázka 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vplácí se v hotovosti, částku připíše banka na úče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d16349"/>
                </a:solidFill>
                <a:latin typeface="Georgia"/>
              </a:rPr>
              <a:t>Poukázka 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vplácí se převodem z účtu u banky, částku vyplatí pošta v hotovosti (podává se písemnou formou nebo se údaje předají datovou formou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d16349"/>
                </a:solidFill>
                <a:latin typeface="Georgia"/>
              </a:rPr>
              <a:t>Poukázka 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vplácí i vyplácí se v hotov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d16349"/>
                </a:solidFill>
                <a:latin typeface="Georgia"/>
              </a:rPr>
              <a:t>Poukázka D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- poukázka s urychlenou výplatou (ve lhůtě jednoho prac. dne) – vplácí i  vyplácí se v hotovosti („rychlé C“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699920"/>
            <a:ext cx="85042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d16349"/>
                </a:solidFill>
                <a:latin typeface="Georgia"/>
              </a:rPr>
              <a:t>Platby zprostředkované poštou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SIPO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ružené 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kasní 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lacení </a:t>
            </a: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yvatelstva, poskytuje Česká pošt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a jednom SIPO dokladu provedeme všechny platby (voda, plyn, nájem, pojistné, aj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a základě jednoho přiděleného čísla (tzv. spojovací číslo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hotově u přepážky na poště nebo u doručovatele, lze i bezhotovostn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1628280"/>
            <a:ext cx="820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d16349"/>
                </a:solidFill>
                <a:latin typeface="Georgia"/>
              </a:rPr>
              <a:t>Poštovní poukázka 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po%C5%A1tovn%C3%AD+pouk%C3%A1zka+a&amp;oq=po%C5%A1tovn%C3%AD+pouk%C3%A1zka+a&amp;gs_l=img.3..0l7j0i24l3.7308976.7316271.5.7317049.31.15.0.8.8.1.277.1577.2j5j3.10.0....0...1c.1.21.img.RJDmdXxZpqE&amp;bav=on.2,or.r_qf.&amp;fp=ed52ce9d649bd2e1&amp;biw=1366&amp;bih=610&amp;imgdii=_,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912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68360" y="1628280"/>
            <a:ext cx="8337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oštovní poukázka 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po%C5%A1tovn%C3%AD+pouk%C3%A1zka+b&amp;oq=po%C5%A1tovn%C3%AD+pouk%C3%A1zka+b&amp;gs_l=img.3..0l2j0i24.164269.164730.7.166432.2.2.0.0.0.0.159.285.0j2.2.0....0...1c.1.21.img.oKo43aEeyhA&amp;bav=on.2,or.r_qf.&amp;fp=e18f01553e373460&amp;biw=1366&amp;bih=610&amp;facrc=_&amp;imgdii=_&amp;imgrc=NsmcnwZjT9ji7M%3A%3Br2wQ5WiRDMPa2M%3Bhttp%253A%252F%252Fwww.ceskaposta.cz%252Fassets%252Fsluzby%252Fpenezni-sluzby%252Fcr%252Fpoukazka_c.jpg%3Bhttp%253A%252F%252Fwww.ceskaposta.cz%252Fcz%252Fsluzby%252Fpenezni-sluzby%252Fcr%252Fpostovni-poukazka-c-id257%252F%3B575%3B287, </a:t>
            </a:r>
            <a:r>
              <a:rPr b="1" lang="cs-CZ" sz="11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33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3964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d16349"/>
                </a:solidFill>
                <a:latin typeface="Georgia"/>
              </a:rPr>
              <a:t>SIPO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sipo&amp;oq=sipo&amp;gs_l=img.3..0l5j0i24l5.3000.6524.0.8148.25.11.0.0.0.3.495.2347.0j3j4-4.7.0....0...1c.1.21.img.pFZw9oI-KaQ&amp;bav=on.2,or.r_qf.&amp;fp=438770c2cdeed0da&amp;biw=1366&amp;bih=610&amp;imgdii=_,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626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39640" y="1844640"/>
            <a:ext cx="826632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latební styk ve vztahu k zahranič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Mezinárodní platební styk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a) nedokumentární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- šeky, hladký plat, směnky, hotovostně, aj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nostro účet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(„náš účet“) – česká banka má účet u zahraniční banky v cizí měně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Georgia"/>
              </a:rPr>
              <a:t>loro účet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(„jejich účet“) – zahraniční banka má účet např. u KB v ČR           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b) dokumentární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inkaso, akreditiv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2:26:23Z</dcterms:created>
  <dc:creator>Acer</dc:creator>
  <dc:description/>
  <dc:language>en-US</dc:language>
  <cp:lastModifiedBy>Berka</cp:lastModifiedBy>
  <dcterms:modified xsi:type="dcterms:W3CDTF">2014-02-13T08:32:40Z</dcterms:modified>
  <cp:revision>35</cp:revision>
  <dc:subject/>
  <dc:title>VY_32_INOVACE_061_Ekonomika</dc:title>
</cp:coreProperties>
</file>