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9B05-29FE-491D-B434-D58DC7704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E0AD-75A7-4CE8-BB77-1B968807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E028-7F4E-4C73-98D3-110C7EDF1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7E62-8D02-4CFF-8207-B793D07C4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DECB-9706-4E63-8087-A8887E0B0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4D4D-AB29-41A5-93D8-C5969576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C81B-E776-437C-B3E5-F8991C7C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2014-D15C-456B-9183-A23DBE96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1549-72B5-4FDB-8232-599E7902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E77D-2FFE-41C6-BE12-9D00712F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64A2-2761-41B3-BB7C-B3FBDF3B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92FD-727A-492B-9EDB-A201AF2D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54B3-BB23-42AE-99B4-903ABD63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D72A-3AB1-45E4-BF0F-4992EEE7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0256-3CA0-47DD-89F3-F23461DC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0A7F-5A11-4F24-96D7-8D380851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4365-BDB0-444A-9B2D-8B6669F4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63BAB-ECA2-4F1A-9211-F27C4EEA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83D11-8E38-49BF-A0EB-142C3B9F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CBA16-73C5-4976-BE28-61CB9EDB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4752C-0B2D-4CDA-AEEE-43B0BAEA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EF387-77CC-4FF9-A1E5-899562DE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3411-72B6-445C-BAA1-356A89AD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74F7A-2E02-4DCC-889C-BBC48DF7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6752B-6099-4028-B12A-1198F49F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D9246-05FF-4FCC-8327-2555E32F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A940F-F0A6-4F80-BEF6-12A0CD0D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42275-9AFD-4681-9B52-58EB2E7E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5E7D1-C135-4ECB-8EB9-072CBD1B8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707BF-A6AD-4905-B22F-52BEEF4F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5BE5C-FC23-42BE-97BD-360DDD09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99F87-C814-4B47-AF25-A47ADB2B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C8D56-E3B8-416D-A616-EBBAAED3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A944-8915-4FF2-A646-3F1D4F22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4E2B5-3A2D-4645-8DD9-513FD29F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A9164-AA56-494C-8763-D925BFBD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D8FF3-7D8B-4B20-9277-AC0C751D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89017-3D44-4CE7-8E54-7A72FACD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7195C-0DED-404F-A6A9-93BD71CC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4093D-DE74-4BBC-A44A-45AC7386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76594-4BB8-4C05-BEB5-6557927A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D1A82-73FB-47D2-98CF-995D99343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0A5F5-004A-487D-B748-74CEDBFD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D265A-5C32-47B6-BC83-65061FB9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1B23-09C4-44A2-A468-4B5C13CD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B41C3-1D83-45CA-B958-2C82D3C2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DE609-098B-4F0F-860D-1CAB8620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BCB95-1CA8-4658-AE10-8ABCE887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94AD0-DDC1-4CFB-BC2B-E7EBAB90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82A78-AA10-4A44-8644-A93C0D6A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B3A70-4AF3-45EF-868D-1D13D08D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0A532-36D2-4F12-840D-AAA12F03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5E4B3-F800-45E9-A46D-F9DA0366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05798-49A3-4A25-9652-E01AE86C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52800-663F-4A67-B8D0-B242A6182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CCF7-C12A-4379-A6C8-F0152252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52686-A79E-4A8C-AD35-1CDA8EC1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E83AF-C8C2-4EFD-AFDC-C9A11F7D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7257F-B85B-4D2D-805E-F86D979C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133EC-2306-40B9-B3CA-6CF33F59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333B8-2521-4F50-AF96-806B3377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49334-C117-4338-969C-6D02C8BA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CF89E-8476-4F47-9A5D-044C0B61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7B24B-7EDF-45C4-B61E-5B15DBCF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6F5D7-357D-446A-A09D-7CBAEA55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0D464-92D0-497D-89BC-C5A8864B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56E1-5F32-4F04-8102-577F3961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ED5BE-2906-4355-86F6-2B291806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95674-3581-4EDC-8558-39A1E6355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41724-C563-4CB8-AF09-6AF40A293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F3D50-F600-455D-8849-DD19FAB0D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CEAB2-59C6-4A58-9DCC-EC8A0DD1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70D32-D328-4C9A-A7DA-578ACEDA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60FEC-0C35-4199-BFD0-99E19542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33A70-AD98-4076-BFBC-1B7B08BB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91218-6639-46A2-9B3D-952C055C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ADD04-A732-46D6-A8E3-396F7CA5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B836-9E39-4EDC-805D-5FC67C53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C0D5D-A9C4-4C65-8C00-40AC973A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C8987-3B11-4A28-94E8-235ADA8F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26681-6BD6-4AA3-A57C-F8DF9C0D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AEBB3-FAFA-4E99-88D0-D5B0C28E6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E42BE-0C4A-46E4-8037-F8358F453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35AA-FF1F-4114-B135-578D778F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0AA2-206F-4946-B788-5D097CBB39DC}" type="slidenum">
              <a:rPr b="0" lang="cs-CZ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bdélník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Obdélník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Obdélník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Obdélník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Obdélník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Obdélník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Obdélník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Obdélník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Obdélník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FE84-8683-4392-AD53-BF83DE283CA6}" type="slidenum">
              <a:rPr b="0" lang="cs-CZ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Volný tvar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Volný tvar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Volný tvar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Volný tvar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Volný tvar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Volný tvar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Volný tvar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Volný tvar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Volný tvar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Volný tvar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Volný tvar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Volný tvar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Volný tvar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Volný tvar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Volný tvar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Obdélník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Obdélník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Obdélník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Obdélník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Obdélník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Obdélník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7375-6409-4222-8A8E-B78E8977D1CE}" type="slidenum">
              <a:rPr b="0" lang="cs-CZ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3194-472B-4BAF-9BF3-8EE5D36A2065}" type="slidenum">
              <a:rPr b="0" lang="cs-CZ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Obdélník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Obdélník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Obdélník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Obdélník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Obdélník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Obdélník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Obdélník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Obdélník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Obdélník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Obdélník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BA5C-08AC-4F4A-AD22-26587677E2E4}" type="slidenum">
              <a:rPr b="0" lang="cs-CZ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AA6D-89BC-47E5-A865-F23E377501F2}" type="slidenum">
              <a:rPr b="0" lang="cs-CZ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Obdélník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římá spojnice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15" name="Skupina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316" name="Přímá spojnice 20"/>
            <p:cNvSpPr/>
            <p:nvPr/>
          </p:nvSpPr>
          <p:spPr>
            <a:xfrm>
              <a:off x="8578080" y="12175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Přímá spojnice 23"/>
            <p:cNvSpPr/>
            <p:nvPr/>
          </p:nvSpPr>
          <p:spPr>
            <a:xfrm>
              <a:off x="8516520" y="1282680"/>
              <a:ext cx="95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Přímá spojnice 24"/>
            <p:cNvSpPr/>
            <p:nvPr/>
          </p:nvSpPr>
          <p:spPr>
            <a:xfrm flipV="1">
              <a:off x="8578080" y="12823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19" name="Skupina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320" name="Přímá spojnice 26"/>
            <p:cNvSpPr/>
            <p:nvPr/>
          </p:nvSpPr>
          <p:spPr>
            <a:xfrm>
              <a:off x="8731080" y="137016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1" name="Přímá spojnice 27"/>
            <p:cNvSpPr/>
            <p:nvPr/>
          </p:nvSpPr>
          <p:spPr>
            <a:xfrm>
              <a:off x="8669520" y="1435320"/>
              <a:ext cx="954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2" name="Přímá spojnice 28"/>
            <p:cNvSpPr/>
            <p:nvPr/>
          </p:nvSpPr>
          <p:spPr>
            <a:xfrm flipV="1">
              <a:off x="8731080" y="143496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23" name="Skupina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324" name="Přímá spojnice 30"/>
            <p:cNvSpPr/>
            <p:nvPr/>
          </p:nvSpPr>
          <p:spPr>
            <a:xfrm>
              <a:off x="8382960" y="14731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5" name="Přímá spojnice 31"/>
            <p:cNvSpPr/>
            <p:nvPr/>
          </p:nvSpPr>
          <p:spPr>
            <a:xfrm>
              <a:off x="8321400" y="1538280"/>
              <a:ext cx="95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Přímá spojnice 32"/>
            <p:cNvSpPr/>
            <p:nvPr/>
          </p:nvSpPr>
          <p:spPr>
            <a:xfrm flipV="1">
              <a:off x="8382960" y="15379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A388-9861-4428-9BC5-8FC62A8931C4}" type="slidenum">
              <a:rPr b="0" lang="cs-CZ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Nadpis 1" descr=""/>
          <p:cNvPicPr/>
          <p:nvPr/>
        </p:nvPicPr>
        <p:blipFill>
          <a:blip r:embed="rId1"/>
          <a:stretch/>
        </p:blipFill>
        <p:spPr>
          <a:xfrm>
            <a:off x="682560" y="3584520"/>
            <a:ext cx="8083440" cy="294948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847800" y="19602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Calibri"/>
              </a:rPr>
              <a:t>VY_32_INOVACE_083_Ekonomika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0" name="Obrázek 3" descr=""/>
          <p:cNvPicPr/>
          <p:nvPr/>
        </p:nvPicPr>
        <p:blipFill>
          <a:blip r:embed="rId2"/>
          <a:stretch/>
        </p:blipFill>
        <p:spPr>
          <a:xfrm>
            <a:off x="1692360" y="476280"/>
            <a:ext cx="6083280" cy="14842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ccff"/>
                </a:solidFill>
                <a:latin typeface="Consolas"/>
              </a:rPr>
              <a:t>NÁRODNÍ HOSPODÁŘSTVÍ II.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4000" y="1052640"/>
            <a:ext cx="81356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ccff"/>
                </a:solidFill>
                <a:latin typeface="Corbel"/>
              </a:rPr>
              <a:t>Hodnocení úrovně NH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Corbel"/>
              </a:rPr>
              <a:t>8. Inflace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– </a:t>
            </a:r>
            <a:r>
              <a:rPr b="0" lang="cs-CZ" sz="2800" spc="-1" strike="noStrike">
                <a:solidFill>
                  <a:srgbClr val="00ccff"/>
                </a:solidFill>
                <a:latin typeface="Corbel"/>
              </a:rPr>
              <a:t>je projev ekonomické nerovnováhy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, která se projevuje růstem cenové hladiny spotřebního zboží (znehodnocení peněz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                                 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cenová hladina letos – cenová hladina loni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Míra inflace = ------------------------------------------------------------ x 100 (%)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cenová hladina loni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Corbel"/>
              </a:rPr>
              <a:t>Stupně inflace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ccff"/>
                </a:solidFill>
                <a:latin typeface="Corbel"/>
              </a:rPr>
              <a:t>Mírná 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(do 10 %) – lidé věří penězů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ccff"/>
                </a:solidFill>
                <a:latin typeface="Corbel"/>
              </a:rPr>
              <a:t>Pádivá 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(do 100 %) – lidé přestávají věřit pěnězům (investice do hmotných statků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ccff"/>
                </a:solidFill>
                <a:latin typeface="Corbel"/>
              </a:rPr>
              <a:t>Hyperinflace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 (naprostý pád ekonomiky – peníze přestaly plnit svou funkci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ccff"/>
                </a:solidFill>
                <a:latin typeface="Consolas"/>
              </a:rPr>
              <a:t>NÁRODNÍ HOSPODÁŘSTVÍ II.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ccff"/>
                </a:solidFill>
                <a:latin typeface="Corbel"/>
              </a:rPr>
              <a:t>Nástroje a cíle hospodářské politiky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orbel"/>
              </a:rPr>
              <a:t>Hlavními nositeli hospodářské politiky je stát a jeho orgány. Vláda má možnost </a:t>
            </a:r>
            <a:r>
              <a:rPr b="0" i="1" lang="cs-CZ" sz="3200" spc="-1" strike="noStrike">
                <a:solidFill>
                  <a:srgbClr val="00ff00"/>
                </a:solidFill>
                <a:latin typeface="Corbel"/>
              </a:rPr>
              <a:t>ovlivňovat – usměrňovat – přihlížet</a:t>
            </a:r>
            <a:r>
              <a:rPr b="0" lang="cs-CZ" sz="3200" spc="-1" strike="noStrike">
                <a:solidFill>
                  <a:srgbClr val="00ff00"/>
                </a:solidFill>
                <a:latin typeface="Corbe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Corbel"/>
              </a:rPr>
              <a:t>hospodářské situaci.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ccff"/>
                </a:solidFill>
                <a:latin typeface="Consolas"/>
              </a:rPr>
              <a:t>NÁRODNÍ HOSPODÁŘSTVÍ II.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84000" y="1052280"/>
            <a:ext cx="81356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ccff"/>
                </a:solidFill>
                <a:latin typeface="Corbel"/>
              </a:rPr>
              <a:t>Nástroje a cíle hospodářské politiky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Corbel"/>
              </a:rPr>
              <a:t>Metody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Corbel"/>
              </a:rPr>
              <a:t>Keynesiánsky ovlivňována hospodářská</a:t>
            </a:r>
            <a:r>
              <a:rPr b="1" lang="cs-CZ" sz="28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- málo stabilní a vyžaduje z části zásahy do ekonomiky,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- za zdroj potíží se považuje nedostatek poptávky na trhu,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- uplatňuje se využitím </a:t>
            </a:r>
            <a:r>
              <a:rPr b="0" lang="cs-CZ" sz="2400" spc="-1" strike="noStrike">
                <a:solidFill>
                  <a:srgbClr val="00ccff"/>
                </a:solidFill>
                <a:latin typeface="Corbel"/>
              </a:rPr>
              <a:t>„fiskální (rozpočtové) politiky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“ – přeceňuje se vliv státního rozpočtu na ovlivňování národní ekonomiky) – ze SR jsou dotovány státní podniky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Corbel"/>
              </a:rPr>
              <a:t>Konzervativní způsob (monetární)</a:t>
            </a:r>
            <a:r>
              <a:rPr b="1" lang="cs-CZ" sz="28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- zdrojem potíží je inflace (zdražování),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- věří v sílu tržního mechanismu a iniciativu občanů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ccff"/>
                </a:solidFill>
                <a:latin typeface="Consolas"/>
              </a:rPr>
              <a:t>NÁRODNÍ HOSPODÁŘSTVÍ II.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755280" y="1125360"/>
            <a:ext cx="79311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ccff"/>
                </a:solidFill>
                <a:latin typeface="Corbel"/>
              </a:rPr>
              <a:t>Cíle hospodářské politiky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orbel"/>
              </a:rPr>
              <a:t>V současné době tzv. </a:t>
            </a:r>
            <a:r>
              <a:rPr b="0" i="1" lang="cs-CZ" sz="3200" spc="-1" strike="noStrike">
                <a:solidFill>
                  <a:srgbClr val="00ff00"/>
                </a:solidFill>
                <a:latin typeface="Corbel"/>
              </a:rPr>
              <a:t>„magický čtyřúhelník“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ccff"/>
                </a:solidFill>
                <a:latin typeface="Corbel"/>
              </a:rPr>
              <a:t>1. Plná zaměstnanost</a:t>
            </a:r>
            <a:r>
              <a:rPr b="0" lang="cs-CZ" sz="3200" spc="-1" strike="noStrike">
                <a:solidFill>
                  <a:srgbClr val="ffffff"/>
                </a:solidFill>
                <a:latin typeface="Corbel"/>
              </a:rPr>
              <a:t> – připouští se 2 - 6 % nezaměstnanosti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ccff"/>
                </a:solidFill>
                <a:latin typeface="Corbel"/>
              </a:rPr>
              <a:t>2. Cenová stabilita</a:t>
            </a:r>
            <a:r>
              <a:rPr b="0" lang="cs-CZ" sz="3200" spc="-1" strike="noStrike">
                <a:solidFill>
                  <a:srgbClr val="ffffff"/>
                </a:solidFill>
                <a:latin typeface="Corbel"/>
              </a:rPr>
              <a:t> – do 2 % cenového růstu za rok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ccff"/>
                </a:solidFill>
                <a:latin typeface="Corbel"/>
              </a:rPr>
              <a:t>3. Růst ekonomiky</a:t>
            </a:r>
            <a:r>
              <a:rPr b="0" lang="cs-CZ" sz="3200" spc="-1" strike="noStrike">
                <a:solidFill>
                  <a:srgbClr val="ffffff"/>
                </a:solidFill>
                <a:latin typeface="Corbel"/>
              </a:rPr>
              <a:t> – růst HDP/obyv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ccff"/>
                </a:solidFill>
                <a:latin typeface="Corbel"/>
              </a:rPr>
              <a:t>4. Hospodářská rovnováha se zahraničím</a:t>
            </a:r>
            <a:r>
              <a:rPr b="0" lang="cs-CZ" sz="3200" spc="-1" strike="noStrike">
                <a:solidFill>
                  <a:srgbClr val="ffffff"/>
                </a:solidFill>
                <a:latin typeface="Corbel"/>
              </a:rPr>
              <a:t> – rovnováha platební bilance, udržení či zvýšení zásob zlata, volná směnitelnost měn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ccff"/>
                </a:solidFill>
                <a:latin typeface="Consolas"/>
              </a:rPr>
              <a:t>NÁRODNÍM HOSPODÁŘSTVÍ II.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0920" y="980640"/>
            <a:ext cx="8281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ccff"/>
                </a:solidFill>
                <a:latin typeface="Corbel"/>
              </a:rPr>
              <a:t>Nástroje hospodářské politiky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33520" indent="-533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Čím stát dosahuje těchto cílů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Corbel"/>
              </a:rPr>
              <a:t>1. Rozpočtová (fiskální) politika</a:t>
            </a:r>
            <a:r>
              <a:rPr b="1" lang="cs-CZ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– je realizována prostřednictvím státního rozpočtu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ccff"/>
                </a:solidFill>
                <a:latin typeface="Corbel"/>
              </a:rPr>
              <a:t>Státní rozpočet je u nás zákonem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, který schvaluje Poslanecká sněmovna na každý fiskální rok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Corbel"/>
              </a:rPr>
              <a:t>Má 2 strany: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cs-CZ" sz="2400" spc="-1" strike="noStrike">
                <a:solidFill>
                  <a:srgbClr val="00ccff"/>
                </a:solidFill>
                <a:latin typeface="Corbel"/>
              </a:rPr>
              <a:t>- příjmovou 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(daně, poplatky, clo),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                                    </a:t>
            </a:r>
            <a:r>
              <a:rPr b="0" lang="cs-CZ" sz="2400" spc="-1" strike="noStrike">
                <a:solidFill>
                  <a:srgbClr val="00ccff"/>
                </a:solidFill>
                <a:latin typeface="Corbel"/>
              </a:rPr>
              <a:t>- výdajovou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 (terciální sféra – školství, zdravotnictví)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Corbel"/>
              </a:rPr>
              <a:t>Může mít 3 podoby: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400" spc="-1" strike="noStrike">
                <a:solidFill>
                  <a:srgbClr val="00ccff"/>
                </a:solidFill>
                <a:latin typeface="Corbel"/>
              </a:rPr>
              <a:t>- přebytkový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 (P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Arial"/>
              </a:rPr>
              <a:t>&gt;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  <a:ea typeface="Arial"/>
              </a:rPr>
              <a:t> V),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  <a:ea typeface="Arial"/>
              </a:rPr>
              <a:t>                                                  </a:t>
            </a:r>
            <a:r>
              <a:rPr b="0" lang="cs-CZ" sz="2400" spc="-1" strike="noStrike">
                <a:solidFill>
                  <a:srgbClr val="00ccff"/>
                </a:solidFill>
                <a:latin typeface="Corbel"/>
                <a:ea typeface="Arial"/>
              </a:rPr>
              <a:t>- vyrovnaný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  <a:ea typeface="Arial"/>
              </a:rPr>
              <a:t>   (P = V),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  <a:ea typeface="Arial"/>
              </a:rPr>
              <a:t>                                                  </a:t>
            </a:r>
            <a:r>
              <a:rPr b="0" lang="cs-CZ" sz="2400" spc="-1" strike="noStrike">
                <a:solidFill>
                  <a:srgbClr val="00ccff"/>
                </a:solidFill>
                <a:latin typeface="Corbel"/>
                <a:ea typeface="Arial"/>
              </a:rPr>
              <a:t>- schodkový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  <a:ea typeface="Arial"/>
              </a:rPr>
              <a:t>   (P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Arial"/>
              </a:rPr>
              <a:t>&lt;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  <a:ea typeface="Arial"/>
              </a:rPr>
              <a:t> V)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ccff"/>
                </a:solidFill>
                <a:latin typeface="Consolas"/>
              </a:rPr>
              <a:t>NÁRODNÍM HOSPODÁŘSTVÍ II.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84360" y="1052280"/>
            <a:ext cx="8208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ccff"/>
                </a:solidFill>
                <a:latin typeface="Corbel"/>
              </a:rPr>
              <a:t>Nástroje hospodářské politiky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Corbel"/>
              </a:rPr>
              <a:t>2. Monetární politika</a:t>
            </a:r>
            <a:r>
              <a:rPr b="1" lang="cs-CZ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– uskutečňuje se pomocí ČNB (nebo-li centrální, emisní, banka bank,…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ccff"/>
                </a:solidFill>
                <a:latin typeface="Corbel"/>
              </a:rPr>
              <a:t>ČNB reguluje množství peněz v oběhu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 (moc peněz – inflace, nedostatek – deflace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Corbel"/>
              </a:rPr>
              <a:t>Nástroje ČNB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, jak optimální množství peněz v oběhu zabezpečit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cs-CZ" sz="2400" spc="-1" strike="noStrike">
                <a:solidFill>
                  <a:srgbClr val="00ccff"/>
                </a:solidFill>
                <a:latin typeface="Corbel"/>
              </a:rPr>
              <a:t>- povinné bankovní rezervy,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ccff"/>
                </a:solidFill>
                <a:latin typeface="Corbel"/>
              </a:rPr>
              <a:t>    </a:t>
            </a:r>
            <a:r>
              <a:rPr b="0" lang="cs-CZ" sz="2400" spc="-1" strike="noStrike">
                <a:solidFill>
                  <a:srgbClr val="00ccff"/>
                </a:solidFill>
                <a:latin typeface="Corbel"/>
              </a:rPr>
              <a:t>- změny úrokové míry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 (diskontní sazba – úroková míra, za kterou si mohou obchodní banky půjčovat od ČNB),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cs-CZ" sz="2400" spc="-1" strike="noStrike">
                <a:solidFill>
                  <a:srgbClr val="00ccff"/>
                </a:solidFill>
                <a:latin typeface="Corbel"/>
              </a:rPr>
              <a:t>- operace na volném trhu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 (obchodování se státními cennými papíry)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ccff"/>
                </a:solidFill>
                <a:latin typeface="Consolas"/>
              </a:rPr>
              <a:t>NÁRODNÍM HOSPODÁŘSTVÍ II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14400" y="105228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ccff"/>
                </a:solidFill>
                <a:latin typeface="Corbel"/>
              </a:rPr>
              <a:t>Nástroje hospodářské politiky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ff00"/>
                </a:solidFill>
                <a:latin typeface="Corbel"/>
              </a:rPr>
              <a:t>3. Důchodová politika</a:t>
            </a:r>
            <a:r>
              <a:rPr b="1" lang="cs-CZ" sz="3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Corbel"/>
              </a:rPr>
              <a:t>– různé formy mezd, aplikace mezd, zdanění, …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ff00"/>
                </a:solidFill>
                <a:latin typeface="Corbel"/>
              </a:rPr>
              <a:t>4. Sociální politika</a:t>
            </a:r>
            <a:r>
              <a:rPr b="1" lang="cs-CZ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Corbel"/>
              </a:rPr>
              <a:t>– různé sociální podpory (podpora v nezaměstnanosti, sociální dávky, důchody,…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ff00"/>
                </a:solidFill>
                <a:latin typeface="Corbel"/>
              </a:rPr>
              <a:t>5. Zahraniční obchodní politika</a:t>
            </a:r>
            <a:r>
              <a:rPr b="1" lang="cs-CZ" sz="3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Corbel"/>
              </a:rPr>
              <a:t>– kurzy měn, celní sazby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ccff"/>
                </a:solidFill>
                <a:latin typeface="Consolas"/>
              </a:rPr>
              <a:t>NÁRODNÍ HOSPODÁŘSTVÍ II.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Corbel"/>
              </a:rPr>
              <a:t>Použitá literatura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KLÍNSKÝ, P., MÜNCH, O. </a:t>
            </a:r>
            <a:r>
              <a:rPr b="0" i="1" lang="cs-CZ" sz="2400" spc="-1" strike="noStrike">
                <a:solidFill>
                  <a:srgbClr val="ffffff"/>
                </a:solidFill>
                <a:latin typeface="Corbel"/>
              </a:rPr>
              <a:t>Ekonomika 1 pro obchodní akademie a ostatní střední školy. 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3. vyd. Praha: Eduko nakladatelství, s. r. o., 2010, 152 s. ISBN 978-80-87204-24-5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KLÍNSKÝ, P., MÜNCH, O. </a:t>
            </a:r>
            <a:r>
              <a:rPr b="0" i="1" lang="cs-CZ" sz="2400" spc="-1" strike="noStrike">
                <a:solidFill>
                  <a:srgbClr val="ffffff"/>
                </a:solidFill>
                <a:latin typeface="Corbel"/>
              </a:rPr>
              <a:t>Ekonomika 2 pro obchodní akademie a ostatní střední školy. 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3. vyd. Praha: Eduko nakladatelství, s. r. o., 2010, 180 s. ISBN 978-80-87204-30-6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eeff"/>
                </a:solidFill>
                <a:latin typeface="Consolas"/>
              </a:rPr>
              <a:t>Záznamový list výukového materiálu</a:t>
            </a:r>
            <a:br>
              <a:rPr sz="1800"/>
            </a:b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684360" y="1341360"/>
          <a:ext cx="8229600" cy="5313600"/>
        </p:xfrm>
        <a:graphic>
          <a:graphicData uri="http://schemas.openxmlformats.org/drawingml/2006/table">
            <a:tbl>
              <a:tblPr/>
              <a:tblGrid>
                <a:gridCol w="2962080"/>
                <a:gridCol w="526752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orbel"/>
                          <a:ea typeface="Calibri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orbel"/>
                          <a:ea typeface="Times New Roman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90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Národní hospodářství I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VY_32_INOVACE_083_Ekonomi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64-41-L/51 Podniká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Ekonomika a prá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druh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16.9.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6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Materiál slouží k získání přehledu o hodnocení úrovně národního hospodářství, národohospodářských ukazatelích, cílech a nástrojích hospodářské politiky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ccff"/>
                </a:solidFill>
                <a:latin typeface="Consolas"/>
              </a:rPr>
              <a:t>NÁRODNÍ HOSPODÁŘSTVÍ II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84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ff"/>
                </a:solidFill>
                <a:latin typeface="Corbel"/>
              </a:rPr>
              <a:t>Hodnocení úrovně národního hospodářství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marL="684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ff"/>
                </a:solidFill>
                <a:latin typeface="Corbel"/>
              </a:rPr>
              <a:t>Národohospodářské ukazatele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marL="684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ff"/>
                </a:solidFill>
                <a:latin typeface="Corbel"/>
              </a:rPr>
              <a:t>Cíle hospodářské politiky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marL="684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ff"/>
                </a:solidFill>
                <a:latin typeface="Corbel"/>
              </a:rPr>
              <a:t>Nástroje hospodářské politiky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marL="684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marL="68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84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100" spc="-1" strike="noStrike">
                <a:solidFill>
                  <a:srgbClr val="00ff00"/>
                </a:solidFill>
                <a:latin typeface="Corbel"/>
              </a:rPr>
              <a:t>2. ročník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68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ccff"/>
                </a:solidFill>
                <a:latin typeface="Consolas"/>
              </a:rPr>
              <a:t>NÁRODNÍ HOSPODÁŘSTVÍ II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84000" y="1125000"/>
            <a:ext cx="8002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ccff"/>
                </a:solidFill>
                <a:latin typeface="Corbel"/>
              </a:rPr>
              <a:t>Hodnocení úrovně NH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Corbel"/>
              </a:rPr>
              <a:t>Ukazatelé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Hrubý domácí produkt  (HDP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Čistý domácí produkt (ČDP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Hrubý národní produkt (HNP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Čistý národní produkt (ČNP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Reálný a nominální HDP a HNP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Tempo růstu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Míra nezaměstnanosti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Inflac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ccff"/>
                </a:solidFill>
                <a:latin typeface="Consolas"/>
              </a:rPr>
              <a:t>NÁRODNÍ</a:t>
            </a:r>
            <a:r>
              <a:rPr b="0" lang="cs-CZ" sz="3600" spc="-1" strike="noStrike">
                <a:solidFill>
                  <a:srgbClr val="00ccff"/>
                </a:solidFill>
                <a:latin typeface="Consolas"/>
              </a:rPr>
              <a:t> HOSPODÁŘSTVÍ II.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84000" y="1268280"/>
            <a:ext cx="8002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ccff"/>
                </a:solidFill>
                <a:latin typeface="Corbel"/>
              </a:rPr>
              <a:t>Hodnocení úrovně NH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Corbel"/>
              </a:rPr>
              <a:t>1. Hrubý domácí produkt (HDP)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Představuje </a:t>
            </a:r>
            <a:r>
              <a:rPr b="0" lang="cs-CZ" sz="2800" spc="-1" strike="noStrike">
                <a:solidFill>
                  <a:srgbClr val="00ccff"/>
                </a:solidFill>
                <a:latin typeface="Corbel"/>
              </a:rPr>
              <a:t>množství výrobků a služeb vyjádřených penězi, které vytvoří všechny složky NH v daném státě za 1 rok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Zahrnuje </a:t>
            </a:r>
            <a:r>
              <a:rPr b="0" i="1" lang="cs-CZ" sz="2800" spc="-1" strike="noStrike">
                <a:solidFill>
                  <a:srgbClr val="00ff00"/>
                </a:solidFill>
                <a:latin typeface="Corbel"/>
              </a:rPr>
              <a:t>celkovou produkci, která byla vyrobena našimi i cizinci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(bez ohledu na příslušnost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Základní </a:t>
            </a:r>
            <a:r>
              <a:rPr b="0" lang="cs-CZ" sz="2800" spc="-1" strike="noStrike">
                <a:solidFill>
                  <a:srgbClr val="00ccff"/>
                </a:solidFill>
                <a:latin typeface="Corbel"/>
              </a:rPr>
              <a:t>ukazatel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hodnocení </a:t>
            </a:r>
            <a:r>
              <a:rPr b="0" lang="cs-CZ" sz="2800" spc="-1" strike="noStrike">
                <a:solidFill>
                  <a:srgbClr val="00ccff"/>
                </a:solidFill>
                <a:latin typeface="Corbel"/>
              </a:rPr>
              <a:t>životní úrovně obyvatelstv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ccff"/>
                </a:solidFill>
                <a:latin typeface="Consolas"/>
              </a:rPr>
              <a:t>NÁRODNÍ HOSPODÁŘSTVÍ II.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4400" y="105228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ccff"/>
                </a:solidFill>
                <a:latin typeface="Corbel"/>
              </a:rPr>
              <a:t>Hodnocení úrovně NH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ff00"/>
                </a:solidFill>
                <a:latin typeface="Corbel"/>
              </a:rPr>
              <a:t>HDP = C + I + G + X – M 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(určuje výkon hospodářství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Corbel"/>
              </a:rPr>
              <a:t>C =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hodnota zboží a služeb spotřebovaných domácnostmi (součet platů, odměn, důchodů, přijaté úroky – vše co lidé získají formou peněz a co si za ně mohou koupit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Corbel"/>
              </a:rPr>
              <a:t>I =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přírůstek hrubých investic (pořízení DM a přírůstek zásob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Corbel"/>
              </a:rPr>
              <a:t>G =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státní zakázky (dálnice, železnice,…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Corbel"/>
              </a:rPr>
              <a:t>X =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hodnota exportu (vývozu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Corbel"/>
              </a:rPr>
              <a:t>M =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hodnota importu (dovozu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ccff"/>
                </a:solidFill>
                <a:latin typeface="Consolas"/>
              </a:rPr>
              <a:t>NÁRODNÍ HOSPODÁŘSTVÍ II.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755280" y="1052280"/>
            <a:ext cx="806436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ccff"/>
                </a:solidFill>
                <a:latin typeface="Corbel"/>
              </a:rPr>
              <a:t>Hodnocení úrovně NH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Corbel"/>
              </a:rPr>
              <a:t>2. Čistý domácí produkt (ČDP)</a:t>
            </a:r>
            <a:r>
              <a:rPr b="0" lang="cs-CZ" sz="3200" spc="-1" strike="noStrike">
                <a:solidFill>
                  <a:srgbClr val="ffffff"/>
                </a:solidFill>
                <a:latin typeface="Corbel"/>
              </a:rPr>
              <a:t> – je HDP snížený o amortizaci (odpisy – ztráta hodnoty DM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Corbel"/>
              </a:rPr>
              <a:t>3. Hrubý národní produkt (HNP)</a:t>
            </a:r>
            <a:r>
              <a:rPr b="0" lang="cs-CZ" sz="3200" spc="-1" strike="noStrike">
                <a:solidFill>
                  <a:srgbClr val="ffffff"/>
                </a:solidFill>
                <a:latin typeface="Corbel"/>
              </a:rPr>
              <a:t> – celkový výkon národní ekonomiky vyrobený příslušníky daného státu bez rozdílu, kde vznikl a od něj se odečte výkon cizinců na daném území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Corbel"/>
              </a:rPr>
              <a:t>4. Čistý národní produkt (ČNP)</a:t>
            </a:r>
            <a:r>
              <a:rPr b="0" lang="cs-CZ" sz="3200" spc="-1" strike="noStrike">
                <a:solidFill>
                  <a:srgbClr val="ffffff"/>
                </a:solidFill>
                <a:latin typeface="Corbel"/>
              </a:rPr>
              <a:t> – je HNP snížený o amortizaci (odpisy – ztráta hodnoty DM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ccff"/>
                </a:solidFill>
                <a:latin typeface="Consolas"/>
              </a:rPr>
              <a:t>NÁRODNÍ HOSPODÁŘSTVÍ II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341000"/>
            <a:ext cx="77724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ccff"/>
                </a:solidFill>
                <a:latin typeface="Corbel"/>
              </a:rPr>
              <a:t>Hodnocení úrovně NH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Corbel"/>
              </a:rPr>
              <a:t>5. Reálný a nominální HDP a HNP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ccff"/>
                </a:solidFill>
                <a:latin typeface="Corbel"/>
              </a:rPr>
              <a:t>RHDP, RHNP</a:t>
            </a:r>
            <a:r>
              <a:rPr b="0" lang="cs-CZ" sz="3200" spc="-1" strike="noStrike">
                <a:solidFill>
                  <a:srgbClr val="ffffff"/>
                </a:solidFill>
                <a:latin typeface="Corbel"/>
              </a:rPr>
              <a:t> – jsou produkty v běžných cenách  (za dané období – 1 rok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ccff"/>
                </a:solidFill>
                <a:latin typeface="Corbel"/>
              </a:rPr>
              <a:t>NHDP a NHNP</a:t>
            </a:r>
            <a:r>
              <a:rPr b="0" lang="cs-CZ" sz="3200" spc="-1" strike="noStrike">
                <a:solidFill>
                  <a:srgbClr val="ffffff"/>
                </a:solidFill>
                <a:latin typeface="Corbel"/>
              </a:rPr>
              <a:t> – produkty ve stálých cenách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Corbel"/>
              </a:rPr>
              <a:t>6. Tempo růstu</a:t>
            </a:r>
            <a:r>
              <a:rPr b="0" lang="cs-CZ" sz="3200" spc="-1" strike="noStrike">
                <a:solidFill>
                  <a:srgbClr val="ffffff"/>
                </a:solidFill>
                <a:latin typeface="Corbel"/>
              </a:rPr>
              <a:t> – vyjadřuje se přírůstkem HDP za určitou dobu (1 rok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ccff"/>
                </a:solidFill>
                <a:latin typeface="Consolas"/>
              </a:rPr>
              <a:t>NÁRODNÍ HOSPODÁŘSTVÍ II.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84360" y="764640"/>
            <a:ext cx="820872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ccff"/>
                </a:solidFill>
                <a:latin typeface="Corbel"/>
              </a:rPr>
              <a:t>Hodnocení úrovně NH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nezaměstnaní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Corbel"/>
              </a:rPr>
              <a:t>7. Míra nezaměstnanosti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MN = ----------------------- x 100 (%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ek. aktivní obyv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ccff"/>
                </a:solidFill>
                <a:latin typeface="Corbel"/>
              </a:rPr>
              <a:t>Nezaměstnanost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 – se považuje za negativní jev tržní ekonomik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Corbel"/>
              </a:rPr>
              <a:t>Rozlišujeme nezaměstnanost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ccff"/>
                </a:solidFill>
                <a:latin typeface="Corbel"/>
              </a:rPr>
              <a:t>Frikční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 – důvodem je nedokonalá mobilita pracovních sil a nedostatečné znalosti pracovních příležitostí (přestěhování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ccff"/>
                </a:solidFill>
                <a:latin typeface="Corbel"/>
              </a:rPr>
              <a:t>Strukturální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 – je důsledkem omezené nebo zrušení výroby v podnicích v určitém regionu, rozdíl mezi požadovanými a nabízenými schopnostmi, znalostmi uchazečů o zaměstnání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ccff"/>
                </a:solidFill>
                <a:latin typeface="Corbel"/>
              </a:rPr>
              <a:t>Cyklická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 – je důsledkem cyklických změn v ekonomice (růst, stagnace, pokle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ccff"/>
                </a:solidFill>
                <a:latin typeface="Corbel"/>
              </a:rPr>
              <a:t>Sezónní  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- zemědělství, cestovní ruch, stavebnictví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12:33:01Z</dcterms:created>
  <dc:creator>Monika</dc:creator>
  <dc:description/>
  <dc:language>en-US</dc:language>
  <cp:lastModifiedBy>Berka</cp:lastModifiedBy>
  <dcterms:modified xsi:type="dcterms:W3CDTF">2014-02-13T08:05:36Z</dcterms:modified>
  <cp:revision>65</cp:revision>
  <dc:subject/>
  <dc:title>EKONOMIKA PODNIKU</dc:title>
</cp:coreProperties>
</file>