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83D7-EEC4-4642-B315-E2422598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EB8B-82E7-47A3-9841-344E5350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6A009-BD1D-4174-9EFD-5170D617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BA68E-BBC9-40F4-8F74-63CF4952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1C3D5F-8730-40C9-8DCD-4EFDA895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A6673-4271-42DE-93D3-045EC6FB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00EE0-056A-4F4D-8307-B3AB96A0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F012A-D3CB-4357-BE8D-FD41D911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85DC2-F439-4C08-8B1B-F847625B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7B110-B7F0-4DA7-A339-3D4B44D5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E2221-D556-49F9-AA51-8D4C4A368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5F8F-473B-4291-B876-A5365A388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F839-E17B-45BE-BB94-724C493DA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4F06-7EA6-422D-9401-385B28FB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A26A-9BDA-487E-9661-D0616A44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8F9C-039C-4421-8B88-E4D5130A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1233-3D6A-47BB-8AEE-43892B3E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C3E1-063D-4CDE-8740-37AC7A29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D17B-4AB5-4752-A5C2-A5BA0B40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E3AD-3DD9-4009-8587-A4B91082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0F41-7943-4E3C-8177-ACFD1E26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968A-1A9C-4CD1-A008-82208056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3EE5-86B0-47BB-85D7-10272DD5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7BA1-AA07-43A6-8876-C967D240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1ED5-51DB-489F-80AA-A75B0975B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ADA8-2347-4251-AAF6-FC508D7C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2ECFE-9CA2-41F7-856D-66BEA8563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4F5D7-882C-49B4-942E-1519B384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B3423-E714-41FD-BBA0-1FDDC990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11B0D-8366-48E9-AB46-992FB475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D6569-96A4-431D-AFEA-F6268DE9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EAD3-A0F0-4E2D-A454-91BC57BA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02195-7DE5-4920-A1F9-A4C16131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AEF97-5E08-4E13-ACF2-7900DC3B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2D4C8-BC12-42A1-A810-623EBB2C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3A67B-59FE-4EEC-A6A0-4D9FA36E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ACAE3-CB34-4FF2-8862-53FCE171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C048D-9777-4A08-82C8-674F869B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63497-4941-4456-A6A5-7EABA9540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1452C-6096-4837-97BB-8721D4C6B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8A330-9E8D-4DBD-884A-27DFDD4D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88803-DD59-4EFB-ABE4-89704488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F136-EB1E-44A0-A9FC-845B00F8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458DC-4011-4F32-8F12-FC201C63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AADF4-2CA4-4A70-99C3-16042E0B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8DB5E-F1D6-4D5E-B340-B1AC1C85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B768E-FC56-4952-92D2-D38C9A95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19D88-B174-4C3C-A691-F6E5553F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F509C-823F-41AB-92D9-08DBB2C6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43D1D-BAF7-4094-A268-C6D465C9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3F77E-C162-4756-A247-E1E6FA1FF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CCEEA-CA45-49DB-A154-504803F97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B2B01-D4F0-47CA-B2AD-F7C48CD7F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E09C-7307-4D4F-97A7-8A38550E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DAE2F-9CF9-41E6-A725-DD30F4C6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E190C-833D-4372-93EC-43901735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F657F-D24B-4BD7-851A-6402E1AC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48F32-2D9F-4C41-8A8D-B2AB5239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A318E-A360-47E8-8E8C-ECC4D987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1F19D-0921-4A7E-B9C5-E94F7AB3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570A0-5998-41C5-A138-4D4B74CF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98DC0-E29D-4F99-9DD9-EE0FE924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45915-3A2E-4CB0-BA27-7D2BD17F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90374-9E31-4A1B-90B6-488D4E55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860B-13A2-4B35-B111-CCA0A98D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63113-E615-4A84-8C4F-CF01BC5CB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8F8A7-508A-48F3-BEC2-7D2FD02C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8EB0C-41DF-4D8A-835C-BCEC5448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45841-D518-47A8-8472-1D22C76E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77967-9169-400B-BD94-D6D52C46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3A3C1-4B79-459F-B761-8D67220A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C5A0E-6417-4A4B-9953-31DC046C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CE028-3C7F-436E-BF58-FCB65493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CEAC0-0338-4A1C-8294-9AD5B5B8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18B66-E1B8-4F98-BEAA-613A952E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F0D5-8736-472F-AF47-44548ADA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53C01-A323-43AB-AD57-51447C60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13DDC-8912-46D6-A2E8-3D035EBE8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BC025-1720-4912-8571-6631AB30A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8C9C4-7145-4CAB-9C25-7A02BB66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71DD4-A00D-4E86-B445-32552F55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85A9D-FB3E-4A93-B999-B430004E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2EA64-9CB0-41DC-97AA-6906F6EB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F2C0C-8FF4-47ED-98D6-CFBD8508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80EE2-7E92-414E-989A-3B01B828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2A685-88DB-4F0F-BB48-2B6F5311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F8AD-DAE1-4630-ACDB-ABDE257F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4CA57-4098-43BC-B9C6-D04F7127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2ADA3-DCCB-4EA9-8B33-810A03F1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AECB1-167B-4621-8CF5-8F549F09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2B42D-9DC8-4FE9-81F4-BE820E50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3B30F-B388-40B9-83A3-097EC2DDE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3AE01-FD11-4FAB-9D0E-6F86603B3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F45ED-ABA9-472F-9D8A-A41DE79C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43038-C5DB-48E6-9EFD-D253238D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72756-1402-4967-9843-81B9E9B6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1A0E1-496B-4576-B747-EBF7F6B9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25C4-F3CA-49A2-B401-7F97526C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33B3C-F7CD-4063-8F1D-D1391AF4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2E11C-D646-4FF2-A39B-D5ED12CC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4C8C9-309D-4043-BFDC-E23B8FAF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44995-A505-4A17-B7ED-CBC0BE71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BFC44-0C0A-4E23-985D-0817E73C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6036B-7529-4E6B-A03A-1D773379F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26CBB-B33A-4B8D-9A1F-745C4E004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07DDE-894F-452C-AA0F-A2337FBE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2E699-42BB-4FA5-8DCA-F1D9CB22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09269-5D45-4246-9A14-A3F0E6A8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vná spojnica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Rovná spojnica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AF4F-3D5B-448C-BB0F-5F5D716C3CBF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Rovná spojnica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Rovná spojnica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Rovná spojnica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Rovná spojnica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ovná spojnica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Rovná spojnica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0613-D752-4262-893F-72C753ABF9DE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Rovná spojnica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Rovná spojnica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Rovná spojnica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Rovná spojnica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Rovná spojnica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Rovná spojnica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27FE-2AF7-4108-A926-7BEB15C1A4BE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Rovná spojnica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Rovná spojnica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0C25-FE8E-46A6-B43D-BB89BCAE8AB9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Rovná spojnica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Rovná spojnica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ADF7-B7B5-4D2A-A0CF-2826A3DE51B9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D95F-B0CB-404F-8C3A-490D9B42C8F9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Rovná spojnica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Rovná spojnica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E5D8-4D62-4AAB-BFC9-F15E2D66FF86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1767-38D5-48F3-9433-8D8B587D92BB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453E-95C6-4EC4-8AF7-48F941A014C8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s://www.google.cz/search?q=burza+cp+praha&amp;source=lnms&amp;tbm=isch&amp;sa=X&amp;ei=vQvTUcCQFIahtAaxrYGYDg&amp;sqi=2&amp;ved=0CAcQ_AUoAQ&amp;biw=1143&amp;bih=672" TargetMode="External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Nadpis 1" descr=""/>
          <p:cNvPicPr/>
          <p:nvPr/>
        </p:nvPicPr>
        <p:blipFill>
          <a:blip r:embed="rId1"/>
          <a:stretch/>
        </p:blipFill>
        <p:spPr>
          <a:xfrm>
            <a:off x="396720" y="390600"/>
            <a:ext cx="8277480" cy="32860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774720" y="270792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443329"/>
                </a:solidFill>
                <a:latin typeface="Franklin Gothic Book"/>
              </a:rPr>
              <a:t>FINANČNÍ TRH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43329"/>
                </a:solidFill>
                <a:latin typeface="Calibri"/>
              </a:rPr>
              <a:t>Autor: Mgr. Roman Berka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Obrázek 3" descr=""/>
          <p:cNvPicPr/>
          <p:nvPr/>
        </p:nvPicPr>
        <p:blipFill>
          <a:blip r:embed="rId2"/>
          <a:stretch/>
        </p:blipFill>
        <p:spPr>
          <a:xfrm>
            <a:off x="1619280" y="549360"/>
            <a:ext cx="6083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Nadpis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1224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800000"/>
                </a:solidFill>
                <a:latin typeface="Franklin Gothic Book"/>
              </a:rPr>
              <a:t>Cenné papíry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Franklin Gothic Book"/>
              </a:rPr>
              <a:t>Členění CP z hlediska obchodovatelnosti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e3b30"/>
                </a:solidFill>
                <a:latin typeface="Franklin Gothic Book"/>
              </a:rPr>
              <a:t>1. Obchodovatelné 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– kótované např. na burze, nekótované mimo oficiální finanční trh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just"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e3b30"/>
                </a:solidFill>
                <a:latin typeface="Franklin Gothic Book"/>
              </a:rPr>
              <a:t>2.</a:t>
            </a:r>
            <a:r>
              <a:rPr b="1" lang="cs-CZ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cs-CZ" sz="3200" spc="-1" strike="noStrike">
                <a:solidFill>
                  <a:srgbClr val="4e3b30"/>
                </a:solidFill>
                <a:latin typeface="Franklin Gothic Book"/>
              </a:rPr>
              <a:t>Neobchodovatelné 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– např. zaměstnanecké akci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Nadpis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1224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800000"/>
                </a:solidFill>
                <a:latin typeface="Franklin Gothic Book"/>
              </a:rPr>
              <a:t>Cenné papíry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Franklin Gothic Book"/>
              </a:rPr>
              <a:t>Členění CP podle podoby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e3b30"/>
                </a:solidFill>
                <a:latin typeface="Franklin Gothic Book"/>
              </a:rPr>
              <a:t>1. </a:t>
            </a:r>
            <a:r>
              <a:rPr b="1" lang="cs-CZ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cs-CZ" sz="3200" spc="-1" strike="noStrike">
                <a:solidFill>
                  <a:srgbClr val="4e3b30"/>
                </a:solidFill>
                <a:latin typeface="Franklin Gothic Book"/>
              </a:rPr>
              <a:t>Listinné 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– vydané v materializované podobě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lnSpc>
                <a:spcPct val="90000"/>
              </a:lnSpc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e3b30"/>
                </a:solidFill>
                <a:latin typeface="Franklin Gothic Book"/>
              </a:rPr>
              <a:t>2. Zaknihované 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– neexistují fyzicky, jsou pouze evidované v CDCP (centrální depozitář cenných papírů), dříve SCP (středisko cenných papírů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lnSpc>
                <a:spcPct val="90000"/>
              </a:lnSpc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Nadpis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12248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700" spc="-1" strike="noStrike">
                <a:solidFill>
                  <a:srgbClr val="800000"/>
                </a:solidFill>
                <a:latin typeface="Franklin Gothic Book"/>
              </a:rPr>
              <a:t>Cenné papíry kapitálového trhu</a:t>
            </a:r>
            <a:endParaRPr b="0" lang="en-US" sz="3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Franklin Gothic Book"/>
              </a:rPr>
              <a:t>1.</a:t>
            </a:r>
            <a:r>
              <a:rPr b="1" lang="cs-CZ" sz="3000" spc="-1" strike="noStrike">
                <a:solidFill>
                  <a:srgbClr val="ff0000"/>
                </a:solidFill>
                <a:latin typeface="Franklin Gothic Book"/>
              </a:rPr>
              <a:t>	</a:t>
            </a:r>
            <a:r>
              <a:rPr b="1" lang="cs-CZ" sz="3000" spc="-1" strike="noStrike">
                <a:solidFill>
                  <a:srgbClr val="ff0000"/>
                </a:solidFill>
                <a:latin typeface="Franklin Gothic Book"/>
              </a:rPr>
              <a:t>Majetkové CP: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e3b30"/>
                </a:solidFill>
                <a:latin typeface="Franklin Gothic Book"/>
              </a:rPr>
              <a:t>akcie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e3b30"/>
                </a:solidFill>
                <a:latin typeface="Franklin Gothic Book"/>
              </a:rPr>
              <a:t>podílové fondy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e3b30"/>
                </a:solidFill>
                <a:latin typeface="Franklin Gothic Book"/>
              </a:rPr>
              <a:t>zatímní listy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Franklin Gothic Book"/>
              </a:rPr>
              <a:t>2. </a:t>
            </a:r>
            <a:r>
              <a:rPr b="1" lang="cs-CZ" sz="3000" spc="-1" strike="noStrike">
                <a:solidFill>
                  <a:srgbClr val="ff0000"/>
                </a:solidFill>
                <a:latin typeface="Franklin Gothic Book"/>
              </a:rPr>
              <a:t>	</a:t>
            </a:r>
            <a:r>
              <a:rPr b="1" lang="cs-CZ" sz="3000" spc="-1" strike="noStrike">
                <a:solidFill>
                  <a:srgbClr val="ff0000"/>
                </a:solidFill>
                <a:latin typeface="Franklin Gothic Book"/>
              </a:rPr>
              <a:t>Úvěrové CP: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e3b30"/>
                </a:solidFill>
                <a:latin typeface="Franklin Gothic Book"/>
              </a:rPr>
              <a:t>obligace (dluhopisy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e3b30"/>
                </a:solidFill>
                <a:latin typeface="Franklin Gothic Book"/>
              </a:rPr>
              <a:t>hypoteční zástavní listy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e3b30"/>
                </a:solidFill>
                <a:latin typeface="Franklin Gothic Book"/>
              </a:rPr>
              <a:t>státní pokladniční poukázky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Nadpis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1224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800000"/>
                </a:solidFill>
                <a:latin typeface="Franklin Gothic Book"/>
              </a:rPr>
              <a:t>Cenné papíry peněžního trhu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Šek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Směnk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Depozitní certifikát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Náložní listy a lodní konosament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Skladištní list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Kupón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Nadpis 1" descr=""/>
          <p:cNvPicPr/>
          <p:nvPr/>
        </p:nvPicPr>
        <p:blipFill>
          <a:blip r:embed="rId1"/>
          <a:stretch/>
        </p:blipFill>
        <p:spPr>
          <a:xfrm>
            <a:off x="304920" y="195120"/>
            <a:ext cx="8686800" cy="11160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304920" y="1285560"/>
            <a:ext cx="86868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Franklin Gothic Book"/>
              </a:rPr>
              <a:t>Obchodování s cennými papíry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Franklin Gothic Book"/>
              </a:rPr>
              <a:t>Burz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4e3b30"/>
                </a:solidFill>
                <a:latin typeface="Franklin Gothic Book"/>
              </a:rPr>
              <a:t>Burza: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4e3b30"/>
                </a:solidFill>
                <a:latin typeface="Franklin Gothic Book"/>
              </a:rPr>
              <a:t>místo, na kterém se shromažďují obchodníci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4e3b30"/>
                </a:solidFill>
                <a:latin typeface="Franklin Gothic Book"/>
              </a:rPr>
              <a:t>zvláštní typ trhu, kde obchody probíhají podle předem stanovených pravidel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4e3b30"/>
                </a:solidFill>
                <a:latin typeface="Franklin Gothic Book"/>
              </a:rPr>
              <a:t>tvoří se zde </a:t>
            </a:r>
            <a:r>
              <a:rPr b="0" lang="cs-CZ" sz="2500" spc="-1" strike="noStrike">
                <a:solidFill>
                  <a:srgbClr val="800000"/>
                </a:solidFill>
                <a:latin typeface="Franklin Gothic Book"/>
              </a:rPr>
              <a:t>„kurz“ </a:t>
            </a:r>
            <a:r>
              <a:rPr b="0" lang="cs-CZ" sz="2500" spc="-1" strike="noStrike">
                <a:solidFill>
                  <a:srgbClr val="4e3b30"/>
                </a:solidFill>
                <a:latin typeface="Franklin Gothic Book"/>
              </a:rPr>
              <a:t>(cena – mění se i po několika vteřinách)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4e3b30"/>
                </a:solidFill>
                <a:latin typeface="Franklin Gothic Book"/>
              </a:rPr>
              <a:t>střet </a:t>
            </a:r>
            <a:r>
              <a:rPr b="0" lang="cs-CZ" sz="2500" spc="-1" strike="noStrike">
                <a:solidFill>
                  <a:srgbClr val="800000"/>
                </a:solidFill>
                <a:latin typeface="Franklin Gothic Book"/>
              </a:rPr>
              <a:t>příkazů k nákupu či prodeji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4e3b30"/>
                </a:solidFill>
                <a:latin typeface="Franklin Gothic Book"/>
              </a:rPr>
              <a:t>obchody uzavírají obchodníci sami nebo prostřednictvím dohodců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4e3b30"/>
                </a:solidFill>
                <a:latin typeface="Franklin Gothic Book"/>
              </a:rPr>
              <a:t>obchodované zboží nemusí být fyzicky přítomno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4e3b30"/>
                </a:solidFill>
                <a:latin typeface="Franklin Gothic Book"/>
              </a:rPr>
              <a:t>většina obchodů se realizuje přes počítačové sítě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4e3b30"/>
                </a:solidFill>
                <a:latin typeface="Franklin Gothic Book"/>
              </a:rPr>
              <a:t>od cen vytvořených na burze se tvoří další ceny podobného zboží na světových trzích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Nadpis 1" descr=""/>
          <p:cNvPicPr/>
          <p:nvPr/>
        </p:nvPicPr>
        <p:blipFill>
          <a:blip r:embed="rId1"/>
          <a:stretch/>
        </p:blipFill>
        <p:spPr>
          <a:xfrm>
            <a:off x="212760" y="360360"/>
            <a:ext cx="8686800" cy="11206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304920" y="1357200"/>
            <a:ext cx="8686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800000"/>
                </a:solidFill>
                <a:latin typeface="Franklin Gothic Book"/>
              </a:rPr>
              <a:t>Obchodování s cennými papíry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Franklin Gothic Book"/>
              </a:rPr>
              <a:t>Burza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4e3b30"/>
                </a:solidFill>
                <a:latin typeface="Franklin Gothic Book"/>
              </a:rPr>
              <a:t>Typy burz: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800000"/>
                </a:solidFill>
                <a:latin typeface="Franklin Gothic Book"/>
              </a:rPr>
              <a:t>1.</a:t>
            </a:r>
            <a:r>
              <a:rPr b="0" lang="cs-CZ" sz="3000" spc="-1" strike="noStrike">
                <a:solidFill>
                  <a:srgbClr val="800000"/>
                </a:solidFill>
                <a:latin typeface="Franklin Gothic Book"/>
              </a:rPr>
              <a:t>	</a:t>
            </a:r>
            <a:r>
              <a:rPr b="0" lang="cs-CZ" sz="3000" spc="-1" strike="noStrike">
                <a:solidFill>
                  <a:srgbClr val="800000"/>
                </a:solidFill>
                <a:latin typeface="Franklin Gothic Book"/>
              </a:rPr>
              <a:t>Burza CP </a:t>
            </a:r>
            <a:r>
              <a:rPr b="0" lang="cs-CZ" sz="3000" spc="-1" strike="noStrike">
                <a:solidFill>
                  <a:srgbClr val="4e3b30"/>
                </a:solidFill>
                <a:latin typeface="Franklin Gothic Book"/>
              </a:rPr>
              <a:t>– akcie, obligace, aj. </a:t>
            </a:r>
            <a:r>
              <a:rPr b="0" i="1" lang="cs-CZ" sz="3000" spc="-1" strike="noStrike">
                <a:solidFill>
                  <a:srgbClr val="4e3b30"/>
                </a:solidFill>
                <a:latin typeface="Franklin Gothic Book"/>
              </a:rPr>
              <a:t>(NYSE – New York Stock Exchange, Burza CP Praha, aj.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800000"/>
                </a:solidFill>
                <a:latin typeface="Franklin Gothic Book"/>
              </a:rPr>
              <a:t>2.</a:t>
            </a:r>
            <a:r>
              <a:rPr b="0" lang="cs-CZ" sz="3000" spc="-1" strike="noStrike">
                <a:solidFill>
                  <a:srgbClr val="800000"/>
                </a:solidFill>
                <a:latin typeface="Franklin Gothic Book"/>
              </a:rPr>
              <a:t>	</a:t>
            </a:r>
            <a:r>
              <a:rPr b="0" lang="cs-CZ" sz="3000" spc="-1" strike="noStrike">
                <a:solidFill>
                  <a:srgbClr val="800000"/>
                </a:solidFill>
                <a:latin typeface="Franklin Gothic Book"/>
              </a:rPr>
              <a:t>Devizová burza </a:t>
            </a:r>
            <a:r>
              <a:rPr b="0" lang="cs-CZ" sz="3000" spc="-1" strike="noStrike">
                <a:solidFill>
                  <a:srgbClr val="4e3b30"/>
                </a:solidFill>
                <a:latin typeface="Franklin Gothic Book"/>
              </a:rPr>
              <a:t>– pohledávky a závazky v cizí měně </a:t>
            </a:r>
            <a:r>
              <a:rPr b="0" i="1" lang="cs-CZ" sz="3000" spc="-1" strike="noStrike">
                <a:solidFill>
                  <a:srgbClr val="4e3b30"/>
                </a:solidFill>
                <a:latin typeface="Franklin Gothic Book"/>
              </a:rPr>
              <a:t>(Burza ve Frankfurtu nad Mohanem, aj.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800000"/>
                </a:solidFill>
                <a:latin typeface="Franklin Gothic Book"/>
              </a:rPr>
              <a:t>3.</a:t>
            </a:r>
            <a:r>
              <a:rPr b="0" lang="cs-CZ" sz="3000" spc="-1" strike="noStrike">
                <a:solidFill>
                  <a:srgbClr val="800000"/>
                </a:solidFill>
                <a:latin typeface="Franklin Gothic Book"/>
              </a:rPr>
              <a:t>	</a:t>
            </a:r>
            <a:r>
              <a:rPr b="0" lang="cs-CZ" sz="3000" spc="-1" strike="noStrike">
                <a:solidFill>
                  <a:srgbClr val="800000"/>
                </a:solidFill>
                <a:latin typeface="Franklin Gothic Book"/>
              </a:rPr>
              <a:t>Komoditní burza </a:t>
            </a:r>
            <a:r>
              <a:rPr b="0" lang="cs-CZ" sz="3000" spc="-1" strike="noStrike">
                <a:solidFill>
                  <a:srgbClr val="4e3b30"/>
                </a:solidFill>
                <a:latin typeface="Franklin Gothic Book"/>
              </a:rPr>
              <a:t>– kovy, suroviny, plodiny, potraviny aj. </a:t>
            </a:r>
            <a:r>
              <a:rPr b="0" i="1" lang="cs-CZ" sz="3000" spc="-1" strike="noStrike">
                <a:solidFill>
                  <a:srgbClr val="4e3b30"/>
                </a:solidFill>
                <a:latin typeface="Franklin Gothic Book"/>
              </a:rPr>
              <a:t>(Plodinová burza Brno, London methal exchange, aj.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Nadpis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12248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304920" y="1285560"/>
            <a:ext cx="86868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800000"/>
                </a:solidFill>
                <a:latin typeface="Franklin Gothic Book"/>
              </a:rPr>
              <a:t>Obchodování s cennými papír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Franklin Gothic Book"/>
              </a:rPr>
              <a:t>Burza CP Praha, a. 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Franklin Gothic Book"/>
              </a:rPr>
              <a:t>od roku 1993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e3b30"/>
                </a:solidFill>
                <a:latin typeface="Franklin Gothic Book"/>
              </a:rPr>
              <a:t>Organizace Burzy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Franklin Gothic Book"/>
              </a:rPr>
              <a:t>1.</a:t>
            </a:r>
            <a:r>
              <a:rPr b="0" lang="cs-CZ" sz="1800" spc="-1" strike="noStrike">
                <a:solidFill>
                  <a:srgbClr val="80000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800000"/>
                </a:solidFill>
                <a:latin typeface="Franklin Gothic Book"/>
              </a:rPr>
              <a:t>Valná hromada akcionářů 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(nejvyšší orgán) – schvaluje burzovní předpisy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0000"/>
                </a:solidFill>
                <a:latin typeface="Franklin Gothic Book"/>
              </a:rPr>
              <a:t>2. </a:t>
            </a:r>
            <a:r>
              <a:rPr b="0" lang="cs-CZ" sz="2000" spc="-1" strike="noStrike">
                <a:solidFill>
                  <a:srgbClr val="80000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800000"/>
                </a:solidFill>
                <a:latin typeface="Franklin Gothic Book"/>
              </a:rPr>
              <a:t>Burzovní komora 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– 10 až 24 členů, v čele stojí předseda, komora zřizuje jednotlivé burzovní výbory (např. výbor pro kotaci – zde emitent žádá o přijetí CP na burzu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0000"/>
                </a:solidFill>
                <a:latin typeface="Franklin Gothic Book"/>
              </a:rPr>
              <a:t>3.</a:t>
            </a:r>
            <a:r>
              <a:rPr b="0" lang="cs-CZ" sz="2000" spc="-1" strike="noStrike">
                <a:solidFill>
                  <a:srgbClr val="80000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800000"/>
                </a:solidFill>
                <a:latin typeface="Franklin Gothic Book"/>
              </a:rPr>
              <a:t>Dozorčí rada 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– dohlíží na činnost burzovní komory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4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e3b30"/>
                </a:solidFill>
                <a:latin typeface="Franklin Gothic Book"/>
              </a:rPr>
              <a:t>Členové burzy 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– členové jsou PO (např. ČNB, MF, ČSOB, ČS Patria Finance, aj.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e3b30"/>
                </a:solidFill>
                <a:latin typeface="Franklin Gothic Book"/>
              </a:rPr>
              <a:t>Makléři 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– zprostředkovatelé – FO, kteří mají kvalifikaci a povolení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e3b30"/>
                </a:solidFill>
                <a:latin typeface="Franklin Gothic Book"/>
              </a:rPr>
              <a:t>Investoři 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– zájemci o obchodování s CP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Nadpis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1224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2" descr=""/>
          <p:cNvPicPr/>
          <p:nvPr/>
        </p:nvPicPr>
        <p:blipFill>
          <a:blip r:embed="rId2"/>
          <a:stretch/>
        </p:blipFill>
        <p:spPr>
          <a:xfrm>
            <a:off x="1000080" y="3786120"/>
            <a:ext cx="2857680" cy="20001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" descr=""/>
          <p:cNvPicPr/>
          <p:nvPr/>
        </p:nvPicPr>
        <p:blipFill>
          <a:blip r:embed="rId3"/>
          <a:stretch/>
        </p:blipFill>
        <p:spPr>
          <a:xfrm>
            <a:off x="1071720" y="1428840"/>
            <a:ext cx="2857320" cy="17859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"/>
          <p:cNvPicPr/>
          <p:nvPr/>
        </p:nvPicPr>
        <p:blipFill>
          <a:blip r:embed="rId4"/>
          <a:stretch/>
        </p:blipFill>
        <p:spPr>
          <a:xfrm>
            <a:off x="4857840" y="3857760"/>
            <a:ext cx="2928960" cy="1928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5" descr=""/>
          <p:cNvPicPr/>
          <p:nvPr/>
        </p:nvPicPr>
        <p:blipFill>
          <a:blip r:embed="rId5"/>
          <a:stretch/>
        </p:blipFill>
        <p:spPr>
          <a:xfrm>
            <a:off x="4929120" y="1500120"/>
            <a:ext cx="285768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Nadpis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12248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800000"/>
                </a:solidFill>
                <a:latin typeface="Franklin Gothic Book"/>
              </a:rPr>
              <a:t>Obchodování s cennými papír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Franklin Gothic Book"/>
              </a:rPr>
              <a:t>Burza CP Praha, a. 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Zdroj obrázků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ad1f1f"/>
                </a:solidFill>
                <a:uFillTx/>
                <a:latin typeface="Franklin Gothic Book"/>
                <a:hlinkClick r:id="rId2"/>
              </a:rPr>
              <a:t>https://www.google.cz/search?q=burza+cp+praha&amp;source=lnms&amp;tbm=isch&amp;sa=X&amp;ei=vQvTUcCQFIahtAaxrYGYDg&amp;sqi=2&amp;ved=0CAcQ_AUoAQ&amp;biw=1143&amp;bih=672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, dne 2. 7. 2013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Nadpis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12248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800000"/>
                </a:solidFill>
                <a:latin typeface="Franklin Gothic Book"/>
              </a:rPr>
              <a:t>Obchodování s cennými papíry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Franklin Gothic Book"/>
              </a:rPr>
              <a:t>RM – systém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česká burza CP určená pro drobné a střední investory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dceřiná společnost Burzy CP Praha, a. 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obchodují zde také členové, ale podmínky přijetí za člena jsou volnější než na pražské burz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Nadpis 1" descr=""/>
          <p:cNvPicPr/>
          <p:nvPr/>
        </p:nvPicPr>
        <p:blipFill>
          <a:blip r:embed="rId1"/>
          <a:stretch/>
        </p:blipFill>
        <p:spPr>
          <a:xfrm>
            <a:off x="304920" y="420840"/>
            <a:ext cx="8686800" cy="87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3" name=""/>
          <p:cNvGraphicFramePr/>
          <p:nvPr/>
        </p:nvGraphicFramePr>
        <p:xfrm>
          <a:off x="457200" y="1600200"/>
          <a:ext cx="8229600" cy="484344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nanční tr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088_Ekonom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Calibri"/>
                        </a:rPr>
                        <a:t>64-41-L/51 Podnik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konomika a práv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ruh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gr. Roman Ber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1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teriál slouží k získání přehledu o charakteristice finančního trhu, jeho členění, subjektech finančního trhu, členění cenných papírů a obchodování s cennými papíry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gr. Roman Ber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Nadpis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1224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800000"/>
                </a:solidFill>
                <a:latin typeface="Franklin Gothic Book"/>
              </a:rPr>
              <a:t>Obchodování s cennými papír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Franklin Gothic Book"/>
              </a:rPr>
              <a:t>CDCP – Centrální depozitář cenných papírů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vede centrální evidenci zaknihovaných CP vydaných v Č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přiděluji ISIN (číselný kód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účastníci – např. ČNB, MF, obchodní banky, obchodníci s CP, aj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Nadpis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12248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304920" y="1785960"/>
            <a:ext cx="8686800" cy="42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800000"/>
                </a:solidFill>
                <a:latin typeface="Franklin Gothic Book"/>
              </a:rPr>
              <a:t>Použitá literatura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KLÍNSKÝ, Petr a Otto MÜNCH. </a:t>
            </a:r>
            <a:r>
              <a:rPr b="0" i="1" lang="cs-CZ" sz="2400" spc="-1" strike="noStrike">
                <a:solidFill>
                  <a:srgbClr val="4e3b30"/>
                </a:solidFill>
                <a:latin typeface="Franklin Gothic Book"/>
              </a:rPr>
              <a:t>Ekonomika pro obchodní akademie a ostatní střední školy</a:t>
            </a: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. 3., upr. vyd. Praha: Eduko, 2010-2011, 4 sv. ISBN 978-80-87204-38-24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Nadpis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1224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304560" y="1554120"/>
            <a:ext cx="8196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e3b30"/>
                </a:solidFill>
                <a:latin typeface="Franklin Gothic Book"/>
              </a:rPr>
              <a:t>Charakteristika finančního trhu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Členění finančního trhu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Subjekty finančního trhu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Členění cenných papírů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Obchodování s cennými papír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800000"/>
                </a:solidFill>
                <a:latin typeface="Franklin Gothic Book"/>
              </a:rPr>
              <a:t>2. ročník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Nadpis 1" descr=""/>
          <p:cNvPicPr/>
          <p:nvPr/>
        </p:nvPicPr>
        <p:blipFill>
          <a:blip r:embed="rId1"/>
          <a:stretch/>
        </p:blipFill>
        <p:spPr>
          <a:xfrm>
            <a:off x="304920" y="212760"/>
            <a:ext cx="8686800" cy="13906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Franklin Gothic Book"/>
              </a:rPr>
              <a:t>Speciální trh</a:t>
            </a:r>
            <a:r>
              <a:rPr b="0" lang="cs-CZ" sz="3600" spc="-1" strike="noStrike">
                <a:solidFill>
                  <a:srgbClr val="523227"/>
                </a:solidFill>
                <a:latin typeface="Franklin Gothic Book"/>
              </a:rPr>
              <a:t>, </a:t>
            </a:r>
            <a:r>
              <a:rPr b="0" lang="cs-CZ" sz="3600" spc="-1" strike="noStrike">
                <a:solidFill>
                  <a:srgbClr val="4e3b30"/>
                </a:solidFill>
                <a:latin typeface="Franklin Gothic Book"/>
              </a:rPr>
              <a:t>na kterém se obchoduje </a:t>
            </a:r>
            <a:r>
              <a:rPr b="0" lang="cs-CZ" sz="3600" spc="-1" strike="noStrike">
                <a:solidFill>
                  <a:srgbClr val="ff0000"/>
                </a:solidFill>
                <a:latin typeface="Franklin Gothic Book"/>
              </a:rPr>
              <a:t>s cennými papíry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800000"/>
                </a:solidFill>
                <a:latin typeface="Franklin Gothic Book"/>
              </a:rPr>
              <a:t>Cenné papíry </a:t>
            </a:r>
            <a:r>
              <a:rPr b="0" lang="cs-CZ" sz="3600" spc="-1" strike="noStrike">
                <a:solidFill>
                  <a:srgbClr val="4e3b30"/>
                </a:solidFill>
                <a:latin typeface="Franklin Gothic Book"/>
              </a:rPr>
              <a:t>– peněžní pohledávka či majetkový nárok vlastníka cenného papíru vůči tomu, kdo cenný papír vydal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Nadpis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1224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800000"/>
                </a:solidFill>
                <a:latin typeface="Franklin Gothic Book"/>
              </a:rPr>
              <a:t>Členění finančního trhu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0000"/>
                </a:solidFill>
                <a:latin typeface="Franklin Gothic Book"/>
              </a:rPr>
              <a:t>1. </a:t>
            </a:r>
            <a:r>
              <a:rPr b="1" lang="cs-CZ" sz="2700" spc="-1" strike="noStrike">
                <a:solidFill>
                  <a:srgbClr val="ff0000"/>
                </a:solidFill>
                <a:latin typeface="Franklin Gothic Book"/>
              </a:rPr>
              <a:t>	</a:t>
            </a:r>
            <a:r>
              <a:rPr b="1" lang="cs-CZ" sz="2700" spc="-1" strike="noStrike">
                <a:solidFill>
                  <a:srgbClr val="ff0000"/>
                </a:solidFill>
                <a:latin typeface="Franklin Gothic Book"/>
              </a:rPr>
              <a:t>Peněžní – </a:t>
            </a:r>
            <a:r>
              <a:rPr b="0" lang="cs-CZ" sz="2700" spc="-1" strike="noStrike">
                <a:solidFill>
                  <a:srgbClr val="4e3b30"/>
                </a:solidFill>
                <a:latin typeface="Franklin Gothic Book"/>
              </a:rPr>
              <a:t>trh krátkodobých peněz a půjček (doba splatnosti kratší než 1 rok) – peníze, šeky, směnky, aj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0000"/>
                </a:solidFill>
                <a:latin typeface="Franklin Gothic Book"/>
              </a:rPr>
              <a:t>2. </a:t>
            </a:r>
            <a:r>
              <a:rPr b="1" lang="cs-CZ" sz="2700" spc="-1" strike="noStrike">
                <a:solidFill>
                  <a:srgbClr val="ff0000"/>
                </a:solidFill>
                <a:latin typeface="Franklin Gothic Book"/>
              </a:rPr>
              <a:t>	</a:t>
            </a:r>
            <a:r>
              <a:rPr b="1" lang="cs-CZ" sz="2700" spc="-1" strike="noStrike">
                <a:solidFill>
                  <a:srgbClr val="ff0000"/>
                </a:solidFill>
                <a:latin typeface="Franklin Gothic Book"/>
              </a:rPr>
              <a:t>Kapitálový – </a:t>
            </a:r>
            <a:r>
              <a:rPr b="0" lang="cs-CZ" sz="2700" spc="-1" strike="noStrike">
                <a:solidFill>
                  <a:srgbClr val="4e3b30"/>
                </a:solidFill>
                <a:latin typeface="Franklin Gothic Book"/>
              </a:rPr>
              <a:t>trh, na kterém probíhají dohody a obchody se střednědobými (1 – 4 roky) a dlouhodobými úvěry, úvěrovými CP a majetkovými CP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Franklin Gothic 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0000"/>
                </a:solidFill>
                <a:latin typeface="Franklin Gothic Book"/>
              </a:rPr>
              <a:t>3. </a:t>
            </a:r>
            <a:r>
              <a:rPr b="1" lang="cs-CZ" sz="2700" spc="-1" strike="noStrike">
                <a:solidFill>
                  <a:srgbClr val="ff0000"/>
                </a:solidFill>
                <a:latin typeface="Franklin Gothic Book"/>
              </a:rPr>
              <a:t>	</a:t>
            </a:r>
            <a:r>
              <a:rPr b="1" lang="cs-CZ" sz="2700" spc="-1" strike="noStrike">
                <a:solidFill>
                  <a:srgbClr val="ff0000"/>
                </a:solidFill>
                <a:latin typeface="Franklin Gothic Book"/>
              </a:rPr>
              <a:t>Devizový – </a:t>
            </a:r>
            <a:r>
              <a:rPr b="0" lang="cs-CZ" sz="2700" spc="-1" strike="noStrike">
                <a:solidFill>
                  <a:srgbClr val="4e3b30"/>
                </a:solidFill>
                <a:latin typeface="Franklin Gothic Book"/>
              </a:rPr>
              <a:t>trh, kde se obchoduje s devizami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Nadpis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1224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800000"/>
                </a:solidFill>
                <a:latin typeface="Franklin Gothic Book"/>
              </a:rPr>
              <a:t>Trh s cennými papíry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Franklin Gothic Book"/>
              </a:rPr>
              <a:t>1.</a:t>
            </a:r>
            <a:r>
              <a:rPr b="1" lang="cs-CZ" sz="3200" spc="-1" strike="noStrike">
                <a:solidFill>
                  <a:srgbClr val="ff0000"/>
                </a:solidFill>
                <a:latin typeface="Franklin Gothic Book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Franklin Gothic Book"/>
              </a:rPr>
              <a:t>Primární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 – obchody s CP, které emitent poprvé vydává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Franklin Gothic Book"/>
              </a:rPr>
              <a:t>2. </a:t>
            </a:r>
            <a:r>
              <a:rPr b="1" lang="cs-CZ" sz="3200" spc="-1" strike="noStrike">
                <a:solidFill>
                  <a:srgbClr val="ff0000"/>
                </a:solidFill>
                <a:latin typeface="Franklin Gothic Book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Franklin Gothic Book"/>
              </a:rPr>
              <a:t>Sekundární 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– veškeré následné obchodování s CP (na burze, v RM – systému, mimoburzovní obchod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Nadpis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1224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428840"/>
            <a:ext cx="86868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800000"/>
                </a:solidFill>
                <a:latin typeface="Franklin Gothic Book"/>
              </a:rPr>
              <a:t>Subjekty finančního trhu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4e3b30"/>
                </a:solidFill>
                <a:latin typeface="Franklin Gothic Book"/>
              </a:rPr>
              <a:t>Banky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4e3b30"/>
                </a:solidFill>
                <a:latin typeface="Franklin Gothic Book"/>
              </a:rPr>
              <a:t>Pojišťovny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4e3b30"/>
                </a:solidFill>
                <a:latin typeface="Franklin Gothic Book"/>
              </a:rPr>
              <a:t>Stavební spořitelny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4e3b30"/>
                </a:solidFill>
                <a:latin typeface="Franklin Gothic Book"/>
              </a:rPr>
              <a:t>Záložny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4e3b30"/>
                </a:solidFill>
                <a:latin typeface="Franklin Gothic Book"/>
              </a:rPr>
              <a:t>Kampeličky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4e3b30"/>
                </a:solidFill>
                <a:latin typeface="Franklin Gothic Book"/>
              </a:rPr>
              <a:t>Penzijní fondy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4e3b30"/>
                </a:solidFill>
                <a:latin typeface="Franklin Gothic Book"/>
              </a:rPr>
              <a:t>Investiční fondy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4e3b30"/>
                </a:solidFill>
                <a:latin typeface="Franklin Gothic Book"/>
              </a:rPr>
              <a:t>Leasingové společnosti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4e3b30"/>
                </a:solidFill>
                <a:latin typeface="Franklin Gothic Book"/>
              </a:rPr>
              <a:t>Makléři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4e3b30"/>
                </a:solidFill>
                <a:latin typeface="Franklin Gothic Book"/>
              </a:rPr>
              <a:t>Aj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Nadpis 1" descr=""/>
          <p:cNvPicPr/>
          <p:nvPr/>
        </p:nvPicPr>
        <p:blipFill>
          <a:blip r:embed="rId1"/>
          <a:stretch/>
        </p:blipFill>
        <p:spPr>
          <a:xfrm>
            <a:off x="304920" y="195120"/>
            <a:ext cx="8686800" cy="11160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920" y="1143000"/>
            <a:ext cx="8686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800000"/>
                </a:solidFill>
                <a:latin typeface="Franklin Gothic Book"/>
              </a:rPr>
              <a:t>Cenné papír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Franklin Gothic Book"/>
              </a:rPr>
              <a:t>Členění CP z hlediska vlastnictví a převoditelnosti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1.</a:t>
            </a:r>
            <a:r>
              <a:rPr b="1" lang="cs-CZ" sz="4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Na doručitel (majitele)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převoditelem je osoba, která s nimi oprávněně nakládá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jsou převoditelné okamžikem převodu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snadno obchodovatelné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2. </a:t>
            </a: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cs-CZ" sz="2400" spc="-1" strike="noStrike">
                <a:solidFill>
                  <a:srgbClr val="4e3b30"/>
                </a:solidFill>
                <a:latin typeface="Franklin Gothic Book"/>
              </a:rPr>
              <a:t>Na jméno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hůře obchodovatelné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jméno majitele je napsáno na CP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převádí se smlouvou, která má písemnou formu, emitent musí být o změně informová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Nadpis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1224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800000"/>
                </a:solidFill>
                <a:latin typeface="Franklin Gothic Book"/>
              </a:rPr>
              <a:t>Cenné papíry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Franklin Gothic Book"/>
              </a:rPr>
              <a:t>Členění CP z hlediska vlastnictví a převoditelnosti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e3b30"/>
                </a:solidFill>
                <a:latin typeface="Franklin Gothic Book"/>
              </a:rPr>
              <a:t>3. Na řad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jméno vlastníka je uvedeno na CP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CP se převádí rubopisem a předáním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jsou obchodovatelné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2T15:34:37Z</dcterms:created>
  <dc:creator>Lukas</dc:creator>
  <dc:description/>
  <dc:language>en-US</dc:language>
  <cp:lastModifiedBy>Berka</cp:lastModifiedBy>
  <dcterms:modified xsi:type="dcterms:W3CDTF">2014-02-13T08:18:27Z</dcterms:modified>
  <cp:revision>24</cp:revision>
  <dc:subject/>
  <dc:title>VY_32_INOVACE_číslo přílohy_název DUMu</dc:title>
</cp:coreProperties>
</file>