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8D8-3631-46FE-ADDF-11EE7ACA5B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D69-E583-42C3-A782-B8D3320368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20A-25F3-4F4A-BC25-D04E746B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B4F-34B5-4ECB-A9AA-57320E9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BFE-B3B0-4D0E-B58A-F68F2FCF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712-7D8A-4214-A0DE-75CB16B3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12E-8662-47AA-85A8-CBA55960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74B7-9239-465D-B1DE-D33E9776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6622-696B-40A6-AF98-A940039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BE5-8F42-449D-AE62-207FC557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082-9A3B-4286-8F1E-D2E81F3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9C0-E9F3-4DE1-B0E5-67CC954F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620-F2F4-4B58-A80D-FB6C31B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899-618C-4BE2-B63A-A1466C4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F5EC-2740-426E-8343-9194F5E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2399-187C-4B09-9E80-9E34854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6B84-A347-412B-9929-BA3A6B0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695-F22D-49A6-AFAF-806D284F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710-1033-4530-BA71-50C2C6B5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9623-DDB2-43C8-8768-915ABE4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E474-8375-4F3E-A523-12B3B95A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E49B-179A-42AE-8587-AC2DC96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FD11-E25C-4538-B34D-0F962E6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25AC-568F-401C-AF6D-DA729C10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D7E-84F2-41ED-994A-E1E3DD6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16D7-BF8B-4463-9F48-DA35AB4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513E-92EC-4D56-8EC8-4A3641E7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E20D-9275-4303-8B09-E8902D0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0FCB5-3DE1-459C-B046-4E462687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4C5F-8C87-4070-918E-43C3DD8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CD0E-B5A8-45F0-85F8-AE8691A5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E81A-B521-4D9D-9B99-4786301C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5150-1E40-4937-A8BE-A9B04425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090F-CCCE-4C15-ACB8-74F484A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4DBE-AE5E-4C09-AC7D-87AA3613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61E-4D76-4EC8-A5B3-28618818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113C-646A-4823-9D44-A94648F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B5D6-62C7-491C-A10B-E33CEDE8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2AAF-B8C4-4C24-9315-E135D91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A727-9B3A-4BD1-BFD7-98B5B26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D568-A3CA-49F1-8A27-4A3A5843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B679-CB09-48E7-84C3-E6A142A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FB06-6F07-4938-B9D9-91F9DD75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56A9D-5C33-4257-815A-1F295487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BE04-64CC-46B0-82F3-6131748C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51EBD-7A76-435D-AFE6-E1072060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4BA-07B4-48ED-B409-375A3F6A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CDDD-6DA5-4F44-A0DC-4AC22642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E75D-6769-4DEB-BBDE-CE203E2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208F-0738-4FAC-941B-3B1AA34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38E2-4045-420C-A1FF-79FB9E43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19F3-BD60-4EF3-A666-1399FD6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6BA4-2724-4A76-B598-07C188B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D81B5-85F3-4BD2-8159-3E5984F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6EC6-F707-4520-B1B4-28849FE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44C5-5A4D-4743-8F31-ADEED1D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27CA-7276-4767-860B-E964E68F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0FB-4024-4CBE-9DA9-6CBAF3CB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FE4E-BB5C-44F8-AB80-FED21524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0D1B2-EF0B-49DE-A288-8AEE63C2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A787-B675-4C47-8698-CDC84A91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9720-0B57-40AD-BC4A-D10D300F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AC66B-0B73-4AF8-A485-670F399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B331-F63E-4987-916C-304113B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D25D-9787-4AB6-A1EC-41D7F7A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BD5B-1413-47D7-B217-B6E8EB6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8E5D-0F07-4FD7-94E2-33AEB0D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D1AF-822E-4EE4-95A6-85E107C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C69-0F65-4AC1-947F-456EABE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CDA9-0151-4924-921D-CD5E445D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7F7F-EB8F-40C4-81D8-15290571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904F-FE53-4047-A82B-6B56D78C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CE81D-BFFE-4A3F-B884-47D68BB1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B246A-2D99-4689-AF25-3E97D20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8F47-5320-416A-B645-14907FE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42420-B963-4C8F-B4B5-FA487EA6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29CE6-F6C9-4E62-B925-6D67F3D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880B-36EA-4B3E-BCA2-6EA09D3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E26B-F92F-46F3-8017-B5E39FC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216-8A59-4D3E-8655-B53D89D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012E-0BCC-48C9-98ED-04ADBBD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5E89-B49B-4ECF-8418-98AF8DB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3254-F2DE-4A6A-953B-4F008FC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1735-3C62-4C99-9650-0A368CCD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8E03D-E99E-452A-8AE0-8308C9BA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139-BC00-4E3A-94E6-E70FD32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D212-6AD5-4C62-966A-96DBF9ECB4E5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á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á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á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C6C-5FF3-4837-AF3B-C507E4913F33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ĺž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á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á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á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5F7-7862-49DD-88CC-E2449F36AE63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FA4-3801-44BC-8A95-C5C785308D3C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ĺž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75E4-1100-49BE-BA28-E5629623D5C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CFA0-0E12-47DB-9BA2-7D97259FF2BA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ĺžni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Obdĺžni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6128-3216-45B5-909D-6EC8E788AB4D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5920" y="2071800"/>
            <a:ext cx="758664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3200" spc="-1" strike="noStrike">
                <a:solidFill>
                  <a:srgbClr val="572314"/>
                </a:solidFill>
                <a:latin typeface="Calibri"/>
              </a:rPr>
              <a:t>VY_32_INOVACE_090_Ekonomika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7624800" cy="235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3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300"/>
            </a:br>
            <a:r>
              <a:rPr b="0" lang="sk-SK" sz="30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0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20e04"/>
                </a:solidFill>
                <a:latin typeface="Calibri"/>
              </a:rPr>
              <a:t>Autor: Mgr. Roman Ber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Obrázek 3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76755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800"/>
            </a:br>
            <a:r>
              <a:rPr b="0" lang="sk-SK" sz="43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43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4. Fondy smíšené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vytvářejí optimální portfolio (min. riziko a max. výnosnost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10000"/>
              </a:lnSpc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5. Fondy fondů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výhradně kupují podílové listy jiných fond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9520" cy="12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8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57000"/>
            <a:ext cx="74995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922223"/>
                </a:solidFill>
                <a:latin typeface="Gill Sans MT"/>
              </a:rPr>
              <a:t>Podílové fondy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70c0"/>
                </a:solidFill>
                <a:latin typeface="Gill Sans MT"/>
              </a:rPr>
              <a:t>Otevřené</a:t>
            </a: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 – podílové listy jsou vydávané v celkovém množství a majitel je může kdykoli odprodat zpět investiční společnosti, která fond spravuj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70c0"/>
                </a:solidFill>
                <a:latin typeface="Gill Sans MT"/>
              </a:rPr>
              <a:t>Uzavřené </a:t>
            </a:r>
            <a:r>
              <a:rPr b="0" lang="cs-CZ" sz="2700" spc="-1" strike="noStrike">
                <a:solidFill>
                  <a:srgbClr val="000000"/>
                </a:solidFill>
                <a:latin typeface="Gill Sans MT"/>
              </a:rPr>
              <a:t>– vydávají pouze pevný počet podílových listů, které nelze odprodat zpět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922223"/>
                </a:solidFill>
                <a:latin typeface="Gill Sans MT"/>
              </a:rPr>
              <a:t>Podílové fondy jsou bez právní subjektivit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5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83920"/>
            <a:ext cx="7499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Zdroj:</a:t>
            </a:r>
            <a:r>
              <a:rPr b="1" lang="cs-CZ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https://www.google.cz/search?q=zat%C3%ADmn%C3%AD+list+vzor&amp;source=lnms&amp;tbm=isch&amp;sa=X&amp;ei=OCfUUe28K8fmswb6gYHABg&amp;ved=0CAcQ_AUoAQ&amp;biw=1143&amp;bih=672#tbm=isch&amp;sa=1&amp;q=pod%C3%ADlov%C3%A9+listy&amp;oq=pod%C3%ADlov%C3%A9+listy&amp;gs_l=img.1.0.0j0i24l7.987018.989471.0.991552.14.8.0.5.5.0.284.1316.2j4j2.8.0....0...1c.1.19.img.g3ncdrEtQ44&amp;bav=on.2,or.r_qf.&amp;bvm=bv.48705608,d.Yms&amp;fp=309932b3be8335ae&amp;biw=1143&amp;bih=672, dne 3. 7. 2013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518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72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628640"/>
            <a:ext cx="7499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Zdroj:</a:t>
            </a:r>
            <a:r>
              <a:rPr b="1" lang="cs-CZ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Gill Sans MT"/>
              </a:rPr>
              <a:t>https://www.google.cz/search?q=zat%C3%ADmn%C3%AD+list+vzor&amp;source=lnms&amp;tbm=isch&amp;sa=X&amp;ei=OCfUUe28K8fmswb6gYHABg&amp;ved=0CAcQ_AUoAQ&amp;biw=1143&amp;bih=672#tbm=isch&amp;sa=1&amp;q=pod%C3%ADlov%C3%A9+listy&amp;oq=pod%C3%ADlov%C3%A9+listy&amp;gs_l=img.1.0.0j0i24l7.987018.989471.0.991552.14.8.0.5.5.0.284.1316.2j4j2.8.0....0...1c.1.19.img.g3ncdrEtQ44&amp;bav=on.2,or.r_qf.&amp;bvm=bv.48705608,d.Yms&amp;fp=309932b3be8335ae&amp;biw=1143&amp;bih=672, dne 3. 7. 2013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2484360" y="2347920"/>
            <a:ext cx="547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86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Použitá literatur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ill Sans MT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. 3., upr. vyd. Praha: Eduko, 4 sv. ISBN 978-80-87204-38-24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ill Sans MT"/>
              </a:rPr>
              <a:t>Ekonomie nejen k maturitě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. Vyd. 1. Kralice na Hané: Computer Media, 2007. ISBN 978-80-86686-78-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2314"/>
                </a:solidFill>
                <a:latin typeface="Gill Sans MT"/>
              </a:rPr>
              <a:t>Záznamový list výukového materiálu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357200" y="1214280"/>
          <a:ext cx="7329600" cy="5214960"/>
        </p:xfrm>
        <a:graphic>
          <a:graphicData uri="http://schemas.openxmlformats.org/drawingml/2006/table">
            <a:tbl>
              <a:tblPr/>
              <a:tblGrid>
                <a:gridCol w="2638440"/>
                <a:gridCol w="4691160"/>
              </a:tblGrid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kapitálového trhu, majetkové cenné papíry 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90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zatímních listech a podílových listech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720" y="260280"/>
            <a:ext cx="779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03280" y="1989000"/>
            <a:ext cx="7026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ill Sans MT"/>
              </a:rPr>
              <a:t>Zatímní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odílové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0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2a6d7d"/>
                </a:solidFill>
                <a:latin typeface="Gill Sans MT"/>
              </a:rPr>
              <a:t>2. roční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258560" y="1699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70c0"/>
                </a:solidFill>
                <a:latin typeface="Gill Sans MT"/>
              </a:rPr>
              <a:t>ZATÍMNÍ LIST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Vydávají se v situaci, kdy došlo k zapsání akciové společnosti do obchodního rejstříku, ale akcionář dosud nesplatil jmenovitou hodnotu akci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Obsahuje jméno, údaje o jmenovité hodnotě a splatnost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o úplném splacení obdrží majitel akci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5570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ZATÍMNÍ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droj: </a:t>
            </a:r>
            <a:r>
              <a:rPr b="0" lang="cs-CZ" sz="1600" spc="-1" strike="noStrike">
                <a:solidFill>
                  <a:srgbClr val="000000"/>
                </a:solidFill>
                <a:latin typeface="Gill Sans MT"/>
              </a:rPr>
              <a:t>https://www.google.cz/search?q=zat%C3%ADmn%C3%AD+list+vzor&amp;source=lnms&amp;tbm=isch&amp;sa=X&amp;ei=OCfUUe28K8fmswb6gYHABg&amp;ved=0CAcQ_AUoAQ&amp;biw=1143&amp;bih=672, dne 3. 7. 201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82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0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ZATÍMNÍ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droj: </a:t>
            </a:r>
            <a:r>
              <a:rPr b="0" lang="cs-CZ" sz="1600" spc="-1" strike="noStrike">
                <a:solidFill>
                  <a:srgbClr val="000000"/>
                </a:solidFill>
                <a:latin typeface="Gill Sans MT"/>
              </a:rPr>
              <a:t>https://www.google.cz/search?q=zat%C3%ADmn%C3%AD+list+vzor&amp;source=lnms&amp;tbm=isch&amp;sa=X&amp;ei=OCfUUe28K8fmswb6gYHABg&amp;ved=0CAcQ_AUoAQ&amp;biw=1143&amp;bih=672, dne 3. 7. 201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5472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3920" y="1773360"/>
            <a:ext cx="77202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Tyto cenné papíry jsou </a:t>
            </a:r>
            <a:r>
              <a:rPr b="0" lang="cs-CZ" sz="3000" spc="-1" strike="noStrike">
                <a:solidFill>
                  <a:srgbClr val="922223"/>
                </a:solidFill>
                <a:latin typeface="Gill Sans MT"/>
              </a:rPr>
              <a:t>vydávány podílovými fon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odílový list vypadá podobně jako akcie, ale na rozdíl od akcie </a:t>
            </a:r>
            <a:r>
              <a:rPr b="0" lang="cs-CZ" sz="3000" spc="-1" strike="noStrike">
                <a:solidFill>
                  <a:srgbClr val="0070c0"/>
                </a:solidFill>
                <a:latin typeface="Gill Sans MT"/>
              </a:rPr>
              <a:t>není majitel podílového listu spolumajitelem podílové společnost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Podílové fondy jsou formou kolektivního investování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Jsou vhodné pro méně zkušené investor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9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8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87280" y="1484280"/>
            <a:ext cx="77472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Majetek shromažďují prodáváním podílových fondů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odílové fondy jsou zakládány investičními společnostmi nebo banka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22223"/>
                </a:solidFill>
                <a:latin typeface="Gill Sans MT"/>
              </a:rPr>
              <a:t>Kurz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 podílového listu záleží na tom, </a:t>
            </a:r>
            <a:r>
              <a:rPr b="0" lang="cs-CZ" sz="2800" spc="-1" strike="noStrike">
                <a:solidFill>
                  <a:srgbClr val="922223"/>
                </a:solidFill>
                <a:latin typeface="Gill Sans MT"/>
              </a:rPr>
              <a:t>jakým způsobem byly fondem investová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2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Podílové listy jsou </a:t>
            </a:r>
            <a:r>
              <a:rPr b="0" lang="cs-CZ" sz="2800" spc="-1" strike="noStrike">
                <a:solidFill>
                  <a:srgbClr val="0070c0"/>
                </a:solidFill>
                <a:latin typeface="Gill Sans MT"/>
              </a:rPr>
              <a:t>dobře obchodovatelné a rychle likvidní 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9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5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47280" y="1628280"/>
            <a:ext cx="738684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70c0"/>
                </a:solidFill>
                <a:latin typeface="Gill Sans MT"/>
              </a:rPr>
              <a:t>PODÍLOVÉ LISTY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Gill Sans MT"/>
              </a:rPr>
              <a:t>Dělení podílových fondů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1. Akciové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– investují do nákupu akc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2. Dluhopisové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 – investují do nákupu dluhopis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3. Fondy peněžního trhu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investují do krátkodobých CP a bankovních vklad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2:08:05Z</dcterms:created>
  <dc:creator>Lukas</dc:creator>
  <dc:description/>
  <dc:language>en-US</dc:language>
  <cp:lastModifiedBy>Berka</cp:lastModifiedBy>
  <dcterms:modified xsi:type="dcterms:W3CDTF">2014-02-13T08:21:08Z</dcterms:modified>
  <cp:revision>33</cp:revision>
  <dc:subject/>
  <dc:title>VY_32_INOVACE_číslo přílohy_název DUMu</dc:title>
</cp:coreProperties>
</file>