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0D2-506F-45D0-8453-01205093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2CE8-E3F7-44B5-AEEC-28493C96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9701-A53E-4315-9863-E17FABCD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805-9E05-4271-BCAC-0E49E893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80C0-78EE-4EE4-9F9A-7BAA947F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43A-BF44-4FB9-8309-B57E6E93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506C-155D-40C4-83D7-8E6C38F7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5973-811A-445F-8671-4679DD3D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17A3-D70F-410B-8CEF-FE4716EA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3249-624E-4114-9B46-B898EFD9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0D5-BD85-4B06-BDA9-EE3E68FE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28B-0BA4-4518-BB9A-2B565765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EED2-D2AE-403C-8E98-E8564BF52F04}" type="slidenum">
              <a:rPr b="1" lang="cs-CZ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hodování, rozhodovací pro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195640" y="263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Y_32_INOVACE_114_Managem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292720" y="5589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utor: Ing. Vladimír Havelk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bdélník 1"/>
          <p:cNvSpPr/>
          <p:nvPr/>
        </p:nvSpPr>
        <p:spPr>
          <a:xfrm>
            <a:off x="468360" y="333360"/>
            <a:ext cx="7991280" cy="14360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iagram příčin a důsledků – rybí kos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formulace problému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grafická metoda, vychází z vytipovaného problému (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),určení hlavní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příčinných faktorů (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), analýza jednotlivých dílčích příčin (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římá spojovací čára 6"/>
          <p:cNvSpPr/>
          <p:nvPr/>
        </p:nvSpPr>
        <p:spPr>
          <a:xfrm>
            <a:off x="1908000" y="4041720"/>
            <a:ext cx="5185080" cy="3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římá spojovací čára 8"/>
          <p:cNvSpPr/>
          <p:nvPr/>
        </p:nvSpPr>
        <p:spPr>
          <a:xfrm flipV="1">
            <a:off x="2484360" y="2420640"/>
            <a:ext cx="1440000" cy="165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římá spojovací čára 10"/>
          <p:cNvSpPr/>
          <p:nvPr/>
        </p:nvSpPr>
        <p:spPr>
          <a:xfrm flipV="1">
            <a:off x="5076720" y="2636640"/>
            <a:ext cx="1150920" cy="1439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římá spojovací čára 16"/>
          <p:cNvSpPr/>
          <p:nvPr/>
        </p:nvSpPr>
        <p:spPr>
          <a:xfrm>
            <a:off x="2987640" y="4076640"/>
            <a:ext cx="1008000" cy="165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římá spojovací čára 18"/>
          <p:cNvSpPr/>
          <p:nvPr/>
        </p:nvSpPr>
        <p:spPr>
          <a:xfrm>
            <a:off x="6156360" y="4076640"/>
            <a:ext cx="936720" cy="158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římá spojovací čára 20"/>
          <p:cNvSpPr/>
          <p:nvPr/>
        </p:nvSpPr>
        <p:spPr>
          <a:xfrm flipH="1">
            <a:off x="2411280" y="2997360"/>
            <a:ext cx="936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římá spojovací čára 24"/>
          <p:cNvSpPr/>
          <p:nvPr/>
        </p:nvSpPr>
        <p:spPr>
          <a:xfrm>
            <a:off x="3059280" y="3429000"/>
            <a:ext cx="936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římá spojovací čára 26"/>
          <p:cNvSpPr/>
          <p:nvPr/>
        </p:nvSpPr>
        <p:spPr>
          <a:xfrm>
            <a:off x="4932360" y="2924280"/>
            <a:ext cx="1079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římá spojovací čára 30"/>
          <p:cNvSpPr/>
          <p:nvPr/>
        </p:nvSpPr>
        <p:spPr>
          <a:xfrm>
            <a:off x="5435640" y="3645000"/>
            <a:ext cx="1081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římá spojovací čára 32"/>
          <p:cNvSpPr/>
          <p:nvPr/>
        </p:nvSpPr>
        <p:spPr>
          <a:xfrm>
            <a:off x="5724360" y="4724280"/>
            <a:ext cx="792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římá spojovací čára 34"/>
          <p:cNvSpPr/>
          <p:nvPr/>
        </p:nvSpPr>
        <p:spPr>
          <a:xfrm>
            <a:off x="6875640" y="5300640"/>
            <a:ext cx="1081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římá spojovací čára 36"/>
          <p:cNvSpPr/>
          <p:nvPr/>
        </p:nvSpPr>
        <p:spPr>
          <a:xfrm>
            <a:off x="3348000" y="4724280"/>
            <a:ext cx="1079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římá spojovací čára 38"/>
          <p:cNvSpPr/>
          <p:nvPr/>
        </p:nvSpPr>
        <p:spPr>
          <a:xfrm>
            <a:off x="2627280" y="5300640"/>
            <a:ext cx="1152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Obdélník 39"/>
          <p:cNvSpPr/>
          <p:nvPr/>
        </p:nvSpPr>
        <p:spPr>
          <a:xfrm>
            <a:off x="5867280" y="2133720"/>
            <a:ext cx="91440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Obdélník 45"/>
          <p:cNvSpPr/>
          <p:nvPr/>
        </p:nvSpPr>
        <p:spPr>
          <a:xfrm>
            <a:off x="3419640" y="1916280"/>
            <a:ext cx="914400" cy="50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Obdélník 46"/>
          <p:cNvSpPr/>
          <p:nvPr/>
        </p:nvSpPr>
        <p:spPr>
          <a:xfrm>
            <a:off x="3492360" y="5732640"/>
            <a:ext cx="914400" cy="50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Obdélník 47"/>
          <p:cNvSpPr/>
          <p:nvPr/>
        </p:nvSpPr>
        <p:spPr>
          <a:xfrm>
            <a:off x="6659640" y="5661000"/>
            <a:ext cx="914400" cy="50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" name="Elipsa 50"/>
          <p:cNvGrpSpPr/>
          <p:nvPr/>
        </p:nvGrpSpPr>
        <p:grpSpPr>
          <a:xfrm>
            <a:off x="2066760" y="2719440"/>
            <a:ext cx="547920" cy="646200"/>
            <a:chOff x="2066760" y="2719440"/>
            <a:chExt cx="547920" cy="646200"/>
          </a:xfrm>
        </p:grpSpPr>
        <p:pic>
          <p:nvPicPr>
            <p:cNvPr id="85" name="Elipsa 50" descr=""/>
            <p:cNvPicPr/>
            <p:nvPr/>
          </p:nvPicPr>
          <p:blipFill>
            <a:blip r:embed="rId1"/>
            <a:stretch/>
          </p:blipFill>
          <p:spPr>
            <a:xfrm>
              <a:off x="2066760" y="2719440"/>
              <a:ext cx="5479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187720" y="284472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7" name="Elipsa 51"/>
          <p:cNvSpPr/>
          <p:nvPr/>
        </p:nvSpPr>
        <p:spPr>
          <a:xfrm>
            <a:off x="3995640" y="3213000"/>
            <a:ext cx="432000" cy="43200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Elipsa 53"/>
          <p:cNvSpPr/>
          <p:nvPr/>
        </p:nvSpPr>
        <p:spPr>
          <a:xfrm>
            <a:off x="6516720" y="34290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Elipsa 54"/>
          <p:cNvSpPr/>
          <p:nvPr/>
        </p:nvSpPr>
        <p:spPr>
          <a:xfrm>
            <a:off x="2411280" y="5084640"/>
            <a:ext cx="432000" cy="43200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Elipsa 55"/>
          <p:cNvSpPr/>
          <p:nvPr/>
        </p:nvSpPr>
        <p:spPr>
          <a:xfrm>
            <a:off x="4356000" y="4508640"/>
            <a:ext cx="432000" cy="433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Elipsa 56"/>
          <p:cNvSpPr/>
          <p:nvPr/>
        </p:nvSpPr>
        <p:spPr>
          <a:xfrm>
            <a:off x="5508720" y="4508640"/>
            <a:ext cx="431640" cy="433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Elipsa 57"/>
          <p:cNvSpPr/>
          <p:nvPr/>
        </p:nvSpPr>
        <p:spPr>
          <a:xfrm>
            <a:off x="7956720" y="5084640"/>
            <a:ext cx="431640" cy="43200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Obdélník 4"/>
          <p:cNvSpPr/>
          <p:nvPr/>
        </p:nvSpPr>
        <p:spPr>
          <a:xfrm>
            <a:off x="755640" y="3716280"/>
            <a:ext cx="1152360" cy="6494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Elipsa 52"/>
          <p:cNvSpPr/>
          <p:nvPr/>
        </p:nvSpPr>
        <p:spPr>
          <a:xfrm>
            <a:off x="4716360" y="2708280"/>
            <a:ext cx="432000" cy="433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bdélník 1"/>
          <p:cNvSpPr/>
          <p:nvPr/>
        </p:nvSpPr>
        <p:spPr>
          <a:xfrm>
            <a:off x="611280" y="333360"/>
            <a:ext cx="7993080" cy="597348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etody tvůrčího myšlení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- spojené s objevováním a tvořivostí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druhy metod tvůrčího myšlení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Intuitivní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opírají se o co největší počet námětů,  příznivé  pracovní podmínky, odložení úsudku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etody intuitivní: -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bursa nápadů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řešení ve skupině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brainwriting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ísemná modifikace burs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Delphi metoda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dotazníky pro odborník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řízená diskuze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říprava a pohotovost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moderátor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Systematické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uspořádaný přístup do tvořivého procesu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etody systematické: -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využívající analogie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využití známého  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incipu řešení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matematicko-logické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kombinace jevů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reálných a možný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bdélník 1"/>
          <p:cNvSpPr/>
          <p:nvPr/>
        </p:nvSpPr>
        <p:spPr>
          <a:xfrm>
            <a:off x="250920" y="333360"/>
            <a:ext cx="8424720" cy="583956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etody vyhodnocování varian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ruhy metod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 prosté, jednokriteriální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: -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tabulka výhod a nevý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diferenciační přístup 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 tvoří jedno z řešení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bodová tabul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přiznání bodů ( 1 – 10 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ícekriteriál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určení více kritérií a jejich význam ( priorita,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párové srovnání 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ozhodovací  strom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ozhodovací proces za rizika a nejisto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ílčí etapy rozhodnutí, přičemž rozhodnutí v každé následující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etapě jsou závislá na rozhodnutí v předcházející etapě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Kosočtverec 1"/>
          <p:cNvSpPr/>
          <p:nvPr/>
        </p:nvSpPr>
        <p:spPr>
          <a:xfrm>
            <a:off x="324000" y="2924280"/>
            <a:ext cx="1346040" cy="914400"/>
          </a:xfrm>
          <a:prstGeom prst="diamond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Elipsa 2"/>
          <p:cNvSpPr/>
          <p:nvPr/>
        </p:nvSpPr>
        <p:spPr>
          <a:xfrm>
            <a:off x="3059280" y="2924280"/>
            <a:ext cx="936360" cy="93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Kosočtverec 5"/>
          <p:cNvSpPr/>
          <p:nvPr/>
        </p:nvSpPr>
        <p:spPr>
          <a:xfrm>
            <a:off x="5219640" y="3933720"/>
            <a:ext cx="914400" cy="914400"/>
          </a:xfrm>
          <a:prstGeom prst="diamond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římá spojovací čára 7"/>
          <p:cNvSpPr/>
          <p:nvPr/>
        </p:nvSpPr>
        <p:spPr>
          <a:xfrm>
            <a:off x="1670040" y="3381480"/>
            <a:ext cx="1389240" cy="11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římá spojovací čára 10"/>
          <p:cNvSpPr/>
          <p:nvPr/>
        </p:nvSpPr>
        <p:spPr>
          <a:xfrm>
            <a:off x="3859200" y="3724200"/>
            <a:ext cx="1360440" cy="666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římá spojovací čára 12"/>
          <p:cNvSpPr/>
          <p:nvPr/>
        </p:nvSpPr>
        <p:spPr>
          <a:xfrm flipV="1">
            <a:off x="3859200" y="2276640"/>
            <a:ext cx="71136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římá spojovací čára 14"/>
          <p:cNvSpPr/>
          <p:nvPr/>
        </p:nvSpPr>
        <p:spPr>
          <a:xfrm>
            <a:off x="4643280" y="2276640"/>
            <a:ext cx="2737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římá spojovací čára 16"/>
          <p:cNvSpPr/>
          <p:nvPr/>
        </p:nvSpPr>
        <p:spPr>
          <a:xfrm flipV="1">
            <a:off x="1670040" y="1197000"/>
            <a:ext cx="1820880" cy="2184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římá spojovací čára 18"/>
          <p:cNvSpPr/>
          <p:nvPr/>
        </p:nvSpPr>
        <p:spPr>
          <a:xfrm>
            <a:off x="3492360" y="1197000"/>
            <a:ext cx="3889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římá spojovací čára 20"/>
          <p:cNvSpPr/>
          <p:nvPr/>
        </p:nvSpPr>
        <p:spPr>
          <a:xfrm flipV="1">
            <a:off x="6134040" y="3860280"/>
            <a:ext cx="382680" cy="530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římá spojovací čára 22"/>
          <p:cNvSpPr/>
          <p:nvPr/>
        </p:nvSpPr>
        <p:spPr>
          <a:xfrm>
            <a:off x="6516720" y="3860640"/>
            <a:ext cx="863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římá spojovací čára 24"/>
          <p:cNvSpPr/>
          <p:nvPr/>
        </p:nvSpPr>
        <p:spPr>
          <a:xfrm>
            <a:off x="6134040" y="4390920"/>
            <a:ext cx="382680" cy="550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římá spojovací čára 26"/>
          <p:cNvSpPr/>
          <p:nvPr/>
        </p:nvSpPr>
        <p:spPr>
          <a:xfrm>
            <a:off x="6516720" y="4941720"/>
            <a:ext cx="792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římá spojovací čára 28"/>
          <p:cNvSpPr/>
          <p:nvPr/>
        </p:nvSpPr>
        <p:spPr>
          <a:xfrm>
            <a:off x="1670040" y="3381480"/>
            <a:ext cx="1820880" cy="2711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římá spojovací čára 30"/>
          <p:cNvSpPr/>
          <p:nvPr/>
        </p:nvSpPr>
        <p:spPr>
          <a:xfrm>
            <a:off x="3419640" y="6093000"/>
            <a:ext cx="3889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římá spojovací čára 32"/>
          <p:cNvSpPr/>
          <p:nvPr/>
        </p:nvSpPr>
        <p:spPr>
          <a:xfrm flipH="1">
            <a:off x="4572000" y="2276640"/>
            <a:ext cx="1295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římá spojovací čára 34"/>
          <p:cNvSpPr/>
          <p:nvPr/>
        </p:nvSpPr>
        <p:spPr>
          <a:xfrm>
            <a:off x="4859280" y="1197000"/>
            <a:ext cx="433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římá spojovací čára 38"/>
          <p:cNvSpPr/>
          <p:nvPr/>
        </p:nvSpPr>
        <p:spPr>
          <a:xfrm>
            <a:off x="4067280" y="6093000"/>
            <a:ext cx="288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římá spojovací čára 40"/>
          <p:cNvSpPr/>
          <p:nvPr/>
        </p:nvSpPr>
        <p:spPr>
          <a:xfrm>
            <a:off x="4284720" y="6093000"/>
            <a:ext cx="2519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římá spojovací čára 42"/>
          <p:cNvSpPr/>
          <p:nvPr/>
        </p:nvSpPr>
        <p:spPr>
          <a:xfrm>
            <a:off x="3708360" y="6093000"/>
            <a:ext cx="358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římá spojovací čára 44"/>
          <p:cNvSpPr/>
          <p:nvPr/>
        </p:nvSpPr>
        <p:spPr>
          <a:xfrm>
            <a:off x="3492360" y="6093000"/>
            <a:ext cx="216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Obdélník 45"/>
          <p:cNvSpPr/>
          <p:nvPr/>
        </p:nvSpPr>
        <p:spPr>
          <a:xfrm>
            <a:off x="2340000" y="2060640"/>
            <a:ext cx="431640" cy="431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Obdélník 47"/>
          <p:cNvSpPr/>
          <p:nvPr/>
        </p:nvSpPr>
        <p:spPr>
          <a:xfrm>
            <a:off x="2340000" y="3141720"/>
            <a:ext cx="431640" cy="431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Obdélník 48"/>
          <p:cNvSpPr/>
          <p:nvPr/>
        </p:nvSpPr>
        <p:spPr>
          <a:xfrm>
            <a:off x="2340000" y="4437000"/>
            <a:ext cx="431640" cy="432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ovnoramenný trojúhelník 49"/>
          <p:cNvSpPr/>
          <p:nvPr/>
        </p:nvSpPr>
        <p:spPr>
          <a:xfrm>
            <a:off x="3995640" y="2276640"/>
            <a:ext cx="647640" cy="792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b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ovnoramenný trojúhelník 50"/>
          <p:cNvSpPr/>
          <p:nvPr/>
        </p:nvSpPr>
        <p:spPr>
          <a:xfrm>
            <a:off x="4067280" y="3645000"/>
            <a:ext cx="649080" cy="792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b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Obdélník 51"/>
          <p:cNvSpPr/>
          <p:nvPr/>
        </p:nvSpPr>
        <p:spPr>
          <a:xfrm>
            <a:off x="6156360" y="3789360"/>
            <a:ext cx="287280" cy="503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Obdélník 52"/>
          <p:cNvSpPr/>
          <p:nvPr/>
        </p:nvSpPr>
        <p:spPr>
          <a:xfrm>
            <a:off x="6156360" y="4508640"/>
            <a:ext cx="287280" cy="50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Obdélník 54"/>
          <p:cNvSpPr/>
          <p:nvPr/>
        </p:nvSpPr>
        <p:spPr>
          <a:xfrm>
            <a:off x="7451640" y="1197000"/>
            <a:ext cx="914400" cy="503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Obdélník 55"/>
          <p:cNvSpPr/>
          <p:nvPr/>
        </p:nvSpPr>
        <p:spPr>
          <a:xfrm>
            <a:off x="7451640" y="2276640"/>
            <a:ext cx="914400" cy="504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bdélník 56"/>
          <p:cNvSpPr/>
          <p:nvPr/>
        </p:nvSpPr>
        <p:spPr>
          <a:xfrm>
            <a:off x="7380360" y="3860640"/>
            <a:ext cx="914400" cy="505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Obdélník 57"/>
          <p:cNvSpPr/>
          <p:nvPr/>
        </p:nvSpPr>
        <p:spPr>
          <a:xfrm>
            <a:off x="7380360" y="4941720"/>
            <a:ext cx="914400" cy="503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IV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Obdélník 58"/>
          <p:cNvSpPr/>
          <p:nvPr/>
        </p:nvSpPr>
        <p:spPr>
          <a:xfrm>
            <a:off x="7380360" y="6093000"/>
            <a:ext cx="914400" cy="504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bdélník 65"/>
          <p:cNvSpPr/>
          <p:nvPr/>
        </p:nvSpPr>
        <p:spPr>
          <a:xfrm>
            <a:off x="1116000" y="189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zhodovací  stromy  - příkl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Obdélník 66"/>
          <p:cNvSpPr/>
          <p:nvPr/>
        </p:nvSpPr>
        <p:spPr>
          <a:xfrm>
            <a:off x="539640" y="549360"/>
            <a:ext cx="79930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optávka po výrobku, který firma vyrábí, převyšuje její kapacitní možnosti –omezený počet pracovníků, možná řešení problému jsou uvedena pomocí rozhodovacího stromu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Vysvětlivky k předešlému příkladu rozhodovacího stro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A – nedostatečná kapacita pracovních s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a1 – přijetí nových pracovník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I – náklady na zácvik, zvýšení výroby po určité dob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a2 – zvýšení přesčas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a3 – žádné opatř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V – ztráta prodejní příležit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f497d"/>
                </a:solidFill>
                <a:latin typeface="Calibri"/>
              </a:rPr>
              <a:t>B – reakce pracovníků, stanovisko odbor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7375e"/>
                </a:solidFill>
                <a:latin typeface="Calibri"/>
              </a:rPr>
              <a:t>b1 – souhlas pracovníků a odbor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II – okamžité zvýšení produk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7375e"/>
                </a:solidFill>
                <a:latin typeface="Calibri"/>
              </a:rPr>
              <a:t>b2 – nesouhlas pracovníků a odbor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84807"/>
                </a:solidFill>
                <a:latin typeface="Calibri"/>
              </a:rPr>
              <a:t>C – nové rozhodnutí z hlediska nesouhlasu s přesčas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46c0a"/>
                </a:solidFill>
                <a:latin typeface="Calibri"/>
              </a:rPr>
              <a:t>c1 – přijetí nových pracovník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III – náklady na zácvik, zvýšení výroby po určité dob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46c0a"/>
                </a:solidFill>
                <a:latin typeface="Calibri"/>
              </a:rPr>
              <a:t>c2 – žádné opatř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IV  – ztráta prodejní příležit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147160" cy="6476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84807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984807"/>
                </a:solidFill>
                <a:latin typeface="Calibri"/>
              </a:rPr>
              <a:t>Výpočetní techn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907560"/>
            <a:ext cx="8147160" cy="54738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čítačová podpora rozhodování může mít tři form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formač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počítačové databá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informace interního charakte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informace o podnikatelském okol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informace týkající se minulosti, současnosti,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budouc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odelová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matematické mode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odelové techni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odelové teor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expert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expertní znalosti o postupe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očítač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Literatura předmě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OC.ING.VEBER.CSC., Jaromír a kol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Základy managementu - pro střední škol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druhé vydání. Praha: Fortuna, 2003, 136. ISBN 80-7168-654-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NG.ZLÁMAL,PHDR., Jaroslav; ING.BC.BAČÍK,PHD, Petr; ING.BELLOVÁ,PHD, Jan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Management - Základy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Kralice na Hané, Hrubčická 495: Computr Media s.r.o., 2011, 104. ISBN 978-80-7402-083-4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ING.KLIKOVÁ, Dagmar; ING.ROZUMOVÁ, Petr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Slovník základních pojmů z marketingu a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 1,Jungmanova 7: Fortuna, 1997, 48. ISBN 80-7168-504-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c. KOZLER, Josef; MATĚJKA, Jan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Ekonomika, Management, Marketi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Havlíčkův Brod, Humpolecká 1503: Fragment, 1998, 139. ISBN 80-7200-253-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kt 2"/>
          <p:cNvGraphicFramePr/>
          <p:nvPr/>
        </p:nvGraphicFramePr>
        <p:xfrm>
          <a:off x="971640" y="549360"/>
          <a:ext cx="7559640" cy="591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" name="Obj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549360"/>
                    <a:ext cx="755964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2240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2923920"/>
            <a:ext cx="8229600" cy="2881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Rozhodování, rozhodovací proc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863640"/>
          </a:xfrm>
          <a:prstGeom prst="rect">
            <a:avLst/>
          </a:prstGeom>
          <a:solidFill>
            <a:srgbClr val="c3d69b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53735"/>
                </a:solidFill>
                <a:latin typeface="Calibri"/>
              </a:rPr>
              <a:t>14.1 Rozhodová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052640"/>
            <a:ext cx="8300880" cy="54007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84807"/>
                </a:solidFill>
                <a:latin typeface="Calibri"/>
              </a:rPr>
              <a:t>Rozhodování , rozhodovací pro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ní charakteristika rozhodování je princip volby, tj.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existence ví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ar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olba variant určené k realizaci, tvoří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líčovou fázi rozhod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ákladní povinnos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ždého manaž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ozhodovací proces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zvažování možných směrů vývoje, analýza      variant,výsledné přijetí rozhodnutí a jeho následná realizace a kontr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ozhodování je z psychologického hlediska zátěží psychického stavu   řídících pracovníků a bývá považováno za nejproblémovější prvek při výkonu funkce manaž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64908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84807"/>
                </a:solidFill>
                <a:latin typeface="Calibri"/>
              </a:rPr>
              <a:t>    </a:t>
            </a:r>
            <a:r>
              <a:rPr b="1" i="1" lang="cs-CZ" sz="2400" spc="-1" strike="noStrike">
                <a:solidFill>
                  <a:srgbClr val="984807"/>
                </a:solidFill>
                <a:latin typeface="Calibri"/>
              </a:rPr>
              <a:t>Základní fak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ní faktory: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 rychl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 správ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 základě těchto faktorů – čtyři možné kombin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ozhodování: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- dobře a rych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 špatně a rych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 dobře a poma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 špatně a poma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mbinace jsou uvedeny v pořadí, které je z hlediska dnešního moderního světa považováno za nejlepší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0328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84807"/>
                </a:solidFill>
                <a:latin typeface="Calibri"/>
              </a:rPr>
              <a:t>    </a:t>
            </a:r>
            <a:r>
              <a:rPr b="1" i="1" lang="cs-CZ" sz="2400" spc="-1" strike="noStrike">
                <a:solidFill>
                  <a:srgbClr val="984807"/>
                </a:solidFill>
                <a:latin typeface="Calibri"/>
              </a:rPr>
              <a:t>Prvky rozhodovacího proce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ubjekt rozhodování: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ten kdo rozhoduje, konečné rozhodnutí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 jeho formulaci by měla uskutečnit jediná osob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objekt rozhodování: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o čem se rozhoduje, co je předměte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zhodová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rozhodovací situace – stupeň  jistot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zhodování za stavu jistoty 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(můžeme předem určit všechny      nožné důsledky rozhodování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a podmínek rizika 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(nemůžeme předem určit k jakému stavu dojde i když je všechny znám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za stavu naprosté nejistoty 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( nejsou známy všechny stavy ani jejich výskyt , neznáme následky rozhodnutí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cíle rozhodování –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sí být formulovány jednoznačně, a to podle obsahu, míry, doby (dokdy, konečný termí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Obdélník 3"/>
          <p:cNvSpPr/>
          <p:nvPr/>
        </p:nvSpPr>
        <p:spPr>
          <a:xfrm>
            <a:off x="539640" y="115920"/>
            <a:ext cx="8280360" cy="663336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okolí subjektu rozhodování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: – prostředí, které podstatným    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působem ovlivňuje rozhodová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dodavatelé, odběratelé, 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nkurence, banky, pojišťovny, finanční úřad..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faktory rozhodování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: -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vnitřní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, může je ovlivnit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 vůlí, motivací..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vnější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, nemůžeme je ovlivnit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 poloha,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bonita půdy, klimatické podmínky ..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ravidla rozhodování: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- vytváří rámec, v němž se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zhodování uskutečňuje, rozhodování by nemělo   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bočit z určitých pravidel chování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obře strukturované problémy: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se zpravidla  opakovaně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řeší na operativní úrovni a existují pro ně postupy řešení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špatně strukturované problémy: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řešeny zpravidla na vyšších 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tupních řízení, jsou nové neopakovatelné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993080" cy="5760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84807"/>
                </a:solidFill>
                <a:latin typeface="Calibri"/>
              </a:rPr>
              <a:t>    </a:t>
            </a:r>
            <a:r>
              <a:rPr b="1" i="1" lang="cs-CZ" sz="2400" spc="-1" strike="noStrike">
                <a:solidFill>
                  <a:srgbClr val="984807"/>
                </a:solidFill>
                <a:latin typeface="Calibri"/>
              </a:rPr>
              <a:t>Fáze rozhodovacího proce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10920" y="765000"/>
            <a:ext cx="7993080" cy="58327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becné rozdělení do dvou fáz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fáze (proces)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tvorby rozhodnu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fáze (proces)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rosazení – realizace rozhodnu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Etapy rozhodovacího proces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Správně formulovaný problém je napůl vyřešený 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1) formulace problé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2) stanovení cí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3) sběr a zpracování informac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4) tvorba variant                                                    fáze tvorby rozhodnu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5) tvorba rozhodnu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6) hodnocení vari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7) výběr rozhodnu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17375e"/>
                </a:solidFill>
                <a:latin typeface="Calibri"/>
              </a:rPr>
              <a:t>8) komunik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7375e"/>
                </a:solidFill>
                <a:latin typeface="Calibri"/>
              </a:rPr>
              <a:t>      </a:t>
            </a:r>
            <a:r>
              <a:rPr b="1" lang="cs-CZ" sz="2000" spc="-1" strike="noStrike">
                <a:solidFill>
                  <a:srgbClr val="17375e"/>
                </a:solidFill>
                <a:latin typeface="Calibri"/>
              </a:rPr>
              <a:t>9) realizace - provedení                                       fáze realizace rozhodnu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7375e"/>
                </a:solidFill>
                <a:latin typeface="Calibri"/>
              </a:rPr>
              <a:t>    </a:t>
            </a:r>
            <a:r>
              <a:rPr b="1" lang="cs-CZ" sz="2000" spc="-1" strike="noStrike">
                <a:solidFill>
                  <a:srgbClr val="17375e"/>
                </a:solidFill>
                <a:latin typeface="Calibri"/>
              </a:rPr>
              <a:t>10) kontro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ravá složená závorka 3"/>
          <p:cNvSpPr/>
          <p:nvPr/>
        </p:nvSpPr>
        <p:spPr>
          <a:xfrm>
            <a:off x="4572000" y="3141720"/>
            <a:ext cx="1008000" cy="1871640"/>
          </a:xfrm>
          <a:custGeom>
            <a:avLst/>
            <a:gdLst>
              <a:gd name="textAreaLeft" fmla="*/ 0 w 1008000"/>
              <a:gd name="textAreaRight" fmla="*/ 363960 w 1008000"/>
              <a:gd name="textAreaTop" fmla="*/ 26280 h 1871640"/>
              <a:gd name="textAreaBottom" fmla="*/ 184536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5"/>
                  <a:pt x="10800" y="969"/>
                </a:cubicBezTo>
                <a:lnTo>
                  <a:pt x="10800" y="9538"/>
                </a:lnTo>
                <a:cubicBezTo>
                  <a:pt x="10800" y="10023"/>
                  <a:pt x="16200" y="10507"/>
                  <a:pt x="21600" y="10507"/>
                </a:cubicBezTo>
                <a:cubicBezTo>
                  <a:pt x="16200" y="10507"/>
                  <a:pt x="10800" y="10992"/>
                  <a:pt x="10800" y="11476"/>
                </a:cubicBezTo>
                <a:lnTo>
                  <a:pt x="10800" y="20631"/>
                </a:lnTo>
                <a:cubicBezTo>
                  <a:pt x="10800" y="21116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ravá složená závorka 5"/>
          <p:cNvSpPr/>
          <p:nvPr/>
        </p:nvSpPr>
        <p:spPr>
          <a:xfrm>
            <a:off x="4643280" y="5229360"/>
            <a:ext cx="865440" cy="863640"/>
          </a:xfrm>
          <a:custGeom>
            <a:avLst/>
            <a:gdLst>
              <a:gd name="textAreaLeft" fmla="*/ 0 w 865440"/>
              <a:gd name="textAreaRight" fmla="*/ 312480 w 86544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209080" cy="6332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84807"/>
                </a:solidFill>
                <a:latin typeface="Calibri"/>
              </a:rPr>
              <a:t>   </a:t>
            </a:r>
            <a:r>
              <a:rPr b="1" lang="cs-CZ" sz="3200" spc="-1" strike="noStrike">
                <a:solidFill>
                  <a:srgbClr val="984807"/>
                </a:solidFill>
                <a:latin typeface="Calibri"/>
              </a:rPr>
              <a:t>14.2 Přehled metod pro podporu rozhod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95280" y="907560"/>
            <a:ext cx="8229600" cy="56898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aretova  analýza = pravidlo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20 : 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formulace problému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znamená zaměřit se na skupinu podstatných prvků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, které rozhodujícím způsobem ovlivňuje skupinu méně podstatných prvků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Analýza silového p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formulace problému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jednoduchá grafická technika, která umožňuje určit činitele, které působí příznivě a nepříznivě na zvolený problém  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                   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pozitivně působící síly   </a:t>
            </a:r>
            <a:r>
              <a:rPr b="0" lang="cs-CZ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cs-CZ" sz="2000" spc="-1" strike="noStrike">
                <a:solidFill>
                  <a:srgbClr val="0d0d0d"/>
                </a:solidFill>
                <a:latin typeface="Calibri"/>
              </a:rPr>
              <a:t>negativně působící síly</a:t>
            </a:r>
            <a:r>
              <a:rPr b="0" lang="cs-CZ" sz="3200" spc="-1" strike="noStrike">
                <a:solidFill>
                  <a:srgbClr val="0d0d0d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římá spojovací čára 8"/>
          <p:cNvSpPr/>
          <p:nvPr/>
        </p:nvSpPr>
        <p:spPr>
          <a:xfrm>
            <a:off x="1619280" y="5373720"/>
            <a:ext cx="597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římá spojovací čára 14"/>
          <p:cNvSpPr/>
          <p:nvPr/>
        </p:nvSpPr>
        <p:spPr>
          <a:xfrm>
            <a:off x="4500720" y="4653000"/>
            <a:ext cx="0" cy="187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us 22"/>
          <p:cNvSpPr/>
          <p:nvPr/>
        </p:nvSpPr>
        <p:spPr>
          <a:xfrm>
            <a:off x="3995640" y="4941720"/>
            <a:ext cx="360360" cy="358920"/>
          </a:xfrm>
          <a:custGeom>
            <a:avLst/>
            <a:gdLst/>
            <a:ahLst/>
            <a:rect l="l" t="t" r="r" b="b"/>
            <a:pathLst>
              <a:path w="360362" h="358775">
                <a:moveTo>
                  <a:pt x="47766" y="137196"/>
                </a:moveTo>
                <a:lnTo>
                  <a:pt x="137989" y="137196"/>
                </a:lnTo>
                <a:lnTo>
                  <a:pt x="137989" y="47556"/>
                </a:lnTo>
                <a:lnTo>
                  <a:pt x="222373" y="47556"/>
                </a:lnTo>
                <a:lnTo>
                  <a:pt x="222373" y="137196"/>
                </a:lnTo>
                <a:lnTo>
                  <a:pt x="312596" y="137196"/>
                </a:lnTo>
                <a:lnTo>
                  <a:pt x="312596" y="221579"/>
                </a:lnTo>
                <a:lnTo>
                  <a:pt x="222373" y="221579"/>
                </a:lnTo>
                <a:lnTo>
                  <a:pt x="222373" y="311219"/>
                </a:lnTo>
                <a:lnTo>
                  <a:pt x="137989" y="311219"/>
                </a:lnTo>
                <a:lnTo>
                  <a:pt x="137989" y="221579"/>
                </a:lnTo>
                <a:lnTo>
                  <a:pt x="47766" y="221579"/>
                </a:lnTo>
                <a:lnTo>
                  <a:pt x="47766" y="137196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Mínus 24"/>
          <p:cNvSpPr/>
          <p:nvPr/>
        </p:nvSpPr>
        <p:spPr>
          <a:xfrm>
            <a:off x="7020000" y="4869000"/>
            <a:ext cx="504720" cy="431640"/>
          </a:xfrm>
          <a:custGeom>
            <a:avLst/>
            <a:gdLst/>
            <a:ahLst/>
            <a:rect l="l" t="t" r="r" b="b"/>
            <a:pathLst>
              <a:path w="504825" h="431800">
                <a:moveTo>
                  <a:pt x="66915" y="165120"/>
                </a:moveTo>
                <a:lnTo>
                  <a:pt x="437910" y="165120"/>
                </a:lnTo>
                <a:lnTo>
                  <a:pt x="437910" y="266680"/>
                </a:lnTo>
                <a:lnTo>
                  <a:pt x="66915" y="266680"/>
                </a:lnTo>
                <a:lnTo>
                  <a:pt x="66915" y="16512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14:51:48Z</dcterms:created>
  <dc:creator>MiZ</dc:creator>
  <dc:description/>
  <dc:language>en-US</dc:language>
  <cp:lastModifiedBy>Havelka</cp:lastModifiedBy>
  <dcterms:modified xsi:type="dcterms:W3CDTF">2014-01-01T20:20:58Z</dcterms:modified>
  <cp:revision>756</cp:revision>
  <dc:subject/>
  <dc:title>PM 101 – Management I.</dc:title>
</cp:coreProperties>
</file>