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55BA-7BDF-4A03-AA9B-B8BBC8EC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C876-2815-4AF5-B656-5A18AB59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CA43-6D1D-406A-98E1-AEDDB1B3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1B9A-B18B-48A9-99E3-F169383B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58A7-533C-4A32-84F7-39008A3B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EFD8-4994-4895-8F44-8DA09DDD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ECF4-42B9-4655-8978-CFAD6879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C7E6-6025-40AE-B536-143E17FC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4AE8-E4AA-4B4E-AB8F-28AED387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48FD-42E5-41CF-AF06-B2852C86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834-34C1-477F-9DE5-3300C27D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7E53-396D-4BD6-A9C0-7FA8410F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156E-5CC0-42CD-9EB9-919D78BF78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pag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2340000" y="269892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110_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003640" y="558972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utor: Ing. Vladimír Have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5619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Nástroje podpory prodeje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836280"/>
            <a:ext cx="8497800" cy="5832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reklamní dárk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robné předměty, rozšířit počet kupující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vzork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bezplatné vyzkoušení vzork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ochutnávk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bezplatné vyzkoušení potrav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kupón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ukázka umožňující získat při  nákupu výrobku určitou výhod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cenové stimul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niciovány výrobcem nebo prodejc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vystavování zbož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hodné umístění zboží, poutacího plaká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soutěže a loteri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ímo v obchodě, náhodné losová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rémi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eněžní i nepeněžní odměny zákazníkov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561960"/>
          </a:xfrm>
          <a:prstGeom prst="rect">
            <a:avLst/>
          </a:prstGeom>
          <a:solidFill>
            <a:srgbClr val="8eb4e3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0.4 Osobní prod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836640"/>
            <a:ext cx="8435880" cy="56167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efektivní nástroj komunikace mezi prodávajícím a kupující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 cílem realizace prode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skytuje možnosti získání zákazníkovy zpětné reakce, a tím i možnost pružné reak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osobní prezentace prováděná prodejci společnosti za úče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deje a budování vztahů se zákazní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bchodní zástupci  a obchodní  cestující působí jako činitelé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teří ovlivňují kupní rozhodování, předávají informace týkající 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robku jakož i podmínek prodeje a poskytují servis spojený s prodejem výrobku nebo služ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dejce musí získat důvěru kupujícího nejen ve svoji osobu, ale také ve značku a fir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856720" cy="43344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Vlastnosti prodejce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79280" y="549360"/>
            <a:ext cx="8856720" cy="61927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dborné znalosti o technické stránce a vlastnostech výrobku, servi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šeobecný přehled o společenských odborech, jako je právo, politika, kultura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lné nasazení ve prospěch prodeje – zanícenost, koncentrovano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vrdošíjnost či vytrval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dravé sebevědomí (prodejce si musí věři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dborné komunikační  schopnosti založené na umění naslouc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mysl pro improvizaci, humor a nadš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633240"/>
          </a:xfrm>
          <a:prstGeom prst="rect">
            <a:avLst/>
          </a:prstGeom>
          <a:solidFill>
            <a:srgbClr val="8eb4e3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0.5 Public relations ( práce s veřejností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3640" y="907920"/>
            <a:ext cx="8569080" cy="56167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jakýkoliv způsob sdělování informací vztahujících se k výrobci či výrobku nenásilnou formou prostřednictvím médi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bezplatnou formu propagace s cílem zvýšit pozitivní  obra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ormě v očích veřejnosti, dobrého jména a podnikové identity, která stmeluje firmu zevnit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hrnuje budování dobrých vztahů s různými cílovými skupin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ískáváním příznivé publicity,budováním dobrého „image firmy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jím cílem není přímé zvýšení prodeje výrobků nebo služe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lavním úkolem je vytváření příznivých představ veřejnosti          o firm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formace o firmě jsou předávány prostřednictvím třetích osob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těší se tak větší důvěř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4320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Mezi prostředky a metody PR patří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24000" y="692280"/>
            <a:ext cx="8424720" cy="590544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ress relation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ahrnuje vztah ke sdělovacím prostředkům formou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tiskových konferencí, zpráv, itervieum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firemní akce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- seznamují veřejnost s určitými aktivitami firmy,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slavnostní večeře k výročí založení firmy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ponzorová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finanční podpora různých aktivit z oblastí, jako js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ultura, sport, charita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lobbování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je zastupování  zájmů firmy při jednání s veřejnými činite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litiky, zákonodár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firemní identit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stanovení a zachování jednotné vizuální podoby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firmy – firemní barvy, logo www strán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firemní kultur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chování zaměstnanců k zákazníkovi a obchodní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artnerů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činnost spojená se sociální odpovědnost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dobré vztahy v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polečenství zaměstnanců, sociální odpověd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 zaměstnancům firm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561960"/>
          </a:xfrm>
          <a:prstGeom prst="rect">
            <a:avLst/>
          </a:prstGeom>
          <a:solidFill>
            <a:srgbClr val="8eb4e3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10.6 Přímý (direct)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000" y="836280"/>
            <a:ext cx="8351640" cy="57610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adresná komunikace firmy se zákazník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alizuje se prostřednictvím pošty, televize, tisku, rozhlasu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přímá komunikace s pečlivě vybranými individuálními zákazníky a cílem získat okamžitou odezv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 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Formy přímého marketingu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rodej poštou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historicky nejstarší, realizuje se na základě zaslan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aslané nabídky, která obsahuje všechny inform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možňující kupní rozhodnutí potenciálního zákazní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telemarketing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předpokládá dokonalou telefonní síť, protože umož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sobní hlasový kontakt, výhodou je oboustranná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komunik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TV shop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využívá televizní vysílání pro reklamu výrobků určený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devším pro potřeby domácností, hudební CD, čistíc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středky…, výhodou je praktické předvedení produk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římá spojovací čára 4"/>
          <p:cNvSpPr/>
          <p:nvPr/>
        </p:nvSpPr>
        <p:spPr>
          <a:xfrm>
            <a:off x="468360" y="2924280"/>
            <a:ext cx="835164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640720" cy="504720"/>
          </a:xfrm>
          <a:prstGeom prst="rect">
            <a:avLst/>
          </a:prstGeom>
          <a:solidFill>
            <a:srgbClr val="8eb4e3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0.7 Exteriérová mé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9280" y="764640"/>
            <a:ext cx="8640720" cy="575964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hrnují reklamní nosiče, které jsou umístěny na otevřené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stranstv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zi venkovní reklamu patří –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illboard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egaboardy, alternativní venkovní nosič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tramvaje, autobusy, trolejbusy), různé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enkovní reklamní tabule, plakáty, placht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…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enkovní reklama obvykle neumožňuje podrobnější selekci       cílových skupin, hodí se tedy hlavně pro komunikaci, které js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rčeny pro širokou veřej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ýhod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 posílení známosti znač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upozornění na sle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výhod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 omezené možnosti informa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Billboard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ákladem je umístění, velikost a marketingové zpravodajstv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Interne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valitní nástroj pro realizaci celého marketingového mix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Literatura předmě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HDR.VYSEKALOVÁ, Jitka; DOC.RNDR.STRNAD,CSC, Pavel; ING.VYDROVÁ, Jaruše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Základy marketingu - pro střední škol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Praha: Fortuna, 2003, 164. ISBN 80-7168-668-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OUDRÝ ING., Marek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Marketing - Základy marketing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 vydání. Kralice na Hané, Hrubčická 495: Computer Media s.r.o., 2008,158. ISBN 978-80-7402-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HDR.VYSEKALOVÁ, Jitka; ING.KLIKOVÁ, Dagmar; ING.ROZUMOVÁ, Petra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Slovník základních pojmů z marketingu a management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Praha 1,Jungmanova 7: Fortuna, 1997, 48. ISBN 80-7168-504-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c. KOZLER, Josef; MATĚJKA, Jan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Ekonomika, Management, Marketing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Havlíčkův Brod, Humpolecká 1503: Fragment, 1998, 139. ISBN 80-7200-253-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258920" y="30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kt 2"/>
          <p:cNvGraphicFramePr/>
          <p:nvPr/>
        </p:nvGraphicFramePr>
        <p:xfrm>
          <a:off x="900000" y="536400"/>
          <a:ext cx="7559640" cy="5916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Objek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36400"/>
                    <a:ext cx="7559640" cy="591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0000"/>
                </a:solidFill>
                <a:latin typeface="Calibri"/>
              </a:rPr>
              <a:t>Propaga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706320"/>
          </a:xfrm>
          <a:prstGeom prst="rect">
            <a:avLst/>
          </a:prstGeom>
          <a:solidFill>
            <a:srgbClr val="8eb4e3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0.1 Charakteristika propag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981000"/>
            <a:ext cx="8569080" cy="54007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forma komunikace mezi prodávajícíma kupujícím za účelem ovlivnění prodeje výrobku nebo služe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hrnuje aktivity určené ke komunikaci se zákazní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formuje, přesvědčuje nebo připomíná spotřebitelů vlast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dostupnost produk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ůležité je, aby spotřebitelé o produktu slyšeli a byli přesvědče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 jeho výhodách, aby u nich vznikla potřeba koup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3324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Propagační (komunikační ) mi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836280"/>
            <a:ext cx="8362800" cy="57610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louží k realizaci cílů marketingové  komunikace se zákazní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ástroje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reklam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lacená neosobní  forma komunikace s cílem informovat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 spotřebitele a ovlivnit jeho nákupní chová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odpora prodej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forma propagace, která prostřednictvím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ůzných aktivit podporuje prodej výrobků a služe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ublic relations(vztah s veřejností)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neosobní forma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komunikace s veřejností zaměřená na publiková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zitivních informací s cílem vyvolat dobré veřejn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ínění o firm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ímý marketing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je adresná komunikace mezi zákazníkem a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  prodávající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osobní prodej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je formou propagace s cílem dosáhnout žádoucíh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deje prostřednictvím osobního kontak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993080" cy="5619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Propagační strategi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9280" y="836280"/>
            <a:ext cx="7993080" cy="52894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B2B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propagační strategie zaměřená na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rostředník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ropagace se zaměřuje na obchodní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ýrobce se snaží prosadit výrobek do distribuční sít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B2C –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propagační strategie zaměřená na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potřebite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ropagace se zaměřuje na konečného zákazní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ýrobek se snaží prosadit výrobek u kupujících tak aby j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žadovali u obchodník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8eb4e3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0.2  Marketingová komunik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836640"/>
            <a:ext cx="8229600" cy="56880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statou je přenos sdělení mezi zdrojem a příjemc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á bude komunikace, záleží na zdroji, příjemci, přeno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formě sděl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Komunikační model AI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. fáze: upoutání pozornosti </a:t>
            </a:r>
            <a:r>
              <a:rPr b="0" lang="cs-CZ" sz="2400" spc="-1" strike="noStrike">
                <a:solidFill>
                  <a:srgbClr val="c00000"/>
                </a:solidFill>
                <a:latin typeface="Calibri"/>
              </a:rPr>
              <a:t>„A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. fáze: vzbuzení zájm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c00000"/>
                </a:solidFill>
                <a:latin typeface="Calibri"/>
              </a:rPr>
              <a:t>„I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 fáze: vyvolání přá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c00000"/>
                </a:solidFill>
                <a:latin typeface="Calibri"/>
              </a:rPr>
              <a:t>„D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. fáze: dosažení akc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c00000"/>
                </a:solidFill>
                <a:latin typeface="Calibri"/>
              </a:rPr>
              <a:t>„A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dstatou modelu AIDA spočívá v rozlišení fází chování kupujícího př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amotným nákupem –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určit nejvhodnější formu sděl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dělení může na příjemce působit např.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racionálně, morálně, emotivn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římá spojovací čára 4"/>
          <p:cNvSpPr/>
          <p:nvPr/>
        </p:nvSpPr>
        <p:spPr>
          <a:xfrm>
            <a:off x="468360" y="2997360"/>
            <a:ext cx="820728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4176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Fáze komunikačního mode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9280" y="691920"/>
            <a:ext cx="8785440" cy="60498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ílem každé komunikace je předání sdělení tak, aby je příjemce pochop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Schéma komunikačního mode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cs-CZ" sz="2000" spc="-1" strike="noStrike">
                <a:solidFill>
                  <a:srgbClr val="f79646"/>
                </a:solidFill>
                <a:latin typeface="Calibri"/>
              </a:rPr>
              <a:t>I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          2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2000" spc="-1" strike="noStrike">
                <a:solidFill>
                  <a:srgbClr val="f79646"/>
                </a:solidFill>
                <a:latin typeface="Calibri"/>
              </a:rPr>
              <a:t>I</a:t>
            </a:r>
            <a:r>
              <a:rPr b="0" i="1" lang="cs-CZ" sz="2000" spc="-1" strike="noStrike">
                <a:solidFill>
                  <a:srgbClr val="f79646"/>
                </a:solidFill>
                <a:latin typeface="Calibri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          3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cs-CZ" sz="2000" spc="-1" strike="noStrike">
                <a:solidFill>
                  <a:srgbClr val="f79646"/>
                </a:solidFill>
                <a:latin typeface="Calibri"/>
              </a:rPr>
              <a:t>I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         4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2000" spc="-1" strike="noStrike">
                <a:solidFill>
                  <a:srgbClr val="f79646"/>
                </a:solidFill>
                <a:latin typeface="Calibri"/>
              </a:rPr>
              <a:t>I 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           5             </a:t>
            </a:r>
            <a:r>
              <a:rPr b="1" i="1" lang="cs-CZ" sz="2000" spc="-1" strike="noStrike">
                <a:solidFill>
                  <a:srgbClr val="f79646"/>
                </a:solidFill>
                <a:latin typeface="Calibri"/>
              </a:rPr>
              <a:t>I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       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zpětná vaz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drojem v komunikaci je jednotlivec, organizace, fir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dělením je určitá informace příjem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vod sdělení do podoby srozumitelné příjem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sun sdělení od zdroje k příjemci prostřednictvím komunikačních prostředk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vod zakódované informace do formy srozumitelné příjemci sděl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en kdo přijímá sděl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pětná vazba – reakce příjemce na sděl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e46c0a"/>
                </a:solidFill>
                <a:latin typeface="Calibri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Informační šumy – narušují komunikační proces, mohou být vnitřní, vnějš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Obdélník 3"/>
          <p:cNvGrpSpPr/>
          <p:nvPr/>
        </p:nvGrpSpPr>
        <p:grpSpPr>
          <a:xfrm>
            <a:off x="487440" y="2316240"/>
            <a:ext cx="1116000" cy="639720"/>
            <a:chOff x="487440" y="2316240"/>
            <a:chExt cx="1116000" cy="639720"/>
          </a:xfrm>
        </p:grpSpPr>
        <p:pic>
          <p:nvPicPr>
            <p:cNvPr id="62" name="Obdélník 3" descr=""/>
            <p:cNvPicPr/>
            <p:nvPr/>
          </p:nvPicPr>
          <p:blipFill>
            <a:blip r:embed="rId1"/>
            <a:stretch/>
          </p:blipFill>
          <p:spPr>
            <a:xfrm>
              <a:off x="487440" y="2316240"/>
              <a:ext cx="1116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39640" y="2349360"/>
              <a:ext cx="1008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zdro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Obdélník 4"/>
          <p:cNvGrpSpPr/>
          <p:nvPr/>
        </p:nvGrpSpPr>
        <p:grpSpPr>
          <a:xfrm>
            <a:off x="1779480" y="2316240"/>
            <a:ext cx="1122480" cy="639720"/>
            <a:chOff x="1779480" y="2316240"/>
            <a:chExt cx="1122480" cy="639720"/>
          </a:xfrm>
        </p:grpSpPr>
        <p:pic>
          <p:nvPicPr>
            <p:cNvPr id="65" name="Obdélník 4" descr=""/>
            <p:cNvPicPr/>
            <p:nvPr/>
          </p:nvPicPr>
          <p:blipFill>
            <a:blip r:embed="rId2"/>
            <a:stretch/>
          </p:blipFill>
          <p:spPr>
            <a:xfrm>
              <a:off x="1779480" y="2316240"/>
              <a:ext cx="11224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1835280" y="2349360"/>
              <a:ext cx="1008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sdělen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Obdélník 5"/>
          <p:cNvGrpSpPr/>
          <p:nvPr/>
        </p:nvGrpSpPr>
        <p:grpSpPr>
          <a:xfrm>
            <a:off x="3005280" y="2316240"/>
            <a:ext cx="1474560" cy="639720"/>
            <a:chOff x="3005280" y="2316240"/>
            <a:chExt cx="1474560" cy="639720"/>
          </a:xfrm>
        </p:grpSpPr>
        <p:pic>
          <p:nvPicPr>
            <p:cNvPr id="68" name="Obdélník 5" descr=""/>
            <p:cNvPicPr/>
            <p:nvPr/>
          </p:nvPicPr>
          <p:blipFill>
            <a:blip r:embed="rId3"/>
            <a:stretch/>
          </p:blipFill>
          <p:spPr>
            <a:xfrm>
              <a:off x="3005280" y="2316240"/>
              <a:ext cx="1474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059280" y="2349360"/>
              <a:ext cx="13683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Zakódován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Obdélník 6"/>
          <p:cNvGrpSpPr/>
          <p:nvPr/>
        </p:nvGrpSpPr>
        <p:grpSpPr>
          <a:xfrm>
            <a:off x="4591080" y="2316240"/>
            <a:ext cx="1114560" cy="639720"/>
            <a:chOff x="4591080" y="2316240"/>
            <a:chExt cx="1114560" cy="639720"/>
          </a:xfrm>
        </p:grpSpPr>
        <p:pic>
          <p:nvPicPr>
            <p:cNvPr id="71" name="Obdélník 6" descr=""/>
            <p:cNvPicPr/>
            <p:nvPr/>
          </p:nvPicPr>
          <p:blipFill>
            <a:blip r:embed="rId4"/>
            <a:stretch/>
          </p:blipFill>
          <p:spPr>
            <a:xfrm>
              <a:off x="4591080" y="2316240"/>
              <a:ext cx="1114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643280" y="2349360"/>
              <a:ext cx="10083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řen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Obdélník 7"/>
          <p:cNvGrpSpPr/>
          <p:nvPr/>
        </p:nvGrpSpPr>
        <p:grpSpPr>
          <a:xfrm>
            <a:off x="5815080" y="2316240"/>
            <a:ext cx="1476360" cy="639720"/>
            <a:chOff x="5815080" y="2316240"/>
            <a:chExt cx="1476360" cy="639720"/>
          </a:xfrm>
        </p:grpSpPr>
        <p:pic>
          <p:nvPicPr>
            <p:cNvPr id="74" name="Obdélník 7" descr=""/>
            <p:cNvPicPr/>
            <p:nvPr/>
          </p:nvPicPr>
          <p:blipFill>
            <a:blip r:embed="rId5"/>
            <a:stretch/>
          </p:blipFill>
          <p:spPr>
            <a:xfrm>
              <a:off x="5815080" y="2316240"/>
              <a:ext cx="1476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5867280" y="2349360"/>
              <a:ext cx="13687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dekódován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Obdélník 8"/>
          <p:cNvGrpSpPr/>
          <p:nvPr/>
        </p:nvGrpSpPr>
        <p:grpSpPr>
          <a:xfrm>
            <a:off x="7418520" y="2316240"/>
            <a:ext cx="1212840" cy="639720"/>
            <a:chOff x="7418520" y="2316240"/>
            <a:chExt cx="1212840" cy="639720"/>
          </a:xfrm>
        </p:grpSpPr>
        <p:pic>
          <p:nvPicPr>
            <p:cNvPr id="77" name="Obdélník 8" descr=""/>
            <p:cNvPicPr/>
            <p:nvPr/>
          </p:nvPicPr>
          <p:blipFill>
            <a:blip r:embed="rId6"/>
            <a:stretch/>
          </p:blipFill>
          <p:spPr>
            <a:xfrm>
              <a:off x="7418520" y="2316240"/>
              <a:ext cx="12128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7524720" y="2349360"/>
              <a:ext cx="1008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říjem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9" name="Přímá spojovací šipka 10"/>
          <p:cNvCxnSpPr/>
          <p:nvPr/>
        </p:nvCxnSpPr>
        <p:spPr>
          <a:xfrm>
            <a:off x="1547280" y="2599920"/>
            <a:ext cx="288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Přímá spojovací šipka 12"/>
          <p:cNvCxnSpPr/>
          <p:nvPr/>
        </p:nvCxnSpPr>
        <p:spPr>
          <a:xfrm>
            <a:off x="2843280" y="2599920"/>
            <a:ext cx="216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Přímá spojovací šipka 14"/>
          <p:cNvCxnSpPr/>
          <p:nvPr/>
        </p:nvCxnSpPr>
        <p:spPr>
          <a:xfrm>
            <a:off x="4427280" y="2599920"/>
            <a:ext cx="216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Přímá spojovací šipka 16"/>
          <p:cNvCxnSpPr/>
          <p:nvPr/>
        </p:nvCxnSpPr>
        <p:spPr>
          <a:xfrm>
            <a:off x="5651280" y="2599920"/>
            <a:ext cx="216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Přímá spojovací šipka 20"/>
          <p:cNvCxnSpPr/>
          <p:nvPr/>
        </p:nvCxnSpPr>
        <p:spPr>
          <a:xfrm>
            <a:off x="7236000" y="2599920"/>
            <a:ext cx="2894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Přímá spojovací čára 22"/>
          <p:cNvSpPr/>
          <p:nvPr/>
        </p:nvSpPr>
        <p:spPr>
          <a:xfrm>
            <a:off x="8028000" y="285264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Přímá spojovací šipka 24"/>
          <p:cNvCxnSpPr/>
          <p:nvPr/>
        </p:nvCxnSpPr>
        <p:spPr>
          <a:xfrm flipV="1">
            <a:off x="1042560" y="2852280"/>
            <a:ext cx="1080" cy="4327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6" name="Přímá spojovací čára 26"/>
          <p:cNvSpPr/>
          <p:nvPr/>
        </p:nvSpPr>
        <p:spPr>
          <a:xfrm>
            <a:off x="1042920" y="3068640"/>
            <a:ext cx="69850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hnutý pruh 38"/>
          <p:cNvSpPr/>
          <p:nvPr/>
        </p:nvSpPr>
        <p:spPr>
          <a:xfrm>
            <a:off x="1187280" y="2276640"/>
            <a:ext cx="914400" cy="72720"/>
          </a:xfrm>
          <a:custGeom>
            <a:avLst/>
            <a:gdLst/>
            <a:ahLst/>
            <a:rect l="l" t="t" r="r" b="b"/>
            <a:pathLst>
              <a:path w="914400" h="73025">
                <a:moveTo>
                  <a:pt x="0" y="36513"/>
                </a:moveTo>
                <a:cubicBezTo>
                  <a:pt x="0" y="16347"/>
                  <a:pt x="204695" y="0"/>
                  <a:pt x="457200" y="0"/>
                </a:cubicBezTo>
                <a:cubicBezTo>
                  <a:pt x="709705" y="0"/>
                  <a:pt x="914400" y="16347"/>
                  <a:pt x="914400" y="36513"/>
                </a:cubicBezTo>
                <a:lnTo>
                  <a:pt x="896144" y="36513"/>
                </a:lnTo>
                <a:cubicBezTo>
                  <a:pt x="896144" y="26430"/>
                  <a:pt x="699622" y="18257"/>
                  <a:pt x="457200" y="18257"/>
                </a:cubicBezTo>
                <a:cubicBezTo>
                  <a:pt x="214778" y="18257"/>
                  <a:pt x="18256" y="26430"/>
                  <a:pt x="18256" y="36513"/>
                </a:cubicBezTo>
                <a:lnTo>
                  <a:pt x="0" y="365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hnutý pruh 39"/>
          <p:cNvSpPr/>
          <p:nvPr/>
        </p:nvSpPr>
        <p:spPr>
          <a:xfrm>
            <a:off x="2556000" y="2276640"/>
            <a:ext cx="914400" cy="72720"/>
          </a:xfrm>
          <a:custGeom>
            <a:avLst/>
            <a:gdLst/>
            <a:ahLst/>
            <a:rect l="l" t="t" r="r" b="b"/>
            <a:pathLst>
              <a:path w="914400" h="73025">
                <a:moveTo>
                  <a:pt x="0" y="36513"/>
                </a:moveTo>
                <a:cubicBezTo>
                  <a:pt x="0" y="16347"/>
                  <a:pt x="204695" y="0"/>
                  <a:pt x="457200" y="0"/>
                </a:cubicBezTo>
                <a:cubicBezTo>
                  <a:pt x="709705" y="0"/>
                  <a:pt x="914400" y="16347"/>
                  <a:pt x="914400" y="36513"/>
                </a:cubicBezTo>
                <a:lnTo>
                  <a:pt x="896144" y="36513"/>
                </a:lnTo>
                <a:cubicBezTo>
                  <a:pt x="896144" y="26430"/>
                  <a:pt x="699622" y="18257"/>
                  <a:pt x="457200" y="18257"/>
                </a:cubicBezTo>
                <a:cubicBezTo>
                  <a:pt x="214778" y="18257"/>
                  <a:pt x="18256" y="26430"/>
                  <a:pt x="18256" y="36513"/>
                </a:cubicBezTo>
                <a:lnTo>
                  <a:pt x="0" y="365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hnutý pruh 40"/>
          <p:cNvSpPr/>
          <p:nvPr/>
        </p:nvSpPr>
        <p:spPr>
          <a:xfrm>
            <a:off x="4067280" y="2276640"/>
            <a:ext cx="914400" cy="80640"/>
          </a:xfrm>
          <a:custGeom>
            <a:avLst/>
            <a:gdLst/>
            <a:ahLst/>
            <a:rect l="l" t="t" r="r" b="b"/>
            <a:pathLst>
              <a:path w="914400" h="80963">
                <a:moveTo>
                  <a:pt x="0" y="40482"/>
                </a:moveTo>
                <a:cubicBezTo>
                  <a:pt x="0" y="18124"/>
                  <a:pt x="204695" y="0"/>
                  <a:pt x="457200" y="0"/>
                </a:cubicBezTo>
                <a:cubicBezTo>
                  <a:pt x="709705" y="0"/>
                  <a:pt x="914400" y="18124"/>
                  <a:pt x="914400" y="40482"/>
                </a:cubicBezTo>
                <a:lnTo>
                  <a:pt x="894159" y="40482"/>
                </a:lnTo>
                <a:cubicBezTo>
                  <a:pt x="894159" y="29303"/>
                  <a:pt x="698526" y="20241"/>
                  <a:pt x="457200" y="20241"/>
                </a:cubicBezTo>
                <a:cubicBezTo>
                  <a:pt x="215874" y="20241"/>
                  <a:pt x="20241" y="29303"/>
                  <a:pt x="20241" y="40482"/>
                </a:cubicBezTo>
                <a:lnTo>
                  <a:pt x="0" y="4048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hnutý pruh 41"/>
          <p:cNvSpPr/>
          <p:nvPr/>
        </p:nvSpPr>
        <p:spPr>
          <a:xfrm>
            <a:off x="5292720" y="2276640"/>
            <a:ext cx="914400" cy="88560"/>
          </a:xfrm>
          <a:custGeom>
            <a:avLst/>
            <a:gdLst/>
            <a:ahLst/>
            <a:rect l="l" t="t" r="r" b="b"/>
            <a:pathLst>
              <a:path w="914400" h="88900">
                <a:moveTo>
                  <a:pt x="0" y="44450"/>
                </a:moveTo>
                <a:cubicBezTo>
                  <a:pt x="0" y="19901"/>
                  <a:pt x="204695" y="0"/>
                  <a:pt x="457200" y="0"/>
                </a:cubicBezTo>
                <a:cubicBezTo>
                  <a:pt x="709705" y="0"/>
                  <a:pt x="914400" y="19901"/>
                  <a:pt x="914400" y="44450"/>
                </a:cubicBezTo>
                <a:lnTo>
                  <a:pt x="892175" y="44450"/>
                </a:lnTo>
                <a:cubicBezTo>
                  <a:pt x="892175" y="32175"/>
                  <a:pt x="697430" y="22225"/>
                  <a:pt x="457200" y="22225"/>
                </a:cubicBezTo>
                <a:cubicBezTo>
                  <a:pt x="216970" y="22225"/>
                  <a:pt x="22225" y="32175"/>
                  <a:pt x="22225" y="44450"/>
                </a:cubicBezTo>
                <a:lnTo>
                  <a:pt x="0" y="4445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hnutý pruh 42"/>
          <p:cNvSpPr/>
          <p:nvPr/>
        </p:nvSpPr>
        <p:spPr>
          <a:xfrm>
            <a:off x="6948360" y="2276640"/>
            <a:ext cx="914400" cy="96840"/>
          </a:xfrm>
          <a:custGeom>
            <a:avLst/>
            <a:gdLst/>
            <a:ahLst/>
            <a:rect l="l" t="t" r="r" b="b"/>
            <a:pathLst>
              <a:path w="914400" h="96838">
                <a:moveTo>
                  <a:pt x="0" y="48419"/>
                </a:moveTo>
                <a:cubicBezTo>
                  <a:pt x="0" y="21678"/>
                  <a:pt x="204695" y="0"/>
                  <a:pt x="457200" y="0"/>
                </a:cubicBezTo>
                <a:cubicBezTo>
                  <a:pt x="709705" y="0"/>
                  <a:pt x="914400" y="21678"/>
                  <a:pt x="914400" y="48419"/>
                </a:cubicBezTo>
                <a:lnTo>
                  <a:pt x="890191" y="48419"/>
                </a:lnTo>
                <a:cubicBezTo>
                  <a:pt x="890191" y="35048"/>
                  <a:pt x="696334" y="24209"/>
                  <a:pt x="457200" y="24209"/>
                </a:cubicBezTo>
                <a:cubicBezTo>
                  <a:pt x="218066" y="24209"/>
                  <a:pt x="24209" y="35048"/>
                  <a:pt x="24209" y="48419"/>
                </a:cubicBezTo>
                <a:lnTo>
                  <a:pt x="0" y="4841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solidFill>
            <a:srgbClr val="8eb4e3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0.3 Podpora prode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981000"/>
            <a:ext cx="8147160" cy="51451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forma komunikace, která se snaží podpořit prodej pomo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ůzných podnět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měřuje se pouze na distribuční síť a na konečné zákazní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hrnuje krátké stimuly, které mají povzbudit nákup nebo prodej výrob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dstavuje konkrétní motiv koup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velka</cp:lastModifiedBy>
  <dcterms:modified xsi:type="dcterms:W3CDTF">2014-01-03T15:18:01Z</dcterms:modified>
  <cp:revision>48</cp:revision>
  <dc:subject/>
  <dc:title>10</dc:title>
</cp:coreProperties>
</file>