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CE0-99E2-4370-A9F0-8F9D5DE8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122-A068-48BD-8C76-6071DBA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9E8-B173-4A77-9679-939C1F96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AF8E-FA19-4BC7-BD99-AB720122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CFF-553E-4231-80A9-4E04486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6F1-BC69-4FB3-9A1F-B1982F7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E4A-5D8C-4CC3-AE5D-D36ADB97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7DC-C084-4CB0-9923-58D59FE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FEF-A10A-4A1D-BB53-78BC091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1CF-51FB-46E0-8F4D-95A15383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A45-BA99-4396-8CD8-80C66746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59A5-8EA9-4372-95B5-7CA41E4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B4AE-7127-423A-B74D-4F04CD1948A0}" type="slidenum">
              <a:rPr b="1" lang="cs-CZ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vod do managemen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1979640" y="26370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112_Managem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148360" y="5589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r: Ing. Vladimír Havelk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576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ákladní znaky představitel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92280"/>
            <a:ext cx="8229600" cy="59054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. Taylor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zakladatel managementu, úlohy disciplíny,  liniové řízení, výběr pracovníků k výkonu určité práce, motivace pracovníků-denní úko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.Ford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vědecké řízení, běžící pás-jeden typ vozu,minimum času a nákladů, plynulost výroby, součásti standardizován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. Gilbreth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upřednostňoval způsob výroba nad časem, pohybové studie, prvky jednotlivých pracovních podmínek na pracovišt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. Fayol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podnikové činnosti rozdělil do šesti skupin (technické, obchodní, finanční,ochrany,účetní, správní), určil pět základních složek(plánování,organizování,přikazování,koordinace,kontrola), vymezil principy managementu (dělba práce, pravomoc a odpovědnost, disciplína ….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.Weber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– pevná pravidla, přesně vymezená práva a povinnosti, jasné definování úkolů, řízení vedoucích pracovníků neosobně a spravedliv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. Baťa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plánování veškeré činnosti, hospodářská střediska, samospráva dílen, pravomoc a odpovědnost, týdenní zúčtování a kontrola, účast na zisku, důraz na pořádek a disciplí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5619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2. etapa management 40.-70 let 20. stole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ciální přístup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ledání postavení a úloha člověka v podniku, mezilidské vzta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cesní přístup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pracování manažerských funkci a jejich odlišení od ostatních odborných čin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ystémové přístup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nalýza vnitřních vztahů systému řízení a to jak vnitřních tak i okol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matematické přístup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ako nástroje podpory rozhodování, matematické mod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empirické-pragmatické přístup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kušenosti a praktické poznatky předávány ve formě užitečných doporuč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744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3. etapa management 80 let  až do konce 20. století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6920" y="981000"/>
            <a:ext cx="7777440" cy="5688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yšování spolupráce  vlastník – manažer- zaměstnan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ostřování externí konkur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ntrola kvality na výstupu i na vstu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omplexní, úplné řízení jak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SO certifik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stavitel: Drucker – řízení dle cílů, inovační strategie,               hospodaření s časem manaže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08720" cy="6332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Calibri"/>
              </a:rPr>
              <a:t>12.4.Poznatky z japonského managemen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907920"/>
            <a:ext cx="822960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Obrácené říze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zapojení nižších i výkonných pracovníků do spolurozhodování: - konzultační systé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olektivní moudr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vyšování kvality a hospodár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ystém říze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Systém personální prác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ypický rys japonské personální práce: - důraz na dobré mezilidské vzta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vyšování  a odměňování podle služebních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ystém periodické rotace pracov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aha o doživotní zaměstnání u fi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Důraz na požadavky zákazníků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 jen cena ale také kvalita a čas tzn. pohotovost dodáv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Technologické as</a:t>
            </a:r>
            <a:r>
              <a:rPr b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pekt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chnická vybavenost, robot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60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79646"/>
                </a:solidFill>
                <a:latin typeface="Calibri"/>
              </a:rPr>
              <a:t>4. etapa soudobý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764640"/>
            <a:ext cx="8229600" cy="5759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Filozofie podnik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okamžitá zisko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vyšování tržního podí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limit vlastních  nákl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kvalita výrobků a služ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kracování ča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amostatnost a podnikav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delegování na pracovníky více rozhodovacích pravomocí a odpovědnost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Ústup od hromadné výrob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upřednostňovat zákazní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Rozvíjet tvořiv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-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prodat více intelektu a méně materiálu</a:t>
            </a:r>
            <a:r>
              <a:rPr b="1" lang="cs-CZ" sz="2400" spc="-1" strike="noStrike">
                <a:solidFill>
                  <a:srgbClr val="953735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va protipóly :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normativ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přístup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and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tvůrčí přístup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vořiv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953735"/>
                </a:solidFill>
                <a:latin typeface="Calibri"/>
              </a:rPr>
              <a:t>přístupy k tvořiv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reaktiv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okamžit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inovativ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zlepše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ff"/>
                </a:solidFill>
                <a:latin typeface="Calibri"/>
              </a:rPr>
              <a:t>LITERATURA PŘEDMĚ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4920" y="141300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OC.ING.VEBER.CSC., Jaromír a kol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nagement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druhé vydání. Praha: Fortuna, 2003, 136. ISBN 80-7168-654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NG.ZLÁMAL,PHDR., Jaroslav; ING.BC.BAČÍK,PHD, Petr; ING.BELLOVÁ,PHD, Jan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nagement - Základy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Kralice na Hané, Hrubčická 495: Computr Media s.r.o., 2011, 104. ISBN 978-80-7402-083-4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7921440" cy="34578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cs-CZ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ÚVOD  DO  MANAGEMENTU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46160" y="981000"/>
            <a:ext cx="7051680" cy="100800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a452a"/>
                </a:solidFill>
                <a:latin typeface="Calibri"/>
              </a:rPr>
              <a:t>12.1 Vymezení pojmu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solidFill>
            <a:srgbClr val="d7e4bd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ubor názorů, zkušeností, doporučení, přístupů a metod, které vedoucí pracovníci (manažeři) užívají ke zvládnutí specifických činností (manažerských funkcí), jež jsou nezbytné k dosažení podnikatelských zámě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innost mobilizující lidské i věcné činitele při  respektování norem, nákladů, kvality a lhůt k uskutečnění určité akce či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mění dosáhnout toho, aby lidé udělali to, co je tře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nagement je tedy kombinace vědeckých poznatků a praktických zkušeností, zobecněných metod a postupů a postupně se stal samostatným vědním oborem a disciplín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35880" cy="107964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a452a"/>
                </a:solidFill>
                <a:latin typeface="Calibri"/>
              </a:rPr>
              <a:t>12.2 Management a podnik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4920" y="1413000"/>
            <a:ext cx="8435880" cy="485280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3200" spc="-1" strike="noStrike" u="sng">
                <a:solidFill>
                  <a:srgbClr val="e46c0a"/>
                </a:solidFill>
                <a:uFillTx/>
                <a:latin typeface="Calibri"/>
              </a:rPr>
              <a:t>Úkoly management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určit předmět podniká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200" spc="-1" strike="noStrike">
                <a:solidFill>
                  <a:srgbClr val="953735"/>
                </a:solidFill>
                <a:latin typeface="Calibri"/>
              </a:rPr>
              <a:t>v čem podnika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stanovit a získat přiměřené zdroje podnikání    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200" spc="-1" strike="noStrike">
                <a:solidFill>
                  <a:srgbClr val="953735"/>
                </a:solidFill>
                <a:latin typeface="Calibri"/>
              </a:rPr>
              <a:t>s čím podnika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vymezit postupy, pravidla, kritéria podnikání 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cs-CZ" sz="3200" spc="-1" strike="noStrike">
                <a:solidFill>
                  <a:srgbClr val="953735"/>
                </a:solidFill>
                <a:latin typeface="Calibri"/>
              </a:rPr>
              <a:t>jak podnika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římá spojovací čára 4"/>
          <p:cNvSpPr/>
          <p:nvPr/>
        </p:nvSpPr>
        <p:spPr>
          <a:xfrm>
            <a:off x="395280" y="2060640"/>
            <a:ext cx="842472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Trojí význa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980640"/>
            <a:ext cx="8207280" cy="547236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namená proces řízení podnik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- způsob řízení je charakterizová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cílevědomostí</a:t>
            </a:r>
            <a:r>
              <a:rPr b="0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chopnost určit základní cíl, vést, motivovat,kontrov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organizační dovedno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chopnost koordinovat věcnou, časově – prostorovou a lidskou stránku probíhajících činnos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Calibri"/>
              </a:rPr>
              <a:t>podnikatelským smyslem</a:t>
            </a:r>
            <a:r>
              <a:rPr b="1" lang="cs-CZ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schopnost rozpoznat situaci a probíhající tren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anaž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lidé kolektivně nebo individuálně zodpovědní za řízení a podnikání firm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rganiz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ědní disciplí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zdokonalovat proces řízení, vytvářet optimální organizace k dosažení  cí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Obsahová náplň současného manageme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nagement se dynamicky vyvíjí v souvislosti s vývoj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čenské re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anice managementu nelze jednoznačně vymez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klad managementu je rozdělen do dvou část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základy management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výklad základních manažerských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un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specifické manažerské postupy, techniky, jako j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nagement zm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trategický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odukční a operační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rojektové ří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nagement kv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nagement proce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ezinárodní management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c3d69b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a452a"/>
                </a:solidFill>
                <a:latin typeface="Calibri"/>
              </a:rPr>
              <a:t>12.3 Vývoj managemen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tšina autorů se shoduje v tom, že se management utvářel ve třech etapách a v současnosti prožívá etapu čtvr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3200" spc="-1" strike="noStrike">
                <a:solidFill>
                  <a:srgbClr val="e46c0a"/>
                </a:solidFill>
                <a:latin typeface="Calibri"/>
              </a:rPr>
              <a:t>Etapy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953735"/>
                </a:solidFill>
                <a:uFillTx/>
                <a:latin typeface="Calibri"/>
              </a:rPr>
              <a:t>1. etapa</a:t>
            </a:r>
            <a:r>
              <a:rPr b="1" i="1" lang="cs-CZ" sz="32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vědecký (klasický) management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 psychologicko-sociálními přístupy, období od počátku 20. století do počátku 40. l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953735"/>
                </a:solidFill>
                <a:uFillTx/>
                <a:latin typeface="Calibri"/>
              </a:rPr>
              <a:t>2. etapa</a:t>
            </a:r>
            <a:r>
              <a:rPr b="1" lang="cs-CZ" sz="2600" spc="-1" strike="noStrike" u="sng">
                <a:solidFill>
                  <a:srgbClr val="953735"/>
                </a:solidFill>
                <a:uFillTx/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management 40. – 70. let 20. stolet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953735"/>
                </a:solidFill>
                <a:uFillTx/>
                <a:latin typeface="Calibri"/>
              </a:rPr>
              <a:t>3. etapa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management 80. let až konce 20. stolet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 u="sng">
                <a:solidFill>
                  <a:srgbClr val="953735"/>
                </a:solidFill>
                <a:uFillTx/>
                <a:latin typeface="Calibri"/>
              </a:rPr>
              <a:t>4. etapa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dobý management – tj. management 21. stolet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římá spojovací čára 4"/>
          <p:cNvSpPr/>
          <p:nvPr/>
        </p:nvSpPr>
        <p:spPr>
          <a:xfrm>
            <a:off x="468360" y="299736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64764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i="1" lang="cs-CZ" sz="3200" spc="-1" strike="noStrike">
                <a:solidFill>
                  <a:srgbClr val="e46c0a"/>
                </a:solidFill>
                <a:latin typeface="Calibri"/>
              </a:rPr>
              <a:t>Vývoj managemen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solidFill>
            <a:srgbClr val="d7e4bd"/>
          </a:solidFill>
          <a:ln w="93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Dva směr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 a)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technický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měřený na obecnou racionalizaci, technická řešení vazeb mezi výrobními prvky, hledání technických faktorů rozvoje a optimalizaci průběhu výrobního proce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sychologick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měřený na otázky motivace a způsoby vedení lidí, optimální pracovní výkon, vlivy sociálních skupin, psychologické faktory prá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1 etapa.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Klasická škola teorie řízení - klasický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znikla na přelomu 19. a 20. století v U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ředstavitelé : F.W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ayl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F.B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Gilbreth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H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ord,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Bať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H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ayo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.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We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aměřují se n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: -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zvyšování výkonů a pracovní disciplínu děl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ztrátové ča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tlak na ekonomii výrobních proces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minimalizace náklad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-nahodilé živelné řízení nahradit řízením systematický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římá spojovací čára 4"/>
          <p:cNvSpPr/>
          <p:nvPr/>
        </p:nvSpPr>
        <p:spPr>
          <a:xfrm>
            <a:off x="468360" y="3645000"/>
            <a:ext cx="820728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14:51:48Z</dcterms:created>
  <dc:creator>MiZ</dc:creator>
  <dc:description/>
  <dc:language>en-US</dc:language>
  <cp:lastModifiedBy>Havelka</cp:lastModifiedBy>
  <dcterms:modified xsi:type="dcterms:W3CDTF">2014-01-03T15:18:49Z</dcterms:modified>
  <cp:revision>778</cp:revision>
  <dc:subject/>
  <dc:title>PM 101 – Management I.</dc:title>
</cp:coreProperties>
</file>