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DE7E-8C52-482E-8F31-C7184DD77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403D-3FB9-4406-8534-8C2130F4B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56D2-EE64-47B9-A130-F0B42654E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A995-B9EC-4014-82ED-FFF9A7CF5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FB5C-2FA1-41B0-8958-7DE5893BF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7B5D-54A7-4D88-965B-9B687551E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291F-C0E0-402A-AB41-4C686D2B2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A0D9-AB25-44D9-8C13-BA78106BD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9B8F-71D0-40CB-B31E-B3B4C35AC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E8BA-B72C-40D5-AC1B-C78145A6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4D8A-B912-4795-9D81-B687B681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386A-B966-4B07-8829-0C2BC7A2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6D315-3CA0-4983-84E2-EB9FFDC0EDB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06864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ontro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43" name="TextovéPole 4"/>
          <p:cNvSpPr/>
          <p:nvPr/>
        </p:nvSpPr>
        <p:spPr>
          <a:xfrm>
            <a:off x="2195640" y="263700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Y_32_INOVACE_118_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ovéPole 5"/>
          <p:cNvSpPr/>
          <p:nvPr/>
        </p:nvSpPr>
        <p:spPr>
          <a:xfrm>
            <a:off x="4680000" y="5549760"/>
            <a:ext cx="35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Autor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Ing. Vladimír Havel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560" y="692280"/>
            <a:ext cx="7978680" cy="5047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při kontrole se zaměřit na : - kvantitativní aspekt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125000"/>
            <a:ext cx="7978680" cy="492948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ekonomické aspek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kvalitativní aspek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časové aspek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c) „kdo kontroluje“ = subjekt kontrol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vedoucí pracovník „kdo řídí – kontroluje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jednotliví zaměstnanci – kontrola vlastní činno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vnitřní kontroloři : - specialisté ( podnikový kontrolor…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vyškolení pracovníci (bezp. technik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externí odborní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6121440" cy="57636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d) „kdy kontrovat“ = periodicita kontrol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79280" y="836280"/>
            <a:ext cx="8785440" cy="576108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termín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kontroly : - kontrola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řádná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(plánované termín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kontrola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mimořádná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(při nežádoucích situacíc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četnost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kontrol : -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v průběhu rok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v průběhu kontrolní ak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časový charakter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: - kontrola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ředběžn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kontrola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růběžn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kontrola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následn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e) „jak kontrolovat“ = způsob, metody kontro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běžná vnitřní kontrola,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alizována statutárním orgánem firm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audit,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estranné ověření určité skutečnosti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externí audit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– autorizovaní externí pracovníci nebo firm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interní audit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– provádějí zaměstnanci organiz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18.6 Control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aměřen na vyhodnocování stavu plnění podnikových záměr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j. plnění plánů, rozpočtů, projekt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Controlling  je součást ekonomického řízení organiz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e stanovených časových okamžicích se vytváří reálný obra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o stavu kontrolovaného objektu, určují se odchylky od požadovaného stavu, přijímají se korigující opatř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edmětem zájmu jsou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ekonomické ukazatele plánu, rozpočt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časové aspekty, tzn. dodržování termín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správné věcné plně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dodržování kva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18.7 Chyby v kontrolním systém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bsence kontro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ízká autorita kontro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adměrná kontro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přesná kontro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ubjektivní kontro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srozumitelné závě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Formálnost kontro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Literatura předmět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OC.ING.VEBER.CSC., Jaromír a kol. </a:t>
            </a:r>
            <a:r>
              <a:rPr b="0" i="1" lang="cs-CZ" sz="1400" spc="-1" strike="noStrike">
                <a:solidFill>
                  <a:srgbClr val="000000"/>
                </a:solidFill>
                <a:latin typeface="Calibri"/>
              </a:rPr>
              <a:t>Základy managementu - pro střední školy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. druhé vydání. Praha: Fortuna, 2003, 136. ISBN 80-7168-654-9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NG.ZLÁMAL,PHDR., Jaroslav; ING.BC.BAČÍK,PHD, Petr; ING.BELLOVÁ,PHD, Jana. </a:t>
            </a:r>
            <a:r>
              <a:rPr b="0" i="1" lang="cs-CZ" sz="1400" spc="-1" strike="noStrike">
                <a:solidFill>
                  <a:srgbClr val="000000"/>
                </a:solidFill>
                <a:latin typeface="Calibri"/>
              </a:rPr>
              <a:t>Management - Základy managementu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. první. Kralice na Hané, Hrubčická 495: Computr Media s.r.o., 2011, 104. ISBN 978-80-7402-083-4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HDR.VYSEKALOVÁ, Jitka; ING.KLIKOVÁ, Dagmar; ING.ROZUMOVÁ, Petra. </a:t>
            </a:r>
            <a:r>
              <a:rPr b="0" i="1" lang="cs-CZ" sz="1400" spc="-1" strike="noStrike">
                <a:solidFill>
                  <a:srgbClr val="000000"/>
                </a:solidFill>
                <a:latin typeface="Calibri"/>
              </a:rPr>
              <a:t>Slovník základních pojmů z marketingu a managementu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. první. Praha 1,Jungmanova 7: Fortuna, 1997, 48. ISBN 80-7168-504-6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Bc. KOZLER, Josef; MATĚJKA, Jan. </a:t>
            </a:r>
            <a:r>
              <a:rPr b="0" i="1" lang="cs-CZ" sz="1400" spc="-1" strike="noStrike">
                <a:solidFill>
                  <a:srgbClr val="000000"/>
                </a:solidFill>
                <a:latin typeface="Calibri"/>
              </a:rPr>
              <a:t>Ekonomika, Management, Marketing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. první.Havlíčkův Brod, Humpolecká 1503: Fragment, 1998, 139. ISBN 80-7200-253-8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1258920" y="307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Objekt 2"/>
          <p:cNvGraphicFramePr/>
          <p:nvPr/>
        </p:nvGraphicFramePr>
        <p:xfrm>
          <a:off x="900000" y="536400"/>
          <a:ext cx="7559640" cy="59169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7" name="Objek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536400"/>
                    <a:ext cx="7559640" cy="591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18.1 Kontrolní čin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ontrolní činnosti využívají manažeři na všech úrovních řízení jako určitou zpětnou vazb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myslem je získat objektivní představu o řízené realitě, tj. plnění plánovaných záměrů, stupni realizace přijatých rozhodnut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Základní členění kontrolních procesů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- vnitřní (interní )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yvolána organizací realizována řídícími nebo zmocněnými pracovníky organiz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- vnější (externí)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a základě- smluvních požadavk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zákonné požadav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6040" y="299880"/>
            <a:ext cx="8229600" cy="64800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18.2 Vnitřní struktura kontrolní čin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981000"/>
            <a:ext cx="8229600" cy="56167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Fáze kontroly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a) určení předmětu kontro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ekonomická hlediska – respektovat obecné zása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duplicitní provádění kontroly – nehospodárné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úplná kontrola – kapacitně a ekonomicky náročn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namátková kontrola – nahradit úplnou kontrol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b) získání a výběr informací pro kontrol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primární informace – přímé pozorová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sekundární informace – hlášení, zprávy, sdělení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c) ověření správnosti získaných informac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hledisko věcné – prověření záznamů na míst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prověření formální správnosti – úplnost údajů, počet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právnost, oprávněnost podpis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554800" cy="41760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d) hodnocení kontrolovaných proces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podstatou je srovnávání, kdy určité údaje o dané realitě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rovnáváme s určenými kriteri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e) závěry a návrhy opatř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závěry zjištění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: - „nech být“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„proveď korigující opatření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„uskutečni nápravná opatření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„přijmi nové řešení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f) zpětná kontro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realizuje se pokud byla na základě předcházející kontro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avržena korigující nebo nápravná opatření a je třeb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ověřit jejich účinn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0328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18.3 Hodnotící krité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692280"/>
            <a:ext cx="8229600" cy="547344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Typy hodnotících kritérií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a) standardy – základní skupin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- obecné normy chování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- náplň konkrétní činnosti daná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kvalifikací pracovníků ( BOZP, hygiena, požární ochrana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- specifické požadavky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– jsou měřitelné, kvantifikované veličin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fyzikální, ekonomické, kombinované, neměřiteln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b) časové srovná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posuzuje jak se daný  předmět kontroly vyvíjí v sledované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období s ohledem na vývoj v minulém obdob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c) konkurenční srovná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užívají se hodnoty veličin, které v dané oblasti dosahuj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konkurenční fir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d) správné řídící a provozní praktik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přestavuje okruh požadavků na chování, jednání pracovníků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18.4 Moderní přístupy ke kontro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23640" y="907920"/>
            <a:ext cx="8569080" cy="595008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ak realizace, tak i neuskutečnění kontroly mohou mít různ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ekonomické důsled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akákoli neodhalená vada, reklamace, nedostatky musí bý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važována za faktor snižující produktivitu firm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e-li výsledek kontroly konstatování příznivého stavu, je zřejm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že tato kontrola byla do jisté míry zbytečn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oučasné požadavky do kontrolních činností znamená respektovat následující doporučení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jako nejméně výhodná se jeví konečná, výstupní, cílová kontro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výhodnější je aplikace průběžné kontro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nejvýhodnější je omezovat kontrolu, uvést opatření, aby byl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edostatky minimalizová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evence před následnou kontrolo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2746440" cy="41760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evence chyb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základní skupiny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chyby vědomé-úmyslné : - záměrné chy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chyby z nedbalo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chyby záměrně utajovan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chyby z nedostatku znalost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chyby z nedostatku soustředě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18.5 Vnitřní kontrolní systém organiza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980640"/>
            <a:ext cx="8229600" cy="587700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i ujasnění úlohy kontrolního systému v rámci organizace jsou následující otázky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a) „proč kontrolovat“ = účel, funkce a smysl kontro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funkce : - inspekč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preventiv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eliminační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smysl : - odhalování nedostatk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respektování právních předpisů, naříz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b) „co kontrolovat“ = předmět kontro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zvýšené úsilí zaměřit na : - regulované elemen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nestabilní proces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zvláštní proces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nové aktivity (nový výrobek…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velka</cp:lastModifiedBy>
  <dcterms:modified xsi:type="dcterms:W3CDTF">2014-02-05T07:52:46Z</dcterms:modified>
  <cp:revision>34</cp:revision>
  <dc:subject/>
  <dc:title>7 1</dc:title>
</cp:coreProperties>
</file>