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C09-EB30-407E-8F54-1A473F79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016-E507-4046-B220-E1DB6BB9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D6C-A2E1-42DB-ADAC-67FBC50C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620-11AE-42CC-BAFC-345D5EC5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E40-C9F3-4C69-9FE5-A2933A55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D70-1C99-4940-BD50-53438E8C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C04-1264-4F3F-8875-7EBD642E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DD7-46F2-4128-A27D-F84A0C7F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AB3-69B5-4A62-9AD8-67FB491B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735-56C2-45A6-81F9-97448A57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F8B-96D9-4B3F-875A-DEF76679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7BE-51B9-44AB-BBB9-315B47E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253B-86F1-4718-9D9B-05756F37E4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tribu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268360" y="26370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09 _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148360" y="5589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9cde5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9.3 Maloobc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firma, která prodává zboží přímo koncovému zákazník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posledním článkem v distribučním řetěz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prostředkovává prodej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Maloobchod z hlediska prodej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ultový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obsluha prodavač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amoobslužný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zákazník se pohybuje vol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ambulant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pojízdná prodejna nebo stán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ochůzkový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dealeři, obchodní zástup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zásilkový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prodej podle katalogů, zásilkový obc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internetový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elektronický obc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42472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Typy maloobchodních jednotek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836280"/>
            <a:ext cx="843588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prodejna se zbožím denní potřeb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6. hyper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specializovaná prodejn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7. diskontní prodej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 specializovaná velkoprodejn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8. obchodní centr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 hobbymarke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9. obchodní d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 super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Franchising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neobvyklá forma smluvního vzta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de o způsob obchodní činnosti a marketing výrobků a služ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ranchisor poskytuje práva užívat obchodní známku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now-h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dstatou je udělení licence majitelem, výrobcem ne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istributorem služby nebo produktu chráněného ochran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námk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777960"/>
          </a:xfrm>
          <a:prstGeom prst="rect">
            <a:avLst/>
          </a:prstGeom>
          <a:solidFill>
            <a:srgbClr val="b9cde5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9.4 Maloobchodní m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907920"/>
            <a:ext cx="8642160" cy="5400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lvl="1" marL="450720" indent="-368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3682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okalizace prodejn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ím vzdálenější je bydliště zákazníka od    prodejny, tím menší pravděpodobnost, že zde bude nakupova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3682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elikost, prostorové uspořádání a vzhled prodejn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 dispoziční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368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řešen prodejny patří místo a způsob umístění zbož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3682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ersonální prodejn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davači jsou v přímém kontaktu s kupujícími, proto by měl být kladen velký důraz na jejich profesionalitu a odbornost, 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368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 vzhled a komunikační doved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3682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Cenová hladin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řazuje prodejnu do určitého povědomí kupující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3682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chodní sortimen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ruh sortimentu, který bude nabízen trhu, zvolit jeho šíři a hloub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3682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lužb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ákup na splátky, rozvoz zboží, dárkové balení, pozáruční servis, výměna zboží, hlídání dě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368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solidFill>
            <a:srgbClr val="b9cde5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9.5 Obchodnické tr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836280"/>
            <a:ext cx="843588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etá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e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dule upozorňující na sle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ažší zboží ve výši očí a po pravé ruce ve směru jízdy vozík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imořádná nabídka zboží v uličká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gály s drobným a rychloobrátkovým zbožím u pokla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rcadla zvětšující pros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kupní trasa vedoucí od méně potřebného  zboží k potraviná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jemné prostřed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svícení zboží v regál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lké nákupní voz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chutnávk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8003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376092"/>
                </a:solidFill>
                <a:latin typeface="Calibri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644640"/>
            <a:ext cx="6400800" cy="1368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558ed5"/>
                </a:solidFill>
                <a:latin typeface="Calibri"/>
              </a:rPr>
              <a:t>Distribu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9.1 Charakteristika distribu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rma musí zvolit správný čas a správné místo tak, aby oslovi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žadovaný segment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aktor času je důležitý proto, aby nedocházelo ke zbytečný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levám mezi výrobou a spotřeb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sto je součástí hodnoty vnímané zákazník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istribuce zahrnuje veškeré činnosti společnosti, které či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ukt nebo službu dostupnou zákazník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istribuční cesta zahrnuje mezičlánky, pomocí nichž se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stává od výrobce k zákazník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91280" cy="64764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rodejní cest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907560"/>
            <a:ext cx="7991280" cy="51469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římá distrib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boží (nejčastěji denní potřeby)  se dostává přímo 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robce k zákazník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3"/>
          <p:cNvSpPr/>
          <p:nvPr/>
        </p:nvSpPr>
        <p:spPr>
          <a:xfrm>
            <a:off x="1042920" y="3213000"/>
            <a:ext cx="216072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ýrob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4"/>
          <p:cNvSpPr/>
          <p:nvPr/>
        </p:nvSpPr>
        <p:spPr>
          <a:xfrm>
            <a:off x="5292720" y="3213000"/>
            <a:ext cx="215892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az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Přímá spojovací šipka 7"/>
          <p:cNvCxnSpPr>
            <a:stCxn id="54" idx="3"/>
            <a:endCxn id="55" idx="1"/>
          </p:cNvCxnSpPr>
          <p:nvPr/>
        </p:nvCxnSpPr>
        <p:spPr>
          <a:xfrm>
            <a:off x="3203280" y="3715920"/>
            <a:ext cx="2089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08720" cy="63324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epřímá distrib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907920"/>
            <a:ext cx="8208720" cy="561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i distribuci výrobku či služby se velmi často využívá   mezičlánků-jednoho (maloobchod), dvou (velkoobchod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oobchod) nebo i více (různí zprostředkovatelé, dovozci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aždý mezičlánek v distribuci zvyšuje konečnou cenu pro zákazníka o tzv. marži (obchodní rozpět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O – maloobch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O – velkoobcho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3"/>
          <p:cNvSpPr/>
          <p:nvPr/>
        </p:nvSpPr>
        <p:spPr>
          <a:xfrm>
            <a:off x="684360" y="3213000"/>
            <a:ext cx="1201680" cy="576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ýr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684360" y="4005360"/>
            <a:ext cx="1201680" cy="57600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ýr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5"/>
          <p:cNvSpPr/>
          <p:nvPr/>
        </p:nvSpPr>
        <p:spPr>
          <a:xfrm>
            <a:off x="684360" y="4797360"/>
            <a:ext cx="1201680" cy="576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ýr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délník 6"/>
          <p:cNvSpPr/>
          <p:nvPr/>
        </p:nvSpPr>
        <p:spPr>
          <a:xfrm>
            <a:off x="2627280" y="4005360"/>
            <a:ext cx="120348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7"/>
          <p:cNvSpPr/>
          <p:nvPr/>
        </p:nvSpPr>
        <p:spPr>
          <a:xfrm>
            <a:off x="2627280" y="3213000"/>
            <a:ext cx="1203480" cy="57636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8"/>
          <p:cNvSpPr/>
          <p:nvPr/>
        </p:nvSpPr>
        <p:spPr>
          <a:xfrm>
            <a:off x="2627280" y="4797360"/>
            <a:ext cx="1203480" cy="57636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voz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9"/>
          <p:cNvSpPr/>
          <p:nvPr/>
        </p:nvSpPr>
        <p:spPr>
          <a:xfrm>
            <a:off x="4572000" y="3213000"/>
            <a:ext cx="1201680" cy="576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ákaz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délník 10"/>
          <p:cNvSpPr/>
          <p:nvPr/>
        </p:nvSpPr>
        <p:spPr>
          <a:xfrm>
            <a:off x="4572000" y="4005360"/>
            <a:ext cx="1201680" cy="5760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délník 11"/>
          <p:cNvSpPr/>
          <p:nvPr/>
        </p:nvSpPr>
        <p:spPr>
          <a:xfrm>
            <a:off x="4572000" y="4797360"/>
            <a:ext cx="1201680" cy="57636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délník 12"/>
          <p:cNvSpPr/>
          <p:nvPr/>
        </p:nvSpPr>
        <p:spPr>
          <a:xfrm>
            <a:off x="6443640" y="4005360"/>
            <a:ext cx="1203480" cy="5760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ákaz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délník 13"/>
          <p:cNvSpPr/>
          <p:nvPr/>
        </p:nvSpPr>
        <p:spPr>
          <a:xfrm>
            <a:off x="6443640" y="4797360"/>
            <a:ext cx="1203480" cy="576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ákazn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Přímá spojovací šipka 18"/>
          <p:cNvCxnSpPr>
            <a:stCxn id="59" idx="3"/>
            <a:endCxn id="63" idx="1"/>
          </p:cNvCxnSpPr>
          <p:nvPr/>
        </p:nvCxnSpPr>
        <p:spPr>
          <a:xfrm>
            <a:off x="1885680" y="3499920"/>
            <a:ext cx="7419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1" name="Přímá spojovací šipka 20"/>
          <p:cNvCxnSpPr>
            <a:stCxn id="63" idx="3"/>
            <a:endCxn id="65" idx="1"/>
          </p:cNvCxnSpPr>
          <p:nvPr/>
        </p:nvCxnSpPr>
        <p:spPr>
          <a:xfrm>
            <a:off x="3830400" y="3499920"/>
            <a:ext cx="7419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2" name="Přímá spojovací šipka 22"/>
          <p:cNvCxnSpPr>
            <a:stCxn id="60" idx="3"/>
            <a:endCxn id="62" idx="1"/>
          </p:cNvCxnSpPr>
          <p:nvPr/>
        </p:nvCxnSpPr>
        <p:spPr>
          <a:xfrm>
            <a:off x="1885680" y="4292280"/>
            <a:ext cx="7419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3" name="Přímá spojovací šipka 24"/>
          <p:cNvCxnSpPr>
            <a:stCxn id="62" idx="3"/>
            <a:endCxn id="66" idx="1"/>
          </p:cNvCxnSpPr>
          <p:nvPr/>
        </p:nvCxnSpPr>
        <p:spPr>
          <a:xfrm>
            <a:off x="3830400" y="4292280"/>
            <a:ext cx="7419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Přímá spojovací šipka 26"/>
          <p:cNvCxnSpPr>
            <a:stCxn id="61" idx="3"/>
            <a:endCxn id="64" idx="1"/>
          </p:cNvCxnSpPr>
          <p:nvPr/>
        </p:nvCxnSpPr>
        <p:spPr>
          <a:xfrm>
            <a:off x="1885680" y="5084280"/>
            <a:ext cx="7419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Přímá spojovací šipka 28"/>
          <p:cNvCxnSpPr>
            <a:stCxn id="64" idx="3"/>
            <a:endCxn id="67" idx="1"/>
          </p:cNvCxnSpPr>
          <p:nvPr/>
        </p:nvCxnSpPr>
        <p:spPr>
          <a:xfrm>
            <a:off x="3830400" y="5084280"/>
            <a:ext cx="74196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6" name="Přímá spojovací šipka 30"/>
          <p:cNvCxnSpPr>
            <a:stCxn id="66" idx="3"/>
            <a:endCxn id="68" idx="1"/>
          </p:cNvCxnSpPr>
          <p:nvPr/>
        </p:nvCxnSpPr>
        <p:spPr>
          <a:xfrm>
            <a:off x="5773320" y="4292280"/>
            <a:ext cx="6706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7" name="Přímá spojovací šipka 32"/>
          <p:cNvCxnSpPr>
            <a:stCxn id="67" idx="3"/>
            <a:endCxn id="69" idx="1"/>
          </p:cNvCxnSpPr>
          <p:nvPr/>
        </p:nvCxnSpPr>
        <p:spPr>
          <a:xfrm>
            <a:off x="5773320" y="5084280"/>
            <a:ext cx="6706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4316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Srovnání přímé a nepřímé distribuce </a:t>
            </a:r>
            <a:r>
              <a:rPr b="1" lang="cs-CZ" sz="2400" spc="-1" strike="noStrike" u="sng">
                <a:solidFill>
                  <a:srgbClr val="e46c0a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9280" y="620280"/>
            <a:ext cx="8785440" cy="5977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mý kontakt se zákazníkem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činnější prodej zbož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zpětná vazba prodejce/zákaz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nárůst ceny pro konečného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      spotřebite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orší podmínky při propagaci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iziko platební neschopnosti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      zprostředkovate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ztráta kontroly výrobce nad zboží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malá zpětná vaz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468360" y="836640"/>
            <a:ext cx="2232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má distrib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5"/>
          <p:cNvSpPr/>
          <p:nvPr/>
        </p:nvSpPr>
        <p:spPr>
          <a:xfrm>
            <a:off x="4859280" y="907920"/>
            <a:ext cx="29527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přímá distrib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Funkce distribučních ces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- Obchod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obchodní  vztahy mezi výrobcem a mezičlánk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- Logistick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doprava, skladování a manipulace se zbož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- Podpůr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souvisí s pomocí prodeje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Intenzita prodej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- Intenzivní prodej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ýrobky denní spotře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- Selektivní prodej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zboží s určitými nároky na prod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- Výhradní prodej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 luxusní a značkového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9.2 Velkoobc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firma, která nakupuje zboží od výrobců za účelem dalšíh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eje maloobchodním jednotkám či organizac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bývá se obchodováním ve velkém měřít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ní primárně určen pro koncového spotřebit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omáhá  ke sladění časového nesouladu mezi výrob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spotřeb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Typy velkoobchod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radič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zboží se stává vlastnictvím velkoobch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elkoobchod s doplňkovými službam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podpora prodeje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ash-Carr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prodej drobným obchodníkům, při plac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hotovosti a s vlastní doprav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agenti a komisionář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elkoobchodníci, kteří nevlastní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1-01T20:15:04Z</dcterms:modified>
  <cp:revision>30</cp:revision>
  <dc:subject/>
  <dc:title>9</dc:title>
</cp:coreProperties>
</file>