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A2A3-BB46-472D-A41D-FE68A8D0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F61-EA95-40AC-A4E4-39E6EFFB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FF8-1942-4C70-987A-C427BC46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02A-6F8E-4545-A551-2923DBD8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BBD-0331-44C3-93F4-46856444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E807-4D0B-4133-B888-34373059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F8E3-269E-4D85-9C6B-FE8D3F0F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AE0-C345-40A8-84BA-B47034D8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EA8-5819-458B-A647-9457F8BF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220-C67A-4D7F-9F45-5D34761D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F8A-0456-46E7-BB04-BB17AF6B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8462-2DF4-42AA-B755-72562ABD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E9A4-78AD-41AD-B103-2792F807DC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anaž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11400" y="256716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13_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4978440" y="558972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utor: Ing. Vladimír Hav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i="1" lang="cs-CZ" sz="2800" spc="-1" strike="noStrike" u="sng">
                <a:solidFill>
                  <a:srgbClr val="e46c0a"/>
                </a:solidFill>
                <a:uFillTx/>
                <a:latin typeface="Calibri"/>
              </a:rPr>
              <a:t>Preferovat preven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53735"/>
                </a:solidFill>
                <a:latin typeface="Calibri"/>
              </a:rPr>
              <a:t>„ </a:t>
            </a:r>
            <a:r>
              <a:rPr b="1" i="1" lang="cs-CZ" sz="2400" spc="-1" strike="noStrike">
                <a:solidFill>
                  <a:srgbClr val="953735"/>
                </a:solidFill>
                <a:latin typeface="Calibri"/>
              </a:rPr>
              <a:t>Je výhodnější nedostatkům předcházet, než je následně napravovat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Čím dříve se objeví  a odstraní určitý nedostatek, tím ztráty s ním  spojené budou nižš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Tento záměr by měl být respektován manažery kteří by měl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alibri"/>
              </a:rPr>
              <a:t>omezit liknavost při řešení vzniklých problém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alibri"/>
              </a:rPr>
              <a:t>orientovat se na zjišťování problémů typu ohrožení a nepřipustit vznik problémů typu poruc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alibri"/>
              </a:rPr>
              <a:t>v řídících aktivitách zaměřit úsilí na předcházení  vzniku problémů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36000" cy="6476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1" i="1" lang="cs-CZ" sz="2800" spc="-1" strike="noStrike" u="sng">
                <a:solidFill>
                  <a:srgbClr val="e46c0a"/>
                </a:solidFill>
                <a:uFillTx/>
                <a:latin typeface="Calibri"/>
              </a:rPr>
              <a:t>Omezit plýtvání čas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000" y="907920"/>
            <a:ext cx="8156520" cy="56167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Doporučení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postup řešení opakujících se činností uvést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v organizačních     přepisech  (směrnicích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 řešení složitých, náročných tvůrčích úkolů je třeba si zajistit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ostatečný časový pros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eřešit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ěkolik úkolů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oučasn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efektivnější je řešit určitý problém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elší časový ús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zaměřit se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i své činnosti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o budoucnost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užívat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lánovací diář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7207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i="1" lang="cs-CZ" sz="2800" spc="-1" strike="noStrike" u="sng">
                <a:solidFill>
                  <a:srgbClr val="e46c0a"/>
                </a:solidFill>
                <a:uFillTx/>
                <a:latin typeface="Calibri"/>
              </a:rPr>
              <a:t>Por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980640"/>
            <a:ext cx="8229600" cy="547236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mezit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íl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porady (informace, sjednotit postup, ujasnit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rčit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oho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na poradu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zva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maximální počet účastníků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 důležitých skutečnostech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formova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účastníky porady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řede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poskytnou materiály, příprava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d poradou si ujasnit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ozdělení čas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rady (kolik času jednotlivým bodům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tvořit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hodné podmínk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jednání (ne telefony, tabule pro prezentaci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1" i="1" lang="cs-CZ" sz="2800" spc="-1" strike="noStrike" u="sng">
                <a:solidFill>
                  <a:srgbClr val="e46c0a"/>
                </a:solidFill>
                <a:uFillTx/>
                <a:latin typeface="Calibri"/>
              </a:rPr>
              <a:t>Respektovat určující „hlas zákazníka“</a:t>
            </a:r>
            <a:br>
              <a:rPr sz="1400"/>
            </a:br>
            <a:r>
              <a:rPr b="1" i="1" lang="cs-CZ" sz="1400" spc="-1" strike="noStrike" u="sng">
                <a:solidFill>
                  <a:srgbClr val="e46c0a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907560"/>
            <a:ext cx="8229600" cy="56898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53735"/>
                </a:solidFill>
                <a:latin typeface="Calibri"/>
              </a:rPr>
              <a:t>      „</a:t>
            </a:r>
            <a:r>
              <a:rPr b="1" i="1" lang="cs-CZ" sz="2400" spc="-1" strike="noStrike">
                <a:solidFill>
                  <a:srgbClr val="953735"/>
                </a:solidFill>
                <a:latin typeface="Calibri"/>
              </a:rPr>
              <a:t>Zákazník náš pán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oderní management požaduje v podnikání –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pokojenost zákazníků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terá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ředpokládá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arantovat dodávk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výrobky, služby) bez vad, nedostatků a odchylek od dohodnutých požadav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usilova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 celkovou spokojenost zákazní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jednání manažerů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 všech stupních ke spokojenému zákazníkov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dstranit všechny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egativní momen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e firmě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osadi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do všech rozhodování - hlas zákazní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změnit chování,jednání a vystupován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ždého pracovníka firmy – součást kultury fi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Tři základní úkoly manaž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Elipsa 7"/>
          <p:cNvSpPr/>
          <p:nvPr/>
        </p:nvSpPr>
        <p:spPr>
          <a:xfrm>
            <a:off x="3564000" y="2060640"/>
            <a:ext cx="2016000" cy="177804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Řízení organi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lipsa 9"/>
          <p:cNvSpPr/>
          <p:nvPr/>
        </p:nvSpPr>
        <p:spPr>
          <a:xfrm>
            <a:off x="1332000" y="4005360"/>
            <a:ext cx="2066760" cy="185076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Řízení práce a produ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lipsa 10"/>
          <p:cNvSpPr/>
          <p:nvPr/>
        </p:nvSpPr>
        <p:spPr>
          <a:xfrm>
            <a:off x="5867280" y="4076640"/>
            <a:ext cx="1873440" cy="1779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Řízení li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Přímá spojovací šipka 42"/>
          <p:cNvCxnSpPr>
            <a:stCxn id="76" idx="5"/>
            <a:endCxn id="78" idx="1"/>
          </p:cNvCxnSpPr>
          <p:nvPr/>
        </p:nvCxnSpPr>
        <p:spPr>
          <a:xfrm>
            <a:off x="5284440" y="3578040"/>
            <a:ext cx="857880" cy="75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Přímá spojovací šipka 44"/>
          <p:cNvCxnSpPr>
            <a:stCxn id="77" idx="7"/>
            <a:endCxn id="76" idx="3"/>
          </p:cNvCxnSpPr>
          <p:nvPr/>
        </p:nvCxnSpPr>
        <p:spPr>
          <a:xfrm flipV="1">
            <a:off x="3095280" y="3578040"/>
            <a:ext cx="76428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1" name="Přímá spojovací šipka 46"/>
          <p:cNvCxnSpPr>
            <a:stCxn id="77" idx="6"/>
            <a:endCxn id="78" idx="2"/>
          </p:cNvCxnSpPr>
          <p:nvPr/>
        </p:nvCxnSpPr>
        <p:spPr>
          <a:xfrm>
            <a:off x="3398400" y="4930560"/>
            <a:ext cx="246924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solidFill>
            <a:srgbClr val="c3d69b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1f497d"/>
                </a:solidFill>
                <a:latin typeface="Calibri"/>
              </a:rPr>
              <a:t>13.4 Základní činnosti-funkce manaž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1267920"/>
            <a:ext cx="8207280" cy="52470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hodová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lán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dení – motiv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rganiz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munik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reativ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bdélník 2"/>
          <p:cNvSpPr/>
          <p:nvPr/>
        </p:nvSpPr>
        <p:spPr>
          <a:xfrm>
            <a:off x="3419640" y="3284640"/>
            <a:ext cx="2089080" cy="50472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Rozhod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bdélník 3"/>
          <p:cNvSpPr/>
          <p:nvPr/>
        </p:nvSpPr>
        <p:spPr>
          <a:xfrm>
            <a:off x="826920" y="1844640"/>
            <a:ext cx="2089440" cy="5047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Kreativ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bdélník 4"/>
          <p:cNvSpPr/>
          <p:nvPr/>
        </p:nvSpPr>
        <p:spPr>
          <a:xfrm>
            <a:off x="5867280" y="1844640"/>
            <a:ext cx="2089440" cy="5047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lán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5"/>
          <p:cNvSpPr/>
          <p:nvPr/>
        </p:nvSpPr>
        <p:spPr>
          <a:xfrm>
            <a:off x="395280" y="3284640"/>
            <a:ext cx="2089080" cy="5047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Komunik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6"/>
          <p:cNvSpPr/>
          <p:nvPr/>
        </p:nvSpPr>
        <p:spPr>
          <a:xfrm>
            <a:off x="6659640" y="3284640"/>
            <a:ext cx="2089080" cy="5047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Organiz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8"/>
          <p:cNvSpPr/>
          <p:nvPr/>
        </p:nvSpPr>
        <p:spPr>
          <a:xfrm>
            <a:off x="826920" y="4653000"/>
            <a:ext cx="2089440" cy="5047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Kontr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9"/>
          <p:cNvSpPr/>
          <p:nvPr/>
        </p:nvSpPr>
        <p:spPr>
          <a:xfrm>
            <a:off x="5867280" y="4653000"/>
            <a:ext cx="2089440" cy="50472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Vedeni-motiv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10"/>
          <p:cNvSpPr/>
          <p:nvPr/>
        </p:nvSpPr>
        <p:spPr>
          <a:xfrm>
            <a:off x="3419640" y="6021360"/>
            <a:ext cx="2089080" cy="503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ní li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římá spojovací čára 12"/>
          <p:cNvSpPr/>
          <p:nvPr/>
        </p:nvSpPr>
        <p:spPr>
          <a:xfrm>
            <a:off x="395280" y="5732640"/>
            <a:ext cx="820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římá spojovací čára 16"/>
          <p:cNvSpPr/>
          <p:nvPr/>
        </p:nvSpPr>
        <p:spPr>
          <a:xfrm flipV="1">
            <a:off x="8604360" y="5516640"/>
            <a:ext cx="7128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římá spojovací čára 20"/>
          <p:cNvSpPr/>
          <p:nvPr/>
        </p:nvSpPr>
        <p:spPr>
          <a:xfrm flipH="1" flipV="1">
            <a:off x="250560" y="5516640"/>
            <a:ext cx="14436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Přímá spojovací šipka 34"/>
          <p:cNvCxnSpPr/>
          <p:nvPr/>
        </p:nvCxnSpPr>
        <p:spPr>
          <a:xfrm>
            <a:off x="4427280" y="5732640"/>
            <a:ext cx="1080" cy="28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Přímá spojovací šipka 36"/>
          <p:cNvCxnSpPr>
            <a:stCxn id="84" idx="3"/>
          </p:cNvCxnSpPr>
          <p:nvPr/>
        </p:nvCxnSpPr>
        <p:spPr>
          <a:xfrm flipV="1">
            <a:off x="5508720" y="2348640"/>
            <a:ext cx="358920" cy="118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Přímá spojovací šipka 38"/>
          <p:cNvCxnSpPr>
            <a:stCxn id="84" idx="3"/>
          </p:cNvCxnSpPr>
          <p:nvPr/>
        </p:nvCxnSpPr>
        <p:spPr>
          <a:xfrm>
            <a:off x="5508720" y="3537000"/>
            <a:ext cx="358920" cy="11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Přímá spojovací šipka 40"/>
          <p:cNvCxnSpPr>
            <a:stCxn id="84" idx="3"/>
            <a:endCxn id="88" idx="1"/>
          </p:cNvCxnSpPr>
          <p:nvPr/>
        </p:nvCxnSpPr>
        <p:spPr>
          <a:xfrm>
            <a:off x="5508360" y="3536640"/>
            <a:ext cx="1151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Přímá spojovací šipka 42"/>
          <p:cNvCxnSpPr>
            <a:stCxn id="84" idx="1"/>
            <a:endCxn id="87" idx="3"/>
          </p:cNvCxnSpPr>
          <p:nvPr/>
        </p:nvCxnSpPr>
        <p:spPr>
          <a:xfrm flipH="1">
            <a:off x="2484000" y="3536640"/>
            <a:ext cx="936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Přímá spojovací šipka 44"/>
          <p:cNvCxnSpPr>
            <a:stCxn id="84" idx="1"/>
          </p:cNvCxnSpPr>
          <p:nvPr/>
        </p:nvCxnSpPr>
        <p:spPr>
          <a:xfrm flipH="1" flipV="1">
            <a:off x="2916000" y="2348640"/>
            <a:ext cx="504000" cy="118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Přímá spojovací šipka 46"/>
          <p:cNvCxnSpPr/>
          <p:nvPr/>
        </p:nvCxnSpPr>
        <p:spPr>
          <a:xfrm flipH="1">
            <a:off x="2916000" y="3500280"/>
            <a:ext cx="504000" cy="11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Přímá spojovací šipka 48"/>
          <p:cNvCxnSpPr>
            <a:stCxn id="85" idx="3"/>
            <a:endCxn id="86" idx="1"/>
          </p:cNvCxnSpPr>
          <p:nvPr/>
        </p:nvCxnSpPr>
        <p:spPr>
          <a:xfrm>
            <a:off x="2916000" y="2096640"/>
            <a:ext cx="2951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Přímá spojovací šipka 52"/>
          <p:cNvCxnSpPr>
            <a:stCxn id="90" idx="1"/>
            <a:endCxn id="89" idx="3"/>
          </p:cNvCxnSpPr>
          <p:nvPr/>
        </p:nvCxnSpPr>
        <p:spPr>
          <a:xfrm flipH="1">
            <a:off x="2915640" y="4905000"/>
            <a:ext cx="2951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Přímá spojovací šipka 54"/>
          <p:cNvCxnSpPr>
            <a:stCxn id="86" idx="2"/>
            <a:endCxn id="88" idx="0"/>
          </p:cNvCxnSpPr>
          <p:nvPr/>
        </p:nvCxnSpPr>
        <p:spPr>
          <a:xfrm>
            <a:off x="6912000" y="2349360"/>
            <a:ext cx="792720" cy="936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Přímá spojovací šipka 56"/>
          <p:cNvCxnSpPr>
            <a:stCxn id="88" idx="2"/>
            <a:endCxn id="90" idx="0"/>
          </p:cNvCxnSpPr>
          <p:nvPr/>
        </p:nvCxnSpPr>
        <p:spPr>
          <a:xfrm flipH="1">
            <a:off x="6911640" y="3789000"/>
            <a:ext cx="792720" cy="864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Přímá spojovací šipka 58"/>
          <p:cNvCxnSpPr>
            <a:stCxn id="89" idx="0"/>
            <a:endCxn id="87" idx="2"/>
          </p:cNvCxnSpPr>
          <p:nvPr/>
        </p:nvCxnSpPr>
        <p:spPr>
          <a:xfrm flipH="1" flipV="1">
            <a:off x="1439280" y="3788640"/>
            <a:ext cx="432360" cy="864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Přímá spojovací šipka 60"/>
          <p:cNvCxnSpPr>
            <a:stCxn id="87" idx="0"/>
            <a:endCxn id="85" idx="2"/>
          </p:cNvCxnSpPr>
          <p:nvPr/>
        </p:nvCxnSpPr>
        <p:spPr>
          <a:xfrm flipV="1">
            <a:off x="1439640" y="2349000"/>
            <a:ext cx="432360" cy="936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Obdélník 61"/>
          <p:cNvSpPr/>
          <p:nvPr/>
        </p:nvSpPr>
        <p:spPr>
          <a:xfrm>
            <a:off x="971640" y="549360"/>
            <a:ext cx="7056360" cy="5814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3200" spc="-1" strike="noStrike" u="sng">
                <a:solidFill>
                  <a:srgbClr val="e46c0a"/>
                </a:solidFill>
                <a:uFillTx/>
                <a:latin typeface="Calibri"/>
              </a:rPr>
              <a:t>Základní činnosti-funkce manaž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i="1" lang="cs-CZ" sz="2800" spc="-1" strike="noStrike" u="sng">
                <a:solidFill>
                  <a:srgbClr val="e46c0a"/>
                </a:solidFill>
                <a:uFillTx/>
                <a:latin typeface="Calibri"/>
              </a:rPr>
              <a:t>Recept úspěšného manaž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zásada 1 - </a:t>
            </a:r>
            <a:r>
              <a:rPr b="1" i="1" lang="cs-CZ" sz="2700" spc="-1" strike="noStrike">
                <a:solidFill>
                  <a:srgbClr val="ff0000"/>
                </a:solidFill>
                <a:latin typeface="Calibri"/>
              </a:rPr>
              <a:t>NIKDY NIC NEZAPOMENOU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zásada 2 - </a:t>
            </a:r>
            <a:r>
              <a:rPr b="1" i="1" lang="cs-CZ" sz="2700" spc="-1" strike="noStrike">
                <a:solidFill>
                  <a:srgbClr val="ff0000"/>
                </a:solidFill>
                <a:latin typeface="Calibri"/>
              </a:rPr>
              <a:t>ÚKOL MUSÍ BÝT SPLNĚ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zásada 3 - </a:t>
            </a:r>
            <a:r>
              <a:rPr b="1" i="1" lang="cs-CZ" sz="2700" spc="-1" strike="noStrike">
                <a:solidFill>
                  <a:srgbClr val="ff0000"/>
                </a:solidFill>
                <a:latin typeface="Calibri"/>
              </a:rPr>
              <a:t>SPRÁVNÁ MÍRA ODSTUPU OD VĚC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zásada 4 - </a:t>
            </a:r>
            <a:r>
              <a:rPr b="1" i="1" lang="cs-CZ" sz="2700" spc="-1" strike="noStrike">
                <a:solidFill>
                  <a:srgbClr val="ff0000"/>
                </a:solidFill>
                <a:latin typeface="Calibri"/>
              </a:rPr>
              <a:t>MÍT AUTORIT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zásada 5 - </a:t>
            </a:r>
            <a:r>
              <a:rPr b="1" i="1" lang="cs-CZ" sz="2700" spc="-1" strike="noStrike">
                <a:solidFill>
                  <a:srgbClr val="ff0000"/>
                </a:solidFill>
                <a:latin typeface="Calibri"/>
              </a:rPr>
              <a:t>POSEDLOST ZISKEM A NÁKLA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zásada 6 – </a:t>
            </a:r>
            <a:r>
              <a:rPr b="1" i="1" lang="cs-CZ" sz="2700" spc="-1" strike="noStrike">
                <a:solidFill>
                  <a:srgbClr val="ff0000"/>
                </a:solidFill>
                <a:latin typeface="Calibri"/>
              </a:rPr>
              <a:t>RYCHLE SE VYPOŘÁDAT S LENOCH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zásada 7 - </a:t>
            </a:r>
            <a:r>
              <a:rPr b="1" i="1" lang="cs-CZ" sz="2700" spc="-1" strike="noStrike">
                <a:solidFill>
                  <a:srgbClr val="ff0000"/>
                </a:solidFill>
                <a:latin typeface="Calibri"/>
              </a:rPr>
              <a:t>CITLIVOST K LIDE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6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6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zásada 8 – </a:t>
            </a:r>
            <a:r>
              <a:rPr b="1" i="1" lang="cs-CZ" sz="2700" spc="-1" strike="noStrike">
                <a:solidFill>
                  <a:srgbClr val="ff0000"/>
                </a:solidFill>
                <a:latin typeface="Calibri"/>
              </a:rPr>
              <a:t>STIMULOVAT SPOLUPRACOVNÍKY</a:t>
            </a:r>
            <a:r>
              <a:rPr b="1" i="1" lang="cs-CZ" sz="15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24720" cy="56196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2800" spc="-1" strike="noStrike" u="sng">
                <a:solidFill>
                  <a:srgbClr val="e46c0a"/>
                </a:solidFill>
                <a:uFillTx/>
                <a:latin typeface="Calibri"/>
              </a:rPr>
              <a:t>Styl řídící prá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836640"/>
            <a:ext cx="8424720" cy="54720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e forma vztahu manažera k spolupracovník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Ukazuje celkový přístup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systém, způsoby, metody, postupy manažera, směřující k dosažení podnikových c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e charakterizován druhem a způsobem rozhodování a jednán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dřízených, jak svá rozhodnutí  předávají, koordinují a kontroluj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Liší se v závislosti n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  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kamžité situa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stojích podřízený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sobních vlastnostech manaž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Řídící pracovník se orientuje n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 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ko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plnění úkolů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sob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mezilidské vztah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6332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i="1" lang="cs-CZ" sz="2800" spc="-1" strike="noStrike" u="sng">
                <a:solidFill>
                  <a:srgbClr val="e46c0a"/>
                </a:solidFill>
                <a:uFillTx/>
                <a:latin typeface="Calibri"/>
              </a:rPr>
              <a:t>Základní styly řízení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000" y="907920"/>
            <a:ext cx="8351640" cy="55454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byrokratický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vedoucí pracovník svou činnost opírá o směrnice,pokyny shora, sleduje jejich dodržení, opírá se o autoritu nadřízený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autoritativní –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založen na příkazech a jejich              bezpodmínečném plnění, minimálně se radí s podřízenými, strohý formální příst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demokratický-partnerský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vedoucí spolupracuje s podřízenými, má přirozenou autoritu, nechává si prostor pro vlastní rozhodnu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ve vztahu k podřízeným může bý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ílové řízen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úkoly podřízený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elegační řízen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větší pravomoce a odpovědnosti podřizený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258920" y="30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kt 2"/>
          <p:cNvGraphicFramePr/>
          <p:nvPr/>
        </p:nvGraphicFramePr>
        <p:xfrm>
          <a:off x="900000" y="536400"/>
          <a:ext cx="7559640" cy="5916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36400"/>
                    <a:ext cx="7559640" cy="591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bdélník 1"/>
          <p:cNvSpPr/>
          <p:nvPr/>
        </p:nvSpPr>
        <p:spPr>
          <a:xfrm>
            <a:off x="395280" y="0"/>
            <a:ext cx="8497800" cy="66776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liberál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vedoucí pracovník činnost podřízených ovlivňuje minimálně, vyhýbá se nepopulárním zásahům (kritika, sankce, rizika), řadu rozhodnutí nechává na podříze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lhostejný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edoucí pracovník pouze přenáší příkazy, vžil se pojem doručovatel-oni chtějí, zasahuje  vyjimečně, nerad sám rozhoduje, nekontrol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kompromisní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vedoucí pracovník má v řídící práci nejistotu rozhodnutí, slučuje orientaci na osobu a výkon a to ústupky v neprospěch obou stran(zlatá střední ce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týmový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ptimální, zaměřuje se na výkon při udržování dobrých lidských vztahů, vedoucí týmu,všichni mají svá práva a podílejí se na spolurozhodování, probíhá výměna informací, vysoký výkon, nasazení celého týmu, výsledky práce,pozitivní atmosféra, mot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Literatura předmě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OC.ING.VEBER.CSC., Jaromír a kol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Základy managementu - pro střední škol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druhé vydání. Praha: Fortuna, 2003, 136. ISBN 80-7168-654-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NG.ZLÁMAL,PHDR., Jaroslav; ING.BC.BAČÍK,PHD, Petr; ING.BELLOVÁ,PHD, Jan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Management - Základy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Kralice na Hané, Hrubčická 495: Computr Media s.r.o., 2011, 104. ISBN 978-80-7402-083-4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ING.KLIKOVÁ, Dagmar; ING.ROZUMOVÁ, Petr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Slovník základních pojmů z marketingu a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 1,Jungmanova 7: Fortuna, 1997, 48. ISBN 80-7168-504-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c. KOZLER, Josef; MATĚJKA, Jan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Ekonomika, Management, Market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Havlíčkův Brod, Humpolecká 1503: Fragment, 1998, 139. ISBN 80-7200-253-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15236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561440" cy="23749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Calibri"/>
              </a:rPr>
              <a:t>Manaž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351640" cy="718920"/>
          </a:xfrm>
          <a:prstGeom prst="rect">
            <a:avLst/>
          </a:prstGeom>
          <a:solidFill>
            <a:srgbClr val="c3d69b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13.1 Postavení manažera v organiza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000" y="907560"/>
            <a:ext cx="8372520" cy="56898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1" lang="cs-CZ" sz="2400" spc="-1" strike="noStrike" u="sng">
                <a:solidFill>
                  <a:srgbClr val="e46c0a"/>
                </a:solidFill>
                <a:uFillTx/>
                <a:latin typeface="Calibri"/>
              </a:rPr>
              <a:t>Postavení manažera v procesu řízení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vlastník – manažer – zaměstnan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nažer je specifický zaměstnanec jak pravomocemi, tak 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dpovědností a pla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1" lang="cs-CZ" sz="2400" spc="-1" strike="noStrike" u="sng">
                <a:solidFill>
                  <a:srgbClr val="e46c0a"/>
                </a:solidFill>
                <a:uFillTx/>
                <a:latin typeface="Calibri"/>
              </a:rPr>
              <a:t>Úrovně manažerů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Manažeři první li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předáci, mistři, vedoucí dílen apo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Střední manažeř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manažeři závodů, vedoucí různých útvarů (prodej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nákup, personální oddělení, ..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- Vrcholoví manažeři – 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reprezentují firmu, koordinují všechny činnosti, vytvářej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strategie a koncepce, zodpovídají za výsledky podni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římá spojovací čára 6"/>
          <p:cNvSpPr/>
          <p:nvPr/>
        </p:nvSpPr>
        <p:spPr>
          <a:xfrm>
            <a:off x="468360" y="1341360"/>
            <a:ext cx="8351640" cy="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římá spojovací čára 8"/>
          <p:cNvSpPr/>
          <p:nvPr/>
        </p:nvSpPr>
        <p:spPr>
          <a:xfrm>
            <a:off x="468360" y="2708280"/>
            <a:ext cx="8351640" cy="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353440" cy="9936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0" lang="cs-CZ" sz="2800" spc="-1" strike="noStrike" u="sng">
                <a:solidFill>
                  <a:srgbClr val="e46c0a"/>
                </a:solidFill>
                <a:uFillTx/>
                <a:latin typeface="Calibri"/>
              </a:rPr>
              <a:t>V podnikání musí každý manažer využívat</a:t>
            </a:r>
            <a:r>
              <a:rPr b="0" lang="cs-CZ" sz="2800" spc="-1" strike="noStrike">
                <a:solidFill>
                  <a:srgbClr val="e46c0a"/>
                </a:solidFill>
                <a:latin typeface="Calibri"/>
              </a:rPr>
              <a:t>,    </a:t>
            </a:r>
            <a:r>
              <a:rPr b="0" lang="cs-CZ" sz="2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0" lang="cs-CZ" sz="2800" spc="-1" strike="noStrike" u="sng">
                <a:solidFill>
                  <a:srgbClr val="e46c0a"/>
                </a:solidFill>
                <a:uFillTx/>
                <a:latin typeface="Calibri"/>
              </a:rPr>
              <a:t>ovlivňovat, respek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267920"/>
            <a:ext cx="8353440" cy="525636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Vnitřní faktory podnikání které zahrnují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finanční zabezpečení, zaměstnance, know-how (znalosti, postupy,   zvládnutí technologie.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technické zabezpečení (prostory, stroje, zařízen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Vnější faktory podnikání zahrnují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zákazníky, konkurence, dodavatele, vývoj vědeckotechnického poznání, situace v regionu (situace na trhu práce, infrastruktura, vztah k obci..), podstatné ekonomické faktory (daňová soustava, účetní předpisy, cenová pravidla, devizové kurzy, celní předpisy, úvěrové podmínky.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statní legislativu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sociální předpisy, ekologické předpisy, bezpečnostní, požární, zdravotní předpis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c3d69b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1f497d"/>
                </a:solidFill>
                <a:latin typeface="Calibri"/>
              </a:rPr>
              <a:t>13.2 Profil manaž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052640"/>
            <a:ext cx="8207280" cy="54007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e46c0a"/>
                </a:solidFill>
                <a:uFillTx/>
                <a:latin typeface="Calibri"/>
              </a:rPr>
              <a:t>  </a:t>
            </a:r>
            <a:r>
              <a:rPr b="1" lang="cs-CZ" sz="2400" spc="-1" strike="noStrike" u="sng">
                <a:solidFill>
                  <a:srgbClr val="e46c0a"/>
                </a:solidFill>
                <a:uFillTx/>
                <a:latin typeface="Calibri"/>
              </a:rPr>
              <a:t>Autorita manažera</a:t>
            </a:r>
            <a:r>
              <a:rPr b="0" lang="cs-CZ" sz="2600" spc="-1" strike="noStrike">
                <a:solidFill>
                  <a:srgbClr val="e46c0a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-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formální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dána zastávanou funkcí, názvem funkce, postavením v organizační struktuř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řirozená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 – kterou určuj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odborná kvalifik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racovní morál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ůsled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orální vlast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artnerský vztah k pořízený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ůdčí oso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římá spojovací čára 4"/>
          <p:cNvSpPr/>
          <p:nvPr/>
        </p:nvSpPr>
        <p:spPr>
          <a:xfrm>
            <a:off x="468360" y="1916280"/>
            <a:ext cx="8207280" cy="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bdélník 1"/>
          <p:cNvSpPr/>
          <p:nvPr/>
        </p:nvSpPr>
        <p:spPr>
          <a:xfrm>
            <a:off x="611280" y="404640"/>
            <a:ext cx="7848360" cy="600696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  <a:ea typeface="Arial"/>
              </a:rPr>
              <a:t>    </a:t>
            </a:r>
            <a:r>
              <a:rPr b="1" lang="cs-CZ" sz="2400" spc="-1" strike="noStrike" u="sng">
                <a:solidFill>
                  <a:srgbClr val="e46c0a"/>
                </a:solidFill>
                <a:uFillTx/>
                <a:latin typeface="Calibri"/>
                <a:ea typeface="Arial"/>
              </a:rPr>
              <a:t>Manažerské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interpersonáln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– každý manažer na určitém postu má povinnosti typu protokol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manažeři odpovídají za práci svých lidí.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usí motivovat a povzbuzovat své zaměstnance a musí umět sladit jejich individuální potřeby se zájmy a cíly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informační rol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– manažer neustále získává informace, třídí je, část předává podřízeným a informuje nadřízen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rozhodovací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– manažer vyhledává nové nápady, dává impulsy k novým podnětům, reaguje na odchylky a poruchy v systému, vydává a schvaluje důležitá rozhodnutí především ve výdajové oblasti a působí také jako vyjednavat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římá spojovací čára 5"/>
          <p:cNvSpPr/>
          <p:nvPr/>
        </p:nvSpPr>
        <p:spPr>
          <a:xfrm>
            <a:off x="611280" y="907920"/>
            <a:ext cx="7848360" cy="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792360"/>
          </a:xfrm>
          <a:prstGeom prst="rect">
            <a:avLst/>
          </a:prstGeom>
          <a:solidFill>
            <a:srgbClr val="c3d69b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1f497d"/>
                </a:solidFill>
                <a:latin typeface="Calibri"/>
              </a:rPr>
              <a:t>13.3 Obecné zásady práce manaž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000" y="1052640"/>
            <a:ext cx="8280360" cy="495936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e46c0a"/>
                </a:solidFill>
                <a:uFillTx/>
                <a:latin typeface="Calibri"/>
              </a:rPr>
              <a:t>Mít jasné cíle</a:t>
            </a:r>
            <a:r>
              <a:rPr b="1" i="1" lang="cs-CZ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53735"/>
                </a:solidFill>
                <a:latin typeface="Calibri"/>
              </a:rPr>
              <a:t>„ </a:t>
            </a:r>
            <a:r>
              <a:rPr b="1" i="1" lang="cs-CZ" sz="2400" spc="-1" strike="noStrike">
                <a:solidFill>
                  <a:srgbClr val="953735"/>
                </a:solidFill>
                <a:latin typeface="Calibri"/>
              </a:rPr>
              <a:t>Nepostavíš-li si vzdušný zámek , nemůžeš postavit ani zám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53735"/>
                </a:solidFill>
                <a:latin typeface="Calibri"/>
              </a:rPr>
              <a:t>   </a:t>
            </a:r>
            <a:r>
              <a:rPr b="1" i="1" lang="cs-CZ" sz="2400" spc="-1" strike="noStrike">
                <a:solidFill>
                  <a:srgbClr val="953735"/>
                </a:solidFill>
                <a:latin typeface="Calibri"/>
              </a:rPr>
              <a:t>na zemi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posuzova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 -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účeln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vykonané práce –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co děláme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účinn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vykonané práce –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„jak děláme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ak děláme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o dělá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obř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špatn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68360" y="4221000"/>
          <a:ext cx="6096240" cy="936720"/>
        </p:xfrm>
        <a:graphic>
          <a:graphicData uri="http://schemas.openxmlformats.org/drawingml/2006/table">
            <a:tbl>
              <a:tblPr/>
              <a:tblGrid>
                <a:gridCol w="3024360"/>
                <a:gridCol w="3071880"/>
              </a:tblGrid>
              <a:tr h="46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ávné věci dobř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patné věci dobř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46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ávné věci špatn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patné věci špatn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4" name="Přímá spojovací čára 7"/>
          <p:cNvSpPr/>
          <p:nvPr/>
        </p:nvSpPr>
        <p:spPr>
          <a:xfrm>
            <a:off x="468360" y="1628640"/>
            <a:ext cx="8280360" cy="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bdélník 1"/>
          <p:cNvSpPr/>
          <p:nvPr/>
        </p:nvSpPr>
        <p:spPr>
          <a:xfrm>
            <a:off x="611280" y="333360"/>
            <a:ext cx="8064360" cy="52056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e46c0a"/>
                </a:solidFill>
                <a:uFillTx/>
                <a:latin typeface="Calibri"/>
              </a:rPr>
              <a:t>Orientovat se na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bdélník 2"/>
          <p:cNvSpPr/>
          <p:nvPr/>
        </p:nvSpPr>
        <p:spPr>
          <a:xfrm>
            <a:off x="611280" y="836640"/>
            <a:ext cx="8064360" cy="46656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e46c0a"/>
                </a:solidFill>
                <a:latin typeface="Arial"/>
              </a:rPr>
              <a:t>„ </a:t>
            </a:r>
            <a:r>
              <a:rPr b="1" i="1" lang="cs-CZ" sz="2400" spc="-1" strike="noStrike">
                <a:solidFill>
                  <a:srgbClr val="953735"/>
                </a:solidFill>
                <a:latin typeface="Calibri"/>
              </a:rPr>
              <a:t>Všechno trvá déle než jsme předpokládali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espektovat čas: 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ždý problém má svůj č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pacity jsou většinou omez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ždy je třeba určit co je podstatné, důlež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bvyklé chyb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terých se manažer ve své práci může dopust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odléhání vnějším tlakům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telefony, pošta, nadřízený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iřazování priorit podle hesla „Kdo dřív přijde, ten dřív mel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iřazování priorit podle termínu pl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citové proje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nároky na čas, snazší úkoly jsou řešeny přednostně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velka</cp:lastModifiedBy>
  <dcterms:modified xsi:type="dcterms:W3CDTF">2014-01-03T15:19:30Z</dcterms:modified>
  <cp:revision>31</cp:revision>
  <dc:subject/>
  <dc:title>Snímek 1</dc:title>
</cp:coreProperties>
</file>