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3DE6-B047-4319-8C41-F7F88D43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1B3-9B8A-4B61-A418-456E244F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C00-C678-4794-818A-122EDD4E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1DF-A5D3-4251-B661-DEDD317C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16F-14F9-4B16-88ED-24B884B2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E8D-8F9E-4AFA-B75D-88FBEE76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C9C-BCB9-4242-9259-F917FFB4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F2A-2D65-4B45-9545-CA0B2773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31F-2A9A-44BB-BE64-C4C18D98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B728-F69C-407F-ACAE-804C77A8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AF9-BA00-4F1B-A0C7-5AB46D49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71A-9EB8-473F-BDDA-C92C6F60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357D-BDBE-4A5E-B0B2-AE85656E708B}" type="slidenum">
              <a:rPr b="1" lang="cs-CZ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stata marketi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Y_32_INOVACE_101_Market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292720" y="55897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utor:  Ing Vladimír Havelk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7779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arketingový trojúhelní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šechny podnikové aktivity na trhu jsou současnými i potenciálními zákazníky vnímány v porovnání ke konkuren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zniká vztah – tzv.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rketingový trojúhel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kazník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ni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konku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rketingově orientovaný podnik posuzuje své chování na trhu, své cíle i prostředky řízení jak podle potřeb dnešní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potenciálních zákazníků, tak i vzhledem k současnému a očekávanému  chování konkurence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vnoramenný trojúhelník 3"/>
          <p:cNvSpPr/>
          <p:nvPr/>
        </p:nvSpPr>
        <p:spPr>
          <a:xfrm>
            <a:off x="2771640" y="2708280"/>
            <a:ext cx="3313080" cy="16574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8" name="Přímá spojovací šipka 5"/>
          <p:cNvCxnSpPr/>
          <p:nvPr/>
        </p:nvCxnSpPr>
        <p:spPr>
          <a:xfrm>
            <a:off x="4858920" y="2781000"/>
            <a:ext cx="1297800" cy="1440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9" name="Přímá spojovací šipka 7"/>
          <p:cNvCxnSpPr/>
          <p:nvPr/>
        </p:nvCxnSpPr>
        <p:spPr>
          <a:xfrm flipH="1">
            <a:off x="2626560" y="2924280"/>
            <a:ext cx="1297800" cy="1297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0" name="Přímá spojovací šipka 11"/>
          <p:cNvCxnSpPr/>
          <p:nvPr/>
        </p:nvCxnSpPr>
        <p:spPr>
          <a:xfrm>
            <a:off x="3347640" y="4652640"/>
            <a:ext cx="1872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5481720" cy="5745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ypy podnikatelských koncepcí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1197000"/>
            <a:ext cx="8229600" cy="49672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robní koncep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„Vyrob co nejlevněji a prodáš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platňovala se v letech 1900 až 19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ákazní preferuje levný a snadno dosažitelný výrob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ačíná se uplatňovat v období rozvoje výroby, snižován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kladů a převis poptávky nad nabídkou = masová výro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masová spotře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levný výrobek j výsledkem racionalizace a zvyšování   produktivity prá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ýznační představitelé Henry Ford a Tomáš Bať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 současné době u firem jihovýchodní As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bdélník 1"/>
          <p:cNvSpPr/>
          <p:nvPr/>
        </p:nvSpPr>
        <p:spPr>
          <a:xfrm>
            <a:off x="395280" y="189000"/>
            <a:ext cx="8424720" cy="66495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robková koncepce – </a:t>
            </a: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„Vyrob co nejkvalitněji a prodáš“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mach v letech 1920 až 1940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ákazník preferuje výrobky nejvyšší kval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 období růstu nezaměstnanosti a snižování kupní síly, př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spodářskou krizí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irmy se orientují na movitější zákazníky,kteří uplatňují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valit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nižování výroby, důraz na technický rozvoj, inovaci a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valit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 současnosti u výrobců luxusních automobilů,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načkových oděvů…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rketingová krátkozrakost : 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vzniká tehdy, jestliže firma přestane vnímat potřeby a přání  zákazníka, nepřiměřené soustředění na výrobek. Neustálé zvyšování kvality vede k růstu nákladů na výrobek a to se promítne do konečné cen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robku. Ten se může stát neprodejný na trhu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dejní koncepce – </a:t>
            </a: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Čím více reklamy, tím víc prodáš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622440" indent="-62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ento přístup k trhu se začal nejvíce uplatňovat v letech   1940 až 19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ákazníka je potřeba upozornit na výrob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ato koncepce vychází z potřeby masové distribuce a prode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ílem je prodat zboží, které bylo vyrobeno, a nikoliv vyrobit to, co by se prodalo – zákazník se proto musí přesvědčit o správnosti koupě, a to prostřednictvím rekla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 současnosti je tato koncepce typická například pro firmy vyrábějící prací a čisticí prostřed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eklama :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je masová neosobní forma placené komunikace mezi výrobcem/prodejcem a zákazníkem, jejímž cílem je ovlivnit jeho nákupní ch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8636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4. Marketingová koncepce – </a:t>
            </a: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Nejdřív poznej potřeby svého zákazníka a prodáš</a:t>
            </a:r>
            <a:r>
              <a:rPr b="0" i="1" lang="cs-CZ" sz="2400" spc="-1" strike="noStrike">
                <a:solidFill>
                  <a:srgbClr val="ff0000"/>
                </a:solidFill>
                <a:latin typeface="Calibri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1052280"/>
            <a:ext cx="8229600" cy="5329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tředem zájmu firmy se stává zákazní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firemní řízení vychází z toho, že marketing je něco víc ne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d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ákazník se přesunul z posledního místa na první a firmy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způsobily výrobu jeho požadavkům (zákaznický servi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ákaznické karty a věrnostní progr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ákladem úspěchu firmy a její konkurenceschopnosti na trh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spokojený zákazník – marketingový přístup na tzv. cílov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h, tzn. skupinu zákazníků vybranou podle před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anovených kritéri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ředpokládá zpětnou vazbu mezi firmou a spotřebite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ěrný zákazník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nevyhledává konkurenci, je věrný firmě nebo značc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 firmě nebo značce se vyjadřuje pozitiv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5. Společenská koncepce (eko-sociální) </a:t>
            </a: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– </a:t>
            </a:r>
            <a:r>
              <a:rPr b="1" i="1" lang="cs-CZ" sz="2400" spc="-1" strike="noStrike">
                <a:solidFill>
                  <a:srgbClr val="ff0000"/>
                </a:solidFill>
                <a:latin typeface="Calibri"/>
              </a:rPr>
              <a:t>„Poznej potřeby svého zákazníka, zohledni i potřeby společnosti a prodáš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chází z předcházející koncepce a snaží se dát do soul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třeby a přání  zákazníků s dlouhodobými potřeb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ole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ředpokládá , že firmy budou ve svých marketingový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ktivitách zohledňovat rovnováhu tří důležitých faktorů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isk firmy, uspokojení potřeb zákazníka, veřejný záj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podmíněna vysokou plošnou vzdělaností spole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Shrnutí koncep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125360"/>
            <a:ext cx="8229600" cy="53992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Koncepc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ztah firmy k zákazník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rob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nostranný obchodní vzta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robkov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azník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firma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rma zohledňuj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ře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dej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kazní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rketingov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azník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firma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oustranný vztah, zákazník se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již stává středem pozor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dej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lečnost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ciál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ícestranný vztah, ve kterém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jso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 pohledu prodávajícího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zohledňovány jak potřeb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ákazník             firma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kazníka, tak i potřeby a trend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společn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Přímá spojovací šipka 4"/>
          <p:cNvCxnSpPr/>
          <p:nvPr/>
        </p:nvCxnSpPr>
        <p:spPr>
          <a:xfrm>
            <a:off x="3635280" y="227628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Přímá spojovací šipka 9"/>
          <p:cNvCxnSpPr/>
          <p:nvPr/>
        </p:nvCxnSpPr>
        <p:spPr>
          <a:xfrm>
            <a:off x="3635280" y="3499920"/>
            <a:ext cx="721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4" name="Přímá spojovací šipka 23"/>
          <p:cNvCxnSpPr/>
          <p:nvPr/>
        </p:nvCxnSpPr>
        <p:spPr>
          <a:xfrm>
            <a:off x="1835280" y="1844640"/>
            <a:ext cx="50544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5" name="Přímá spojovací šipka 25"/>
          <p:cNvCxnSpPr/>
          <p:nvPr/>
        </p:nvCxnSpPr>
        <p:spPr>
          <a:xfrm>
            <a:off x="1908000" y="2349000"/>
            <a:ext cx="43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6" name="Přímá spojovací šipka 27"/>
          <p:cNvCxnSpPr/>
          <p:nvPr/>
        </p:nvCxnSpPr>
        <p:spPr>
          <a:xfrm flipV="1">
            <a:off x="1908000" y="2420280"/>
            <a:ext cx="43272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7" name="Rovnoramenný trojúhelník 28"/>
          <p:cNvSpPr/>
          <p:nvPr/>
        </p:nvSpPr>
        <p:spPr>
          <a:xfrm>
            <a:off x="3635280" y="458136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1.4 Postavení marketingu v tržní ekonom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zdělení marketingu podle oblasti na kterou se zaměřu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) marketing výrob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) marketing služeb  - bankovnic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estovního ruc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uzeí a galeri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) komunální marketing – krajů, měst a ob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marketing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maximální spotře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aximální uspokojení potřeb spotřebi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aximální výb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aximální životní stand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066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3. Kritika marketing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rketing zvyšuje nákla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livem propagace zvyšuje náklady a tím konečnou cenu    výrobku nebo služ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rketing negativně působí na společno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tváří konzumní společnost s výrazným dopady na  mezilidské vzta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) Marketing negativně působí na ekologi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apomáhá ničení životního prostřed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DOC.RNDR.STRNAD,CSC, Pavel; ING.VYDROVÁ, Jaruše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rketing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: Fortuna, 2003, 164. ISBN 80-7168-668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UDRÝ ING., Marek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rketing - Základy marketing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 vydání. Kralice na Hané, Hrubčická 495: Computer Media s.r.o., 2008,158. ISBN 978-80-7402-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611280" y="331920"/>
          <a:ext cx="7565760" cy="568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31920"/>
                    <a:ext cx="756576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8207280" cy="36720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PODSTATA MARKETINGU</a:t>
            </a:r>
            <a:br>
              <a:rPr sz="5400"/>
            </a:br>
            <a:r>
              <a:rPr b="0" lang="cs-CZ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*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26560" y="765000"/>
            <a:ext cx="7269480" cy="1368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cc3300"/>
                </a:solidFill>
                <a:latin typeface="Arial Black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1.1 Definování marketi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rketing je nauka o trhu, podnikatelská koncep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rketing je proces plánování a realizace koncepcí, tvorby cen, propagace a distribuce, výrobků a služeb s cílem dosáhnout takové směny, která uspokojí požadavky jednotlivců a organizac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rketing je proces řízení, jehož výsledkem je poznání, předvídání, ovlivňování a v konečné fázi uspokojování potřeb a přání zákazníka efektivním a výhodným způsobem zajišťujícím splnění cílů organiza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rketing je komunikace se zákazníkem, která z nabídky a spotřeby produktu udělá mimořádný, nezapomenutelný  zážit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derní mark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lade na první místo věrného zákazníka, který nevyhledává konkurenci a je věrný značce a výrob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říve byl ve středu zájmu marketingu zisk fi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globalizované ekonomice je však důležité umět komunikovat se zákazníky, zajišťovat jejich potřeby a nabídnout ji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správný produk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zboží nebo službu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na správném místě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hypermarket x osobní prodej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ve správný čas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sezonní prodej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za správnou ce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ětšina lidí vnímá marketing jako prodej a zvláště pak jako reklamu, příčinou je neustálý kontakt veřejnosti  s různými formami reklamy v televizi, tisku, na ulici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1.2 Marketingový mix – 4P marketi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197000"/>
            <a:ext cx="8229600" cy="5472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souborem marketingových nástrojů, které firma používá k ovlivnění poptávky po svém produktu ( zboží nebo služby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dstavuje základní marketingové prvky, pomocí kterých se firma snaží dosáhnout vytyčených  cílů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louží k účelovému ovlivňování poptáv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dle začátečních písmen anglických ekvivalentů jsou tyto prvky označovány také jako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4 P Marketing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hrnuje: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Produkt (Produ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Cena (Pri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Distribuce (Distribu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Propagace (Promo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ůvodní 4P se někdy rozšiřují o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Obal (Pack) , Lidi (Peo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Zaměstnanci (Personnel), Proces (Process), Materiální vybavení (Physical evide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240000" cy="64764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ky marketing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3640" y="907920"/>
            <a:ext cx="8569080" cy="5950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. Výrobek - Produk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hmotná nebo nehmotná věc nebo služ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cokoliv, co firma nabízí zákazníkovi k uspokojení  jeho potře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. Cena - P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jadřuje hodnotu výrob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rátkodobý cíl při stanovování ceny – vysoká c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louhodobý cíl – nízká c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istribuce - 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esta výrobku od výrobce ke spotřebit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římá distribuce :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výrobce – spotřebit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epřímá distribuce :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výrobce – mezičlánek – spotřebit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4. Propagace – Promo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dná se o formu komunikace mezi výrobce/prodejcem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otřebite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 tvořena například reklamou, podporou prodeje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882800" cy="85068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odel 4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63600" indent="-36360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Moderní marketing však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model 4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P opouští, protože je zaměřen na samotnou fir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to vznikl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model 4C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na který je nahlíženo z pozice vnímané zákazníkem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1f497d"/>
                </a:solidFill>
                <a:latin typeface="Calibri"/>
                <a:ea typeface="Times New Roman"/>
              </a:rPr>
              <a:t>produkt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hrazen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zákaznickou hodnot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1f497d"/>
                </a:solidFill>
                <a:latin typeface="Calibri"/>
                <a:ea typeface="Times New Roman"/>
              </a:rPr>
              <a:t>cen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hrazen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zákazníkovými výda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1f497d"/>
                </a:solidFill>
                <a:latin typeface="Calibri"/>
                <a:ea typeface="Times New Roman"/>
              </a:rPr>
              <a:t>distribuce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hrazen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zákazníkovým pohodl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3600" indent="-36360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1f497d"/>
                </a:solidFill>
                <a:latin typeface="Calibri"/>
                <a:ea typeface="Times New Roman"/>
              </a:rPr>
              <a:t>propagace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hrazen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komunikací se zákazníkem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	</a:t>
            </a:r>
            <a:r>
              <a:rPr b="1" lang="cs-CZ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Elipsa 3"/>
          <p:cNvSpPr/>
          <p:nvPr/>
        </p:nvSpPr>
        <p:spPr>
          <a:xfrm>
            <a:off x="1012680" y="2852640"/>
            <a:ext cx="770040" cy="72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4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Elipsa 9"/>
          <p:cNvSpPr/>
          <p:nvPr/>
        </p:nvSpPr>
        <p:spPr>
          <a:xfrm>
            <a:off x="6012000" y="2852640"/>
            <a:ext cx="769680" cy="72072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4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2" name="Přímá spojovací šipka 11"/>
          <p:cNvCxnSpPr>
            <a:stCxn id="60" idx="6"/>
            <a:endCxn id="61" idx="2"/>
          </p:cNvCxnSpPr>
          <p:nvPr/>
        </p:nvCxnSpPr>
        <p:spPr>
          <a:xfrm>
            <a:off x="1782720" y="3212640"/>
            <a:ext cx="4229640" cy="1080"/>
          </a:xfrm>
          <a:prstGeom prst="straightConnector1">
            <a:avLst/>
          </a:prstGeom>
          <a:ln w="6984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1.3 Podnikatelské koncepc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 marketin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tup marketingu začíná prvními problémy v umístění přebytků výroby na konci 19. století a rozvíjí se v průběhu 20. stolet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 zemi vzniku marketingu jsou považovány U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voj marketingu byl a je určován tím, jak velký význam byl v jednotlivých etapách kladen n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nik a jeho zisk, zákazníka a jeho uspokojení potřeb a na společnost a její zájm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vývojem tržních vztahů se vyvíjely různé koncepce podnikového 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ádrem marketingové koncepce je tedy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rh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a to především jeho cíloví účastníci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– kupující, zákazníci, spotřebitelé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ůvodním jevem tržní ekonomiky je ovšem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nkur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51:48Z</dcterms:created>
  <dc:creator>MiZ</dc:creator>
  <dc:description/>
  <dc:language>en-US</dc:language>
  <cp:lastModifiedBy>Havelka</cp:lastModifiedBy>
  <dcterms:modified xsi:type="dcterms:W3CDTF">2014-02-21T09:50:15Z</dcterms:modified>
  <cp:revision>765</cp:revision>
  <dc:subject/>
  <dc:title>PM 101 – Management I.</dc:title>
</cp:coreProperties>
</file>