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BBB-4931-4CD3-8B7F-A32DE39F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B10-CF34-4402-A667-A02F40CF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FC8-7A5F-41E7-8FFB-9F4E75AB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CECD-29D6-46D5-8A1E-4668407B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482-DADE-441A-9A85-4CDF9413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7DF-4716-4F12-935C-9CABA11A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54D-95AA-4338-963E-60957AB4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4AC-FC65-459A-98B5-03F84529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22E-122F-4B65-8731-94975A0F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A18-CCAA-4032-91F9-02780EB6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D11-C198-4E55-B1B7-0CE3C08C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851-82FB-4522-93BE-604D5957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6F20-005C-4823-BAF6-F0D341E4A8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kl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3" descr=""/>
          <p:cNvPicPr/>
          <p:nvPr/>
        </p:nvPicPr>
        <p:blipFill>
          <a:blip r:embed="rId1"/>
          <a:stretch/>
        </p:blipFill>
        <p:spPr>
          <a:xfrm>
            <a:off x="1530360" y="476280"/>
            <a:ext cx="6083280" cy="148428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4"/>
          <p:cNvSpPr/>
          <p:nvPr/>
        </p:nvSpPr>
        <p:spPr>
          <a:xfrm>
            <a:off x="2195640" y="2637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Y_32_INOVACE_111_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5"/>
          <p:cNvSpPr/>
          <p:nvPr/>
        </p:nvSpPr>
        <p:spPr>
          <a:xfrm>
            <a:off x="5003640" y="558972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utor: Ing. Vladimír H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Periodický tisk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jstarší a velmi efektivní prostředky přenosu reklamního s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základní mediální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truktura čtenářů (věk, pohlaví, vzdělání, příjmy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áklad (počet výtisků, denní náklad, vydání s přílohou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ředplatitel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slovitel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Novi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pravodajské informace o politice, ekonomii, sportu, kultuře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dělení novin podle územ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lostát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egionál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íst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4906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dělení novin podle četnosti vydá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e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bde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eděl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ýde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dělení novin podle zaměře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šeobec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odbor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dělení novin podle obsah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erióz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bulvár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075520" cy="504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asopi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620280"/>
            <a:ext cx="8075520" cy="6048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elší periodicita, zaměření na užší cílovou skupinu čtenářů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šší cena, kvalitnější papír a lepší graf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hodné k popisování aktuálních zprá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dělení časopisů podle četnosti vydá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týdeník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dvouměsíčník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čtrnáctideník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čtvrtletní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měsíční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dělení časopisů podle zaměře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šeobec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odbor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dělení časopisů podle obsah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serióz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bulvár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5619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Faktory ovlivňující úspěch tiskové reklamy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836280"/>
            <a:ext cx="8424720" cy="5289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Titul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usí upoutat pozornost a navodit potřebu pokračovat ve čt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ěl by být konkrétní a struč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90% úspěchu tiskové reklamy tkví v titul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usí být co nejkratší, stručný, výstižný a přitažliv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měl by být tvořen tiskem černých písmen na bílém podklad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Ilustr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roložení ilustrací nebo fotografií na správném místě tak, a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nejvíce upoutala pozornost čtená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576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h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560" y="1052640"/>
            <a:ext cx="8435880" cy="5472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elekomunikační zařízení pro jednosměrný přenos zvuku na dál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lama v rozhlase má svá specifika, je důležitá volba sta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terá má reklama vysílat, a také návaznost reklamy na předešl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následný po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ůležité je, aby reklama v souvislosti s jinými pořady nezapad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élka reklamy by se měla pohybovat kolem třiceti sek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hodou rozhlasové reklamy je levnost, pružnost a maso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výhodou je její působnost pouze na jeden smysl – sluch, což nemá pro některé výrobky smysl je v rozhlase propagov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135640" cy="4176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hlasové stanice podle vlastnictv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3640" y="691920"/>
            <a:ext cx="813564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tátní – veřejnopráv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oukromé – privát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rozhlasové stanice pod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eloploš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egionál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Historie rozhlas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ravidelné vysílání u nás začalo 18.5. 1923 Prahy –Kb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roku 1925  vstoupil do společnosti „Radiojournál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 roce 1939 po obsazení naší země  nacisty, přišla tvrdá cenz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po roce 1948 nastoupila cenzura komunistické strany až do roku 198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demokracie se d rozhlasu vrátila v roce 196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Rozvoj rozhlasového vysílání nastal až od 90.let s rozvojem soukromých rádi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římá spojovací čára 4"/>
          <p:cNvSpPr/>
          <p:nvPr/>
        </p:nvSpPr>
        <p:spPr>
          <a:xfrm>
            <a:off x="324000" y="1989000"/>
            <a:ext cx="813564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4320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elev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691920"/>
            <a:ext cx="836280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sově používaný dálkový telekomunikační systém vysíl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přijímání televizního signálu – obraz a zv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elevizní vysílání se uskutečňuje analogově, nebo digitál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lamní sdělení je u tohoto média účin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elevizní reklama je schopnost oslovit milióny diváků v prav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kamžik, tím se stává nedílnou součástí firemního působ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 t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hoda televize jako nositele reklamního sdělení jsou masovost, působnost na zrak i sluch a účin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výhodou je vysoká cena za vysílací čas a vysoké náklady na tvorbu rekl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elevizní stanice: - státní – veřejnoprávní (ČT1, ČT2, ČT24,ČT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oukromé – privátní (Nova, Prima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4360" cy="5745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rie televizního vysílá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4920" y="907560"/>
            <a:ext cx="8064360" cy="51469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rvní  pokusné vysílání televize v Československu se konalo 23.3. 1948 v Tanvald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kušební vysílání ze Studia Praha bylo zahájeno 1.5. 1953 a 25.2.1954 bylo prohlášeno za pravidel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ní televizní vysílač byla pražská rozhledna na Petří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 roce 1970 začal vysílat i 2.program a od roku 1973 vysílání barev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 roce 1989 začaly veřejnoprávní televizi konkurovat i dvě celoplošné komerční stanice Nova a Pr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Literatura předmě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HDR.VYSEKALOVÁ, Jitka; DOC.RNDR.STRNAD,CSC, Pavel; ING.VYDROVÁ, Jaruše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Základy marketingu - pro střední škol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: Fortuna, 2003, 164. ISBN 80-7168-668-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UDRÝ ING., Marek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Marketing - Základy marketing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 vydání. Kralice na Hané, Hrubčická 495: Computer Media s.r.o., 2008,158. ISBN 978-80-7402-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HDR.VYSEKALOVÁ, Jitka; ING.KLIKOVÁ, Dagmar; ING.ROZUMOVÁ, Petra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Slovník základních pojmů z marketingu a managementu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 Praha 1,Jungmanova 7: Fortuna, 1997, 48. ISBN 80-7168-504-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c. KOZLER, Josef; MATĚJKA, Jan. </a:t>
            </a:r>
            <a:r>
              <a:rPr b="0" i="1" lang="cs-CZ" sz="1400" spc="-1" strike="noStrike">
                <a:solidFill>
                  <a:srgbClr val="000000"/>
                </a:solidFill>
                <a:latin typeface="Calibri"/>
              </a:rPr>
              <a:t>Ekonomika, Management, Market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. první.Havlíčkův Brod, Humpolecká 1503: Fragment, 1998, 139. ISBN 80-7200-253-8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258920" y="30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kt 2"/>
          <p:cNvGraphicFramePr/>
          <p:nvPr/>
        </p:nvGraphicFramePr>
        <p:xfrm>
          <a:off x="900000" y="536400"/>
          <a:ext cx="7559640" cy="5916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36400"/>
                    <a:ext cx="7559640" cy="591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65600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4256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0000"/>
                </a:solidFill>
                <a:latin typeface="Calibri"/>
              </a:rPr>
              <a:t>Rekla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1.1 Charakteristika rekla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1125000"/>
            <a:ext cx="8642160" cy="5256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placená neosobní forma komunikace s cílem informov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třebitele a ovlivnit jeho  nákupní ch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pouze jednosměrnou komunik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jakákoliv placená forma neosobní prezentace a komun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yšlenek, zboží nebo služeb identifikovaného sponz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lamní sdělení může v zásadě obsahovat cokoliv, co neodporuje etickým a mravním normám a zákonům spol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á reklama by měla vytvářet silnou značku, zvyšovat poptáv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 výrobku, vytvářet dobré mínění  firmě v podnikatelské sféře, dobré mínění o firmě v očích veřejnosti a u zaměstnanců a zvyšovat distribuční možnosti výrob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576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Druhy rekl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3640" y="836280"/>
            <a:ext cx="8569080" cy="583236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le způsobu zaměřen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 u="sng">
                <a:solidFill>
                  <a:srgbClr val="c0504d"/>
                </a:solidFill>
                <a:uFillTx/>
                <a:latin typeface="Calibri"/>
              </a:rPr>
              <a:t>Všeobecná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ílem je zvýšení agregátní poptávky po výrobcích bez rozdí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např. reklama na podporu třídění odpadu, podporující žvýkač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 u="sng">
                <a:solidFill>
                  <a:srgbClr val="c0504d"/>
                </a:solidFill>
                <a:uFillTx/>
                <a:latin typeface="Calibri"/>
              </a:rPr>
              <a:t>Značková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ílem je propagovat výrobek nebo službu určité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eklama na konkrétní výrob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 u="sng">
                <a:solidFill>
                  <a:srgbClr val="c0504d"/>
                </a:solidFill>
                <a:uFillTx/>
                <a:latin typeface="Calibri"/>
              </a:rPr>
              <a:t>Instituční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cílem je tvorba pozitivního mínění o firmě v očích veřej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eklama jaderné elektrárny na spotřebu elektrické energie se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týká vyšší spotřeby, ale zajištění vyšší bezpečnosti její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vozu a užitečnost pro společ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640720" cy="5032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e46c0a"/>
                </a:solidFill>
                <a:latin typeface="Calibri"/>
              </a:rPr>
              <a:t>Teorie rekl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052280"/>
            <a:ext cx="8640720" cy="50734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le toho jak působí na zákazníka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 u="sng">
                <a:solidFill>
                  <a:srgbClr val="c00000"/>
                </a:solidFill>
                <a:uFillTx/>
                <a:latin typeface="Calibri"/>
              </a:rPr>
              <a:t>Silná teorie reklam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chází z toho, že reklama zákazníka naprosto ovlivní, přesvědč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 o nutnosti nákupu daného zboží nebo služ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tato reklama vytváří konzumní společnost, založenou na tom, ž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jí základní sociální funkce určuje konzum – spotře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0" i="1" lang="cs-CZ" sz="2400" spc="-1" strike="noStrike" u="sng">
                <a:solidFill>
                  <a:srgbClr val="c00000"/>
                </a:solidFill>
                <a:uFillTx/>
                <a:latin typeface="Calibri"/>
              </a:rPr>
              <a:t>Slabá teorie reklam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vychází z přesvědčení , že zákazníka na prvním místě ovlivňu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yky, tradice a nákupní chování, teprve potom se rozhoduje 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ě reklamy, která však plní hlavně funkci informač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218440" cy="6490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Základní funkce rekl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341360"/>
            <a:ext cx="8229600" cy="48564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i="1" lang="cs-CZ" sz="2400" spc="-1" strike="noStrike">
                <a:solidFill>
                  <a:srgbClr val="c0504d"/>
                </a:solidFill>
                <a:latin typeface="Calibri"/>
              </a:rPr>
              <a:t>- </a:t>
            </a:r>
            <a:r>
              <a:rPr b="0" i="1" lang="cs-CZ" sz="2400" spc="-1" strike="noStrike" u="sng">
                <a:solidFill>
                  <a:srgbClr val="c0504d"/>
                </a:solidFill>
                <a:uFillTx/>
                <a:latin typeface="Calibri"/>
              </a:rPr>
              <a:t>Informativ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naží se informovat o existenci výrobku nebo slev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 u="sng">
                <a:solidFill>
                  <a:srgbClr val="c0504d"/>
                </a:solidFill>
                <a:uFillTx/>
                <a:latin typeface="Calibri"/>
              </a:rPr>
              <a:t>Přesvědčovac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naží se přimět spotřebitele ke koupi propagovaného zbo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bo služ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400" spc="-1" strike="noStrike" u="sng">
                <a:solidFill>
                  <a:srgbClr val="c0504d"/>
                </a:solidFill>
                <a:uFillTx/>
                <a:latin typeface="Calibri"/>
              </a:rPr>
              <a:t>Připomínac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spotřebitelům připomíná, že jejich oblíbený výrobek stá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xistuje, že se vyrábí a lze jej koup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50328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Reklamní s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úspěšné tehdy, když ve správný okamžik a na správné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káže upoutat pozo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reklamní sdělení by mělo být – účelové, důvěry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 informativ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yly reklamního sdělení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pohod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hud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fantazi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anim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roman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posudek nebo svědec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obrodružstv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osobnost jako symb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- dom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8eb4e3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1.2 Reklamní mé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solidFill>
            <a:srgbClr val="d9d9d9"/>
          </a:solid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173160" indent="-173160">
              <a:spcBef>
                <a:spcPts val="601"/>
              </a:spcBef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cs-CZ" sz="2400" spc="-1" strike="noStrike">
                <a:solidFill>
                  <a:srgbClr val="e46c0a"/>
                </a:solidFill>
                <a:latin typeface="Calibri"/>
              </a:rPr>
              <a:t>Kritéria pro volbu reklamního média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lektivita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jadřuje schopnost zasáhnout určitý segment zákazní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kryt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yjadřuje procento  potenciálně oslovených lidí celého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niknutí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jadřuje procento oslovených lidí z cíleného trh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užnost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jadřuje rychlost změny v rekla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klady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jadřuje se pomocí ukazatele nákladovosti na tisí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slovených zákazní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mag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vyjadřuje, jak je reklamní médium vnímáno v očích veřej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etnos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- vyjadřuje množství reklamních sdělení v určitém časové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se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fekt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jadřuje schopnost oslovit zákazníky – vizuálně, audi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udiovizuál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římá spojovací čára 4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velka</cp:lastModifiedBy>
  <dcterms:modified xsi:type="dcterms:W3CDTF">2014-01-01T20:17:37Z</dcterms:modified>
  <cp:revision>42</cp:revision>
  <dc:subject/>
  <dc:title>11</dc:title>
</cp:coreProperties>
</file>