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1A6-B755-4065-97C5-648D7A2A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871-49E5-4F67-AABF-39751794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91D-F040-46D6-9782-9B5AE140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72E3-0FA9-475D-A51E-C48C59E2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8D8-3E5F-4065-B093-31781BDF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0A3-E12B-429E-8221-DA9E03BF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BE4-2CCA-4BC7-B35D-2955B863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590-4D59-49A6-94C6-E98DECA3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619A-663D-4AFE-A5A6-D88291EE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5C7-18F7-4D72-A955-F15F3497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29A-80FA-4D41-A627-5DFF3BB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D02-FC32-4A61-B8FE-C885143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8DEF-2724-4EE2-8291-555D315F6B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ízení kolektiv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085840" y="26989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19_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219640" y="55897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 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C.ING.VEBER.CSC., Jaromír a kol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nagement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druhé vydání. Praha: Fortuna, 2003, 136. ISBN 80-7168-654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.ZLÁMAL,PHDR., Jaroslav; ING.BC.BAČÍK,PHD, Petr; ING.BELLOVÁ,PHD, Jan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nagement - Základy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Kralice na Hané, Hrubčická 495: Computr Media s.r.o., 2011, 104. ISBN 978-80-7402-083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15236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702560" cy="23749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Řízení kolektiv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647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9.1 Styl ří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836640"/>
            <a:ext cx="8435880" cy="59054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Řízení je komplexní funkcí činností každého manaž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vě strán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říze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. Řízení věcných procesů – procesní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abývá se řízením procesů, činností a operací technických, technologick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dministrativních, organizační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.Řízení lidí – personální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abývá se řízením podnikového sociálního subsystému, vedením pracovní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lektiv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ahrnuje: - motivaci k prá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edení pracovních kolektiv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á několik znaků: - autorita a osobnost manaž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tyl řídící práce, způsob vedení a koordinace lid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tvůrčí schopnost manaž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efektivní komunik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chopnost motivace lid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1600" y="367920"/>
            <a:ext cx="8763120" cy="468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9.2 Styly řídící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836280"/>
            <a:ext cx="8785440" cy="5289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charakterizován druhem a způsobem rozhodováním a jedná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dřízených, jak svá rozhodnutí předávají, koordinují a kontrolu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kazuje celkový přístup, systém, způsoby, metody, postu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nažera, směřující k dosažení podnikových c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Řídící pracovník se orientuje: - na výkon (zaměření na plnění úkol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 osoby (dobré mezilidské vztah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styly řízení: - autokratický - autoritativ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liberální - demokratick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emokratick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lhostej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mpromis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ýmový - kooperativ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9.3 Řízení kolekti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ákladní činnosti řízení kolektiv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1. Přikaz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) pravidla přikazová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ormulace příkazů musí být konkrétní, jasná, úplná, adresn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esplněné úkoly se nemají ukládat znovu, je třeba trvat na jejich splně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ení možné vydávat spoustu drobných příkazů den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 třeba zachovávat časový alogický sled příkaz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anažer musí vydávat příkazy klidně, ale naléhavě a důraz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) chyby (nedostatky) formulace příkazů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ejasně formulovaný přík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íkaz byl sice správně formulován, vykonavatel jej však nepochop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racovník neměl  podmínky pro splnění příkaz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racovník nemá zájem na splně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2808360" cy="720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2. Motiv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773000"/>
            <a:ext cx="8642160" cy="4857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) dvojí pozice manažer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usí sledovat výši mzdových náklad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ízké mzdy nevytváří dostatečnou motivaci pro podříze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b) motivační nástro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výš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ormální uznání - písemné ocenění, vyznamenání, veřejné pochvaly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aměstnanecké výhody-zvýhodněné rekreace, poplatky ke stravě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elikost a vybavení kancelář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ožnost užívání určitých zařízení pracoviš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idělení na určité  prestižní pracoviš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3920" y="561600"/>
            <a:ext cx="4691160" cy="4906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c) Nedostatečná motivace - zna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052280"/>
            <a:ext cx="8496000" cy="50022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zdní příchody do zaměstnání, dřívější odchody, čas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dosti o krátkodobé vol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i neúspěchu či zaviněném problému svalování viny na druh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dodržení určených termí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ochota při žádosti o mimořádné úsil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anedbávání či zapomínání poky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přizpůsobování se požadavk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gativní přístup k plnění mimořádných úko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ustálé stížnosti a upozorňování na problémy, které nema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zásadní chod organizace žádný výz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2952720" cy="633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3. Řízení konflik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907560"/>
            <a:ext cx="8642160" cy="56898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atří spíše do kategorie operativních stupňů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ešení jsou důležité postup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edcházení (preven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liminace,mírně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eřazení konfliktních osob na jiné pracoviš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řešení v mezích zákoníku práce v případě konfliktů většího rá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enechte si rozvrátit kolektiv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čas jednat při problémech kolegů v zaměst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 každého pohovoru s konfliktním jedincem vyhotovit jak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doucí pracovník zápis s podpisy,při dalším rozhodování js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ložitelné materiály v podobě zápi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stupovat v souladu s platnými vnitropodnikovými směrnic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zák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1-01T20:26:06Z</dcterms:modified>
  <cp:revision>26</cp:revision>
  <dc:subject/>
  <dc:title>8</dc:title>
</cp:coreProperties>
</file>