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E721-89B7-4A9C-84FE-F47E2B4D7E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EC06-939B-400F-8CE5-C4A99DE2A0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17C-4F53-4C2C-AC69-9550EAFD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643-B492-445F-B24B-68983EAB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010-73B1-4F1D-9CE7-AF32D1A1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611-FAAA-4170-83DA-E6DA470C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2FD-3631-43BA-ACB4-ADBD5D95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0C1-9257-42C9-B98F-03BDC7B4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055-C124-4FB4-B03B-C6031F93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3B0-DE0C-4F9B-BB21-C8685560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B64-1475-435E-99B8-746A1E1F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B64-0FB9-47BB-B8DD-6A0ECAC5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C8FC-980B-4564-8927-D1A7CBAD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F53-EECE-4A97-9F75-E73ED77B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3BBB-9894-4D73-816F-AC515A0B717C}" type="slidenum">
              <a:rPr b="1" lang="cs-CZ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arketing a tr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50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Y_32_INOVACE_102_Market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ovéPole 5"/>
          <p:cNvSpPr/>
          <p:nvPr/>
        </p:nvSpPr>
        <p:spPr>
          <a:xfrm>
            <a:off x="5148360" y="5589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utor: Ing. Vladimír Havelk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576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ptávka -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052280"/>
            <a:ext cx="8218440" cy="50734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 množství zboží, které jsou kupující ochotni koupit za určitou ce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optávané množství závisí na mnoha faktorech, nejvíce vša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 ceně , je funkcí c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= f(P)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P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cs-CZ" sz="2000" spc="-1" strike="noStrike">
                <a:solidFill>
                  <a:srgbClr val="376092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římá spojovací čára 6"/>
          <p:cNvSpPr/>
          <p:nvPr/>
        </p:nvSpPr>
        <p:spPr>
          <a:xfrm>
            <a:off x="3995640" y="486900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římá spojovací čára 8"/>
          <p:cNvSpPr/>
          <p:nvPr/>
        </p:nvSpPr>
        <p:spPr>
          <a:xfrm flipV="1">
            <a:off x="3995640" y="3213000"/>
            <a:ext cx="0" cy="165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římá spojovací čára 10"/>
          <p:cNvSpPr/>
          <p:nvPr/>
        </p:nvSpPr>
        <p:spPr>
          <a:xfrm flipV="1">
            <a:off x="6804000" y="3212640"/>
            <a:ext cx="7164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římá spojovací čára 12"/>
          <p:cNvSpPr/>
          <p:nvPr/>
        </p:nvSpPr>
        <p:spPr>
          <a:xfrm>
            <a:off x="4356000" y="3500280"/>
            <a:ext cx="1368360" cy="936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209080" cy="5745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ržní rovnová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280" y="836640"/>
            <a:ext cx="8209080" cy="5616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mínky tržní rovnováh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- existuje trh jednoho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existuje dokonalá konku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 - cen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Q - mnžstv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 - rovnovážná cen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Qr – rovnovážné množ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cs-CZ" sz="2400" spc="-1" strike="noStrike">
                <a:solidFill>
                  <a:srgbClr val="953735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I.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376092"/>
                </a:solidFill>
                <a:latin typeface="Calibri"/>
              </a:rPr>
              <a:t> D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Q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bod rovnová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římá spojovací čára 4"/>
          <p:cNvSpPr/>
          <p:nvPr/>
        </p:nvSpPr>
        <p:spPr>
          <a:xfrm>
            <a:off x="3276720" y="314172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římá spojovací čára 6"/>
          <p:cNvSpPr/>
          <p:nvPr/>
        </p:nvSpPr>
        <p:spPr>
          <a:xfrm>
            <a:off x="3276720" y="5157720"/>
            <a:ext cx="295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římá spojovací čára 9"/>
          <p:cNvSpPr/>
          <p:nvPr/>
        </p:nvSpPr>
        <p:spPr>
          <a:xfrm flipV="1">
            <a:off x="3851280" y="3357720"/>
            <a:ext cx="2089080" cy="129528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římá spojovací čára 11"/>
          <p:cNvSpPr/>
          <p:nvPr/>
        </p:nvSpPr>
        <p:spPr>
          <a:xfrm>
            <a:off x="3780000" y="3284640"/>
            <a:ext cx="2376360" cy="13683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Výbuch 1 13"/>
          <p:cNvSpPr/>
          <p:nvPr/>
        </p:nvSpPr>
        <p:spPr>
          <a:xfrm>
            <a:off x="4788000" y="3789360"/>
            <a:ext cx="360360" cy="3603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římá spojovací čára 15"/>
          <p:cNvSpPr/>
          <p:nvPr/>
        </p:nvSpPr>
        <p:spPr>
          <a:xfrm>
            <a:off x="4932360" y="4005360"/>
            <a:ext cx="0" cy="1152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římá spojovací čára 17"/>
          <p:cNvSpPr/>
          <p:nvPr/>
        </p:nvSpPr>
        <p:spPr>
          <a:xfrm>
            <a:off x="3276720" y="4005360"/>
            <a:ext cx="1726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189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ržní rovnová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1267920"/>
            <a:ext cx="8229600" cy="4969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= D    -  trh je v rovnováze ( tj. nabídka = poptávka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I.  S       D  -  nedostatek zboží na tr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  nabízející nejsou ochotni prodávat při nižší ce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.   S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  -   přebytek zboží na tr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  kupující nejsou ochotni zaplatit vyšší ce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 =  D   -  na trhu je rovnováha, tj množství, které jso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prodávající ochotni prodat, odpovídá množství, kter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sou kupující ochotni koup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 stav vyčištění trhu – všechno zboží na trhu bud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prodá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římá spojovací čára 7"/>
          <p:cNvSpPr/>
          <p:nvPr/>
        </p:nvSpPr>
        <p:spPr>
          <a:xfrm>
            <a:off x="1332000" y="242100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římá spojovací čára 9"/>
          <p:cNvSpPr/>
          <p:nvPr/>
        </p:nvSpPr>
        <p:spPr>
          <a:xfrm>
            <a:off x="1187280" y="2349360"/>
            <a:ext cx="21600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římá spojovací čára 13"/>
          <p:cNvSpPr/>
          <p:nvPr/>
        </p:nvSpPr>
        <p:spPr>
          <a:xfrm>
            <a:off x="1187280" y="3141720"/>
            <a:ext cx="216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římá spojovací čára 15"/>
          <p:cNvSpPr/>
          <p:nvPr/>
        </p:nvSpPr>
        <p:spPr>
          <a:xfrm flipH="1">
            <a:off x="1187280" y="3284640"/>
            <a:ext cx="21600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římá spojovací čára 20"/>
          <p:cNvSpPr/>
          <p:nvPr/>
        </p:nvSpPr>
        <p:spPr>
          <a:xfrm flipH="1">
            <a:off x="1187280" y="2276640"/>
            <a:ext cx="21600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424720" cy="561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aktory ovlivňující nabídk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836280"/>
            <a:ext cx="8435880" cy="52894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áklady na výrobu ( suroviny, mzdy, elektřina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nější podmínky podnikání ( počasí, živelné katastrofy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měny ceny alternativního výrob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aktory ovlivňující poptávk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měny cen jiného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ubstitut – nahrazuje sledované zboží (jablka-hrušk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komplement – nutně doprovází sledované zboží (benzin-aut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měny výše důcho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emografické změny (počet obyvatel, věková struktura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měny v preferencích (zvyky,móda,tradi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653240" cy="5760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2.3 Dokonalá konkure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413000"/>
            <a:ext cx="8435880" cy="47131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stává, jestliž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 na trhu mnoho nabízejících a poptávají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 dokonalá informovanost o kvalitě, cenách, konkuren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anedbatelný vliv jednoho  účastníka na c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ikdo nikoho neomezu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kupující se rozhodují na základ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eexistuje nekalá konkurence nebo klamná rekl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tato situace neexistuje, trh se k ní může více či mé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ibližov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nkurenční prostředí v tržní ekonom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incip tržního hospodářství vychází ze zákonů nabídk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poptá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konkurenční prostředí má velký význam pro koneč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potřebite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efektivní hospodářská soutěž je hnací silou ekonomické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ůs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 České republice platí zákon o ochraně hospodářské soutěž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zv. antimonopolní zákon (tvorba pro rozvoj hospodářsk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těže a dohled nad zadáváním veřejných zakázek, kontr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e vztahu k poskytování veřejných podpor, je nezávisl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hodovací orgán státní mo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24720" cy="1368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 narušování efektivní hospodářské soutěže může           docházet prostřednictvím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4000" y="1484280"/>
            <a:ext cx="8424720" cy="46418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dokonalá konkurenc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daná působením určitých výhod,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teré vedou ke vzniku dominantního postavení na trhu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kalá soutěž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klamná reklama, korupce…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dokonalá konku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ředstavuje situaci na trhu, kdy dochází k omez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kurenčního prostředí, a to nejčastěji vlivem dominantního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stavení firem, vládními zásahy nebo nekalou soutěž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6476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onopolizace trh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836280"/>
            <a:ext cx="8229600" cy="5832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dná se o negativní stav, potlačující přirozenou konkurenc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zi firmami na tr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ruhy:-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onopol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„jeden prodávající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a straně nabídky existuje pouze je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bízející fi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ypy monopolu:- absolutní/přirozený (společnos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vlastní patent, licenci, ochranno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známku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administrativní – výsad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postavení na základě rozhodnut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vlá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onopso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výsadní postavení jednoho kjpující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ligopol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na trhu existují tři nebo méně velkých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podniků s dominantním postaven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353440" cy="561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ypy monopolního chování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836280"/>
            <a:ext cx="8362800" cy="5832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artel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dohoda mezi samostatnými konkurenty o ceně 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rozdělení územ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yndiká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dohoda mezi samostatnými konkurenty o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společném nákupu a prodeji ( právní samostatno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stup na trh jako jeden celek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ru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dohoda mezi samostatnými konkurenty o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společném výrobě ( výrobci jsou na sobě závislí, al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ještě neztrácí svou suverenitu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ncer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holding) – nejvyšší forma existence mono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ochází k fúzi - spojení dvou rovnocenný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artnerů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ochází k akvizici – jedna firma koup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polečnost ztrácí svou samostat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2.4 Tržně diferencovaný a nediferencovaný mark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iferencovaný – cílený mark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ychází zcela z potřeb a přání zákazní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odstatou je vědomí, že každý zákazník je individuální a ve              svých potřebách, přáních, zájmech či nákupního ch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firma neoslovuje zákazníky jako celek, ale zaměřuje se na určitou část z n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diferencovan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ákladním principem je,že se firma zaměřuje na všech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ožné (potenciální ) zákazníky, nerozlišuje je podle jejic  potřeb, přání, kupní síly, pohlaví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25892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" name="Objekt 2"/>
          <p:cNvGraphicFramePr/>
          <p:nvPr/>
        </p:nvGraphicFramePr>
        <p:xfrm>
          <a:off x="900000" y="536400"/>
          <a:ext cx="7559640" cy="591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36400"/>
                    <a:ext cx="7559640" cy="59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209080" cy="4903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kupiny nediferencovaného marketing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765000"/>
            <a:ext cx="8229600" cy="53611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sový – firma hromadně vyrábí a distribuuje pouze jeden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výrob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ariantní – firma vyrábí dva nebo tři výrobky v různém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provedení, kvalitě, velikosti a podob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ýrobky jsou nabízeny stejným způsobem všem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zákazník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II.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ržně koncentrovaný mark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firma se zaměřuje na určitou část trhu, nesnaží se obsad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lý podíl na velkém trhu, ale dosáhnout dominantního       postavení na dílčím tr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hrnutí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764640"/>
            <a:ext cx="8229600" cy="5688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asový marketing: 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načka vozidla v jedné úprav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ariantní marketing: 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načka vozidla s možnými variantní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plňky – vybavení, bar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ný marketing: 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načka vozidla v různých proveden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bdélník 3"/>
          <p:cNvSpPr/>
          <p:nvPr/>
        </p:nvSpPr>
        <p:spPr>
          <a:xfrm>
            <a:off x="684360" y="1268280"/>
            <a:ext cx="2303280" cy="64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Jeden výrobek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Obdélník 4"/>
          <p:cNvSpPr/>
          <p:nvPr/>
        </p:nvSpPr>
        <p:spPr>
          <a:xfrm>
            <a:off x="6012000" y="1268280"/>
            <a:ext cx="2305080" cy="64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Všichni zákazníc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5" name="Přímá spojovací šipka 6"/>
          <p:cNvCxnSpPr>
            <a:stCxn id="113" idx="3"/>
            <a:endCxn id="114" idx="1"/>
          </p:cNvCxnSpPr>
          <p:nvPr/>
        </p:nvCxnSpPr>
        <p:spPr>
          <a:xfrm>
            <a:off x="2987280" y="1591920"/>
            <a:ext cx="3025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6" name="Obdélník 11"/>
          <p:cNvSpPr/>
          <p:nvPr/>
        </p:nvSpPr>
        <p:spPr>
          <a:xfrm>
            <a:off x="684360" y="3141720"/>
            <a:ext cx="2303280" cy="64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Jeden výrobek ve variantá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bdélník 12"/>
          <p:cNvSpPr/>
          <p:nvPr/>
        </p:nvSpPr>
        <p:spPr>
          <a:xfrm>
            <a:off x="6227640" y="3068640"/>
            <a:ext cx="2303640" cy="64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Všichni zákazníc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8" name="Přímá spojovací šipka 14"/>
          <p:cNvCxnSpPr>
            <a:stCxn id="116" idx="3"/>
            <a:endCxn id="117" idx="1"/>
          </p:cNvCxnSpPr>
          <p:nvPr/>
        </p:nvCxnSpPr>
        <p:spPr>
          <a:xfrm flipV="1">
            <a:off x="2987640" y="3392280"/>
            <a:ext cx="3240720" cy="7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9" name="Obdélník 25"/>
          <p:cNvSpPr/>
          <p:nvPr/>
        </p:nvSpPr>
        <p:spPr>
          <a:xfrm>
            <a:off x="684360" y="5084640"/>
            <a:ext cx="230328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Výrobek 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Obdélník 26"/>
          <p:cNvSpPr/>
          <p:nvPr/>
        </p:nvSpPr>
        <p:spPr>
          <a:xfrm>
            <a:off x="684360" y="5661000"/>
            <a:ext cx="230328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Výrobek B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Obdélník 27"/>
          <p:cNvSpPr/>
          <p:nvPr/>
        </p:nvSpPr>
        <p:spPr>
          <a:xfrm>
            <a:off x="6084720" y="5084640"/>
            <a:ext cx="230364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Segment trhu 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Obdélník 28"/>
          <p:cNvSpPr/>
          <p:nvPr/>
        </p:nvSpPr>
        <p:spPr>
          <a:xfrm>
            <a:off x="6084720" y="5661000"/>
            <a:ext cx="230364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Segment trhu B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23" name="Přímá spojovací šipka 30"/>
          <p:cNvCxnSpPr>
            <a:stCxn id="119" idx="3"/>
            <a:endCxn id="121" idx="1"/>
          </p:cNvCxnSpPr>
          <p:nvPr/>
        </p:nvCxnSpPr>
        <p:spPr>
          <a:xfrm>
            <a:off x="2987280" y="5300280"/>
            <a:ext cx="3097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24" name="Přímá spojovací šipka 32"/>
          <p:cNvCxnSpPr>
            <a:stCxn id="120" idx="3"/>
            <a:endCxn id="122" idx="1"/>
          </p:cNvCxnSpPr>
          <p:nvPr/>
        </p:nvCxnSpPr>
        <p:spPr>
          <a:xfrm>
            <a:off x="2987280" y="5876640"/>
            <a:ext cx="3097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2.5 Segmentace trh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Vývojový diagram: nebo 12"/>
          <p:cNvSpPr/>
          <p:nvPr/>
        </p:nvSpPr>
        <p:spPr>
          <a:xfrm>
            <a:off x="3924360" y="1557360"/>
            <a:ext cx="1152360" cy="1079640"/>
          </a:xfrm>
          <a:prstGeom prst="flowChartOr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bdélník 16"/>
          <p:cNvSpPr/>
          <p:nvPr/>
        </p:nvSpPr>
        <p:spPr>
          <a:xfrm>
            <a:off x="5940360" y="1484280"/>
            <a:ext cx="432000" cy="432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bdélník 19"/>
          <p:cNvSpPr/>
          <p:nvPr/>
        </p:nvSpPr>
        <p:spPr>
          <a:xfrm>
            <a:off x="5940360" y="2205000"/>
            <a:ext cx="43200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981000"/>
            <a:ext cx="8207280" cy="5616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ný marketing se skládá ze tří část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egmentace trh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tržní seg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žní zací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žní umístě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celkový tr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efinic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segmentace trhu je nalezení skupin zákazníků podle určitých   kriteri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segmentace trhu je skupina zákazníků, kteří mají podobné potřeby nebo př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segmentací trhu se rozumí to, že firma se zaměřuje pouze na určitou část z celku, pro kterou vytváří specifický marketingový m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Výseč 8"/>
          <p:cNvSpPr/>
          <p:nvPr/>
        </p:nvSpPr>
        <p:spPr>
          <a:xfrm>
            <a:off x="4716360" y="1916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914400" y="457200"/>
                </a:moveTo>
                <a:cubicBezTo>
                  <a:pt x="914400" y="707849"/>
                  <a:pt x="712592" y="911768"/>
                  <a:pt x="461956" y="914375"/>
                </a:cubicBezTo>
                <a:cubicBezTo>
                  <a:pt x="211320" y="916983"/>
                  <a:pt x="5313" y="717307"/>
                  <a:pt x="99" y="466712"/>
                </a:cubicBezTo>
                <a:cubicBezTo>
                  <a:pt x="-5116" y="216117"/>
                  <a:pt x="192406" y="8044"/>
                  <a:pt x="442933" y="223"/>
                </a:cubicBezTo>
                <a:lnTo>
                  <a:pt x="457200" y="457200"/>
                </a:lnTo>
                <a:lnTo>
                  <a:pt x="914400" y="457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Výseč 17"/>
          <p:cNvSpPr/>
          <p:nvPr/>
        </p:nvSpPr>
        <p:spPr>
          <a:xfrm rot="5400000">
            <a:off x="4716360" y="1916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914229" y="444679"/>
                </a:moveTo>
                <a:cubicBezTo>
                  <a:pt x="919325" y="630670"/>
                  <a:pt x="811201" y="801197"/>
                  <a:pt x="640803" y="875915"/>
                </a:cubicBezTo>
                <a:cubicBezTo>
                  <a:pt x="470404" y="950633"/>
                  <a:pt x="271723" y="914637"/>
                  <a:pt x="138369" y="784886"/>
                </a:cubicBezTo>
                <a:cubicBezTo>
                  <a:pt x="5015" y="655136"/>
                  <a:pt x="-36409" y="457514"/>
                  <a:pt x="33615" y="285133"/>
                </a:cubicBezTo>
                <a:cubicBezTo>
                  <a:pt x="103638" y="112752"/>
                  <a:pt x="271141" y="-1"/>
                  <a:pt x="457201" y="-1"/>
                </a:cubicBezTo>
                <a:cubicBezTo>
                  <a:pt x="457201" y="152399"/>
                  <a:pt x="457200" y="304800"/>
                  <a:pt x="457200" y="457200"/>
                </a:cubicBezTo>
                <a:lnTo>
                  <a:pt x="914229" y="444679"/>
                </a:lnTo>
                <a:close/>
              </a:path>
            </a:pathLst>
          </a:custGeom>
          <a:solidFill>
            <a:srgbClr val="d99694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Obdélník 20"/>
          <p:cNvSpPr/>
          <p:nvPr/>
        </p:nvSpPr>
        <p:spPr>
          <a:xfrm>
            <a:off x="6012000" y="1413000"/>
            <a:ext cx="21564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bdélník 22"/>
          <p:cNvSpPr/>
          <p:nvPr/>
        </p:nvSpPr>
        <p:spPr>
          <a:xfrm>
            <a:off x="6012000" y="2276640"/>
            <a:ext cx="215640" cy="431640"/>
          </a:xfrm>
          <a:prstGeom prst="rect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09080" cy="792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Kritéria segmentace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1197000"/>
            <a:ext cx="8229600" cy="5400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84000"/>
          </a:bodyPr>
          <a:p>
            <a:pPr marL="432000" indent="-43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 segment musí splňovat společné vlas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 segment musí být identifikovatelný a měřiteln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 segment musí být oslovitelný marketingovým mix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Výhody segmentac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 lepší uspokojení potřeb zákazní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 efektivnější stimulace a distribu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 získání konkurenční výh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. vyšší míra zisku pro fir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2000" indent="-432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římá spojovací čára 6"/>
          <p:cNvSpPr/>
          <p:nvPr/>
        </p:nvSpPr>
        <p:spPr>
          <a:xfrm>
            <a:off x="395280" y="4292640"/>
            <a:ext cx="828036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424720" cy="865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Hlediska segmentac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360" y="1341360"/>
            <a:ext cx="8424720" cy="51832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439920" indent="-439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geografická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ovlivňují segmentaci trhu podle územ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9920" indent="-439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demografická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ovlivňují segmentaci trhu podle populačních hledisek3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9920" indent="-439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psychologicko-sociál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segmentace trhu podle osobnosti zákazník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9920" indent="-43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ociální skupiny, společenské třídy a životního styl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9920" indent="-439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sociálně-ekonomická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příjmy rodin, postavení  v zaměstnání a vzděl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9920" indent="-439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etnografická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vlivy rasy, národnosti, náboženství, tradice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9920" indent="-439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fyziografická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zdravotní stav, výška, váhy postavy, typu ple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9920" indent="-43992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behavioristická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příčiny chování, stupeň připravenosti ke koupi, stupe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9920" indent="-43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ěrnosti značce, četnost nákupu, preference užitných vlastností výrob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9920" indent="-43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bo služ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9920" indent="-439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jmy : -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ociální skupin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označuje sociální útvar,je tvořena dvěma nebo více osobam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9920" indent="-439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leny spojuje vzájemná komunikace, normy, vzájemná očekávání a společn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9920" indent="-439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konávaná činn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9920" indent="-439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ociální tříd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– je kategorie lidí, kteří mají stejné třídní postav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9920" indent="-43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2.6 Tržní zacílení a umíst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Tržní zacílení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namená, že se firma zaměřuje na jednotlivé segmenty v souladu se svou marketingovou strategi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firmu je rozhodující velikost a síla segmentu, tzn. jak 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egment početný a jaká je kupní síla zákazní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upní síla představuje množství zboží a služeb, které může být zakoupeno za určitou sumu peněz při dané cenové hladi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Tržní umístění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místění produktu na trhu znamená způ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ho vnímání zákazní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lavní znaky pro dobré umístění na trhu jso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lastnosti výrob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užitek pro zákazní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ce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kvali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DOC.RNDR.STRNAD,CSC, Pavel; ING.VYDROVÁ, Jaruše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rketing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: Fortuna, 2003, 164. ISBN 80-7168-668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UDRÝ ING., Marek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rketing - Základy marketing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 vydání. Kralice na Hané, Hrubčická 495: Computer Media s.r.o., 2008,158. ISBN 978-80-7402-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9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2492280"/>
            <a:ext cx="8229600" cy="36338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Marketing a tr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2.1 Podstata trh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196640"/>
            <a:ext cx="8207280" cy="5256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aždé hospodářství funguje podle určitých pravidel, které tvoří tzv.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ekonomický systém společnos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íklady ekonomických systémů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Tradiční (zvykový) systém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typický pro málo rozvinuté oblasti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 zem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říkazový systém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založen na principu direktivně řízené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ospodářství, centrálně plánovaná ekonom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Čistě tržní systém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propojení výroby a spotřeby 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skutečňováno pouze prostřednictvím trhu, stát do trh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zasahuje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Sociálně tržní systém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předpokládá fungování tržního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ystému, který je doplněn o působení nástrojů hospodářsk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litiky stá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92232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r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místo, kde se střetává nabídka s poptávkou, prodávají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kupujíc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měnu zboží za zboží zprostředkovávají pení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hlediska marketingu je trh souhrnem všech skutečných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 potenciálních kupují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elikost  trhu závisí na počtu kupujících, kteří mají záj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 určitý výrobek či službu, mají peníze a možnost si výrobek koup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Charakteristika a základní rozdělení tr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981000"/>
            <a:ext cx="8435880" cy="56880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mi subjekty trhu jsou : stát,podniky a domác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Rozdělení trh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odle množství zboží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: - dílčí (jeden druh zbož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agregátní (trh veškerého zbož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 hlediska územního členění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:   - míst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národ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nadnárod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větov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odle předmětu směn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: - výrobků a služ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ýrobních faktorů (půda,práce,kapitá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finanční (peněžní  a kapitálov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ákladní rozdělení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: - trh spotřební (jednotlivec, domácnost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trh organizací - průmyslov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obchod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tát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Historický vývoj sm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Naturální směn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tedy zboží za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šeobecný ekvivalen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speciální druh zboží, který se použí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e směně (plátno, mušle, sůl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Drahé kov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bronz, zlato, stříb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inc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první oběž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apírové peníz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u kterých stát garantoval jejich hodno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Bezhotovostní pe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íz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platby z účtu na účet, platebními kartami, šeky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8506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2.2 nabídka a poptáv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385640"/>
            <a:ext cx="8496000" cy="52830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 tržním systému se subjekty rozhodují samy, jejich chování je však ovlivněno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kony tr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kony trh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 zákon nabídky – s rostoucí cenou roste i nabídka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 zákon poptávky – s rostoucí cenou klesá poptávka po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blouk 5"/>
          <p:cNvSpPr/>
          <p:nvPr/>
        </p:nvSpPr>
        <p:spPr>
          <a:xfrm>
            <a:off x="3492360" y="5229360"/>
            <a:ext cx="935280" cy="863640"/>
          </a:xfrm>
          <a:custGeom>
            <a:avLst/>
            <a:gdLst/>
            <a:ahLst/>
            <a:rect l="l" t="t" r="r" b="b"/>
            <a:pathLst>
              <a:path stroke="0" w="935038" h="863600">
                <a:moveTo>
                  <a:pt x="883010" y="233837"/>
                </a:moveTo>
                <a:cubicBezTo>
                  <a:pt x="883858" y="235354"/>
                  <a:pt x="884695" y="236877"/>
                  <a:pt x="885523" y="238403"/>
                </a:cubicBezTo>
                <a:lnTo>
                  <a:pt x="467519" y="431800"/>
                </a:lnTo>
                <a:lnTo>
                  <a:pt x="883010" y="233837"/>
                </a:lnTo>
                <a:close/>
              </a:path>
              <a:path fill="none" w="935038" h="863600">
                <a:moveTo>
                  <a:pt x="883010" y="233837"/>
                </a:moveTo>
                <a:cubicBezTo>
                  <a:pt x="883858" y="235354"/>
                  <a:pt x="884695" y="236877"/>
                  <a:pt x="885523" y="238403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abíd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907560"/>
            <a:ext cx="8229600" cy="51469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   je množství zboží, které výrobci dobrovolně dodávají na trh při určité cen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abízené množství je závislé na ceně, je tedy funkcí ceny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Qs = f(P)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římá spojovací čára 4"/>
          <p:cNvSpPr/>
          <p:nvPr/>
        </p:nvSpPr>
        <p:spPr>
          <a:xfrm>
            <a:off x="3492360" y="2997360"/>
            <a:ext cx="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římá spojovací čára 6"/>
          <p:cNvSpPr/>
          <p:nvPr/>
        </p:nvSpPr>
        <p:spPr>
          <a:xfrm>
            <a:off x="3492360" y="49417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římá spojovací čára 8"/>
          <p:cNvSpPr/>
          <p:nvPr/>
        </p:nvSpPr>
        <p:spPr>
          <a:xfrm flipV="1">
            <a:off x="4067280" y="3068280"/>
            <a:ext cx="1728720" cy="115236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4:51:48Z</dcterms:created>
  <dc:creator>MiZ</dc:creator>
  <dc:description/>
  <dc:language>en-US</dc:language>
  <cp:lastModifiedBy>Havelka</cp:lastModifiedBy>
  <dcterms:modified xsi:type="dcterms:W3CDTF">2014-01-03T15:06:01Z</dcterms:modified>
  <cp:revision>766</cp:revision>
  <dc:subject/>
  <dc:title>PM 101 – Management I.</dc:title>
</cp:coreProperties>
</file>