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B57-358D-4819-B2E5-A010869A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043E-69BD-4E39-BA3C-FA7796B7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D067-3DF6-4EED-97CE-DBAB1D13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12F-5168-4EFE-9BB1-592E02AF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8EF-9D23-42B0-8502-5371E8A9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BAF8-5C25-40E5-AF3C-0E228CAA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B28C-BDC5-499E-8B2F-C4DE0566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AB4-E495-4470-90CD-D34748E6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D74-C9F5-436B-8567-C14BBDCF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F6B-7A18-4502-8232-0F0FFC03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198-7BF0-481F-A3C5-A8945086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CA3-E342-410C-8A20-3C115124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58DF-D44E-4F3C-88C8-44D649D4E1B6}" type="slidenum">
              <a:rPr b="1" lang="cs-CZ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rganiz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Y_32_INOVACE_116_Manage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435640" y="55897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utor: Ing. Vladimír Havelk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280360" cy="56196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6.3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rganizační útv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836640"/>
            <a:ext cx="8280360" cy="54720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sou většinou skupiny lidí, kteří vykonávají stejné nebo příbuzné prá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 hlediska vztahu k hlavní činnosti rozeznáváme dva druhy podnikových útvarů: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útvary liniové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jednotky s přímou rozhodovací pravomoc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jednoznačná vazba mezi podřízeným a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nadřízený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edoucí pracovník je vybaven komplex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odpovědnos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5"/>
          <p:cNvSpPr/>
          <p:nvPr/>
        </p:nvSpPr>
        <p:spPr>
          <a:xfrm>
            <a:off x="3419640" y="3284640"/>
            <a:ext cx="1779480" cy="50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Vedouc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bdélník 6"/>
          <p:cNvSpPr/>
          <p:nvPr/>
        </p:nvSpPr>
        <p:spPr>
          <a:xfrm>
            <a:off x="3419640" y="4292640"/>
            <a:ext cx="1779480" cy="50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odřízený B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Obdélník 7"/>
          <p:cNvSpPr/>
          <p:nvPr/>
        </p:nvSpPr>
        <p:spPr>
          <a:xfrm>
            <a:off x="5580000" y="4292640"/>
            <a:ext cx="1778040" cy="50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odřízený C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Obdélník 8"/>
          <p:cNvSpPr/>
          <p:nvPr/>
        </p:nvSpPr>
        <p:spPr>
          <a:xfrm>
            <a:off x="1258920" y="4292640"/>
            <a:ext cx="1779480" cy="50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odřízený 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římá spojovací čára 10"/>
          <p:cNvSpPr/>
          <p:nvPr/>
        </p:nvSpPr>
        <p:spPr>
          <a:xfrm>
            <a:off x="4308480" y="37893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římá spojovací čára 15"/>
          <p:cNvSpPr/>
          <p:nvPr/>
        </p:nvSpPr>
        <p:spPr>
          <a:xfrm>
            <a:off x="2124000" y="4005360"/>
            <a:ext cx="431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římá spojovací čára 23"/>
          <p:cNvSpPr/>
          <p:nvPr/>
        </p:nvSpPr>
        <p:spPr>
          <a:xfrm flipH="1" flipV="1">
            <a:off x="2123640" y="4005360"/>
            <a:ext cx="2556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římá spojovací čára 25"/>
          <p:cNvSpPr/>
          <p:nvPr/>
        </p:nvSpPr>
        <p:spPr>
          <a:xfrm>
            <a:off x="6443640" y="4005360"/>
            <a:ext cx="2556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"/>
          <p:cNvSpPr/>
          <p:nvPr/>
        </p:nvSpPr>
        <p:spPr>
          <a:xfrm>
            <a:off x="539640" y="260280"/>
            <a:ext cx="8136000" cy="59821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útvary štáb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oskytují rady, odborné služby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rostřednictvím návrhů, doporučení , metodickým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řízením vytvářejí podmínky pro činnost liniových útvarů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lní především pomocné funk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Obdélník 4"/>
          <p:cNvSpPr/>
          <p:nvPr/>
        </p:nvSpPr>
        <p:spPr>
          <a:xfrm>
            <a:off x="3276720" y="1844640"/>
            <a:ext cx="2065320" cy="50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Vedouc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Obdélník 5"/>
          <p:cNvSpPr/>
          <p:nvPr/>
        </p:nvSpPr>
        <p:spPr>
          <a:xfrm>
            <a:off x="5651640" y="2565360"/>
            <a:ext cx="194472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Štáb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Obdélník 6"/>
          <p:cNvSpPr/>
          <p:nvPr/>
        </p:nvSpPr>
        <p:spPr>
          <a:xfrm>
            <a:off x="5651640" y="3284640"/>
            <a:ext cx="206676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odřízený C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Obdélník 7"/>
          <p:cNvSpPr/>
          <p:nvPr/>
        </p:nvSpPr>
        <p:spPr>
          <a:xfrm>
            <a:off x="3276720" y="3284640"/>
            <a:ext cx="206532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odřízený B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Obdélník 8"/>
          <p:cNvSpPr/>
          <p:nvPr/>
        </p:nvSpPr>
        <p:spPr>
          <a:xfrm>
            <a:off x="900000" y="3284640"/>
            <a:ext cx="2065320" cy="649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odřízený 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římá spojovací čára 10"/>
          <p:cNvSpPr/>
          <p:nvPr/>
        </p:nvSpPr>
        <p:spPr>
          <a:xfrm>
            <a:off x="4308480" y="2349360"/>
            <a:ext cx="0" cy="93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římá spojovací čára 12"/>
          <p:cNvSpPr/>
          <p:nvPr/>
        </p:nvSpPr>
        <p:spPr>
          <a:xfrm>
            <a:off x="1979640" y="35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římá spojovací čára 14"/>
          <p:cNvSpPr/>
          <p:nvPr/>
        </p:nvSpPr>
        <p:spPr>
          <a:xfrm flipH="1">
            <a:off x="1932120" y="3141720"/>
            <a:ext cx="4752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římá spojovací čára 20"/>
          <p:cNvSpPr/>
          <p:nvPr/>
        </p:nvSpPr>
        <p:spPr>
          <a:xfrm>
            <a:off x="6684840" y="3141720"/>
            <a:ext cx="478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římá spojovací čára 24"/>
          <p:cNvSpPr/>
          <p:nvPr/>
        </p:nvSpPr>
        <p:spPr>
          <a:xfrm>
            <a:off x="1979640" y="314172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římá spojovací čára 27"/>
          <p:cNvSpPr/>
          <p:nvPr/>
        </p:nvSpPr>
        <p:spPr>
          <a:xfrm>
            <a:off x="4284720" y="2852640"/>
            <a:ext cx="143820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Obdélník 15"/>
          <p:cNvSpPr/>
          <p:nvPr/>
        </p:nvSpPr>
        <p:spPr>
          <a:xfrm>
            <a:off x="3287880" y="1844640"/>
            <a:ext cx="2065320" cy="50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Vedouc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280360" cy="5619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Typy organizací dle vnitřního uspořádání řídících stupň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8920" y="981000"/>
            <a:ext cx="8280360" cy="5688000"/>
          </a:xfrm>
          <a:prstGeom prst="rect">
            <a:avLst/>
          </a:prstGeom>
          <a:solidFill>
            <a:srgbClr val="c6d9f1"/>
          </a:solidFill>
          <a:ln w="381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) funkcionální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ropojení útvarů podle druhu činnosti nebo funk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dochází ke křížení příkazů, moc se nerozšíři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b) divizionální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znik podle : - výrobků a služ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ákazní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místa působ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bdélník 3"/>
          <p:cNvSpPr/>
          <p:nvPr/>
        </p:nvSpPr>
        <p:spPr>
          <a:xfrm>
            <a:off x="4859280" y="1916280"/>
            <a:ext cx="1728720" cy="36036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Vedoucí B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ovéPole 4"/>
          <p:cNvSpPr/>
          <p:nvPr/>
        </p:nvSpPr>
        <p:spPr>
          <a:xfrm>
            <a:off x="5940360" y="2492280"/>
            <a:ext cx="2872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bdélník 5"/>
          <p:cNvSpPr/>
          <p:nvPr/>
        </p:nvSpPr>
        <p:spPr>
          <a:xfrm>
            <a:off x="3492360" y="2708280"/>
            <a:ext cx="1727280" cy="36036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odřízený 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Obdélník 7"/>
          <p:cNvSpPr/>
          <p:nvPr/>
        </p:nvSpPr>
        <p:spPr>
          <a:xfrm>
            <a:off x="5651640" y="2708280"/>
            <a:ext cx="1728720" cy="36036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odřízený 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Obdélník 8"/>
          <p:cNvSpPr/>
          <p:nvPr/>
        </p:nvSpPr>
        <p:spPr>
          <a:xfrm>
            <a:off x="1187280" y="2708280"/>
            <a:ext cx="1729080" cy="36036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odřízený 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Obdélník 9"/>
          <p:cNvSpPr/>
          <p:nvPr/>
        </p:nvSpPr>
        <p:spPr>
          <a:xfrm>
            <a:off x="2268360" y="1916280"/>
            <a:ext cx="1727280" cy="36036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Vedoucí 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ovéPole 10"/>
          <p:cNvSpPr/>
          <p:nvPr/>
        </p:nvSpPr>
        <p:spPr>
          <a:xfrm>
            <a:off x="3708360" y="213372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ovéPole 11"/>
          <p:cNvSpPr/>
          <p:nvPr/>
        </p:nvSpPr>
        <p:spPr>
          <a:xfrm>
            <a:off x="3635280" y="2205000"/>
            <a:ext cx="185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ovéPole 12"/>
          <p:cNvSpPr/>
          <p:nvPr/>
        </p:nvSpPr>
        <p:spPr>
          <a:xfrm>
            <a:off x="3564000" y="2060640"/>
            <a:ext cx="1443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římá spojovací čára 14"/>
          <p:cNvSpPr/>
          <p:nvPr/>
        </p:nvSpPr>
        <p:spPr>
          <a:xfrm flipH="1">
            <a:off x="2050560" y="2276640"/>
            <a:ext cx="1081080" cy="43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římá spojovací čára 16"/>
          <p:cNvSpPr/>
          <p:nvPr/>
        </p:nvSpPr>
        <p:spPr>
          <a:xfrm>
            <a:off x="3132000" y="2276640"/>
            <a:ext cx="1224000" cy="43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římá spojovací čára 18"/>
          <p:cNvSpPr/>
          <p:nvPr/>
        </p:nvSpPr>
        <p:spPr>
          <a:xfrm>
            <a:off x="3132000" y="2276640"/>
            <a:ext cx="3384720" cy="43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římá spojovací čára 20"/>
          <p:cNvSpPr/>
          <p:nvPr/>
        </p:nvSpPr>
        <p:spPr>
          <a:xfrm>
            <a:off x="5724360" y="2276640"/>
            <a:ext cx="792360" cy="43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římá spojovací čára 22"/>
          <p:cNvSpPr/>
          <p:nvPr/>
        </p:nvSpPr>
        <p:spPr>
          <a:xfrm flipH="1">
            <a:off x="4355640" y="2276640"/>
            <a:ext cx="1368360" cy="43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římá spojovací čára 24"/>
          <p:cNvSpPr/>
          <p:nvPr/>
        </p:nvSpPr>
        <p:spPr>
          <a:xfrm flipH="1">
            <a:off x="2050920" y="2276640"/>
            <a:ext cx="3673440" cy="43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bdélník 26"/>
          <p:cNvSpPr/>
          <p:nvPr/>
        </p:nvSpPr>
        <p:spPr>
          <a:xfrm>
            <a:off x="2268360" y="1916280"/>
            <a:ext cx="1727280" cy="360360"/>
          </a:xfrm>
          <a:prstGeom prst="rect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Vedoucí 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Obdélník 27"/>
          <p:cNvSpPr/>
          <p:nvPr/>
        </p:nvSpPr>
        <p:spPr>
          <a:xfrm>
            <a:off x="3348000" y="4581360"/>
            <a:ext cx="1728720" cy="409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rezid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bdélník 28"/>
          <p:cNvSpPr/>
          <p:nvPr/>
        </p:nvSpPr>
        <p:spPr>
          <a:xfrm>
            <a:off x="3348000" y="5516640"/>
            <a:ext cx="1728720" cy="411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Divize 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bdélník 29"/>
          <p:cNvSpPr/>
          <p:nvPr/>
        </p:nvSpPr>
        <p:spPr>
          <a:xfrm>
            <a:off x="5580000" y="5516640"/>
            <a:ext cx="1728720" cy="411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Divize 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bdélník 30"/>
          <p:cNvSpPr/>
          <p:nvPr/>
        </p:nvSpPr>
        <p:spPr>
          <a:xfrm>
            <a:off x="971640" y="5516640"/>
            <a:ext cx="1728720" cy="411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Divize 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římá spojovací čára 32"/>
          <p:cNvSpPr/>
          <p:nvPr/>
        </p:nvSpPr>
        <p:spPr>
          <a:xfrm>
            <a:off x="4211640" y="4991040"/>
            <a:ext cx="0" cy="525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římá spojovací čára 34"/>
          <p:cNvSpPr/>
          <p:nvPr/>
        </p:nvSpPr>
        <p:spPr>
          <a:xfrm flipV="1">
            <a:off x="1835280" y="5373360"/>
            <a:ext cx="0" cy="1429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římá spojovací čára 36"/>
          <p:cNvSpPr/>
          <p:nvPr/>
        </p:nvSpPr>
        <p:spPr>
          <a:xfrm flipV="1">
            <a:off x="6443640" y="5373360"/>
            <a:ext cx="0" cy="1429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římá spojovací čára 38"/>
          <p:cNvSpPr/>
          <p:nvPr/>
        </p:nvSpPr>
        <p:spPr>
          <a:xfrm>
            <a:off x="1835280" y="5373720"/>
            <a:ext cx="46083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bdélník 31"/>
          <p:cNvSpPr/>
          <p:nvPr/>
        </p:nvSpPr>
        <p:spPr>
          <a:xfrm>
            <a:off x="5724360" y="6165720"/>
            <a:ext cx="165600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Země  3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Obdélník 33"/>
          <p:cNvSpPr/>
          <p:nvPr/>
        </p:nvSpPr>
        <p:spPr>
          <a:xfrm>
            <a:off x="1979640" y="6165720"/>
            <a:ext cx="165564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Země 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Obdélník 35"/>
          <p:cNvSpPr/>
          <p:nvPr/>
        </p:nvSpPr>
        <p:spPr>
          <a:xfrm>
            <a:off x="3851280" y="6165720"/>
            <a:ext cx="165744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Země 2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římá spojovací čára 41"/>
          <p:cNvSpPr/>
          <p:nvPr/>
        </p:nvSpPr>
        <p:spPr>
          <a:xfrm>
            <a:off x="6443640" y="602136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římá spojovací čára 43"/>
          <p:cNvSpPr/>
          <p:nvPr/>
        </p:nvSpPr>
        <p:spPr>
          <a:xfrm>
            <a:off x="6445080" y="5927760"/>
            <a:ext cx="1065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římá spojovací čára 45"/>
          <p:cNvSpPr/>
          <p:nvPr/>
        </p:nvSpPr>
        <p:spPr>
          <a:xfrm flipH="1">
            <a:off x="4679640" y="5927760"/>
            <a:ext cx="176508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římá spojovací čára 47"/>
          <p:cNvSpPr/>
          <p:nvPr/>
        </p:nvSpPr>
        <p:spPr>
          <a:xfrm flipH="1">
            <a:off x="2808360" y="5927760"/>
            <a:ext cx="363672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08720" cy="431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Pružné organizační strukt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4000" y="620640"/>
            <a:ext cx="8229600" cy="59040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Řešení současných úkolů: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projektové řízen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pružné organizační struktu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rojektové říz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počívá ve stanovení: cíle, programu, zdroje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(materiál, energie, finance, pracovníci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pojuje tři základní eleme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ýsled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ozpočet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Č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ovnoramenný trojúhelník 3"/>
          <p:cNvSpPr/>
          <p:nvPr/>
        </p:nvSpPr>
        <p:spPr>
          <a:xfrm>
            <a:off x="3276720" y="3573360"/>
            <a:ext cx="2211120" cy="1871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Elipsa 5"/>
          <p:cNvSpPr/>
          <p:nvPr/>
        </p:nvSpPr>
        <p:spPr>
          <a:xfrm>
            <a:off x="4140360" y="3357720"/>
            <a:ext cx="502920" cy="43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Elipsa 6"/>
          <p:cNvSpPr/>
          <p:nvPr/>
        </p:nvSpPr>
        <p:spPr>
          <a:xfrm>
            <a:off x="5219640" y="5229360"/>
            <a:ext cx="504720" cy="43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Elipsa 7"/>
          <p:cNvSpPr/>
          <p:nvPr/>
        </p:nvSpPr>
        <p:spPr>
          <a:xfrm>
            <a:off x="3132000" y="5229360"/>
            <a:ext cx="503280" cy="43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Druhy pružných organizačních strukt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836280"/>
            <a:ext cx="8229600" cy="554508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řešení složitých projekt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sou charakteristické :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dočas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úč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zdokonalování stávající organizační struktu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Druh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struktura s koordinátorem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zdokonaluje liniově štábní struktu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členěný pracovník s pravomocí koordinace činnos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konávaných pracovní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aticová struktura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představuje víceliniovou organiza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edoucí projektu jmenován vrcholovým vedení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čisté projektové struktury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náročné projek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řešení jsou vyčleněny pracovníci, vedoucí projektu má pln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omoc a odpověd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6.4 Vrcholové vedení fi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8360" y="836280"/>
            <a:ext cx="8229600" cy="576108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Nové organizační struktury podniku jsou založeny na těchto zásadách: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oddělit vrcholové vedení společnosti od výkonného řídícího apará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edení podniku svěřovat profesionálním manažer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oddělit zájmy vlastníků od sféry podnikatelsk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říklad akciové společnosti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ází se obvykle 1x za r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čet členů 5-11,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jvyšší řídící orgán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společnosti, 4-6 člen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dniková struk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bdélník 4"/>
          <p:cNvSpPr/>
          <p:nvPr/>
        </p:nvSpPr>
        <p:spPr>
          <a:xfrm>
            <a:off x="3059280" y="3213000"/>
            <a:ext cx="2592360" cy="576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alná hromada akcionářů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Obdélník 5"/>
          <p:cNvSpPr/>
          <p:nvPr/>
        </p:nvSpPr>
        <p:spPr>
          <a:xfrm>
            <a:off x="3059280" y="3933720"/>
            <a:ext cx="2592360" cy="574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zorčí (správní) rada,  ředitelů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Obdélník 6"/>
          <p:cNvSpPr/>
          <p:nvPr/>
        </p:nvSpPr>
        <p:spPr>
          <a:xfrm>
            <a:off x="3059280" y="4724280"/>
            <a:ext cx="2592360" cy="865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edstavenstvo Výkonný top manage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římá spojovací čára 8"/>
          <p:cNvSpPr/>
          <p:nvPr/>
        </p:nvSpPr>
        <p:spPr>
          <a:xfrm>
            <a:off x="1763640" y="5877000"/>
            <a:ext cx="4969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římá spojovací čára 10"/>
          <p:cNvSpPr/>
          <p:nvPr/>
        </p:nvSpPr>
        <p:spPr>
          <a:xfrm>
            <a:off x="4356000" y="3789360"/>
            <a:ext cx="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římá spojovací čára 12"/>
          <p:cNvSpPr/>
          <p:nvPr/>
        </p:nvSpPr>
        <p:spPr>
          <a:xfrm>
            <a:off x="4356000" y="4508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římá spojovací čára 16"/>
          <p:cNvSpPr/>
          <p:nvPr/>
        </p:nvSpPr>
        <p:spPr>
          <a:xfrm>
            <a:off x="4356000" y="5589720"/>
            <a:ext cx="0" cy="28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římá spojovací čára 18"/>
          <p:cNvSpPr/>
          <p:nvPr/>
        </p:nvSpPr>
        <p:spPr>
          <a:xfrm>
            <a:off x="4356000" y="587700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římá spojovací čára 20"/>
          <p:cNvSpPr/>
          <p:nvPr/>
        </p:nvSpPr>
        <p:spPr>
          <a:xfrm>
            <a:off x="6732720" y="587700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římá spojovací čára 22"/>
          <p:cNvSpPr/>
          <p:nvPr/>
        </p:nvSpPr>
        <p:spPr>
          <a:xfrm>
            <a:off x="1763640" y="5877000"/>
            <a:ext cx="0" cy="288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OC.ING.VEBER.CSC., Jaromír a kol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nagement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druhé vydání. Praha: Fortuna, 2003, 136. ISBN 80-7168-654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NG.ZLÁMAL,PHDR., Jaroslav; ING.BC.BAČÍK,PHD, Petr; ING.BELLOVÁ,PHD, Jan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nagement - Základy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Kralice na Hané, Hrubčická 495: Computr Media s.r.o., 2011, 104. ISBN 978-80-7402-083-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" name="Objekt 2"/>
          <p:cNvGraphicFramePr/>
          <p:nvPr/>
        </p:nvGraphicFramePr>
        <p:xfrm>
          <a:off x="900000" y="536400"/>
          <a:ext cx="7559640" cy="591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36400"/>
                    <a:ext cx="7559640" cy="59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15236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702560" cy="23749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Calibri"/>
              </a:rPr>
              <a:t>Organizován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16.1 Pojem organizová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nagement pod pojmem organizování  chápe vymezení vzájemných vztahů lidí (jednotlivců,skupin ) a prostředků při plnění určitých záměr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Pojem organiz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organizace v smyslu právní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namená určitou skupinu lidí spjatou společným cílem, určitým způsobem uspořádanou, celek právně vymezený s určitou dávkou samostat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organizace chápaná jako míra uspořádání systé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yjadřuje , zda a nakolik všechny prvky systému směřují ke stejnému cíli, zda vzájemné závislosti jsou takové, že dosažení cíle podporují , nebo znesnadňuj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římá spojovací čára 4"/>
          <p:cNvSpPr/>
          <p:nvPr/>
        </p:nvSpPr>
        <p:spPr>
          <a:xfrm flipV="1">
            <a:off x="500040" y="3212640"/>
            <a:ext cx="8207280" cy="7164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431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Základní poj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620640"/>
            <a:ext cx="8229600" cy="5832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entralizac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pravomoc  přenášena na vrcholové vedení organiz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ecentralizac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pravomoc přenášena na nižší stupně organiz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ordinac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je udělení pravomocí jednotlivci pověřeného splnit určitý úk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ělba práce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na výrobě stejného výrobku se podíl řada pracovníků, kteř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sou specializováni na výrobu jednotlivých součás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pecializac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ptimální rozpětí říz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maximální  počet podřízených , které je vedouc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chopen ještě optimálně ří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rganizační pyramida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uspořádání organizace při velkém počtu podřízený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0328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Formální organiz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692280"/>
            <a:ext cx="8229600" cy="59054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Formální stránka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tvoří ji soubor řádů, předpisů, pravidel směrnic, kterými se lidé v dané organizaci řídí a které upravují způsob jejich chov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- konkrétním výrazem uspořádání těchto vztahů je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organizační struk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organizační struktura upravuje všechny mocenské a pracovní  vztahy lidí, jejich funkčnost a útvarové zařazení, pracovní náplně, pravomoci a odpovědnost, postavení, nadřízenost a podříze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rozpracování organizační struktury je zachyceno –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 tzv. základní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rganizačních normách – řád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grafickým znázorněním všech vazeb a formálního uspořádání organiz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tzv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rganizační diagram (organizační schém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měny v organizační struktuře způsobuje – zánik a vznik nových útvarů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nížení stavu zaměstnanců, přechod zaměstnanců na jiné funk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424720" cy="50328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Neformální strán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692280"/>
            <a:ext cx="8435880" cy="54338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Neformální stránka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dána vzájemnými sympatiemi a antipatiemi pracovníků, kamarádstvím, tolerancí, duchem, atmosférou na pracovišti, úctou ke starším pracovníkům, zájmem o druhé lidi, péčí o pracovníky, ovlivňuje formální  strán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má struktury vytvořeny jinak než obecnými, předepsanými normami a řá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á tedy svého přirozeného, neformálního šéf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neformální struktura může působit proti struktuře formální, může snižovat autoritu vedoucích, může negovat rozhodnutí a nařízení vedoucích pracovní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dravé neformální vztahy v organizaci přispívají k dobré pracovní atmosféř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 tím i jejím výkonů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09080" cy="79200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6.2 Základní uspořádání organizační struk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907560"/>
            <a:ext cx="8229600" cy="576108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Strmá struktura – vertikál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je charakteristická především množstvím formálních prvků, vazeb, vztahů nadřízenosti a podřízenosti, množstvím příkazů, nediskutovatelným přijímání rozkazů, vypracovaným systémem sankcí nebo odměn za plnění příkaz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bdélník 3"/>
          <p:cNvSpPr/>
          <p:nvPr/>
        </p:nvSpPr>
        <p:spPr>
          <a:xfrm>
            <a:off x="3276720" y="3141720"/>
            <a:ext cx="259056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edoucí manaž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Obdélník 4"/>
          <p:cNvSpPr/>
          <p:nvPr/>
        </p:nvSpPr>
        <p:spPr>
          <a:xfrm>
            <a:off x="1332000" y="4437000"/>
            <a:ext cx="1562040" cy="5047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</a:rPr>
              <a:t>Účetn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Obdélník 5"/>
          <p:cNvSpPr/>
          <p:nvPr/>
        </p:nvSpPr>
        <p:spPr>
          <a:xfrm>
            <a:off x="1332000" y="5229360"/>
            <a:ext cx="1562040" cy="5032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okladn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Obdélník 6"/>
          <p:cNvSpPr/>
          <p:nvPr/>
        </p:nvSpPr>
        <p:spPr>
          <a:xfrm>
            <a:off x="6012000" y="4437000"/>
            <a:ext cx="1562040" cy="50472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Nákupč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Obdélník 7"/>
          <p:cNvSpPr/>
          <p:nvPr/>
        </p:nvSpPr>
        <p:spPr>
          <a:xfrm>
            <a:off x="6012000" y="5157720"/>
            <a:ext cx="1562040" cy="50328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Hospodá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římá spojovací čára 9"/>
          <p:cNvSpPr/>
          <p:nvPr/>
        </p:nvSpPr>
        <p:spPr>
          <a:xfrm>
            <a:off x="2112840" y="494172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římá spojovací čára 11"/>
          <p:cNvSpPr/>
          <p:nvPr/>
        </p:nvSpPr>
        <p:spPr>
          <a:xfrm>
            <a:off x="6792840" y="49417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římá spojovací čára 31"/>
          <p:cNvSpPr/>
          <p:nvPr/>
        </p:nvSpPr>
        <p:spPr>
          <a:xfrm flipV="1">
            <a:off x="2112840" y="4221000"/>
            <a:ext cx="1116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římá spojovací čára 33"/>
          <p:cNvSpPr/>
          <p:nvPr/>
        </p:nvSpPr>
        <p:spPr>
          <a:xfrm flipV="1">
            <a:off x="6792840" y="4221000"/>
            <a:ext cx="1116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římá spojovací čára 37"/>
          <p:cNvSpPr/>
          <p:nvPr/>
        </p:nvSpPr>
        <p:spPr>
          <a:xfrm>
            <a:off x="2124000" y="4221000"/>
            <a:ext cx="46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římá spojovací čára 41"/>
          <p:cNvSpPr/>
          <p:nvPr/>
        </p:nvSpPr>
        <p:spPr>
          <a:xfrm>
            <a:off x="4572000" y="364500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Obdélník 45"/>
          <p:cNvSpPr/>
          <p:nvPr/>
        </p:nvSpPr>
        <p:spPr>
          <a:xfrm>
            <a:off x="6012000" y="5877000"/>
            <a:ext cx="1562040" cy="504720"/>
          </a:xfrm>
          <a:prstGeom prst="rect">
            <a:avLst/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Skladník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římá spojovací čára 49"/>
          <p:cNvSpPr/>
          <p:nvPr/>
        </p:nvSpPr>
        <p:spPr>
          <a:xfrm>
            <a:off x="6792840" y="5661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římá spojovací čára 17"/>
          <p:cNvSpPr/>
          <p:nvPr/>
        </p:nvSpPr>
        <p:spPr>
          <a:xfrm>
            <a:off x="395280" y="1341360"/>
            <a:ext cx="820908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351640" cy="4334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lochá struktura - horizontál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3640" y="549360"/>
            <a:ext cx="8351640" cy="597528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rcholové funkce řízení  jsou rozděleny na nižší a nižší  složky, které rozhodují s větší znalostí lokality, místních trhů, domácích poměrů, vztahů, využívají větší míry svých neformálních kontaktů, znalostí místní situ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 současné moderní společnosti směřují všechny organizace spíše k větší míře decentralizace spjaté s delegováním pravomocí na místní pobočky, závody, mohou rychleji reagovat na místní změ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bdélník 3"/>
          <p:cNvSpPr/>
          <p:nvPr/>
        </p:nvSpPr>
        <p:spPr>
          <a:xfrm>
            <a:off x="3203640" y="1989000"/>
            <a:ext cx="237636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Vedoucí manaž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Obdélník 4"/>
          <p:cNvSpPr/>
          <p:nvPr/>
        </p:nvSpPr>
        <p:spPr>
          <a:xfrm>
            <a:off x="3708360" y="3860640"/>
            <a:ext cx="1440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Pokladní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Obdélník 9"/>
          <p:cNvSpPr/>
          <p:nvPr/>
        </p:nvSpPr>
        <p:spPr>
          <a:xfrm>
            <a:off x="5292720" y="3860640"/>
            <a:ext cx="1440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Hospodář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Obdélník 10"/>
          <p:cNvSpPr/>
          <p:nvPr/>
        </p:nvSpPr>
        <p:spPr>
          <a:xfrm>
            <a:off x="6875640" y="3860640"/>
            <a:ext cx="144144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Účetní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Obdélník 11"/>
          <p:cNvSpPr/>
          <p:nvPr/>
        </p:nvSpPr>
        <p:spPr>
          <a:xfrm>
            <a:off x="2124000" y="3860640"/>
            <a:ext cx="1440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Skladník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Obdélník 12"/>
          <p:cNvSpPr/>
          <p:nvPr/>
        </p:nvSpPr>
        <p:spPr>
          <a:xfrm>
            <a:off x="539640" y="3860640"/>
            <a:ext cx="1440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Nákupčí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římá spojovací čára 22"/>
          <p:cNvSpPr/>
          <p:nvPr/>
        </p:nvSpPr>
        <p:spPr>
          <a:xfrm>
            <a:off x="4427640" y="3213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římá spojovací čára 24"/>
          <p:cNvSpPr/>
          <p:nvPr/>
        </p:nvSpPr>
        <p:spPr>
          <a:xfrm>
            <a:off x="1187280" y="3573360"/>
            <a:ext cx="640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římá spojovací čára 28"/>
          <p:cNvSpPr/>
          <p:nvPr/>
        </p:nvSpPr>
        <p:spPr>
          <a:xfrm flipV="1">
            <a:off x="7596360" y="34999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římá spojovací čára 30"/>
          <p:cNvSpPr/>
          <p:nvPr/>
        </p:nvSpPr>
        <p:spPr>
          <a:xfrm flipV="1">
            <a:off x="6012000" y="3573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římá spojovací čára 32"/>
          <p:cNvSpPr/>
          <p:nvPr/>
        </p:nvSpPr>
        <p:spPr>
          <a:xfrm flipV="1">
            <a:off x="2843280" y="3573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římá spojovací čára 36"/>
          <p:cNvSpPr/>
          <p:nvPr/>
        </p:nvSpPr>
        <p:spPr>
          <a:xfrm flipV="1">
            <a:off x="1258920" y="3573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římá spojovací čára 44"/>
          <p:cNvSpPr/>
          <p:nvPr/>
        </p:nvSpPr>
        <p:spPr>
          <a:xfrm flipH="1" flipV="1">
            <a:off x="4392360" y="2492280"/>
            <a:ext cx="3492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4:51:48Z</dcterms:created>
  <dc:creator>MiZ</dc:creator>
  <dc:description/>
  <dc:language>en-US</dc:language>
  <cp:lastModifiedBy>Havelka</cp:lastModifiedBy>
  <dcterms:modified xsi:type="dcterms:W3CDTF">2014-02-17T19:37:03Z</dcterms:modified>
  <cp:revision>774</cp:revision>
  <dc:subject/>
  <dc:title>PM 101 – Management I.</dc:title>
</cp:coreProperties>
</file>