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08C-7FF9-4007-A89D-765C49E3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1EC-A10A-40DC-B578-CCB776B6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70F-97CE-49F3-A775-D739F265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891-3F7E-4FEE-AFAC-777EDD59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06B-AC23-4D10-A270-D25480B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1CA-2EC6-446E-98A9-781D10D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5F5-AB37-483C-8ADA-77FFFC58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018-F1EF-462C-89AD-57C4E8B1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C5A-8AD5-4A44-AF1D-5321AF40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FAB-B188-4D67-9580-67986CED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4A3-749D-408E-BAB2-4C30E0E4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34B-8383-40C9-944F-8A706DA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3D9F-39EE-40D5-9A0E-48B4833198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07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4788000" y="5661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7e0e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dd7e0e"/>
                </a:solidFill>
                <a:latin typeface="Calibri"/>
              </a:rPr>
              <a:t>Hledisko kvality výrobku z pohledu marketin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 hlediska marketingu považujeme výrobek z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lit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h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stliže jej tak  vnímá zákazník :                                         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“Kvalita je to, co zákazník říká, že je kvalitní“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azníci pod kvalitou rozumí : - snadná dostupnost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dnoduché ovlád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ůvěryhodná znač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ožnosti serv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ladní ekonomický parametr jakosti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„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vropský standard jak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řad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SO 9OOO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777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dd7e0e"/>
                </a:solidFill>
                <a:latin typeface="Calibri"/>
              </a:rPr>
              <a:t>Program „Česká kvalita“ – „Program CzQ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gram podpory prodeje kvalitních výrobků a poskyt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valitních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ílem je vytvořit jednotný systém umožňující zviditel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věryhodné a nezávislé značky kv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ladním principem je umožnit, aby se na trhu objevi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bovolné množství  značek kvality různých cechů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ečen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tyto značky musí splňovat jednu zásadní podmí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kvalitní ukazatele ověřené třetí, nezávislou str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5 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u některých výrobků jejich nedílnou součá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ží k ochraně výrobku a napomáhá jeho prode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znam obalu pro kupující – „Oči kupuj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ruhy obalů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spotřebitelsk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anipulační ( průmyslový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ákladní funkce ob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ochranná ( poškození, zničení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pagační ( upoutání pozornosti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informační ( charakteristika výrobku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ozlišovací ( rozlišení dle obalu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anipulační ( dobrá uchopitelno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nipulac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kologická ( ekologické požada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 obal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6 Značka výrob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ázev, znak, symbol, termín nebo kombinace těchto prvků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jichž účel spočívá v identifikaci výrobku nebo služ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označením, pod kterým se výrobek nebo služba prodá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lišuje výrobek od podobných výrobků na trhu –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a značky je tím vyšší, čím větší je povědomí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 výrobku nebo služb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Značka by měla bý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nadno zapamatovatelná, vyslovitelná, krátká a neměla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dvojsmysl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ěla by mít odlišovací schopnost tvarem, barvou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riginalit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13600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Vlastnosti znač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00" y="765000"/>
            <a:ext cx="8156520" cy="5832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6000"/>
          </a:bodyPr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iferenciace – jedinečná, odlišovat se od konkurenč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levantnost – význam pro kupují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estiž – závislá na kvalitě nebo oblib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nalost – zavedená, neměnící se, vyjadřuje stálost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Druhy značek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ílem značky je vytvořit pozitivní vztah mezi ní a kupujíc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ěrní zákazníci jsou pro firmu velkým přínosem, proto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sou stabilním potenciálem příštího náku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y proto prodávají širokou škálu svých výrobků p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u, nejčastěji firemní značk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pakem věrného zákazníka je zákazník, který s oblib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řídá značky, má rád změnu a hledá něco nové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561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ruhy značek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Kmenová značk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firma jednou značkou pokrývá mno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ků (Adidas, Philip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Individuální značk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každý výrobek má vlastní individuál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čku (Jar, Palmex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načka výrob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ýrobek se v obchodě prodává pod označe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ce (Olma, Vodňanské kuře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načka obchodu - privát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ýrobek se v obchodě prodává p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zvem, který si určuje maloobc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Clever, Billa…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49032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7 Ochranná znám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764640"/>
            <a:ext cx="8496000" cy="5759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jakékoliv označení, které je způsobilé odlišit výrobky nebo služby jednoho subjektu od výrobku nebo služeb jiného sub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registrovaná značka s právní ochran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Ochranou známkou muže být jakékoliv označení schopn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grafického znázornění – slova, barvy, kresby, písmena, čísli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var výrobku nebo jeho ob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ákon č.441/2003 S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chranná známka může být slovní, obrazová, kombinovaná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ojrozměr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chranou známkou nemůže být – nemá rozlišovací způsobil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může být graficky znázorněna, je klamná, odporuje veřejnému pořádku a dobrým mravům, jsou v rozporu se závazky z mezinárodních smluv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dd7e0e"/>
              </a:buClr>
              <a:buFont typeface="Wingdings" charset="2"/>
              <a:buChar char=""/>
              <a:tabLst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Funkce ochranné známk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765000"/>
            <a:ext cx="822960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ozlišov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chranná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onopolizač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pagač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Druhy registrace ochranné známk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árodní – probíhá v určité z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ezinárodní – probíhá na celé světě prostřednictv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„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inárodního úřadu pro duševní vlastnosti v Ženevě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nijní – známka je registrovaná v Evropské un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09080" cy="503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Národní registrace v České republic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052280"/>
            <a:ext cx="8229600" cy="5073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řešena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formou zápisu do rejstříku ochranných známek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deného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Úřadem průmyslového vlastnic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áním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přihlášky ochranné zám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niká přihlašova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právo před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hláška musí obsahovat přesné vymezení výrobku a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Ochranná doba zápisu je 10 le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 podání přihláš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jitel prokazuje svá práva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osvědčením o zápisu ochranné znám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nebo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výpisem z rejstříku ochranných znám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jitel ochranné známky může poskytnout své právo jiný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rávněným osobám (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icen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)nebo je na ně převé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9780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Zánik ochranné znám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836640"/>
            <a:ext cx="8424720" cy="5361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mazem známky z rejstříku ochranných známek,provede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řadem průmyslového vlastnictv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plynutím doby platnosti regist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nikem právní subjektivity majitele, pokud právo ke znám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bylo převedeno či nepřešlo na nového majite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8 Vývoj výrob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5280" y="1052280"/>
            <a:ext cx="8229600" cy="5545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7e0e"/>
                </a:solidFill>
                <a:latin typeface="Calibri"/>
              </a:rPr>
              <a:t>Proces vývoje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. Výběr námět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pady, námě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odnikatelská analýz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ákladů na vývoj, výrobu, předpokládaný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prodej a z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voj výrobk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v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totyp, testy funkč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estování na trh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kouška úspěš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ýrob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vní fáze v životnosti výrob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684360" y="1773360"/>
            <a:ext cx="914400" cy="50328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4"/>
          <p:cNvSpPr/>
          <p:nvPr/>
        </p:nvSpPr>
        <p:spPr>
          <a:xfrm>
            <a:off x="2268360" y="1773360"/>
            <a:ext cx="935280" cy="50328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5"/>
          <p:cNvSpPr/>
          <p:nvPr/>
        </p:nvSpPr>
        <p:spPr>
          <a:xfrm>
            <a:off x="3995640" y="1773360"/>
            <a:ext cx="914400" cy="50328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6"/>
          <p:cNvSpPr/>
          <p:nvPr/>
        </p:nvSpPr>
        <p:spPr>
          <a:xfrm>
            <a:off x="5724360" y="1773360"/>
            <a:ext cx="914400" cy="50328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7"/>
          <p:cNvSpPr/>
          <p:nvPr/>
        </p:nvSpPr>
        <p:spPr>
          <a:xfrm>
            <a:off x="7451640" y="1773360"/>
            <a:ext cx="914400" cy="50328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Přímá spojovací šipka 9"/>
          <p:cNvCxnSpPr>
            <a:stCxn id="95" idx="3"/>
            <a:endCxn id="96" idx="1"/>
          </p:cNvCxnSpPr>
          <p:nvPr/>
        </p:nvCxnSpPr>
        <p:spPr>
          <a:xfrm>
            <a:off x="1598760" y="2023560"/>
            <a:ext cx="670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Přímá spojovací šipka 14"/>
          <p:cNvCxnSpPr>
            <a:stCxn id="96" idx="3"/>
            <a:endCxn id="97" idx="1"/>
          </p:cNvCxnSpPr>
          <p:nvPr/>
        </p:nvCxnSpPr>
        <p:spPr>
          <a:xfrm>
            <a:off x="3203640" y="2023560"/>
            <a:ext cx="792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Přímá spojovací šipka 16"/>
          <p:cNvCxnSpPr/>
          <p:nvPr/>
        </p:nvCxnSpPr>
        <p:spPr>
          <a:xfrm>
            <a:off x="4859280" y="2060280"/>
            <a:ext cx="8150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Přímá spojovací šipka 18"/>
          <p:cNvCxnSpPr>
            <a:stCxn id="98" idx="3"/>
            <a:endCxn id="99" idx="1"/>
          </p:cNvCxnSpPr>
          <p:nvPr/>
        </p:nvCxnSpPr>
        <p:spPr>
          <a:xfrm>
            <a:off x="6638760" y="2023560"/>
            <a:ext cx="813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7920000" cy="49032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9 Životní cyklus výrob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764640"/>
            <a:ext cx="7905600" cy="568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7e0e"/>
                </a:solidFill>
                <a:latin typeface="Calibri"/>
              </a:rPr>
              <a:t>Fáze životního cyklu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fáze        2. fáz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 fáze        4. fá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cs-C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azníky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cs-C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ídní p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cs-C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vězdy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cs-C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jné krá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tup konku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římá spojovací čára 4"/>
          <p:cNvSpPr/>
          <p:nvPr/>
        </p:nvSpPr>
        <p:spPr>
          <a:xfrm>
            <a:off x="1763640" y="206064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7"/>
          <p:cNvSpPr/>
          <p:nvPr/>
        </p:nvSpPr>
        <p:spPr>
          <a:xfrm>
            <a:off x="1763640" y="5445000"/>
            <a:ext cx="55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římá spojovací čára 9"/>
          <p:cNvSpPr/>
          <p:nvPr/>
        </p:nvSpPr>
        <p:spPr>
          <a:xfrm>
            <a:off x="2916360" y="2205000"/>
            <a:ext cx="0" cy="331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římá spojovací čára 11"/>
          <p:cNvSpPr/>
          <p:nvPr/>
        </p:nvSpPr>
        <p:spPr>
          <a:xfrm>
            <a:off x="4572000" y="2133720"/>
            <a:ext cx="0" cy="33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římá spojovací čára 15"/>
          <p:cNvSpPr/>
          <p:nvPr/>
        </p:nvSpPr>
        <p:spPr>
          <a:xfrm>
            <a:off x="6156360" y="206064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7"/>
          <p:cNvSpPr/>
          <p:nvPr/>
        </p:nvSpPr>
        <p:spPr>
          <a:xfrm flipV="1">
            <a:off x="7308720" y="1989000"/>
            <a:ext cx="0" cy="34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Přímá spojovací šipka 20"/>
          <p:cNvCxnSpPr/>
          <p:nvPr/>
        </p:nvCxnSpPr>
        <p:spPr>
          <a:xfrm>
            <a:off x="5724000" y="5732280"/>
            <a:ext cx="864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Přímá spojovací šipka 22"/>
          <p:cNvCxnSpPr/>
          <p:nvPr/>
        </p:nvCxnSpPr>
        <p:spPr>
          <a:xfrm flipV="1">
            <a:off x="1476000" y="2707920"/>
            <a:ext cx="1080" cy="100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Obdélník 28"/>
          <p:cNvSpPr/>
          <p:nvPr/>
        </p:nvSpPr>
        <p:spPr>
          <a:xfrm>
            <a:off x="1908000" y="2060640"/>
            <a:ext cx="91440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dení výrob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délník 29"/>
          <p:cNvSpPr/>
          <p:nvPr/>
        </p:nvSpPr>
        <p:spPr>
          <a:xfrm>
            <a:off x="3276720" y="2060640"/>
            <a:ext cx="914400" cy="914400"/>
          </a:xfrm>
          <a:prstGeom prst="rect">
            <a:avLst/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ůst výrob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délník 30"/>
          <p:cNvSpPr/>
          <p:nvPr/>
        </p:nvSpPr>
        <p:spPr>
          <a:xfrm>
            <a:off x="4859280" y="2060640"/>
            <a:ext cx="914400" cy="914400"/>
          </a:xfrm>
          <a:prstGeom prst="rect">
            <a:avLst/>
          </a:prstGeom>
          <a:gradFill rotWithShape="0">
            <a:gsLst>
              <a:gs pos="0">
                <a:srgbClr val="ffbbd0"/>
              </a:gs>
              <a:gs pos="100000">
                <a:srgbClr val="ffebf1"/>
              </a:gs>
            </a:gsLst>
            <a:lin ang="16200000"/>
          </a:gradFill>
          <a:ln w="9360">
            <a:solidFill>
              <a:srgbClr val="cd8da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ralost výrob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31"/>
          <p:cNvSpPr/>
          <p:nvPr/>
        </p:nvSpPr>
        <p:spPr>
          <a:xfrm>
            <a:off x="6300720" y="2060640"/>
            <a:ext cx="914400" cy="914400"/>
          </a:xfrm>
          <a:prstGeom prst="rect">
            <a:avLst/>
          </a:prstGeom>
          <a:gradFill rotWithShape="0">
            <a:gsLst>
              <a:gs pos="0">
                <a:srgbClr val="b6d2fa"/>
              </a:gs>
              <a:gs pos="100000">
                <a:srgbClr val="eaf2fe"/>
              </a:gs>
            </a:gsLst>
            <a:lin ang="16200000"/>
          </a:gra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padek výrob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louk 40"/>
          <p:cNvSpPr/>
          <p:nvPr/>
        </p:nvSpPr>
        <p:spPr>
          <a:xfrm rot="18612600">
            <a:off x="1521720" y="3184920"/>
            <a:ext cx="5884920" cy="5302080"/>
          </a:xfrm>
          <a:custGeom>
            <a:avLst/>
            <a:gdLst/>
            <a:ahLst/>
            <a:rect l="l" t="t" r="r" b="b"/>
            <a:pathLst>
              <a:path stroke="0" w="5884862" h="5302250">
                <a:moveTo>
                  <a:pt x="1657770" y="266023"/>
                </a:moveTo>
                <a:cubicBezTo>
                  <a:pt x="2790353" y="-229199"/>
                  <a:pt x="4147130" y="-20369"/>
                  <a:pt x="5033021" y="785529"/>
                </a:cubicBezTo>
                <a:cubicBezTo>
                  <a:pt x="6070580" y="1729399"/>
                  <a:pt x="6172600" y="3219441"/>
                  <a:pt x="5271668" y="4271057"/>
                </a:cubicBezTo>
                <a:lnTo>
                  <a:pt x="2942431" y="2651125"/>
                </a:lnTo>
                <a:lnTo>
                  <a:pt x="1657770" y="266023"/>
                </a:lnTo>
                <a:close/>
              </a:path>
              <a:path fill="none" w="5884862" h="5302250">
                <a:moveTo>
                  <a:pt x="1657770" y="266023"/>
                </a:moveTo>
                <a:cubicBezTo>
                  <a:pt x="2790353" y="-229199"/>
                  <a:pt x="4147130" y="-20369"/>
                  <a:pt x="5033021" y="785529"/>
                </a:cubicBezTo>
                <a:cubicBezTo>
                  <a:pt x="6070580" y="1729399"/>
                  <a:pt x="6172600" y="3219441"/>
                  <a:pt x="5271668" y="4271057"/>
                </a:cubicBezTo>
              </a:path>
            </a:pathLst>
          </a:custGeom>
          <a:noFill/>
          <a:ln w="38160">
            <a:solidFill>
              <a:srgbClr val="f3a447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Vývojový diagram: spojka 16"/>
          <p:cNvSpPr/>
          <p:nvPr/>
        </p:nvSpPr>
        <p:spPr>
          <a:xfrm>
            <a:off x="2771640" y="3500280"/>
            <a:ext cx="360360" cy="289080"/>
          </a:xfrm>
          <a:prstGeom prst="flowChartConnector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Přímá spojovací šipka 19"/>
          <p:cNvCxnSpPr>
            <a:stCxn id="119" idx="5"/>
          </p:cNvCxnSpPr>
          <p:nvPr/>
        </p:nvCxnSpPr>
        <p:spPr>
          <a:xfrm>
            <a:off x="3079440" y="3746160"/>
            <a:ext cx="268920" cy="546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777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dd7e0e"/>
                </a:solidFill>
                <a:latin typeface="Calibri"/>
              </a:rPr>
              <a:t>Čtyři základní fáze životního cyklu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280"/>
            <a:ext cx="8642160" cy="5545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1.fáz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robek je novinkou, je neznámý, poptávka je velmi nízká, příjm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z prodeje jsou malé a zisk téměř žádný, zákazníci, kteří jej kupuj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tzv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ová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2.fáz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dejci i zákazníci již mají o novém výrobku dostatečné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množství informací, roste poptávka, prodeja výnosy, objevuje 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kurence, nutná inovace výrobku, výrobek nakupují tzv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svojitel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3.fáz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ptávka je na maxim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oké zisky, konkurence je také velm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ilná, výrobek kupují téměř všichni zákazníci tzv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upující větš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4.fáz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výrobek je na sestupu, poptávka klesá, snižují se zisky, dochází k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levám a výprodeji, firma musí rozpoznat okamžik, kdy výrob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áhnout z trhu, firma musí přijít s inovovaným, nebo úplně nový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robk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58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268776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93540a"/>
                </a:solidFill>
                <a:latin typeface="Calibri"/>
              </a:rPr>
              <a:t>Výrobe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56196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1 Charakteristika a členění výrob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836640"/>
            <a:ext cx="8642160" cy="6021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dd7e0e"/>
                </a:solidFill>
                <a:uFillTx/>
                <a:latin typeface="Calibri"/>
              </a:rPr>
              <a:t>Pojem výrobek ( produk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cokoli, co lze nabídnout na trhu k upoutání pozornost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e koupi, k použití nebo spotřebě, co může uspokojit touh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ání nebo potřeby ( fyzické předměty, služby, osoby, mí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rganizace a myšlen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dd7e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dd7e0e"/>
                </a:solidFill>
                <a:uFillTx/>
                <a:latin typeface="Calibri"/>
              </a:rPr>
              <a:t>Členění výrob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) výrobky krátkodobé spotřeby ( potraviny, palivo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) výrobky dlouhodobé spotřeby ( auto, pračka, počítač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) kapitálové statky ( průmyslové stroje, surovin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) spotřební zboží ( kolo, oblečení, potravin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3"/>
          <p:cNvSpPr/>
          <p:nvPr/>
        </p:nvSpPr>
        <p:spPr>
          <a:xfrm>
            <a:off x="3492360" y="5516640"/>
            <a:ext cx="2303640" cy="43344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třební zbož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délník 5"/>
          <p:cNvSpPr/>
          <p:nvPr/>
        </p:nvSpPr>
        <p:spPr>
          <a:xfrm>
            <a:off x="6227640" y="6237360"/>
            <a:ext cx="2592360" cy="43164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boží speciální potře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délník 6"/>
          <p:cNvSpPr/>
          <p:nvPr/>
        </p:nvSpPr>
        <p:spPr>
          <a:xfrm>
            <a:off x="3203640" y="6237360"/>
            <a:ext cx="2881080" cy="43164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boží příležitostné potře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bdélník 7"/>
          <p:cNvSpPr/>
          <p:nvPr/>
        </p:nvSpPr>
        <p:spPr>
          <a:xfrm>
            <a:off x="468360" y="6237360"/>
            <a:ext cx="2303280" cy="431640"/>
          </a:xfrm>
          <a:prstGeom prst="rect">
            <a:avLst/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boží základní potře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římá spojovací čára 9"/>
          <p:cNvSpPr/>
          <p:nvPr/>
        </p:nvSpPr>
        <p:spPr>
          <a:xfrm>
            <a:off x="4643280" y="595008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římá spojovací čára 11"/>
          <p:cNvSpPr/>
          <p:nvPr/>
        </p:nvSpPr>
        <p:spPr>
          <a:xfrm flipV="1">
            <a:off x="1619280" y="6092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římá spojovací čára 13"/>
          <p:cNvSpPr/>
          <p:nvPr/>
        </p:nvSpPr>
        <p:spPr>
          <a:xfrm flipV="1">
            <a:off x="7524720" y="6092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římá spojovací čára 15"/>
          <p:cNvSpPr/>
          <p:nvPr/>
        </p:nvSpPr>
        <p:spPr>
          <a:xfrm>
            <a:off x="1619280" y="6093000"/>
            <a:ext cx="5905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členění spotřebního zbož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boží základní potře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boží denní potřeby – nakupované pravidelně, každoden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boží impulzivní potřeby – nakupované spontán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boží neočekávané potřeby – nakupované v případě nou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hodující není cena, ale rychlá dosažitel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boží příležitostné potře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plánovaný nákup, nákup ovlivňuje cena, kva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boží speciální potře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robky špičkové kvality, cena a dosažitelnost zde nehrají r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09080" cy="561960"/>
          </a:xfrm>
          <a:prstGeom prst="rect">
            <a:avLst/>
          </a:prstGeom>
          <a:solidFill>
            <a:srgbClr val="ccd8e7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2 Výrobní a obchodní sort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836640"/>
            <a:ext cx="822960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ýrobní sortimen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stavuje soubor výrobků produkovaných určitou firm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Obchodní sortimen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rnuje všechno zboží, které vchází do oběhu – obch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ní stálý, probíhají v něm změny dvojího druh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vojové – inovace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zonní – časová výkyvy v poptáv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ortimen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popisuje šíři nabídky poskytnuté zákazníků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rámci kategorie zboží nebo mezi 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íře sortiment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počet skupin výrob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Hloubka sortiment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počet výrobků ve výrobní řad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64360" cy="57456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3 Identifikace zbož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07560"/>
            <a:ext cx="807552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e o pohybu a stavu zboží mezi výrobou a spotřeb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čárový kód – tzv. 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stavuje soubor kontrastujících čar a mezer s různ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ou uspořádaných kolmo k pomyslné vodorovné čá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doplněn souborem číslic a dalších pomocných zna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počtu 13 nebo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truktura EAN kó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3 čísla pro označení země pův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4 čísla identifikující výrobní pod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5 čísel pro označení výro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1 poslední číslo je kontrol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252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yužití čárového kód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lvl="3" marL="16002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identifikace zbož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vidence prod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bjednávka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akturace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inventarizace zásob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ntrola expedice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ntrola zásob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nímání kód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can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laserová pist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38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čtecí tuž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503280"/>
          </a:xfrm>
          <a:prstGeom prst="rect">
            <a:avLst/>
          </a:prstGeom>
          <a:solidFill>
            <a:srgbClr val="b3c5da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4 Komplexní výrob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 chápe výrobek komplexně, zabývá se vším, c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výrobkem nějakým způsobem souvis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 Jád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stavuje základ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nos produktu je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třebi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 Vlastní vý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bal, funkč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valita, značka,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 Rozšířený vý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ruka, instalace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servis, úvěr/lea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lipsa 3"/>
          <p:cNvSpPr/>
          <p:nvPr/>
        </p:nvSpPr>
        <p:spPr>
          <a:xfrm>
            <a:off x="324000" y="2421000"/>
            <a:ext cx="4895640" cy="3240000"/>
          </a:xfrm>
          <a:prstGeom prst="ellips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611280" y="3141720"/>
            <a:ext cx="3384360" cy="1511280"/>
          </a:xfrm>
          <a:prstGeom prst="ellipse">
            <a:avLst/>
          </a:prstGeom>
          <a:solidFill>
            <a:srgbClr val="f3a447"/>
          </a:solidFill>
          <a:ln w="25560">
            <a:solidFill>
              <a:srgbClr val="b37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2         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ipsa 7"/>
          <p:cNvSpPr/>
          <p:nvPr/>
        </p:nvSpPr>
        <p:spPr>
          <a:xfrm>
            <a:off x="971640" y="3429000"/>
            <a:ext cx="1439640" cy="936720"/>
          </a:xfrm>
          <a:prstGeom prst="ellipse">
            <a:avLst/>
          </a:prstGeom>
          <a:gradFill rotWithShape="0">
            <a:gsLst>
              <a:gs pos="0">
                <a:srgbClr val="b6d2fa"/>
              </a:gs>
              <a:gs pos="100000">
                <a:srgbClr val="eaf2fe"/>
              </a:gs>
            </a:gsLst>
            <a:lin ang="16200000"/>
          </a:gra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2-03T10:18:24Z</dcterms:modified>
  <cp:revision>73</cp:revision>
  <dc:subject/>
  <dc:title>7</dc:title>
</cp:coreProperties>
</file>