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BC0-14AB-4B92-B0C5-929FBB72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BEE-C1E7-476C-B2B1-618CE9B8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A42-F35A-4BF6-9071-3E7BC3DA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E3F-A5DC-4D37-A4ED-DFFB21C1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81E-51F6-4558-B931-83B2305E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888-0E38-4E30-8F1E-F1AED48D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93D-9165-4748-AF24-1943D7C9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E50-83A4-42E7-94BD-7D33EE75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82F-CA43-46E5-9C19-61DD379D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E19-766C-44BB-B546-DCE76056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8E0-191E-40CF-87C5-B577B02A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96D-5BED-415D-96FA-42EDBCF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F207-3FC6-4E22-B48D-643B5D9754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rizový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20_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292720" y="55897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4176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Zánik podnik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691920"/>
            <a:ext cx="8229600" cy="60498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působy zániku podnik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ormou slučování podni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dělením podnik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provádí se v průběhu existence podniku a je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innost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bankrot, definitivní zánik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proces postupné ztráty výkonnosti, úpad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bo kr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tomuto konci je možné a nutné předcházet určitou formou tzv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iziko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litiky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případě projevů tendencí k úpadku pak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sazením krizov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anagemen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ucený správ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 jmenován nadřízeným orgánem (případně soudem) v okamžiku, kdy právě dotyčný orgán usoudí, že ekonomické nebo jiné parametry čin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bo nečinnosti podniku jsou natolik závažné, že je třeba dosavadní management okamžitě zbavit řídící funkce, moci se ujímá jmenovan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rávce, jehož úkolem je konsolidace (zajištění) dotyčné organiz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640720" cy="50472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0.2 Řízení riz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620640"/>
            <a:ext cx="8640720" cy="61214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ý podnik by měl mí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voji rizikovou politik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včetně ex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činnosti managementu řízení rizi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ato politika by měla sloužit především k rychlé identifikaci vzniklého rizika a jeho příčin a k jeho následnému odstran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evším zohlednění rizik investic je velmi důlež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Rozhodovací kritéria pro jednotlivá rizika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dentifikovatelnost rizik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možnost určit a definovat příčiny šk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vantifikovanost riz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ka (možná výše škod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ijatelnost pro pojistitel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poměr mezi příjmem a pojistný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nění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ahodilost rizik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pravděpodobnost, že dojde v daném obdob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jištění ke škod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římá spojovací čára 4"/>
          <p:cNvSpPr/>
          <p:nvPr/>
        </p:nvSpPr>
        <p:spPr>
          <a:xfrm>
            <a:off x="179280" y="3681360"/>
            <a:ext cx="864072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504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Varianty krize, krizového vývo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620280"/>
            <a:ext cx="8207280" cy="6048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rizová událost náhl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čekaný a rychlý průběh stav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žár, povodeň, výbu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rizová událost pozvol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rizové faktory narůstají postupně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zvolný odchod kvalifikovaných pracovníků, postupn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tráta trhů, postupné snižování odběratelského segmen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Vývojové fáze krizového jev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edkrizové (skryté) stádium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arovné stád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akutní stád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tádium blokace kr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tádium obno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kolem krizového managementu je rozpoznávat jednotlivé fáze krizové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voje, zavádět opatření, která by možné škody eliminovala nebo zmírni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římá spojovací čára 4"/>
          <p:cNvSpPr/>
          <p:nvPr/>
        </p:nvSpPr>
        <p:spPr>
          <a:xfrm>
            <a:off x="468360" y="3068640"/>
            <a:ext cx="820728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0.3 Krizový management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obvyklé, že v podniku je tzv.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rizový manažer, útvar krizového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Hlavní fáze – činnosti krizového management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áze analytick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ermanentní monitoring podni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identifikace hroz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identifikace a kvantifikace rizik pro standardní činnost podni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yntetická fáz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konstrukce možných krizových jevů a udál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ytváření souborů opatření k řeš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ajištění zdrojů k řešení a eliminaci riz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tanovení možn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římá spojovací čára 6"/>
          <p:cNvSpPr/>
          <p:nvPr/>
        </p:nvSpPr>
        <p:spPr>
          <a:xfrm>
            <a:off x="468360" y="2492280"/>
            <a:ext cx="820728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4903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áze identifikace nastalého krizového jev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lastní krizové řízení při řešení kr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ytvoření a zahájení činnosti krizového štá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rozhodnutí o souboru souboru opat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realizace protikrizových opat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onitoring zdroj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jištění a řešení důsledků pro podn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vorba souboru poznatků a zkušeností z dosavadního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    krizového řešení a vytvoření nového krizového plánu pro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další období jejich zužitková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žná identifikace rizi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erušení dodávek surovin, zrušení významného odběratele, zruš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ch objednávek, nárůst dlužníků, absence pracovních sil, přírod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tastrofy, stávková činnost, rozkolísání kurzů měn, zhoršená politická situ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oblasti strategických zájm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C.ING.VEBER.CSC., Jaromír a kol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nagement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druhé vydání. Praha: Fortuna, 2003, 136. ISBN 80-7168-654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.ZLÁMAL,PHDR., Jaroslav; ING.BC.BAČÍK,PHD, Petr; ING.BELLOVÁ,PHD, Jan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nagement - Základy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Kralice na Hané, Hrubčická 495: Computr Media s.r.o., 2011, 104. ISBN 978-80-7402-083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15236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702560" cy="23749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Krizový manage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c3d69b"/>
          </a:solidFill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0.1 Úpadek, sankce a zánik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solidFill>
            <a:srgbClr val="d7e4bd"/>
          </a:solidFill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nikání nemusí být vždy pouze úspěš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sním spjato i riziko úpadku, bankrotu a zániku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asto bývá úpadek velmi rychlý, daleko častější je však postupný úpadek probíhající v několika fáz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Fáze úpadku podnik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lesá objem výro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lesá rentabil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jevuje se zvýšená potřeba pracovního kapitá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číná se projevovat 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římá spojovací čára 4"/>
          <p:cNvSpPr/>
          <p:nvPr/>
        </p:nvSpPr>
        <p:spPr>
          <a:xfrm>
            <a:off x="468360" y="4076640"/>
            <a:ext cx="820728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09080" cy="6332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Příčiny úpadku podnik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4920" y="907560"/>
            <a:ext cx="8209080" cy="54738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kud podnik dosáhne trvalé platební neschopnosti a n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chopen uspokojovat pohledávky věřitelů, je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vinen sám požádat obchodní soud o prohlášení konkur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pokud tak dříve neučiní věřitel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ruhy příčiny úpadku podnik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- inter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sou způsobeny chybami při řízení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hyby v řízení, nezkušený, neinformovaný manaž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hyby při jednání a v komunikaci se zákazní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hyby při jednání s dodavateli, peněžními instituc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špatně prováděný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pecializace – přílišná závislost na vybraném segmentu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4176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- exter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často se nedají ovliv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691920"/>
            <a:ext cx="8229600" cy="53607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měna legislativy (změna zákonů, vyhlášek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litické vlivy (rozhodnutí struktur EU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inanční a měnová situace státu (změna úrokových sazeb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áze hospodářského cyklu (recese, krize ekonomiky státu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504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0" lang="cs-CZ" sz="2400" spc="-1" strike="noStrike" u="sng">
                <a:solidFill>
                  <a:srgbClr val="c00000"/>
                </a:solidFill>
                <a:uFillTx/>
                <a:latin typeface="Calibri"/>
              </a:rPr>
              <a:t>Sanace podnik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soubor opatření,která podniká vlastník nebo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 ozdravění a obnově výkonnosti, rentability a produktiv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anační opatření se liší z hlediska strategického či z hledi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ubjektu provád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anace z hlediska rozsah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ýro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úžení výrobního sortimen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nížení části výrobních kapac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mezení málo ziskových výr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výšení kvality výrobku a zapojení dodatkových služ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lepšení technologie,inovace výrob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úspora energie a strategických surov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výšení produktivity, výkonnosti a intenzity prá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3585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rod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26560" y="549000"/>
            <a:ext cx="7859880" cy="6119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ové formy prode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rozšíření segmentu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cenová opatření-ceny,bonu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ová reklama, propag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další servisní služ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školení prodejc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ersonální opatř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ýměna managemen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měna organizační strukt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avedení nových motivačních stimu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inanční opatř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ísnější pravidla na čerpání finančních prostřed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výšená hospodár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úspora určitých výdajových polož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1640" cy="576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c00000"/>
                </a:solidFill>
                <a:latin typeface="Calibri"/>
              </a:rPr>
              <a:t>Proces sanace podnik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3640" y="765000"/>
            <a:ext cx="8373960" cy="5904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anací podniku se často dosáhne obnovy výkon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nastartován proces,který může vést k budoucí prosperi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entebilit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                      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konnost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padek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růst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dniku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an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obnova růs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etrvač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likvid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1. počínající období úpad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2. kritické období sanačních pat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3. fáze otoč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římá spojovací čára 4"/>
          <p:cNvSpPr/>
          <p:nvPr/>
        </p:nvSpPr>
        <p:spPr>
          <a:xfrm>
            <a:off x="2340000" y="1916280"/>
            <a:ext cx="0" cy="316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římá spojovací čára 7"/>
          <p:cNvSpPr/>
          <p:nvPr/>
        </p:nvSpPr>
        <p:spPr>
          <a:xfrm>
            <a:off x="2340000" y="5084640"/>
            <a:ext cx="4319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římá spojovací čára 11"/>
          <p:cNvSpPr/>
          <p:nvPr/>
        </p:nvSpPr>
        <p:spPr>
          <a:xfrm>
            <a:off x="2916360" y="3573360"/>
            <a:ext cx="3311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římá spojovací čára 13"/>
          <p:cNvSpPr/>
          <p:nvPr/>
        </p:nvSpPr>
        <p:spPr>
          <a:xfrm>
            <a:off x="2556000" y="1989000"/>
            <a:ext cx="936360" cy="21607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římá spojovací čára 15"/>
          <p:cNvSpPr/>
          <p:nvPr/>
        </p:nvSpPr>
        <p:spPr>
          <a:xfrm>
            <a:off x="3492360" y="4149720"/>
            <a:ext cx="2016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Přímá spojovací šipka 17"/>
          <p:cNvCxnSpPr/>
          <p:nvPr/>
        </p:nvCxnSpPr>
        <p:spPr>
          <a:xfrm flipV="1">
            <a:off x="5508720" y="1989000"/>
            <a:ext cx="1080000" cy="2161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Přímá spojovací čára 22"/>
          <p:cNvSpPr/>
          <p:nvPr/>
        </p:nvSpPr>
        <p:spPr>
          <a:xfrm>
            <a:off x="3708360" y="3357720"/>
            <a:ext cx="1368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Přímá spojovací šipka 31"/>
          <p:cNvCxnSpPr/>
          <p:nvPr/>
        </p:nvCxnSpPr>
        <p:spPr>
          <a:xfrm>
            <a:off x="5508360" y="4149720"/>
            <a:ext cx="935640" cy="5752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71" name="Přímá spojovací šipka 35"/>
          <p:cNvCxnSpPr/>
          <p:nvPr/>
        </p:nvCxnSpPr>
        <p:spPr>
          <a:xfrm flipV="1">
            <a:off x="5076720" y="3141360"/>
            <a:ext cx="21672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1-01T20:26:56Z</dcterms:modified>
  <cp:revision>43</cp:revision>
  <dc:subject/>
  <dc:title>9</dc:title>
</cp:coreProperties>
</file>