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D8020-4670-449C-8894-1DF9A80C775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543D9-3B20-4D98-A88E-608A7A680AB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B7A3-475F-468C-80A9-E3FA5B864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28F3-2EFF-4BDA-A400-BFE968EB1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8A0B-DC49-4586-96EF-751EBA4E0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9570-819F-4523-BB48-FBD47C36C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181E-7777-4805-86F2-E5B5F5F37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6207-6F4C-480F-9A9D-D27992871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4BA9-DAA5-48B6-A66A-3D8F86186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465C-AE78-4E3C-A9E5-BB85C5B78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CD76-C5CA-4EBE-9358-6F894FC69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7AFC-08FC-4271-9929-F892E8BC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0DD6-3EEA-4298-BF86-ABCFE878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8C05-0056-4280-974A-B345DBE8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556EA-C92E-44A3-8A54-AC2955150AD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306864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arketingové říz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ázek 3" descr=""/>
          <p:cNvPicPr/>
          <p:nvPr/>
        </p:nvPicPr>
        <p:blipFill>
          <a:blip r:embed="rId1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50" name="TextovéPole 4"/>
          <p:cNvSpPr/>
          <p:nvPr/>
        </p:nvSpPr>
        <p:spPr>
          <a:xfrm>
            <a:off x="2195640" y="263700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Y_32_INOVACE_104_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ovéPole 5"/>
          <p:cNvSpPr/>
          <p:nvPr/>
        </p:nvSpPr>
        <p:spPr>
          <a:xfrm>
            <a:off x="5003640" y="5589720"/>
            <a:ext cx="37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Autor: Ing. Vladimír Havel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07280" cy="64764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Struktura marketingového plán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Úvod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tručné shrnutí stanovených cíl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Zjištění současné marketingové situace a situace na trh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základní údaje o marketingovém prostřed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Cíle a problémy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ychází z předcházejícího hodnoce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Marketingové strategie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definování marketingové strateg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Programy činnosti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určují, co a kdy se bude dělat, za kolik a kdo je za  to zodpovědn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Rozpočty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- vyjadřují očekávané zisky a ztrá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Kontrolní mechanismy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zajišťují sledování postupu plnění plán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8eb4e3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4.3 Marketingové strategi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907560"/>
            <a:ext cx="8229600" cy="547380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Pojem strategie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umění řídit firmu nebo lidi takovým způsobem, aby byl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osaženo stanovených cíl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je proces stanovování firemních cílů, plánování a realizová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roků vedoucích k jejich dosaž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definuje jak lze zvoleného cíle dosáhno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napomáhá firmě dosáhnout silnějšího postavení na trh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řevahou nad konkurencí  v určité oblasti např. v kvalitě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ostupné ceně, zajištění prodejního i poprodejního servisu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ebo tradi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Strategie – cíl koná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Taktika – stanovuje způsob koná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atice růstu podni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765000"/>
            <a:ext cx="8229600" cy="564840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slouží k identifikaci příležitostí k růstu firm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definuje čtyři možná strategická řešení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800" spc="-1" strike="noStrike">
                <a:solidFill>
                  <a:srgbClr val="953735"/>
                </a:solidFill>
                <a:latin typeface="Calibri"/>
              </a:rPr>
              <a:t>Výrobe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stávající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   nov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současn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cs-CZ" sz="2800" spc="-1" strike="noStrike">
                <a:solidFill>
                  <a:srgbClr val="403152"/>
                </a:solidFill>
                <a:latin typeface="Calibri"/>
              </a:rPr>
              <a:t>Tr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nov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Diagram 3" descr=""/>
          <p:cNvPicPr/>
          <p:nvPr/>
        </p:nvPicPr>
        <p:blipFill>
          <a:blip r:embed="rId1"/>
          <a:stretch/>
        </p:blipFill>
        <p:spPr>
          <a:xfrm>
            <a:off x="3260880" y="2693880"/>
            <a:ext cx="485280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984807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984807"/>
                </a:solidFill>
                <a:latin typeface="Calibri"/>
              </a:rPr>
              <a:t>    </a:t>
            </a:r>
            <a:r>
              <a:rPr b="0" lang="cs-CZ" sz="2400" spc="-1" strike="noStrike">
                <a:solidFill>
                  <a:srgbClr val="984807"/>
                </a:solidFill>
                <a:latin typeface="Calibri"/>
              </a:rPr>
              <a:t>Strategie proniká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764640"/>
            <a:ext cx="8229600" cy="568836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umísťování stávajících výrobků na současný tr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je vhodná, nachází-li se výrobek v počáteční fázi  životního cykl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984807"/>
                </a:solidFill>
                <a:latin typeface="Calibri"/>
              </a:rPr>
              <a:t>Strategie rozvoje trh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umísťování stávajících výrobků na nový tr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stávající trh je nasycen, nebo je firma vytěsněna konkurenc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984807"/>
                </a:solidFill>
                <a:latin typeface="Calibri"/>
              </a:rPr>
              <a:t>Strategie rozvoje výrob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umísťování nových výrobků na současný tr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firma nechce ztratit věrné zákazník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984807"/>
                </a:solidFill>
                <a:latin typeface="Calibri"/>
              </a:rPr>
              <a:t>Strategie diversifik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umísťování nových výrobků na nový tr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poměrně riziková, velmi finančně náročn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07280" cy="50472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Hodnotící kritéria žebříčku úspěšnosti fir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Žebříček CECH TOP 100 používá uznávaná kritéria hodnocení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848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984807"/>
                </a:solidFill>
                <a:uFillTx/>
                <a:latin typeface="Calibri"/>
              </a:rPr>
              <a:t>Finanční atraktivnost firmy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( kvalita výrobků a služeb…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848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984807"/>
                </a:solidFill>
                <a:uFillTx/>
                <a:latin typeface="Calibri"/>
              </a:rPr>
              <a:t>Sledování parametrů týkajících se lidí ve firm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( kvalita managementu, schopnost firmy přilákat a udrž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alentované lidi…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848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984807"/>
                </a:solidFill>
                <a:uFillTx/>
                <a:latin typeface="Calibri"/>
              </a:rPr>
              <a:t>Vztahy firmy ke společnosti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( otevřenost, komunikativnost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odpovědnost k životnímu prostředí…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43200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onkurenční strateg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692280"/>
            <a:ext cx="8229600" cy="597672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ákladem nadprůměrného výkonu je </a:t>
            </a:r>
            <a:r>
              <a:rPr b="1" i="1" lang="cs-CZ" sz="2400" spc="-1" strike="noStrike">
                <a:solidFill>
                  <a:srgbClr val="000000"/>
                </a:solidFill>
                <a:latin typeface="Calibri"/>
              </a:rPr>
              <a:t>dlouhodobě udržiteln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cs-CZ" sz="2400" spc="-1" strike="noStrike">
                <a:solidFill>
                  <a:srgbClr val="000000"/>
                </a:solidFill>
                <a:latin typeface="Calibri"/>
              </a:rPr>
              <a:t>konkurenční výho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Existují </a:t>
            </a:r>
            <a:r>
              <a:rPr b="1" i="1" lang="cs-CZ" sz="2400" spc="-1" strike="noStrike">
                <a:solidFill>
                  <a:srgbClr val="000000"/>
                </a:solidFill>
                <a:latin typeface="Calibri"/>
              </a:rPr>
              <a:t>dva základní typy konkurenční výhody –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nízké náklady a diferenci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Základní konkurenční strategie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984807"/>
                </a:solidFill>
                <a:latin typeface="Calibri"/>
              </a:rPr>
              <a:t>Strategie vedoucího postavení nízkých nákladů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silná konkurenční výhoda, díky ní může firma snížit konečnou cenu p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potřebitele na minim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využívají firmy zaměřující se na masový tr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neustálým rizikem je vstup konkurence s ještě nižší ceno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9848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984807"/>
                </a:solidFill>
                <a:latin typeface="Calibri"/>
              </a:rPr>
              <a:t>Strategie diferenciace produktu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odlišení produktu přináší něco rozdílného od konkure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odlišení lze dosáhnout – tvar, užitné vlastnosti, obal, servis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9848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984807"/>
                </a:solidFill>
                <a:latin typeface="Calibri"/>
              </a:rPr>
              <a:t>Cílená strategie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firma se zaměřuje na jeden nebo několik menších segment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solidFill>
            <a:srgbClr val="8eb4e3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4.4 SWOT analýz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68360" y="836280"/>
            <a:ext cx="8229600" cy="576108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e nedílnou součástí marketingového řízen organiz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skytuje nástroj v podobě komplexní metody kvalitativníh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yhodnocení veškerých stránek fungování organizace a její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oučasné poz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odstata metody spočívá v klasifikaci a ohodnocení jednotlivých faktorů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faktory vyjadřující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silné  vnitřní stránky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organizace – 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faktory vyjadřující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slabé vnitřní stránky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organizace –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faktory vyjadřující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příležitosti vnějšího prostředí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–    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faktory vyjadřující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hrozby vnějšího prostředí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–            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truktura SWOT analýzy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Diagram 3" descr=""/>
          <p:cNvPicPr/>
          <p:nvPr/>
        </p:nvPicPr>
        <p:blipFill>
          <a:blip r:embed="rId1"/>
          <a:stretch/>
        </p:blipFill>
        <p:spPr>
          <a:xfrm>
            <a:off x="785880" y="5516640"/>
            <a:ext cx="76150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4920" y="274320"/>
            <a:ext cx="8209080" cy="56196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Strategie vyplývající ze SWOT analýz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95280" y="836280"/>
            <a:ext cx="8229600" cy="576108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vnitřní analýza má dvojí účel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stanovit možnosti a potenciál organiz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identifikovat vnitřní silné a slabé stránk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vnější analýza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umožňuje rozlišit atraktivní příležitosti , které mohou organizaci  přiné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výhod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mezi příležitosti i hrozby na trhu mohou patřit např. demografické změny, hospodářská  situace státu, konkurenční prostředí, politick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situace v ze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488360" cy="777960"/>
          </a:xfrm>
          <a:prstGeom prst="rect">
            <a:avLst/>
          </a:prstGeom>
          <a:solidFill>
            <a:srgbClr val="c6d9f1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řehled strategií vyplývající ze SWOT analýz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Zástupný symbol pro obsah 6" descr=""/>
          <p:cNvPicPr/>
          <p:nvPr/>
        </p:nvPicPr>
        <p:blipFill>
          <a:blip r:embed="rId1"/>
          <a:stretch/>
        </p:blipFill>
        <p:spPr>
          <a:xfrm>
            <a:off x="792000" y="1517760"/>
            <a:ext cx="765684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431640"/>
          </a:xfrm>
          <a:prstGeom prst="rect">
            <a:avLst/>
          </a:prstGeom>
          <a:solidFill>
            <a:srgbClr val="8eb4e3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4.5 BCG analýz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24000" y="620280"/>
            <a:ext cx="8496000" cy="604836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edna z nejpoužívanějších firemních analý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rovnává růst a podíl výrobku na trh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Označuje se také jako portfoliová matice růst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Výrobek je v BCG matici označován specifickým pojmy, kter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odpovídají fázím jeho existence na trhu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9848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984807"/>
                </a:solidFill>
                <a:latin typeface="Calibri"/>
              </a:rPr>
              <a:t>Otazní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výrobky mají malý podíl na trhu, ale s rostoucí tendenc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jedná se většinou o nové výrobk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firma musí zvážit zda výrobek dále finančně podporovat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9848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984807"/>
                </a:solidFill>
                <a:latin typeface="Calibri"/>
              </a:rPr>
              <a:t>Hvězd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výrobky s vysokým tempem růstu a s velkým podílem na trh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nadějný zdroj budoucích zisk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9848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984807"/>
                </a:solidFill>
                <a:latin typeface="Calibri"/>
              </a:rPr>
              <a:t>Dojné krávy</a:t>
            </a:r>
            <a:r>
              <a:rPr b="0" lang="cs-CZ" sz="2000" spc="-1" strike="noStrike">
                <a:solidFill>
                  <a:srgbClr val="984807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výrobky s vysokým podílem na trhu a s nízkým stupně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růst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9848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984807"/>
                </a:solidFill>
                <a:latin typeface="Calibri"/>
              </a:rPr>
              <a:t>Bídní psi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výrobky s nízkým stupněm podílu na trhu a nízké tempo růst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pro firmu jsou neperspektivní, ztrátové, zvážit jejich setrvání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    na trh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1258920" y="307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Objekt 2"/>
          <p:cNvGraphicFramePr/>
          <p:nvPr/>
        </p:nvGraphicFramePr>
        <p:xfrm>
          <a:off x="900000" y="536400"/>
          <a:ext cx="7559640" cy="59169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4" name="Objek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536400"/>
                    <a:ext cx="7559640" cy="591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7991280" cy="547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dddddddddma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Zástupný symbol pro obsah 12" descr=""/>
          <p:cNvPicPr/>
          <p:nvPr/>
        </p:nvPicPr>
        <p:blipFill>
          <a:blip r:embed="rId1"/>
          <a:stretch/>
        </p:blipFill>
        <p:spPr>
          <a:xfrm>
            <a:off x="2139840" y="1809720"/>
            <a:ext cx="5523120" cy="3994200"/>
          </a:xfrm>
          <a:prstGeom prst="rect">
            <a:avLst/>
          </a:prstGeom>
          <a:ln w="0">
            <a:noFill/>
          </a:ln>
        </p:spPr>
      </p:pic>
      <p:sp>
        <p:nvSpPr>
          <p:cNvPr id="93" name="Elipsa 13"/>
          <p:cNvSpPr/>
          <p:nvPr/>
        </p:nvSpPr>
        <p:spPr>
          <a:xfrm>
            <a:off x="6516720" y="3213000"/>
            <a:ext cx="503280" cy="503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Elipsa 14"/>
          <p:cNvSpPr/>
          <p:nvPr/>
        </p:nvSpPr>
        <p:spPr>
          <a:xfrm>
            <a:off x="3132000" y="2708280"/>
            <a:ext cx="720720" cy="7207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Elipsa 15"/>
          <p:cNvSpPr/>
          <p:nvPr/>
        </p:nvSpPr>
        <p:spPr>
          <a:xfrm>
            <a:off x="3564000" y="4149720"/>
            <a:ext cx="914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Elipsa 16"/>
          <p:cNvSpPr/>
          <p:nvPr/>
        </p:nvSpPr>
        <p:spPr>
          <a:xfrm>
            <a:off x="6516720" y="4724280"/>
            <a:ext cx="358920" cy="360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římá spojovací čára 8"/>
          <p:cNvSpPr/>
          <p:nvPr/>
        </p:nvSpPr>
        <p:spPr>
          <a:xfrm flipH="1" flipV="1">
            <a:off x="3852720" y="3068640"/>
            <a:ext cx="2664000" cy="396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římá spojovací čára 23"/>
          <p:cNvSpPr/>
          <p:nvPr/>
        </p:nvSpPr>
        <p:spPr>
          <a:xfrm>
            <a:off x="3492360" y="3429000"/>
            <a:ext cx="144720" cy="649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římá spojovací čára 25"/>
          <p:cNvSpPr/>
          <p:nvPr/>
        </p:nvSpPr>
        <p:spPr>
          <a:xfrm>
            <a:off x="4478400" y="4606920"/>
            <a:ext cx="2038320" cy="298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římá spojovací čára 27"/>
          <p:cNvSpPr/>
          <p:nvPr/>
        </p:nvSpPr>
        <p:spPr>
          <a:xfrm>
            <a:off x="7020000" y="3465360"/>
            <a:ext cx="431640" cy="3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římá spojovací čára 30"/>
          <p:cNvSpPr/>
          <p:nvPr/>
        </p:nvSpPr>
        <p:spPr>
          <a:xfrm>
            <a:off x="6875640" y="4905360"/>
            <a:ext cx="576000" cy="36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římá spojovací čára 33"/>
          <p:cNvSpPr/>
          <p:nvPr/>
        </p:nvSpPr>
        <p:spPr>
          <a:xfrm>
            <a:off x="3635280" y="4005360"/>
            <a:ext cx="61920" cy="277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424720" cy="1008360"/>
          </a:xfrm>
          <a:prstGeom prst="rect">
            <a:avLst/>
          </a:prstGeom>
          <a:solidFill>
            <a:srgbClr val="c6d9f1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000000"/>
                </a:solidFill>
                <a:uFillTx/>
                <a:latin typeface="Calibri"/>
              </a:rPr>
              <a:t>BCG mat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Zástupný symbol pro obsah 3" descr=""/>
          <p:cNvPicPr/>
          <p:nvPr/>
        </p:nvPicPr>
        <p:blipFill>
          <a:blip r:embed="rId1"/>
          <a:stretch/>
        </p:blipFill>
        <p:spPr>
          <a:xfrm>
            <a:off x="133200" y="1504800"/>
            <a:ext cx="8632800" cy="4542120"/>
          </a:xfrm>
          <a:prstGeom prst="rect">
            <a:avLst/>
          </a:prstGeom>
          <a:ln w="0">
            <a:noFill/>
          </a:ln>
        </p:spPr>
      </p:pic>
      <p:sp>
        <p:nvSpPr>
          <p:cNvPr id="105" name="Elipsa 8"/>
          <p:cNvSpPr/>
          <p:nvPr/>
        </p:nvSpPr>
        <p:spPr>
          <a:xfrm>
            <a:off x="6804000" y="3357720"/>
            <a:ext cx="504720" cy="50292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Elipsa 9"/>
          <p:cNvSpPr/>
          <p:nvPr/>
        </p:nvSpPr>
        <p:spPr>
          <a:xfrm>
            <a:off x="1763640" y="2997360"/>
            <a:ext cx="698400" cy="64764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Elipsa 10"/>
          <p:cNvSpPr/>
          <p:nvPr/>
        </p:nvSpPr>
        <p:spPr>
          <a:xfrm>
            <a:off x="2700360" y="4292640"/>
            <a:ext cx="914400" cy="91440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Elipsa 11"/>
          <p:cNvSpPr/>
          <p:nvPr/>
        </p:nvSpPr>
        <p:spPr>
          <a:xfrm>
            <a:off x="7164360" y="5013360"/>
            <a:ext cx="338040" cy="28728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římá spojovací čára 13"/>
          <p:cNvSpPr/>
          <p:nvPr/>
        </p:nvSpPr>
        <p:spPr>
          <a:xfrm>
            <a:off x="2462040" y="3321000"/>
            <a:ext cx="4341960" cy="28728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římá spojovací čára 15"/>
          <p:cNvSpPr/>
          <p:nvPr/>
        </p:nvSpPr>
        <p:spPr>
          <a:xfrm>
            <a:off x="2112840" y="3645000"/>
            <a:ext cx="720720" cy="7826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římá spojovací čára 17"/>
          <p:cNvSpPr/>
          <p:nvPr/>
        </p:nvSpPr>
        <p:spPr>
          <a:xfrm>
            <a:off x="3614760" y="4749840"/>
            <a:ext cx="3549600" cy="40788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římá spojovací čára 19"/>
          <p:cNvSpPr/>
          <p:nvPr/>
        </p:nvSpPr>
        <p:spPr>
          <a:xfrm>
            <a:off x="7308720" y="3608280"/>
            <a:ext cx="576360" cy="3672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římá spojovací čára 22"/>
          <p:cNvSpPr/>
          <p:nvPr/>
        </p:nvSpPr>
        <p:spPr>
          <a:xfrm>
            <a:off x="7524720" y="5157720"/>
            <a:ext cx="36036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Přímá spojovací šipka 31"/>
          <p:cNvCxnSpPr/>
          <p:nvPr/>
        </p:nvCxnSpPr>
        <p:spPr>
          <a:xfrm>
            <a:off x="7885080" y="5157360"/>
            <a:ext cx="7200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5" name="Přímá spojovací šipka 35"/>
          <p:cNvCxnSpPr/>
          <p:nvPr/>
        </p:nvCxnSpPr>
        <p:spPr>
          <a:xfrm flipH="1">
            <a:off x="7884720" y="3644640"/>
            <a:ext cx="7200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Literatura předmět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2552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HDR.VYSEKALOVÁ, Jitka; DOC.RNDR.STRNAD,CSC, Pavel; ING.VYDROVÁ, Jaruše. </a:t>
            </a:r>
            <a:r>
              <a:rPr b="0" i="1" lang="cs-CZ" sz="1400" spc="-1" strike="noStrike">
                <a:solidFill>
                  <a:srgbClr val="000000"/>
                </a:solidFill>
                <a:latin typeface="Calibri"/>
              </a:rPr>
              <a:t>Základy marketingu - pro střední školy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. první. Praha: Fortuna, 2003, 164. ISBN 80-7168-668-9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OUDRÝ ING., Marek. </a:t>
            </a:r>
            <a:r>
              <a:rPr b="0" i="1" lang="cs-CZ" sz="1400" spc="-1" strike="noStrike">
                <a:solidFill>
                  <a:srgbClr val="000000"/>
                </a:solidFill>
                <a:latin typeface="Calibri"/>
              </a:rPr>
              <a:t>Marketing - Základy marketingu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. první vydání. Kralice na Hané, Hrubčická 495: Computer Media s.r.o., 2008,158. ISBN 978-80-7402-5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HDR.VYSEKALOVÁ, Jitka; ING.KLIKOVÁ, Dagmar; ING.ROZUMOVÁ, Petra. </a:t>
            </a:r>
            <a:r>
              <a:rPr b="0" i="1" lang="cs-CZ" sz="1400" spc="-1" strike="noStrike">
                <a:solidFill>
                  <a:srgbClr val="000000"/>
                </a:solidFill>
                <a:latin typeface="Calibri"/>
              </a:rPr>
              <a:t>Slovník základních pojmů z marketingu a managementu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. první. Praha 1,Jungmanova 7: Fortuna, 1997, 48. ISBN 80-7168-504-6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Bc. KOZLER, Josef; MATĚJKA, Jan. </a:t>
            </a:r>
            <a:r>
              <a:rPr b="0" i="1" lang="cs-CZ" sz="1400" spc="-1" strike="noStrike">
                <a:solidFill>
                  <a:srgbClr val="000000"/>
                </a:solidFill>
                <a:latin typeface="Calibri"/>
              </a:rPr>
              <a:t>Ekonomika, Management, Marketing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. první.Havlíčkův Brod, Humpolecká 1503: Fragment, 1998, 139. ISBN 80-7200-253-8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1368360"/>
          </a:xfrm>
          <a:prstGeom prst="rect">
            <a:avLst/>
          </a:prstGeom>
          <a:solidFill>
            <a:srgbClr val="558ed5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6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15640" y="2637000"/>
            <a:ext cx="6985080" cy="158400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77933c"/>
                </a:solidFill>
                <a:latin typeface="Calibri"/>
              </a:rPr>
              <a:t>Marketingové řízení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8eb4e3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4.1 Marketingové řízen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052640"/>
            <a:ext cx="8229600" cy="568944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e proces stanovování firemních cílů, plánování a realiz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roků vedoucích k jejich dosaž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tředem pozornosti marketingového řízení je spokojený zákazní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ůležitá rozhodnutí se realizují v TOP managementu na úrovn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trategického plánování, zde se definují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Poslání firmy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určuje účel existence firm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vychází z tradice firm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odlišuje firmu od konkure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odráží stávající realitu, způsob působení firmy na okol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vyjadřuje firemní filozofi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mělo by být jasně formulován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je výchozím bodem pro strategické plánová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569440" cy="60480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ři definování poslání by firma měla vycházet z těchto předpokladů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95280" y="765000"/>
            <a:ext cx="8569440" cy="536112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aká je oblast podnikání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(charakteristiky produktu, technologie výroby, trh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do jsou zákazníci firmy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(cílová skupin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aký význam má firma pro zákazní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ým firma 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slání firmy by mělo být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reálné, konkrétní, založené na kvalitách firmy a také motivujíc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Vize firmy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představuje dlouhodobý výhled, tedy stav, jakého chce fir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 dlouhodobém horizontu dosáhno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274320"/>
            <a:ext cx="8064720" cy="63324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Cíle firm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39640" y="907560"/>
            <a:ext cx="8064720" cy="547380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ejčastější firemní cíle jsou – zisk, obrat, tržní podíl, spokojený  zákazní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sou vyjadřovány v číselné podob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Lze posuzovat jako konkrétní sta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Příklady možných firemních cílů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- nárůst objemu prode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- získání nových trh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- upevnění stávající pozice na trh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- obsazení určitého segmentu trh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- zvýšení konkurence schopnosti výrob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- snížení množství zmetkovitosti ve výrob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solidFill>
            <a:srgbClr val="8eb4e3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4.2 Marketingové plánován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360" y="1052280"/>
            <a:ext cx="8207280" cy="561636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Marketingové plánová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hlavním úkolem plánování je vytvořit a udržovat vztah mez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tanovenými cíli podniku a strategiemi zvolenými pro dosažení cíl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je nástroj marketingového říze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je nástroj řízení a koordinování marketingových činností firm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arketingový plán se vypracovává pro trhy, výrobky a značk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Výhody marketingového plánová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koordinace činnost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ystematické plánování budoucn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způsobování zdrojů možnostem trh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lepšení komunikace uvnitř firm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ůběžné sledování činnosti a následná kontro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výšení možností objevovat příležitosti na trh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497800" cy="56196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marL="514440" indent="-5144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Časové hledisko plánová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94920" y="836640"/>
            <a:ext cx="8497800" cy="568800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Operativní plá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krátkodobý plán s časovým horizontem do jednoho ro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slouží ke každodennímu řízení firm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Taktický plá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střednědobý plán s časovým horizontem od jednoho do tří l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umožňuje rychlou reakci na případné změny ve vnější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arketingovém prostřed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je pojítkem mezi operativním a strategickým plán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Strategický plá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louhodobý plán s časovým horizontem nad tři ro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vychází z poslání a vize firm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dává firmě náhled na její budoucí postavení na trhu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 závislosti na vývoji trhu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0920" y="274320"/>
            <a:ext cx="7993080" cy="63324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Fáze marketingového plánová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10920" y="907560"/>
            <a:ext cx="7993080" cy="521820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Analýz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situační analýz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firma musí vyhodnotit prostředí ve kterém se nacház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musí analyzovat vlastní silné a slabé stránky, naléz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říležitosti a vyvarovat se hroze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Plánová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firma se rozhoduje, na co se zaměř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Realiz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strategické plány se stávají realito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Kontro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sleduje aktivita plánů a vyhodnocuje výsled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velka</cp:lastModifiedBy>
  <dcterms:modified xsi:type="dcterms:W3CDTF">2014-02-03T10:14:45Z</dcterms:modified>
  <cp:revision>81</cp:revision>
  <dc:subject/>
  <dc:title>4</dc:title>
</cp:coreProperties>
</file>