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2D2-8DF4-4C53-876A-BCBDFF89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B0B-4BA1-42AC-A522-7B2A5E87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ECC-CEE6-437A-85AA-58D989D8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FA05-4D13-4C19-9F5A-2AD4745F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EDC1-5157-4F7D-BC09-5A36D693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6860-9D33-4B87-A291-66DEAEB2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F22D-0E26-49ED-8CA7-D7E7F609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682-7121-4050-AA64-1FB5362A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812-6245-42A8-AE17-5A587AB6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F811-BEB5-4F84-BFF9-DDF55A5A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90CF-C300-4940-8E98-E12014BF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B621-594C-4B75-B279-83449217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304D-45DC-4000-9716-E3A9D239E6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tazní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195640" y="263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06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003640" y="558972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utor: Ing. Vladimír Have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19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Výběrové otázk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836640"/>
            <a:ext cx="8229600" cy="56880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bízí možnost výběru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edné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z nabízených možno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. Jaké je vaše nejvyšší dosažené vzděl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ákladní, - střední bez maturity, - střední s maturitou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yšší odborné, - vysokoškolsk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Výpočtové otá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abízí možnost výběru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ěkoli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nabízených možno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4903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Otevřené otá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765000"/>
            <a:ext cx="8229600" cy="5832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Volné otevřené  otá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otazovaný má úplnou volnost pro svou odpově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Dokončení vě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otazovaný volně dokončuje vě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Dokončení příbě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otazovaný dovypráví neukončený příbě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Dokončení obráz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 ilustraci, kde jsou dvě osoby, jedna něco sděluje druhé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tazovaný se má identifikovat s druhou postavou a dopl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jí reak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Všeobecné otá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ůležité pro zpracování a vyhodnocení dotazníku, věk, pohlaví, vzdělání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Literatura předmě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DOC.RNDR.STRNAD,CSC, Pavel; ING.VYDROVÁ, Jaruše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Základy marketingu - pro střední škol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: Fortuna, 2003, 164. ISBN 80-7168-668-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OUDRÝ ING., Marek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Marketing - Základy marketing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 vydání. Kralice na Hané, Hrubčická 495: Computer Media s.r.o., 2008,158. ISBN 978-80-7402-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ING.KLIKOVÁ, Dagmar; ING.ROZUMOVÁ, Petr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Slovník základních pojmů z marketingu a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 1,Jungmanova 7: Fortuna, 1997, 48. ISBN 80-7168-504-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c. KOZLER, Josef; MATĚJKA, Jan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Ekonomika, Management, Marketi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Havlíčkův Brod, Humpolecká 1503: Fragment, 1998, 139. ISBN 80-7200-253-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258920" y="30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kt 2"/>
          <p:cNvGraphicFramePr/>
          <p:nvPr/>
        </p:nvGraphicFramePr>
        <p:xfrm>
          <a:off x="971640" y="542880"/>
          <a:ext cx="7559640" cy="591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Obj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542880"/>
                    <a:ext cx="755964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396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12254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e46c0a"/>
                </a:solidFill>
                <a:latin typeface="Calibri"/>
              </a:rPr>
              <a:t>Dotazní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.1 Význam dotazní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je metoda zjišťování potřebných informac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je písemná forma komunik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může mít podobu klasickou papírovou, elektronick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skládá se ze série otázek,jejichž cílem je získat názory a fak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 respondent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ýzkumník je v nepřímém kontaktu s dotazovaný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ýhody dotazník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možnost velkého množství informac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jednoduché vyplňování, zpracování a vyhodnocová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ohodlí při vyplňová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Nevýhody dotazníku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nejistota osobní ho vyplňování, nízká návrat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nepravdivé informace, ochota vyplňová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09080" cy="504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Rozsah dotazník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764640"/>
            <a:ext cx="8229600" cy="5688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otázek by mělo být maximálně 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doba vyplňování by neměla  přesáhnout 20 min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tivování k vyplňování dotazník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spočívá k přesvědčení o důležitosti odpovědí responden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je nutné vysvětlit význam a cíl průzku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hmotná odmě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důraznění výhod pro responden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Zásady tvorby dotazník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srozumitelnost a přehled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upoutání pozor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jednoduchý na vyplňová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stylisticky a gramaticky správně sestaven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hodně typograficky a graficky upraven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032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Požadavky na dotazní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691920"/>
            <a:ext cx="8229600" cy="60102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e46c0a"/>
                </a:solidFill>
                <a:latin typeface="Calibri"/>
              </a:rPr>
              <a:t>- Jednoznač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jednoduchá a výstižná formulace otáz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nepoužívat dvojité zápory a nejednoznačná slova ( někdy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otázky by neměly být dvojsmyslné a zavádějíc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nezařazovat  sugestivní otázky-napovídají odpově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e46c0a"/>
                </a:solidFill>
                <a:latin typeface="Calibri"/>
              </a:rPr>
              <a:t>Srozumite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otázky v jazyce cílové skupiny respondent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otázky by měly ctít etické normy a morální hodno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formulace otázek z pozice oslovené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e46c0a"/>
                </a:solidFill>
                <a:latin typeface="Calibri"/>
              </a:rPr>
              <a:t>Struč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otázky krátké a struč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e46c0a"/>
                </a:solidFill>
                <a:latin typeface="Calibri"/>
              </a:rPr>
              <a:t>Valid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tát se na to, co je skutečně potřeba zjist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e46c0a"/>
                </a:solidFill>
                <a:latin typeface="Calibri"/>
              </a:rPr>
              <a:t>Logická poslo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logická návaznost otázek, vyvarovat se příbuzných otáz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rukturování dotazní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764640"/>
            <a:ext cx="8229600" cy="5688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Úv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dotazovanou osobu slušně oslovit a požádat o vyplnění   dotazník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důraznit přínos správného vyplnění pro responden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důraznit náplň, význam odpovědí a smysl celého dotazník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sdělit pokyny k vyplňová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řibližná délka vyplňová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oděkovat za čas, který bude vyplňování věnov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Řazení otáz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správná skladba a pořadí, musí zaujm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 první části zajímavé otá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 prostřední části stěžejní otá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 poslední otázky méně důležité z důvodu poklesu pozor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Závě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oděkovat za čas strávený vyplňováním dotazník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280360" cy="4903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ypy otázek dotazní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765000"/>
            <a:ext cx="8229600" cy="52898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Uzavřené otá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Dichotomické otá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typ odpovědi :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no,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Trichotomické otá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typ odpovědi :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no, ne, nev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Škálové otá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typ odpovědi :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ikertova stupnic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 pětiúrovňová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1= silně nesouhlasím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2= nesouhlas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3= nev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4= souhlas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5= velmi souhlas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993080" cy="7189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typ odpovědi :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znamová stupn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560" y="907560"/>
            <a:ext cx="7978680" cy="5761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1= velmi důležité ….. 5=velmi nedůleži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typ odpovědi :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lasifikační stupn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1= výborný….. 5= nedostatečn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typ odpovědi :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rafická stupn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typ odpovědi :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émantický diferenciá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63560" indent="-9540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upnice mezi dvěma bipolárními slovy, přičemž dotazovaný vybere bod, který nejlépe vystihuje jeho náz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Veselý obličej 3"/>
          <p:cNvSpPr/>
          <p:nvPr/>
        </p:nvSpPr>
        <p:spPr>
          <a:xfrm>
            <a:off x="1332000" y="292428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Veselý obličej 5"/>
          <p:cNvSpPr/>
          <p:nvPr/>
        </p:nvSpPr>
        <p:spPr>
          <a:xfrm>
            <a:off x="4427640" y="2924280"/>
            <a:ext cx="503280" cy="503280"/>
          </a:xfrm>
          <a:prstGeom prst="smileyFace">
            <a:avLst>
              <a:gd name="adj" fmla="val -46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Veselý obličej 6"/>
          <p:cNvSpPr/>
          <p:nvPr/>
        </p:nvSpPr>
        <p:spPr>
          <a:xfrm>
            <a:off x="2843280" y="2924280"/>
            <a:ext cx="503280" cy="503280"/>
          </a:xfrm>
          <a:prstGeom prst="smileyFace">
            <a:avLst>
              <a:gd name="adj" fmla="val -198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Veselý obličej 7"/>
          <p:cNvSpPr/>
          <p:nvPr/>
        </p:nvSpPr>
        <p:spPr>
          <a:xfrm>
            <a:off x="3635280" y="2924280"/>
            <a:ext cx="503280" cy="503280"/>
          </a:xfrm>
          <a:prstGeom prst="smileyFace">
            <a:avLst>
              <a:gd name="adj" fmla="val -46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Veselý obličej 8"/>
          <p:cNvSpPr/>
          <p:nvPr/>
        </p:nvSpPr>
        <p:spPr>
          <a:xfrm>
            <a:off x="2050920" y="2924280"/>
            <a:ext cx="503280" cy="503280"/>
          </a:xfrm>
          <a:prstGeom prst="smileyFace">
            <a:avLst>
              <a:gd name="adj" fmla="val 6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velka</cp:lastModifiedBy>
  <dcterms:modified xsi:type="dcterms:W3CDTF">2014-02-16T18:05:33Z</dcterms:modified>
  <cp:revision>38</cp:revision>
  <dc:subject/>
  <dc:title>6</dc:title>
</cp:coreProperties>
</file>