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915-048B-4418-8C8E-25E59F8A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BA6-FB80-4236-8510-B05B6AFF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EEB-4B5C-4CD0-A322-6D74D541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A1D-17FC-4393-88B2-3F3DD8D4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89F-AAA8-4111-A72F-B3A5CCE0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55B-868D-48E1-939F-423B4BC3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005-FD98-46CB-A2CE-FA18780B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DD5-C39D-4ABC-9E32-9DEC09B1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79F-F329-43C7-A004-4A4B3B94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6F2-4250-483B-B963-76E2CF9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AC1-B6AA-4F01-A68F-AC727378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265-89EE-4736-B197-2C0D2BFC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68DD-D11C-4909-9763-E3DC2D5676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rketingový výzk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05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4643280" y="55166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.5 Techniky marketingového výzkum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 zjištění potřebných informací mohou být použity tyto techniky 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kvantitativní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kvalitativní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Kvantitativní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eduje četnost jevů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přináší informac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d velkého vzor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ositelů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respondentů), provádí se s cílem postihn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statečně velký a reprezentativní vzorek  a zaměřuje 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íklad na to, kolik kupujících bude mít o zboží zájem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jakém množství je bude kupov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Kvalitativní 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eduje průběh jevů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zaměřuje se na informac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 malé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orku nositelů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a slouží ke zjišťování  motivace, posto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chování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720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Techniky kvantitativního výzku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229600" cy="5040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Pozorování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953735"/>
                </a:solidFill>
                <a:uFillTx/>
                <a:latin typeface="Calibri"/>
              </a:rPr>
              <a:t>zúčastněné</a:t>
            </a:r>
            <a:r>
              <a:rPr b="0" lang="cs-CZ" sz="24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ímo mezi nositeli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953735"/>
                </a:solidFill>
                <a:uFillTx/>
                <a:latin typeface="Calibri"/>
              </a:rPr>
              <a:t>nezúčastněné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sledování nositelů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mocí techniky (průmyslová kamera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zákaznické kart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Experiment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měrně navozené nové situace s cílem zjis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činy a reakce nositele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ůže probíhat v terénu nebo laboratorní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mínká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Dotazní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ísemné oslovení dotazovaného, často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používaná technika průzku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4906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ů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764640"/>
            <a:ext cx="8713800" cy="6093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bíhá prostřednictvím : - osobního, telefonického rozhovo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tazní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Osobní rozhovo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ímá komunikace z „očí do očí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esná kontrola dotazovan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ružnost a rychlost získání informa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soké nároky na kvalitu práce tazate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tráta anonymity dotazovan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užití vizuálních pomůcek (obrazy,mode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y rozhovorů : -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standardizovan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ředem připraven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nestandardizovan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volně kladené otáz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polostandardizovaný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volně doplňovan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novené otáz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Telefonický rozhovor</a:t>
            </a:r>
            <a:r>
              <a:rPr b="1" lang="cs-CZ" sz="24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rychlá a pružná met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hoda i nevýhoda pocit anonymit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dotazovanéh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09080" cy="648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echniky kvalitativního výzku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052280"/>
            <a:ext cx="8229600" cy="5073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Hloubkový rozhov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olná a otevřená disku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ůraz je kladen na reakce dotazovan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úspěch závisí na vztahu mezi tazatelem  a dotazovaný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korigování disku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ozhovor se následně zpracová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azatel musí být vysoce kvalifikovaná a komunikativní os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nančně náročný marketingový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03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  </a:t>
            </a:r>
            <a:r>
              <a:rPr b="1" i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Skupinový rozhov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692280"/>
            <a:ext cx="8229600" cy="597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řízený rozhov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ledování procesu společenského působení na individuá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hodování, na formování názoru jed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každý účastník předkládá své názory a vystaven názor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tatní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rozhovor se realizuje v 6 až 10 členné skupi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dbourává psychické zábrany za strany dotazovan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rozhovor má probíhat v příjemném prostřed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kupinová diskuze s =přesně danými pravid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kupině se zadává úkol,problém,každý účastník jej řeší sá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tom se hledá ideální řeš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Projekční tech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otazovaný není ochoten  či schopen reagovat na přímé otá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olné dokončování vět, příběhů, obrázků, přiřazování barev, hraní rol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71640" y="549360"/>
          <a:ext cx="7559640" cy="591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755964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2060640"/>
            <a:ext cx="7704000" cy="2448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cs-CZ" sz="6000" spc="-1" strike="noStrike">
                <a:solidFill>
                  <a:srgbClr val="632523"/>
                </a:solidFill>
                <a:latin typeface="Calibri"/>
              </a:rPr>
              <a:t>Marketingový výzku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.1Význam marketingového výzk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sadní význam pro konkurenceschopnost podniku a jeho další vývoj mají inform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ůležité jso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xterní informa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které firmě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skytují důležitá data o konkurenci a zákazní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lasické výrobní faktory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ůda, práce a kapitál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sou doplňovány čtvrtým faktorem –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formac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lečnost rychle směřuje k tzv.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formačnímu vě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 dosažení úspěchu musí mít firma maximum informací 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kazníkovi a konkure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ční výhodu získá firma právě využitím informac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ážně z externího prostředí – jejich získáváním se zabý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rketingový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.2 Marketingový výzk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907920"/>
            <a:ext cx="8713800" cy="55454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ískává informace pro marketingové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kytuje informace o situaci na trhu, o chování zákazní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o možném podnikatelském riz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arketingový výzkum by měl splňovat tyto požadavk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plikovatel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yužití pro potřeby prax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ýzkum musí odpovídat cílům marketingového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jektiv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odstranění subjektivního zkres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ystematič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yloučení nahodil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ktuál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musí odpovídat správnému časovému obdob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pl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musí být zvolen správný vzorek responden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424720" cy="70632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.3 Marketingový informační systém  ( MI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980640"/>
            <a:ext cx="8435880" cy="5543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praxi to znamená zabezpečení, zpracování, analýza,    vyhodnocování, využití a uchování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snadňuje přesné, včasné a kvalifikované rozhod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ákladní informace pro firm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ekundár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již existující inform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interní – tvoří tzv. vnitřní marketingový systé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účetnictví, rozbory ekonomické činnosti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xterní – tvoří tzv. vnější marketingový systé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statistické ročenky, internet, odborné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časopisy a publikace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informace zjištěné marketingovým výzkum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777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Kladní informace o konkure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052280"/>
            <a:ext cx="8229600" cy="5616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ožnosti firmy získat informace o konkuren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Sledovat zveřejněné informa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 webových stránkách, výroční zprávy, obchodní tiskoviny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Sledováním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upě konkurenčního výrobku, návštěva konkurenč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ejny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benchmarketingem – srovnávání produktů a postupů s cílem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lepšit kvalitu a výkon, rozebrání konkurenčního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jeho napodobení  nebo vylep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Získat informace od kupujících u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Získat informace od zaměstnanců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03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rketingové zpravodaj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620280"/>
            <a:ext cx="8229600" cy="604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stupy při tvorbě zpravodajského systému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Nepřímé sledová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šeobecné informace bez konkrétníh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í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Podmíněné sledová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informace z určité oblasti be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ílevědomého vyhledávání specifických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Neformální výzku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částečně omezené vyhledává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ecifických nebo účelových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Formální výzku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cíleně zaměřené získávání konkrétn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odnotu informací určuj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výtěž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čas získ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spoleh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561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.4 Fáze marketingového výzk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836280"/>
            <a:ext cx="864072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ces marketingového výzkum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c0504d"/>
                </a:solidFill>
                <a:latin typeface="Calibri"/>
              </a:rPr>
              <a:t>Definování problém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specifikace problému, stanovení c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ři typy cílů výzkumu: a) explorační (předběžný)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) deskriptivní (popisový)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) kauzální (příčinný) výzk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Plán výzkum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sestavení metody výzkumu, výběr vzorku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nositelů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Sběr inform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formy pozorování, průzkumu nebo experimen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984807"/>
                </a:solidFill>
                <a:latin typeface="Calibri"/>
              </a:rPr>
              <a:t>Analýza údajů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analýza zpracovaných údaj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7"/>
          <p:cNvSpPr/>
          <p:nvPr/>
        </p:nvSpPr>
        <p:spPr>
          <a:xfrm>
            <a:off x="468360" y="1413000"/>
            <a:ext cx="1800000" cy="1079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Definování probl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8"/>
          <p:cNvSpPr/>
          <p:nvPr/>
        </p:nvSpPr>
        <p:spPr>
          <a:xfrm>
            <a:off x="2627280" y="1413000"/>
            <a:ext cx="1800360" cy="107928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Plán výzku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9"/>
          <p:cNvSpPr/>
          <p:nvPr/>
        </p:nvSpPr>
        <p:spPr>
          <a:xfrm>
            <a:off x="4859280" y="1413000"/>
            <a:ext cx="1800360" cy="1079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Sběr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0"/>
          <p:cNvSpPr/>
          <p:nvPr/>
        </p:nvSpPr>
        <p:spPr>
          <a:xfrm>
            <a:off x="6948360" y="1484280"/>
            <a:ext cx="1800360" cy="1008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Analýza úda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14"/>
          <p:cNvSpPr/>
          <p:nvPr/>
        </p:nvSpPr>
        <p:spPr>
          <a:xfrm>
            <a:off x="2268360" y="2060640"/>
            <a:ext cx="358920" cy="46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Šipka doprava 15"/>
          <p:cNvSpPr/>
          <p:nvPr/>
        </p:nvSpPr>
        <p:spPr>
          <a:xfrm>
            <a:off x="4427640" y="2060640"/>
            <a:ext cx="431640" cy="460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Šipka doprava 16"/>
          <p:cNvSpPr/>
          <p:nvPr/>
        </p:nvSpPr>
        <p:spPr>
          <a:xfrm>
            <a:off x="6659640" y="2060640"/>
            <a:ext cx="288720" cy="4608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2-05T07:35:43Z</dcterms:modified>
  <cp:revision>49</cp:revision>
  <dc:subject/>
  <dc:title>5</dc:title>
</cp:coreProperties>
</file>