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4F1-C9D2-4D27-BA5E-03E311F7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0CA-490E-45D5-8641-80BCF3EC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D64-634D-4D95-963D-80B2D2E6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CEBC-B6DD-4773-935C-853E9B6C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61B-CA71-44DB-BD39-72353126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41D0-E00D-43DE-BD6C-0DEF8CDA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C2D-00C1-4C78-AAD8-BE464556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84D-9350-44EB-9527-6F9A70D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2C5-8631-4A8F-BE94-CBC66FFE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4B3-7C9B-4BCF-B26E-F9005EC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EC0-0E60-4070-847A-A3402900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DCD-CAC2-48E9-B844-0A18054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2F91-8BF7-441E-BAC4-735F20B67BF0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17_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292720" y="558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f79646"/>
              </a:buClr>
              <a:buFont typeface="Wingdings" charset="2"/>
              <a:buChar char=""/>
              <a:tabLst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  <a:tab algn="l" pos="4667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Nesprávné komunikační návy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soustředit se a upoutat pozornost druh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vyk dělat několik věcí najed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mluvit srozumitel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naslouchat a porozumět druhé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přiznat se , že nerozum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oulad mezi slovní a mimoslovní komunik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nedotknout se osobnosti partnera a necítit se dotč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chopnost poskytovat a vyhledávat zpětnou vazb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Dosahování žádoucích výsledků v komunikaci br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arování, výhrůžky, sli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ady, řeš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nášky, pouč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viň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hanb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terpretování – vysvětl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né utěš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ndování, vyslý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poutání pozornosti od problém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Dosahování žádoucích výsledků v komunikaci napomáh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rientace na partner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užívat v rozhovoru častěji ty (vy)    nežli j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zitivní přístup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oužívat pozitivní formulace i pro negativní s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7.3 Atributy komunikace a formy komunikačních stru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xemická vzdále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zdálenost mezi zdrojem informací a příjemc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oha, pozice a výška komunikujícího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ovlivňují úroveň, styl a kvalitu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las, tón hlasu, frekven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naléhavost, závažnost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zor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vyžadují všichni účastníci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rozumě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vyžaduje nalezení společného jazy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ír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komunikující osoba by měla věřit tomu, co říká, měle by být přesvědčena o správnosti svého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9040" y="263160"/>
            <a:ext cx="8229600" cy="9939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7.4. Typy komunikačních strukt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5160" y="1268280"/>
            <a:ext cx="8229600" cy="48578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ří několik způsobů prostorového uspořádání komunikujících lid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las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ulatý stůl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ál 3"/>
          <p:cNvSpPr/>
          <p:nvPr/>
        </p:nvSpPr>
        <p:spPr>
          <a:xfrm>
            <a:off x="1619280" y="2421000"/>
            <a:ext cx="5763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ál 4"/>
          <p:cNvSpPr/>
          <p:nvPr/>
        </p:nvSpPr>
        <p:spPr>
          <a:xfrm>
            <a:off x="2411280" y="2793960"/>
            <a:ext cx="576360" cy="57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ál 5"/>
          <p:cNvSpPr/>
          <p:nvPr/>
        </p:nvSpPr>
        <p:spPr>
          <a:xfrm>
            <a:off x="3220920" y="3081240"/>
            <a:ext cx="638280" cy="54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římá spojnice 7"/>
          <p:cNvSpPr/>
          <p:nvPr/>
        </p:nvSpPr>
        <p:spPr>
          <a:xfrm>
            <a:off x="2195640" y="2708280"/>
            <a:ext cx="299880" cy="169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římá spojnice 9"/>
          <p:cNvSpPr/>
          <p:nvPr/>
        </p:nvSpPr>
        <p:spPr>
          <a:xfrm>
            <a:off x="2987640" y="3081240"/>
            <a:ext cx="327240" cy="79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ál 10"/>
          <p:cNvSpPr/>
          <p:nvPr/>
        </p:nvSpPr>
        <p:spPr>
          <a:xfrm>
            <a:off x="2763720" y="3914640"/>
            <a:ext cx="5763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ál 11"/>
          <p:cNvSpPr/>
          <p:nvPr/>
        </p:nvSpPr>
        <p:spPr>
          <a:xfrm>
            <a:off x="3859200" y="3914640"/>
            <a:ext cx="5745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ál 12"/>
          <p:cNvSpPr/>
          <p:nvPr/>
        </p:nvSpPr>
        <p:spPr>
          <a:xfrm>
            <a:off x="2346480" y="4667400"/>
            <a:ext cx="576000" cy="57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ál 13"/>
          <p:cNvSpPr/>
          <p:nvPr/>
        </p:nvSpPr>
        <p:spPr>
          <a:xfrm>
            <a:off x="3340080" y="4956120"/>
            <a:ext cx="5763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ál 14"/>
          <p:cNvSpPr/>
          <p:nvPr/>
        </p:nvSpPr>
        <p:spPr>
          <a:xfrm>
            <a:off x="4235400" y="4743360"/>
            <a:ext cx="57456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římá spojnice 16"/>
          <p:cNvSpPr/>
          <p:nvPr/>
        </p:nvSpPr>
        <p:spPr>
          <a:xfrm>
            <a:off x="3340080" y="4202280"/>
            <a:ext cx="519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římá spojnice 18"/>
          <p:cNvSpPr/>
          <p:nvPr/>
        </p:nvSpPr>
        <p:spPr>
          <a:xfrm>
            <a:off x="4349880" y="4406760"/>
            <a:ext cx="172800" cy="336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římá spojnice 20"/>
          <p:cNvSpPr/>
          <p:nvPr/>
        </p:nvSpPr>
        <p:spPr>
          <a:xfrm flipH="1">
            <a:off x="2633400" y="4406760"/>
            <a:ext cx="214200" cy="260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římá spojnice 22"/>
          <p:cNvSpPr/>
          <p:nvPr/>
        </p:nvSpPr>
        <p:spPr>
          <a:xfrm>
            <a:off x="2836800" y="5159520"/>
            <a:ext cx="503280" cy="83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římá spojnice 24"/>
          <p:cNvSpPr/>
          <p:nvPr/>
        </p:nvSpPr>
        <p:spPr>
          <a:xfrm flipV="1">
            <a:off x="3916440" y="5235480"/>
            <a:ext cx="403200" cy="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4840" y="445680"/>
            <a:ext cx="8229600" cy="6397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věz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2520" y="1085760"/>
            <a:ext cx="8229600" cy="5205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ůlměsíc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ál 4"/>
          <p:cNvSpPr/>
          <p:nvPr/>
        </p:nvSpPr>
        <p:spPr>
          <a:xfrm>
            <a:off x="2195640" y="1276200"/>
            <a:ext cx="50472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ál 5"/>
          <p:cNvSpPr/>
          <p:nvPr/>
        </p:nvSpPr>
        <p:spPr>
          <a:xfrm>
            <a:off x="3492360" y="1249200"/>
            <a:ext cx="50328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ál 6"/>
          <p:cNvSpPr/>
          <p:nvPr/>
        </p:nvSpPr>
        <p:spPr>
          <a:xfrm>
            <a:off x="2843280" y="1870200"/>
            <a:ext cx="504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ál 7"/>
          <p:cNvSpPr/>
          <p:nvPr/>
        </p:nvSpPr>
        <p:spPr>
          <a:xfrm>
            <a:off x="3495600" y="2438280"/>
            <a:ext cx="5032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ál 8"/>
          <p:cNvSpPr/>
          <p:nvPr/>
        </p:nvSpPr>
        <p:spPr>
          <a:xfrm>
            <a:off x="2205000" y="2438280"/>
            <a:ext cx="50472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římá spojnice 10"/>
          <p:cNvSpPr/>
          <p:nvPr/>
        </p:nvSpPr>
        <p:spPr>
          <a:xfrm>
            <a:off x="2625840" y="1706400"/>
            <a:ext cx="291960" cy="238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římá spojnice 12"/>
          <p:cNvSpPr/>
          <p:nvPr/>
        </p:nvSpPr>
        <p:spPr>
          <a:xfrm flipV="1">
            <a:off x="2635200" y="2300400"/>
            <a:ext cx="282600" cy="21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římá spojnice 14"/>
          <p:cNvSpPr/>
          <p:nvPr/>
        </p:nvSpPr>
        <p:spPr>
          <a:xfrm>
            <a:off x="3273480" y="2300400"/>
            <a:ext cx="295200" cy="210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římá spojnice 16"/>
          <p:cNvSpPr/>
          <p:nvPr/>
        </p:nvSpPr>
        <p:spPr>
          <a:xfrm flipV="1">
            <a:off x="3273480" y="1679040"/>
            <a:ext cx="291960" cy="265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ál 18"/>
          <p:cNvSpPr/>
          <p:nvPr/>
        </p:nvSpPr>
        <p:spPr>
          <a:xfrm>
            <a:off x="2917800" y="3886200"/>
            <a:ext cx="504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ál 19"/>
          <p:cNvSpPr/>
          <p:nvPr/>
        </p:nvSpPr>
        <p:spPr>
          <a:xfrm>
            <a:off x="3743280" y="4403880"/>
            <a:ext cx="50472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ál 20"/>
          <p:cNvSpPr/>
          <p:nvPr/>
        </p:nvSpPr>
        <p:spPr>
          <a:xfrm>
            <a:off x="2122560" y="4403880"/>
            <a:ext cx="503280" cy="504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ál 21"/>
          <p:cNvSpPr/>
          <p:nvPr/>
        </p:nvSpPr>
        <p:spPr>
          <a:xfrm>
            <a:off x="2413080" y="5041800"/>
            <a:ext cx="50472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ál 22"/>
          <p:cNvSpPr/>
          <p:nvPr/>
        </p:nvSpPr>
        <p:spPr>
          <a:xfrm>
            <a:off x="3565440" y="5072040"/>
            <a:ext cx="505080" cy="50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ál 23"/>
          <p:cNvSpPr/>
          <p:nvPr/>
        </p:nvSpPr>
        <p:spPr>
          <a:xfrm>
            <a:off x="2987640" y="5398920"/>
            <a:ext cx="504720" cy="5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223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398600"/>
            <a:ext cx="8229600" cy="47275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,2,3,4,5,6,7,8 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unikují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délník 14"/>
          <p:cNvSpPr/>
          <p:nvPr/>
        </p:nvSpPr>
        <p:spPr>
          <a:xfrm>
            <a:off x="2700360" y="2492280"/>
            <a:ext cx="625320" cy="2376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ál 15"/>
          <p:cNvSpPr/>
          <p:nvPr/>
        </p:nvSpPr>
        <p:spPr>
          <a:xfrm>
            <a:off x="2760840" y="1844640"/>
            <a:ext cx="504720" cy="476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ál 16"/>
          <p:cNvSpPr/>
          <p:nvPr/>
        </p:nvSpPr>
        <p:spPr>
          <a:xfrm>
            <a:off x="3492360" y="2492280"/>
            <a:ext cx="503280" cy="47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ál 17"/>
          <p:cNvSpPr/>
          <p:nvPr/>
        </p:nvSpPr>
        <p:spPr>
          <a:xfrm>
            <a:off x="3492360" y="3400560"/>
            <a:ext cx="503280" cy="476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ál 18"/>
          <p:cNvSpPr/>
          <p:nvPr/>
        </p:nvSpPr>
        <p:spPr>
          <a:xfrm>
            <a:off x="2760840" y="5021280"/>
            <a:ext cx="504720" cy="476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ál 19"/>
          <p:cNvSpPr/>
          <p:nvPr/>
        </p:nvSpPr>
        <p:spPr>
          <a:xfrm>
            <a:off x="1960560" y="2492280"/>
            <a:ext cx="503280" cy="47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vál 20"/>
          <p:cNvSpPr/>
          <p:nvPr/>
        </p:nvSpPr>
        <p:spPr>
          <a:xfrm>
            <a:off x="1960560" y="3443400"/>
            <a:ext cx="503280" cy="476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ál 21"/>
          <p:cNvSpPr/>
          <p:nvPr/>
        </p:nvSpPr>
        <p:spPr>
          <a:xfrm>
            <a:off x="3492360" y="4332240"/>
            <a:ext cx="503280" cy="477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vál 22"/>
          <p:cNvSpPr/>
          <p:nvPr/>
        </p:nvSpPr>
        <p:spPr>
          <a:xfrm>
            <a:off x="1962000" y="4305240"/>
            <a:ext cx="505080" cy="476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7.5 Význam komunikace pro fungování podni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83920"/>
            <a:ext cx="8229600" cy="4824360"/>
          </a:xfrm>
          <a:prstGeom prst="rect">
            <a:avLst/>
          </a:prstGeom>
          <a:solidFill>
            <a:srgbClr val="d7e4bd"/>
          </a:solidFill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unikace představuje jeden ze základních procesů života organizační struk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efektivní komunikace je žádou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valita rozhodování manažera závisí ve značné míře na kvalitě dostupnosti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škerá činnost manažera je prostoupena komunikac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alizace produkce je stále komplikovanější a její úspěšnost je podmíněna rychlou a spolehlivou výměnou inform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dnutí současných datových a informačních souborů, které jsou nutné k efektivnímu řízení firmy, se neobejde bez využití výpočetní techn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70256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7.1Komunikační pro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8207280" cy="4824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stavuje základní spojovací článek mezi lidmi v procesu řízení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ravdová komunikace probíhá tehdy, když druhý člověk zprávu pochopí tak jak byla míně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em práce dobrého manažera je skutečná komunikace, vždy si mus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dělat čas na to, aby mluvil se svými lid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unikace je jednání, jehož cílem z hlediska komunikátora je přenos sdělení jedné či více osobám prostřednictvím symbo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777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Komunikační pro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4280" y="1484280"/>
            <a:ext cx="8229600" cy="45705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e vzájemné působení mezi komunikujícími partn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pětná vaz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rakteristik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slespoň jeden jedinec musí usilovat o komunikaci s jiným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jedinc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užívání symbolů musí být záměr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rozhodujícím činitelem je záměr komunikáto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2473200" y="2276640"/>
            <a:ext cx="1584360" cy="36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děle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bdélník 5"/>
          <p:cNvSpPr/>
          <p:nvPr/>
        </p:nvSpPr>
        <p:spPr>
          <a:xfrm>
            <a:off x="542880" y="2276640"/>
            <a:ext cx="1577880" cy="36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dělovat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bdélník 6"/>
          <p:cNvSpPr/>
          <p:nvPr/>
        </p:nvSpPr>
        <p:spPr>
          <a:xfrm>
            <a:off x="4600440" y="2276640"/>
            <a:ext cx="1589400" cy="36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édiu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bdélník 7"/>
          <p:cNvSpPr/>
          <p:nvPr/>
        </p:nvSpPr>
        <p:spPr>
          <a:xfrm>
            <a:off x="6732720" y="2276640"/>
            <a:ext cx="1589040" cy="36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jem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8" name="Přímá spojnice se šipkou 11"/>
          <p:cNvCxnSpPr>
            <a:stCxn id="54" idx="3"/>
            <a:endCxn id="56" idx="1"/>
          </p:cNvCxnSpPr>
          <p:nvPr/>
        </p:nvCxnSpPr>
        <p:spPr>
          <a:xfrm>
            <a:off x="4057560" y="2457000"/>
            <a:ext cx="543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Přímá spojnice se šipkou 13"/>
          <p:cNvCxnSpPr>
            <a:stCxn id="56" idx="3"/>
            <a:endCxn id="57" idx="1"/>
          </p:cNvCxnSpPr>
          <p:nvPr/>
        </p:nvCxnSpPr>
        <p:spPr>
          <a:xfrm>
            <a:off x="6189840" y="2457000"/>
            <a:ext cx="543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Přímá spojnice se šipkou 17"/>
          <p:cNvCxnSpPr>
            <a:stCxn id="55" idx="3"/>
            <a:endCxn id="54" idx="1"/>
          </p:cNvCxnSpPr>
          <p:nvPr/>
        </p:nvCxnSpPr>
        <p:spPr>
          <a:xfrm>
            <a:off x="2120400" y="2457000"/>
            <a:ext cx="353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Přímá spojnice 19"/>
          <p:cNvSpPr/>
          <p:nvPr/>
        </p:nvSpPr>
        <p:spPr>
          <a:xfrm>
            <a:off x="7527960" y="2637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římá spojnice 21"/>
          <p:cNvSpPr/>
          <p:nvPr/>
        </p:nvSpPr>
        <p:spPr>
          <a:xfrm>
            <a:off x="1332000" y="3068640"/>
            <a:ext cx="619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" name="Přímá spojnice se šipkou 23"/>
          <p:cNvCxnSpPr>
            <a:endCxn id="55" idx="2"/>
          </p:cNvCxnSpPr>
          <p:nvPr/>
        </p:nvCxnSpPr>
        <p:spPr>
          <a:xfrm flipV="1">
            <a:off x="1331640" y="26362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4903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Druhy komunikačních proce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765000"/>
            <a:ext cx="8136000" cy="5832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nitř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pro zajištění komunikačních procesů uvnitř podniku js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důležité formy komunikace a komunikační kaná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formy komunik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úst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erbáln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osobní rozmluvy ,okamžitá zpětná vazba- úspora času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rychlost, účin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everbál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plňuje ústní komunikaci, pohyb rukou, výraz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              obličeje, postoj, odstup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ísemná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kyny určujíc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o a jak má bý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koná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nařízení, opatření, příkazy,směrnice, výrobní příkazy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pětná vazba co a jak bylo vykoná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evidence výroby, dodací list, příjemka, reklamační li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elektronick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telekomunikace, telefon, email, Skype,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nější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propojení podniku s okolím, velmi rozsáhlé komunikační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ostřednictvím spojové komunikace – poštovní, telefaxov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telekomunikační, rozhlasové, televizní, počítačo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Další rozdělení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980640"/>
            <a:ext cx="8229600" cy="54723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ersonální 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jeden člověk sděluje něco druhému člověku a střídají se role vypravěče a poslucha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kupinová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voří každý s každým a projevují se role jednotlivých členů (internetové sociální sít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sová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sáhne v krátké době velké množství lidí (televize, internet, tisk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izuální 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řednictvím informačních médií, reklamní poutače, dopravní značení, tištěné ovládací prvky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bdélník 1"/>
          <p:cNvSpPr/>
          <p:nvPr/>
        </p:nvSpPr>
        <p:spPr>
          <a:xfrm>
            <a:off x="324000" y="189000"/>
            <a:ext cx="8496000" cy="3529800"/>
          </a:xfrm>
          <a:prstGeom prst="rect">
            <a:avLst/>
          </a:prstGeom>
          <a:solidFill>
            <a:srgbClr val="ebf1de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79646"/>
                </a:solidFill>
                <a:latin typeface="Calibri"/>
                <a:ea typeface="Times New Roman"/>
              </a:rPr>
              <a:t>Komunikační kanály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) formální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- komunikace směrem dolů (porady, směrnice, příkazy..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komunikace směrem nahoru (sdělení, úkoly, informace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komunikace horizontální (mezi útvary podniku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komunikace diagonální - úhlopříčná (na různých úrovních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) neformální: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náhodná osobní setkání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7.2. Nedostatky v komunik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417680"/>
            <a:ext cx="8229600" cy="5035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Calibri"/>
              </a:rPr>
              <a:t>Předpoklady správného fungování komunikace v organiz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hodná organizace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povídající odborná i lidská kvalita managemen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ousměrná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držování komunikačních zásad a et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ěsná spolupráce vrcholového vedení s ostatními skupinami vedoucích pracov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sobní příklady  manažer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vdivá a otevřená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2-21T09:24:47Z</dcterms:modified>
  <cp:revision>771</cp:revision>
  <dc:subject/>
  <dc:title>PM 101 – Management I.</dc:title>
</cp:coreProperties>
</file>