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659-214D-4A64-845D-FE43E66F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5B2-D4B4-4F45-988A-674A8D2B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52C-CE44-46ED-896A-00CDA02A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AB7-8280-4121-8B7B-7EB6413B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F9E-5C65-4DF0-88EB-A22AF24C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D11-9491-4E0A-992F-3155D606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A7C-FF53-4709-8CD7-DBDD81EC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C58-FE02-47BC-A6BC-044BFCC5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F09-DA0B-4A32-AC0A-F6913FA1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A28-CE4F-4A85-91BF-C8D14C6F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BA4-69FD-4FDC-A2F0-51FA4728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687-7D94-498D-A8B8-CB34A1AE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54AD-47DA-4D01-9440-46EBE9721E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08 _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003640" y="5589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4906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ychlá návratnost investic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4920" y="765000"/>
            <a:ext cx="828036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louhodobý cí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a vychází z vynaložené investice do výroby neb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ního za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estiž, jedinečnost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še ceny je úměrná výši kvality, prestiže a jedin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u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a se snaží dosáhnout nejlepší pozice na trhu vysok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valitou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ěrný zákazník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rma vychází ze snahy získat věrného zákazníka, kterém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bízí nižší cenu než ostatním kupujíc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Hodnota výrobku a zákazní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836640"/>
            <a:ext cx="8229600" cy="5689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zákazník vnímá hodnotu určitého výrobku nebo služb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ovlivněno marketingovou strategii, která kromě cenové politiky spoléhá na vliv obalu, roli značky a jiné služby, kte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vlivňují zákazníka při jeho rozhodování o kou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ílnou součástí této taktiky je propagace-komunikace se zákazníkem a cíl donutit ho ke kou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azník se při koupi nechová vždy racionál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liš nízká cena jej mnohdy odrazuje, považuje ji za podezřel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azníka často ovlivňuje prostředí nákupu nebo líbivý o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rma si musí zjistit kolik jsou zákazníci ochotni za daný produkt zapla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8.3 Metody stanovování ce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tvorby ceny závisí na firemní strategii a na prostředí, ve kterém se firma nacház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ležitou roli hraje to, zda firma volí krátkodobý nebo dlouhodobý cí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ležitá je také fáze životního cyklu, ve kterém se výrobek nacház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Metody stanovování cen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na orientovaná na  ná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na orientovaná na poptáv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na orientovaná na konkure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na orientovaná na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na orientovaná na nákl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836640"/>
            <a:ext cx="8496000" cy="5688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chází z nákladů a zisk se vypočítává procentním podílem          k náklad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utné zohlednit nejen výrobní náklady a zisk výrobce, ale i daň a obchodní rozpětí – marži obch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arže obchod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rozdíl mezi tržbami za prodej zboží a náklady na ně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nalože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obchodní přiráž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rozdíl v cenách nákupu a prod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louží k úhradě nákladů spojených s prodejem zboží a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chodníkovi z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stanovena procentní sazbou, kterou si určuje sám obchod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Ceny v obchod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ůže být: - stejná pro všechny dru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dlišná pro jednotlivé dru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rčena pevnou částk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 podobě srážky (rabatu) z prodejní c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truktura v obchod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ny v obchodě jsou smluvní, tzn. že nejsou direktivní něký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rčová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hou být stanoven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od výrobce k velkoobchod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výrobní N + zisk + D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od velkoobchodu k maloobch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cena od výrobce + marže velkoobchodu + D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od maloobchodu ke spotřebi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cena od velkoobchodu + marže maloobchodu + D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z rentability – kritický b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dává minimální rentabilní vyráběné množství výrob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Bodem zvratu se rozum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kový objem prodaných výrobků, při kterém tržby   (výnosy) z prodeje uhradí jen vynaložené celkové náklady, tzn. že zisk je nulov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ý další prodaný výrobek firmě přináší zisk, a naop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rodaný výrobek prohlubuje ztrá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Analýza bodu zvratu udává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743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je minimální množství výroby, které zabezpečí rentabilní výro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743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jsou maximální výrobní náklady výrobku, aniž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7430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yl ztrátov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647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Cena orientovaná na poptáv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statou je, že se cena stanovuje na základě odhadu prod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vychází z elasticity poptá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nová elasticita (pružnost) poptá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schopnost poptávky rychle reagovat na cenový pohy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jadřuje citlivost poptávky na změny c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načí se 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vypočítá se podle vzo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 =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% změna poptávaného množství / % změna c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Cena orientovaná na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na se určuje na základě hodnoty vnímané zákazní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ůležitou roli zde má prestiž, kvalita, exkluzivnost (urče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n pro někoho), mód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Cena orientovaná na konkure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ypické pro ni j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chází z tržní ceny a respektuje cenu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firma může volit cen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šší než konkurence – u značkového a kvalitního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ižší než konkurence – u neznačkového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ou jako konkurence – firma spoléhá na jinou výh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značkový výrobek, vyšší kvalita, efektivnější distrib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561960"/>
          </a:xfrm>
          <a:prstGeom prst="rect">
            <a:avLst/>
          </a:prstGeom>
          <a:solidFill>
            <a:srgbClr val="b9cde5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rafické vyjádření podstaty meze ren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836280"/>
            <a:ext cx="8713800" cy="52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nosy/náklady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celkové výnosy-C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/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celkové náklady-C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cs-C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d zvratu-B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     </a:t>
            </a:r>
            <a:r>
              <a:rPr b="1" lang="cs-CZ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mez rentabilit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cs-CZ" sz="1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variabilní náklady-V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cs-CZ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fixní náklady-F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Z                                              množství výrobků – Q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ost budoucí ztráty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ost budoucího zisku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římá spojovací čára 4"/>
          <p:cNvSpPr/>
          <p:nvPr/>
        </p:nvSpPr>
        <p:spPr>
          <a:xfrm>
            <a:off x="1763640" y="1484280"/>
            <a:ext cx="0" cy="374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8"/>
          <p:cNvSpPr/>
          <p:nvPr/>
        </p:nvSpPr>
        <p:spPr>
          <a:xfrm>
            <a:off x="1763640" y="5229360"/>
            <a:ext cx="633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0"/>
          <p:cNvSpPr/>
          <p:nvPr/>
        </p:nvSpPr>
        <p:spPr>
          <a:xfrm flipV="1">
            <a:off x="1763640" y="4292280"/>
            <a:ext cx="6193080" cy="73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římá spojovací čára 13"/>
          <p:cNvSpPr/>
          <p:nvPr/>
        </p:nvSpPr>
        <p:spPr>
          <a:xfrm flipV="1">
            <a:off x="1763640" y="1700280"/>
            <a:ext cx="5184720" cy="2665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5"/>
          <p:cNvSpPr/>
          <p:nvPr/>
        </p:nvSpPr>
        <p:spPr>
          <a:xfrm flipV="1">
            <a:off x="1763640" y="1557000"/>
            <a:ext cx="388800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římá spojovací čára 17"/>
          <p:cNvSpPr/>
          <p:nvPr/>
        </p:nvSpPr>
        <p:spPr>
          <a:xfrm>
            <a:off x="3708360" y="3357720"/>
            <a:ext cx="0" cy="244764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9"/>
          <p:cNvSpPr/>
          <p:nvPr/>
        </p:nvSpPr>
        <p:spPr>
          <a:xfrm>
            <a:off x="1763640" y="5157720"/>
            <a:ext cx="7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21"/>
          <p:cNvSpPr/>
          <p:nvPr/>
        </p:nvSpPr>
        <p:spPr>
          <a:xfrm flipV="1">
            <a:off x="1763640" y="2924280"/>
            <a:ext cx="5904000" cy="2233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6cípá hvězda 24"/>
          <p:cNvSpPr/>
          <p:nvPr/>
        </p:nvSpPr>
        <p:spPr>
          <a:xfrm>
            <a:off x="3564000" y="3213000"/>
            <a:ext cx="360360" cy="287280"/>
          </a:xfrm>
          <a:custGeom>
            <a:avLst/>
            <a:gdLst/>
            <a:ahLst/>
            <a:rect l="l" t="t" r="r" b="b"/>
            <a:pathLst>
              <a:path w="360362" h="287338">
                <a:moveTo>
                  <a:pt x="0" y="71835"/>
                </a:moveTo>
                <a:lnTo>
                  <a:pt x="120120" y="71833"/>
                </a:lnTo>
                <a:lnTo>
                  <a:pt x="180181" y="0"/>
                </a:lnTo>
                <a:lnTo>
                  <a:pt x="240242" y="71833"/>
                </a:lnTo>
                <a:lnTo>
                  <a:pt x="360362" y="71835"/>
                </a:lnTo>
                <a:lnTo>
                  <a:pt x="300304" y="143669"/>
                </a:lnTo>
                <a:lnTo>
                  <a:pt x="360362" y="215504"/>
                </a:lnTo>
                <a:lnTo>
                  <a:pt x="240242" y="215505"/>
                </a:lnTo>
                <a:lnTo>
                  <a:pt x="180181" y="287338"/>
                </a:lnTo>
                <a:lnTo>
                  <a:pt x="120120" y="215505"/>
                </a:lnTo>
                <a:lnTo>
                  <a:pt x="0" y="215504"/>
                </a:lnTo>
                <a:lnTo>
                  <a:pt x="60058" y="143669"/>
                </a:lnTo>
                <a:lnTo>
                  <a:pt x="0" y="7183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Přímá spojovací šipka 26"/>
          <p:cNvCxnSpPr/>
          <p:nvPr/>
        </p:nvCxnSpPr>
        <p:spPr>
          <a:xfrm>
            <a:off x="3203280" y="2637000"/>
            <a:ext cx="432360" cy="505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Přímá spojovací šipka 29"/>
          <p:cNvCxnSpPr/>
          <p:nvPr/>
        </p:nvCxnSpPr>
        <p:spPr>
          <a:xfrm flipV="1">
            <a:off x="3779640" y="3715920"/>
            <a:ext cx="432360" cy="2181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12" name="Přímá spojovací šipka 32"/>
          <p:cNvCxnSpPr/>
          <p:nvPr/>
        </p:nvCxnSpPr>
        <p:spPr>
          <a:xfrm>
            <a:off x="3779640" y="5444640"/>
            <a:ext cx="1656360" cy="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3" name="Přímá spojovací šipka 34"/>
          <p:cNvCxnSpPr/>
          <p:nvPr/>
        </p:nvCxnSpPr>
        <p:spPr>
          <a:xfrm flipH="1">
            <a:off x="2050200" y="5444640"/>
            <a:ext cx="1585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solidFill>
            <a:srgbClr val="b9cde5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ez rentability – kritický b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dává  minimální rentabilní (výnosné) vyráběné množství výrobků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odem zvratu se rozum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akový objem prodaných výrobků , při kterém tržby (výnosy) z prodeje uhradí jen vynaložené celkové náklady,tzn. že zisk je nulový ( proto také označení – nulový bod, bod krytí nákladů,práh rentability nebo kritický bod rentability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ždý další prodaný výrobek firmě přináší zisk, a naopak neprodaný výrobek prohlubuje ztrá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alýza bodu zvratu odpovídá na otázk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aké je minimální množství  výroby, které zabezpečí renta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ro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aké jsou maximální výrobní náklady výrobku aniž by byl ztrátov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počet : BZ = QZ = FN   ( P – VN )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 – cena jednoho výrobku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římá spojovací čára 12"/>
          <p:cNvSpPr/>
          <p:nvPr/>
        </p:nvSpPr>
        <p:spPr>
          <a:xfrm flipH="1">
            <a:off x="3634920" y="5661000"/>
            <a:ext cx="28908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9cde5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8.4 Cenové strate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Skimming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podstatou je získat z tržního podílu co nejvyšš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isk pro fir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Pronik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firma musí stanovit co nejnižší cenu, aby na sv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ranu přilákala zákazníky, pro které právě nízká cena bude priorit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Psychologi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ceny a cenové triky  - některé firmy se snaží stanovit cenu vyšší a zároveň v propagaci zdůrazňují kvali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řednosti daného výrobku, dalším možným přístup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 stanovování ceny je snaha vzbudit u zákazníka pocit, že za vynaložené peníze získá mnohem ví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Příkladem cenové psychologie a triků mohou bý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estižní cen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ysoká cena navozuje pocit kvality, výjimečnosti, exkluzivnosti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eny končící číslicí 9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ypadají opticky nižší (99,-Kč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enové řad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zboží se prodává např. ve třech cenových hladiná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ocentní slev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ři koupi se rovnou odečte procentní sle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Umělá cen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cena se uměle zvýší, aby se posléze sníži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ena zahrnující dva výrobk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nožstevní sle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ezonní výprod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ena včetně kuponu na slev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1800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440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953735"/>
                </a:solidFill>
                <a:latin typeface="Calibri"/>
              </a:rPr>
              <a:t>Cen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8.1 Charakteristika ce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46c0a"/>
                </a:solidFill>
                <a:uFillTx/>
                <a:latin typeface="Calibri"/>
              </a:rPr>
              <a:t>Cena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eněžní částka účtovaná za výrobek nebo službu, případ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hrn všech hodnot, které zákazníci vymění za užit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vlastnictví nebo užívání výrobku nebo služ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še peněžní úhrady zaplacená na trhu za prodaný produ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jadřuje hodnotu výrobku nebo služ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ejvýznamnější marketingový nástroj obsažený v marketingovém mixu a lze ji nejčastěji a nejrychleji mě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náší firmě příj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351640" cy="720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Faktory ovlivňující výši ceny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1000"/>
            <a:ext cx="8362800" cy="5145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Interní faktor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áklady na vývoj, výrobu, distribuci, prod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 propag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áklady určují spodní hranici c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čím nižší jsou náklady, tím nižší je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uto metodu používali T. Baťa (masová výroba)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H. Ford (pásová výro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Externí faktor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poptávka,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mezují horní hranici c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704000" cy="6332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řijatelnost cen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000" y="907560"/>
            <a:ext cx="772452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a, za kterou jsou kupující ochotni daný výrobek koup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naopak prodávající prod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to cena se v podmínkách dokonalé konkurence nazý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enou rovnovážn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raf tržní rovnováhy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ijatelná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                S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e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Q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nožstv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cs-CZ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říliš vysoká cen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  - rovnovážná ce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řijatelná ce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Q  - rovnovážné množstv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říliš nízká ce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římá spojovací čára 4"/>
          <p:cNvSpPr/>
          <p:nvPr/>
        </p:nvSpPr>
        <p:spPr>
          <a:xfrm>
            <a:off x="1476360" y="3716280"/>
            <a:ext cx="0" cy="1657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římá spojovací čára 6"/>
          <p:cNvSpPr/>
          <p:nvPr/>
        </p:nvSpPr>
        <p:spPr>
          <a:xfrm>
            <a:off x="1476360" y="5373720"/>
            <a:ext cx="19432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římá spojovací čára 9"/>
          <p:cNvSpPr/>
          <p:nvPr/>
        </p:nvSpPr>
        <p:spPr>
          <a:xfrm>
            <a:off x="5076720" y="3645000"/>
            <a:ext cx="0" cy="172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římá spojovací čára 11"/>
          <p:cNvSpPr/>
          <p:nvPr/>
        </p:nvSpPr>
        <p:spPr>
          <a:xfrm>
            <a:off x="5076720" y="5373720"/>
            <a:ext cx="2303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římá spojovací čára 13"/>
          <p:cNvSpPr/>
          <p:nvPr/>
        </p:nvSpPr>
        <p:spPr>
          <a:xfrm>
            <a:off x="1763640" y="4005360"/>
            <a:ext cx="136836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římá spojovací čára 15"/>
          <p:cNvSpPr/>
          <p:nvPr/>
        </p:nvSpPr>
        <p:spPr>
          <a:xfrm flipV="1">
            <a:off x="1692360" y="4005360"/>
            <a:ext cx="1439640" cy="10792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římá spojovací čára 17"/>
          <p:cNvSpPr/>
          <p:nvPr/>
        </p:nvSpPr>
        <p:spPr>
          <a:xfrm>
            <a:off x="5796000" y="3716280"/>
            <a:ext cx="0" cy="165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římá spojovací čára 20"/>
          <p:cNvSpPr/>
          <p:nvPr/>
        </p:nvSpPr>
        <p:spPr>
          <a:xfrm>
            <a:off x="6588000" y="3645000"/>
            <a:ext cx="0" cy="172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římá spojovací čára 30"/>
          <p:cNvSpPr/>
          <p:nvPr/>
        </p:nvSpPr>
        <p:spPr>
          <a:xfrm>
            <a:off x="2411280" y="4508640"/>
            <a:ext cx="0" cy="86508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římá spojovací čára 34"/>
          <p:cNvSpPr/>
          <p:nvPr/>
        </p:nvSpPr>
        <p:spPr>
          <a:xfrm>
            <a:off x="1476360" y="4508640"/>
            <a:ext cx="934920" cy="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Vývojový diagram: spojka 16"/>
          <p:cNvSpPr/>
          <p:nvPr/>
        </p:nvSpPr>
        <p:spPr>
          <a:xfrm>
            <a:off x="6732720" y="3573360"/>
            <a:ext cx="384120" cy="3603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Vývojový diagram: spojka 19"/>
          <p:cNvSpPr/>
          <p:nvPr/>
        </p:nvSpPr>
        <p:spPr>
          <a:xfrm>
            <a:off x="6012000" y="3573360"/>
            <a:ext cx="360360" cy="3603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Vývojový diagram: spojka 21"/>
          <p:cNvSpPr/>
          <p:nvPr/>
        </p:nvSpPr>
        <p:spPr>
          <a:xfrm>
            <a:off x="5219640" y="3573360"/>
            <a:ext cx="360360" cy="36036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Vývojový diagram: spojka 26"/>
          <p:cNvSpPr/>
          <p:nvPr/>
        </p:nvSpPr>
        <p:spPr>
          <a:xfrm>
            <a:off x="4788000" y="5445000"/>
            <a:ext cx="312480" cy="2876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Vývojový diagram: spojka 27"/>
          <p:cNvSpPr/>
          <p:nvPr/>
        </p:nvSpPr>
        <p:spPr>
          <a:xfrm>
            <a:off x="4788000" y="5805360"/>
            <a:ext cx="312480" cy="2876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Vývojový diagram: spojka 28"/>
          <p:cNvSpPr/>
          <p:nvPr/>
        </p:nvSpPr>
        <p:spPr>
          <a:xfrm>
            <a:off x="4788000" y="6165720"/>
            <a:ext cx="312480" cy="28764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louk 29"/>
          <p:cNvSpPr/>
          <p:nvPr/>
        </p:nvSpPr>
        <p:spPr>
          <a:xfrm>
            <a:off x="5364000" y="4076640"/>
            <a:ext cx="1872000" cy="1224000"/>
          </a:xfrm>
          <a:custGeom>
            <a:avLst/>
            <a:gdLst/>
            <a:ahLst/>
            <a:rect l="l" t="t" r="r" b="b"/>
            <a:pathLst>
              <a:path stroke="0" w="1871662" h="1223963">
                <a:moveTo>
                  <a:pt x="126" y="601939"/>
                </a:moveTo>
                <a:cubicBezTo>
                  <a:pt x="8499" y="268325"/>
                  <a:pt x="423981" y="581"/>
                  <a:pt x="934205" y="1"/>
                </a:cubicBezTo>
                <a:cubicBezTo>
                  <a:pt x="1442737" y="-577"/>
                  <a:pt x="1858904" y="264515"/>
                  <a:pt x="1871381" y="596967"/>
                </a:cubicBezTo>
                <a:lnTo>
                  <a:pt x="935831" y="611982"/>
                </a:lnTo>
                <a:lnTo>
                  <a:pt x="126" y="601939"/>
                </a:lnTo>
                <a:close/>
              </a:path>
              <a:path fill="none" w="1871662" h="1223963">
                <a:moveTo>
                  <a:pt x="126" y="601939"/>
                </a:moveTo>
                <a:cubicBezTo>
                  <a:pt x="8499" y="268325"/>
                  <a:pt x="423981" y="581"/>
                  <a:pt x="934205" y="1"/>
                </a:cubicBezTo>
                <a:cubicBezTo>
                  <a:pt x="1442737" y="-577"/>
                  <a:pt x="1858904" y="264515"/>
                  <a:pt x="1871381" y="596967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Typy ce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836280"/>
            <a:ext cx="8496000" cy="52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cena pev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ntrálně řízená ekonom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latná na celém území stá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neexistuje konkurence nenutí k šetření nákla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cena pohybliv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ická pro tržní ekonom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určována nabídkou a poptávko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nabídka    poptávk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cena klesá, výrobci nemají zá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 výrobu, klesá nabízené množství na trhu, cena ros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nabídka     poptávk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cena stoupá, zájem výrobců j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velký, nasycení trhu, cena kles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nabídka = poptávk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cena vyčišťující t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římá spojovací čára 4"/>
          <p:cNvSpPr/>
          <p:nvPr/>
        </p:nvSpPr>
        <p:spPr>
          <a:xfrm>
            <a:off x="2627280" y="3645000"/>
            <a:ext cx="144360" cy="71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římá spojovací čára 6"/>
          <p:cNvSpPr/>
          <p:nvPr/>
        </p:nvSpPr>
        <p:spPr>
          <a:xfrm flipH="1">
            <a:off x="2626920" y="3716280"/>
            <a:ext cx="144360" cy="730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římá spojovací čára 8"/>
          <p:cNvSpPr/>
          <p:nvPr/>
        </p:nvSpPr>
        <p:spPr>
          <a:xfrm flipV="1">
            <a:off x="2700360" y="4508640"/>
            <a:ext cx="142920" cy="72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římá spojovací čára 10"/>
          <p:cNvSpPr/>
          <p:nvPr/>
        </p:nvSpPr>
        <p:spPr>
          <a:xfrm>
            <a:off x="2700360" y="4581360"/>
            <a:ext cx="142920" cy="71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solidFill>
            <a:srgbClr val="b9cde5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8.2 Cíle podniku při stanovování ce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novování ceny by mělo vycházet z celkové marketingové strate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rčení správné výše ceny výrazně ovlivňu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rat firmy, z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mage a tržní podí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ejčastější cíl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ximalizace zis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na se stanovuje v takové výši, aby firmě přinesla 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jvětší tržby z prod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ximálního zisku lze dosáhnout v krátké době vysok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n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4176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ržní podí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691920"/>
            <a:ext cx="842472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louhodobý cí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bsazení co největšího tržního podílu lze dosáhn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novením co nejnižší c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likvidace konkurenc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átkodobý cí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na se stanovuje v takové výši, kterou si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ůže dovol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čáteční ztráta si firma vynahradí po získání dominantní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tavení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žit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rátkodobý cíl, firma á potíže s odby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a stanovuje co nejnižší cenu, aby vyprodala zá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udržela výrobu v ch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2-04T16:45:02Z</dcterms:modified>
  <cp:revision>63</cp:revision>
  <dc:subject/>
  <dc:title>8</dc:title>
</cp:coreProperties>
</file>