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879-E906-4099-9B17-4C7F0093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B9A-6467-41C4-8D00-724C9CE6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59E-4696-450F-84F2-1971D3D5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8B5-E6AD-4BEA-8248-4D1B81C1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8AA-E43A-4FF1-B730-F267C8A1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817-04A0-4E0C-9A30-4816A914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2B8-C588-464B-ABB6-F8D62F35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A17-D4FA-4CE5-8110-4E770AF2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906-7C81-47C9-B38E-23B0D9ED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023-C234-457A-9C88-79A8CB9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EE9-2241-4E1F-88EE-A9014392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8E4-4570-4E66-A15D-840A0E4A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B1C-51D1-4BBF-9195-6BDD8D841E66}" type="slidenum">
              <a:rPr b="1" lang="cs-CZ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lán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115_Manag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148360" y="5589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: Ing. Vladimír Havel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064720" cy="647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Členění z hlediska důležitosti soustavy plánů v tržní ekonomi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280" y="3499920"/>
            <a:ext cx="8086680" cy="26989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marketingové plá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plány výzkumu, rozvoje a vývoje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vestiční navazující na mark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plány finanční -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bezpečují finanční zdro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plány prodeje, zásobování a výroby v daném pořad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bdélník 3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Členění plánů z hlediska plánovacích prostředků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Obdélník 4"/>
          <p:cNvSpPr/>
          <p:nvPr/>
        </p:nvSpPr>
        <p:spPr>
          <a:xfrm>
            <a:off x="539640" y="836640"/>
            <a:ext cx="8064720" cy="1043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naturální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staven pomocí naturálních ukazatelů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hodnotové, finanční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stavené pomocí korunového vyjádřen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konomických ukazatelů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576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Přenos informací jednotlivých plán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765000"/>
            <a:ext cx="8229600" cy="5904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nos informací je nezbytnou součástí celého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informačního proces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nezbytnou součástí říz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Fáze informačního proces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áze – stanovení strategických cí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louhodobé, strategické , obecné cíle jsou sděleny všem osob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ející se na řízení firmy, mohou být tak vypracovány na nejvyšší úrovni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zení  organizace ve spolupráci s vedoucími nižších organizačních jednot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áze – formulace konkrétních cílů a úko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ecné cíle se transformují na konkrétnější úkoly daného úseku, divize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děle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áze – průběžné hodnocení plnění stanovených cí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poradách se hodnotí stanovení cílů, reálnost jejich dosažení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ktuální stav, nesplnění , dosažení cílů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áze – operativní zjištění o stavu plnění úko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avidelné porady kde se zjišťuje stav plnění operativních, ale 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louhodobých cílů organizace a pokud je nutné provede se opatře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Základní plánovací katego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692280"/>
            <a:ext cx="8229600" cy="5976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mysl či poslání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ruh organizovaných činností má mít smysl či posl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ždý sociální systém, každý podnik má základ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       funkci či úlohu, která je mu přiřazena společnos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koly či cíle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dstavují konec ke,kterému činnosti směřu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rategie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louhodobé základní cíle, způsob činností a zdroje k jejich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dosaž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aktiky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šeobecně určují či objasňují postupy nebo způsob uvažování při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rozhodov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tupy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rčují a vyžadují metody provádění činností, představují návody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jak provádět čin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avidla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rčují specifické požadavky na čin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gramy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sou souhrnem cílů, taktik, postupů, pravidel, přidělených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úkolů, potřebných kroků a využívání zdroj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ozpočty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ány zisku, numerické stanovení očekávaných výsled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80360" cy="7189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15.3 Komplexní strategické plánová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907920"/>
            <a:ext cx="8280360" cy="5688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rategi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dlouhodobý záměr činnosti k dosažen určitého cí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tvořeno na úrovni TOP manaže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ěkdy je komplexní strategický plán označován z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dnikatelský  plán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ůže být vypracován pro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ílčí podnikatelské projek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Základem tohoto procesu jsou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délník 4"/>
          <p:cNvSpPr/>
          <p:nvPr/>
        </p:nvSpPr>
        <p:spPr>
          <a:xfrm>
            <a:off x="826920" y="3429000"/>
            <a:ext cx="2160720" cy="72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oučasná strategie firmy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Obdélník 5"/>
          <p:cNvSpPr/>
          <p:nvPr/>
        </p:nvSpPr>
        <p:spPr>
          <a:xfrm>
            <a:off x="826920" y="4581360"/>
            <a:ext cx="2160720" cy="64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nalýza okol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bdélník 6"/>
          <p:cNvSpPr/>
          <p:nvPr/>
        </p:nvSpPr>
        <p:spPr>
          <a:xfrm>
            <a:off x="826920" y="5732640"/>
            <a:ext cx="2160720" cy="647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nitřní analýz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bdélník 7"/>
          <p:cNvSpPr/>
          <p:nvPr/>
        </p:nvSpPr>
        <p:spPr>
          <a:xfrm>
            <a:off x="3635280" y="4581360"/>
            <a:ext cx="2160720" cy="6480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Strategické úkoly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bdélník 8"/>
          <p:cNvSpPr/>
          <p:nvPr/>
        </p:nvSpPr>
        <p:spPr>
          <a:xfrm>
            <a:off x="6300720" y="4581360"/>
            <a:ext cx="2160720" cy="648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rategi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2" name="Přímá spojovací šipka 28"/>
          <p:cNvCxnSpPr>
            <a:stCxn id="78" idx="3"/>
            <a:endCxn id="80" idx="1"/>
          </p:cNvCxnSpPr>
          <p:nvPr/>
        </p:nvCxnSpPr>
        <p:spPr>
          <a:xfrm>
            <a:off x="2987280" y="4905000"/>
            <a:ext cx="648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Přímá spojovací šipka 30"/>
          <p:cNvCxnSpPr>
            <a:stCxn id="80" idx="3"/>
            <a:endCxn id="81" idx="1"/>
          </p:cNvCxnSpPr>
          <p:nvPr/>
        </p:nvCxnSpPr>
        <p:spPr>
          <a:xfrm>
            <a:off x="5796000" y="4905000"/>
            <a:ext cx="505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Přímá spojovací šipka 32"/>
          <p:cNvCxnSpPr>
            <a:stCxn id="77" idx="3"/>
            <a:endCxn id="80" idx="1"/>
          </p:cNvCxnSpPr>
          <p:nvPr/>
        </p:nvCxnSpPr>
        <p:spPr>
          <a:xfrm>
            <a:off x="2987280" y="3789360"/>
            <a:ext cx="64836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Přímá spojovací šipka 34"/>
          <p:cNvCxnSpPr>
            <a:stCxn id="79" idx="3"/>
            <a:endCxn id="80" idx="1"/>
          </p:cNvCxnSpPr>
          <p:nvPr/>
        </p:nvCxnSpPr>
        <p:spPr>
          <a:xfrm flipV="1">
            <a:off x="2987280" y="4904640"/>
            <a:ext cx="648360" cy="1151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504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Druhy strategi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000" y="764640"/>
            <a:ext cx="8064360" cy="5759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dnikatelské strate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ypickým rysem je snaha určit konkurenční  výhod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nízkých náklad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naha získat dlouhodobé výh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diferenciac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ede k tomu,že podnik poskytuje něco jedinečného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 čehož si kupující cení více než např. nízké ce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ohniska/tržní mezer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zchází z nalezení takového trhu, který je pro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firmu zajímav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ruhy strategií z hlediska inovačního zaměře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fenziv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strategie „ prvního na trhu 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írně ofenziv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rategie „ druhého na trhu 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efenzivní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držení vymezené tržní poz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ůstatková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zaměřená na přeži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Matice růstu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836280"/>
            <a:ext cx="8362800" cy="52894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efinuje čtyři možná strategická řešen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strategie proniká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roniknutí se stávajícími  produkty n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stávající t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strategie rozvoje trh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nabídnout stávající výrobek na nových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trz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strategie rozvoje výrobk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rosadit na plně obsazeném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ým výrob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strategie diversifika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nabídnutí zcela nových výrobků na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novém tr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647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atice růstu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rob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ávajíc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nov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čas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3276720" y="2349360"/>
            <a:ext cx="2232000" cy="12240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rategie pronikán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bdélník 6"/>
          <p:cNvSpPr/>
          <p:nvPr/>
        </p:nvSpPr>
        <p:spPr>
          <a:xfrm>
            <a:off x="5940360" y="2349360"/>
            <a:ext cx="2232000" cy="12240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rategie rozvoje výrobk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5940360" y="3860640"/>
            <a:ext cx="2232000" cy="1224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rategie diversifika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3276720" y="3860640"/>
            <a:ext cx="2232000" cy="122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rategie rozvoje trh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římá spojovací čára 10"/>
          <p:cNvSpPr/>
          <p:nvPr/>
        </p:nvSpPr>
        <p:spPr>
          <a:xfrm>
            <a:off x="3059280" y="37162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římá spojovací čára 12"/>
          <p:cNvSpPr/>
          <p:nvPr/>
        </p:nvSpPr>
        <p:spPr>
          <a:xfrm>
            <a:off x="5724360" y="220500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209080" cy="4903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Metoda BC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764640"/>
            <a:ext cx="8229600" cy="5688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etoda pro analýzu portfolia firmy, využívá kritéria podílu na trhu a růs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sok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chopnost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jímat dalš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rob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ízk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cs-CZ" sz="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al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ý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díl na trh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el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Hvězd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výrobky, znaný podíl na trhu, je o ně záj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jné kráv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výrazný podíl na trhu,není předpoklad přírůstku odby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tazník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malý podíl na trhu, je o něj velký záj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Bídní psi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minimální podíl na trhu, není o něj záj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59280" y="1844640"/>
          <a:ext cx="4943160" cy="2573280"/>
        </p:xfrm>
        <a:graphic>
          <a:graphicData uri="http://schemas.openxmlformats.org/drawingml/2006/table">
            <a:tbl>
              <a:tblPr/>
              <a:tblGrid>
                <a:gridCol w="2452680"/>
                <a:gridCol w="2490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azník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           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ězdy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1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ídní ps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jné kráv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cxnSp>
        <p:nvCxnSpPr>
          <p:cNvPr id="101" name="Přímá spojovací šipka 5"/>
          <p:cNvCxnSpPr/>
          <p:nvPr/>
        </p:nvCxnSpPr>
        <p:spPr>
          <a:xfrm>
            <a:off x="1618920" y="220500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Přímá spojovací šipka 9"/>
          <p:cNvCxnSpPr/>
          <p:nvPr/>
        </p:nvCxnSpPr>
        <p:spPr>
          <a:xfrm flipV="1">
            <a:off x="1618920" y="364464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Přímá spojovací šipka 12"/>
          <p:cNvCxnSpPr/>
          <p:nvPr/>
        </p:nvCxnSpPr>
        <p:spPr>
          <a:xfrm>
            <a:off x="1979280" y="2060280"/>
            <a:ext cx="1080360" cy="1080"/>
          </a:xfrm>
          <a:prstGeom prst="straightConnector1">
            <a:avLst/>
          </a:prstGeom>
          <a:ln w="9360">
            <a:solidFill>
              <a:srgbClr val="1e1c11"/>
            </a:solidFill>
            <a:miter/>
            <a:tailEnd len="med" type="arrow" w="med"/>
          </a:ln>
        </p:spPr>
      </p:cxnSp>
      <p:cxnSp>
        <p:nvCxnSpPr>
          <p:cNvPr id="104" name="Přímá spojovací šipka 14"/>
          <p:cNvCxnSpPr/>
          <p:nvPr/>
        </p:nvCxnSpPr>
        <p:spPr>
          <a:xfrm>
            <a:off x="1979640" y="4292280"/>
            <a:ext cx="10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kt 2"/>
          <p:cNvGraphicFramePr/>
          <p:nvPr/>
        </p:nvGraphicFramePr>
        <p:xfrm>
          <a:off x="826920" y="333360"/>
          <a:ext cx="7560000" cy="591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33360"/>
                    <a:ext cx="75600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kt 2"/>
          <p:cNvGraphicFramePr/>
          <p:nvPr/>
        </p:nvGraphicFramePr>
        <p:xfrm>
          <a:off x="684360" y="189000"/>
          <a:ext cx="7559640" cy="59166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8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89000"/>
                    <a:ext cx="755964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15236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561440" cy="23749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Plánování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08720" cy="93672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53735"/>
                </a:solidFill>
                <a:latin typeface="Calibri"/>
              </a:rPr>
              <a:t>15.1 Plán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196640"/>
            <a:ext cx="8229600" cy="5327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Obsah a účel plán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ánování je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ákladní funkce říz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na její úrovni závisí ostatní fun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ánování je činnost, kdy řídící pracovník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ormuluje cíle a také cest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vedou k dosažení těchto cí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každého plánu by měly být zřejmé dvě skutečnost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čeh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chceme dosáhn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jak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toho chceme dosáhn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naží se při tom: 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lézt cíl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ožné, reálné a nezbyt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ymezit prostředk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třebné k jejich dosaž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anovit podmínk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 jejich využi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lézt nejvýhodnější cest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 dosažení plánovaných cí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římá spojovací čára 4"/>
          <p:cNvSpPr/>
          <p:nvPr/>
        </p:nvSpPr>
        <p:spPr>
          <a:xfrm>
            <a:off x="324000" y="1628640"/>
            <a:ext cx="820872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360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Stanovení c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549000"/>
            <a:ext cx="8229600" cy="6119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rozdělení cílů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becné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jsou typické a shodné pro většinu podniků v  tržní ekonom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aximalizace zisku, maximální ekonomický  růst podniku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zvýšení kvality výrobků a služeb, maximální podíl podniku n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trhu, obsazení speciálních trhů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pecifické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konkretizují obecné cíle jinými způsoby, metodami,  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různém čase, jiných stylech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inimalizace nákladů, navýšení základního jmění, nárů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vestiční čin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soustava cílů podniku, jejich vzájemné uspořádání a sladěn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cíle obecné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 základní, globální, firemní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cíle strategick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íle oblast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cíle organizačních člán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cíle funkčních mí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cíle individuá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920000" cy="6332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Skupinové, dílčí, individuální cíle</a:t>
            </a:r>
            <a:r>
              <a:rPr b="1" lang="cs-CZ" sz="44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907560"/>
            <a:ext cx="7931160" cy="52182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načný podíl pozornosti řídících pracovníků firmy musí být věnován také souladu obecných cílů firmy se zájmy a cíli skupinový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yto skupinové, dílčí až individuální cíle musí však být vždy  podřízeny cílům hlavní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V dnešním rozvrstvením firmy existují tři hlavní skupiny lidí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lastníci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 společníci, akcionáři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manažeři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 řídící pracovníci všech stupňů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aměstnanc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 zastoupeni odbory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720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Prognózy, vize a plány v plánovací čin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Z hlediska praktické náplně, funkce a času se rozlišují tyto základní pojm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prognózy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louhodobé výhledy vymezené určitými podmínkami, kter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 pokud budou splněny ) ovlivní v delším časovém horizon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udoucí 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naky prognóz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-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časový horizont přesahující několik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určité podmínky, které ovlivní budoucí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situa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vize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jmem vize jsou označovány ideje, nápady, myšlenky, představ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teré jsou realizovány v delším časovém horizontu 3-5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plány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sou považovány za nástroje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20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15.2 Členění plán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Členění plánů z hlediska funk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strategické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ormulují hlavní cíle, určují směry podnikání, trhy, stanov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investice, technologie, určuje tendenci ve vývoji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pracovních sil, základní orientaci výrobkovou, surovinov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odbytovou, vypracovávají TOP manaže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taktické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chází ze strategických plánů a specifikují prostředky k jejich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dosažení, konkretizují cíle v kratším časovém horizontu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vytváří finanční, technické, technologické a pracov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předpoklady pro zabezpečení daných úkolů, vypracovávaj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nažeři střední li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operativní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sou běžné plány, které reagují na okamžité situace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zabezpečují běžnou činnost podniku v neustále se měnícím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vnějším a vnitřním prostředí, mají převážně krátký časový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horizont, plány měsíční, dekádní, týdenní a denní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vypracovávají  manažeři první li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římá spojovací čára 4"/>
          <p:cNvSpPr/>
          <p:nvPr/>
        </p:nvSpPr>
        <p:spPr>
          <a:xfrm>
            <a:off x="395280" y="1197000"/>
            <a:ext cx="828036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bdélník 1"/>
          <p:cNvSpPr/>
          <p:nvPr/>
        </p:nvSpPr>
        <p:spPr>
          <a:xfrm>
            <a:off x="611280" y="260280"/>
            <a:ext cx="8064360" cy="3682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Členění plánů z hlediska času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Obdélník 2"/>
          <p:cNvSpPr/>
          <p:nvPr/>
        </p:nvSpPr>
        <p:spPr>
          <a:xfrm>
            <a:off x="611280" y="620640"/>
            <a:ext cx="8064360" cy="27320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dlouhodobé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esahují dobu 8-10 roků někdy i na 15 let dopředu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ěkdy i na 15 let, jsou považovány vzhledem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 nestabilitě ekonomiky za orientační, vychází z určité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cepce rozvoje firm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střednědobé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ány přesahující období 1 roku a maximálně do 4-6,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přesňují, plány dlouhodobé, jsou schopné reagov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změn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rátkodobé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ány do 1 roku, z hlediska funkce jsou to plány operativn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611280" y="4076640"/>
            <a:ext cx="8064360" cy="3682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Členění plánů z hlediska dynamiky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Obdélník 4"/>
          <p:cNvSpPr/>
          <p:nvPr/>
        </p:nvSpPr>
        <p:spPr>
          <a:xfrm>
            <a:off x="611280" y="4437000"/>
            <a:ext cx="8064360" cy="1043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stabilní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měnné, nezohledňuje případné změny v závislosti na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stalých situací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- pružné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ynamicky se přizpůsobují změně podmínek trhu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51:48Z</dcterms:created>
  <dc:creator>MiZ</dc:creator>
  <dc:description/>
  <dc:language>en-US</dc:language>
  <cp:lastModifiedBy>Havelka</cp:lastModifiedBy>
  <dcterms:modified xsi:type="dcterms:W3CDTF">2014-02-03T11:25:35Z</dcterms:modified>
  <cp:revision>768</cp:revision>
  <dc:subject/>
  <dc:title>PM 101 – Management I.</dc:title>
</cp:coreProperties>
</file>