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83D-1A8E-4969-9647-83C2EDFF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EF4-719E-4B98-BB05-80939A0B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05B-0457-4371-9EF0-B0CE55EF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25D-DBA3-4606-A72E-2E94F15F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7A5B-0438-4960-A2EE-9307931A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598-08C6-4E58-B0C7-380E7AE9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D73-583C-42AE-8038-5240BE5B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825-DF7F-4ACC-B7B6-EB88270C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E7F-0B0B-40B1-8958-D2C3986B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39A-2357-4538-8677-4DF21401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FB4-B1A7-487C-B552-FD71D317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89D6-7BFA-4A8D-BC46-9DC9D875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86DD-CFC1-44A6-AAEE-433CA19B568A}" type="slidenum">
              <a:rPr b="1" lang="cs-CZ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arketingové prostřed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547640" y="2637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Y_32_INOVACE_103_Market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003640" y="558972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utor: Ing. Vladimír Havelk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3.2 Makroprostřed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907560"/>
            <a:ext cx="8207280" cy="5761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kroprostředí je tvořeno těmito prostředím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- firma toto prostředí víceméně nemůže ovliv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Demografické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pulace lidí, struktura obyvatelst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Ekonomické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aktory ovlivňující kupní sílu a nákupní  zvyklosti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spotřebite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je tvořeno makroekonomickými veličinami  jako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jsou např. inflace, nezaměstnanost, daňová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soustava, měnová politik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řírod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ahrnuje zdroje, které jsou potřebné pro zajištění výro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rušování přírodního prostředí se nejčastěji projevu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)-nedostatkem potravin, surov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b)-rostoucí ceny energi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c)-růstem znečištění přír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4903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Technologick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765000"/>
            <a:ext cx="8147160" cy="5832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mým způsobem se promítá do výrobního procesu fi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roveň technického pokroku, zrychlené tempo inovací a zkracování životního cyklu výrobků nutí Firmy pružně a rychle reagovat na technický pokrok, investovat do nového vybavení a technologi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litick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hrnuje legislativu, státní orgány a politické str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rma musí respektovat politická rozhodnutí  a vycház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latných právních norem na území daného stá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e vyspělých tržních ekonomikách platí např. zákony chrání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jmy spotřebitelů, stanovují určitá pravidla v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nikání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ochrana hospodářské soutěž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ultur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000" y="765000"/>
            <a:ext cx="8156520" cy="53611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chází z hodnot, tradic, zvyků a obyčejů obyvatel dané zem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tváří celkový obraz spole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 kulturního prostředí patří také náboženství, které výraz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vlivňuje chování lidí ve společnosti i při nakup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Literatura předmě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DOC.RNDR.STRNAD,CSC, Pavel; ING.VYDROVÁ, Jaruše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rketing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: Fortuna, 2003, 164. ISBN 80-7168-668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UDRÝ ING., Marek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rketing - Základy marketing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 vydání. Kralice na Hané, Hrubčická 495: Computer Media s.r.o., 2008,158. ISBN 978-80-7402-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58920" y="30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" name="Objekt 2"/>
          <p:cNvGraphicFramePr/>
          <p:nvPr/>
        </p:nvGraphicFramePr>
        <p:xfrm>
          <a:off x="900000" y="536400"/>
          <a:ext cx="7559640" cy="591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36400"/>
                    <a:ext cx="7559640" cy="59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000" y="1484280"/>
            <a:ext cx="8085240" cy="45259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Marketingové prostředí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3.1 Mikroprostřed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ikroprostředí je tvořeno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Firmou jako organizac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firma je složitý organismus s velkým množstvím vazeb a vztahů, jak uvnitř svých struktu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ak i ve vztahu ke svému okol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Dodavateli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jsou obchodními partnery firmy a k jeho klíčovým charakteristikám patří : - spolehl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olid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arkatingoví zprostředkovatelé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jsou společnosti, kte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máhají financovat, prodávat, propagovat a distribuov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robek ke konečnému spotřebite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9223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právné zvolení partnera v oblasti distribuce stejně jako    propagace je klíčem k úspěchu firmy na trh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Distributoři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sou firmy nakupující zboží za účelem další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deje, pomáhají firmě nalézt zákazníky a prodat jim zbo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Marketingové agentur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sou firmy zabývající s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rketingovým výzkumem a komunikací se zákazní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Finanční společnosti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sou firmy zabývající se obchodování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kapitálem ( banky, pojišťovny, úvěrové společnosti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080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Konkurenc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firmy nabízející stejný nebo podobný výrobek nebo služb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znam konkurence pro zákazní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nižuje ce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kvalitňuje výrob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rozšiřuje sorti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lepšuje přístup k zákazníko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droje informací o konkurenci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od zákazníků (osobní dotazování na konkurenc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od veřejnosti (výzk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a veletrzích a výstavá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ostřednictvím mystery  shopping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332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Zvyšování konkurence schopnosti firmy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07560"/>
            <a:ext cx="8362800" cy="52182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ýstav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mají velmi silnou pozici v rámci komunikačního mix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ezentuje se zde široký sortiment produktů a služ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dnotlivých firem daného oboru na jednom mís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v jednom č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eletrh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odrážejí dobu, fungují nejen jako tržiště, ale i jak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užby, značky nebo benschmarkingový nástroj p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stavovatele (srovnávání se s ostatními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konkurenčními firmami, zjištění vlastních silných 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slabých stránek tzv. SWOT analýz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Druhy výstav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-prodejní (prodej produktů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kontrakční(obchodní smlouvy, partnerstv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kombinované kontrakčně prodejní ak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353440" cy="777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Zákazní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1052280"/>
            <a:ext cx="8353440" cy="50734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Pojem zákazník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e rozumí konečný spotřebitel (jednotlivec a domácnosti),organizace (průmyslový trh) a vláda (státní zakázky armáda, školství, zdravotnictví atd.). Všechny tyto subjekty spotřebovávají výrobky či služby, které jsou jim nabíze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ákazník reaguje na nabídku zboží a při jeho koupi zohledňu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šechny doprovodné aspekty, které realizaci zboží doprovázej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ákazník může o prodávajícím poskytnout novému    potenciálnímu zákazníkovi informace, tzv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. refe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eřej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836280"/>
            <a:ext cx="8229600" cy="5832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tvořena různými skupinami obyvatelstva, ty mohou působ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 firmu a naopak firma může svým chováním ovlivnit posto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chování veřej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eřejnost tvoř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ístní komunit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irma vytváří pro ně pracovní místa, sponzoring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zájmové skupin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bčanská sdružení vymezená určitými zájmy a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cíly)  - spotřebitelské organizace, které se zabývají ochranou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potřebitele v podobě poskytování informací, poradenství, práv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moci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široká veřejnos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polečnost chápána jako cele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sdělovací prostředky – médi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viny, časopisy, rozhlas,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levize a interne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zaměstnanci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pokoj zaměstnanec lépe pracuje a také o firmě 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eřejnosti mluví dobře, a pomáhá jí tak vytvář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zitivní im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4:51:48Z</dcterms:created>
  <dc:creator>MiZ</dc:creator>
  <dc:description/>
  <dc:language>en-US</dc:language>
  <cp:lastModifiedBy>Havelka</cp:lastModifiedBy>
  <dcterms:modified xsi:type="dcterms:W3CDTF">2014-02-17T19:45:30Z</dcterms:modified>
  <cp:revision>756</cp:revision>
  <dc:subject/>
  <dc:title>PM 101 – Management I.</dc:title>
</cp:coreProperties>
</file>