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EEE4-57C8-4109-BFA9-C9111ECB5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BC92-CCCA-4300-B778-E5D3207C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ABD6-F2E5-449A-A55E-437C86F2A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1374-0243-42FD-8795-19E7404A9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8129C-966E-4771-8F63-C17F2EE76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D4F6-E6D3-4D88-9470-5BA0F54E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73E7-0A49-4614-ADE6-202CB9F4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A8003-9296-4ED6-8524-9E67EADC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9181-3A33-469D-A341-983A8020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C267-4463-4333-9771-56BFD87C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93ED-5673-405C-A65D-B23FBBB1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4B86-04B5-4190-BB41-0A23E60B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7A92-3A36-4444-A284-CF812F3B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407D-B076-4984-A1CF-B9F09679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BA6C8-E034-43D7-96C5-77C17583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36FA-5976-45CD-87A9-D4782921C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407A-FA27-486E-8342-96E32742D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DB5B-8FC0-41C1-87AB-36366F27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E240-937B-4936-B255-7BD7A314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1656-0270-4CF4-A216-E38A5D69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F76A-431E-4469-A36F-F463D053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21AB-F510-4670-A643-3DB6DDBC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4972-0101-411D-9580-90AC45FA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A17D-92ED-4766-9A8B-EDA1C6D2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e7dbc5">
                  <a:alpha val="85098"/>
                </a:srgbClr>
              </a:gs>
              <a:gs pos="100000">
                <a:srgbClr val="e7dbc5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5892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8764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A7F0-3CB7-428D-B70D-3C60DA9EBF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"/>
          <p:cNvPicPr/>
          <p:nvPr/>
        </p:nvPicPr>
        <p:blipFill>
          <a:blip r:embed="rId2"/>
          <a:stretch/>
        </p:blipFill>
        <p:spPr>
          <a:xfrm>
            <a:off x="6954840" y="0"/>
            <a:ext cx="2189160" cy="144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e7dbc5">
                  <a:alpha val="85098"/>
                </a:srgbClr>
              </a:gs>
              <a:gs pos="100000">
                <a:srgbClr val="e7dbc5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0" descr=""/>
          <p:cNvPicPr/>
          <p:nvPr/>
        </p:nvPicPr>
        <p:blipFill>
          <a:blip r:embed="rId2"/>
          <a:stretch/>
        </p:blipFill>
        <p:spPr>
          <a:xfrm>
            <a:off x="6954840" y="0"/>
            <a:ext cx="2189160" cy="1440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"/>
          <p:cNvSpPr/>
          <p:nvPr/>
        </p:nvSpPr>
        <p:spPr>
          <a:xfrm>
            <a:off x="-9360" y="5489640"/>
            <a:ext cx="8569080" cy="1368360"/>
          </a:xfrm>
          <a:prstGeom prst="rect">
            <a:avLst/>
          </a:prstGeom>
          <a:gradFill rotWithShape="0">
            <a:gsLst>
              <a:gs pos="0">
                <a:srgbClr val="e7dbc5">
                  <a:alpha val="60000"/>
                </a:srgbClr>
              </a:gs>
              <a:gs pos="100000">
                <a:srgbClr val="e7dbc5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25092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0589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B261-DC94-4303-BD94-6747EBACFD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cpinsp.cz/" TargetMode="External"/><Relationship Id="rId2" Type="http://schemas.openxmlformats.org/officeDocument/2006/relationships/hyperlink" Target="http://galenus.cz/aminokyseliny-zakladni-aminokyseliny.php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65760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</a:rPr>
              <a:t>ŽIVIN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4"/>
          <p:cNvSpPr/>
          <p:nvPr/>
        </p:nvSpPr>
        <p:spPr>
          <a:xfrm>
            <a:off x="2209680" y="213372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Y_32_INOVACE_137_Chov_skot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ovéPole 5"/>
          <p:cNvSpPr/>
          <p:nvPr/>
        </p:nvSpPr>
        <p:spPr>
          <a:xfrm>
            <a:off x="572436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utor:  Ing. Miroslav Hu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50920" y="1557000"/>
            <a:ext cx="8470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mi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usíkaté látky nebílkovinné povahy (močovin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usičnany a dusit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a určitých okolností (přehnojení N) se mohou hromadit v krmivech či v pitné vodě a nepříznivě ovlivňují užitkovost a zdravotní stav zvíř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liv dusičnanů na užitkovost a zdravotní stav zvíř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DF42-10CB-4AE8-8D42-BDA73FE2041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626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Organické živ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http://upload.wikimedia.org/wikipedia/commons/thumb/c/c0/Urea.png/200px-Urea.png"/>
          <p:cNvPicPr/>
          <p:nvPr/>
        </p:nvPicPr>
        <p:blipFill>
          <a:blip r:embed="rId1"/>
          <a:stretch/>
        </p:blipFill>
        <p:spPr>
          <a:xfrm>
            <a:off x="6227640" y="1700280"/>
            <a:ext cx="1339920" cy="86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"/>
          <p:cNvGraphicFramePr/>
          <p:nvPr/>
        </p:nvGraphicFramePr>
        <p:xfrm>
          <a:off x="539640" y="3860640"/>
          <a:ext cx="8182080" cy="2230560"/>
        </p:xfrm>
        <a:graphic>
          <a:graphicData uri="http://schemas.openxmlformats.org/drawingml/2006/table">
            <a:tbl>
              <a:tblPr/>
              <a:tblGrid>
                <a:gridCol w="2463840"/>
                <a:gridCol w="5718240"/>
              </a:tblGrid>
              <a:tr h="432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ah KNO</a:t>
                      </a:r>
                      <a:r>
                        <a:rPr b="1" lang="cs-CZ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 sušin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dbc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liv na zvíř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dbc5"/>
                    </a:solidFill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 – 0,5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 – 1,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d 1,5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ální hodnota, vliv na zvíře nezřeteln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žitkovost klesá, příznaky avitaminózy A, reprodukční problémy, které mohou přetrvávat i několik týdnů po vyřazení závadného krm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hyn, obyčejně několik zvířat a náh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250920" y="1557360"/>
            <a:ext cx="8470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uk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droj energ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oučást nukleových kysel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vláštní postavení má celulóz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ýložravci musí řešit problém, jak strávit rostliny, které se skládají z  celulóz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Celulóza je polysacharid, vytvořený řetězením molekul  glukóz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 za seb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rozkladem celulózy si poradilo jen několik skupin organismů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206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mikroorganism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(z řad bakterií, prvoků, kvasinek) a některé houb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akové organismy mají zvláštní enzymy -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celuláz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které rozkládají celulózu na její podjednotky – molekuly glukóz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ežvýkavci hostí symbiotické bakterie ve své trávicí soustavě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jí tři předžaludky 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(čepec, bachor, kniha)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 žaludkem v pravém slova smyslu je teprve 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lez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vou objemovou kapacitou je nejvýznamnější  bach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ávě ten obsahuje bohatou mikroflóru, která se podílí na rozkladu celulóz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BF0C-187B-4906-B9CD-E12300C621D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626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Organické živ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50920" y="1557000"/>
            <a:ext cx="8470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u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 zvířata se jedná o koncentrovaný zdroj energ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 těle slouží tuky jak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ásobní látk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ako ochrana tělních orgánů před chlade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ěkteré tuky jsou nositeli důležitých vitamín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dukce tuků zvířaty je značn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př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jnice přijme za rok krmivem asi 100 kg tuku a jen mlékem ho vyloučí 200 kg, někdy i víc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ase v žíru přijme kolem 9-10 kg tuku a vytvoří 30-40 k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DE47-E120-4A09-9919-69FF349DE58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626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Organické živ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itamí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itam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rganické živiny, které se podílejí na řízení životních pochodů, a to buď přímo (A, D, E, C) nebo prostřednictvím enzymů, na jejichž výstavbě jsou účastny (B -komplex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sou to ústrojné látky nezbytné pr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draví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ůs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žitkovos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vířata je přijímají v potravě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aždý vitamín má své specifické účinky a nemůže být nahrazen jiným vitamín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dostatek jediného vitamínu vyvolává poruchy a nemoci nazvané avitaminóz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dle rozpustnosti dělíme vitamín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vitamíny rozpustné v tucích – A, D, E, 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vitaminy rozpustné ve vodě – B, 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90FF-5328-412D-8604-C81ACFA2ECF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50920" y="155700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3300"/>
                </a:solidFill>
                <a:latin typeface="Arial"/>
              </a:rPr>
              <a:t>Vitaminy</a:t>
            </a:r>
            <a:r>
              <a:rPr b="1" lang="cs-CZ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lavní zdroje</a:t>
            </a:r>
            <a:r>
              <a:rPr b="1" lang="cs-CZ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Avitaminóz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átra, rybí tuk, máslo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zhoršování zrak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léko, karotka,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vysychání rohovk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špenát, salát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degenerace nervového 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systé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cc3300"/>
                </a:solidFill>
                <a:latin typeface="Arial"/>
              </a:rPr>
              <a:t>D</a:t>
            </a:r>
            <a:r>
              <a:rPr b="1" lang="cs-CZ" sz="16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lang="cs-CZ" sz="16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ybí tuk, máslo, vejce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křivice, deformace kostí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léko, rajčata, špenát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nedostatek Ca v kostec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cc3300"/>
                </a:solidFill>
                <a:latin typeface="Arial"/>
              </a:rPr>
              <a:t>E </a:t>
            </a:r>
            <a:r>
              <a:rPr b="1" lang="cs-CZ" sz="16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šeničné klíčky, kukuřice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neplod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áslo, vejce,</a:t>
            </a:r>
            <a:r>
              <a:rPr b="1" lang="cs-CZ" sz="18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stlinné ole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cc3300"/>
                </a:solidFill>
                <a:latin typeface="Arial"/>
              </a:rPr>
              <a:t>K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elené části rostlin, kapusta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snižuje se srážlivost k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špenát,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věták, houby, ryby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itamíny rozpustné v tucí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10A5-0A67-4E3D-AB4A-9D45BF6CF56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8470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3300"/>
                </a:solidFill>
                <a:latin typeface="Arial"/>
              </a:rPr>
              <a:t>Vitaminy</a:t>
            </a:r>
            <a:r>
              <a:rPr b="1" lang="cs-CZ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lavní zdroje</a:t>
            </a:r>
            <a:r>
              <a:rPr b="1" lang="cs-CZ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Avitaminóz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cc3300"/>
                </a:solidFill>
                <a:latin typeface="Arial"/>
              </a:rPr>
              <a:t>B1</a:t>
            </a:r>
            <a:r>
              <a:rPr b="1" lang="cs-CZ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vasnice, obilné slupky,</a:t>
            </a:r>
            <a:r>
              <a:rPr b="1" lang="cs-C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 záněty nervů, v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itřnosti</a:t>
            </a:r>
            <a:r>
              <a:rPr b="1" lang="cs-CZ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 srdce, obrna</a:t>
            </a:r>
            <a:r>
              <a:rPr b="1" lang="cs-CZ" sz="18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cc3300"/>
                </a:solidFill>
                <a:latin typeface="Arial"/>
              </a:rPr>
              <a:t>B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vasnice, mléko, vejce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oční choroby, zdrsnění 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itřnosti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pokož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cc3300"/>
                </a:solidFill>
                <a:latin typeface="Arial"/>
              </a:rPr>
              <a:t>B12</a:t>
            </a:r>
            <a:r>
              <a:rPr b="1" lang="cs-CZ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átra, vnitřnosti, maso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chudokrevnost, 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leje 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zastavení rů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cc3300"/>
                </a:solidFill>
                <a:latin typeface="Arial"/>
              </a:rPr>
              <a:t>PP</a:t>
            </a:r>
            <a:r>
              <a:rPr b="1" lang="cs-CZ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vasnice, obilné klíčky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 záněty pokožky, 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átra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nervové poru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cc3300"/>
                </a:solidFill>
                <a:latin typeface="Arial"/>
              </a:rPr>
              <a:t>H</a:t>
            </a:r>
            <a:r>
              <a:rPr b="1" lang="cs-CZ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vasnice, vaječný žloutek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 záněty kůž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átra, mozek, ledviny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cc3300"/>
                </a:solidFill>
                <a:latin typeface="Arial"/>
              </a:rPr>
              <a:t>C</a:t>
            </a:r>
            <a:r>
              <a:rPr b="1" lang="cs-CZ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čerstvé ovoce, zelenina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únava, malátnost, 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šípky, rybíz, křen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kurdě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itróny,</a:t>
            </a:r>
            <a:r>
              <a:rPr b="1" lang="cs-C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aprika, bramb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itamíny rozpustné ve vod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DB94-78AB-4885-857C-B2FAF5D0DB3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250920" y="1557360"/>
            <a:ext cx="8470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norganické živ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sou to živiny potřebné k tvorbě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str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rst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eří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 výstavbě tkání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chování zdraví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vorbě mléka, vajec aj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e výživě jsou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nezbytné minerální látky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skytující se ve větším množství (</a:t>
            </a: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makroelement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) i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minerální látky vyskytující se v nepatrných množstvích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mikroelement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Hlavními minerálními látkami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 těle jsou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Ca a P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utné pro správnou tvorbu kostí. Nemocí z nedostatku Ca je křivice (mladá zvířata) a měknutí kostí u starých zvířa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potřebuje živočišný organismus k tvorbě HCl v žaludku. Dodává se s Na ve formě sol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je nezbytnou složkou hemoglobinu, nedostatek způsobuje chudokrevnost, hlavně u mladých zvíř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E82C-E2C7-429D-B5CE-925426DECF1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norganické živ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B659-2BF8-4338-86A5-E0397A4EB3C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920" y="1557000"/>
            <a:ext cx="8470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MIŠKOVSKÝ, DOC. ING. CSc.,Zdeněk. Chov zvířat 2. Vydání první. Praha: CREDIT – vydavatelství agentura, 1995. 249 s. ISBN 80-901645-4-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VARGA, ING., Stanislav; KREJČÍ, ING., Vladimír. Zemědělská výroba II.Vydání druhé. Praha: Institut výchovy a vzdělávání Ministerstva zemědělství České republiky, 1995. 236s. ISBN 80-7105-092-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VARGA, ING., Stanislav; KREJČÍ, ING., Vladimír. Zemědělská výroba II.Vydání druhé. Praha: Institut výchovy a vzdělávání Ministerstva zemědělství České republiky, 1986. 296 s. ISBN 80-7105-019-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URBAN, J., ŠARAPATKA, B., a kol. Ekologické zemědělství: učebnice pro školy i praxi - I. díl. Vydání první. Praha: MŽP a Svaz PRO-BIO, 2003, 280 s. ISBN 80-7212-274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ŠARAPATKA, B., URBAN, J., a kol. Ekologické zemědělství: učebnice pro školy i praxi - II. díl. Vydání první Šumperk: Svaz PRO-BIO, 2005, 334 s. ISBN 80-903583-0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BURDA, F. Zemědělské výrobky 2 – živočišné výrobky.Vydání první. Praha : Státní zemědělské nakladatelství, 1995. 236 s. ISBN 07-000-8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MAJZLÍKOVÁ, ING., Z. Označování a evidence hospodářských zvířat, zkušenosti z kontrol podmíněnosti v roce 2009. Česká plemenářská inspekce. </a:t>
            </a:r>
            <a:r>
              <a:rPr b="0" lang="cs-CZ" sz="1200" spc="-1" strike="noStrike" u="sng">
                <a:solidFill>
                  <a:srgbClr val="0b6def"/>
                </a:solidFill>
                <a:uFillTx/>
                <a:latin typeface="Albertus Medium"/>
                <a:hlinkClick r:id="rId1"/>
              </a:rPr>
              <a:t>www.cpinsp.cz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b6def"/>
                </a:solidFill>
                <a:uFillTx/>
                <a:latin typeface="Albertus Medium"/>
                <a:hlinkClick r:id="rId2"/>
              </a:rPr>
              <a:t>http://galenus.cz/aminokyseliny-zakladni-aminokyseliny.php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250560" y="476280"/>
            <a:ext cx="843588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Použité 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457200" y="1371600"/>
          <a:ext cx="8229600" cy="523872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db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dbc5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ovace a zkvalitnění výuky prostřednictvím ICT (III/2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Živi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_32_INOVACE_137_Chov_sko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6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-51-H/01 Zemědělec – farmá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v zvíř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 1., 21. 1. 2014 KF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6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vod, živiny, rozdělení živin, organické živiny, vitamíny, vitamíny rozpustné v tucích, vitamíny rozpustné ve vodě, anorganické živin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3" name="Rectangle 2"/>
          <p:cNvSpPr/>
          <p:nvPr/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5516640"/>
            <a:ext cx="77724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 Unicode MS"/>
              </a:rPr>
              <a:t>Chov skotu – Živ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427280" y="6165720"/>
            <a:ext cx="4097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 Unicode MS"/>
              </a:rPr>
              <a:t>Ing. Miroslav Hu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E2FA-900F-4271-992D-9A2508CA25B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8470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omestik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znemožnění pudového zajišťování metabolických potřeb v přirozeném prostředí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domestikace – pastva – stájový odchov – zvyšování užitkovosti – zajišťování potřeb zvířa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á nová věda </a:t>
            </a:r>
            <a:r>
              <a:rPr b="0" lang="cs-CZ" sz="1800" spc="-1" strike="noStrike">
                <a:solidFill>
                  <a:srgbClr val="002060"/>
                </a:solidFill>
                <a:latin typeface="Arial"/>
              </a:rPr>
              <a:t>– </a:t>
            </a:r>
            <a:r>
              <a:rPr b="1" lang="cs-CZ" sz="1800" spc="-1" strike="noStrike">
                <a:solidFill>
                  <a:srgbClr val="002060"/>
                </a:solidFill>
                <a:latin typeface="Arial"/>
              </a:rPr>
              <a:t>„Nauka o výživě a krmení hospodářských zvířat“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která se postupně rozděluje na tři, „relativně“ samostatné, vědní obo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Výživa zvířat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fyziologie výživy) – studuje všechny pochody zvířat související s přijímáním potravy, trávením, vstřebáváním, zažíváním a vylučování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Nauka o krmivech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studuje jednotlivé látky z hlediska možnosti jejich uplatnění při krmení zvíř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Nauka o krmení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studuje účast člověka při krmení zvířat (výběr, úprava a předkládání krmiv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50920" y="274680"/>
            <a:ext cx="6626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FCF7-D8F4-4CA9-A650-A7F824C4BC4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48760" y="1557360"/>
            <a:ext cx="8472600" cy="51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Živ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Živiny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sou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látky, které zvíře získává z vnějšího prostředí k zajištění svých metabolických potřeb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pecificky účinné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átky příznivě ovlivňují metabolické procesy, nejsou však jako živiny nezbytně nutné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unkce živ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Budovac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- stavbu tělesné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mo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Staveb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- tvorbu živočišný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robk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Energetická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- pro krytí energ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třebné pro zachování vše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unkcí živého organism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Katalytická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- minerální látk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ohou působit jak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atalyzátory v enzymatických a hormonálních systéme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250920" y="274680"/>
            <a:ext cx="6626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Živ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http://www.abscz.cz/resources/1/silazovani.jpg"/>
          <p:cNvPicPr/>
          <p:nvPr/>
        </p:nvPicPr>
        <p:blipFill>
          <a:blip r:embed="rId1"/>
          <a:stretch/>
        </p:blipFill>
        <p:spPr>
          <a:xfrm>
            <a:off x="3909960" y="2836800"/>
            <a:ext cx="5234040" cy="3097440"/>
          </a:xfrm>
          <a:prstGeom prst="rect">
            <a:avLst/>
          </a:prstGeom>
          <a:ln w="0">
            <a:noFill/>
          </a:ln>
        </p:spPr>
      </p:pic>
      <p:sp>
        <p:nvSpPr>
          <p:cNvPr id="106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zdělení živ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470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zdělení živ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548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Živiny dělíme podle chemické povahy n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rganické (ústrojné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ílkovin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glycidy (cukry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uk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tamín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norganické (neústrojné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od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inerální látk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yslí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pecificky účinné lát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ék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éčiv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ntibiotik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2C37-F468-4E00-ADE3-4479AEB2009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50920" y="159984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rganické živ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Bílkovi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jí mimořádné postavení mezi živinam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asahují do všech fyziologických pochod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ákladní stavební kámen –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AMINOKYSELIN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250920" y="274680"/>
            <a:ext cx="6626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Organické živ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Neutrální aminokyseliny"/>
          <p:cNvPicPr/>
          <p:nvPr/>
        </p:nvPicPr>
        <p:blipFill>
          <a:blip r:embed="rId1"/>
          <a:stretch/>
        </p:blipFill>
        <p:spPr>
          <a:xfrm>
            <a:off x="6264360" y="1535040"/>
            <a:ext cx="2916000" cy="2567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Hydroxykyseliny"/>
          <p:cNvPicPr/>
          <p:nvPr/>
        </p:nvPicPr>
        <p:blipFill>
          <a:blip r:embed="rId2"/>
          <a:stretch/>
        </p:blipFill>
        <p:spPr>
          <a:xfrm>
            <a:off x="100080" y="3705120"/>
            <a:ext cx="2957400" cy="2603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Sirné aminokyseliny"/>
          <p:cNvPicPr/>
          <p:nvPr/>
        </p:nvPicPr>
        <p:blipFill>
          <a:blip r:embed="rId3"/>
          <a:stretch/>
        </p:blipFill>
        <p:spPr>
          <a:xfrm>
            <a:off x="3206880" y="3236760"/>
            <a:ext cx="2908080" cy="2560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Iminokyseliny"/>
          <p:cNvPicPr/>
          <p:nvPr/>
        </p:nvPicPr>
        <p:blipFill>
          <a:blip r:embed="rId4"/>
          <a:stretch/>
        </p:blipFill>
        <p:spPr>
          <a:xfrm>
            <a:off x="6276960" y="4205160"/>
            <a:ext cx="28796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C26D-8BF5-4641-96CF-39C333630F9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626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Organické živ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7" descr="Kyselé aminokyseliny"/>
          <p:cNvPicPr/>
          <p:nvPr/>
        </p:nvPicPr>
        <p:blipFill>
          <a:blip r:embed="rId1"/>
          <a:stretch/>
        </p:blipFill>
        <p:spPr>
          <a:xfrm>
            <a:off x="15840" y="1463760"/>
            <a:ext cx="2944800" cy="2592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Bazické aminokyseliny"/>
          <p:cNvPicPr/>
          <p:nvPr/>
        </p:nvPicPr>
        <p:blipFill>
          <a:blip r:embed="rId2"/>
          <a:stretch/>
        </p:blipFill>
        <p:spPr>
          <a:xfrm>
            <a:off x="3110040" y="1449360"/>
            <a:ext cx="2944800" cy="2592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Aromatické aminokyseliny"/>
          <p:cNvPicPr/>
          <p:nvPr/>
        </p:nvPicPr>
        <p:blipFill>
          <a:blip r:embed="rId3"/>
          <a:stretch/>
        </p:blipFill>
        <p:spPr>
          <a:xfrm>
            <a:off x="6199200" y="1449360"/>
            <a:ext cx="2944800" cy="25923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"/>
          <p:cNvSpPr/>
          <p:nvPr/>
        </p:nvSpPr>
        <p:spPr>
          <a:xfrm>
            <a:off x="250920" y="4221000"/>
            <a:ext cx="8470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enaturace bílkov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měny v molekule bílkoviny, kdy dochází ke ztrátě původních vlastností (ztráta enzymové nebo hormonální účinnosti, vysrážení se v roztoku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chází k tomu změnou pH (HCl v žaludku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enaturovaná bílkovina je rychleji štěpena – je tedy stravitelnější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1BBC-DDCE-4366-AE08-B04F6E37345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50920" y="1557000"/>
            <a:ext cx="8470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cení bílkov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odnota bílkovin je dána zastoupením aminokysel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á-li organismus tvořit vlastní bílkovinu, musí mít k dispozici všechny potřebné aminokyseliny současně a v dostatečné m množstv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třebu aminokyselin hospodářských zvířat zajišťujeme krmnou dávk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Účinný poměr bílkovin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PER (Protein Efficiency 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jadřuje přírůstek živé hmotnosti na 1 g přijatých bílkov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dná se o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srovnání</a:t>
            </a:r>
            <a:r>
              <a:rPr b="0" lang="cs-CZ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obsahu chemicky zjištěných aminokyselin v krmivu s obsahem aminokyselin vaječné nebo mléčné bílkovin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kterou považujeme za plnohodnotn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250920" y="274680"/>
            <a:ext cx="6626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Organické živ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1:56:50Z</dcterms:created>
  <dc:creator>jontypearce</dc:creator>
  <dc:description/>
  <dc:language>en-US</dc:language>
  <cp:lastModifiedBy>Huk</cp:lastModifiedBy>
  <dcterms:modified xsi:type="dcterms:W3CDTF">2014-02-05T15:05:47Z</dcterms:modified>
  <cp:revision>75</cp:revision>
  <dc:subject/>
  <dc:title>Cow PowerPoint Presentation</dc:title>
</cp:coreProperties>
</file>