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50DC2-D149-4EE4-99E2-C32B7AF11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2509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EEEDE-E932-441F-818A-EEDFDD22B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509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4679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48BFA-21A7-4762-8979-C561A7D64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33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8158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2509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33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8158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1C223-015D-4FAC-95AC-5C8F114BE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CD9AE-40F0-4506-84C1-A6F6A90FA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2509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FB0CB-41D5-4C99-A635-860607C2B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3F130-F9FC-4066-B1F3-2F2BB2AAA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CBE93-8AA7-484F-AB84-7B2A2007B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CD06D-10F0-492F-BA97-580B13C8E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250920" y="274680"/>
            <a:ext cx="684216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CCAFE-D6DB-4275-A250-2F609C2A8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2509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C0B60-79B2-4B37-AD4B-AEBBE7590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2509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8270D-8F87-406A-ADB9-0B195FE67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4679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66EAB-9A2E-4EA8-B6A1-2B6F0E99F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509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173D7-CFE0-407A-9649-E59AAE764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2509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90E69-BAC5-437D-925E-D33149ECC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2509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4679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655CE-BE8A-4BCB-BC65-39E5B02E9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0333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8158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2509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0333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8158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C7831-545B-46E4-9AE3-FE9F38285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A140C-6449-48E5-B0D2-133C55FCB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20EFD-E9A6-46C0-B317-551925E7A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3238F-10C0-4A8C-AD7E-544C6ED75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50920" y="274680"/>
            <a:ext cx="684216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FA803-2366-40F1-ABA3-0EA3C1C00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2509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9E939-3B22-49D3-991D-18AE745E6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4679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A358F-8323-471A-84AB-8F7F603C2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509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20D3C-2236-41F8-A3B0-DC2FE6CDC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7236000" cy="1440000"/>
          </a:xfrm>
          <a:prstGeom prst="rect">
            <a:avLst/>
          </a:prstGeom>
          <a:gradFill rotWithShape="0">
            <a:gsLst>
              <a:gs pos="0">
                <a:srgbClr val="e7dbc5">
                  <a:alpha val="85098"/>
                </a:srgbClr>
              </a:gs>
              <a:gs pos="100000">
                <a:srgbClr val="e7dbc5">
                  <a:alpha val="8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509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2400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OUz Lošt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32000" y="649296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g. Mirosla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37236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02BE1-615C-456D-B45B-E4E7DB3C920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10" descr=""/>
          <p:cNvPicPr/>
          <p:nvPr/>
        </p:nvPicPr>
        <p:blipFill>
          <a:blip r:embed="rId2"/>
          <a:stretch/>
        </p:blipFill>
        <p:spPr>
          <a:xfrm>
            <a:off x="6954840" y="0"/>
            <a:ext cx="2189160" cy="1440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6"/>
          <p:cNvSpPr/>
          <p:nvPr/>
        </p:nvSpPr>
        <p:spPr>
          <a:xfrm>
            <a:off x="0" y="0"/>
            <a:ext cx="7236000" cy="1440000"/>
          </a:xfrm>
          <a:prstGeom prst="rect">
            <a:avLst/>
          </a:prstGeom>
          <a:gradFill rotWithShape="0">
            <a:gsLst>
              <a:gs pos="0">
                <a:srgbClr val="e7dbc5">
                  <a:alpha val="85098"/>
                </a:srgbClr>
              </a:gs>
              <a:gs pos="100000">
                <a:srgbClr val="e7dbc5">
                  <a:alpha val="8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10" descr=""/>
          <p:cNvPicPr/>
          <p:nvPr/>
        </p:nvPicPr>
        <p:blipFill>
          <a:blip r:embed="rId2"/>
          <a:stretch/>
        </p:blipFill>
        <p:spPr>
          <a:xfrm>
            <a:off x="6954840" y="0"/>
            <a:ext cx="2189160" cy="14400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0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9"/>
          <p:cNvSpPr/>
          <p:nvPr/>
        </p:nvSpPr>
        <p:spPr>
          <a:xfrm>
            <a:off x="-9360" y="5489640"/>
            <a:ext cx="8569080" cy="1368360"/>
          </a:xfrm>
          <a:prstGeom prst="rect">
            <a:avLst/>
          </a:prstGeom>
          <a:gradFill rotWithShape="0">
            <a:gsLst>
              <a:gs pos="0">
                <a:srgbClr val="e7dbc5">
                  <a:alpha val="60000"/>
                </a:srgbClr>
              </a:gs>
              <a:gs pos="100000">
                <a:srgbClr val="e7dbc5">
                  <a:alpha val="8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2509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25092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OUz Lošt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32000" y="649296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g. Mirosla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44328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0F6F5-7527-4423-B908-4507445D352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szesro.cz/text/chov/V&#253;&#382;iva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365724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000000"/>
                </a:solidFill>
                <a:latin typeface="Arial"/>
              </a:rPr>
              <a:t>CHOV DOJNIC </a:t>
            </a:r>
            <a:br>
              <a:rPr sz="5400"/>
            </a:br>
            <a:r>
              <a:rPr b="1" lang="cs-CZ" sz="5400" spc="-1" strike="noStrike">
                <a:solidFill>
                  <a:srgbClr val="000000"/>
                </a:solidFill>
                <a:latin typeface="Arial"/>
              </a:rPr>
              <a:t>- KRMENÍ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Obrázek 3" descr=""/>
          <p:cNvPicPr/>
          <p:nvPr/>
        </p:nvPicPr>
        <p:blipFill>
          <a:blip r:embed="rId1"/>
          <a:stretch/>
        </p:blipFill>
        <p:spPr>
          <a:xfrm>
            <a:off x="1530360" y="476280"/>
            <a:ext cx="6083280" cy="1484280"/>
          </a:xfrm>
          <a:prstGeom prst="rect">
            <a:avLst/>
          </a:prstGeom>
          <a:ln w="0">
            <a:noFill/>
          </a:ln>
        </p:spPr>
      </p:pic>
      <p:sp>
        <p:nvSpPr>
          <p:cNvPr id="90" name="TextovéPole 4"/>
          <p:cNvSpPr/>
          <p:nvPr/>
        </p:nvSpPr>
        <p:spPr>
          <a:xfrm>
            <a:off x="2209680" y="2133720"/>
            <a:ext cx="49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VY_32_INOVACE_139_Chov_skot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ovéPole 5"/>
          <p:cNvSpPr/>
          <p:nvPr/>
        </p:nvSpPr>
        <p:spPr>
          <a:xfrm>
            <a:off x="5724360" y="558972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utor:  Ing. Miroslav Hu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324000" y="1557000"/>
            <a:ext cx="842472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e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Obsah sušiny až 85 %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Nepostradatelná součást KD pro dojnice vzhledem k vyrovnanému poměru živin, k obsahu minerálních látek a vitaminů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lá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ouze sytostní doplně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oužíváme slámu jaři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Ke krmení používat 4-6 týdnů po sklizn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Okopanin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brambory, řep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Lehce stravitelné (nízké % vlákniny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egetační voda příznivě ovlivňuje produkci mlék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Zkrmovat čisté, nenahnilé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Úpravy (např. krouháním) děláme těsně před zkrmováním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Zástupný symbol pro datum 3"/>
          <p:cNvSpPr/>
          <p:nvPr/>
        </p:nvSpPr>
        <p:spPr>
          <a:xfrm>
            <a:off x="32400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OUz Lošti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Zástupný symbol pro zápatí 4"/>
          <p:cNvSpPr/>
          <p:nvPr/>
        </p:nvSpPr>
        <p:spPr>
          <a:xfrm>
            <a:off x="3132000" y="649296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g. Mirosla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Zástupný symbol pro číslo snímku 5"/>
          <p:cNvSpPr/>
          <p:nvPr/>
        </p:nvSpPr>
        <p:spPr>
          <a:xfrm>
            <a:off x="637236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2CD11-DF47-4401-9CB2-C84F614018F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hodná krmiva pro dojn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Date Placeholder 3"/>
          <p:cNvSpPr/>
          <p:nvPr/>
        </p:nvSpPr>
        <p:spPr>
          <a:xfrm>
            <a:off x="32400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OUz Lošti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Footer Placeholder 4"/>
          <p:cNvSpPr/>
          <p:nvPr/>
        </p:nvSpPr>
        <p:spPr>
          <a:xfrm>
            <a:off x="3132000" y="649296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g. Mirosla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Slide Number Placeholder 5"/>
          <p:cNvSpPr/>
          <p:nvPr/>
        </p:nvSpPr>
        <p:spPr>
          <a:xfrm>
            <a:off x="637236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E4792-112E-400E-A262-7250F55FAC8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324000" y="1557000"/>
            <a:ext cx="842472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Cukrovarské říz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Čerstvé se zkrmují výjimečně, spíše se konzervují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ivovarské mlá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Zkrmovat pouze čerstvé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říznivě ovlivňuje produkci mlék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Jadrná krm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odávají se jako produkční k zajištění požadované produkce nad rámec krmné dávky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Nejvýhodnější je podávat je ve formě krmných směsí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Jeden kg směsi zajistí živinami výrobu 2 kg mlék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Minerální látky a so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Nutný přídavek ke krmné dávc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hodná krmiva pro dojn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Date Placeholder 3"/>
          <p:cNvSpPr/>
          <p:nvPr/>
        </p:nvSpPr>
        <p:spPr>
          <a:xfrm>
            <a:off x="32400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OUz Lošti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Footer Placeholder 4"/>
          <p:cNvSpPr/>
          <p:nvPr/>
        </p:nvSpPr>
        <p:spPr>
          <a:xfrm>
            <a:off x="3132000" y="649296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g. Mirosla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Slide Number Placeholder 5"/>
          <p:cNvSpPr/>
          <p:nvPr/>
        </p:nvSpPr>
        <p:spPr>
          <a:xfrm>
            <a:off x="637236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B161A-F3A3-4EF1-A4B4-F2E7E6E106B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324000" y="1557360"/>
            <a:ext cx="842472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ozeznáváme krmení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Hromadné krmen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šechny dojnice dostávají stejnou KD, bez ohledu na užitkovos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hodné pouze u chovu dojnic bez tržní produkce mléka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 ostatních chovech ekonomicky nevýhodné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Skupinové krmen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tádo dojnic je rozděleno do skupin podle dosahované produkc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Každá skupina dostane odpovídající K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Nepoužitelné u vazného ustájení vzhledem k neustálému přeskupování dojni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Individuální krmen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Každá dojnice dostává KD podle skutečné produkc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yužití při menším počtu ustájených dojnic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ři vyšších počtech dojnic neproveditelné vzhledem k nemožnosti využít mechanizaci a k velké pracnost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88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2060"/>
                </a:solidFill>
                <a:latin typeface="Arial"/>
              </a:rPr>
              <a:t>V praxi se nejčastěji uplatňuje kombinace hromadného a individuálního krmen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Základní KD pro všechny dojnice je stejná, podle užitkovosti přídavek jadrných krmiv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Technika krmení dojn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Date Placeholder 3"/>
          <p:cNvSpPr/>
          <p:nvPr/>
        </p:nvSpPr>
        <p:spPr>
          <a:xfrm>
            <a:off x="32400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OUz Lošti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Footer Placeholder 4"/>
          <p:cNvSpPr/>
          <p:nvPr/>
        </p:nvSpPr>
        <p:spPr>
          <a:xfrm>
            <a:off x="3132000" y="649296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g. Mirosla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lide Number Placeholder 5"/>
          <p:cNvSpPr/>
          <p:nvPr/>
        </p:nvSpPr>
        <p:spPr>
          <a:xfrm>
            <a:off x="637236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BC793-086C-4F59-9425-67F80D1D2D3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324000" y="1557000"/>
            <a:ext cx="842472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Organizace krme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Dojnice jsou zpravidla krmeny 2x denně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Intervaly mezi raním a večerním krmením by měly být přibližně stejné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 letním období zkrmujeme jednotlivá krmiva postupně (zelená píce do žlabu přímo z pole). Vhodnější je píce řezaná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 zimním období je vhodnější jednotlivá krmiva míchat  zkrmovat tzv. směsnou krmnou dávk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Organizace krm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Date Placeholder 3"/>
          <p:cNvSpPr/>
          <p:nvPr/>
        </p:nvSpPr>
        <p:spPr>
          <a:xfrm>
            <a:off x="32400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OUz Lošti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Footer Placeholder 4"/>
          <p:cNvSpPr/>
          <p:nvPr/>
        </p:nvSpPr>
        <p:spPr>
          <a:xfrm>
            <a:off x="3132000" y="649296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g. Mirosla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Slide Number Placeholder 5"/>
          <p:cNvSpPr/>
          <p:nvPr/>
        </p:nvSpPr>
        <p:spPr>
          <a:xfrm>
            <a:off x="637236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AF342-6E11-42D0-9A03-A945F7D3F4B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324000" y="1557000"/>
            <a:ext cx="8424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astva dojn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yužívá se hlavně v podhorských a horských oblastech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Dojnice mají být paseny v blízkostí stájí – do 1000 m, větší vzdálenost nepříznivě ovlivňuje mléčnou užitkovos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Uplatňuje s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celodenní pastva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– dojnice se vracejí do stáje před večerním dojením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polodenní pastva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– dojnice se vrací do stáje k polednímu odpočink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Způsob pastv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Nejčastěji se používá oplůtkový způsob nebo dávková pastv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ásová pastva jen na pícninách na orné půdě při větší výšce spásaného porost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Na pastvu je potřeba dojnice navykat, jako na každou změnu KD v průběhu rok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Napáje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Denní potřeba vody je v průměru 50 l denně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oda zdravotně nezávadná, 10-15 </a:t>
            </a:r>
            <a:r>
              <a:rPr b="0" lang="cs-CZ" sz="16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C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Dojnice pijí z napáječek nebo z napájecích žlabů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Pastva dojn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324000" y="1557360"/>
            <a:ext cx="842472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Krmení vysokobřezích dojn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První měsíce březost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lod se vyvíjí pomalu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nejsou kladeny zvýšené požadavky na výživ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Poslední dva měsíce březost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nejvyšší intenzita vývoje plodu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je nutné, aby v tomto období dojnice neprodukovala mléko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nutné zaprahnutí asi 60 dnů před porode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U většiny dojnic dochází k zaprahnutí samovolně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Od 7. měsíce březosti se zvyšují nároky na živiny kvůli intenzitě růstu plodu a tvorbě zásob na poporodní období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Okolo 60 dne před porodem úprava KD kvůli zaprahnutí (vyřazení šťavnatých krmiv a omezení jádra i napájení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o zaprahnutí opět stabilní KD do 10 dnů před porodem, pak postupné snižování KD až na 1/3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ři porodu bez krmení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Zaprahnutí - období v cyklu rozmnožování skotu ve kterém je ukončena laktace (produkce mléka) a dojnice přechází 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období tzv. stání na sucho. Zaprahnutí slouží k regeneraci mléčné žlázy a k zajištění správného dovyvinutí plodu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Zástupný symbol pro datum 3"/>
          <p:cNvSpPr/>
          <p:nvPr/>
        </p:nvSpPr>
        <p:spPr>
          <a:xfrm>
            <a:off x="32400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OUz Lošti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zápatí 4"/>
          <p:cNvSpPr/>
          <p:nvPr/>
        </p:nvSpPr>
        <p:spPr>
          <a:xfrm>
            <a:off x="3132000" y="649296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g. Mirosla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Zástupný symbol pro číslo snímku 5"/>
          <p:cNvSpPr/>
          <p:nvPr/>
        </p:nvSpPr>
        <p:spPr>
          <a:xfrm>
            <a:off x="637236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004B9-D0B4-4846-B453-23A0C420A8D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rmení vysokobřezích dojn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324000" y="1557000"/>
            <a:ext cx="842472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Období rozdojová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Doba kdy dojnice po porodu zvyšuje produkci mléka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trvá asi 28-60 dnů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2-3 dny po porodu začínáme od 1/3 KD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Další navyšování tak aby 7-10 den byla plná KD dle užitkovost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Další dny zvýšíme dávku jadrného krmiva asi o 2-3 kg tak dlouho, dokud na to dojnice reaguje zvyšováním produkc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Když přestane dojnice reagovat upravíme krmnou dávku na úroveň skutečné dojivost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Zástupný symbol pro datum 3"/>
          <p:cNvSpPr/>
          <p:nvPr/>
        </p:nvSpPr>
        <p:spPr>
          <a:xfrm>
            <a:off x="32400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OUz Lošti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Zástupný symbol pro zápatí 4"/>
          <p:cNvSpPr/>
          <p:nvPr/>
        </p:nvSpPr>
        <p:spPr>
          <a:xfrm>
            <a:off x="3132000" y="649296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g. Mirosla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5"/>
          <p:cNvSpPr/>
          <p:nvPr/>
        </p:nvSpPr>
        <p:spPr>
          <a:xfrm>
            <a:off x="637236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DF201-CBF4-4BA3-B345-0779938CC19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rmení krav v době rozdojová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Date Placeholder 3"/>
          <p:cNvSpPr/>
          <p:nvPr/>
        </p:nvSpPr>
        <p:spPr>
          <a:xfrm>
            <a:off x="32400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OUz Lošti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Footer Placeholder 4"/>
          <p:cNvSpPr/>
          <p:nvPr/>
        </p:nvSpPr>
        <p:spPr>
          <a:xfrm>
            <a:off x="3132000" y="649296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g. Mirosla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Slide Number Placeholder 5"/>
          <p:cNvSpPr/>
          <p:nvPr/>
        </p:nvSpPr>
        <p:spPr>
          <a:xfrm>
            <a:off x="637236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05C11-1D45-4F71-9E95-BF67929F301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324000" y="155700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lbertus Medium"/>
              </a:rPr>
              <a:t>MIŠKOVSKÝ, DOC. ING. CSC.,Zdeněk. Chov zvířat 2. Vydání první. Praha: CREDIT – vydavatelství a agentura, 1995. 249 s. ISBN 80-901645-4-4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lbertus Medium"/>
              </a:rPr>
              <a:t>SAMBRAUS, Hans Hinrich. Atlas plemen hospodářských zvířat. Vydání první. Praha: Nakladatelství Brázda, s. r. o.,, 2006. 296 s. ISBN 80-209-0344-5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lbertus Medium"/>
              </a:rPr>
              <a:t>VARGA, ING., Stanislav; KREJČÍ, ING., Vladimír. Zemědělská výroba II.Vydání druhé. Praha: Institut výchovy a vzdělávání Ministerstva zemědělství České republiky, 1995. 236 s. ISBN 80-7105-092-X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lbertus Medium"/>
              </a:rPr>
              <a:t>VARGA, ING., Stanislav; KREJČÍ, ING., Vladimír. Zemědělská výroba II.Vydání druhé. Praha: Institut výchovy a vzdělávání Ministerstva zemědělství České republiky, 1986. 296 s. ISBN 80-7105-019-9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lbertus Medium"/>
              </a:rPr>
              <a:t>BURDA, František. Zemědělské výrobky 2 – živočišné výrobky.Vydání první. Praha: Státní zemědělské nakladatelství, 1995. 236 s. ISBN 07-000-86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 u="sng">
                <a:solidFill>
                  <a:srgbClr val="0b6def"/>
                </a:solidFill>
                <a:uFillTx/>
                <a:latin typeface="Albertus Medium"/>
                <a:hlinkClick r:id="rId1"/>
              </a:rPr>
              <a:t>www.szesro.cz/text/chov/Výživa</a:t>
            </a:r>
            <a:r>
              <a:rPr b="0" lang="cs-CZ" sz="1200" spc="-1" strike="noStrike">
                <a:solidFill>
                  <a:srgbClr val="000000"/>
                </a:solidFill>
                <a:latin typeface="Albertus Medium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[online]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title"/>
          </p:nvPr>
        </p:nvSpPr>
        <p:spPr>
          <a:xfrm>
            <a:off x="250560" y="476280"/>
            <a:ext cx="8435880" cy="59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lbertus Extra Bold"/>
              </a:rPr>
              <a:t>Použité zdro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"/>
          <p:cNvGraphicFramePr/>
          <p:nvPr/>
        </p:nvGraphicFramePr>
        <p:xfrm>
          <a:off x="457200" y="1125360"/>
          <a:ext cx="8229600" cy="5483520"/>
        </p:xfrm>
        <a:graphic>
          <a:graphicData uri="http://schemas.openxmlformats.org/drawingml/2006/table">
            <a:tbl>
              <a:tblPr/>
              <a:tblGrid>
                <a:gridCol w="2962440"/>
                <a:gridCol w="5267160"/>
              </a:tblGrid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ázev škol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7dbc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ŠTZ Mohelnice, 1. máje 2, 789 85 Mohelni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7dbc5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Číslo projekt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Z.1.07/1.5.00/34.00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ázev šablony klíčové aktiv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ovace a zkvalitnění výuky prostřednictvím ICT (III/2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ázev výukového materiál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ov dojnic - krmen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značen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Y_32_INOVACE_138_Chov_skot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158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zdělávací ob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-51-H/01 Zemědělec – farmá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matická obla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ov zvířa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ční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uh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t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g. Miroslav Hu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um ověřen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. 1. 2014 KF 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810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otace / metodický pop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íl chovu dojnic, činitelé ovlivňující produkci mléka, výživa a krmení dojnic, vhodná krmiva pro dojnice, technika krmení dojnic, organizace krmení, pastva dojnic, krmení vysokobřezích dojnic, krmení krav v době rozdojování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dpis auto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g. Miroslav Hu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dpis ředite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93" name="Rectangle 2"/>
          <p:cNvSpPr/>
          <p:nvPr/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Záznamový list výukového materiál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360" y="5516640"/>
            <a:ext cx="7772400" cy="72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 Unicode MS"/>
              </a:rPr>
              <a:t>Chov skotu – Chov dojnic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Arial Unicode MS"/>
              </a:rPr>
              <a:t>- krmení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2124000" y="6165720"/>
            <a:ext cx="6400800" cy="4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 Unicode MS"/>
              </a:rPr>
              <a:t>Ing. Miroslav Hu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Date Placeholder 3"/>
          <p:cNvSpPr/>
          <p:nvPr/>
        </p:nvSpPr>
        <p:spPr>
          <a:xfrm>
            <a:off x="32400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OUz Lošti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Footer Placeholder 4"/>
          <p:cNvSpPr/>
          <p:nvPr/>
        </p:nvSpPr>
        <p:spPr>
          <a:xfrm>
            <a:off x="3132000" y="649296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g. Mirosla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Slide Number Placeholder 5"/>
          <p:cNvSpPr/>
          <p:nvPr/>
        </p:nvSpPr>
        <p:spPr>
          <a:xfrm>
            <a:off x="637236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17845-A64D-458D-B99A-9C2FCCAB474A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Dojnice jako producent mlé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24000" y="1557360"/>
            <a:ext cx="8424720" cy="493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Cíl chovu dojnic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Získat co největší množství mléka s vysokým obsahem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bílkovin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tuků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itamín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minerálních látek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To je podmíněno narozením jednoh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zdravého telete ročně od každé dojnic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8" descr="http://s1.postimage.org/jgmzo8gtl/b_ba_doj_kr_vu.gif"/>
          <p:cNvPicPr/>
          <p:nvPr/>
        </p:nvPicPr>
        <p:blipFill>
          <a:blip r:embed="rId1"/>
          <a:stretch/>
        </p:blipFill>
        <p:spPr>
          <a:xfrm>
            <a:off x="5280120" y="2641680"/>
            <a:ext cx="3625920" cy="36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Date Placeholder 3"/>
          <p:cNvSpPr/>
          <p:nvPr/>
        </p:nvSpPr>
        <p:spPr>
          <a:xfrm>
            <a:off x="32400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OUz Lošti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Footer Placeholder 4"/>
          <p:cNvSpPr/>
          <p:nvPr/>
        </p:nvSpPr>
        <p:spPr>
          <a:xfrm>
            <a:off x="3132000" y="649296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g. Mirosla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Slide Number Placeholder 5"/>
          <p:cNvSpPr/>
          <p:nvPr/>
        </p:nvSpPr>
        <p:spPr>
          <a:xfrm>
            <a:off x="637236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0E8C9-82D2-4943-AD1A-57795A7C0FC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324000" y="1557000"/>
            <a:ext cx="842472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Užitkový směr chovaných dojnic a chované pleme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Mléčná plemena mají oproti plemenům s kombinovanou užitkovostí větší schopnost produkovat mléko (mléčná plemena 6000-7000 kg, plemena s kombinovanou užitkovostí 5000-6000 kg ročně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Výživa a krmení dojn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Tvoří největší nákladovou položku na chov dojnic. Snižovat tyto náklady lze vlastní produkcí krmiv, snižováním ztrát při sklizni, konzervací krmiv a jejich uskladněním, použití správné krmné technik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Organizace práce a výro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Je ovlivněna přírodními a výrobními podmínkami podniku a zainteresovaností pracovníka na dosahovaných výsledcích. Nutno dodržovat interval dojení 12:12 hod., každý jiný se negativně projeví na produkci mlék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Věk při prvním zapuštění a zabřeznut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Optimální první zabřeznutí ve stáří 16-18 měsíců a otelení do 27 měsíců stáří. Předčasné a pozdní zabřeznutí má negativní vliv na pozdější užitkovost a tím i na náklady na odchov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title"/>
          </p:nvPr>
        </p:nvSpPr>
        <p:spPr>
          <a:xfrm>
            <a:off x="17892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Činitelé ovlivňující produkci mlé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Date Placeholder 3"/>
          <p:cNvSpPr/>
          <p:nvPr/>
        </p:nvSpPr>
        <p:spPr>
          <a:xfrm>
            <a:off x="32400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OUz Lošti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Footer Placeholder 4"/>
          <p:cNvSpPr/>
          <p:nvPr/>
        </p:nvSpPr>
        <p:spPr>
          <a:xfrm>
            <a:off x="3132000" y="649296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g. Mirosla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Slide Number Placeholder 5"/>
          <p:cNvSpPr/>
          <p:nvPr/>
        </p:nvSpPr>
        <p:spPr>
          <a:xfrm>
            <a:off x="637236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C7FA3-259D-48B0-8BCF-5EBC98F32DA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324000" y="1541160"/>
            <a:ext cx="842472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Délka meziobdob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Důležitý ukazatel plodnosti. Optimální délka je 360-400 dní, zkrácení snižuje množství nadojeného mléka za laktací, prodloužení snižuje produkci mléka za živo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táří dojnic při vyřazení (brakaci) z chov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elmi ovlivňuje náklady na výrobu mléka. Nízkoužitkové dojnice vyřazujeme z chovu po 1. nebo 2. laktaci – zvyšují náklady na výrobu mléka. Nejvyšší užitkovost dosahuje dojnice při 5. laktaci (ve věku 7 let). U vysokoužitkových dojnic je výhodné jejich produkční věk prodlouži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Zdravotní st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Základní předpoklad mléčné užitkovosti a tím i nižších nákladů na výrobu mléka. Veškeré zdravotní problémy, špatné ustájení a ošetřování vedou ke snížení produkce a tím ke zvýšení výrobních nákladů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title"/>
          </p:nvPr>
        </p:nvSpPr>
        <p:spPr>
          <a:xfrm>
            <a:off x="17892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Činitelé ovlivňující produkci mlé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Date Placeholder 3"/>
          <p:cNvSpPr/>
          <p:nvPr/>
        </p:nvSpPr>
        <p:spPr>
          <a:xfrm>
            <a:off x="32400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OUz Lošti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Footer Placeholder 4"/>
          <p:cNvSpPr/>
          <p:nvPr/>
        </p:nvSpPr>
        <p:spPr>
          <a:xfrm>
            <a:off x="3132000" y="649296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g. Mirosla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Slide Number Placeholder 5"/>
          <p:cNvSpPr/>
          <p:nvPr/>
        </p:nvSpPr>
        <p:spPr>
          <a:xfrm>
            <a:off x="637236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89B05-7548-44CC-9F12-C933F7B23C6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324000" y="1557000"/>
            <a:ext cx="842472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88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Krmná dávka (KD) dojnice musí splňovat dvě základní hledisk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0000"/>
                </a:solidFill>
                <a:latin typeface="Arial"/>
              </a:rPr>
              <a:t>zajistit fyziologickou potřebu živin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0000"/>
                </a:solidFill>
                <a:latin typeface="Arial"/>
              </a:rPr>
              <a:t>objemnost k zajištění nasycenost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Fyziologická potřeba je závislá na hmotnosti, poskytované užitkovosti a fyziologickém stavu (dokončování růstu, stupeň březosti dojnice apod.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bjemnost KD je zajištěna objemnými krmivy, které musí tvořit základ krmné dávk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D má být složená z více druhů krmiv, což vede k vhodnému doplňování energie a živ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ýživa a krmení dojn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Date Placeholder 3"/>
          <p:cNvSpPr/>
          <p:nvPr/>
        </p:nvSpPr>
        <p:spPr>
          <a:xfrm>
            <a:off x="32400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OUz Lošti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Footer Placeholder 4"/>
          <p:cNvSpPr/>
          <p:nvPr/>
        </p:nvSpPr>
        <p:spPr>
          <a:xfrm>
            <a:off x="3132000" y="649296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g. Mirosla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Slide Number Placeholder 5"/>
          <p:cNvSpPr/>
          <p:nvPr/>
        </p:nvSpPr>
        <p:spPr>
          <a:xfrm>
            <a:off x="637236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0C6D4-823D-4C26-A283-1A86566AC4B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ýživa a krmení dojn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Group 8"/>
          <p:cNvGrpSpPr/>
          <p:nvPr/>
        </p:nvGrpSpPr>
        <p:grpSpPr>
          <a:xfrm>
            <a:off x="250920" y="1628640"/>
            <a:ext cx="8641800" cy="4863960"/>
            <a:chOff x="250920" y="1628640"/>
            <a:chExt cx="8641800" cy="4863960"/>
          </a:xfrm>
        </p:grpSpPr>
        <p:pic>
          <p:nvPicPr>
            <p:cNvPr id="122" name="Picture 4" descr="Obrázek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250920" y="1628640"/>
              <a:ext cx="4968720" cy="3082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" name="Picture 6" descr="Obrázek (2)"/>
            <p:cNvPicPr/>
            <p:nvPr/>
          </p:nvPicPr>
          <p:blipFill>
            <a:blip r:embed="rId2">
              <a:grayscl/>
            </a:blip>
            <a:stretch/>
          </p:blipFill>
          <p:spPr>
            <a:xfrm>
              <a:off x="4099680" y="4161600"/>
              <a:ext cx="4793040" cy="233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Text Box 7"/>
            <p:cNvSpPr/>
            <p:nvPr/>
          </p:nvSpPr>
          <p:spPr>
            <a:xfrm>
              <a:off x="881640" y="1699560"/>
              <a:ext cx="698760" cy="331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Date Placeholder 3"/>
          <p:cNvSpPr/>
          <p:nvPr/>
        </p:nvSpPr>
        <p:spPr>
          <a:xfrm>
            <a:off x="32400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OUz Lošti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Footer Placeholder 4"/>
          <p:cNvSpPr/>
          <p:nvPr/>
        </p:nvSpPr>
        <p:spPr>
          <a:xfrm>
            <a:off x="3132000" y="649296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g. Mirosla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Slide Number Placeholder 5"/>
          <p:cNvSpPr/>
          <p:nvPr/>
        </p:nvSpPr>
        <p:spPr>
          <a:xfrm>
            <a:off x="637236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79782-65A3-410F-9D27-A241945B096A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324000" y="1557360"/>
            <a:ext cx="8424720" cy="493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Zelená pí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Obsahem vody příznivě ovlivňuje produkci mlék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Mladá píce je snadno stravitelná, nejvhodnější doba sklizně je zakvétání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Nížiny – vojtěška, kukuřice, směsky, řepné skrojk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odhorské a horské oblasti – jetel, travní porosty, směsky, krmná kapusta, méně kukuřic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ilá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Glycidová píc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Optimální délka řezané píce 3-5 c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ozor na zhoršení kvality při odebírání na obnažené straně nebo při vytváření zásoby na několik dní na dopravním prostředk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ená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olobílkovinná a bílkovinná píce, délky řezané píce pouze 2-3 cm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Je méně kyselá než siláž, má více sušiny, je vhodnější krmivo než silá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hodná krmiva pro dojn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1T11:56:50Z</dcterms:created>
  <dc:creator>jontypearce</dc:creator>
  <dc:description/>
  <dc:language>en-US</dc:language>
  <cp:lastModifiedBy>Huk</cp:lastModifiedBy>
  <dcterms:modified xsi:type="dcterms:W3CDTF">2014-02-17T14:08:36Z</dcterms:modified>
  <cp:revision>45</cp:revision>
  <dc:subject/>
  <dc:title>Cow PowerPoint Presentation</dc:title>
</cp:coreProperties>
</file>