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3021-8FD3-45CD-ADE4-A2C86B47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D4C1-C50D-428E-910D-308B9D9F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4D82-70AD-4160-90F6-AA6AFC8F5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7B0A-D68D-4C7A-8489-2F3407373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01DB-0A81-4EB6-87BB-C209E6628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40AB-0D32-47F6-AB67-388CF25C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A738-B90C-4264-BDCC-F1A2F7CB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2ADB-38FB-4DF9-B369-CAC4077A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D527-53D7-414C-A736-E4C48AC5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288F-D429-40AE-9767-D70C0D88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E6E7-E12A-4FD9-A828-FD764CA2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A429-2594-4FF7-BCD6-85BB3780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33FF-2483-4EB4-ABCB-00AF3FF4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29F2-3289-4CAF-A9EF-B207E6A6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CC12-6685-4B15-9495-192CB467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D87F-6CAE-4EA6-9809-804947927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7B7E-9727-40A5-B134-023E6294B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3FB8-73A4-46CE-A884-7FEC4D8E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D770-8DDF-469E-BA90-8799AAF2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5129-ABE9-4B17-B770-F83E800C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A1AD-2315-472A-97FD-889D2AE5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5774-6CCF-4D22-9CAF-D3794212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F9AE-1F41-4DD1-84F8-D92CF7DF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8EC9-7EBE-4EBB-A04A-C5476788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e7dbc5">
                  <a:alpha val="85098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5892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8764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CA16-F00B-4D23-8E6B-F9DCEECFA7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6954840" y="0"/>
            <a:ext cx="2189160" cy="144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e7dbc5">
                  <a:alpha val="85098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0" descr=""/>
          <p:cNvPicPr/>
          <p:nvPr/>
        </p:nvPicPr>
        <p:blipFill>
          <a:blip r:embed="rId2"/>
          <a:stretch/>
        </p:blipFill>
        <p:spPr>
          <a:xfrm>
            <a:off x="6954840" y="0"/>
            <a:ext cx="2189160" cy="1440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"/>
          <p:cNvSpPr/>
          <p:nvPr/>
        </p:nvSpPr>
        <p:spPr>
          <a:xfrm>
            <a:off x="-9360" y="5489640"/>
            <a:ext cx="8569080" cy="1368360"/>
          </a:xfrm>
          <a:prstGeom prst="rect">
            <a:avLst/>
          </a:prstGeom>
          <a:gradFill rotWithShape="0">
            <a:gsLst>
              <a:gs pos="0">
                <a:srgbClr val="e7dbc5">
                  <a:alpha val="60000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25092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0589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8E75-6246-4755-A3D4-7A5E661D8D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genetika.wz.cz/" TargetMode="External"/><Relationship Id="rId2" Type="http://schemas.openxmlformats.org/officeDocument/2006/relationships/hyperlink" Target="http://genetika.wz.cz/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321300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</a:rPr>
              <a:t>ZÁKLADY GENETIK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4"/>
          <p:cNvSpPr/>
          <p:nvPr/>
        </p:nvSpPr>
        <p:spPr>
          <a:xfrm>
            <a:off x="2209680" y="213372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Y_32_INOVACE_129_Chov_skot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ovéPole 5"/>
          <p:cNvSpPr/>
          <p:nvPr/>
        </p:nvSpPr>
        <p:spPr>
          <a:xfrm>
            <a:off x="572436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utor:  Ing. Miroslav Hu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3C49-6D37-4D4C-8D45-D1F86E10A92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ukleové kysel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ukleové kyseliny jsou nositelkami dědičn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forma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íky nim dochází k přenosu dědičných znak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 potomstvo a k evoluc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jich základními stavebními jednotkami js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zv. nukleotid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ukleotidy se skládají z pětiuhlíkatého cukr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pentózy), fosfátu - zbytku kyseliny fosforečn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 a dusíkatých báz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ukleové kyseliny se nacházejí v buněčný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ádrec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Nukleové kysel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sejmout033"/>
          <p:cNvPicPr/>
          <p:nvPr/>
        </p:nvPicPr>
        <p:blipFill>
          <a:blip r:embed="rId1"/>
          <a:srcRect l="5535" t="1393" r="0" b="2754"/>
          <a:stretch/>
        </p:blipFill>
        <p:spPr>
          <a:xfrm>
            <a:off x="5470560" y="1484280"/>
            <a:ext cx="36734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F238-EA02-43B3-BAAC-8BA25CE1F67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50560" y="1557000"/>
            <a:ext cx="8713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yselina deoxyribonukleová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jí molekula je tvořena dvěma polynukleotidovými řetěz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jí cukerná složka je pětiuhlíkatý cukr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2-deoxy-D-ribos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usíkaté báze jsou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denin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Guanin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Cytosin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hymin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polu se váží vždy jen 2 specifické N-báze, a to sice Adenin a Thym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ytosin a Guan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ako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enaturaci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NA označujeme jev, kdy dojde (např. zvýšenou teploto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xtrémním pH...) k oddělení obou vláken od seb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lákna se mohou opět připojit k sobě nebo se mohou spojit s jiným komplementárním vláknem - to označujeme jako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hybridizac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3853-A5AF-4870-B98D-FE697BBD30A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model DNA"/>
          <p:cNvPicPr/>
          <p:nvPr/>
        </p:nvPicPr>
        <p:blipFill>
          <a:blip r:embed="rId1"/>
          <a:stretch/>
        </p:blipFill>
        <p:spPr>
          <a:xfrm>
            <a:off x="1692360" y="1450800"/>
            <a:ext cx="5616360" cy="54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CFB1-6367-4C03-A244-EB85C854601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plikace 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plikace DNA je schopnost zajišťující dědično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 rozmnožování je nezbytné, aby potomek dos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nohodnotnou genetickou informa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 replikaci vzniknou z jedné mateřské molekuly D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vě naprosto stejné DNA dceřiné (každá s jedním vlákn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 původní DNA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Replikace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220px-DNA_replication_split"/>
          <p:cNvPicPr/>
          <p:nvPr/>
        </p:nvPicPr>
        <p:blipFill>
          <a:blip r:embed="rId1"/>
          <a:stretch/>
        </p:blipFill>
        <p:spPr>
          <a:xfrm>
            <a:off x="6392880" y="1484280"/>
            <a:ext cx="2427120" cy="5113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"/>
          <p:cNvPicPr/>
          <p:nvPr/>
        </p:nvPicPr>
        <p:blipFill>
          <a:blip r:embed="rId2"/>
          <a:stretch/>
        </p:blipFill>
        <p:spPr>
          <a:xfrm>
            <a:off x="3125880" y="3105000"/>
            <a:ext cx="276228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E0FA-A607-4E2D-8CA3-3380B6E9DD4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4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yselina ribonukleová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jí molekula je tvoře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n jedním polynukleotidový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lákn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acharidovou složku tvoř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5C cukr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-ribos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N-báz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voří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denin, Cytosi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Guanin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Uracyl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zařazová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ísto Thyminu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Difference DNA RNA-EN"/>
          <p:cNvPicPr/>
          <p:nvPr/>
        </p:nvPicPr>
        <p:blipFill>
          <a:blip r:embed="rId1"/>
          <a:stretch/>
        </p:blipFill>
        <p:spPr>
          <a:xfrm>
            <a:off x="3708360" y="1395360"/>
            <a:ext cx="54356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310C-E68C-4C87-BACE-75C82EDE250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79280" y="155700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NEČAS, PROF. MUDr. DrSc., Oldřich, HOJA, PROF. MUDr. CSc., Š., MACKŮ, DOC. Dr. CSc., J., MAGROT, DOC. MUDr. CSc.,T., SOŠKA, MUDr. CSc., J., ŠMARDA, DOC. MUDr. CSc., J., Obecná biologie. Vydání druhé. Praha: Avicenum, zdravotnické nakladatelství, n. p., 1972. 584 s. ISBN 08-078-7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ŠPÍREK, Alois. Genetika. Vydáno dne 4. 4. 2008. Verze 2. 5, Počet stran 12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Soupis kapitol ze stránek </a:t>
            </a:r>
            <a:r>
              <a:rPr b="0" lang="cs-CZ" sz="1200" spc="-1" strike="noStrike" u="sng">
                <a:solidFill>
                  <a:srgbClr val="0b6def"/>
                </a:solidFill>
                <a:uFillTx/>
                <a:latin typeface="Albertus Medium"/>
                <a:hlinkClick r:id="rId1"/>
              </a:rPr>
              <a:t>http://</a:t>
            </a:r>
            <a:r>
              <a:rPr b="0" lang="cs-CZ" sz="1200" spc="-1" strike="noStrike" u="sng">
                <a:solidFill>
                  <a:srgbClr val="0b6def"/>
                </a:solidFill>
                <a:uFillTx/>
                <a:latin typeface="Albertus Medium"/>
                <a:hlinkClick r:id="rId2"/>
              </a:rPr>
              <a:t>genetika.wz.cz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SIŘÍNKOVÁ, Mgr.,Petra. Mendelovy zákony. Výukový materiál vznikl za přispění Evropské unie, státního rozpočtu ČR a Středočeského kraje. Investice do rozvoje vzděláván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3"/>
          <a:stretch/>
        </p:blipFill>
        <p:spPr>
          <a:xfrm>
            <a:off x="2195640" y="4941720"/>
            <a:ext cx="4464000" cy="11034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250560" y="476280"/>
            <a:ext cx="843588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Použité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57200" y="1371600"/>
          <a:ext cx="8229600" cy="494820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ovace a zkvalitnění výuky prostřednictvím ICT (III/2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klady geneti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129_Chov_sko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-51-H/01 Zemědělec – farmá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v zvíř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 11. 2013 KF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0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genetiky, význam genetiky, základní genetické pojmy, nukleové kyselin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3" name="Rectangle 2"/>
          <p:cNvSpPr/>
          <p:nvPr/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551664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 Unicode MS"/>
              </a:rPr>
              <a:t>Chov skotu – Základy genet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427280" y="6165720"/>
            <a:ext cx="4097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 Unicode MS"/>
              </a:rPr>
              <a:t>Ing. Miroslav H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77E9-802C-4C52-BA72-E92C5F813E0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Stručný vývoj genet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71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ývoj geneti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 zakladatele genetiky je považován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Johann Gregor Mendel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1822 - 188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nich z brněnského kláštera se v 2. polovině 19. století zabýval hybridizačními pokusy u rostl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 své působiště si zvolil zahrádku kláštera a za objekt svého zájmu hrác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 následném křížení sledoval 7 dědičných znaků (tvar semen a lusků, zbarvení děloh, květů a nezralých lusků, délku stonku a postavení květů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jistil, že se nedědí přímo znaky, ale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"vlohy"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ro ně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al za vznik klasické genet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endelovy zákony patří k základům genetiky a dodnes mají své využití např. v medicíně u sledování dědičných onemocněn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e znovuobjevení Mendelovy práce a ke vzniku genetiky jak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nohodnotného vědního oboru tak dochází až na počátku 20. stolet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chází k potvrzení pravdivosti Mendelových zjiště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http://upload.wikimedia.org/wikipedia/commons/thumb/d/d3/Gregor_Mendel.png/225px-Gregor_Mendel.png"/>
          <p:cNvPicPr/>
          <p:nvPr/>
        </p:nvPicPr>
        <p:blipFill>
          <a:blip r:embed="rId1"/>
          <a:stretch/>
        </p:blipFill>
        <p:spPr>
          <a:xfrm>
            <a:off x="6678720" y="4011480"/>
            <a:ext cx="228600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D143-1BFF-4FF6-90C2-02FEFCC5C7D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Základy genet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ýznam geneti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ává odpovědi na podstatu života, je klíčem ke zvyšování produkce rostlinné a živočišné výroby, má význam v boji proti dědičným chorobám (rakovin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Genetika je věda o dědičnosti a proměnlivosti živých organism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ědičnost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je schopnost živ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é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o organismu přen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á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t sv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é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znaky na potomstv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roměnlivost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je schopnost živ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é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o organismu přizpůsobovat se měn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u se vněj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š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u prostřed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měnlivost může bý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88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nedědičn</a:t>
            </a:r>
            <a:r>
              <a:rPr b="1" lang="cs-CZ" sz="1600" spc="-1" strike="noStrike">
                <a:solidFill>
                  <a:srgbClr val="002060"/>
                </a:solidFill>
                <a:latin typeface="Albertus Medium"/>
              </a:rPr>
              <a:t>á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- znaky se měn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vlivem vněj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š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h podm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k (barva srsti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vlivněn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lunečn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 z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en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), tyto změny nejsou dědičn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é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nepřed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aj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í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e potomstvu - nazývaj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e modifikac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88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dědičn</a:t>
            </a:r>
            <a:r>
              <a:rPr b="1" lang="cs-CZ" sz="1600" spc="-1" strike="noStrike">
                <a:solidFill>
                  <a:srgbClr val="002060"/>
                </a:solidFill>
                <a:latin typeface="Albertus Medium"/>
              </a:rPr>
              <a:t>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-   založen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znaků   se   měn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vlivem   vněj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š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h   podm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k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radioaktivn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en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buněčn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é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jedy) a projev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e změnou znaku (výskyt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ov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é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o typu zbarven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, kter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je dědičn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a před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e na potomstvo - nazýv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e mut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38E9-2288-43E6-A59F-AF87B6AA0AF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50920" y="1557000"/>
            <a:ext cx="8642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studiu proměnlivosti znaků se setkáváme se dvěma základními skupinami znak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sou to jedna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88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znaky kvalitativ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pro které je typický výskyt v odlišných kategoriích bez přechodů, jsou to znaky neměnitelné. Nejsou ovlivněny vnějším prostředím. Např. zbarvení černé - červené, rohatost – bezrohost, tvar plodů, barva květů, srsti ap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88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znaky kvantitativ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pro které je typická proměnlivost (měříme je v kg, cm) a při jejich sledování u skupiny zvířat dostáváme plynulou řadu individuálních hodnot (živá hmotnost, produkce mléka – dojivost, tvar plodů, barva květů, barva srsti apod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50920" y="333360"/>
            <a:ext cx="6842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Základy geneti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72FA-51CE-4DF1-A844-942F155A0DF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ákladní genetické pojm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88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Alel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konkrétní forma genu, označuje se písme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88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DN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kyselina deoxyribonukleová, nositelka dědičné inform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88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Dominatní alela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ta, která navenek převládá, označuje se velkým písmen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88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F1 generace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filiální generace – vzniká křížením P generací; křížením F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88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Fenotyp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soubor všech dědičných znaků jedince, pozorovatelný proj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genotypu (genotyp + prostředí = fenoty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88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Gen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vloha – jednotka dědičné informace (gen + prostředí = znak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88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Genofond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soubor všech genů v populaci určitého druh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88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Genom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soubor veškeré dědičné informace buňky nebo jedi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88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Genotyp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genetická výbava jedince, podmiňuje fenoty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88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Heterozygot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jedinec, jehož alely sledovaného genu jsou navzájem různ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88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Heterozygotní alely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alely různých for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88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Homozygot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- jedinec, jehož alely sledovaného genu jsou stejn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88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Homozygotní alely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alely stejných for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88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Hybridizac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křížení, proces spojování dvou vláken DNA podle pravidel 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árování báz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Základní genetické poj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2B85-2019-4D0E-A21D-DCF2DE40E20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Chloroplast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organela rostlin, schopná fotosyntézy; obsahuje vlastní genetickou informa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Chromosom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útvar tvořený DNA a bílkovinami, nejlépe viditelný během mitózy nebo meiózy eukaryotických buně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Inbreeding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křížení příbuzných jedinc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Karyotyp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chromosomální výbava buňky nebo jedi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Lokus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místo (pozice) určitého genu na chromosom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Meióz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redukční dělení díky němuž vznikají haploidní buňky (gamet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Mitóza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dělení buněk; vznikají buňky se shodnou chromosomální výbavou (diploidní dceřinné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Mutac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změna v sekvenci DNA; pokud neznemožňuje rozmnožování jedince, pak je dědič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Mutagen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faktor vnějšího prostředí, schopný zapříčinit mutace v genetické informaci organism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P generace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parentální generace - rodičovská gener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RN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kyselina ribonukleová; nositelka dědičné informace u některých virů; u vyšších živočichů se podílí na realizaci genetické inform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Základní genetické poj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A6D1-1CED-4BCB-A798-180A5232FC8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4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Adenin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6-aminopurin; purinová báze, přítomná v DNA i R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Thymin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2,4-dioxo-5-methylpyrimidin; pyrimidinová báze, přítomná pouze v D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Uracyl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2,4-dioxopyrimidin; pyrimidinová báze, přítomná pouze v R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Guanin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2-amino-6-oxopurin; purinová báze, přítomná v DNA i R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Cytosin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2-oxo-4-aminopyrimidin; pyrimidinová báze, přítomná v DNA i R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Znak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vlastnost – projevuje se na základě genů (barva srsti, tvar plodu, velikost). Každý gen má více forem neboli alel (př. gen pro barvu očí má více alel – modrá, zelená, hnědá barv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Zygota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zygota je buňka, vznikající splynutím dvou gamet; gamety jsou haploidní buňky, zygota se tak stává opět buňkou diploid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Základní genetické poj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1:56:50Z</dcterms:created>
  <dc:creator>jontypearce</dc:creator>
  <dc:description/>
  <dc:language>en-US</dc:language>
  <cp:lastModifiedBy>Huk</cp:lastModifiedBy>
  <cp:lastPrinted>2013-11-26T11:16:20Z</cp:lastPrinted>
  <dcterms:modified xsi:type="dcterms:W3CDTF">2014-01-25T10:15:57Z</dcterms:modified>
  <cp:revision>88</cp:revision>
  <dc:subject/>
  <dc:title>Cow PowerPoint Presentation</dc:title>
</cp:coreProperties>
</file>