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73A-AFDE-46F6-8334-74CE62A0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AA1-BD89-46F9-A160-00E0BC9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291-9E6A-4E84-B8A8-09C42764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AD6-0871-4055-BAE4-B8D025D0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D859-7A35-4F33-8977-8AC61F22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70D9-6509-4967-B547-DF7D5C39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738B-F635-41D3-9EBA-94E7A160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1AE3-D4E5-4BA5-B11E-9ABD0488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3BFA-336E-4A4F-B152-16D3694F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159E-0101-4D9C-8D76-20A40354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26F4-F061-4716-853E-8DA0F889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579-B5D8-4015-8F79-4A9221A4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FCA2-57E0-409F-8DC0-B60A860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9401-5CF3-4C63-8B35-7B976591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0163-E7B3-4615-BF13-C40AB642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0B73-C97B-4EAF-9F1A-D698608D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D63B-0035-406C-9E9F-646AF4B5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E94-20C2-4F96-8FE3-F2F9EEB2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04E-94E9-4A41-A335-0BF407E9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470-6B3D-450A-8008-26E4E4C7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AD9-1F83-4C77-A5B4-F19151D9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727-8D4D-407F-82C1-A26224F0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7E7-E200-49A6-91D2-C787D7DC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44A-02A0-423B-9E5A-30BAF8C0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8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0B6D-32AE-4E56-B850-BF09F4A1B3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DCD2-3CBE-48FC-8370-E002441F7E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900" spc="-1" strike="noStrike">
                <a:solidFill>
                  <a:srgbClr val="000000"/>
                </a:solidFill>
                <a:latin typeface="Arial"/>
              </a:rPr>
              <a:t>ROZMNOŽOVÁNÍ </a:t>
            </a:r>
            <a:br>
              <a:rPr sz="4900"/>
            </a:br>
            <a:r>
              <a:rPr b="1" lang="cs-CZ" sz="4900" spc="-1" strike="noStrike">
                <a:solidFill>
                  <a:srgbClr val="000000"/>
                </a:solidFill>
                <a:latin typeface="Arial"/>
              </a:rPr>
              <a:t>A PLODNOST ZVÍŘAT 1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32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odnost sa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kce pohlavních orgánů samců spočívá v tvorbě pohlavních buněk (spermií), plasmy ejakulátu a jejich zapravení do pohlavních orgánů samice. Pohlavní orgány samců tvoří varlata, nadvarlata, chámovod, přídatné pohlavní žlázy,  semenné váčky, prostata a pohlavní ú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uhou důležitou funkcí varlat je tvorba pohlavního hormon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stosteron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ý ovlivňuje tvorbu sekundárních pohlavních znaků a pohlavní ch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mínkou tvorby kvalitních spermií je umístění varlat v šourk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im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utinu tělní pro dosažení teploty o 3 - 5 °C nižší než je tělesná. Jedinec u kterého nesestoupí jedno či obě varlata do šourku má zhoršenou plodnost neboje neplodn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ermiogeneze začíná v raném embryonálním období jedince, avšak vlastní tvorba oplození schopných spermií začíná pubert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E455-CFD0-4600-A74C-0CF2B9CEAA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lodnost samc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ermie opouštějí tělo samce ve formě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ejakulát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semeno, sperma) složeného ze spermií a plasmy, kterou tvoří sekrety přídatných pohlavních žláz s úkolem tvořit vhodné prostředí spermiím, umožnit jejich pohyb a dodat energ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oplodnění vajíčka je důležitá životnost spermie projevující se hlavně aktivním pohybem vpřed 2-5 mm/min., oplození neschopné jsou buď bez pohybu, kmitají na místě nebo se pohybují v k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lozovací schopnost si spermie udrží dle druh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hlavních orgánech krávy 24 - 48 hodin (schopnost pohybu 96 hodin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hlavních orgánech ovce 24 - 48 hodin (pohyb 48 hodin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hlavních orgánech klisny 144 hod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hlavních orgánech samic drůbeže až několik týdnů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lozovací schopnost spermie je podmíněna procesem dozrání spermie, které se realizuje teprve pobytem v pohlavních orgánech samice (1,5-5 hodin dle druhu) a stykem se sliznicí a sekrety dělohy a vejcovo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20F0-A75E-4E79-8211-6A9DB66F11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lodnost samc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50920" y="1557000"/>
            <a:ext cx="847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dle produkce kvalitního ejakulátu požadujeme u samců dostatečnou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tenci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libido sexualis), charakterizovanou pářícím chováním, které zajistí bezchybné páře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em je vrozené chování - sled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nepodmíněných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flexů a ve vazbě na ně se vytváří i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odmíněné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flexy, jejichž význam roste s věkem samce a stávají se významným pro úspěšné páření nebo odběr semene. Jejich vytváření ovlivňuje člověk a tak i ovlivňuje pohlavní činnost, což je důležité zejména při insemin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áření jako vrozené chování zahrnuje sled reflex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istanční reflex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povídající na podněty smyslových orgánů (zrak, čich)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hrnují reflex přibližovací, erekční aj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otykové reflex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odpovědí na podněty ze smyslových orgánů dotyku a zahrnují reflex přímého kontaktu samce a samice, reflex skoku a pojímací reflex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opulační   reflex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  reflexy   bezprostředního   pářícího   aktu –reflex vyhledávací, reflex tření a ejakulač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041D-5B0C-41DD-B048-AA780C1EB6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lodnost samc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áření zvířat je ze strany sam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zýváno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řipouštění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trv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koní 1-3 minut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prasat až 15 minu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přežvýkavců je páření velmi krátké (1-15 sekund) a je nazýváno </a:t>
            </a: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sk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stože je u všech druhů zvířat užíváno inseminace (v různém rozsahu), která vylučuje samce z procesu dopravy ejakulátu do pohlavních orgánů samic, je neustále zapotřebí dbát u samců na dostatečnou kvalitu potence, protože jednak umožňuje bez problémů odběr semene a je také kritériem konstitučního typu a zdatnosti organism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B1E2-9063-4B80-BC94-B962EE49DB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lodnost samc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jednoho plemeníka je možno počítat s následným počtem sam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ití plemeníků při připouštění z ruky a insemin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9B80-562A-4F19-A00A-CDF79F1555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lodnost samc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2492280"/>
          <a:ext cx="8255160" cy="2592360"/>
        </p:xfrm>
        <a:graphic>
          <a:graphicData uri="http://schemas.openxmlformats.org/drawingml/2006/table">
            <a:tbl>
              <a:tblPr/>
              <a:tblGrid>
                <a:gridCol w="2063880"/>
                <a:gridCol w="2063520"/>
                <a:gridCol w="2063880"/>
                <a:gridCol w="206388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áření za tý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áření za 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emin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ý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-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 a ví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řeb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-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ž 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ž 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z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-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ž 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ivy působící na plodnost samc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Genetické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jsou známy vlivy dané druhovou a plemennou příslušností. Pokud se vyskytnou vady, pak vzhledem ke zhoršené plodnosti postižených samců a dědičnosti těchto vad, je třeba plemeníka bezpodmínečně vyřadit z chov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egenetické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plodnost citlivě reaguje na podmínky chov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výživa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á je plnohodnotná výživa samců, z hlediska kvality ejakulátu je nezbytná zdravotní nezávadnost krmiv (bez toxinů, těžkých kov ap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teplota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gativně působí na spermiogenezi nadměrná teplo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světlo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lavní aktivita souvisí s délkou světelného dne (sezónnost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využívání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videlné připouštěni dle druh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pohyb, ošetřování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znivý vliv správné techniky ošetřování (čištění,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prava končetin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věk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příliš mladí či přestárlí samci mívají zhoršený ejakulát i poten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564C-6D65-4AF4-A970-B37B4ABBAA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lodnost samc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1557000"/>
            <a:ext cx="8470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cení plodnosti sa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dnost samců můžeme rozlišovat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tencionální a skutečn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otencionál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dána produkcí spermií a parametry ejakulátu - u zdravého samce bez poruch je dostatečná, v případě užívání inseminace je zajištěna kontrolou inseminačních dáv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skutečn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lodnost je dána počtem zabřezlých plemenic či počtem mláďat připadajících na por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utečnou plodnost vyjádř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rocento zabřezlých samic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ze všech zapouštěných či inseminovaný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inseminační index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udává počet inseminací nutných k zabřeznutí (dobrý je do 1,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index  plodnosti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hodnotí  procento  březosti  po plemeníkovi s ohledem na stáda, inseminačního technika a ostatní plemeníky. Výpočet je prováděn pro jednotlivé plemení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B692-8F9E-41B0-BB53-34F8D56327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lodnost samc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kladem hodnocení je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řádná chovatelská evid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každém připuštění má být veden zázn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řipouštěcím rejstř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jiteli samice je předán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řipouštěcí líst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inseminaci musí být proveden zázn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seminační kartě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to evidence je důležitá pro zápis původu narozeného mládě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6B29-AD4B-4510-BE98-6EF071FD5F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lodnost samc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odnost s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kce pohlavních orgánů samic spočívá v tvorbě pohlavních buněk (vajíček), páření a vytvoření prostředí ve kterém se vyvíjí zárodek a plod až do doby porod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lavní orgány samic tvoří vaječníky, vejcovody, děloha, pochva a vulv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lší důležitou funkcí vaječníků je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tvorba pohlavních hormonů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estrogenů a progesteronu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teré zodpovídají za determinaci samičích sekundárních pohlavních znaků, realizaci březosti, vývin mléčné žlázy a laktace, také se podílí na formování pohlavního a mateřského chování sam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mičí gamety – vajíčka – vznikají ve vaječníků procesem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ovogenez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narození samice jsou tedy primární folikuly založené už v plodu samice se základem vaječné buňky přítomny ve velkém, ale definitivním počtu (kráva 100 -300 tisíc, prasnice 60 - 100 tisíc), avšak jen malá část z nich po období puberty pokračuje ve vývoji a zrání až do konečné podoby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Graafova folikuI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ujícího vaječnou buň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volnění vajíčka se děje prasknutím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Graafova folikuIu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tento proces se nazývá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ovul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ABDE-A729-431D-AC8F-B302C20F5D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lodnost sam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et mláďat je určen hlavně počtem ovulovaných vajíček – zvířata dělíme na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dnorod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á rodí jedno mládě (kráva, klisna)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ícerodá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terá rodí dvě a více mláďat (koza, ovce, prasnice, fena, kočka, králi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ovulaci se na vaječníku tvoří v místě prasklého folikulů tzv.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žluté tělísko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ž buňky tvoří progesteron blokující dozrávání dalších folikulů a tím i ovulaci a připravuje děložní sliznici pro přijetí zygoty. Jestliže vajíčko nebylo oplozeno, žluté tělísko po 9 – 11 dnech zaniká a objeví se až po další ovulac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to základní děje na vaječníku – dozrání folikulů, ovulace, vývoj a zánik žlutého tělíska probíhají pravidelně cyklicky v tzv.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variálním cykl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ohlavním cykl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810A-6BD8-4FEE-AEA5-FB672E40A5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lodnost sam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5194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množování a plodnost zvířa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32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1. 2014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otechnické aspekty rozmnožování zvířat, pohlavní a chovatelská dospělost, plodnost samců, plodnost samic, pohlavní cyklus samic, neplodnost sam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0920" y="1628640"/>
            <a:ext cx="3241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hlavní cyk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nějším projevem ovulace j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ří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rojevující se navenek neklidem samice až ochotou přijmout sam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ivem estrogenů dochází k překrvení a otoku patrném na vulvě, otevírá se děložní krček a vytéká hlen zpočátku čirý, později zakrvaven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je se projevuje celoročně v intervalu 18-24 dn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élka říje kolísá od 12 (18) hodin po 30 (36) hod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2268-0675-427B-9DBA-42486AAF84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hlavní cyk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3635280" y="0"/>
            <a:ext cx="5508360" cy="6857640"/>
            <a:chOff x="3635280" y="0"/>
            <a:chExt cx="5508360" cy="6857640"/>
          </a:xfrm>
        </p:grpSpPr>
        <p:pic>
          <p:nvPicPr>
            <p:cNvPr id="183" name="Picture 5" descr=""/>
            <p:cNvPicPr/>
            <p:nvPr/>
          </p:nvPicPr>
          <p:blipFill>
            <a:blip r:embed="rId1"/>
            <a:stretch/>
          </p:blipFill>
          <p:spPr>
            <a:xfrm>
              <a:off x="3635280" y="0"/>
              <a:ext cx="5508360" cy="30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6" descr=""/>
            <p:cNvPicPr/>
            <p:nvPr/>
          </p:nvPicPr>
          <p:blipFill>
            <a:blip r:embed="rId2"/>
            <a:stretch/>
          </p:blipFill>
          <p:spPr>
            <a:xfrm>
              <a:off x="3635280" y="3012840"/>
              <a:ext cx="5506200" cy="384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942A-EDC7-48C0-A5DE-919D7C62ED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596360" cy="5445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hlavní cyk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omě změn na pohlavním ústrojí je možno pozorovat řadu jiných změn – mění se složení krve, množství i kvalita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znamné jsou změn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ování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mice jsou neklidné, více se pohybují,  očichávají a vyhledávají tělesný kontakt s jinými zvířaty, v optimálním období říje pak stojí klidně a ukazují svolnost k páření (období ochoty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říjové chování samic mají chovatelé specifické názv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kráva s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„běhá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prasnice s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„bouká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koza </a:t>
            </a:r>
            <a:r>
              <a:rPr b="0" i="1" lang="cs-CZ" sz="1600" spc="-1" strike="noStrike">
                <a:solidFill>
                  <a:srgbClr val="ff0000"/>
                </a:solidFill>
                <a:latin typeface="Arial"/>
              </a:rPr>
              <a:t>s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„prská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klisna s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„hříná"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dobí mezi říjemi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říjový cyklus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ohlavní cyklu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6329-57EB-4822-B389-C1075F641A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hlavní cyk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ytmus říje je druhově odlišný a podle výskytu říje jsou zvíř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onoestrická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říje se vyskytne 1x ročně (divoká zvířata, jelenovití),</a:t>
            </a:r>
            <a:br>
              <a:rPr sz="1600"/>
            </a:b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iestrická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říje se vyskytuje asi 2x ročně (kočka, fen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lyestrická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říje se vyskytuje vícekrát za rok (klisna, kráva, prasnice, ovce, koza), avšak u klisny, ovce, kozy je tendence sezónnosti s výraznými cykly na jaře a na podz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áze říjového cyklu chovaného druhu a jejich znalost jsou důležité pro úspěšné rozmnožování zvířat zejména za využívání insemin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roestrus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období přípravy k říji trvající asi 3 d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estrus (říje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období vlastní říje trvající 1-2 dny charakterizované typickými změnami na vývodných cestách pohlavních orgánů a projevem říjového chování (otevření   děložního   krčku,   uvolňování  a  výtok  hlenu   z pochvy,   ovulace, v chování samice se projevuje výrazné pohlavní vzrušení a ochota k pářen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1458-D73C-4CA5-852E-A18B7B8A22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hlavní cyk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920" y="1557360"/>
            <a:ext cx="84708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znaky říje mají různou intenzitu. Rozlišuj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říji </a:t>
            </a:r>
            <a:r>
              <a:rPr b="1" i="1" lang="cs-CZ" sz="1600" spc="-1" strike="noStrike">
                <a:solidFill>
                  <a:srgbClr val="ff0000"/>
                </a:solidFill>
                <a:latin typeface="Arial"/>
              </a:rPr>
              <a:t>silnou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(bouřlivou)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říji </a:t>
            </a:r>
            <a:r>
              <a:rPr b="1" i="1" lang="cs-CZ" sz="1600" spc="-1" strike="noStrike">
                <a:solidFill>
                  <a:srgbClr val="ff0000"/>
                </a:solidFill>
                <a:latin typeface="Arial"/>
              </a:rPr>
              <a:t>normální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říji </a:t>
            </a:r>
            <a:r>
              <a:rPr b="1" i="1" lang="cs-CZ" sz="1600" spc="-1" strike="noStrike">
                <a:solidFill>
                  <a:srgbClr val="ff0000"/>
                </a:solidFill>
                <a:latin typeface="Arial"/>
              </a:rPr>
              <a:t>tichou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(bez typických projevů říjového chování)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etestrus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oříjové období zklidňovací trvající asi 4 dny, vznik žlutého tělís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diestrus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meziříjové období klidu. Jestliže došlo k oplození přetrvává žluté tělísko, což u polyestrických zvířat (kráva, prasnice aj.) způsobí růst nového folikulu a začíná růst nový cyklus. U mono a diestrických zvířat po degeneraci žlutého tělíska nastává často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anestrus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období, kdy je pohlavní ústrojí různou dobu v kli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videlnost i délka říjových cyklů je pod vlivem vnějších i vnitřních činitelů. Dominantním faktorem je zd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lnohodnotnost výživy samic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vlivem nedostatků ve výživě se často objevují poruchy říjového cyklu - vynechání říje, prodloužení říjového cyklu, „tichá říje" a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praktickou plemenitbu je třeba v závislosti na říji stanovit správnou dobu páření (u samice zapouštění) či inseminace. V případě páření vhodnou dobu spolehlivě určí samec, v případě inseminace je třeba věnovat velkou pozornost sledování říjového cyklu a říji přesně detekov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1D3D-8B22-4ABC-BA81-5AA8B5533C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hlavní cyk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0920" y="1628640"/>
            <a:ext cx="847080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vedené údaje jsou průměr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tekci říje je možno provádět různými metodami, které vycházej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typického říjového chování druh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e změn na pohlavním ústrojí samice případně v těle samice vzniklých následkem procesů souvisejících s ovulac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využívání inseminace je nutné zajistit spolehlivou detekci říje, protože zhoršené zabřezávání ohrožuje ekonomiku chov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všech druhů je základní (a nejlevnější) metoda </a:t>
            </a:r>
            <a:r>
              <a:rPr b="1" i="1" lang="cs-CZ" sz="1600" spc="-1" strike="noStrike">
                <a:solidFill>
                  <a:srgbClr val="ff0000"/>
                </a:solidFill>
                <a:latin typeface="Arial"/>
              </a:rPr>
              <a:t>vizuelního pozorování chování samic a příznaků ří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váděná chovate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náročná na čas, zkušenosti, zodpovědnost, selhává u tichých říjí.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83A1-36DA-48D7-B4FB-4365116CE7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hlavní cyk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1484280"/>
          <a:ext cx="9144000" cy="2173320"/>
        </p:xfrm>
        <a:graphic>
          <a:graphicData uri="http://schemas.openxmlformats.org/drawingml/2006/table">
            <a:tbl>
              <a:tblPr/>
              <a:tblGrid>
                <a:gridCol w="900000"/>
                <a:gridCol w="1584360"/>
                <a:gridCol w="1366920"/>
                <a:gridCol w="1944720"/>
                <a:gridCol w="1800360"/>
                <a:gridCol w="15476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lka cykl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lka říj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a ovul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a k zapou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řezost – d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á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(+-3 dn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-1,5  d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hod. po ří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polovina ří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35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i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(+-3 dn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10 dn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 před koncem ří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-5. den ří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s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(+-3 dn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 d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 koncem ří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den ří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(+- 2 dn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1,5 d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 konci ří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den ří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(+- 1 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1,5 d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 konci ří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rostřed ří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plodnost s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ití reprodukčních schopností plemenic určuje jejich životní produkci a podmiňuje rentabilitu celého chov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konomické ztráty v reprodukci skotu se vyjadřují rozdílem mezi reálnými reprodukčními schopnostmi zvířat a skutečnou intenzitou reproduk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tou příčinou předčasné brakace plemenic skotu je jejich neplodn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lodnost může bý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rozená – je hospodářsky nevýznam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ískaná – ať už trvalá nebo dočasná, má příčiny v nesprávné výživě plemenic, v neodborně a nehygienicky vedených porod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evence poruch plod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rávná výž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á hygiena porodů a prostřed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rávný odchov jalovi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časné odhalení poruch plodn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a zdraví a dědi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E113-9CBE-415F-84AE-4EE4B29220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Neplodnost sa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74EE-D17D-4130-AE08-1A119D839A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470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Chov zvířat 2. Vydání první. Praha: CREDIT – vydavatelství a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AMBRAUS, Hans Hinrich. Atlas plemen hospodářských zvířat. Vydání první. Praha: Nakladatelství Brázda, s. r. o., 2006. 296 s. ISBN 80-209-0344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Zemědělská výroba II.Vydání druhé. Praha: Institut výchovy a vzdělávání Ministerstva zemědělství České republiky, 1995. 236 s. ISBN 80-7105-092-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VARGA, ING., Stanislav; KREJČÍ, ING., Vladimír. Zemědělská výroba II.Vydání druhé. Praha: Institut výchovy a vzdělávání Ministerstva zemědělství České republiky, 1986. 296 s. ISBN 80-7105-019-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BURDA, František. Zemědělské výrobky 2 – živočišné výrobky.Vydání první. Praha: Státní zemědělské nakladatelství, 1995. 236 s. ISBN 07-000-8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ČESKÁ ZEMĚDĚLSKÁ UNIVERZITA, AGRONOMICKÁ FAKULTA, CHOV ZVÍŘAT I, Ivan Majzlík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2268360" y="5300640"/>
            <a:ext cx="4464360" cy="1103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 Unicode MS"/>
              </a:rPr>
              <a:t>Chov skotu – Rozmnožování a plodnost zvíř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427280" y="6165720"/>
            <a:ext cx="4097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ootechnické aspekty rozmnožování a plodnost zvíř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lodnost zvířa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základní biologická vlastn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ale i </a:t>
            </a: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základní užitková vlastnost</a:t>
            </a:r>
            <a:r>
              <a:rPr b="0" lang="cs-CZ" sz="16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že je předpokladem výroby mléka, masa a ostatních živočišných produktů a tím je na ní závislá rentabilita chov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Rozmnožování je základním životním projevem organismu směřujícím k udržení druh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šechny druhy vyšších živočichů se rozmnožují pohlavn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nto způsob vzniku nového organismu je podmínkou spojení dvou pohlavních buněk (gamet) – samč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ermi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samičíh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ajíčka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ímž vzniká zygota jako základ nového jedi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rocesu vývoje vznikly specializované orgány k zajištění rozmnožování a podle jejich přítomnosti jsou živočichové rozděleni na samce a sam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obojího pohlaví se pohlavní orgány skládají z pohlavních žláz, vývodných cest a orgánů pářící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7B02-7CD6-47E7-B45E-EED9C25922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ootechnické aspekty rozmnožování a plodnost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lavní žlázy produkuj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amety a pohlavní hormony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vodné cesty a pářící orgány slouží jako pomocné ústroje pro vývod gamet, oplození a zahnízdění a vývin zygo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lodn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edstavuj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omplexní vlastn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á je výsledkem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chopností samců a samic poskytovat zdravé potomstv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ptimálním počtu za určitý č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99"/>
                </a:solidFill>
                <a:latin typeface="Arial"/>
              </a:rPr>
              <a:t>Plodnost samc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dána schopností </a:t>
            </a:r>
            <a:r>
              <a:rPr b="1" lang="cs-CZ" sz="1600" spc="-1" strike="noStrike">
                <a:solidFill>
                  <a:srgbClr val="000099"/>
                </a:solidFill>
                <a:latin typeface="Arial"/>
              </a:rPr>
              <a:t>produkce kvalitního ejakulát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je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pravení do pohlavního ústrojí sam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99"/>
                </a:solidFill>
                <a:latin typeface="Arial"/>
              </a:rPr>
              <a:t>Plodnost samic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dána schopností </a:t>
            </a:r>
            <a:r>
              <a:rPr b="1" lang="cs-CZ" sz="1600" spc="-1" strike="noStrike">
                <a:solidFill>
                  <a:srgbClr val="000099"/>
                </a:solidFill>
                <a:latin typeface="Arial"/>
              </a:rPr>
              <a:t>pravidelné reproduk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j. pravidelným pohlavním cyklem, zabřeznutí a porození zdravého a životaschopného mládě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520A-9279-4D16-8F39-47CFF5BCDC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ootechnické aspekty rozmnožování a plodnost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1484280"/>
            <a:ext cx="8497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to základní užitková vlastnost zvířat má význ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ovatelsko-šlechtitelský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plodnost podmiňuje získávání mláďat potřebných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produkci masa, je faktorem spouštějícím laktaci. Dobrá úroveň plodnosti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ožňuje zvýšit intenzit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elek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zvířat, řízení reprodukce pak zkrácením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ačního intervalu zintenzivní šlechtitelský pro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konomický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dostatečná plodnost určuje ekonomickou efektivnost produk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živočišných produkt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4409-4348-4428-855F-DFCA562F59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ootechnické aspekty rozmnožování a plodnost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920" y="1557000"/>
            <a:ext cx="8470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hlavní a chovatelská dospě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lavní funkce se oproti funkcím jiných orgánů vyvíjejí poměrně později v období puberty a mají omezenou dobu tr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ubert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obdobím, kdy vrcholí proces pohlavního dospívání zvýšenou produkcí pohlavních hormonů, což se projeví morfologickými i funkčními změnami pohlavních orgánů, vývinem sekundárních pohlavních znaků a změnami v chování zvíř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uberta vrcholí započetím </a:t>
            </a:r>
            <a:r>
              <a:rPr b="1" i="1" lang="cs-CZ" sz="1600" spc="-1" strike="noStrike">
                <a:solidFill>
                  <a:srgbClr val="ff0000"/>
                </a:solidFill>
                <a:latin typeface="Arial"/>
              </a:rPr>
              <a:t>spermiogeneze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rodukcí oplození schopných spermií u samců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první </a:t>
            </a:r>
            <a:r>
              <a:rPr b="1" i="1" lang="cs-CZ" sz="1600" spc="-1" strike="noStrike">
                <a:solidFill>
                  <a:srgbClr val="ff0000"/>
                </a:solidFill>
                <a:latin typeface="Arial"/>
              </a:rPr>
              <a:t>ovulací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uvolněním oplození schopných vajíček u samic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tehdy považujeme zvíře za pohlavně dospěl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Věk pohlavní dospělosti je </a:t>
            </a: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ovlivněn druhovou a plemennou příslušností, individualitou genotypu, pohlavím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mínky vnějšího prostředí působí </a:t>
            </a: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výživou, klimatickými činiteli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že věk pohlavní dospělosti je v úzké souvislosti se stupněm celkového vývinu organismu daným hmotností zvířete, má dominantní vliv úroveň výži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E21C-21FB-464D-9142-7D4B716884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hlavní a chovatelská dosp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atí, že </a:t>
            </a:r>
            <a:r>
              <a:rPr b="1" i="1" lang="cs-CZ" sz="1600" spc="-1" strike="noStrike">
                <a:solidFill>
                  <a:srgbClr val="002060"/>
                </a:solidFill>
                <a:latin typeface="Arial"/>
              </a:rPr>
              <a:t>zvířata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domestikovaná, plemena ušlechtilá a raná dospívají pohlavně dřív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ž zvířata divoká. Raná zvířata dospívající pohlavně dříve se dožívají kratšího reprodukčního vě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 jsou pohlavně dospělá a schopna rozmnožování ve věku, kdy není dokončen jejich tělesný vývoj. Proto je nelze použít k plemenitbě ihned po dosažení pohlavní dospělosti - zejména u tělesně nedospělé samice březost zpomalí až zastaví růst, způsobí ztížený porod, sníženou životaschopnost mládě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nutné, aby chovatel znal věk pohlavní dospělosti chovaných zvířat a včas oddělil odchovávané samce od samic a zabránil nežádoucí břez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3191-2A8C-486C-89ED-A058D45D04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hlavní a chovatelská dosp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600200"/>
          <a:ext cx="8229600" cy="4464000"/>
        </p:xfrm>
        <a:graphic>
          <a:graphicData uri="http://schemas.openxmlformats.org/drawingml/2006/table">
            <a:tbl>
              <a:tblPr/>
              <a:tblGrid>
                <a:gridCol w="1081080"/>
                <a:gridCol w="792000"/>
                <a:gridCol w="2016360"/>
                <a:gridCol w="2376360"/>
                <a:gridCol w="1963800"/>
              </a:tblGrid>
              <a:tr h="7491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hlav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38160"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hlavní dospěl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8160"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8160"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ěsí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38160" indent="93600"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vatelská dospělost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8160" indent="93600"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8160" indent="93600"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ěsí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 dospělost kg živ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mot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37152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37152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37152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  <a:tr h="37152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Ů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-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1ea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-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8f5"/>
                    </a:solidFill>
                  </a:tcPr>
                </a:tc>
              </a:tr>
            </a:tbl>
          </a:graphicData>
        </a:graphic>
      </p:graphicFrame>
      <p:sp>
        <p:nvSpPr>
          <p:cNvPr id="12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2B87-8646-4D2B-965C-48BEB707F0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hlavní a chovatelská dospěl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cp:lastPrinted>2014-01-06T08:00:14Z</cp:lastPrinted>
  <dcterms:modified xsi:type="dcterms:W3CDTF">2014-02-05T14:57:42Z</dcterms:modified>
  <cp:revision>147</cp:revision>
  <dc:subject/>
  <dc:title>Cow PowerPoint Presentation</dc:title>
</cp:coreProperties>
</file>