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B24-249D-45E6-BE4E-0F9F45FD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796-B178-4C06-B012-4F4F0F2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E9B-D6E2-4AB6-A394-45C6E666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CE8-B994-4325-9A12-EA758494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55C5-E1D2-4562-A044-CA53C26D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04BE-1307-4C7E-B2D3-CFB8615C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7E5E-22D3-46FD-A678-58172DAD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AE7D-B78C-4C34-8C7C-E78000C3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32E0-884A-4C2F-ADE3-1B182FBF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0D53-B93B-40AF-AAFD-67C5C6F7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E5FE-27FB-42AB-A897-DC6BF204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299-3BFA-4D9E-BD19-3A03D46B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C5AB-558F-4B8B-81FE-AB66A9C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E4D0-2465-4282-A7B2-8752D7DE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C961-1014-4364-8D3A-C862E3C7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6383-7DBB-4A0E-A870-91E83C7E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2648-23AB-43AA-A494-9EE0D5AB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01F-B311-40D7-874E-FBF72032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571-4AC0-4B99-838F-F90AC1AD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905-8DE9-4930-8C41-ABD1F969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B45-F0A5-4447-A9DD-DF6E14C9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48C-2060-4F4C-8606-8EDFBA18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21B-B111-40A0-8A0A-A3BE4676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733-202E-4AA3-9696-FCE71BB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8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C1CF-7161-45EA-A78B-450EAFFCEB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e7dbc5">
                  <a:alpha val="85098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54840" y="0"/>
            <a:ext cx="218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9360" y="5489640"/>
            <a:ext cx="8569080" cy="1368360"/>
          </a:xfrm>
          <a:prstGeom prst="rect">
            <a:avLst/>
          </a:prstGeom>
          <a:gradFill rotWithShape="0">
            <a:gsLst>
              <a:gs pos="0">
                <a:srgbClr val="e7dbc5">
                  <a:alpha val="60000"/>
                </a:srgbClr>
              </a:gs>
              <a:gs pos="100000">
                <a:srgbClr val="e7dbc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509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589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3723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1134-15FB-4CE3-9E0D-777175202F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enetika.wz.cz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MENDELOVY ZÁKO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30_Chov_sk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Ing. Miroslav H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me sledovat dědičnost znaku, kterým je zbarvení květu hra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me kříži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neúplně dominantního  homozygotní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rvenokvětého jedince s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úplně recesivním homozyg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odrokvětým  jedin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 – červené zbarve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ervené zbarvení je podmíněno neúplně dominantní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lelou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a2793"/>
                </a:solidFill>
                <a:latin typeface="Arial"/>
              </a:rPr>
              <a:t>a – modré zbarven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Modré zbarvení je podmíněno neúplně recesivní 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alelou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:          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Jaký bude genotypový zápis obou rodič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D6AF-D2E7-4F53-A105-14F20E87A1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uniformity hybridů F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7"/>
          <p:cNvSpPr/>
          <p:nvPr/>
        </p:nvSpPr>
        <p:spPr>
          <a:xfrm>
            <a:off x="4356000" y="436572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lipsa 8"/>
          <p:cNvSpPr/>
          <p:nvPr/>
        </p:nvSpPr>
        <p:spPr>
          <a:xfrm>
            <a:off x="5724360" y="4365720"/>
            <a:ext cx="648000" cy="649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ovéPole 11"/>
          <p:cNvSpPr/>
          <p:nvPr/>
        </p:nvSpPr>
        <p:spPr>
          <a:xfrm>
            <a:off x="4427640" y="5300640"/>
            <a:ext cx="50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ovéPole 12"/>
          <p:cNvSpPr/>
          <p:nvPr/>
        </p:nvSpPr>
        <p:spPr>
          <a:xfrm>
            <a:off x="5724360" y="5300640"/>
            <a:ext cx="50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Zkuste odvodit, jaké gamety budou mít oba rodi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Jakého genotypu a fenotypu budou vznikající potomc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746-7B79-4785-9133-2C82EEE837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uniformity hybridů F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ovéPole 9"/>
          <p:cNvSpPr/>
          <p:nvPr/>
        </p:nvSpPr>
        <p:spPr>
          <a:xfrm>
            <a:off x="4067280" y="1773360"/>
            <a:ext cx="50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ovéPole 10"/>
          <p:cNvSpPr/>
          <p:nvPr/>
        </p:nvSpPr>
        <p:spPr>
          <a:xfrm>
            <a:off x="6227640" y="1773360"/>
            <a:ext cx="5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lipsa 23"/>
          <p:cNvSpPr/>
          <p:nvPr/>
        </p:nvSpPr>
        <p:spPr>
          <a:xfrm>
            <a:off x="3995640" y="5732640"/>
            <a:ext cx="647640" cy="649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lipsa 24"/>
          <p:cNvSpPr/>
          <p:nvPr/>
        </p:nvSpPr>
        <p:spPr>
          <a:xfrm>
            <a:off x="5796000" y="5732640"/>
            <a:ext cx="647640" cy="649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4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191200" cy="1368360"/>
          </a:xfrm>
          <a:prstGeom prst="rect">
            <a:avLst/>
          </a:prstGeom>
          <a:ln w="0">
            <a:noFill/>
          </a:ln>
        </p:spPr>
      </p:pic>
      <p:sp>
        <p:nvSpPr>
          <p:cNvPr id="157" name="TextovéPole 11"/>
          <p:cNvSpPr/>
          <p:nvPr/>
        </p:nvSpPr>
        <p:spPr>
          <a:xfrm>
            <a:off x="3492360" y="3068640"/>
            <a:ext cx="57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ovéPole 12"/>
          <p:cNvSpPr/>
          <p:nvPr/>
        </p:nvSpPr>
        <p:spPr>
          <a:xfrm>
            <a:off x="4643280" y="306864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ovéPole 13"/>
          <p:cNvSpPr/>
          <p:nvPr/>
        </p:nvSpPr>
        <p:spPr>
          <a:xfrm>
            <a:off x="5724360" y="306864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ovéPole 14"/>
          <p:cNvSpPr/>
          <p:nvPr/>
        </p:nvSpPr>
        <p:spPr>
          <a:xfrm>
            <a:off x="6732720" y="3068640"/>
            <a:ext cx="57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5" descr=""/>
          <p:cNvPicPr/>
          <p:nvPr/>
        </p:nvPicPr>
        <p:blipFill>
          <a:blip r:embed="rId2"/>
          <a:stretch/>
        </p:blipFill>
        <p:spPr>
          <a:xfrm>
            <a:off x="2627280" y="3933720"/>
            <a:ext cx="4176720" cy="165600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19"/>
          <p:cNvSpPr/>
          <p:nvPr/>
        </p:nvSpPr>
        <p:spPr>
          <a:xfrm>
            <a:off x="4067280" y="5300640"/>
            <a:ext cx="57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ovéPole 20"/>
          <p:cNvSpPr/>
          <p:nvPr/>
        </p:nvSpPr>
        <p:spPr>
          <a:xfrm>
            <a:off x="5796000" y="530064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ovéPole 15"/>
          <p:cNvSpPr/>
          <p:nvPr/>
        </p:nvSpPr>
        <p:spPr>
          <a:xfrm>
            <a:off x="3564000" y="3933720"/>
            <a:ext cx="57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ovéPole 16"/>
          <p:cNvSpPr/>
          <p:nvPr/>
        </p:nvSpPr>
        <p:spPr>
          <a:xfrm>
            <a:off x="4788000" y="3933720"/>
            <a:ext cx="57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ovéPole 18"/>
          <p:cNvSpPr/>
          <p:nvPr/>
        </p:nvSpPr>
        <p:spPr>
          <a:xfrm>
            <a:off x="5219640" y="393372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ovéPole 17"/>
          <p:cNvSpPr/>
          <p:nvPr/>
        </p:nvSpPr>
        <p:spPr>
          <a:xfrm>
            <a:off x="6372360" y="3933720"/>
            <a:ext cx="57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Odvoďte gamety, které budou tvořit jedinci první gene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980-D312-47CF-A55B-19661535D6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64600" cy="194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1476360" y="4221000"/>
            <a:ext cx="5467320" cy="15843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0"/>
          <p:cNvSpPr/>
          <p:nvPr/>
        </p:nvSpPr>
        <p:spPr>
          <a:xfrm>
            <a:off x="3564000" y="3789360"/>
            <a:ext cx="50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ovéPole 11"/>
          <p:cNvSpPr/>
          <p:nvPr/>
        </p:nvSpPr>
        <p:spPr>
          <a:xfrm>
            <a:off x="5867280" y="3789360"/>
            <a:ext cx="5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o nestejnorodosti druhé generace kříže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92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Genotypový poměr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:           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:         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enotypový poměr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 3              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: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D02B-8E69-43CA-BCDF-449AF6D933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o nestejnorodosti druhé generace kříže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459760" cy="251928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9"/>
          <p:cNvSpPr/>
          <p:nvPr/>
        </p:nvSpPr>
        <p:spPr>
          <a:xfrm>
            <a:off x="442764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10"/>
          <p:cNvSpPr/>
          <p:nvPr/>
        </p:nvSpPr>
        <p:spPr>
          <a:xfrm>
            <a:off x="550872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ovéPole 11"/>
          <p:cNvSpPr/>
          <p:nvPr/>
        </p:nvSpPr>
        <p:spPr>
          <a:xfrm>
            <a:off x="4427640" y="3500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ovéPole 12"/>
          <p:cNvSpPr/>
          <p:nvPr/>
        </p:nvSpPr>
        <p:spPr>
          <a:xfrm>
            <a:off x="5508720" y="3500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lipsa 13"/>
          <p:cNvSpPr/>
          <p:nvPr/>
        </p:nvSpPr>
        <p:spPr>
          <a:xfrm>
            <a:off x="1908000" y="4149720"/>
            <a:ext cx="648000" cy="647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lipsa 14"/>
          <p:cNvSpPr/>
          <p:nvPr/>
        </p:nvSpPr>
        <p:spPr>
          <a:xfrm>
            <a:off x="3059280" y="4149720"/>
            <a:ext cx="649080" cy="647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lipsa 15"/>
          <p:cNvSpPr/>
          <p:nvPr/>
        </p:nvSpPr>
        <p:spPr>
          <a:xfrm>
            <a:off x="4211640" y="4149720"/>
            <a:ext cx="647640" cy="647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lipsa 16"/>
          <p:cNvSpPr/>
          <p:nvPr/>
        </p:nvSpPr>
        <p:spPr>
          <a:xfrm>
            <a:off x="5292720" y="4149720"/>
            <a:ext cx="647640" cy="64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17"/>
          <p:cNvSpPr/>
          <p:nvPr/>
        </p:nvSpPr>
        <p:spPr>
          <a:xfrm>
            <a:off x="190800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ovéPole 18"/>
          <p:cNvSpPr/>
          <p:nvPr/>
        </p:nvSpPr>
        <p:spPr>
          <a:xfrm>
            <a:off x="313200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ovéPole 19"/>
          <p:cNvSpPr/>
          <p:nvPr/>
        </p:nvSpPr>
        <p:spPr>
          <a:xfrm>
            <a:off x="421164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ovéPole 20"/>
          <p:cNvSpPr/>
          <p:nvPr/>
        </p:nvSpPr>
        <p:spPr>
          <a:xfrm>
            <a:off x="5292720" y="4941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30200" y="1557000"/>
            <a:ext cx="8462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bridi první generace se dále kříží mezi seb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1:        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Odvoďte gamety, které budou tvořit jedinci první gene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F8D9-A338-49DB-86B0-5EA7B4DA70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ovéPole 10"/>
          <p:cNvSpPr/>
          <p:nvPr/>
        </p:nvSpPr>
        <p:spPr>
          <a:xfrm>
            <a:off x="3564000" y="3789360"/>
            <a:ext cx="50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ovéPole 11"/>
          <p:cNvSpPr/>
          <p:nvPr/>
        </p:nvSpPr>
        <p:spPr>
          <a:xfrm>
            <a:off x="5867280" y="3789360"/>
            <a:ext cx="5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lipsa 13"/>
          <p:cNvSpPr/>
          <p:nvPr/>
        </p:nvSpPr>
        <p:spPr>
          <a:xfrm>
            <a:off x="4500720" y="1989000"/>
            <a:ext cx="647640" cy="6494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lipsa 14"/>
          <p:cNvSpPr/>
          <p:nvPr/>
        </p:nvSpPr>
        <p:spPr>
          <a:xfrm>
            <a:off x="5724360" y="1989000"/>
            <a:ext cx="648000" cy="6494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ovéPole 19"/>
          <p:cNvSpPr/>
          <p:nvPr/>
        </p:nvSpPr>
        <p:spPr>
          <a:xfrm>
            <a:off x="4572000" y="270828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ovéPole 19"/>
          <p:cNvSpPr/>
          <p:nvPr/>
        </p:nvSpPr>
        <p:spPr>
          <a:xfrm>
            <a:off x="5796000" y="270828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5457960" cy="1600200"/>
          </a:xfrm>
          <a:prstGeom prst="rect">
            <a:avLst/>
          </a:prstGeom>
          <a:ln w="0">
            <a:noFill/>
          </a:ln>
        </p:spPr>
      </p:pic>
      <p:sp>
        <p:nvSpPr>
          <p:cNvPr id="206" name="TextovéPole 17"/>
          <p:cNvSpPr/>
          <p:nvPr/>
        </p:nvSpPr>
        <p:spPr>
          <a:xfrm>
            <a:off x="2987640" y="5373720"/>
            <a:ext cx="50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ovéPole 18"/>
          <p:cNvSpPr/>
          <p:nvPr/>
        </p:nvSpPr>
        <p:spPr>
          <a:xfrm>
            <a:off x="4211640" y="5373720"/>
            <a:ext cx="50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ovéPole 19"/>
          <p:cNvSpPr/>
          <p:nvPr/>
        </p:nvSpPr>
        <p:spPr>
          <a:xfrm>
            <a:off x="5292720" y="5373720"/>
            <a:ext cx="50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ovéPole 20"/>
          <p:cNvSpPr/>
          <p:nvPr/>
        </p:nvSpPr>
        <p:spPr>
          <a:xfrm>
            <a:off x="6516720" y="5373720"/>
            <a:ext cx="50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o nestejnorodosti druhé gene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5092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m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Genotypový poměr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:          </a:t>
            </a:r>
            <a:r>
              <a:rPr b="1" lang="cs-CZ" sz="1800" spc="-1" strike="noStrike">
                <a:solidFill>
                  <a:srgbClr val="800080"/>
                </a:solidFill>
                <a:latin typeface="Arial"/>
              </a:rPr>
              <a:t> 2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:           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enotypový poměr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:           </a:t>
            </a:r>
            <a:r>
              <a:rPr b="1" lang="cs-CZ" sz="18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:          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 1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5519-4E85-4EA8-B9D3-E1E87B9045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lipsa 13"/>
          <p:cNvSpPr/>
          <p:nvPr/>
        </p:nvSpPr>
        <p:spPr>
          <a:xfrm>
            <a:off x="1908000" y="4149720"/>
            <a:ext cx="64800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lipsa 14"/>
          <p:cNvSpPr/>
          <p:nvPr/>
        </p:nvSpPr>
        <p:spPr>
          <a:xfrm>
            <a:off x="3059280" y="4149720"/>
            <a:ext cx="649080" cy="64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lipsa 15"/>
          <p:cNvSpPr/>
          <p:nvPr/>
        </p:nvSpPr>
        <p:spPr>
          <a:xfrm>
            <a:off x="4211640" y="4149720"/>
            <a:ext cx="647640" cy="64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lipsa 16"/>
          <p:cNvSpPr/>
          <p:nvPr/>
        </p:nvSpPr>
        <p:spPr>
          <a:xfrm>
            <a:off x="5292720" y="4149720"/>
            <a:ext cx="647640" cy="647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17"/>
          <p:cNvSpPr/>
          <p:nvPr/>
        </p:nvSpPr>
        <p:spPr>
          <a:xfrm>
            <a:off x="190800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ovéPole 18"/>
          <p:cNvSpPr/>
          <p:nvPr/>
        </p:nvSpPr>
        <p:spPr>
          <a:xfrm>
            <a:off x="313200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66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ovéPole 19"/>
          <p:cNvSpPr/>
          <p:nvPr/>
        </p:nvSpPr>
        <p:spPr>
          <a:xfrm>
            <a:off x="421164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66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ovéPole 20"/>
          <p:cNvSpPr/>
          <p:nvPr/>
        </p:nvSpPr>
        <p:spPr>
          <a:xfrm>
            <a:off x="5292720" y="4941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348000" y="1484280"/>
          <a:ext cx="2448000" cy="2087640"/>
        </p:xfrm>
        <a:graphic>
          <a:graphicData uri="http://schemas.openxmlformats.org/drawingml/2006/table">
            <a:tbl>
              <a:tblPr/>
              <a:tblGrid>
                <a:gridCol w="812880"/>
                <a:gridCol w="822240"/>
                <a:gridCol w="812880"/>
              </a:tblGrid>
              <a:tr h="695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ovéPole 23"/>
          <p:cNvSpPr/>
          <p:nvPr/>
        </p:nvSpPr>
        <p:spPr>
          <a:xfrm>
            <a:off x="4211640" y="227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ovéPole 25"/>
          <p:cNvSpPr/>
          <p:nvPr/>
        </p:nvSpPr>
        <p:spPr>
          <a:xfrm>
            <a:off x="5003640" y="227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8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ovéPole 26"/>
          <p:cNvSpPr/>
          <p:nvPr/>
        </p:nvSpPr>
        <p:spPr>
          <a:xfrm>
            <a:off x="421164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8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ovéPole 27"/>
          <p:cNvSpPr/>
          <p:nvPr/>
        </p:nvSpPr>
        <p:spPr>
          <a:xfrm>
            <a:off x="500364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o nestejnorodosti druhé gene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50560" y="1557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me sledovat dědičnost dvou znaků u semen hrachu – zbarvení a tv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000"/>
                </a:solidFill>
                <a:latin typeface="Arial"/>
              </a:rPr>
              <a:t>A – žluté zbarvení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c000"/>
                </a:solidFill>
                <a:latin typeface="Arial"/>
              </a:rPr>
              <a:t>Žluté zbarvení je podmíněno dominantní alelou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a – zelené zbarvení</a:t>
            </a: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Zelené zbarvení je podmíněno recesivní alelou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 – kulatá semena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ulatý tvar semen je podmíněn dominantní alelo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 – svraštělá semena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vraštělý tvar semen je podmíněn recesivní alelo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deme křížení homozygotního jedince se žlutými a kulatými semeny s rodič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elenými a svraštělými sem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:                     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Jaký bude genotypový zápis obou rodičů?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datum 4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5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Zástupný symbol pro číslo snímku 6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6C81-FEDC-4D5E-BA3A-DABB5F77CC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o vol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kombinovatelnosti a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lipsa 6"/>
          <p:cNvSpPr/>
          <p:nvPr/>
        </p:nvSpPr>
        <p:spPr>
          <a:xfrm>
            <a:off x="4346640" y="4464000"/>
            <a:ext cx="647640" cy="647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Mrak 8"/>
          <p:cNvSpPr/>
          <p:nvPr/>
        </p:nvSpPr>
        <p:spPr>
          <a:xfrm>
            <a:off x="5832360" y="4491000"/>
            <a:ext cx="647640" cy="647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ovéPole 9"/>
          <p:cNvSpPr/>
          <p:nvPr/>
        </p:nvSpPr>
        <p:spPr>
          <a:xfrm>
            <a:off x="4238640" y="49100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ovéPole 10"/>
          <p:cNvSpPr/>
          <p:nvPr/>
        </p:nvSpPr>
        <p:spPr>
          <a:xfrm>
            <a:off x="5724360" y="517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000" fill="hold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920" y="1600200"/>
            <a:ext cx="8642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Jaké gamety budou tvořit oba rodič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me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Jakého genotypu a fenotypu bude vznikající potomstv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EDBC-67F5-4AE5-9669-C225B7B14D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o vol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kombinovatelnosti a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127760" cy="1511280"/>
          </a:xfrm>
          <a:prstGeom prst="rect">
            <a:avLst/>
          </a:prstGeom>
          <a:ln w="0">
            <a:noFill/>
          </a:ln>
        </p:spPr>
      </p:pic>
      <p:sp>
        <p:nvSpPr>
          <p:cNvPr id="244" name="TextovéPole 10"/>
          <p:cNvSpPr/>
          <p:nvPr/>
        </p:nvSpPr>
        <p:spPr>
          <a:xfrm>
            <a:off x="241128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ovéPole 12"/>
          <p:cNvSpPr/>
          <p:nvPr/>
        </p:nvSpPr>
        <p:spPr>
          <a:xfrm>
            <a:off x="464328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ovéPole 13"/>
          <p:cNvSpPr/>
          <p:nvPr/>
        </p:nvSpPr>
        <p:spPr>
          <a:xfrm>
            <a:off x="3492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ovéPole 14"/>
          <p:cNvSpPr/>
          <p:nvPr/>
        </p:nvSpPr>
        <p:spPr>
          <a:xfrm>
            <a:off x="5724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ovéPole 15"/>
          <p:cNvSpPr/>
          <p:nvPr/>
        </p:nvSpPr>
        <p:spPr>
          <a:xfrm>
            <a:off x="241128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ovéPole 16"/>
          <p:cNvSpPr/>
          <p:nvPr/>
        </p:nvSpPr>
        <p:spPr>
          <a:xfrm>
            <a:off x="349236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ovéPole 17"/>
          <p:cNvSpPr/>
          <p:nvPr/>
        </p:nvSpPr>
        <p:spPr>
          <a:xfrm>
            <a:off x="4788000" y="43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ovéPole 18"/>
          <p:cNvSpPr/>
          <p:nvPr/>
        </p:nvSpPr>
        <p:spPr>
          <a:xfrm>
            <a:off x="572436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2700360" y="4724280"/>
            <a:ext cx="3416400" cy="1152720"/>
          </a:xfrm>
          <a:prstGeom prst="rect">
            <a:avLst/>
          </a:prstGeom>
          <a:ln w="0">
            <a:noFill/>
          </a:ln>
        </p:spPr>
      </p:pic>
      <p:sp>
        <p:nvSpPr>
          <p:cNvPr id="253" name="Elipsa 20"/>
          <p:cNvSpPr/>
          <p:nvPr/>
        </p:nvSpPr>
        <p:spPr>
          <a:xfrm>
            <a:off x="2987640" y="5877000"/>
            <a:ext cx="647640" cy="647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lipsa 21"/>
          <p:cNvSpPr/>
          <p:nvPr/>
        </p:nvSpPr>
        <p:spPr>
          <a:xfrm>
            <a:off x="5148360" y="5877000"/>
            <a:ext cx="647640" cy="647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ovéPole 22"/>
          <p:cNvSpPr/>
          <p:nvPr/>
        </p:nvSpPr>
        <p:spPr>
          <a:xfrm>
            <a:off x="2050920" y="602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ovéPole 23"/>
          <p:cNvSpPr/>
          <p:nvPr/>
        </p:nvSpPr>
        <p:spPr>
          <a:xfrm>
            <a:off x="5940360" y="602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5056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bridi první generace se dále kříž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seb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Odvoďte gamety, které budou </a:t>
            </a: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tvořit jedinci první gene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me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C414-0594-41AB-93AE-6737CCE76A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o vol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kombinovatelnosti a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921120" cy="2743200"/>
          </a:xfrm>
          <a:prstGeom prst="rect">
            <a:avLst/>
          </a:prstGeom>
          <a:ln w="0">
            <a:noFill/>
          </a:ln>
        </p:spPr>
      </p:pic>
      <p:sp>
        <p:nvSpPr>
          <p:cNvPr id="263" name="TextovéPole 9"/>
          <p:cNvSpPr/>
          <p:nvPr/>
        </p:nvSpPr>
        <p:spPr>
          <a:xfrm>
            <a:off x="1476360" y="5445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ovéPole 10"/>
          <p:cNvSpPr/>
          <p:nvPr/>
        </p:nvSpPr>
        <p:spPr>
          <a:xfrm>
            <a:off x="212400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ovéPole 11"/>
          <p:cNvSpPr/>
          <p:nvPr/>
        </p:nvSpPr>
        <p:spPr>
          <a:xfrm>
            <a:off x="270036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ovéPole 12"/>
          <p:cNvSpPr/>
          <p:nvPr/>
        </p:nvSpPr>
        <p:spPr>
          <a:xfrm>
            <a:off x="320364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9"/>
          <p:cNvSpPr/>
          <p:nvPr/>
        </p:nvSpPr>
        <p:spPr>
          <a:xfrm flipH="1">
            <a:off x="1692000" y="4076640"/>
            <a:ext cx="215640" cy="1368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1908000" y="4149720"/>
            <a:ext cx="36036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2050920" y="4149720"/>
            <a:ext cx="792360" cy="1366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1908000" y="4076640"/>
            <a:ext cx="360360" cy="1368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2050920" y="4149720"/>
            <a:ext cx="1225800" cy="1366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Line 10"/>
          <p:cNvSpPr/>
          <p:nvPr/>
        </p:nvSpPr>
        <p:spPr>
          <a:xfrm flipH="1" flipV="1">
            <a:off x="2268360" y="4149360"/>
            <a:ext cx="71928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10"/>
          <p:cNvSpPr/>
          <p:nvPr/>
        </p:nvSpPr>
        <p:spPr>
          <a:xfrm flipH="1" flipV="1">
            <a:off x="2410920" y="4149720"/>
            <a:ext cx="730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Line 10"/>
          <p:cNvSpPr/>
          <p:nvPr/>
        </p:nvSpPr>
        <p:spPr>
          <a:xfrm flipH="1" flipV="1">
            <a:off x="2410920" y="4149360"/>
            <a:ext cx="108108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Skupina 39"/>
          <p:cNvGrpSpPr/>
          <p:nvPr/>
        </p:nvGrpSpPr>
        <p:grpSpPr>
          <a:xfrm>
            <a:off x="3924000" y="4149360"/>
            <a:ext cx="1655640" cy="1367280"/>
            <a:chOff x="3924000" y="4149360"/>
            <a:chExt cx="1655640" cy="1367280"/>
          </a:xfrm>
        </p:grpSpPr>
        <p:sp>
          <p:nvSpPr>
            <p:cNvPr id="276" name="Line 7"/>
            <p:cNvSpPr/>
            <p:nvPr/>
          </p:nvSpPr>
          <p:spPr>
            <a:xfrm>
              <a:off x="4140360" y="4149720"/>
              <a:ext cx="1295640" cy="1366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7" name="Skupina 38"/>
            <p:cNvGrpSpPr/>
            <p:nvPr/>
          </p:nvGrpSpPr>
          <p:grpSpPr>
            <a:xfrm>
              <a:off x="3924000" y="4149360"/>
              <a:ext cx="1655640" cy="1366920"/>
              <a:chOff x="3924000" y="4149360"/>
              <a:chExt cx="1655640" cy="1366920"/>
            </a:xfrm>
          </p:grpSpPr>
          <p:sp>
            <p:nvSpPr>
              <p:cNvPr id="278" name="Line 9"/>
              <p:cNvSpPr/>
              <p:nvPr/>
            </p:nvSpPr>
            <p:spPr>
              <a:xfrm flipH="1">
                <a:off x="3924000" y="4149720"/>
                <a:ext cx="71640" cy="1295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9"/>
              <p:cNvSpPr/>
              <p:nvPr/>
            </p:nvSpPr>
            <p:spPr>
              <a:xfrm>
                <a:off x="3996360" y="4221360"/>
                <a:ext cx="431640" cy="1223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0"/>
              <p:cNvSpPr/>
              <p:nvPr/>
            </p:nvSpPr>
            <p:spPr>
              <a:xfrm flipV="1">
                <a:off x="4068360" y="4149720"/>
                <a:ext cx="28764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0"/>
              <p:cNvSpPr/>
              <p:nvPr/>
            </p:nvSpPr>
            <p:spPr>
              <a:xfrm flipH="1" flipV="1">
                <a:off x="4500000" y="4149720"/>
                <a:ext cx="7164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7"/>
              <p:cNvSpPr/>
              <p:nvPr/>
            </p:nvSpPr>
            <p:spPr>
              <a:xfrm>
                <a:off x="4212360" y="4221360"/>
                <a:ext cx="719640" cy="122328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10"/>
              <p:cNvSpPr/>
              <p:nvPr/>
            </p:nvSpPr>
            <p:spPr>
              <a:xfrm flipH="1" flipV="1">
                <a:off x="4356000" y="4149720"/>
                <a:ext cx="71964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10"/>
              <p:cNvSpPr/>
              <p:nvPr/>
            </p:nvSpPr>
            <p:spPr>
              <a:xfrm flipH="1" flipV="1">
                <a:off x="4500000" y="4149360"/>
                <a:ext cx="1079640" cy="13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5" name="TextovéPole 34"/>
          <p:cNvSpPr/>
          <p:nvPr/>
        </p:nvSpPr>
        <p:spPr>
          <a:xfrm>
            <a:off x="3708360" y="54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ovéPole 35"/>
          <p:cNvSpPr/>
          <p:nvPr/>
        </p:nvSpPr>
        <p:spPr>
          <a:xfrm>
            <a:off x="428472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ovéPole 36"/>
          <p:cNvSpPr/>
          <p:nvPr/>
        </p:nvSpPr>
        <p:spPr>
          <a:xfrm>
            <a:off x="4788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ovéPole 37"/>
          <p:cNvSpPr/>
          <p:nvPr/>
        </p:nvSpPr>
        <p:spPr>
          <a:xfrm>
            <a:off x="529272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4075-22C6-4055-B558-64EA444181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75320" cy="27460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o vol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kombinovatelnosti a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ovéPole 9"/>
          <p:cNvSpPr/>
          <p:nvPr/>
        </p:nvSpPr>
        <p:spPr>
          <a:xfrm>
            <a:off x="2708280" y="2789280"/>
            <a:ext cx="72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ovéPole 10"/>
          <p:cNvSpPr/>
          <p:nvPr/>
        </p:nvSpPr>
        <p:spPr>
          <a:xfrm>
            <a:off x="2627280" y="2637000"/>
            <a:ext cx="72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ovéPole 11"/>
          <p:cNvSpPr/>
          <p:nvPr/>
        </p:nvSpPr>
        <p:spPr>
          <a:xfrm>
            <a:off x="262728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ovéPole 12"/>
          <p:cNvSpPr/>
          <p:nvPr/>
        </p:nvSpPr>
        <p:spPr>
          <a:xfrm>
            <a:off x="3924360" y="2637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ovéPole 13"/>
          <p:cNvSpPr/>
          <p:nvPr/>
        </p:nvSpPr>
        <p:spPr>
          <a:xfrm>
            <a:off x="521964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ovéPole 14"/>
          <p:cNvSpPr/>
          <p:nvPr/>
        </p:nvSpPr>
        <p:spPr>
          <a:xfrm>
            <a:off x="651672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ovéPole 15"/>
          <p:cNvSpPr/>
          <p:nvPr/>
        </p:nvSpPr>
        <p:spPr>
          <a:xfrm>
            <a:off x="2627280" y="31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ovéPole 16"/>
          <p:cNvSpPr/>
          <p:nvPr/>
        </p:nvSpPr>
        <p:spPr>
          <a:xfrm>
            <a:off x="3924360" y="3141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ovéPole 17"/>
          <p:cNvSpPr/>
          <p:nvPr/>
        </p:nvSpPr>
        <p:spPr>
          <a:xfrm>
            <a:off x="5219640" y="31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ovéPole 18"/>
          <p:cNvSpPr/>
          <p:nvPr/>
        </p:nvSpPr>
        <p:spPr>
          <a:xfrm>
            <a:off x="6516720" y="3141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ovéPole 19"/>
          <p:cNvSpPr/>
          <p:nvPr/>
        </p:nvSpPr>
        <p:spPr>
          <a:xfrm>
            <a:off x="262728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ovéPole 20"/>
          <p:cNvSpPr/>
          <p:nvPr/>
        </p:nvSpPr>
        <p:spPr>
          <a:xfrm>
            <a:off x="3924360" y="36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ovéPole 21"/>
          <p:cNvSpPr/>
          <p:nvPr/>
        </p:nvSpPr>
        <p:spPr>
          <a:xfrm>
            <a:off x="521964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ovéPole 22"/>
          <p:cNvSpPr/>
          <p:nvPr/>
        </p:nvSpPr>
        <p:spPr>
          <a:xfrm>
            <a:off x="6516720" y="36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23"/>
          <p:cNvSpPr/>
          <p:nvPr/>
        </p:nvSpPr>
        <p:spPr>
          <a:xfrm>
            <a:off x="262728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ovéPole 24"/>
          <p:cNvSpPr/>
          <p:nvPr/>
        </p:nvSpPr>
        <p:spPr>
          <a:xfrm>
            <a:off x="3924360" y="40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25"/>
          <p:cNvSpPr/>
          <p:nvPr/>
        </p:nvSpPr>
        <p:spPr>
          <a:xfrm>
            <a:off x="521964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ovéPole 26"/>
          <p:cNvSpPr/>
          <p:nvPr/>
        </p:nvSpPr>
        <p:spPr>
          <a:xfrm>
            <a:off x="6516720" y="40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78944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0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8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71600"/>
          <a:ext cx="8435880" cy="5033880"/>
        </p:xfrm>
        <a:graphic>
          <a:graphicData uri="http://schemas.openxmlformats.org/drawingml/2006/table">
            <a:tbl>
              <a:tblPr/>
              <a:tblGrid>
                <a:gridCol w="3036960"/>
                <a:gridCol w="53989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bc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delovy zák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30_Chov_sk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12. 2013 KF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on uniformity hybridů,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ákon o nestejnorodosti druhé generace kříženců, zákon o volné kombinovatelnosti alel, mutace a mutageny, genetika pohl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o vol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 kombinovatelnosti a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FD04-96A0-4E2C-9315-F2C870ED7E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75320" cy="2745000"/>
          </a:xfrm>
          <a:prstGeom prst="rect">
            <a:avLst/>
          </a:prstGeom>
          <a:ln w="0">
            <a:noFill/>
          </a:ln>
        </p:spPr>
      </p:pic>
      <p:sp>
        <p:nvSpPr>
          <p:cNvPr id="319" name="TextovéPole 9"/>
          <p:cNvSpPr/>
          <p:nvPr/>
        </p:nvSpPr>
        <p:spPr>
          <a:xfrm>
            <a:off x="2708280" y="2789280"/>
            <a:ext cx="72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ovéPole 10"/>
          <p:cNvSpPr/>
          <p:nvPr/>
        </p:nvSpPr>
        <p:spPr>
          <a:xfrm>
            <a:off x="2627280" y="2637000"/>
            <a:ext cx="72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Skupina 46"/>
          <p:cNvGrpSpPr/>
          <p:nvPr/>
        </p:nvGrpSpPr>
        <p:grpSpPr>
          <a:xfrm>
            <a:off x="3924360" y="2708280"/>
            <a:ext cx="3311280" cy="1305360"/>
            <a:chOff x="3924360" y="2708280"/>
            <a:chExt cx="3311280" cy="1305360"/>
          </a:xfrm>
        </p:grpSpPr>
        <p:sp>
          <p:nvSpPr>
            <p:cNvPr id="322" name="TextovéPole 16"/>
            <p:cNvSpPr/>
            <p:nvPr/>
          </p:nvSpPr>
          <p:spPr>
            <a:xfrm>
              <a:off x="3924360" y="2708280"/>
              <a:ext cx="7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TextovéPole 18"/>
            <p:cNvSpPr/>
            <p:nvPr/>
          </p:nvSpPr>
          <p:spPr>
            <a:xfrm>
              <a:off x="6516000" y="2708280"/>
              <a:ext cx="7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TextovéPole 24"/>
            <p:cNvSpPr/>
            <p:nvPr/>
          </p:nvSpPr>
          <p:spPr>
            <a:xfrm>
              <a:off x="3924360" y="3645360"/>
              <a:ext cx="7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Skupina 47"/>
          <p:cNvGrpSpPr/>
          <p:nvPr/>
        </p:nvGrpSpPr>
        <p:grpSpPr>
          <a:xfrm>
            <a:off x="5219640" y="3213000"/>
            <a:ext cx="2016360" cy="800640"/>
            <a:chOff x="5219640" y="3213000"/>
            <a:chExt cx="2016360" cy="800640"/>
          </a:xfrm>
        </p:grpSpPr>
        <p:sp>
          <p:nvSpPr>
            <p:cNvPr id="326" name="TextovéPole 21"/>
            <p:cNvSpPr/>
            <p:nvPr/>
          </p:nvSpPr>
          <p:spPr>
            <a:xfrm>
              <a:off x="5219640" y="321300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TextovéPole 22"/>
            <p:cNvSpPr/>
            <p:nvPr/>
          </p:nvSpPr>
          <p:spPr>
            <a:xfrm>
              <a:off x="6516000" y="321300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TextovéPole 25"/>
            <p:cNvSpPr/>
            <p:nvPr/>
          </p:nvSpPr>
          <p:spPr>
            <a:xfrm>
              <a:off x="5219640" y="364536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Skupina 45"/>
          <p:cNvGrpSpPr/>
          <p:nvPr/>
        </p:nvGrpSpPr>
        <p:grpSpPr>
          <a:xfrm>
            <a:off x="2700360" y="2205000"/>
            <a:ext cx="4535640" cy="1808640"/>
            <a:chOff x="2700360" y="2205000"/>
            <a:chExt cx="4535640" cy="1808640"/>
          </a:xfrm>
        </p:grpSpPr>
        <p:sp>
          <p:nvSpPr>
            <p:cNvPr id="330" name="TextovéPole 11"/>
            <p:cNvSpPr/>
            <p:nvPr/>
          </p:nvSpPr>
          <p:spPr>
            <a:xfrm>
              <a:off x="2700360" y="220500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TextovéPole 12"/>
            <p:cNvSpPr/>
            <p:nvPr/>
          </p:nvSpPr>
          <p:spPr>
            <a:xfrm>
              <a:off x="3923640" y="220500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TextovéPole 13"/>
            <p:cNvSpPr/>
            <p:nvPr/>
          </p:nvSpPr>
          <p:spPr>
            <a:xfrm>
              <a:off x="5220000" y="220500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TextovéPole 14"/>
            <p:cNvSpPr/>
            <p:nvPr/>
          </p:nvSpPr>
          <p:spPr>
            <a:xfrm>
              <a:off x="6516000" y="220500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TextovéPole 15"/>
            <p:cNvSpPr/>
            <p:nvPr/>
          </p:nvSpPr>
          <p:spPr>
            <a:xfrm>
              <a:off x="2700360" y="270900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TextovéPole 19"/>
            <p:cNvSpPr/>
            <p:nvPr/>
          </p:nvSpPr>
          <p:spPr>
            <a:xfrm>
              <a:off x="2700360" y="314136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ovéPole 20"/>
            <p:cNvSpPr/>
            <p:nvPr/>
          </p:nvSpPr>
          <p:spPr>
            <a:xfrm>
              <a:off x="3924360" y="321336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ovéPole 23"/>
            <p:cNvSpPr/>
            <p:nvPr/>
          </p:nvSpPr>
          <p:spPr>
            <a:xfrm>
              <a:off x="2700360" y="364536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TextovéPole 17"/>
            <p:cNvSpPr/>
            <p:nvPr/>
          </p:nvSpPr>
          <p:spPr>
            <a:xfrm>
              <a:off x="5220360" y="2709000"/>
              <a:ext cx="7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c0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6600"/>
                  </a:solidFill>
                  <a:latin typeface="Calibri"/>
                </a:rPr>
                <a:t>a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TextovéPole 26"/>
          <p:cNvSpPr/>
          <p:nvPr/>
        </p:nvSpPr>
        <p:spPr>
          <a:xfrm>
            <a:off x="6516720" y="36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lipsa 30"/>
          <p:cNvSpPr/>
          <p:nvPr/>
        </p:nvSpPr>
        <p:spPr>
          <a:xfrm>
            <a:off x="1619280" y="4365720"/>
            <a:ext cx="647640" cy="647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Mrak 31"/>
          <p:cNvSpPr/>
          <p:nvPr/>
        </p:nvSpPr>
        <p:spPr>
          <a:xfrm>
            <a:off x="3132000" y="4365720"/>
            <a:ext cx="648000" cy="647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Elipsa 32"/>
          <p:cNvSpPr/>
          <p:nvPr/>
        </p:nvSpPr>
        <p:spPr>
          <a:xfrm>
            <a:off x="4643280" y="4365720"/>
            <a:ext cx="648000" cy="64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Mrak 33"/>
          <p:cNvSpPr/>
          <p:nvPr/>
        </p:nvSpPr>
        <p:spPr>
          <a:xfrm>
            <a:off x="6227640" y="4365720"/>
            <a:ext cx="648000" cy="647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ovéPole 34"/>
          <p:cNvSpPr/>
          <p:nvPr/>
        </p:nvSpPr>
        <p:spPr>
          <a:xfrm>
            <a:off x="154764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_B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ovéPole 35"/>
          <p:cNvSpPr/>
          <p:nvPr/>
        </p:nvSpPr>
        <p:spPr>
          <a:xfrm>
            <a:off x="305928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_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ovéPole 36"/>
          <p:cNvSpPr/>
          <p:nvPr/>
        </p:nvSpPr>
        <p:spPr>
          <a:xfrm>
            <a:off x="464328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ovéPole 37"/>
          <p:cNvSpPr/>
          <p:nvPr/>
        </p:nvSpPr>
        <p:spPr>
          <a:xfrm>
            <a:off x="6227640" y="50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68360" y="5877000"/>
            <a:ext cx="799128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0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3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7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4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9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AC5-F356-4A83-9E65-D23B7723A0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utace a muta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utace a mutag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tace jsou změny v genotypu organismu oproti normál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ká většina mutací je naprosto náhodný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tace vzniklé chybou při replikaci DNA se nazývají mutace spontánní (dochází k nim bez zásahu z vnějšího prostředí). Pravděpodobnost jedné takovéto chyby je minimá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tšina mutací je tedy vyvolaná vnějšími mutagenními faktory (mutagen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to právě mutace, které způsobují genetické choroby nebo nádorové buje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pohledu evoluce jsou mutace velmi užitečné. Dříve byly dokonce považovány za hybnou sílu evolu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tageny jsou látky, které jsou schopny způsobovat mutace. J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nežádoucí produkty vnějšího prostředí, které mohou poškodit genetickou informaci organis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dospělého člověka mohou některé mutageny způsobit  zhoubné bujení (rakovin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ud mutageny způsobí mutace pohlavních buněk, bude potomek rodičů postižen příslušnou dědičnou chorob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F94E-18CC-4915-A4E7-DB19B8CD7A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utace a muta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utageny dělím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Fyzikál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UV záře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zdrojem je Slunce, nebezpečné je zejména vzhledem ke slábnoucí ozonové vrstv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Ionizující záře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radioaktivní nebo RTG záření. Může způsobovat chromosomové zlom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hemick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Aromatické uhlovodí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 tabákovém kouři a produktech spalování vůb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Barv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Organická rozpouštěd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ěkteré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dříve běžně užívané lát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apř. součásti plastů (PCB), hnojiv, herbicidů, insekticidů (DDT) nebo i léči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Bojové lát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apř. yper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Biologick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Vir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některé viry se mohou inkorporovat (včleňovat, vtělovat) do genetické informace infikované buňky, čímž mohou porušit sekvenci některého strukturního ge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88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obilní genomové sekven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transposony a retrotransposony – mohou působit stejným mechanismem jako retroviry – jsou schopné přepsat svou genetickou informaci do DNA hostitelské buňk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557360"/>
            <a:ext cx="847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tika pohla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ýká dědičných znaků, uložených na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onosomech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a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hlavních chromosome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Jde tedy jednoznačně o znaky určující pohla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hlaví organismů bývá určeno vzájemnou kombinací chromosomů X a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istují různé typy určení pohlav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avčí ty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 nejčastější - savci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azi, obojživelníci, většina hmyzu a dvoudomých rostl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ičí pohlaví XX (samičí gameta vždy jen chromozóm 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čí pohlaví XY (samčí gameta nese chromozom X nebo Y, šance 50:5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tačí ty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yskytuje se u ptáků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týlů a některých ry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ice XY,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ec 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EE85-3EEC-4FB8-BE64-A591D9A2CA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Genetika pohl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50920" y="1557000"/>
            <a:ext cx="847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tika pohla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onozomálně se dědí i další dědičné znaky, hlavně některé choroby. Často uváděným příkladem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emofili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robná nesrážlivost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rv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horobu podmiňuje recesivní alela 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žnosti jsou ty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X - zdravá alel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x - mutovaná ale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u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XY-zdrav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xYnemoc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Že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XX-zdravá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Xx-přenašečk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xx-nemoc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to choroba postihuje především muže, u žen přenašeček se cho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rojev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ED03-C4BD-468E-9B24-50EE9B2289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Genetika pohl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8358-76A9-44E4-A69F-DBF5E7500F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NEČAS, PROF. MUDr. DrSc., Oldřich, HOJA, PROF. MUDr. CSc., Š., MACKŮ, DOC. Dr. CSc., J., MAGROT, DOC. MUDr. CSc.,T., SOŠKA, MUDr. CSc., J., ŠMARDA, DOC. MUDr. CSc., J., Obecná biologie. Vydání druhé. Praha: Avicenum, zdravotnické nakladatelství, n. p., 1972. 584 s. ISBN 08-078-7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ŠPÍREK, Alois. Genetika. Vydáno dne 4. 4. 2008. Verze 2. 5, Počet stran 1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oupis kapitol ze stránek </a:t>
            </a:r>
            <a:r>
              <a:rPr b="0" lang="cs-CZ" sz="1200" spc="-1" strike="noStrike" u="sng">
                <a:solidFill>
                  <a:srgbClr val="0b6def"/>
                </a:solidFill>
                <a:uFillTx/>
                <a:latin typeface="Albertus Medium"/>
                <a:hlinkClick r:id="rId1"/>
              </a:rPr>
              <a:t>http://genetika.wz.cz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</a:rPr>
              <a:t>SIŘÍNKOVÁ, Mgr.,Petra. Mendelovy zákony. Výukový materiál vznikl za přispění Evropské unie, státního rozpočtu ČR a Středočeského kraje. Investice do rozvoje vzděláv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2195640" y="4941720"/>
            <a:ext cx="4464000" cy="11034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Použi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Unicode MS"/>
              </a:rPr>
              <a:t>Chov skotu – Mendelovy zá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427280" y="6165720"/>
            <a:ext cx="4097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roslav 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71DE-4581-4F89-ADA2-BF6E029AAD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Mendelov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ndelovy zák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zákony dědičnosti formuloval J. G: Mendel v roce 1866 na základě analýz genetického křížení mezi vyšlechtěnými kmeny hrachu setého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Pisum sativu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Arial"/>
              </a:rPr>
              <a:t>ZÁKON UNIFORMITY HYBRIDŮ F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Arial"/>
              </a:rPr>
              <a:t>ZÁKON O NESTEJNORODOSTI  DRUHÉ GENERACE KŘÍŽENC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Arial"/>
              </a:rPr>
              <a:t>ZÁKON O VOLNÉ KOMBINOVATELNOSTI AL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koumal projevy v určitém dobře definovaném znaku jako je např. tvar semen (kulatá nebo hranatá), barva semen (žlutá nebo zelená) nebo barva květů (fialová nebo bílá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datum 4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zápatí 5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číslo snímku 6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BAC2-6A40-4413-A1BA-0DE4F91822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uniformity hybridů F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Jsou-li rodiče homozygotní (AA x aa ) je jejich potomstvo vždy heterozygotní (Aa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68360" y="321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AA x 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1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a Aa Aa A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867280" y="4365720"/>
          <a:ext cx="2160720" cy="187164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Zástupný symbol pro datum 4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symbol pro zápatí 5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6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40E5-5582-4D3B-BC8E-B3B5DC419B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uniformity hybridů F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ědičnost znaku s úplnou domina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heterozygota se fenotypicky projevuje pouze dominantní ale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čovská gener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minantní homozygo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c000"/>
                </a:solidFill>
                <a:latin typeface="Arial"/>
              </a:rPr>
              <a:t>AA</a:t>
            </a:r>
            <a:r>
              <a:rPr b="0" lang="cs-CZ" sz="1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c000"/>
                </a:solidFill>
                <a:latin typeface="Arial"/>
              </a:rPr>
              <a:t>– žluté zbarvení s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cesivní homozygo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aa</a:t>
            </a:r>
            <a:r>
              <a:rPr b="0" lang="cs-CZ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– zelené zbarvení s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1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a Aa Aa Aa </a:t>
            </a:r>
            <a:r>
              <a:rPr b="1" lang="cs-CZ" sz="1600" spc="-1" strike="noStrike">
                <a:solidFill>
                  <a:srgbClr val="ffc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 všichni heterozygoti mají žlutou barvu s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notypový štěpný pomě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: 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AA-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aa-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notypový štěpný pomě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: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žlutá barva seme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zelená barva 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 sem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: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5084640"/>
          <a:ext cx="1800000" cy="1371600"/>
        </p:xfrm>
        <a:graphic>
          <a:graphicData uri="http://schemas.openxmlformats.org/drawingml/2006/table">
            <a:tbl>
              <a:tblPr/>
              <a:tblGrid>
                <a:gridCol w="598320"/>
                <a:gridCol w="603360"/>
                <a:gridCol w="598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me sledovat dědičnost znaku, kterým je zbarvení semen hra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me křížit homozygotního žlutosemenného jedince s homozygotním zelenosemenným jedin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A – žluté zbarve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c000"/>
                </a:solidFill>
                <a:latin typeface="Arial"/>
              </a:rPr>
              <a:t>Žluté zbarvení je podmíněno dominantní alelou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a – zelené zbarven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Zelené zbarvení je podmíněno recesivní alelou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:          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Jaký bude genotypový zápis obou rodič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74A-12E3-47DA-9F0C-159C498E19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uniformity hybridů F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lipsa 7"/>
          <p:cNvSpPr/>
          <p:nvPr/>
        </p:nvSpPr>
        <p:spPr>
          <a:xfrm>
            <a:off x="4356000" y="3860640"/>
            <a:ext cx="647640" cy="6494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ipsa 8"/>
          <p:cNvSpPr/>
          <p:nvPr/>
        </p:nvSpPr>
        <p:spPr>
          <a:xfrm>
            <a:off x="5724360" y="3860640"/>
            <a:ext cx="648000" cy="6494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ovéPole 11"/>
          <p:cNvSpPr/>
          <p:nvPr/>
        </p:nvSpPr>
        <p:spPr>
          <a:xfrm>
            <a:off x="4427640" y="4724280"/>
            <a:ext cx="50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ovéPole 12"/>
          <p:cNvSpPr/>
          <p:nvPr/>
        </p:nvSpPr>
        <p:spPr>
          <a:xfrm>
            <a:off x="5796000" y="4724280"/>
            <a:ext cx="50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Zkuste odvodit, jaké gamety budou mít oba rodi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5306a"/>
                </a:solidFill>
                <a:latin typeface="Arial"/>
              </a:rPr>
              <a:t>Jakého genotypu a fenotypu budou vznikající potomc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datum 3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zápatí 4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5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894B-A9E9-4408-82D7-2D12CCEB2C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uniformity hybridů F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191200" cy="151128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9"/>
          <p:cNvSpPr/>
          <p:nvPr/>
        </p:nvSpPr>
        <p:spPr>
          <a:xfrm>
            <a:off x="4067280" y="1773360"/>
            <a:ext cx="50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Calibri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ovéPole 10"/>
          <p:cNvSpPr/>
          <p:nvPr/>
        </p:nvSpPr>
        <p:spPr>
          <a:xfrm>
            <a:off x="6227640" y="1773360"/>
            <a:ext cx="5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Calibri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2268360" y="3933720"/>
            <a:ext cx="511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datum 4"/>
          <p:cNvSpPr/>
          <p:nvPr/>
        </p:nvSpPr>
        <p:spPr>
          <a:xfrm>
            <a:off x="2509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z Loš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zápatí 5"/>
          <p:cNvSpPr/>
          <p:nvPr/>
        </p:nvSpPr>
        <p:spPr>
          <a:xfrm>
            <a:off x="3059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g. Miroslav H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6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ED73-9958-4DFA-B3E8-15E195E006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3200" spc="-1" strike="noStrike">
                <a:solidFill>
                  <a:srgbClr val="000000"/>
                </a:solidFill>
                <a:latin typeface="Albertus Extra Bold"/>
              </a:rPr>
              <a:t>kon uniformity hybridů F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7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ědičnost znaku s neúplnou domina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heterozygota se fenotypicky projevují obě alely – vytváří střední zn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čovská gener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úplně dominantní homozygo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AA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– červená barva kvě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úplně recesivní homozygo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99"/>
                </a:solidFill>
                <a:latin typeface="Arial"/>
              </a:rPr>
              <a:t>aa 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</a:rPr>
              <a:t>– modrá barva kvě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660066"/>
                </a:solidFill>
                <a:latin typeface="Arial"/>
              </a:rPr>
              <a:t>Aa Aa Aa Aa – všichni mají fialovou barvu kvě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notypový štěpný poměr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8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: 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A-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800080"/>
                </a:solidFill>
                <a:latin typeface="Arial"/>
              </a:rPr>
              <a:t>-</a:t>
            </a:r>
            <a:r>
              <a:rPr b="1" lang="cs-CZ" sz="1800" spc="-1" strike="noStrike">
                <a:solidFill>
                  <a:srgbClr val="80008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99"/>
                </a:solidFill>
                <a:latin typeface="Arial"/>
              </a:rPr>
              <a:t>aa-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notypový štěpný poměr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8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: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800080"/>
                </a:solidFill>
                <a:latin typeface="Arial"/>
              </a:rPr>
              <a:t>fialová barva kvě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47640" y="5302080"/>
          <a:ext cx="1820880" cy="1371600"/>
        </p:xfrm>
        <a:graphic>
          <a:graphicData uri="http://schemas.openxmlformats.org/drawingml/2006/table">
            <a:tbl>
              <a:tblPr/>
              <a:tblGrid>
                <a:gridCol w="605160"/>
                <a:gridCol w="610920"/>
                <a:gridCol w="60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Huk</cp:lastModifiedBy>
  <dcterms:modified xsi:type="dcterms:W3CDTF">2014-02-05T14:55:41Z</dcterms:modified>
  <cp:revision>92</cp:revision>
  <dc:subject/>
  <dc:title>Cow PowerPoint Presentation</dc:title>
</cp:coreProperties>
</file>