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391-0D35-4B6B-8A73-F8712C9F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B5B-55BD-4985-BA88-E33E942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4FF-4298-448C-849C-3667925D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D16-743C-414E-B540-7BCF958A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27BC-E42F-4253-84BD-86977D60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87C3-F0DF-45D4-B4A2-7056292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C78-61B9-4E48-B13F-57CF7BF0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2A6-F8BC-4CFE-8F5C-017B08B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E0D-7758-4DD8-9DBA-62C6A768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D30D-6CF4-4744-8D9F-B217808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9F9-5F54-4590-894A-70D7A62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4D5-7A6C-406D-AE08-822BC8A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A170-1F19-471D-AEB8-EB31C31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EA6C-0D58-4822-BFE6-05C3747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1799-1AAA-4725-B095-208F3CC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6BB5-46BB-4F84-8707-BF29EF88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76F-6D51-4ACF-AF67-A22A6A13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BDE-297B-4D3E-8F18-3CB534EC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B41-9871-43F5-AFF0-3030A71D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386-2195-4A0F-B231-FDF0C22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73D-1191-4262-A8F7-214CD60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AAD-93A3-4F3D-B46B-EB95A64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1E7-B814-47E7-B147-928129D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04A-72A8-46CD-A471-8FBF2AF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A3B8-D9CA-4420-8341-1F46BA5ECF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9872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DCA1-015E-4489-8CAD-16CE3DD2FF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86421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MORFOLOGICKÉ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A FYZIOLOGICKÉ VLASTNOSTI SKO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3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B0CB-0537-408A-BE25-F7C0D21970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5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611280" y="3201840"/>
            <a:ext cx="79563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9E6-B99D-4380-92F9-DE84B3BC8C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yziologické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líme j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fyziologické 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stit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i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mpera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ověk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živ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ůst a vý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sych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aptační schop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05C-A964-4029-AB09-878766ABCF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fyziologické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upeň životnosti jedince, projevující se zdravím, odolností, vytrvalostí, dlouhověkostí, temperamentem a schopností se přizpůsobit životním podmínká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y konstitu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ev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ýraz dobrého zdraví, harmonická stavba těla, silná kostra, pevné svaly, hustá lesklá srst. Je požadována u všech plemenných zvířat a sportovních ko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ub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méně prošlechtěné zvíře, nižší užitkovost, typické pro masná plemena skotu a ovcí, tažné ko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m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ynikající užitkovost, poruchy plodnosti, náročnost na výživu a prostředí, typické pro mléčná plemena skotu a ovcí, masná prasata, nosné hybridy, anglického plnokrevní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ab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signalizuje přešlechtění zvířat, ty mají konstituční vady ( měkký hřbet, ochablé svaly), nízká a nevyrovnaná užitkov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ymfatic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rajní stupeň hrubé konstituce, velký tělesný rámec, masná a tučná ple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C17-A697-4AFA-9463-CB4A9BF119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ab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abi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nější vzhled zvířete ovlivněný genetickým založením a vnějším prostřed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y habit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ýcha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elké rozměry hrudníku (velké plíce, velké srdce a rozvinutý cévní systém). Méně vyvinuté svalstvo. Typické pro anglického plnokrevníka, mléčná plemena skotu a ovcí, masná plemena prasat, nosné hybri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krm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rátký a široký hrudník, typické pro masná plemena skotu, ovcí, sádelných prasat a drůbež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va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silná a pevná kostra s mohutným osvalením. Typické pro tažné koně, masná plemena skotu a pras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zk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nejvíce vyjádřen u pracovních plemen psů. Zvířata jsou učenlivá s dobrým charakte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60D6-010B-4E2B-A999-B7EAB9D7F0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emper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mper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stupeň reakce nervové soustavy na podněty z vnějšího prostřed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y temperament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Ži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rychlá reakce zvířete, u zvířat s jemnou konstitu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lid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omalá reakce zvířete, u zvířat s hrubou konstitu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leric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ředrážděný, nervózní temperament, reakce zvířete jsou rychlé a podrážděné. Jedná se o nežádoucí temperament – zvířata jsou agresiv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lancholic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elmi pomalé reakce zvířat, požadováno u zvířat na výkrm (býci), zvířata nejsou nebezpeč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004-4286-46FD-9053-AE3B4A9E6C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připravenost zvířete pro určitý výkon nebo produk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y kond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v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žádoucí u všech plemenných zvířat: samice mají pravidelný říjový cyklus, snadno zabřezávají, samci produkují kvalitní ejakulát. Dobrá výživná konstituce, užitkov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krm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ysoká žravost zvířete, vysoké přírůstky, Výkrmná kondice, klidný tempera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aco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svalový habitus a dobrý výživný stav (pracovní koně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vo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typické u dostihových ko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aste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hrubá srst i tělesné tvary, výborný zdravotní stav vlivem pohybu a přirozené výži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t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rátkodobý nadprůměrný stav zvířete připravený pro výsta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ladov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víře je vyhublé, málo odolné s nízkou užitkovostí. Většinou po nemoci či u nedbalých chovatel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032F-8DEB-4515-9DE7-170903185E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ností rozumíme schopnost včasného poskytování žádané produkce a rychlého dospívání zvířat. Podle stupně ranosti rozeznáv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y ra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velmi ra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středně ra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později dospívají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pozdě dospívají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3D95-081C-4AC9-89DD-FB802B4282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ouhověkost, plo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louhověk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dosahovat vysoký věk a tedy vysokou celoživotní užitkov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pravidelně rodit konstitučně zdravá mláďata v optimálním 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 je podmíněno pravidelnou činností pohlavních orgán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rbou zralých pohlavních buně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lozením vajíč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vývojem v zárodek a pl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ž do narození životaschopných jedinc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lodnost u krav charakterizují tyto základní ukaza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seminační interva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období od porodu do prvního zapušt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zibřezost (servis perioda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období od porodu do dalšího zabřeznu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ziobdob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období mezi dvěma por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seminační inde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očet inseminací na jedno zabřeznu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lodnost po 1. insemina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atalit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orod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BE5-B743-4957-A7F5-089148175C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živnost, růst a vý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ž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organizmu přeměňovat (konvertovat) živiny krmiva na produkty (mléko, maso, vlnu, vejce, prác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ůst a vý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ů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ntitativní zvyšování hmotnost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ělesných rozměrů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litativní funkční změny jednotlivých orgán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bíhají od oplození vajíčka až do tělesné dospěl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92F-17DC-4D56-8505-A24AF34A0D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84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sychika, charakter a adaptační schopnost, 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sychika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měřené chování, které se přenáší z generace na generaci a je řízeno pudov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zvířete učit se správně reagovat se nazývá inteligence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akt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hospodářských zvířat se posuzuje podle stupně povolnosti zvířete podřídit se vůli člověk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eznáváme charak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l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daptač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stavuje schopnost přizpůsobit se změněným životním podmínká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pověď organismu na působení stresorů (stresující podnět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fologické a fyziologické vlastnosti 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3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10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aky a vlastnosti zvířat, exteriér zvířat, posuzování zevnějšku, morfologické a fyziologické vlastnosti zvířat, základní užitkové vlastnost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3D3-E6AC-444E-94A4-DC2859DCC8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užitkové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užitkové vlast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m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vaj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v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svalové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ízda na ko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šení břem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pře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sní prá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kožešin (nutrie, králík, činčila, norek, liška apod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vč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čelí vos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ří kašič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 se využívá ve farmaceutickém a kosmetickém průmyslu (masti, krémy, léky na dýchací cest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gener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tráta požadovaných typických vlastností plemene v důsledku přešlechtění, nesprávné plemenitby čí oslabení konstituce organis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gen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noveni oslabených tvarových a funkčních vlastností opět na původní úroveň požadovanou u daného plem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94E-00D7-47EE-9E04-D8E92FD78A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generace a regener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7C4-30DD-4434-B455-A93EC55547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 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MAN, ING. CSc.,Josef., KONRÁD, ING., Jan, MALINA, ING. CSc., Josef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ov zvířat 1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Vydání druhé. Praha: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avatelství a agentura, 19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249 s. ISBN 80-9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295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516640"/>
            <a:ext cx="8167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 Unicode MS"/>
              </a:rPr>
              <a:t>Chov skotu – Morfologické a fyziologické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Arial Unicode MS"/>
              </a:rPr>
              <a:t>vlastnosti sko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14D6-5AC8-4760-A8A7-A9E412AE14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naky a vlastnosti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a znaky zvířat, které tvoří základ užitku, pro který člověk zvířata chová, jsou charakteru morfologického a fyziologick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folog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naky a vlastnosti jsou dány utvářením orgánů a částí těla, zbarvením apod., které můžeme pozorovat a popsat na živém zvířeti jako v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exteriér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při pitvě jako vnitř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interié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yziolog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osti jsou výsledkem funkční činnosti tkání a orgánů těla, čímž vzniká produkt - mléko, maso, vejce, práce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906-CEF7-4E7A-ABCC-F65AB4D5CE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orfologické vlastnosti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teriér – zevněj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hrn vnějších tvarových vlastnost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částí zevnějšku zvířete je pokryv těla a jeho zbarv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kazuje na charakter užitkového směru a na předpoklady k produk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ceňování exteriérových znaků a vlastností, které nemají podstat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lost s užitkovostí, označujeme jako chovatelský formaliz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da morfologických vlastností je kvalitativního charakteru, jsou téměř nezávislé na vnějším prostředí - rohatost, zbarvení, utváření lebky. Tyto znaky nemají většinou zásadní hospodářský význam a spíše tvoří typické druhové plemenné zna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itativní morfologické znaky, na jejichž projevu ve fenotypu se podílí též faktory vnějšího prostředí, mají bližší vztah k užitkovosti, např. masné - velikost a hmotnost těla či jednotlivých parti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terié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me jej pozorovat a popsat zvířete jako popis vnitřních tvarů orgánů zvířete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6B5A-68EF-48DA-883E-1973E7C74E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xteriér zvíř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růběhu domestikace a chovu zvířat byl exteriér prakticky jediným kriteriem výběru zvířat k dalšímu chovu. Člověk vybíral zvířata podle vzhledu a podle funkčnosti zevnějšku - zejména u koní byl a je zřejmý vztah mezi stavbou těla a využitím či výko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běr zvířat dle zevnějšku se prováděl již u starověkých národů, ve středověku až novověku bylo učení o exteriéru pod vlivem hledání ideálních proporcí, tvarů, formy a zbarv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růběhu šlechtění plemen se zejména morfologické znaky staly prvotními charakteristikami pl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současnosti chápeme exteriér z hlediska jeho vztahu k užitkovosti. Je zřejmé, že zvířata různého užitkového zaměření a typu budou vykazovat rozdílné proporce tělesných part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 je zřejmé zejména u specializovaných plem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rovnej tělesnou stavbu dostihového koně a koně pro těžký ta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suzování exteriéru zvířat tedy využíváme těch znaků a vlastností, které mají vztah k interiéru zvířete a tím i užitkovosti, pro kterou je zvíře chová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31A-82EA-4393-97EC-A2202B5491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xteriér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vnějšek má svými znaky a známkami vyjadřovat účel, pro který zvíř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á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ecně má být zevnějšek výraz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é příslušn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ho dimorfis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é užitkov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ie tělesné stavb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ého zdravotního sta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ná přísluš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se od sebe liší rozdílností tělesných tvarů, zbarvením, kvalitou srsti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avky jsou dány chovným cílem a plemenným standardem daného plem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-li plemenné vlastnosti výrazné, ustál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voříme o prošlechtěnosti zvířete nebo cho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7420-1346-49F9-9757-11AB33656F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xteriér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hlavní dimorf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druhotné pohlavní znaky, které se vytváří účinkem pohlavních hormonů (samci mají mohutnější hlavu, vyšší hmotnost, u kanců dlouhé kly, u kohoutů pestřejší zbarvení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ká užitko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rodukce mléka je dána velikostí a pravidelným utvářením vemene, jemnější kostrou a tenčí kůží, u výkrmu krátký krk, široký hřbet, čtvercový rámec těla, silná kostra a hrubá kůž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armonie tělesné stav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porciálnost těla, tj. vzájemná poloha, velikost a tvar jednotlivých partií tě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brý zdravotní 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kem je lesklá, hladká a přiléhavá srst, dobrý výživný stav, jasné oko, narůžovělé sliznice,  bez výtoku z nosu a očí, studený a vlhký mulec (rypák), výkaly normálního vzhledu a konzis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F3E-118D-498B-A6C5-EEE8DCED81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237960" y="1633680"/>
            <a:ext cx="3076560" cy="3457080"/>
            <a:chOff x="237960" y="1633680"/>
            <a:chExt cx="3076560" cy="3457080"/>
          </a:xfrm>
        </p:grpSpPr>
        <p:sp>
          <p:nvSpPr>
            <p:cNvPr id="125" name="Oval 24"/>
            <p:cNvSpPr/>
            <p:nvPr/>
          </p:nvSpPr>
          <p:spPr>
            <a:xfrm>
              <a:off x="2800440" y="43671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23"/>
            <p:cNvSpPr/>
            <p:nvPr/>
          </p:nvSpPr>
          <p:spPr>
            <a:xfrm>
              <a:off x="2543040" y="43768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2"/>
            <p:cNvSpPr/>
            <p:nvPr/>
          </p:nvSpPr>
          <p:spPr>
            <a:xfrm>
              <a:off x="2266920" y="43768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2000160" y="43768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Oval 20"/>
            <p:cNvSpPr/>
            <p:nvPr/>
          </p:nvSpPr>
          <p:spPr>
            <a:xfrm>
              <a:off x="2914920" y="3795840"/>
              <a:ext cx="26640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237960" y="35481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18"/>
            <p:cNvSpPr/>
            <p:nvPr/>
          </p:nvSpPr>
          <p:spPr>
            <a:xfrm>
              <a:off x="237960" y="28144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237960" y="32241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2552760" y="39862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2266920" y="48243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237960" y="46245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>
              <a:off x="237960" y="415764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237960" y="38433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3048120" y="1643040"/>
              <a:ext cx="26640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237960" y="16336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2000160" y="1643040"/>
              <a:ext cx="26640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228680" y="163368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37960" y="2147760"/>
              <a:ext cx="266400" cy="266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6"/>
            <p:cNvSpPr/>
            <p:nvPr/>
          </p:nvSpPr>
          <p:spPr>
            <a:xfrm>
              <a:off x="2352600" y="1643040"/>
              <a:ext cx="26640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Rectangle 25"/>
          <p:cNvSpPr/>
          <p:nvPr/>
        </p:nvSpPr>
        <p:spPr>
          <a:xfrm>
            <a:off x="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suzování zevnějš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4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1-31T06:49:34Z</dcterms:modified>
  <cp:revision>50</cp:revision>
  <dc:subject/>
  <dc:title>Cow PowerPoint Presentation</dc:title>
</cp:coreProperties>
</file>