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4619-0EAD-4DC8-B0FC-1BD1204655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9E89-CAFB-4F36-A5C2-986C67FBBADC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D4B8-1E21-458D-B986-B6327F53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9879-5AFD-45ED-8948-19E2F5D3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7B4C-712C-4316-B8DA-1E39B3DB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9345-9E03-46DE-AB72-9FECE61F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A4A2-757D-4133-B77F-698FBEEF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E5FE-7030-4774-987D-A2254006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99EE-43C9-43D7-BFF8-479A4AE1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A78F-C93E-4E17-B44A-0EC4153B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3EDA-B9D6-427D-BF95-EC9A1859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0D78-FE0A-4C93-9BDF-5C1303D8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98E2-B72A-4C1E-A0DD-C710DFC0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9F3E-BDC3-4BE4-B4F2-9AB11103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CE5A-5EA7-4CCA-8388-1EE78712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57DC-C6BA-4D1F-9985-1AFC2ED0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A1DF-0313-4C1F-959D-84533515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18E1-00E3-4563-BA8A-C088BB9D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471D-57D5-421C-9907-584818A2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6F0A-9125-4C21-9D0C-E2213D06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90E9-95C8-4C11-963B-A5BD59FD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ED88-7FE8-45FD-AE0C-14815DAE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89CC-C8E1-476B-8DC7-15F9FDDE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B82F-BFCB-471C-8ED1-01D9C50A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9F0E-7678-4D23-94B9-67670A32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96DC-E9B4-4863-96C6-2A82D9FD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5892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8764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51B8-F8C2-4BF2-9134-535335F52F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-9360" y="5489640"/>
            <a:ext cx="8569080" cy="1368360"/>
          </a:xfrm>
          <a:prstGeom prst="rect">
            <a:avLst/>
          </a:prstGeom>
          <a:gradFill rotWithShape="0">
            <a:gsLst>
              <a:gs pos="0">
                <a:srgbClr val="e7dbc5">
                  <a:alpha val="60000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25092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0589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DC25-1870-42A3-99E9-4DF914C9DE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6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VÝZNAM CHOVU SKO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97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121_Chov_sko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r:  Ing. Miroslav Hu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Zástupný symbol pro datum 4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zápatí 5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6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CF01-C1E4-4A6E-98FB-22A72A4344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Opak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ý nám skot přináší užite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znamená konverze živin?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řížov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vyplň všechny názvy živočichů a v tajence se dozvíš, jak se jmenuje mladá kráva, která ještě neměla 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. mládě ov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. samice husy domá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. mládě tura domácí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4. samec kura domácí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5. samice tura domácí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6. samice kura domácí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7. samice ovce domá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8. mládě prasete domácí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003640" y="2708280"/>
          <a:ext cx="3529080" cy="3657600"/>
        </p:xfrm>
        <a:graphic>
          <a:graphicData uri="http://schemas.openxmlformats.org/drawingml/2006/table">
            <a:tbl>
              <a:tblPr/>
              <a:tblGrid>
                <a:gridCol w="392400"/>
                <a:gridCol w="392040"/>
                <a:gridCol w="392040"/>
                <a:gridCol w="392040"/>
                <a:gridCol w="392040"/>
                <a:gridCol w="392400"/>
                <a:gridCol w="392040"/>
                <a:gridCol w="392040"/>
                <a:gridCol w="392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003640" y="2708280"/>
          <a:ext cx="3529080" cy="3657600"/>
        </p:xfrm>
        <a:graphic>
          <a:graphicData uri="http://schemas.openxmlformats.org/drawingml/2006/table">
            <a:tbl>
              <a:tblPr/>
              <a:tblGrid>
                <a:gridCol w="392400"/>
                <a:gridCol w="392040"/>
                <a:gridCol w="392040"/>
                <a:gridCol w="392040"/>
                <a:gridCol w="392040"/>
                <a:gridCol w="392400"/>
                <a:gridCol w="392040"/>
                <a:gridCol w="392040"/>
                <a:gridCol w="392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lačítko akce: Informace 8"/>
          <p:cNvSpPr/>
          <p:nvPr/>
        </p:nvSpPr>
        <p:spPr>
          <a:xfrm>
            <a:off x="4356000" y="1989000"/>
            <a:ext cx="287280" cy="28764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10800" y="3807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27">
                <a:moveTo>
                  <a:pt x="10800" y="4181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27">
                <a:moveTo>
                  <a:pt x="8224" y="8237"/>
                </a:moveTo>
                <a:lnTo>
                  <a:pt x="12088" y="8237"/>
                </a:lnTo>
                <a:lnTo>
                  <a:pt x="12088" y="15235"/>
                </a:lnTo>
                <a:lnTo>
                  <a:pt x="13376" y="15235"/>
                </a:lnTo>
                <a:lnTo>
                  <a:pt x="13376" y="16158"/>
                </a:lnTo>
                <a:lnTo>
                  <a:pt x="8224" y="16158"/>
                </a:lnTo>
                <a:lnTo>
                  <a:pt x="8224" y="15235"/>
                </a:lnTo>
                <a:lnTo>
                  <a:pt x="9512" y="15235"/>
                </a:lnTo>
                <a:lnTo>
                  <a:pt x="9512" y="9142"/>
                </a:lnTo>
                <a:lnTo>
                  <a:pt x="8224" y="9142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lačítko akce: Informace 9"/>
          <p:cNvSpPr/>
          <p:nvPr/>
        </p:nvSpPr>
        <p:spPr>
          <a:xfrm>
            <a:off x="4356000" y="1628640"/>
            <a:ext cx="287280" cy="28764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10800" y="3807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27">
                <a:moveTo>
                  <a:pt x="10800" y="4181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27">
                <a:moveTo>
                  <a:pt x="8224" y="8237"/>
                </a:moveTo>
                <a:lnTo>
                  <a:pt x="12088" y="8237"/>
                </a:lnTo>
                <a:lnTo>
                  <a:pt x="12088" y="15235"/>
                </a:lnTo>
                <a:lnTo>
                  <a:pt x="13376" y="15235"/>
                </a:lnTo>
                <a:lnTo>
                  <a:pt x="13376" y="16158"/>
                </a:lnTo>
                <a:lnTo>
                  <a:pt x="8224" y="16158"/>
                </a:lnTo>
                <a:lnTo>
                  <a:pt x="8224" y="15235"/>
                </a:lnTo>
                <a:lnTo>
                  <a:pt x="9512" y="15235"/>
                </a:lnTo>
                <a:lnTo>
                  <a:pt x="9512" y="9142"/>
                </a:lnTo>
                <a:lnTo>
                  <a:pt x="8224" y="9142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lačítko akce: Informace 10"/>
          <p:cNvSpPr/>
          <p:nvPr/>
        </p:nvSpPr>
        <p:spPr>
          <a:xfrm>
            <a:off x="4716360" y="1628640"/>
            <a:ext cx="287280" cy="28764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10800" y="3807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27">
                <a:moveTo>
                  <a:pt x="10800" y="4181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27">
                <a:moveTo>
                  <a:pt x="8224" y="8237"/>
                </a:moveTo>
                <a:lnTo>
                  <a:pt x="12088" y="8237"/>
                </a:lnTo>
                <a:lnTo>
                  <a:pt x="12088" y="15235"/>
                </a:lnTo>
                <a:lnTo>
                  <a:pt x="13376" y="15235"/>
                </a:lnTo>
                <a:lnTo>
                  <a:pt x="13376" y="16158"/>
                </a:lnTo>
                <a:lnTo>
                  <a:pt x="8224" y="16158"/>
                </a:lnTo>
                <a:lnTo>
                  <a:pt x="8224" y="15235"/>
                </a:lnTo>
                <a:lnTo>
                  <a:pt x="9512" y="15235"/>
                </a:lnTo>
                <a:lnTo>
                  <a:pt x="9512" y="9142"/>
                </a:lnTo>
                <a:lnTo>
                  <a:pt x="8224" y="9142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7C26-77F9-48B0-B7F8-2E482F9309D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508720" y="1483920"/>
            <a:ext cx="36352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lbertus Medium"/>
              </a:rPr>
              <a:t>K číslům doplň názvy orgá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lbertus Medium"/>
              </a:rPr>
              <a:t>1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lbertus Medium"/>
              </a:rPr>
              <a:t>2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lbertus Medium"/>
              </a:rPr>
              <a:t>3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lbertus Medium"/>
              </a:rPr>
              <a:t>4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lbertus Medium"/>
              </a:rPr>
              <a:t>5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lbertus Medium"/>
              </a:rPr>
              <a:t>6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lbertus Medium"/>
              </a:rPr>
              <a:t>7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lbertus Medium"/>
              </a:rPr>
              <a:t>8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lbertus Medium"/>
              </a:rPr>
              <a:t>9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lbertus Medium"/>
              </a:rPr>
              <a:t>10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lbertus Medium"/>
              </a:rPr>
              <a:t>11</a:t>
            </a:r>
            <a:r>
              <a:rPr b="1" lang="cs-CZ" sz="1500" spc="-1" strike="noStrike">
                <a:solidFill>
                  <a:srgbClr val="ff0000"/>
                </a:solidFill>
                <a:latin typeface="Albertus Medium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0" y="2060640"/>
            <a:ext cx="5508720" cy="35290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Opak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ovéPole 8"/>
          <p:cNvSpPr/>
          <p:nvPr/>
        </p:nvSpPr>
        <p:spPr>
          <a:xfrm>
            <a:off x="6012000" y="1989000"/>
            <a:ext cx="244764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tlama, </a:t>
            </a:r>
            <a:r>
              <a:rPr b="1" lang="cs-CZ" sz="1600" spc="-1" strike="noStrike">
                <a:solidFill>
                  <a:srgbClr val="ff0000"/>
                </a:solidFill>
                <a:latin typeface="Albertus Medium"/>
              </a:rPr>
              <a:t>chr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ovéPole 9"/>
          <p:cNvSpPr/>
          <p:nvPr/>
        </p:nvSpPr>
        <p:spPr>
          <a:xfrm>
            <a:off x="6012000" y="2421000"/>
            <a:ext cx="244764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lbertus Medium"/>
              </a:rPr>
              <a:t>jazy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ovéPole 10"/>
          <p:cNvSpPr/>
          <p:nvPr/>
        </p:nvSpPr>
        <p:spPr>
          <a:xfrm>
            <a:off x="6012000" y="2852640"/>
            <a:ext cx="244764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lbertus Medium"/>
              </a:rPr>
              <a:t>jícen, hlt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ovéPole 11"/>
          <p:cNvSpPr/>
          <p:nvPr/>
        </p:nvSpPr>
        <p:spPr>
          <a:xfrm>
            <a:off x="6012000" y="3284640"/>
            <a:ext cx="244764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lbertus Medium"/>
              </a:rPr>
              <a:t>bach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ovéPole 12"/>
          <p:cNvSpPr/>
          <p:nvPr/>
        </p:nvSpPr>
        <p:spPr>
          <a:xfrm>
            <a:off x="6012000" y="3716280"/>
            <a:ext cx="244764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lbertus Medium"/>
              </a:rPr>
              <a:t>čepe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ovéPole 13"/>
          <p:cNvSpPr/>
          <p:nvPr/>
        </p:nvSpPr>
        <p:spPr>
          <a:xfrm>
            <a:off x="6012000" y="4149720"/>
            <a:ext cx="244764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lbertus Medium"/>
              </a:rPr>
              <a:t>knih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ovéPole 14"/>
          <p:cNvSpPr/>
          <p:nvPr/>
        </p:nvSpPr>
        <p:spPr>
          <a:xfrm>
            <a:off x="6012000" y="4581360"/>
            <a:ext cx="244764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lbertus Medium"/>
              </a:rPr>
              <a:t>sle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ovéPole 15"/>
          <p:cNvSpPr/>
          <p:nvPr/>
        </p:nvSpPr>
        <p:spPr>
          <a:xfrm>
            <a:off x="6012000" y="5013360"/>
            <a:ext cx="244764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lbertus Medium"/>
              </a:rPr>
              <a:t>tenké střev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ovéPole 16"/>
          <p:cNvSpPr/>
          <p:nvPr/>
        </p:nvSpPr>
        <p:spPr>
          <a:xfrm>
            <a:off x="6012000" y="5445000"/>
            <a:ext cx="244764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lbertus Medium"/>
              </a:rPr>
              <a:t>slepé střev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ovéPole 17"/>
          <p:cNvSpPr/>
          <p:nvPr/>
        </p:nvSpPr>
        <p:spPr>
          <a:xfrm>
            <a:off x="6012000" y="5877000"/>
            <a:ext cx="244764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lbertus Medium"/>
              </a:rPr>
              <a:t>tlusté střev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ovéPole 18"/>
          <p:cNvSpPr/>
          <p:nvPr/>
        </p:nvSpPr>
        <p:spPr>
          <a:xfrm>
            <a:off x="6012000" y="6308640"/>
            <a:ext cx="244764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lbertus Medium"/>
              </a:rPr>
              <a:t>močový měchýř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AC0B-4965-49EE-B2E4-8058F4E2C7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MIŠKOVSKÝ, DOC. ING. C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,Zdeněk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</a:rPr>
              <a:t>Chov zvířat 2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 Vydání první. Praha 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CREDIT –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vydavatelství agentura, 1995. 249 s. ISBN 80-901645-4-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SAMBRAUS, Hans Hinrich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</a:rPr>
              <a:t>Atlas plemen hospodářských zvířat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Nakladatelství Brázda, s. r. o.,, 2006. 296 s. ISBN 80-209-0344-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výchovy a vzdělávání Ministerstva zemědělství České republiky, 1995. 236s. ISBN 80-7105-092-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výchovy a vzdělávání Ministerstva zemědělství České republiky, 19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96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s. ISBN 8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7105-019-9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RBAN, J., ŠARAPATKA, B., a kol. Ekologické zemědělství: učebnice pro školy i praxi - I. díl. Vydání první. Praha: MŽP a Svaz PRO-BIO, 2003, 280 s. ISBN 80-7212-274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ŠARAPATKA, B., URBAN, J., a kol. Ekologické zemědělství: učebnice pro školy i praxi - II. díl. Vydání první Šumperk: Svaz PRO-BIO, 2005, 334 s. ISBN 80-903583-0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URDA, František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</a:rPr>
              <a:t>Zemědělsk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</a:rPr>
              <a:t> výrob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2 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živočišné výrobky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Vydání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vn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Praha: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tátní zemědělské nakladatelstv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, 1995. 236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s. ISB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07-000-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3588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oužité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57200" y="1371600"/>
          <a:ext cx="8229600" cy="519444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znam chovu sko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21_Chov_sko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09.2013 KF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6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znam chovu skotu, produkční funkce, mimoprodukční funkce, produkce potravin, produkce statkových hnojiv, suroviny pro průmys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0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3640" y="5444640"/>
            <a:ext cx="7848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 Unicode MS"/>
              </a:rPr>
              <a:t>Chov skotu – Význam chovu skot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427280" y="6378480"/>
            <a:ext cx="4097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Ing. Miroslav H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50920" y="1600200"/>
            <a:ext cx="86421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ov zvíř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innost, která je zaměřena jednak na produkci potravin a surovin, ale také na zájmový chov, jehož cílem je zejména náplň volného času a zálib chovate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ov sko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lavní a nejvýznamnějš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dvětví živočišné výrob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uzavřen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 vazbami na ostatní odvětv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emědělské výroby, hlavně rostlin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rob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ov skot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náročnější na inves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 spotřebu živé prá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E661-76A5-4F85-8F03-5B6DB07810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Význam chovu sko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kolobeh bily"/>
          <p:cNvPicPr/>
          <p:nvPr/>
        </p:nvPicPr>
        <p:blipFill>
          <a:blip r:embed="rId1"/>
          <a:stretch/>
        </p:blipFill>
        <p:spPr>
          <a:xfrm>
            <a:off x="5076720" y="2478240"/>
            <a:ext cx="388008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50920" y="1600200"/>
            <a:ext cx="86421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odukční funkce chovu zvíř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živa lid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krytí potřeby živočišných bílkov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lék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kráva, koza, ovce) a z něj vyráběné mléčné výrobky (jogurty, sýry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j.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s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hovězí, telecí, vepřové, drůbeží, skopové a ostatní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ejc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ajištění dostatečného množství kvalitních a "bezpečných" potravi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ajištění surovin k průmyslovému zpracování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ůže a kožešin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případně jiné tkáně těl poražených zvířat (kosti, žluč, žlázy s vnitřní sekrecí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lna, rohy, pazneht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skytování krmi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leziv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léko plnotučné, odstředěné či odpady při zpracován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sové a masokostní moučky -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ůležitý doplněk krmiv  pro hospodářská zvířat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8A55-5B95-42BC-A07B-BFC4CB0877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Význam chovu sko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55736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odukce statkových (organická) hnoj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lévské mrvy, kejdy, močůvky – které ovlivňují množství humusu v půdě a tím její úrodno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odukce plemenných a chovných zvířa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odukce biologického materiálu šlechtitelské kv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seminační dávky, embry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imoprodukční funkce chovu skotu (zvíř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zajistit multifunkční a trvalé a konkurenceschopné zemědělstv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udržení krajiny v přirozeném a kulturním stavu (význam 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údržbě a tvorbě krajiny – ekologický způsob hospodaření, využívání trvalých travních porostů, pěstování objemných krmiv na orné půdě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rozvoj venkov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udržení zaměstnanost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plnění sociálních funkc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zajištění bezpečnosti a jakosti potravi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ochrana životního prostředí a zvíř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DD73-75CD-4E6D-BCAC-B5DCF5763F5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Význam chovu sko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1FD2-37FF-4A3C-A68E-BA809B4810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560" y="1484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kot m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vysokou termoregulační schopnost  a  adaptabilitu – rozšíření, přizpůsoben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rozdílné chovatelské nároky jednotlivých kategorií  – různé technologi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vysokou konverzi živin i v extenzivních podmínkách hospodařen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dlouhý generační interval (nutná kontinuálnost šlechtitelské práce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nutnost respektovat biologické požadav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nverze živ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0000"/>
                </a:solidFill>
                <a:latin typeface="Arial"/>
              </a:rPr>
              <a:t>Proměna živin z krmiva na produkci hmotnostn</a:t>
            </a:r>
            <a:r>
              <a:rPr b="1" i="1" lang="cs-CZ" sz="2000" spc="-1" strike="noStrike">
                <a:solidFill>
                  <a:srgbClr val="ff0000"/>
                </a:solidFill>
                <a:latin typeface="Albertus Medium"/>
              </a:rPr>
              <a:t>í</a:t>
            </a:r>
            <a:r>
              <a:rPr b="1" i="1" lang="cs-CZ" sz="2000" spc="-1" strike="noStrike">
                <a:solidFill>
                  <a:srgbClr val="ff0000"/>
                </a:solidFill>
                <a:latin typeface="Arial"/>
              </a:rPr>
              <a:t>ho př</a:t>
            </a:r>
            <a:r>
              <a:rPr b="1" i="1" lang="cs-CZ" sz="2000" spc="-1" strike="noStrike">
                <a:solidFill>
                  <a:srgbClr val="ff0000"/>
                </a:solidFill>
                <a:latin typeface="Albertus Medium"/>
              </a:rPr>
              <a:t>í</a:t>
            </a:r>
            <a:r>
              <a:rPr b="1" i="1" lang="cs-CZ" sz="2000" spc="-1" strike="noStrike">
                <a:solidFill>
                  <a:srgbClr val="ff0000"/>
                </a:solidFill>
                <a:latin typeface="Arial"/>
              </a:rPr>
              <a:t>rustku, ml</a:t>
            </a:r>
            <a:r>
              <a:rPr b="1" i="1" lang="cs-CZ" sz="2000" spc="-1" strike="noStrike">
                <a:solidFill>
                  <a:srgbClr val="ff0000"/>
                </a:solidFill>
                <a:latin typeface="Albertus Medium"/>
              </a:rPr>
              <a:t>é</a:t>
            </a:r>
            <a:r>
              <a:rPr b="1" i="1" lang="cs-CZ" sz="2000" spc="-1" strike="noStrike">
                <a:solidFill>
                  <a:srgbClr val="ff0000"/>
                </a:solidFill>
                <a:latin typeface="Arial"/>
              </a:rPr>
              <a:t>ka, vaj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0000"/>
                </a:solidFill>
                <a:latin typeface="Arial"/>
              </a:rPr>
              <a:t>Uv</a:t>
            </a:r>
            <a:r>
              <a:rPr b="1" i="1" lang="cs-CZ" sz="2000" spc="-1" strike="noStrike">
                <a:solidFill>
                  <a:srgbClr val="ff0000"/>
                </a:solidFill>
                <a:latin typeface="Albertus Medium"/>
              </a:rPr>
              <a:t>á</a:t>
            </a:r>
            <a:r>
              <a:rPr b="1" i="1" lang="cs-CZ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cs-CZ" sz="2000" spc="-1" strike="noStrike">
                <a:solidFill>
                  <a:srgbClr val="ff0000"/>
                </a:solidFill>
                <a:latin typeface="Albertus Medium"/>
              </a:rPr>
              <a:t>í</a:t>
            </a:r>
            <a:r>
              <a:rPr b="1" i="1" lang="cs-CZ" sz="2000" spc="-1" strike="noStrike">
                <a:solidFill>
                  <a:srgbClr val="ff0000"/>
                </a:solidFill>
                <a:latin typeface="Arial"/>
              </a:rPr>
              <a:t> se v hmotnostn</a:t>
            </a:r>
            <a:r>
              <a:rPr b="1" i="1" lang="cs-CZ" sz="2000" spc="-1" strike="noStrike">
                <a:solidFill>
                  <a:srgbClr val="ff0000"/>
                </a:solidFill>
                <a:latin typeface="Albertus Medium"/>
              </a:rPr>
              <a:t>í</a:t>
            </a:r>
            <a:r>
              <a:rPr b="1" i="1" lang="cs-CZ" sz="2000" spc="-1" strike="noStrike">
                <a:solidFill>
                  <a:srgbClr val="ff0000"/>
                </a:solidFill>
                <a:latin typeface="Arial"/>
              </a:rPr>
              <a:t> jednotce krmiva na jednotku produkce (např. 112g krmiva na jedno vejc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(Převzato z: Urban, J., Šarapatka, B., Učebnice Ekologického zemědělství II., Šumperk 2005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lačítko akce: Návrat 6"/>
          <p:cNvSpPr/>
          <p:nvPr/>
        </p:nvSpPr>
        <p:spPr>
          <a:xfrm>
            <a:off x="8532720" y="5877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5" y="13751"/>
                  <a:pt x="12645" y="12828"/>
                </a:cubicBezTo>
                <a:lnTo>
                  <a:pt x="12645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Význam chovu sko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14A1-FEC4-4413-AFA9-CED62098BF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0560" y="148428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lé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vysoká stravitelnost, výživná a biologická hodnota (obsahuje plnohodnotné a lehce stravitelné bílkoviny, minerály a vitaminy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nejlepší konverze živi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vyšší rentabilita (než výroba masa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nezastupitelné ve výživě obyvatelstv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zpracováním získáváme smetanu, máslo, tvaroh, sýr, podmáslí, syrovátku, mléka kondenzovaná a sušená a další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horší konverze  (x drůbež, prasata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předností - část lze vyrobit z objemné píc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hovězí maso je hodnotné, lehce stravitelné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telecí maso je dietn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spotřeba by se měla zvyšovat na úkor vepřového (má více tuku), zatím je to naopak (cen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lačítko akce: Návrat 6"/>
          <p:cNvSpPr/>
          <p:nvPr/>
        </p:nvSpPr>
        <p:spPr>
          <a:xfrm>
            <a:off x="8532720" y="5877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5" y="13751"/>
                  <a:pt x="12645" y="12828"/>
                </a:cubicBezTo>
                <a:lnTo>
                  <a:pt x="12645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Význam chovu sko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94F9-1B7B-4B3A-8508-A52DE3C29B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ůmy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ířata poskytují také suroviny pro průmyslové zpracován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žedělný, kožešnický, obuvnický (boty, aktovky, rukavice a další spotřební zboží se vyrábí z kůží skotu, prasat, koz a koní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ůmysl chemický a farmaceutický (výroba léků a léčiv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 kostí zvířat se vyrábí mýdlo, klíh, průmyslová hnojiv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 rohů a paznehtů se vyrábí např. knoflíky, hřebeny ap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odukce statkových hnoj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vlivňují množství humusu v půdě a tím její úrodno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l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sk</a:t>
            </a:r>
            <a:r>
              <a:rPr b="0" lang="cs-CZ" sz="1600" spc="-1" strike="noStrike">
                <a:solidFill>
                  <a:srgbClr val="000000"/>
                </a:solidFill>
                <a:latin typeface="Albertus Medium"/>
              </a:rPr>
              <a:t>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mrv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očůvk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ej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lačítko akce: Návrat 6"/>
          <p:cNvSpPr/>
          <p:nvPr/>
        </p:nvSpPr>
        <p:spPr>
          <a:xfrm>
            <a:off x="8532720" y="5877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5" y="13751"/>
                  <a:pt x="12645" y="12828"/>
                </a:cubicBezTo>
                <a:lnTo>
                  <a:pt x="12645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Význam chovu sko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Huk</cp:lastModifiedBy>
  <dcterms:modified xsi:type="dcterms:W3CDTF">2014-01-11T16:14:36Z</dcterms:modified>
  <cp:revision>71</cp:revision>
  <dc:subject/>
  <dc:title>Cow PowerPoint Presentation</dc:title>
</cp:coreProperties>
</file>