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B14CA-F497-457C-AB44-EC96C0A50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A9F5-69C1-4E33-9F59-DA45A5D7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8F002-5202-4BD4-B5C1-AE5E3D1FE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D5CEB-7C64-4BEC-B5DB-7C5C2AB4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38E20-3824-43C4-BDB3-33896F32D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9699D-D8D1-482E-8A9A-4C7178CB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056EC-573A-4A9A-BB83-A03E59770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FE1EB-7026-4C1F-BDFD-D9ED03B26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F65F-F64D-450D-8383-FF9BCDB33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3CBA5-B280-40B6-9F41-58BE879EF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786C8-6150-4028-BDEF-6A91E11C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4E36-E412-4BB7-89C5-1AF74305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6C07-9AC9-4D9B-8515-7489DCABA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2361A-728C-4B7F-B864-C1F3FBD4C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9639E-AC8F-4C5C-AD42-F24474247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D984E-21BF-4904-A092-2ED76DA86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C14C2-D899-4532-BF62-739021F29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349F-FB4C-4BF7-8255-53D51E9D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3833-4929-43BA-B119-1B97F1B0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41C53-52D4-493E-AD02-7F9921DB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C1FC2-3FF6-4E0D-ADF6-74A90116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0C57-5AF9-488C-B523-66B3CFADF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2C5C-4A83-4E8B-9067-AE1AF4A27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D8A3-7450-440A-8F83-EC2534DD0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7236000" cy="1440000"/>
          </a:xfrm>
          <a:prstGeom prst="rect">
            <a:avLst/>
          </a:prstGeom>
          <a:gradFill rotWithShape="0">
            <a:gsLst>
              <a:gs pos="0">
                <a:srgbClr val="e7dbc5">
                  <a:alpha val="85098"/>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250920" y="6308640"/>
            <a:ext cx="21333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z Loštice</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58920" y="6308640"/>
            <a:ext cx="289548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g. Miroslav Huk</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87640" y="630864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DE84-A2B3-4EB0-90A2-52221BA04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10" descr=""/>
          <p:cNvPicPr/>
          <p:nvPr/>
        </p:nvPicPr>
        <p:blipFill>
          <a:blip r:embed="rId2"/>
          <a:stretch/>
        </p:blipFill>
        <p:spPr>
          <a:xfrm>
            <a:off x="6954840" y="0"/>
            <a:ext cx="2189160" cy="14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0"/>
            <a:ext cx="7236000" cy="1440000"/>
          </a:xfrm>
          <a:prstGeom prst="rect">
            <a:avLst/>
          </a:prstGeom>
          <a:gradFill rotWithShape="0">
            <a:gsLst>
              <a:gs pos="0">
                <a:srgbClr val="e7dbc5">
                  <a:alpha val="85098"/>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Picture 10" descr=""/>
          <p:cNvPicPr/>
          <p:nvPr/>
        </p:nvPicPr>
        <p:blipFill>
          <a:blip r:embed="rId2"/>
          <a:stretch/>
        </p:blipFill>
        <p:spPr>
          <a:xfrm>
            <a:off x="6954840" y="0"/>
            <a:ext cx="2189160" cy="1440000"/>
          </a:xfrm>
          <a:prstGeom prst="rect">
            <a:avLst/>
          </a:prstGeom>
          <a:ln w="0">
            <a:noFill/>
          </a:ln>
        </p:spPr>
      </p:pic>
      <p:pic>
        <p:nvPicPr>
          <p:cNvPr id="45" name="Picture 10" descr=""/>
          <p:cNvPicPr/>
          <p:nvPr/>
        </p:nvPicPr>
        <p:blipFill>
          <a:blip r:embed="rId3"/>
          <a:stretch/>
        </p:blipFill>
        <p:spPr>
          <a:xfrm>
            <a:off x="0" y="0"/>
            <a:ext cx="9144000" cy="6858000"/>
          </a:xfrm>
          <a:prstGeom prst="rect">
            <a:avLst/>
          </a:prstGeom>
          <a:ln w="0">
            <a:noFill/>
          </a:ln>
        </p:spPr>
      </p:pic>
      <p:sp>
        <p:nvSpPr>
          <p:cNvPr id="46" name="Rectangle 9"/>
          <p:cNvSpPr/>
          <p:nvPr/>
        </p:nvSpPr>
        <p:spPr>
          <a:xfrm>
            <a:off x="-9360" y="5489640"/>
            <a:ext cx="8569080" cy="1368360"/>
          </a:xfrm>
          <a:prstGeom prst="rect">
            <a:avLst/>
          </a:prstGeom>
          <a:gradFill rotWithShape="0">
            <a:gsLst>
              <a:gs pos="0">
                <a:srgbClr val="e7dbc5">
                  <a:alpha val="60000"/>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dt" idx="4"/>
          </p:nvPr>
        </p:nvSpPr>
        <p:spPr>
          <a:xfrm>
            <a:off x="250920" y="6492960"/>
            <a:ext cx="21333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z Loštice</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058920" y="6492960"/>
            <a:ext cx="289548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g. Miroslav Huk</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372360" y="6492960"/>
            <a:ext cx="213336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11D2-C68D-45FE-9E64-8EDF1116A4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pinsp.cz/" TargetMode="External"/><Relationship Id="rId2" Type="http://schemas.openxmlformats.org/officeDocument/2006/relationships/hyperlink" Target="http://galenus.cz/aminokyseliny-zakladni-aminokyseliny.php"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5760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0" spc="-1" strike="noStrike">
                <a:solidFill>
                  <a:srgbClr val="000000"/>
                </a:solidFill>
                <a:latin typeface="Arial"/>
              </a:rPr>
              <a:t>KRMIVA</a:t>
            </a:r>
            <a:endParaRPr b="0" lang="en-US" sz="6000" spc="-1" strike="noStrike">
              <a:solidFill>
                <a:srgbClr val="000000"/>
              </a:solidFill>
              <a:latin typeface="Arial"/>
            </a:endParaRPr>
          </a:p>
        </p:txBody>
      </p:sp>
      <p:pic>
        <p:nvPicPr>
          <p:cNvPr id="89" name="Obrázek 3" descr=""/>
          <p:cNvPicPr/>
          <p:nvPr/>
        </p:nvPicPr>
        <p:blipFill>
          <a:blip r:embed="rId1"/>
          <a:stretch/>
        </p:blipFill>
        <p:spPr>
          <a:xfrm>
            <a:off x="1530360" y="476280"/>
            <a:ext cx="6083280" cy="1484280"/>
          </a:xfrm>
          <a:prstGeom prst="rect">
            <a:avLst/>
          </a:prstGeom>
          <a:ln w="0">
            <a:noFill/>
          </a:ln>
        </p:spPr>
      </p:pic>
      <p:sp>
        <p:nvSpPr>
          <p:cNvPr id="90" name="TextovéPole 4"/>
          <p:cNvSpPr/>
          <p:nvPr/>
        </p:nvSpPr>
        <p:spPr>
          <a:xfrm>
            <a:off x="2209680" y="2133720"/>
            <a:ext cx="496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VY_32_INOVACE_138_Chov_skotu</a:t>
            </a:r>
            <a:endParaRPr b="0" lang="en-US" sz="1800" spc="-1" strike="noStrike">
              <a:solidFill>
                <a:srgbClr val="000000"/>
              </a:solidFill>
              <a:latin typeface="Calibri"/>
            </a:endParaRPr>
          </a:p>
        </p:txBody>
      </p:sp>
      <p:sp>
        <p:nvSpPr>
          <p:cNvPr id="91" name="TextovéPole 5"/>
          <p:cNvSpPr/>
          <p:nvPr/>
        </p:nvSpPr>
        <p:spPr>
          <a:xfrm>
            <a:off x="5724360" y="55897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Autor:  Ing. Miroslav Hu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sení</a:t>
            </a:r>
            <a:r>
              <a:rPr b="0" lang="cs-CZ" sz="1800" spc="-1" strike="noStrike">
                <a:solidFill>
                  <a:srgbClr val="000000"/>
                </a:solidFill>
                <a:latin typeface="Arial"/>
              </a:rPr>
              <a:t> je nejpřirozenější způsob výživy dojnic</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stva je biologicky plnohodnotnou potravou s přirozeným obsahem živin, minerálních látek a vitamínů.</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platňuje se v podhorských a horských oblastech v letním období.</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stviny mají být do vzdálenosti 1 km od stájí, větší vzdálenost ovlivňuje mléčnou užitkovost.</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vádí se:</a:t>
            </a:r>
            <a:endParaRPr b="0" lang="en-US" sz="18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Celodenní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jnice se vracejí do stáje před večerním dojením.</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Polodenní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jnice se vrací do stáje i k polednímu odpočinku.</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Zástupný symbol pro datum 3"/>
          <p:cNvSpPr/>
          <p:nvPr/>
        </p:nvSpPr>
        <p:spPr>
          <a:xfrm>
            <a:off x="17928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29"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30"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1BEB-EEFD-49D9-AAF6-EA357BDFA5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1"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astva, napáj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50920" y="1557000"/>
            <a:ext cx="8470800" cy="456876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působy pasení:</a:t>
            </a:r>
            <a:endParaRPr b="0" lang="en-US" sz="18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Dávková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mocí elektrického ohradníku se přiděluje jalovicím plocha pastevního porostu na den nebo polovinu dne. Tímto způsobem se spásají přirozené pastviny, luční porosty, vojtěška a vojtěškotravní směsky.</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Pásová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platňuje se při spásání vysokých polních plodin s velkou produkcí hmoty. Zvířatům se ohraničuje elektrickým ohradníkem pás do šířky 1 m na každou dojnici. Při tomto způsobu pasení se jalovice zdržuje na pastvě maximálně 4-5 hodin.</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Oplůtková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 další intenzivní způsob pastvy. Pastevní plocha je rozdělena na dílce (oplůtky), které se postupně spásají.</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Volná past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 extenzivní způsob pasení. Jsou zde vysoké ztráty pošlapáním, znečištěním a nedopasením (až 50%). </a:t>
            </a:r>
            <a:endParaRPr b="0" lang="en-US" sz="1600" spc="-1" strike="noStrike">
              <a:solidFill>
                <a:srgbClr val="000000"/>
              </a:solidFill>
              <a:latin typeface="Arial"/>
            </a:endParaRPr>
          </a:p>
        </p:txBody>
      </p:sp>
      <p:sp>
        <p:nvSpPr>
          <p:cNvPr id="133"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34"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35"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5C62-EE97-4CF2-80D5-AA17033420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6"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astva, napáj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0920" y="1557000"/>
            <a:ext cx="8470800" cy="4824360"/>
          </a:xfrm>
          <a:prstGeom prst="rect">
            <a:avLst/>
          </a:prstGeom>
          <a:noFill/>
          <a:ln w="0">
            <a:noFill/>
          </a:ln>
        </p:spPr>
        <p:txBody>
          <a:bodyPr anchor="t">
            <a:normAutofit/>
          </a:bodyPr>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Organizace pasení</a:t>
            </a:r>
            <a:endParaRPr b="0" lang="en-US" sz="18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Příprava na pase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e 3-4 měsíci si jalovice přivykají ve výbězích na pohyb ve stádě a na pasení. Jalovice je třeba před pasením přivyknout na elektrický ohradník tak, že se občas vyhánějí do travnatých výběhů ohraničených elektrickým ohradníkem.</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Technika pase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letním období se výživa jalovic a dojnic zabezpečuje také na pastvinách. Seno získané z nedopasených či z nespasených porostů se používá k přikrmování v období nedostatku pastevních porostů.</a:t>
            </a:r>
            <a:endParaRPr b="0" lang="en-US" sz="1600" spc="-1" strike="noStrike">
              <a:solidFill>
                <a:srgbClr val="000000"/>
              </a:solidFill>
              <a:latin typeface="Arial"/>
            </a:endParaRPr>
          </a:p>
          <a:p>
            <a:pPr lvl="1" marL="743040" indent="-28584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6600"/>
                </a:solidFill>
                <a:latin typeface="Arial"/>
              </a:rPr>
              <a:t>Délka doby pastvy</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7-8 hodin, na slabších porostech celý den.</a:t>
            </a:r>
            <a:endParaRPr b="0" lang="en-US" sz="1600" spc="-1" strike="noStrike">
              <a:solidFill>
                <a:srgbClr val="000000"/>
              </a:solidFill>
              <a:latin typeface="Arial"/>
            </a:endParaRPr>
          </a:p>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Napájení</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enní potřeba vody je závislá na živé hmotnosti, teplotě a vlhkosti vzduchu, a zdravotním stavu a činí v průměru 50 l vody denně. </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da musí být zdravotně nezávadná, teplá asi 10-15 </a:t>
            </a:r>
            <a:r>
              <a:rPr b="0" lang="cs-CZ" sz="1600" spc="-1" strike="noStrike" baseline="30000">
                <a:solidFill>
                  <a:srgbClr val="000000"/>
                </a:solidFill>
                <a:latin typeface="Arial"/>
              </a:rPr>
              <a:t>o</a:t>
            </a:r>
            <a:r>
              <a:rPr b="0" lang="cs-CZ" sz="1600" spc="-1" strike="noStrike">
                <a:solidFill>
                  <a:srgbClr val="000000"/>
                </a:solidFill>
                <a:latin typeface="Arial"/>
              </a:rPr>
              <a:t>C.</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jnice pijí z napáječek nebo napájecích žlabů.</a:t>
            </a:r>
            <a:endParaRPr b="0" lang="en-US" sz="1600" spc="-1" strike="noStrike">
              <a:solidFill>
                <a:srgbClr val="000000"/>
              </a:solidFill>
              <a:latin typeface="Arial"/>
            </a:endParaRPr>
          </a:p>
        </p:txBody>
      </p:sp>
      <p:sp>
        <p:nvSpPr>
          <p:cNvPr id="138"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39"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40"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6AB5-35D6-44F6-8097-5F54964FFE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astva, napáj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kládání krmiv můžeme provádět použitím: </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cionárních mechanizačních prostředků,</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obilních mechanizačních prostředků.</a:t>
            </a:r>
            <a:endParaRPr b="0" lang="en-US" sz="16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a způsoby umožňují dopravu a zakládání objemných i jadrných krmiv.</a:t>
            </a:r>
            <a:endParaRPr b="0" lang="en-US" sz="1800" spc="-1" strike="noStrike">
              <a:solidFill>
                <a:srgbClr val="000000"/>
              </a:solidFill>
              <a:latin typeface="Arial"/>
            </a:endParaRPr>
          </a:p>
          <a:p>
            <a:pPr marL="343080" indent="-343080">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arianty stacionárních linek krmení</a:t>
            </a:r>
            <a:endParaRPr b="0" lang="en-US" sz="1800" spc="-1" strike="noStrike">
              <a:solidFill>
                <a:srgbClr val="000000"/>
              </a:solidFill>
              <a:latin typeface="Arial"/>
            </a:endParaRPr>
          </a:p>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Žlabové dopravníky</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rmivo unáší</a:t>
            </a:r>
            <a:r>
              <a:rPr b="0" lang="cs-CZ"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aničkové,</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ásové,</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rmivo hrnou</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nořetězové s hrabicem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44"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45"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A7AC-38C4-4D32-B8B9-1233A6093E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Zakládání krmiv</a:t>
            </a:r>
            <a:endParaRPr b="0" lang="en-US" sz="3200" spc="-1" strike="noStrike">
              <a:solidFill>
                <a:srgbClr val="000000"/>
              </a:solidFill>
              <a:latin typeface="Calibri"/>
            </a:endParaRPr>
          </a:p>
        </p:txBody>
      </p:sp>
      <p:pic>
        <p:nvPicPr>
          <p:cNvPr id="147" name="Picture 8" descr="Šnekové dopravníky Kongskilde"/>
          <p:cNvPicPr/>
          <p:nvPr/>
        </p:nvPicPr>
        <p:blipFill>
          <a:blip r:embed="rId1"/>
          <a:stretch/>
        </p:blipFill>
        <p:spPr>
          <a:xfrm>
            <a:off x="5187960" y="2781360"/>
            <a:ext cx="3956040" cy="40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50920" y="1557000"/>
            <a:ext cx="8470800" cy="4568760"/>
          </a:xfrm>
          <a:prstGeom prst="rect">
            <a:avLst/>
          </a:prstGeom>
          <a:noFill/>
          <a:ln w="0">
            <a:noFill/>
          </a:ln>
        </p:spPr>
        <p:txBody>
          <a:bodyPr anchor="t">
            <a:normAutofit/>
          </a:bodyPr>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šnekové dopravníky</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plňují krmný žlab postupně,</a:t>
            </a:r>
            <a:endParaRPr b="0" lang="en-US" sz="1600" spc="-1" strike="noStrike">
              <a:solidFill>
                <a:srgbClr val="000000"/>
              </a:solidFill>
              <a:latin typeface="Arial"/>
            </a:endParaRPr>
          </a:p>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elektrický krmný vůz</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onstrukce podobná běžným krmným vozům,</a:t>
            </a:r>
            <a:endParaRPr b="0" lang="en-US" sz="1600" spc="-1" strike="noStrike">
              <a:solidFill>
                <a:srgbClr val="000000"/>
              </a:solidFill>
              <a:latin typeface="Arial"/>
            </a:endParaRPr>
          </a:p>
          <a:p>
            <a:pPr marL="343080" indent="-343080">
              <a:spcBef>
                <a:spcPts val="3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99"/>
                </a:solidFill>
                <a:latin typeface="Arial"/>
              </a:rPr>
              <a:t>nadžlabové dopravníky</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uží k dopravě objemného i jadrného krmiva,</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ásové sklopné,</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jízdné,</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e shrnovacím vozíkem.</a:t>
            </a:r>
            <a:endParaRPr b="0" lang="en-US" sz="1600" spc="-1" strike="noStrike">
              <a:solidFill>
                <a:srgbClr val="000000"/>
              </a:solidFill>
              <a:latin typeface="Arial"/>
            </a:endParaRPr>
          </a:p>
        </p:txBody>
      </p:sp>
      <p:sp>
        <p:nvSpPr>
          <p:cNvPr id="149"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50"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51"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C923-8AF5-4657-8FA0-F2160C722E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2"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Zakládání krmi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50920" y="1557360"/>
            <a:ext cx="8470800" cy="475128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Mobilní technika pro krmení skotu</a:t>
            </a:r>
            <a:endParaRPr b="0" lang="en-US" sz="1800" spc="-1" strike="noStrike">
              <a:solidFill>
                <a:srgbClr val="000000"/>
              </a:solidFill>
              <a:latin typeface="Arial"/>
            </a:endParaRPr>
          </a:p>
          <a:p>
            <a:pPr lvl="1" marL="7430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9"/>
                </a:solidFill>
                <a:latin typeface="Arial"/>
              </a:rPr>
              <a:t>Krmné voz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sou určeny k přepravě krmiv do skladovacích prostorů nebo přípravny krmiv do průjezdných stájí, kde za jízdy krmnou chodbou zakládají krmivo plynule do krmných žlabů, na dně ložného prostoru je řetězový hrabicový dopravník (pohyblivé dno).</a:t>
            </a:r>
            <a:endParaRPr b="0" lang="en-US" sz="1600" spc="-1" strike="noStrike">
              <a:solidFill>
                <a:srgbClr val="000000"/>
              </a:solidFill>
              <a:latin typeface="Arial"/>
            </a:endParaRPr>
          </a:p>
          <a:p>
            <a:pPr lvl="1" marL="7430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9"/>
                </a:solidFill>
                <a:latin typeface="Arial"/>
              </a:rPr>
              <a:t>Krmné míchací voz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tvářejí homogenní směs krmiv (mísí a zakládají krmivo do žlabů).</a:t>
            </a:r>
            <a:endParaRPr b="0" lang="en-US" sz="16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ýhody a nevýhody předchozích způsobů krmení</a:t>
            </a:r>
            <a:endParaRPr b="0" lang="en-US" sz="1800" spc="-1" strike="noStrike">
              <a:solidFill>
                <a:srgbClr val="000000"/>
              </a:solidFill>
              <a:latin typeface="Arial"/>
            </a:endParaRPr>
          </a:p>
          <a:p>
            <a:pPr lvl="1" marL="7430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9"/>
                </a:solidFill>
                <a:latin typeface="Arial"/>
              </a:rPr>
              <a:t>Šnekové dopravník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krmném žlabu třídí krmivo jak kvalitativně, tak i kvantitativně. Všechna dosud používaná zařízení jsou poruchová a jsou vystavena působení zvířat, vyžadují uzavíratelné žlabové zábrany.</a:t>
            </a:r>
            <a:endParaRPr b="0" lang="en-US" sz="1600" spc="-1" strike="noStrike">
              <a:solidFill>
                <a:srgbClr val="000000"/>
              </a:solidFill>
              <a:latin typeface="Arial"/>
            </a:endParaRPr>
          </a:p>
          <a:p>
            <a:pPr lvl="1" marL="7430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9"/>
                </a:solidFill>
                <a:latin typeface="Arial"/>
              </a:rPr>
              <a:t>Nadžlabové dopravník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vyžadují uzavíratelné žlabová zábran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55"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56"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F827-C024-4489-BA99-501D59DFE2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Zakládání krmi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59"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60"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AD47-AA39-4FE5-B765-21E67A2817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 name="PlaceHolder 1"/>
          <p:cNvSpPr>
            <a:spLocks noGrp="1"/>
          </p:cNvSpPr>
          <p:nvPr>
            <p:ph/>
          </p:nvPr>
        </p:nvSpPr>
        <p:spPr>
          <a:xfrm>
            <a:off x="250920" y="1525320"/>
            <a:ext cx="8470800" cy="5111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MIŠKOVSKÝ, DOC. ING. CSc.,Zdeněk. Chov zvířat 2. Vydání první. Praha: CREDIT – vydavatelství agentura, 1995. 249 s. ISBN 80-901645-4-4.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VARGA, ING., Stanislav; KREJČÍ, ING., Vladimír. Zemědělská výroba II.Vydání druhé. Praha: Institut výchovy a vzdělávání Ministerstva zemědělství České republiky, 1995. 236s. ISBN 80-7105-092-X.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VARGA, ING., Stanislav; KREJČÍ, ING., Vladimír. Zemědělská výroba II.Vydání druhé. Praha: Institut výchovy a vzdělávání Ministerstva zemědělství České republiky, 1986. 296 s. ISBN 80-7105-019-9.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URBAN, J., ŠARAPATKA, B., a kol. Ekologické zemědělství: učebnice pro školy i praxi - I. díl. Vydání první. Praha: MŽP a Svaz PRO-BIO, 2003, 280 s. ISBN 80-7212-274-6</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ŠARAPATKA, B., URBAN, J., a kol. Ekologické zemědělství: učebnice pro školy i praxi - II. díl. Vydání první. Šumperk: Svaz PRO-BIO, 2005, 334 s. ISBN 80-903583-0-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BURDA, F. Zemědělské výrobky 2 – živočišné výrobky.Vydání první. Praha: Státní zemědělské nakladatelství, 1995. 236 s. ISBN 07-000-86.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MAJZLÍKOVÁ, ING., Z. Označování a evidence hospodářských zvířat, zkušenosti z kontrol podmíněnosti v roce 2009. Česká plemenářská inspekce. </a:t>
            </a:r>
            <a:r>
              <a:rPr b="0" lang="cs-CZ" sz="1200" spc="-1" strike="noStrike" u="sng">
                <a:solidFill>
                  <a:srgbClr val="0b6def"/>
                </a:solidFill>
                <a:uFillTx/>
                <a:latin typeface="Albertus Medium"/>
                <a:hlinkClick r:id="rId1"/>
              </a:rPr>
              <a:t>www.cpinsp.cz</a:t>
            </a:r>
            <a:r>
              <a:rPr b="0" lang="cs-CZ" sz="1200" spc="-1" strike="noStrike">
                <a:solidFill>
                  <a:srgbClr val="000000"/>
                </a:solidFill>
                <a:latin typeface="Albertus Medium"/>
              </a:rPr>
              <a:t> </a:t>
            </a:r>
            <a:r>
              <a:rPr b="0" lang="cs-CZ" sz="1200" spc="-1" strike="noStrike">
                <a:solidFill>
                  <a:srgbClr val="000000"/>
                </a:solidFill>
                <a:latin typeface="Arial"/>
              </a:rPr>
              <a:t>[onlin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b6def"/>
                </a:solidFill>
                <a:uFillTx/>
                <a:latin typeface="Albertus Medium"/>
                <a:hlinkClick r:id="rId2"/>
              </a:rPr>
              <a:t>http://galenus.cz/aminokyseliny-zakladni-aminokyseliny.php</a:t>
            </a:r>
            <a:r>
              <a:rPr b="0" lang="cs-CZ" sz="1200" spc="-1" strike="noStrike">
                <a:solidFill>
                  <a:srgbClr val="000000"/>
                </a:solidFill>
                <a:latin typeface="Albertus Medium"/>
              </a:rPr>
              <a:t> </a:t>
            </a:r>
            <a:r>
              <a:rPr b="0" lang="cs-CZ" sz="1200" spc="-1" strike="noStrike">
                <a:solidFill>
                  <a:srgbClr val="000000"/>
                </a:solidFill>
                <a:latin typeface="Arial"/>
              </a:rPr>
              <a:t>[online]. </a:t>
            </a:r>
            <a:endParaRPr b="0" lang="en-US" sz="1200" spc="-1" strike="noStrike">
              <a:solidFill>
                <a:srgbClr val="000000"/>
              </a:solidFill>
              <a:latin typeface="Arial"/>
            </a:endParaRPr>
          </a:p>
        </p:txBody>
      </p:sp>
      <p:sp>
        <p:nvSpPr>
          <p:cNvPr id="162" name="PlaceHolder 2"/>
          <p:cNvSpPr>
            <a:spLocks noGrp="1"/>
          </p:cNvSpPr>
          <p:nvPr>
            <p:ph type="title"/>
          </p:nvPr>
        </p:nvSpPr>
        <p:spPr>
          <a:xfrm>
            <a:off x="250560" y="476280"/>
            <a:ext cx="8435880" cy="59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lbertus Extra Bold"/>
              </a:rPr>
              <a:t>Použité zdro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2" name=""/>
          <p:cNvGraphicFramePr/>
          <p:nvPr/>
        </p:nvGraphicFramePr>
        <p:xfrm>
          <a:off x="457200" y="1371600"/>
          <a:ext cx="8229600" cy="4992840"/>
        </p:xfrm>
        <a:graphic>
          <a:graphicData uri="http://schemas.openxmlformats.org/drawingml/2006/table">
            <a:tbl>
              <a:tblPr/>
              <a:tblGrid>
                <a:gridCol w="2962440"/>
                <a:gridCol w="5267160"/>
              </a:tblGrid>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školy</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dbc5"/>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ŠTZ Mohelnice, 1. máje 2, 789 85 Mohelnic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dbc5"/>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Číslo projekt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Z.1.07/1.5.00/34.00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šablony klíčové aktivity</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ovace a zkvalitnění výuky prostřednictvím ICT (III/2)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výukového materiál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Krmiva</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značení</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Y_32_INOVACE_138_Chov_skot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Vzdělávací obor</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1-51-H/01 Zemědělec – farmář</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matická oblas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hov zvířa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Roční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ruhý</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utor</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g. Miroslav Hu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Datum ověření</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1. 2014 KF 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4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notace / metodický pop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dělení krmiv, výživa a krmení, základní krmná dávka, technika a organizace krmení, pastva, napájení, zakládání krmiv.</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odpis autora</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g. Miroslav Hu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odpis ředitel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3" name="Rectangle 2"/>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Záznamový list výukového materiál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5516640"/>
            <a:ext cx="77724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Unicode MS"/>
              </a:rPr>
              <a:t>Chov skotu – Krmiva </a:t>
            </a:r>
            <a:endParaRPr b="0" lang="en-US" sz="3200" spc="-1" strike="noStrike">
              <a:solidFill>
                <a:srgbClr val="000000"/>
              </a:solidFill>
              <a:latin typeface="Arial"/>
            </a:endParaRPr>
          </a:p>
        </p:txBody>
      </p:sp>
      <p:sp>
        <p:nvSpPr>
          <p:cNvPr id="95" name="PlaceHolder 2"/>
          <p:cNvSpPr>
            <a:spLocks noGrp="1"/>
          </p:cNvSpPr>
          <p:nvPr>
            <p:ph type="subTitle"/>
          </p:nvPr>
        </p:nvSpPr>
        <p:spPr>
          <a:xfrm>
            <a:off x="4427280" y="6165720"/>
            <a:ext cx="4097160" cy="479520"/>
          </a:xfrm>
          <a:prstGeom prst="rect">
            <a:avLst/>
          </a:prstGeom>
          <a:noFill/>
          <a:ln w="0">
            <a:noFill/>
          </a:ln>
        </p:spPr>
        <p:txBody>
          <a:bodyPr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Unicode MS"/>
              </a:rPr>
              <a:t>Ing. Miroslav Hu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250920" y="1557360"/>
            <a:ext cx="8470800" cy="483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em živin pro zvířata jsou krmiva.</a:t>
            </a:r>
            <a:endParaRPr b="0" lang="en-US" sz="1800" spc="-1" strike="noStrike">
              <a:solidFill>
                <a:srgbClr val="000000"/>
              </a:solidFill>
              <a:latin typeface="Calibri"/>
            </a:endParaRPr>
          </a:p>
          <a:p>
            <a:pPr lvl="1" marL="800280" indent="-34308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Jsou to látky rostlinného, živočišného, minerálního nebo syntetického původu používané k výživě hospodářských zvířat.</a:t>
            </a:r>
            <a:endParaRPr b="0" lang="en-US" sz="1600" spc="-1" strike="noStrike">
              <a:solidFill>
                <a:srgbClr val="000000"/>
              </a:solidFill>
              <a:latin typeface="Calibri"/>
            </a:endParaRPr>
          </a:p>
          <a:p>
            <a:pPr marL="343080" indent="-343080">
              <a:lnSpc>
                <a:spcPct val="100000"/>
              </a:lnSpc>
              <a:spcBef>
                <a:spcPts val="388"/>
              </a:spcBef>
              <a:buClr>
                <a:srgbClr val="0a27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a2793"/>
                </a:solidFill>
                <a:latin typeface="Arial"/>
              </a:rPr>
              <a:t>Dělení krmiv</a:t>
            </a:r>
            <a:endParaRPr b="0" lang="en-US" sz="1800" spc="-1" strike="noStrike">
              <a:solidFill>
                <a:srgbClr val="000000"/>
              </a:solidFill>
              <a:latin typeface="Calibri"/>
            </a:endParaRPr>
          </a:p>
          <a:p>
            <a:pPr lvl="1" marL="800280" indent="-34308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Arial"/>
              </a:rPr>
              <a:t>Podle původu:</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rostlinná</a:t>
            </a:r>
            <a:r>
              <a:rPr b="1" lang="cs-CZ" sz="1600" spc="-1" strike="noStrike">
                <a:solidFill>
                  <a:srgbClr val="000000"/>
                </a:solidFill>
                <a:latin typeface="Arial"/>
                <a:ea typeface="Arial"/>
              </a:rPr>
              <a:t> </a:t>
            </a:r>
            <a:r>
              <a:rPr b="0" lang="cs-CZ" sz="1600" spc="-1" strike="noStrike">
                <a:solidFill>
                  <a:srgbClr val="000000"/>
                </a:solidFill>
                <a:latin typeface="Arial"/>
                <a:ea typeface="Arial"/>
              </a:rPr>
              <a:t>– zelená krmiva, siláže a senáže, seno, okopaniny, zrna  obilovin, semena  luskovin, zbytky po zpracování obilovin, olejnin  apod.,</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živočišná</a:t>
            </a:r>
            <a:r>
              <a:rPr b="0" lang="cs-CZ" sz="1600" spc="-1" strike="noStrike">
                <a:solidFill>
                  <a:srgbClr val="000000"/>
                </a:solidFill>
                <a:latin typeface="Arial"/>
                <a:ea typeface="Arial"/>
              </a:rPr>
              <a:t> – mléko, moučky – krevní, masové, rybí, kafilerní,</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minerální</a:t>
            </a:r>
            <a:r>
              <a:rPr b="0" lang="cs-CZ" sz="1600" spc="-1" strike="noStrike">
                <a:solidFill>
                  <a:srgbClr val="000000"/>
                </a:solidFill>
                <a:latin typeface="Arial"/>
                <a:ea typeface="Arial"/>
              </a:rPr>
              <a:t> – krmný vápenec, krmná sůl, minerální krmné přísady,</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mikrobiální</a:t>
            </a:r>
            <a:r>
              <a:rPr b="0" lang="cs-CZ" sz="1600" spc="-1" strike="noStrike">
                <a:solidFill>
                  <a:srgbClr val="000000"/>
                </a:solidFill>
                <a:latin typeface="Arial"/>
                <a:ea typeface="Arial"/>
              </a:rPr>
              <a:t> – kvasnice, kvasničná bílkovina,</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syntetická</a:t>
            </a:r>
            <a:r>
              <a:rPr b="0" lang="cs-CZ" sz="1600" spc="-1" strike="noStrike">
                <a:solidFill>
                  <a:srgbClr val="000000"/>
                </a:solidFill>
                <a:latin typeface="Arial"/>
                <a:ea typeface="Arial"/>
              </a:rPr>
              <a:t> – vitamíny, aminokyseliny.</a:t>
            </a:r>
            <a:endParaRPr b="0" lang="en-US" sz="1600" spc="-1" strike="noStrike">
              <a:solidFill>
                <a:srgbClr val="000000"/>
              </a:solidFill>
              <a:latin typeface="Calibri"/>
            </a:endParaRPr>
          </a:p>
          <a:p>
            <a:pPr lvl="1" marL="800280" indent="-34308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Arial"/>
              </a:rPr>
              <a:t>Podle způsobu získávání na krmiva:</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statková</a:t>
            </a:r>
            <a:r>
              <a:rPr b="0" lang="cs-CZ" sz="1600" spc="-1" strike="noStrike">
                <a:solidFill>
                  <a:srgbClr val="000000"/>
                </a:solidFill>
                <a:latin typeface="Arial"/>
                <a:ea typeface="Arial"/>
              </a:rPr>
              <a:t> -  objemná i  jadrná krmiva vyrobená v zemědělském podnik (zelená píce, siláže, seno, zrno obilovin),</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ea typeface="Arial"/>
              </a:rPr>
              <a:t>nakupovaná či obchodní</a:t>
            </a:r>
            <a:r>
              <a:rPr b="0" lang="cs-CZ" sz="1600" spc="-1" strike="noStrike">
                <a:solidFill>
                  <a:srgbClr val="000000"/>
                </a:solidFill>
                <a:latin typeface="Arial"/>
                <a:ea typeface="Arial"/>
              </a:rPr>
              <a:t> – krmné zbytky po zpracování  rostlinných a živočišných produktů určených pro výživu lidí (šroty, otruby, živočišné moučky).</a:t>
            </a:r>
            <a:endParaRPr b="0" lang="en-US" sz="1600" spc="-1" strike="noStrike">
              <a:solidFill>
                <a:srgbClr val="000000"/>
              </a:solidFill>
              <a:latin typeface="Calibri"/>
            </a:endParaRPr>
          </a:p>
        </p:txBody>
      </p:sp>
      <p:sp>
        <p:nvSpPr>
          <p:cNvPr id="97"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miva</a:t>
            </a:r>
            <a:endParaRPr b="0" lang="en-US" sz="3200" spc="-1" strike="noStrike">
              <a:solidFill>
                <a:srgbClr val="000000"/>
              </a:solidFill>
              <a:latin typeface="Calibri"/>
            </a:endParaRPr>
          </a:p>
        </p:txBody>
      </p:sp>
      <p:sp>
        <p:nvSpPr>
          <p:cNvPr id="98" name="Zástupný symbol pro číslo snímku 3"/>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2F53-D2A3-45B5-8A23-A807569FB4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9"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00" name="Zástupný symbol pro zápatí 2"/>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50920" y="1557360"/>
            <a:ext cx="8470800" cy="41882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dle obsahu bílkovin a sacharidů na krmiva :</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bílkovinná, </a:t>
            </a:r>
            <a:r>
              <a:rPr b="0" lang="cs-CZ" sz="1600" spc="-1" strike="noStrike">
                <a:solidFill>
                  <a:srgbClr val="000000"/>
                </a:solidFill>
                <a:latin typeface="Arial"/>
              </a:rPr>
              <a:t>kdy podstatnou část organické hmoty tvoří dusíkaté živiny (extrahované šroty, semena luskovin,živočišná krmiva, jetel, vojtěška),</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polobílkovinná, </a:t>
            </a:r>
            <a:r>
              <a:rPr b="0" lang="cs-CZ" sz="1600" spc="-1" strike="noStrike">
                <a:solidFill>
                  <a:srgbClr val="000000"/>
                </a:solidFill>
                <a:latin typeface="Arial"/>
              </a:rPr>
              <a:t>kdy na složení organické hmoty se podílí stejnou měrou dusíkaté látky i sacharidy ( pšeničná krmná mouka, jetelotráva, vojtěškotráva),</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sacharidová, </a:t>
            </a:r>
            <a:r>
              <a:rPr b="0" lang="cs-CZ" sz="1600" spc="-1" strike="noStrike">
                <a:solidFill>
                  <a:srgbClr val="000000"/>
                </a:solidFill>
                <a:latin typeface="Arial"/>
              </a:rPr>
              <a:t>kdy podstatnou část organické hmoty tvoří sacharidy ( zrno obilovin, okopaniny, melasa, kukuřice, slunečnice).</a:t>
            </a:r>
            <a:endParaRPr b="0" lang="en-US" sz="1600" spc="-1" strike="noStrike">
              <a:solidFill>
                <a:srgbClr val="000000"/>
              </a:solidFill>
              <a:latin typeface="Calibri"/>
            </a:endParaRPr>
          </a:p>
          <a:p>
            <a:pPr lvl="1" marL="743040" indent="-2858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dle koncentrace živin:</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objemná </a:t>
            </a:r>
            <a:r>
              <a:rPr b="0" lang="cs-CZ" sz="1600" spc="-1" strike="noStrike">
                <a:solidFill>
                  <a:srgbClr val="000000"/>
                </a:solidFill>
                <a:latin typeface="Arial"/>
              </a:rPr>
              <a:t>– zelená krmiva, siláže a senáže, seno, okopaniny, sláma,</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jadrná </a:t>
            </a:r>
            <a:r>
              <a:rPr b="0" lang="cs-CZ" sz="1600" spc="-1" strike="noStrike">
                <a:solidFill>
                  <a:srgbClr val="000000"/>
                </a:solidFill>
                <a:latin typeface="Arial"/>
              </a:rPr>
              <a:t>– zrna obilovin, semena luskovin, krmné zbytky průmyslu  mlýnského,  olejářského, sušená krmiva rostlinného i živočišného původu.</a:t>
            </a:r>
            <a:endParaRPr b="0" lang="en-US" sz="1600" spc="-1" strike="noStrike">
              <a:solidFill>
                <a:srgbClr val="000000"/>
              </a:solidFill>
              <a:latin typeface="Calibri"/>
            </a:endParaRPr>
          </a:p>
          <a:p>
            <a:pPr lvl="1" marL="743040" indent="-2858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dle podílu vody:</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krmiva šťavnatá </a:t>
            </a:r>
            <a:r>
              <a:rPr b="0" lang="cs-CZ" sz="1600" spc="-1" strike="noStrike">
                <a:solidFill>
                  <a:srgbClr val="000000"/>
                </a:solidFill>
                <a:latin typeface="Arial"/>
              </a:rPr>
              <a:t>– zelená píce,</a:t>
            </a:r>
            <a:endParaRPr b="0" lang="en-US" sz="1600" spc="-1" strike="noStrike">
              <a:solidFill>
                <a:srgbClr val="000000"/>
              </a:solidFill>
              <a:latin typeface="Calibri"/>
            </a:endParaRPr>
          </a:p>
          <a:p>
            <a:pPr lvl="2" marL="1257480" indent="-343080">
              <a:lnSpc>
                <a:spcPct val="100000"/>
              </a:lnSpc>
              <a:spcBef>
                <a:spcPts val="388"/>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krmiva suchá </a:t>
            </a:r>
            <a:r>
              <a:rPr b="0" lang="cs-CZ" sz="1600" spc="-1" strike="noStrike">
                <a:solidFill>
                  <a:srgbClr val="000000"/>
                </a:solidFill>
                <a:latin typeface="Arial"/>
              </a:rPr>
              <a:t>– seno.</a:t>
            </a:r>
            <a:endParaRPr b="0" lang="en-US" sz="1600" spc="-1" strike="noStrike">
              <a:solidFill>
                <a:srgbClr val="000000"/>
              </a:solidFill>
              <a:latin typeface="Calibri"/>
            </a:endParaRPr>
          </a:p>
        </p:txBody>
      </p:sp>
      <p:sp>
        <p:nvSpPr>
          <p:cNvPr id="102"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miva</a:t>
            </a:r>
            <a:endParaRPr b="0" lang="en-US" sz="3200" spc="-1" strike="noStrike">
              <a:solidFill>
                <a:srgbClr val="000000"/>
              </a:solidFill>
              <a:latin typeface="Calibri"/>
            </a:endParaRPr>
          </a:p>
        </p:txBody>
      </p:sp>
      <p:sp>
        <p:nvSpPr>
          <p:cNvPr id="103"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04" name="Zástupný symbol pro zápatí 2"/>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05" name="Zástupný symbol pro číslo snímku 3"/>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A07C-3AD9-4747-84D1-BE04E16D83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mná dávka musí splňovat dvě základní hlediska:</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zajistit fyziologickou potřebu živin,</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zajistit pocit nasycenosti zvířete.</a:t>
            </a:r>
            <a:endParaRPr b="0" lang="en-US" sz="16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ákladní krmná dávka</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usí zajistit denní produkci mléka v letním období alespoň 10-12 kg, v zimním období minimálně 8-10 kg (to se rovná roční dojivosti 3000-4000 kg).</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Zástupný symbol pro datum 1"/>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08" name="Zástupný symbol pro zápatí 2"/>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09" name="Zástupný symbol pro číslo snímku 3"/>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DBD7-372C-4128-A826-688A0FAF2D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Výživa a krmení</a:t>
            </a:r>
            <a:endParaRPr b="0" lang="en-US" sz="3200" spc="-1" strike="noStrike">
              <a:solidFill>
                <a:srgbClr val="000000"/>
              </a:solidFill>
              <a:latin typeface="Calibri"/>
            </a:endParaRPr>
          </a:p>
        </p:txBody>
      </p:sp>
      <p:graphicFrame>
        <p:nvGraphicFramePr>
          <p:cNvPr id="111" name=""/>
          <p:cNvGraphicFramePr/>
          <p:nvPr/>
        </p:nvGraphicFramePr>
        <p:xfrm>
          <a:off x="1187280" y="3429000"/>
          <a:ext cx="6553440" cy="2736720"/>
        </p:xfrm>
        <a:graphic>
          <a:graphicData uri="http://schemas.openxmlformats.org/drawingml/2006/table">
            <a:tbl>
              <a:tblPr/>
              <a:tblGrid>
                <a:gridCol w="2184480"/>
                <a:gridCol w="2184480"/>
                <a:gridCol w="2184480"/>
              </a:tblGrid>
              <a:tr h="39060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rmivo</a:t>
                      </a:r>
                      <a:endParaRPr b="0" lang="en-US" sz="1600" spc="-1" strike="noStrike">
                        <a:solidFill>
                          <a:srgbClr val="000000"/>
                        </a:solidFill>
                        <a:latin typeface="Calibri"/>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e7dbc5"/>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třeba v kg</a:t>
                      </a:r>
                      <a:endParaRPr b="0" lang="en-US" sz="16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7dbc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Léto</a:t>
                      </a:r>
                      <a:endParaRPr b="0" lang="en-US" sz="1600" spc="-1" strike="noStrike">
                        <a:solidFill>
                          <a:srgbClr val="000000"/>
                        </a:solidFill>
                        <a:latin typeface="Calibri"/>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f6f1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im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6f1ea"/>
                    </a:solidFill>
                  </a:tcPr>
                </a:tc>
              </a:tr>
              <a:tr h="390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elená píc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32</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r>
              <a:tr h="390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iláž</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8-10</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5-30</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r>
              <a:tr h="390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eno</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4</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r>
              <a:tr h="392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ám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1ea"/>
                    </a:solidFill>
                  </a:tcPr>
                </a:tc>
              </a:tr>
              <a:tr h="390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drné krmivo</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5</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3,0</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f8f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1557000"/>
            <a:ext cx="8470800" cy="4568760"/>
          </a:xfrm>
          <a:prstGeom prst="rect">
            <a:avLst/>
          </a:prstGeom>
          <a:noFill/>
          <a:ln w="0">
            <a:noFill/>
          </a:ln>
        </p:spPr>
        <p:txBody>
          <a:bodyPr anchor="t">
            <a:normAutofit/>
          </a:bodyPr>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Zelená píce</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sahem vody příznivě působí na produkci mléka,</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ladá píce je snadno stravitelná,</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jvhodnější doba sklizně – období začátku květu,</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jtěška, kukuřice, jetel, travní porosty, krmná kapusta.</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Siláže</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ezaná zkvašená píce – optimální délka řezu je 3-5 cm.</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Senáže</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ezaná zkvašená píce – optimální délka řezu je 2-3 cm,</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proti siláži je méně kyselá, má vyšší obsah sušiny,</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 vhodnějším krmivem než siláž.</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Sena</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nepostradatelná součást krmné dávky.</a:t>
            </a:r>
            <a:endParaRPr b="0" lang="en-US" sz="1600" spc="-1" strike="noStrike">
              <a:solidFill>
                <a:srgbClr val="000000"/>
              </a:solidFill>
              <a:latin typeface="Arial"/>
            </a:endParaRPr>
          </a:p>
        </p:txBody>
      </p:sp>
      <p:sp>
        <p:nvSpPr>
          <p:cNvPr id="113"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14"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15"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1D1F-7966-4412-A6DC-9FAE105C1A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6"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m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50920" y="1557360"/>
            <a:ext cx="8470800" cy="4896000"/>
          </a:xfrm>
          <a:prstGeom prst="rect">
            <a:avLst/>
          </a:prstGeom>
          <a:noFill/>
          <a:ln w="0">
            <a:noFill/>
          </a:ln>
        </p:spPr>
        <p:txBody>
          <a:bodyPr anchor="t">
            <a:normAutofit/>
          </a:bodyPr>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Sláma</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uze sláma jařin,</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n sytostní doplněk – </a:t>
            </a:r>
            <a:r>
              <a:rPr b="1" lang="cs-CZ" sz="1600" spc="-1" strike="noStrike">
                <a:solidFill>
                  <a:srgbClr val="ff0000"/>
                </a:solidFill>
                <a:latin typeface="Arial"/>
              </a:rPr>
              <a:t>ad libitum</a:t>
            </a:r>
            <a:r>
              <a:rPr b="0" lang="cs-CZ"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Okopaniny</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ehce stravitelné,</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říznivě působí na produkci mléka,</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krmovat čisté, nenahnilé,</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epa a brambora se nesmí chystat do zásoby.</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Jadrná krmiva</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ávají se k zajištění produkce mléka,</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sou nad úroveň základní krmné dávky,</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jvhodnější je podávat je ve formě krmných směsí,</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en kg směsi by měl zajistit zvýšení produkce o 2 kg mléka.</a:t>
            </a:r>
            <a:endParaRPr b="0" lang="en-US" sz="1600" spc="-1" strike="noStrike">
              <a:solidFill>
                <a:srgbClr val="000000"/>
              </a:solidFill>
              <a:latin typeface="Arial"/>
            </a:endParaRPr>
          </a:p>
          <a:p>
            <a:pPr marL="343080" indent="-343080">
              <a:spcBef>
                <a:spcPts val="388"/>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6600"/>
                </a:solidFill>
                <a:latin typeface="Arial"/>
              </a:rPr>
              <a:t>Krmiva lokálního významu</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cukrovarské řízky – spíše se konzervují,</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ivovarské mláto – musí se zkrmovat čerstvé, významně ovlivňuje produkci mléka.</a:t>
            </a:r>
            <a:endParaRPr b="0" lang="en-US" sz="1600" spc="-1" strike="noStrike">
              <a:solidFill>
                <a:srgbClr val="000000"/>
              </a:solidFill>
              <a:latin typeface="Arial"/>
            </a:endParaRPr>
          </a:p>
        </p:txBody>
      </p:sp>
      <p:sp>
        <p:nvSpPr>
          <p:cNvPr id="118"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19"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20"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A294-EAD7-402D-848D-4F1B2FFB2E0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1"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m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zeznáváme krmení:</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Hromadné krme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šechny dojnice dostávají stejnou KD bez ohledu na užitkovost. Vhodné u chovu dojnic bez tržní produkce mléka.</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Skupinové krme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ádo je rozděleno do skupin podle dosahované užitkovosti, každá skupina dostane odpovídající KD. Nevhodné pro vazné ustájení.</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Individuální krme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á dojnice dostává KD podle skutečné produkce. Výhodné při ustájení malého množství dojnic, při vyšších počtech nevýhodné vzhledem k nemožnosti využít mechanizaci.</a:t>
            </a:r>
            <a:endParaRPr b="0" lang="en-US" sz="16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jnice krmíme zpravidla 2x denně. </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Intervaly mezi raním a večerním krmením by měly být přibližně stejné. </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létě zelená píce jako první, potom ostatní krmiv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24"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25"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84BD-92CB-4DFA-BC7C-20C8A263D6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6" name="Rectangle 4"/>
          <p:cNvSpPr/>
          <p:nvPr/>
        </p:nvSpPr>
        <p:spPr>
          <a:xfrm>
            <a:off x="250920" y="274680"/>
            <a:ext cx="662616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chnika a organizace krm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1:56:50Z</dcterms:created>
  <dc:creator>jontypearce</dc:creator>
  <dc:description/>
  <dc:language>en-US</dc:language>
  <cp:lastModifiedBy>Huk</cp:lastModifiedBy>
  <dcterms:modified xsi:type="dcterms:W3CDTF">2014-02-05T15:02:00Z</dcterms:modified>
  <cp:revision>86</cp:revision>
  <dc:subject/>
  <dc:title>Cow PowerPoint Presentation</dc:title>
</cp:coreProperties>
</file>