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9A4-194E-44B1-B123-10EE7B79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3F9-52DF-45E8-90B9-F65E2F8F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44EA-AADF-4228-A617-B0CA594E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AF1-69DC-4D94-8565-881492FC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FEC3-23B6-408F-9497-7A515BEC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0EBE-45BB-4185-A190-E0D46C79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EFAB-8B9C-443E-889A-79712C7B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E390-3F41-4584-AE12-05DBA31C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F110-2F1E-4B71-B92F-CB539259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2053-9D75-4EE5-8E2A-1B9A9728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B261-0F1A-48AA-8FA9-22D759B1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00B-08FD-4A6E-930D-3E08A89B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F1F9-100B-457C-AF66-E879584A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6FA0-0C7E-42C4-83D8-F6C1E6F1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4BA6-73CF-4FCF-965B-FE95DAC3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4D98-3658-4BBF-BF80-71841E49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5328-FB89-49AA-A321-17B6A316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C02-68BF-4061-9290-0AC1E5C4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386-45C8-4BF4-B3D8-D937E4D4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8EC6-6165-4F30-8691-ABD0FD16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4F66-99E0-4646-8E19-D7736FA0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6A23-A398-4E32-B9CF-0AB339D8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708C-BE6B-4E15-AEB3-F83AEFD6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3B4-4621-4622-B8DC-C0D437A8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509D-CAFD-4BB9-A1A4-81083EA943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-9360" y="5489640"/>
            <a:ext cx="8569080" cy="1368360"/>
          </a:xfrm>
          <a:prstGeom prst="rect">
            <a:avLst/>
          </a:prstGeom>
          <a:gradFill rotWithShape="0">
            <a:gsLst>
              <a:gs pos="0">
                <a:srgbClr val="e7dbc5">
                  <a:alpha val="60000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443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7FEC-FAC2-45C8-8972-1436241ECD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ovezimaso.cz/?page=vyuziti-masa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284280"/>
            <a:ext cx="77724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MASNÁ UŽITKOV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26_Chov_sko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 Ing. Miroslav H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839F-5D36-47EA-A7C1-561CB8427A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280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rání 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so se co nejrychleji zchladí na teplotu +5°C a pak se nechává zrát v chladícím boxu při teplotě +1 až +4°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timální doba zrání je 12 – 14 dn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důležité !!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vysoká čistota, hygiena a předepsaná teplota (aby nedošlo k mikrobiálnímu napadení masa – cizí, nepříjemná příchuť, na povrchu zelená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ladé zvíř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rá, vyřazená k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68360" y="274680"/>
            <a:ext cx="6624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r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Maso mladého zvířete"/>
          <p:cNvPicPr/>
          <p:nvPr/>
        </p:nvPicPr>
        <p:blipFill>
          <a:blip r:embed="rId1"/>
          <a:stretch/>
        </p:blipFill>
        <p:spPr>
          <a:xfrm>
            <a:off x="684360" y="3713040"/>
            <a:ext cx="2547720" cy="2802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aso ze staré, vyřazené krávy"/>
          <p:cNvPicPr/>
          <p:nvPr/>
        </p:nvPicPr>
        <p:blipFill>
          <a:blip r:embed="rId2"/>
          <a:stretch/>
        </p:blipFill>
        <p:spPr>
          <a:xfrm>
            <a:off x="4932360" y="3735360"/>
            <a:ext cx="2506680" cy="27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3AF2-7C4E-459C-B35E-44518002CF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ožnosti kuchyňsk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ravy hově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ho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DHM"/>
          <p:cNvPicPr/>
          <p:nvPr/>
        </p:nvPicPr>
        <p:blipFill>
          <a:blip r:embed="rId1"/>
          <a:stretch/>
        </p:blipFill>
        <p:spPr>
          <a:xfrm>
            <a:off x="468360" y="1460520"/>
            <a:ext cx="8207280" cy="53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47C5-9A59-4911-BCE3-40BE997900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MIŠKOVSKÝ, DOC. ING. CSC.,Zdeněk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Chov zvířat 2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Vydání první. Praha: CREDIT – vydavatelství a agentura, 1995. 249 s. ISBN 80-901645-4-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SAMBRAUS, Hans Hinrich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Atlas plemen hospodářských zvířat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Vydání první. Praha: Nakladatelství Brázda, s. r. o.,, 2006. 296 s. ISBN 80-209-0344-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ydání druhé. Praha : Institut výchovy a vzdělávání Ministerstva zemědělství České republiky, 1995. 236 s. ISBN 80-7105-092-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ydání druhé. Praha : Institut výchovy a vzdělávání Ministerstva zemědělství České republiky, 19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96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s. ISBN 8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7105-019-9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URDA, František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Zemědělsk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 výro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2 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živočišné výrobky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Vydání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vn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Praha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átní zemědělské nakladatelstv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, 1995. 23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s. ISB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07-000-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b6def"/>
                </a:solidFill>
                <a:uFillTx/>
                <a:latin typeface="Arial"/>
                <a:hlinkClick r:id="rId1"/>
              </a:rPr>
              <a:t>http://www.hovezimaso.cz/?page=vyuziti-mas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užité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1371600"/>
          <a:ext cx="8229600" cy="51944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ná užitkov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26_Chov_sko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11. 2013 KF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ná užitkovost skotu, masný užitkový typ, činitelé ovlivňující masnou užitkovost, porážka, zrání masa, možnosti kuchyňské úpravy hovězího m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551664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hov skotu - </a:t>
            </a:r>
            <a:r>
              <a:rPr b="1" lang="cs-CZ" sz="3200" spc="-1" strike="noStrike">
                <a:solidFill>
                  <a:srgbClr val="000000"/>
                </a:solidFill>
                <a:latin typeface="Arial Unicode MS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sná</a:t>
            </a:r>
            <a:r>
              <a:rPr b="1" lang="cs-CZ" sz="3200" spc="-1" strike="noStrike">
                <a:solidFill>
                  <a:srgbClr val="000000"/>
                </a:solidFill>
                <a:latin typeface="Arial Unicode MS"/>
              </a:rPr>
              <a:t> užitkovost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284720" y="6165720"/>
            <a:ext cx="424008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ng. Miroslav H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6E96-F6A8-43B4-92F7-0C761A5947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26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sn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užitkovost sk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třeba hovězího masa stagnuje či mírně klesá. To souvisí s vývojem stavů skotu v ČR a cenovými relacemi hovězího masa vzhledem k masu vepřovému a drůbežím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měny intenzity růstu sko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868824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A938-D503-4528-9145-5A7D004844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sný užitkový ty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ávy se nedojí (telata se od krav odstavují ve věku 7-9 měsíců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erspektivně  se směřuje ke zvětšování tělesného rámce, zvyšování hmotnosti, zlepšování výkrmnosti při minimální tvorbě podkožního tuk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álcovitý hrudník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kce mléka 2500 –3000 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26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sn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užitkovost sk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825720" y="2781360"/>
            <a:ext cx="5318280" cy="36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1CBF-8357-471F-999C-1395AA6576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560" y="155700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initelé ovlivňující masnou užitkovost sko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enetik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ná  příslušno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timální porážková hmotno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ěk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tečná zralost (věk+živá hmotnost, senzorické vlastnosti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nzita růs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otřeba živin na 1 kg přírůstk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živa + krme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ustáje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avotní sta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rážka, ošetření masa po poráž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26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sn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užitkovost sk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F76D-DF8D-4724-BA4E-749FB0032B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krm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chopnost zvířete využít přijaté živiny na zvyšování své živé hmotnos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dána rychlostí růstu a spotřebou živin na 1 kg přírůstk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praxi se dělají výpočty průměrného denního přírůstku (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 – hmotnost při posledním váž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– hmotnost při předchozím váž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 – počet krmných dn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tečná výtěž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ukazatelem jatečné hodnoty zvíř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94920" y="260280"/>
            <a:ext cx="6553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as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užitkovost sk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690920" cy="1055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730080" y="5084640"/>
            <a:ext cx="7250400" cy="9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5962-0C57-4BB4-A3AD-F563306B6B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tečná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hrnuje všechny kvantitativní a kvalitativní znaky a vlastnosti jatečně upraveného těla včetně nutriční hodnoty m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hrnuj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tečnou výtěžno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stoupení jednotlivých tkání v jatečně upraveném těl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motnost a podíl jednotlivých partií masa v jatečných půlkách nebo čtvrtí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ložení tuku a kvalitativní ukazatele nutriční hodnoty mas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hybuje se kolem 55 - 60 %, u některých masných plemen až 68 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26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sn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užitkovost sk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Zástupný symbol pro datum 4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zápatí 5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6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70B4-815F-42C2-807B-D1F4540DD2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986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r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ž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35344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áž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nimalizovat podmínky stresu, úzkosti a bolesti zvířat (zhoršují kvalitu  masa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mračování – rychlé, účinné, bezbolestné (zbavit zvíře citlivosti a vědomí – pro vykrvovací řez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krvení – navazovat bezprostředně na omráčení (max. 10 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racování až po klinické smrti zvířete (omezit možnost sekundární kontaminace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 vykrvení ne déle než 45 min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so a orgány – do 4 hodin po vytěžení ke zpracování  v teplém stavu (jinak účinně vychladit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šetření masa po porážce, zajištění zrání a skladování, distribu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Huk</cp:lastModifiedBy>
  <cp:lastPrinted>2013-11-25T06:53:12Z</cp:lastPrinted>
  <dcterms:modified xsi:type="dcterms:W3CDTF">2014-01-31T11:07:41Z</dcterms:modified>
  <cp:revision>36</cp:revision>
  <dc:subject/>
  <dc:title>Cow PowerPoint Presentation</dc:title>
</cp:coreProperties>
</file>