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80E-12B6-4BE0-8B87-C8C45664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D20-F5DB-4A03-83D9-F1794AB2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85C3-BDAA-4B2E-B100-2FEC7F0A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F9A-41F0-43EC-A605-2D98B205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3F41-1EFA-4C93-A0C0-6D3E7327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7818-D344-4285-9067-291D5AC6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385F-328F-488E-870B-786B254C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4286-CEA1-4478-A2CE-C9F03DCA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69CF-6260-4D19-A9B3-69DE96F5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60F3-BE62-474C-9676-3B1B8781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BFF3-6FD1-408D-BE39-4574BE6E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5F2D-77B7-4EB5-9B95-2CB42435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0275-02C4-4A6B-8865-EAD2EA5E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C044-7379-4031-BAD9-8195C562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E258-DCAF-477F-8AC8-BA63ABAC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A00F-7EF5-4355-8D42-3F3015BA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B42B-89AA-46AC-89A9-E349F676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031-02CC-46C3-BD17-6797EB35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F8E-725E-43C2-A9D0-68DF2B9D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04C-CD71-43CB-B685-3D11C772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C9D-9253-4953-83B5-5D34C6DC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F69-50A8-4C97-8E6D-629933AC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2DF-1423-42F4-B3CF-2D397A17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7A7-7C40-4919-ADC8-C567B7F9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00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E428-4EC8-4AF2-8D78-1DE5FB2ACC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300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95E2-F9DE-4A28-9B05-87F8DBB6AE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alers.cz/popis-plemene/" TargetMode="External"/><Relationship Id="rId2" Type="http://schemas.openxmlformats.org/officeDocument/2006/relationships/hyperlink" Target="http://www.salers.cz/popis-plemene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1417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PLEMENA SKOT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27_Chov_sk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DF35-11FD-433B-904F-F735B666A4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léčná pl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2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erseyské ple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barvení kolís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chází ze ostrova Jersey ležícím v kanál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 Man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lý tělesný rámec – výška v kohout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15-125 cm, bezrohá zvířata ( od přír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hatá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žitkovost za normovanou laktaci ko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5-6 tisíc kg mlé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žení mlé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5,8 % tuk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,0 % bílkov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ČR od 90. let minulého století v malý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ád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P5250024"/>
          <p:cNvPicPr/>
          <p:nvPr/>
        </p:nvPicPr>
        <p:blipFill>
          <a:blip r:embed="rId1"/>
          <a:stretch/>
        </p:blipFill>
        <p:spPr>
          <a:xfrm>
            <a:off x="5435640" y="1413000"/>
            <a:ext cx="3708360" cy="2778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692011 Jersey Heifer Champ.JPG"/>
          <p:cNvPicPr/>
          <p:nvPr/>
        </p:nvPicPr>
        <p:blipFill>
          <a:blip r:embed="rId2"/>
          <a:stretch/>
        </p:blipFill>
        <p:spPr>
          <a:xfrm>
            <a:off x="5435640" y="4194000"/>
            <a:ext cx="3708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F871-5B9F-45CB-B953-B89A6BDDEC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léčná pl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emeno Brown-Sw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barvení šedohnědé, konce rohů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znehty čer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chází ze Švýcarska, přešlechtě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U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í až větší tělesný rámec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ška v kohoutku 135-140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žitkovost za normovanou laktaci ko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6-7 tisíc kg mlé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žení mlé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,1 % tuk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,5 % bílkov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ností tohoto plemene je nenáročnost, dobrý zdravotní stav zvířat, pevná konstituce spolu s velmi dobrými končetinami a dlouhověkost (více jak 14 laktac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Baxter%20Dam"/>
          <p:cNvPicPr/>
          <p:nvPr/>
        </p:nvPicPr>
        <p:blipFill>
          <a:blip r:embed="rId1"/>
          <a:stretch/>
        </p:blipFill>
        <p:spPr>
          <a:xfrm>
            <a:off x="4848120" y="1844640"/>
            <a:ext cx="4284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E3C1-F9FA-49EF-B529-AAA942724A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pl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arolaiské ple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ecializované masné plem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ílé až krémové zbarvení, bezroh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ký tělesný rámec, kohoutková výš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35-140 cm u krav, u býků 142-150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ost býků 1100-1300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ízký sklon k tučnění, dobrá kvali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sa, vysoká jatečná výtěžnost (62 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měrný denní přírůstek 1450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hodné do podhorských a horský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lastí, od jara do podzimu pastevn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ch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ČR od 90. let minulého stolet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vozem z Maďarska, Franci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a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současnosti nejrozšířenější mas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o v Č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Charolais"/>
          <p:cNvPicPr/>
          <p:nvPr/>
        </p:nvPicPr>
        <p:blipFill>
          <a:blip r:embed="rId1"/>
          <a:stretch/>
        </p:blipFill>
        <p:spPr>
          <a:xfrm>
            <a:off x="4788000" y="1484280"/>
            <a:ext cx="4356000" cy="2414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Charolais"/>
          <p:cNvPicPr/>
          <p:nvPr/>
        </p:nvPicPr>
        <p:blipFill>
          <a:blip r:embed="rId2"/>
          <a:stretch/>
        </p:blipFill>
        <p:spPr>
          <a:xfrm>
            <a:off x="4784760" y="3898800"/>
            <a:ext cx="43560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28E3-55E5-43C4-B021-DFFF1EB63A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pl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411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ousinské ple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ecializované masné plem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ervenohnědé zbarvení s prosvětlení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lem očí, rohy a paznehty světl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í tělesný rámec, kohoutková výš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32-138 cm u krav, u býků 140-148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ost býků 1100-1200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ízký sklon k tučnění, dobrá kvali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sa, vysoká jatečná výtěžn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měrný denní přírůstek 1300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hodné do podhorských a horský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lastí, od jara do podzimu pastevn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ch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ČR od 90. let minulého stolet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vozem z Maďarska, Franci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a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čet zvířat v ČR se zvyšu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limousin2"/>
          <p:cNvPicPr/>
          <p:nvPr/>
        </p:nvPicPr>
        <p:blipFill>
          <a:blip r:embed="rId1"/>
          <a:stretch/>
        </p:blipFill>
        <p:spPr>
          <a:xfrm>
            <a:off x="5148360" y="1484280"/>
            <a:ext cx="3995640" cy="2398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Limousin%20Bulls%20Wallpaper__yvt2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4922-15E3-419B-91B6-1C4F88884A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pl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avé akvitánské ple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ecializované masné plem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rst světlá (pšeničná barva) s prosvětlení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lem oč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ký tělesný rámec, kohoutková výš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40-145 cm u krav, u býků 150-160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ost býků 1100-1300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ízký sklon k tučnění, dobrá kvali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sa, vysoká jatečná výtěžnost (63 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měrný denní přírůstek 1400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hodné do podhorských a horský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lastí, od jara do podzimu pastevn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chov, nenáročné, dlouhověk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ČR od 90. let minulého stolet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vozem z Franc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PolledBlonde_26"/>
          <p:cNvPicPr/>
          <p:nvPr/>
        </p:nvPicPr>
        <p:blipFill>
          <a:blip r:embed="rId1"/>
          <a:stretch/>
        </p:blipFill>
        <p:spPr>
          <a:xfrm>
            <a:off x="5148360" y="4186080"/>
            <a:ext cx="3995640" cy="2671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seba%20f2_750x563"/>
          <p:cNvPicPr/>
          <p:nvPr/>
        </p:nvPicPr>
        <p:blipFill>
          <a:blip r:embed="rId2"/>
          <a:stretch/>
        </p:blipFill>
        <p:spPr>
          <a:xfrm>
            <a:off x="5148360" y="1413000"/>
            <a:ext cx="39956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EDC7-65D9-495F-965A-5608DB164D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pl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erefordské ple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rozšířenější masné plemeno v Č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zbarvení červené, bílé jsou hlav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dní část krku, hruď, spodní část břich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dní část nohou a úzký pruh na horní hra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haté plemeno, rohy klenuté a směřují  dol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í tělesný rámec, kohoutková výš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30-138 cm u krav, u býků 140-148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ost býků 850-1050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ízký sklon k tučnění, dobrá kvali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sa, vysoká jatečná výtěžn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měrný denní přírůstek 1300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hodné do podhorských a horský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lastí, od jara do podzimu pastevn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chov, nenáročné, dlouhověk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ČR od 70. let minulého století dovozem 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a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 Hereford pictures"/>
          <p:cNvPicPr/>
          <p:nvPr/>
        </p:nvPicPr>
        <p:blipFill>
          <a:blip r:embed="rId1"/>
          <a:stretch/>
        </p:blipFill>
        <p:spPr>
          <a:xfrm>
            <a:off x="5292720" y="1413000"/>
            <a:ext cx="3851280" cy="3081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KB_L1_Domino_632"/>
          <p:cNvPicPr/>
          <p:nvPr/>
        </p:nvPicPr>
        <p:blipFill>
          <a:blip r:embed="rId2"/>
          <a:stretch/>
        </p:blipFill>
        <p:spPr>
          <a:xfrm>
            <a:off x="5292720" y="4005360"/>
            <a:ext cx="385128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70ED-3E1D-48FF-AB52-74476867B8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pl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berdeen an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chází ze Skots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barvení celé černé, bezrohé plem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lý až střední tělesný rámec, kohoutkov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ška 130-136 cm u krav, u býk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40-146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ost býků 900-1050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šší sklon k tučnění, dobrá kvali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sa, vysoká jatečná výtěžn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měrný denní přírůstek 1400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hodné do podhorských a horský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lastí, od jara do podzimu pastevn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chov, nenáročné, odol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ČR od 90. let minulého století, druh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početnější chované plem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JustRight"/>
          <p:cNvPicPr/>
          <p:nvPr/>
        </p:nvPicPr>
        <p:blipFill>
          <a:blip r:embed="rId1"/>
          <a:stretch/>
        </p:blipFill>
        <p:spPr>
          <a:xfrm>
            <a:off x="5398920" y="3716280"/>
            <a:ext cx="3745080" cy="2819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176a"/>
          <p:cNvPicPr/>
          <p:nvPr/>
        </p:nvPicPr>
        <p:blipFill>
          <a:blip r:embed="rId2"/>
          <a:stretch/>
        </p:blipFill>
        <p:spPr>
          <a:xfrm>
            <a:off x="5398920" y="1341360"/>
            <a:ext cx="3745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0DC8-892C-4D0D-AD7A-05F5D1058C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pl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281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allo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chází ze Skots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barvení černé, dlouhá srst, bezroh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lý tělesný rámec, kohoutková výš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22 cm u krav, u býků 128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ost býků 800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brá kvalita masa, vysoká jatečn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těžn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měrný denní přírůstek 1400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hodné do podhorských a horský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lastí k celoročnímu extenzivní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stevnímu odchovu, nenáročné, odol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ČR od 90. let minulého stole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11mature-galloway-bull"/>
          <p:cNvPicPr/>
          <p:nvPr/>
        </p:nvPicPr>
        <p:blipFill>
          <a:blip r:embed="rId1"/>
          <a:stretch/>
        </p:blipFill>
        <p:spPr>
          <a:xfrm>
            <a:off x="5148360" y="1413000"/>
            <a:ext cx="3995640" cy="2369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300px-Galloway"/>
          <p:cNvPicPr/>
          <p:nvPr/>
        </p:nvPicPr>
        <p:blipFill>
          <a:blip r:embed="rId2"/>
          <a:stretch/>
        </p:blipFill>
        <p:spPr>
          <a:xfrm>
            <a:off x="5148360" y="3716280"/>
            <a:ext cx="3995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DBFC-6EBC-41B0-9984-BD90866097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pl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elgické mod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chází ze Belg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barvení strakatě modrobílé, bezroh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í až velký tělesný ráme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ěžký skot, kohoutková výš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35-140 cm u krav, u býků 145-150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ost býků 1000-1200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brá kvalita masa, vysoká jatečn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těžnost (65 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měrný denní přírůstek 1300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krav těžké porody, hlavně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votelek, časté císařské řez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ČR v menším rozsa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b01"/>
          <p:cNvPicPr/>
          <p:nvPr/>
        </p:nvPicPr>
        <p:blipFill>
          <a:blip r:embed="rId1"/>
          <a:stretch/>
        </p:blipFill>
        <p:spPr>
          <a:xfrm>
            <a:off x="4716360" y="1989000"/>
            <a:ext cx="4427640" cy="33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B9C1-FB54-4646-BD83-5480F7814D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pl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iemontské ple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chází z Itál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barvení světle šedé, býci jsou tmavš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hat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í tělesný rámec, kohoutková výš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30 cm u krav, u býků 140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ost býků 800-1000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brá kvalita masa, s nízkým podílem tuku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oká jatečná výtěžnost (68 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měrný denní přírůstek 1200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krav těžké porody, hlavně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votelek, časté císařské řez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ČR od 90. let minulého stole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niloweb"/>
          <p:cNvPicPr/>
          <p:nvPr/>
        </p:nvPicPr>
        <p:blipFill>
          <a:blip r:embed="rId1"/>
          <a:stretch/>
        </p:blipFill>
        <p:spPr>
          <a:xfrm>
            <a:off x="5148360" y="1413000"/>
            <a:ext cx="3995640" cy="2792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p02"/>
          <p:cNvPicPr/>
          <p:nvPr/>
        </p:nvPicPr>
        <p:blipFill>
          <a:blip r:embed="rId2"/>
          <a:stretch/>
        </p:blipFill>
        <p:spPr>
          <a:xfrm>
            <a:off x="5148360" y="4076640"/>
            <a:ext cx="399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371600"/>
          <a:ext cx="8229600" cy="49482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51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51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mena 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27_Chov_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11. 2013 KF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menný standart, plemenný typ, užitkový typ, mléčná plemena, masná plemena, plemena s kombinovanou užitkovost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351A-D44C-43A8-842C-976A0E6068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pl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sný s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chází ze Belg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barvení červenostrakaté, hlava a spodn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ást končetin bílé, rohaté i bezroh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ký tělesný rámec, silné končetin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razné osvalení. Kohoutková výš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38-142 cm u krav, u býků 148-156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ost býků 1100-1300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brá kvalita masa, málo tuku, vysok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tečná výtěžnost (62 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měrný denní přírůstek 1450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ČR od roku 1993, stále se rozšiřu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home_thumb"/>
          <p:cNvPicPr/>
          <p:nvPr/>
        </p:nvPicPr>
        <p:blipFill>
          <a:blip r:embed="rId1"/>
          <a:stretch/>
        </p:blipFill>
        <p:spPr>
          <a:xfrm>
            <a:off x="4716360" y="2637000"/>
            <a:ext cx="442764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1F1A-E9D9-458C-92E4-4618B8C488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pl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o velkého tělesného rámce, pochází z jižní Francie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houtková výška krav je okolo 140 cm, býci mívají nad 150 c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ost krav se pohybuje mezi 650-850 kg, u býků až 1200 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arakteristické je masivní osvalen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minantní zbarvení je červené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rst je hustá a kudrnatá, rohaté pleme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znehty nejsou náročné na údržb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měrný denní přírůstek se pohybuj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zi 1000 a 1300 g (jatečná výtěžnost as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60 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iroká pánev krav zaručuje bezproblémové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r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žití ke křížení s jinými masnými plem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Česku patří k méně chovaný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nenáročné na pastvu a snáší tužší zimy, vhodné pro pastevní chov v horských oblastech. V zimě se doporučuje příkrm senem, v létě nutný dostatek vody a st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http://upload.wikimedia.org/wikipedia/commons/thumb/3/32/SalersBreed_Cow_5.JPG/280px-SalersBreed_Cow_5.JPG"/>
          <p:cNvPicPr/>
          <p:nvPr/>
        </p:nvPicPr>
        <p:blipFill>
          <a:blip r:embed="rId1"/>
          <a:stretch/>
        </p:blipFill>
        <p:spPr>
          <a:xfrm>
            <a:off x="5251320" y="2849400"/>
            <a:ext cx="38862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72D0-BF5D-4F41-91F6-419D078E26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pl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kotský náhorní sk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chází ze Skot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lý tělesný rámec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houtková výška u krav 115-120 cm, u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ýků 125-130 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spělé krávy hmotnost 420-520 kg, bý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650-750 kg.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zbarvení je hnědočerve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ělo je pokryto dlouhou, hustou srst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ava je malá, široká s dlouhými rohy, k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átký a silný, končetiny krátké, pevné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irokými paznehty. Plec, zadní kýta a hřbet musí být dobře osvalené, pánev je širok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měrný denní přírůstek okolo 1 kg (v zimě vlivem 0,2-0,4 kg), ne do intenzivního výkrm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orná kvalita masa s nízkým obsahem tuku a cholestero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dní plemeno (první otelení až kolem 4. roku), Dlouhověké plemeno (mohou se dožívat až 18 let).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žívá ke křížení s masnými a kombinovanými plem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http://sites.zf.jcu.cz/projekty/atlasHZ/images/skot/skotskyredbyk.jpg"/>
          <p:cNvPicPr/>
          <p:nvPr/>
        </p:nvPicPr>
        <p:blipFill>
          <a:blip r:embed="rId1"/>
          <a:stretch/>
        </p:blipFill>
        <p:spPr>
          <a:xfrm>
            <a:off x="5003640" y="1438200"/>
            <a:ext cx="4140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EA3E-CDED-47E8-A02E-42C6CDA0A1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pl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askoňské ple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rancouzské plemeno, šedě zbarve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žitelné i v horších podmínká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ov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ylo využíváno k tahu – výborn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odivost a tvrdé pazneh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užití v užitkovém kříž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měrné denní přírůstky ve výkrm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,3 kg/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ýci se vykrmují do hmotnosti ko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600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Gasconne"/>
          <p:cNvPicPr/>
          <p:nvPr/>
        </p:nvPicPr>
        <p:blipFill>
          <a:blip r:embed="rId1"/>
          <a:stretch/>
        </p:blipFill>
        <p:spPr>
          <a:xfrm>
            <a:off x="4572000" y="2205000"/>
            <a:ext cx="45720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EE4F-4063-4B97-B224-78443BA71D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6626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lemena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s kombinovanou užitkov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eské strakaté ple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ervenohnědé strakaté zbarvení, hlava j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minantně bílá. Také spodní část končet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bílá. Rohaté plem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o s dvoustrannou užitkovostí 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ěru mléko : maso asi 60 :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ě velký tělesný rámec, u krav j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houtková výška 138-144 cm, u býk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50-158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žitkovost za normovanou laktaci ko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5-6 tisíc kg mlé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žení mlé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,2 % tu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,5 % bílkov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ost býků 1100-1200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měrný denní přírůste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400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tečná výtěžnost 58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ČR od 2. poloviny 19. století, vlastn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itb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cesky_strakaty_krava"/>
          <p:cNvPicPr/>
          <p:nvPr/>
        </p:nvPicPr>
        <p:blipFill>
          <a:blip r:embed="rId1"/>
          <a:stretch/>
        </p:blipFill>
        <p:spPr>
          <a:xfrm>
            <a:off x="5219640" y="1413000"/>
            <a:ext cx="3924360" cy="2608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esky_strakaty_byk"/>
          <p:cNvPicPr/>
          <p:nvPr/>
        </p:nvPicPr>
        <p:blipFill>
          <a:blip r:embed="rId2"/>
          <a:stretch/>
        </p:blipFill>
        <p:spPr>
          <a:xfrm>
            <a:off x="5219640" y="4005360"/>
            <a:ext cx="39243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8AFE-02CF-487C-AA3F-BF32460AD5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lemena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s kombinovanou užitkov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ntbeliardské ple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erveno strakaté zbarvení s větší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stoupením bílé barvy, hlava je bíl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aké spodní část končetin je bílá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ávy jsou většinou odrohová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o s dvoustrannou užitkovostí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vládá užitkovost mléč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ě velký tělesný rámec, u krav j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houtková výška 140-144 cm, u býk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52-158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žitkovost za normovanou laktac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lem 6-7 tisíc kg mlé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žení mlé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,9 % tu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,4 % bílkov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ost býků 1000-1200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ČR od r. 1994, vlastní čistokrevná plemenitb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montbeliard_cow"/>
          <p:cNvPicPr/>
          <p:nvPr/>
        </p:nvPicPr>
        <p:blipFill>
          <a:blip r:embed="rId1"/>
          <a:stretch/>
        </p:blipFill>
        <p:spPr>
          <a:xfrm>
            <a:off x="4643280" y="2349360"/>
            <a:ext cx="4500720" cy="29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3376-E9C8-44B6-A18A-81873460EA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IŠKOVSKÝ, DOC. ING. CSC.,Zdeněk. Chov zvířat 2. Vydání první. Praha: CREDIT – vydavatelství a agentura, 1995. 249 s. ISBN 80-901645-4-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AMBRAUS, Hans Hinrich. Atlas plemen hospodářských zvířat. Vydání první. Praha: Nakladatelství Brázda, s. r. o.,, 2006. 296 s. ISBN 80-209-0344-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Plemena hospodářských zvířat v ČR: Plemena skotu [online]. [cit. 2012-03-05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       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Dostupné z: http://www.eamos.cz/amos/koz/modules/low/20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http://www.salers.cz/popis-plemene</a:t>
            </a:r>
            <a:r>
              <a:rPr b="0" lang="cs-CZ" sz="1200" spc="-1" strike="noStrike" u="sng">
                <a:solidFill>
                  <a:srgbClr val="0b6def"/>
                </a:solidFill>
                <a:uFillTx/>
                <a:latin typeface="Arial"/>
                <a:hlinkClick r:id="rId2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5516640"/>
            <a:ext cx="777564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ov skotu - </a:t>
            </a:r>
            <a:r>
              <a:rPr b="1" lang="cs-CZ" sz="3200" spc="-1" strike="noStrike">
                <a:solidFill>
                  <a:srgbClr val="000000"/>
                </a:solidFill>
                <a:latin typeface="Arial Unicode MS"/>
              </a:rPr>
              <a:t>Plemena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24000" y="616572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DD25-260E-4615-8550-4EA2AC5C87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97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Chovný cíl, plemenný standard, plemenný ty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353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ovný cí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tyčuje požadavky na hospodářsky významné vlastnosti plem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raz ideálního zvířete, ke kterému chceme dospět plemenářskou prac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emenný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uhrn požadavků chovného cíle, obsahuje konkrétní požadavky na mléčnou a masnou užitkovost, na plodnost, na tělesný rámec, stavbu těla, tělesné rozměry, živou hmotnost a zbarvení zvíř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stupný krok k dosažení chovného cí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emenný ty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uhrn znaků a vlastností charakterizujících příslušnost zvířete k danému pleme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D1DD-E1F9-4004-8C84-156F58AD0F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6626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Užitkový ty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97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žitkový ty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je dán dědičně podmíněným produkčním smě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projevuje se morfologickým vývinem a funkčností jednotlivých tkání a orgánů v závislosti na převažujícím užitkovém smě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směru užitkovosti rozdělujeme plemena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a mléčn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rseyský sko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yrshirský sko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lštýnský skot a dalš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a masn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arolaiský sko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erefordský sko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imousinský skot a dalš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a s kombinovanou užitkov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eský strakatý sk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E9AC-1E3B-47DC-BB78-C868F41021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6842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léčný užitkový ty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lbertus Medium"/>
              </a:rPr>
              <a:t>Mléčný užitkový ty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rýsují se obrysy kostí a kloubů, slabě vyvinuté svalstvo, minimální vrstva podkožního tuku, tenká a elastická kůž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šlechtění je zaměřeno na střední až velký tělesný rámec, ž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vá 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h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tnost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 dojnic 600-700 k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u mléčných plemen je zřetelný pohlavní dimorfism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lichoběžníkový hrudní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3492360" y="3255840"/>
            <a:ext cx="54007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240B-7393-4F0C-8648-79163D0CC8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6626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asný užitkový ty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lbertus Medium"/>
              </a:rPr>
              <a:t>Masný užitkový ty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krávy se nedojí (telata se od krav odstavují ve věku 7-9 měsíců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směřuje ke zvětšování tělesného rámce, zvyšování hmotnosti, zlepšování výkrmnosti při minimální tvorbě podkožního tuk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válcovitý hrudní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produkce mléka 2500 –3000 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3924360" y="3378240"/>
            <a:ext cx="521964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C64B-A34A-4B6A-A130-92FC02A388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léčná pl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lštýnský sk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ernobíle strakatý sk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prošlechtěnější plemeno na mléčn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žitkov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ký tělesný rámec, u krav j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žadována kohoutková výška 143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meno má širokou a dlouhou základnu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adu vysoko upnut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žitkovost za normovanou laktaci ko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7-8 tisíc kg mlé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žení mlé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,1 % tuk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,3 % bílkov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hodné do nížinných obla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ČR od 60. let minulého století dovozem z Dáns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 1990 v ČR vlastní plemenitb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holstyn"/>
          <p:cNvPicPr/>
          <p:nvPr/>
        </p:nvPicPr>
        <p:blipFill>
          <a:blip r:embed="rId1"/>
          <a:stretch/>
        </p:blipFill>
        <p:spPr>
          <a:xfrm>
            <a:off x="4859280" y="2133720"/>
            <a:ext cx="4284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300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C9B6-7F6A-443F-B8F7-5EF0952A48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léčná pl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50920" y="2276640"/>
            <a:ext cx="82296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8" descr="http://www.eamos.cz/amos/koz/img_upload/koz_0885/kravy/ayr_cow02.jpg"/>
          <p:cNvPicPr/>
          <p:nvPr/>
        </p:nvPicPr>
        <p:blipFill>
          <a:blip r:embed="rId1"/>
          <a:stretch/>
        </p:blipFill>
        <p:spPr>
          <a:xfrm>
            <a:off x="5219640" y="1413000"/>
            <a:ext cx="3924360" cy="2703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yrshirské ple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nědo až červenobíle strakaté zbarv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chází ze Skots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í tělesný rámec – výška v kohout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26-134 cm, u krav typický lyrovitý tvar roh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rudník hluboký, vemeno velké polovejčit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zká a slabá zá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žitkovost za normovanou laktaci ko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6-7 tisíc kg mlé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žení mlé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,2 % tuk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,4 % bílkov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ČR od 60. let minulého století dovozem 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ins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užití k zušlechťovacímu křížení české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rakatého sk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ayrshire"/>
          <p:cNvPicPr/>
          <p:nvPr/>
        </p:nvPicPr>
        <p:blipFill>
          <a:blip r:embed="rId2"/>
          <a:stretch/>
        </p:blipFill>
        <p:spPr>
          <a:xfrm>
            <a:off x="5219640" y="4076640"/>
            <a:ext cx="39243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dcterms:modified xsi:type="dcterms:W3CDTF">2014-01-25T07:41:53Z</dcterms:modified>
  <cp:revision>45</cp:revision>
  <dc:subject/>
  <dc:title>Cow PowerPoint Presentation</dc:title>
</cp:coreProperties>
</file>