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A79D5-7EF3-494F-B770-DFACB8666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45B4D-0372-4AFA-8AD0-732DF64F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13631-E0B5-4528-8FF6-A4B514D07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6E1B9-5286-4356-8349-5173A1CA5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F1013-FED0-4E7E-8FE0-F7E6758F9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F4C2D-FE98-4562-9354-EBEE1C573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DB1E6-733E-4BC0-B30B-DDBD0B2D5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17D4F-3D96-425E-9BF1-FAFBE84C3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B317C-CCED-480F-859C-73ABE29A2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D3E47-0AE6-45D9-943E-A2667E96D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C2D16-78F9-4AF6-9875-93172E08D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E5FC5-5D84-48C8-94DA-C46B7B61B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51E9-4B0F-4F3E-9934-4B2932DA3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8B582-9E79-4F9C-A698-0E0101EA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EDE93-198A-4665-9170-EACD7F192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8D97A-18A8-468D-B3F1-36F2B30DE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A72BE-203E-4C3D-8B86-B37441F1A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BE596-670C-4216-BF57-04C85F0E0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4092-B2F5-4112-90FE-09CA0A54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78B1-5808-43BA-87EC-67FD2F2B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1107C-4F72-441D-8504-A9F908B0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A83F-D87C-4193-A262-3B7321D0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D9AB-6F86-4B66-B352-A6DEE449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BCD5-2990-4AF0-B841-82612489B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7236000" cy="1440000"/>
          </a:xfrm>
          <a:prstGeom prst="rect">
            <a:avLst/>
          </a:prstGeom>
          <a:gradFill rotWithShape="0">
            <a:gsLst>
              <a:gs pos="0">
                <a:srgbClr val="e7dbc5">
                  <a:alpha val="85098"/>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250920" y="6308640"/>
            <a:ext cx="21333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z Loštice</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58920" y="6308640"/>
            <a:ext cx="289548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g. Miroslav Huk</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87640" y="630864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C945-47A4-4A5B-B5FC-57EAC99C84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10" descr=""/>
          <p:cNvPicPr/>
          <p:nvPr/>
        </p:nvPicPr>
        <p:blipFill>
          <a:blip r:embed="rId2"/>
          <a:stretch/>
        </p:blipFill>
        <p:spPr>
          <a:xfrm>
            <a:off x="6954840" y="0"/>
            <a:ext cx="2189160" cy="14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0"/>
            <a:ext cx="7236000" cy="1440000"/>
          </a:xfrm>
          <a:prstGeom prst="rect">
            <a:avLst/>
          </a:prstGeom>
          <a:gradFill rotWithShape="0">
            <a:gsLst>
              <a:gs pos="0">
                <a:srgbClr val="e7dbc5">
                  <a:alpha val="85098"/>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Picture 10" descr=""/>
          <p:cNvPicPr/>
          <p:nvPr/>
        </p:nvPicPr>
        <p:blipFill>
          <a:blip r:embed="rId2"/>
          <a:stretch/>
        </p:blipFill>
        <p:spPr>
          <a:xfrm>
            <a:off x="6954840" y="0"/>
            <a:ext cx="2189160" cy="1440000"/>
          </a:xfrm>
          <a:prstGeom prst="rect">
            <a:avLst/>
          </a:prstGeom>
          <a:ln w="0">
            <a:noFill/>
          </a:ln>
        </p:spPr>
      </p:pic>
      <p:pic>
        <p:nvPicPr>
          <p:cNvPr id="45" name="Picture 10" descr=""/>
          <p:cNvPicPr/>
          <p:nvPr/>
        </p:nvPicPr>
        <p:blipFill>
          <a:blip r:embed="rId3"/>
          <a:stretch/>
        </p:blipFill>
        <p:spPr>
          <a:xfrm>
            <a:off x="0" y="0"/>
            <a:ext cx="9144000" cy="6858000"/>
          </a:xfrm>
          <a:prstGeom prst="rect">
            <a:avLst/>
          </a:prstGeom>
          <a:ln w="0">
            <a:noFill/>
          </a:ln>
        </p:spPr>
      </p:pic>
      <p:sp>
        <p:nvSpPr>
          <p:cNvPr id="46" name="Rectangle 9"/>
          <p:cNvSpPr/>
          <p:nvPr/>
        </p:nvSpPr>
        <p:spPr>
          <a:xfrm>
            <a:off x="-9360" y="5489640"/>
            <a:ext cx="8569080" cy="1368360"/>
          </a:xfrm>
          <a:prstGeom prst="rect">
            <a:avLst/>
          </a:prstGeom>
          <a:gradFill rotWithShape="0">
            <a:gsLst>
              <a:gs pos="0">
                <a:srgbClr val="e7dbc5">
                  <a:alpha val="60000"/>
                </a:srgbClr>
              </a:gs>
              <a:gs pos="100000">
                <a:srgbClr val="e7dbc5">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dt" idx="4"/>
          </p:nvPr>
        </p:nvSpPr>
        <p:spPr>
          <a:xfrm>
            <a:off x="250920" y="6492960"/>
            <a:ext cx="21333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z Loštice</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058920" y="6492960"/>
            <a:ext cx="289548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g. Miroslav Huk</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372360" y="6492960"/>
            <a:ext cx="213336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3A40-A5FA-4744-9E85-7DA1552C07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81360"/>
            <a:ext cx="7772400" cy="25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400" spc="-1" strike="noStrike">
                <a:solidFill>
                  <a:srgbClr val="000000"/>
                </a:solidFill>
                <a:latin typeface="Arial"/>
              </a:rPr>
              <a:t>OZNAČOVÁNÍ A EVIDENCE SKOTU</a:t>
            </a:r>
            <a:endParaRPr b="0" lang="en-US" sz="5400" spc="-1" strike="noStrike">
              <a:solidFill>
                <a:srgbClr val="000000"/>
              </a:solidFill>
              <a:latin typeface="Arial"/>
            </a:endParaRPr>
          </a:p>
        </p:txBody>
      </p:sp>
      <p:pic>
        <p:nvPicPr>
          <p:cNvPr id="89" name="Obrázek 3" descr=""/>
          <p:cNvPicPr/>
          <p:nvPr/>
        </p:nvPicPr>
        <p:blipFill>
          <a:blip r:embed="rId1"/>
          <a:stretch/>
        </p:blipFill>
        <p:spPr>
          <a:xfrm>
            <a:off x="1530360" y="476280"/>
            <a:ext cx="6083280" cy="1484280"/>
          </a:xfrm>
          <a:prstGeom prst="rect">
            <a:avLst/>
          </a:prstGeom>
          <a:ln w="0">
            <a:noFill/>
          </a:ln>
        </p:spPr>
      </p:pic>
      <p:sp>
        <p:nvSpPr>
          <p:cNvPr id="90" name="TextovéPole 4"/>
          <p:cNvSpPr/>
          <p:nvPr/>
        </p:nvSpPr>
        <p:spPr>
          <a:xfrm>
            <a:off x="2209680" y="2133720"/>
            <a:ext cx="496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VY_32_INOVACE_136_Chov_skotu</a:t>
            </a:r>
            <a:endParaRPr b="0" lang="en-US" sz="1800" spc="-1" strike="noStrike">
              <a:solidFill>
                <a:srgbClr val="000000"/>
              </a:solidFill>
              <a:latin typeface="Calibri"/>
            </a:endParaRPr>
          </a:p>
        </p:txBody>
      </p:sp>
      <p:sp>
        <p:nvSpPr>
          <p:cNvPr id="91" name="TextovéPole 5"/>
          <p:cNvSpPr/>
          <p:nvPr/>
        </p:nvSpPr>
        <p:spPr>
          <a:xfrm>
            <a:off x="5724360" y="55897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Autor:  Ing. Miroslav Hu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30"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31"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B468-1730-4E18-98E5-7F9731A82A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32" name="Picture 2" descr="zt2"/>
          <p:cNvPicPr/>
          <p:nvPr/>
        </p:nvPicPr>
        <p:blipFill>
          <a:blip r:embed="rId1"/>
          <a:stretch/>
        </p:blipFill>
        <p:spPr>
          <a:xfrm>
            <a:off x="324000" y="1557360"/>
            <a:ext cx="4752720" cy="2336760"/>
          </a:xfrm>
          <a:prstGeom prst="rect">
            <a:avLst/>
          </a:prstGeom>
          <a:ln w="0">
            <a:noFill/>
          </a:ln>
        </p:spPr>
      </p:pic>
      <p:pic>
        <p:nvPicPr>
          <p:cNvPr id="133" name="Picture 3" descr="zt1"/>
          <p:cNvPicPr/>
          <p:nvPr/>
        </p:nvPicPr>
        <p:blipFill>
          <a:blip r:embed="rId2"/>
          <a:stretch/>
        </p:blipFill>
        <p:spPr>
          <a:xfrm>
            <a:off x="5580000" y="1700280"/>
            <a:ext cx="3313080" cy="2693880"/>
          </a:xfrm>
          <a:prstGeom prst="rect">
            <a:avLst/>
          </a:prstGeom>
          <a:ln w="0">
            <a:noFill/>
          </a:ln>
        </p:spPr>
      </p:pic>
      <p:sp>
        <p:nvSpPr>
          <p:cNvPr id="134" name="Text Box 4"/>
          <p:cNvSpPr/>
          <p:nvPr/>
        </p:nvSpPr>
        <p:spPr>
          <a:xfrm>
            <a:off x="395280" y="4221000"/>
            <a:ext cx="46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oustranné ušní známky</a:t>
            </a:r>
            <a:endParaRPr b="0" lang="en-US" sz="1800" spc="-1" strike="noStrike">
              <a:solidFill>
                <a:srgbClr val="000000"/>
              </a:solidFill>
              <a:latin typeface="Calibri"/>
            </a:endParaRPr>
          </a:p>
        </p:txBody>
      </p:sp>
      <p:sp>
        <p:nvSpPr>
          <p:cNvPr id="135" name="Text Box 5"/>
          <p:cNvSpPr/>
          <p:nvPr/>
        </p:nvSpPr>
        <p:spPr>
          <a:xfrm>
            <a:off x="5724360" y="4653000"/>
            <a:ext cx="318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dnostranné ušní známky</a:t>
            </a:r>
            <a:endParaRPr b="0" lang="en-US" sz="1800" spc="-1" strike="noStrike">
              <a:solidFill>
                <a:srgbClr val="000000"/>
              </a:solidFill>
              <a:latin typeface="Calibri"/>
            </a:endParaRPr>
          </a:p>
        </p:txBody>
      </p:sp>
      <p:sp>
        <p:nvSpPr>
          <p:cNvPr id="136" name="Rectangle 6"/>
          <p:cNvSpPr/>
          <p:nvPr/>
        </p:nvSpPr>
        <p:spPr>
          <a:xfrm>
            <a:off x="250920" y="274680"/>
            <a:ext cx="6842160" cy="922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ový systém evidence</a:t>
            </a:r>
            <a:r>
              <a:rPr b="0" lang="cs-CZ"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38"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39"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C695-E9AE-41B7-815D-C99CCB2B69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Text Box 2"/>
          <p:cNvSpPr/>
          <p:nvPr/>
        </p:nvSpPr>
        <p:spPr>
          <a:xfrm>
            <a:off x="762120" y="762120"/>
            <a:ext cx="7696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3"/>
          <p:cNvSpPr/>
          <p:nvPr/>
        </p:nvSpPr>
        <p:spPr>
          <a:xfrm>
            <a:off x="1979640" y="5013360"/>
            <a:ext cx="57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leště používané k nasazování ušních známek</a:t>
            </a:r>
            <a:endParaRPr b="0" lang="en-US" sz="1800" spc="-1" strike="noStrike">
              <a:solidFill>
                <a:srgbClr val="000000"/>
              </a:solidFill>
              <a:latin typeface="Calibri"/>
            </a:endParaRPr>
          </a:p>
        </p:txBody>
      </p:sp>
      <p:pic>
        <p:nvPicPr>
          <p:cNvPr id="142" name="Picture 4" descr="apl1"/>
          <p:cNvPicPr/>
          <p:nvPr/>
        </p:nvPicPr>
        <p:blipFill>
          <a:blip r:embed="rId1"/>
          <a:stretch/>
        </p:blipFill>
        <p:spPr>
          <a:xfrm>
            <a:off x="250920" y="1628640"/>
            <a:ext cx="4248000" cy="2803680"/>
          </a:xfrm>
          <a:prstGeom prst="rect">
            <a:avLst/>
          </a:prstGeom>
          <a:ln w="0">
            <a:noFill/>
          </a:ln>
        </p:spPr>
      </p:pic>
      <p:pic>
        <p:nvPicPr>
          <p:cNvPr id="143" name="Picture 5" descr="apl2"/>
          <p:cNvPicPr/>
          <p:nvPr/>
        </p:nvPicPr>
        <p:blipFill>
          <a:blip r:embed="rId2"/>
          <a:stretch/>
        </p:blipFill>
        <p:spPr>
          <a:xfrm>
            <a:off x="4572000" y="1628640"/>
            <a:ext cx="4321080" cy="2820960"/>
          </a:xfrm>
          <a:prstGeom prst="rect">
            <a:avLst/>
          </a:prstGeom>
          <a:ln w="0">
            <a:noFill/>
          </a:ln>
        </p:spPr>
      </p:pic>
      <p:sp>
        <p:nvSpPr>
          <p:cNvPr id="144" name="Rectangle 6"/>
          <p:cNvSpPr/>
          <p:nvPr/>
        </p:nvSpPr>
        <p:spPr>
          <a:xfrm>
            <a:off x="250920" y="274680"/>
            <a:ext cx="6842160" cy="922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ový systém evidence</a:t>
            </a:r>
            <a:r>
              <a:rPr b="0" lang="cs-CZ"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50920" y="1557000"/>
            <a:ext cx="8470800" cy="504036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hospodářských zvířat</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Zákon č. 154/2000 Sb., o šlechtění, plemenitbě a evidenci hospodářských zvířat a o změně některých souvisejících zákonů (plemenářský zákon).</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nto zákon upravuje: </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šlechtění a plemenitbu skotu, koní, prasat, ovcí, koz, drůbeže, běžců, plemenných ryb a včel,</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značování skotu, koní a oslů a jejich kříženců, prasat, ovcí, koz, běžců a zvěře ve farmovém chovu,</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evidenci označovaných zvířat, drůbeže, včel, plemenných ryb a neplemenných ryb uvedených v příloze k tomuto zákonu, evidenci hospodářství a evidenci osob stanovených tímto zákonem.</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Označová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Chovatelé označovaných zvířat jsou povinni zajistit jejich označování identifikačními prostředky, způsobem a v termínech stanovených vyhláškou,</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střednictvím pověřené osoby,</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 plemenných koní, pro které je v České republice vedena plemenná kniha, prostřednictvím příslušného uznaného chovatelského sdružení.</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4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4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C19D-274A-4C76-85FA-D56CE973BE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Zvíře, které není označené, nelze přemisťovat</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Označená zvířata lze přemisťovat pouze na evidovaná hospodářství </a:t>
            </a:r>
            <a:r>
              <a:rPr b="0" lang="cs-CZ" sz="1800" spc="-1" strike="noStrike">
                <a:solidFill>
                  <a:srgbClr val="000000"/>
                </a:solidFill>
                <a:latin typeface="Arial"/>
              </a:rPr>
              <a:t>nebo evidovaná zařízení anebo k evidovaným obchodníkům.</a:t>
            </a:r>
            <a:endParaRPr b="0" lang="en-US" sz="1800" spc="-1" strike="noStrike">
              <a:solidFill>
                <a:srgbClr val="000000"/>
              </a:solidFill>
              <a:latin typeface="Arial"/>
            </a:endParaRPr>
          </a:p>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jde-li ke ztrátě identifikačního prostředku nebo k jeho poškození je chovatel povinen:</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bezpečit do 2 pracovních dnů označení zvířete náhradním způsobem tak, aby jej bylo možné znovu identifikovat,</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uto skutečnost neprodleně ohlásit pověřené osobě a současně si od ní vyžádat duplikát identifikačního prostředku,</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 obdržení duplikátu identifikačního prostředku jím příslušné označované zvíře neprodleně označit.</a:t>
            </a:r>
            <a:endParaRPr b="0" lang="en-US" sz="1600" spc="-1" strike="noStrike">
              <a:solidFill>
                <a:srgbClr val="000000"/>
              </a:solidFill>
              <a:latin typeface="Arial"/>
            </a:endParaRPr>
          </a:p>
          <a:p>
            <a:pPr marL="343080" indent="-343080">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2060"/>
                </a:solidFill>
                <a:latin typeface="Arial"/>
              </a:rPr>
              <a:t>Povinnost označovat zvířata se nevztahuje na chovatele, kteří chovají 1</a:t>
            </a:r>
            <a:endParaRPr b="0" lang="en-US" sz="1800" spc="-1" strike="noStrike">
              <a:solidFill>
                <a:srgbClr val="000000"/>
              </a:solidFill>
              <a:latin typeface="Arial"/>
            </a:endParaRPr>
          </a:p>
          <a:p>
            <a:pPr marL="343080" indent="-343080">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2060"/>
                </a:solidFill>
                <a:latin typeface="Arial"/>
              </a:rPr>
              <a:t>prase určené pro domácí porážku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5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5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2CCD-24EE-48B4-977E-D11C5CB486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50920" y="1557360"/>
            <a:ext cx="847080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skotu</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é tele musí být do 72 hodin po narození trvale označeno plastovou ušní známkou do levého ucha a kovovou ušní známkou do pravého ucha </a:t>
            </a:r>
            <a:br>
              <a:rPr sz="1600"/>
            </a:br>
            <a:r>
              <a:rPr b="0" lang="cs-CZ" sz="1600" spc="-1" strike="noStrike">
                <a:solidFill>
                  <a:srgbClr val="000000"/>
                </a:solidFill>
                <a:latin typeface="Arial"/>
              </a:rPr>
              <a:t>Každá část plastové ušní známky a kovová ušní známka musí obsahovat:</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 prvních dvou místech kód země - písmena "CZ" pro Českou republiku,</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dentifikační číslo zvířete,</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rafický znak (logo) osoby pověřené vedením ústřední evidence skotu.</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to bylo možno označovat zvířata do 30. dubna 2004 a následně jim to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značení ponech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5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5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12D8-93BB-43F3-AE48-3720B2D725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50560" y="1483920"/>
            <a:ext cx="8713800" cy="4824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skotu</a:t>
            </a:r>
            <a:endParaRPr b="0" lang="en-US" sz="18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Vyhláška č. 136/2004 Sb.</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é tele musí být do 72 hodin po narození trvale označeno dvěma plastovými ušními známkami, po jedné v každém uchu. </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á část plastové ušní známky musí obsahovat:</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dentifikační číslo zvířete,</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ód příslušného úřadu. </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šní známka používaná pro označování skotu musí v identifikačním čísle zvířete obsahovat na sedmém místě u býků číslici 0, u jaloviček číslici 9 a na následujících posledních dvou místech číselné označení kraje, ve kterém se zvíře narodilo, a které se musí shodovat s prvními dvěma číslicemi registračního čísla hospodářství, v němž se zvíře narodilo.</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působy a termíny označování skotu přemístěných z jiných členských států EU nebo dovezených ze třetích zemí.</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kotu přemístěnému z jiných členských států EU nebo dovezeným ze třetích zemí přímo na jatka se ponechá původní označení, pokud je zvíře poraženo do 20 dnů ode dne pohraniční veterinární kontroly. </a:t>
            </a:r>
            <a:r>
              <a:rPr b="0" lang="cs-CZ" sz="1600" spc="-1" strike="noStrike">
                <a:solidFill>
                  <a:srgbClr val="000000"/>
                </a:solidFill>
                <a:latin typeface="Arial"/>
              </a:rPr>
              <a:t>	</a:t>
            </a:r>
            <a:br>
              <a:rPr sz="1600"/>
            </a:br>
            <a:r>
              <a:rPr b="0" lang="cs-CZ" sz="1600" spc="-1" strike="noStrike">
                <a:solidFill>
                  <a:srgbClr val="000000"/>
                </a:solidFill>
                <a:latin typeface="Arial"/>
              </a:rPr>
              <a:t> </a:t>
            </a:r>
            <a:endParaRPr b="0" lang="en-US" sz="1600" spc="-1" strike="noStrike">
              <a:solidFill>
                <a:srgbClr val="000000"/>
              </a:solidFill>
              <a:latin typeface="Arial"/>
            </a:endParaRPr>
          </a:p>
        </p:txBody>
      </p:sp>
      <p:sp>
        <p:nvSpPr>
          <p:cNvPr id="161"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6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6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5D88-3821-4515-8161-CAE80A67A5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78920" y="1557360"/>
            <a:ext cx="8542440" cy="4751280"/>
          </a:xfrm>
          <a:prstGeom prst="rect">
            <a:avLst/>
          </a:prstGeom>
          <a:noFill/>
          <a:ln w="0">
            <a:noFill/>
          </a:ln>
        </p:spPr>
        <p:txBody>
          <a:bodyPr anchor="t">
            <a:normAutofit/>
          </a:bodyPr>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kot přemístěný z jiných členských států EU nebo dovezený ze třetích zemí, kteří zůstávají na území České republiky a kteří jsou označeni v souladu s předpisy Evropských společenství, se považují za skot označený v souladu s touto vyhláškou,</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kot, který není označený v souladu s předpisy Evropských společenství, se označuje způsobem stanoveným touto vyhláškou do 72 hodin po příchodu na místo určení.</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ovcí a koz (do r. 2004)</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á ovce a koza, jejíž označování je chovatel povinen zajistit, musí být do 72 hodin po narození trvale označena dvěma plastovými ušními známkami odděleně do každého ucha. </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astová ušní známka musí obsahovat:</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 prvních dvou místech kód země - písmena "CZ" pro Českou republiku,</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dentifikační číslo zvířete,</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rafický znak (logo) osoby pověřené vedením ústřední evidence ovcí a koz.</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šními známkami podle dosavadních právních předpisů lze označovat ovce a kozy narozené do 30. září 2004.</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6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6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63A0-8AEA-446B-9FD5-EBA8BBC059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920" y="1557360"/>
            <a:ext cx="8470800" cy="475128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yhláška č. 136/2004 Sb. a Nařízení č. 21/2004</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á ovce nebo koza musí být nejpozději do 6 měsíců od narození, vždy však před tím, než opustí hospodářství, kde se narodila, označena v souladu s předpisem EU o stanovení systému a evidence ovcí a koz dvěma identifikačními prostředk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vířata, která jsou určená </a:t>
            </a:r>
            <a:r>
              <a:rPr b="0" lang="cs-CZ" sz="1600" spc="-1" strike="noStrike">
                <a:solidFill>
                  <a:srgbClr val="000000"/>
                </a:solidFill>
                <a:latin typeface="Arial"/>
              </a:rPr>
              <a:t>pro obchodování v rámci EU, musí být označena:</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elektronickým identifikátorem ve formě bachorového bolusového odpovídače,</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bo elektronickou ušní známkou v kombinaci s plastovou ušní známkou</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bo značkou na spěnce.</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vířata, která nejsou určená </a:t>
            </a:r>
            <a:r>
              <a:rPr b="0" lang="cs-CZ" sz="1600" spc="-1" strike="noStrike">
                <a:solidFill>
                  <a:srgbClr val="000000"/>
                </a:solidFill>
                <a:latin typeface="Arial"/>
              </a:rPr>
              <a:t>pro obchodování v rámci EU, musí být označena:</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astovou ušní známkou v kombinaci s druhou plastovou ušní známkou,</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bo značkou na spěnce,</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bo elektronickým identifikátorem ve formě elektronické značky na spěnce,</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bo identifikačními prostředky podle odstavce 2.</a:t>
            </a:r>
            <a:endParaRPr b="0" lang="en-US" sz="1600" spc="-1" strike="noStrike">
              <a:solidFill>
                <a:srgbClr val="000000"/>
              </a:solidFill>
              <a:latin typeface="Arial"/>
            </a:endParaRPr>
          </a:p>
        </p:txBody>
      </p:sp>
      <p:sp>
        <p:nvSpPr>
          <p:cNvPr id="171"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7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7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6F18-E240-45E5-8CD1-8F3565D4A3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50920" y="1557000"/>
            <a:ext cx="8470800" cy="4824360"/>
          </a:xfrm>
          <a:prstGeom prst="rect">
            <a:avLst/>
          </a:prstGeom>
          <a:noFill/>
          <a:ln w="0">
            <a:noFill/>
          </a:ln>
        </p:spPr>
        <p:txBody>
          <a:bodyPr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hňata nebo kůzlata určená k porážce do 12 měsíců stáří, která nejsou určena k přemístění do jiného členského státu EU, ani pro vývoz do třetích zemí, mohou být označena odchylně – minimálně jednou plastovou ušní známkou, která byla k tomuto způsobu označení pověřenou osobou poskytnuta.</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vce a kozy bez ušních boltců nebo s velmi krátkými ušními boltci, které nejsou určené pro obchodování v rámci EU, se označují na spodní, srstí neobrostlé části ocasu tetováním, které obsahuje identifikační číslo zvířete bez alfabetického označení země původu „CZ“ a bez posledního trojčíslí.</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vce a kozy, které nelze označit ušní známkou z důvodu poškození, zánětu či deformace ušních boltců a které nejsou určené pro obchodování v rámci Evropské unie, se označí náhradním způsobem tak, aby nedošlo k jejich záměně s jinými zvířaty. Tento způsob označení je neprodleně zaznamenán do stájového regis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7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7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658E-7349-49D4-8505-F5830DF019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50920" y="1557360"/>
            <a:ext cx="8470800" cy="4751280"/>
          </a:xfrm>
          <a:prstGeom prst="rect">
            <a:avLst/>
          </a:prstGeom>
          <a:noFill/>
          <a:ln w="0">
            <a:noFill/>
          </a:ln>
        </p:spPr>
        <p:txBody>
          <a:bodyPr anchor="t">
            <a:normAutofit/>
          </a:bodyPr>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označování ovcí a koz se používají plastové ušní známky typu A nebo typu B.</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astová ušní známka typu A se skládá ze dvou částí spojených trvale uzamykatelným trnem. </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astová ušní známka typu B musí být dlouhá nejméně 35 mm a široká nejméně 9 mm. </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á část plastové ušní známky používané pro označování ovcí a koz musí obsahovat:</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dentifikační číslo zvířete,</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ód příslušného úřadu.</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případě, že je ovce nebo koza označena dvěma ušními známkami, jedna ušní známka musí obsahovat pouze výše uvedené údaje, označení jinými či ručně psanými alfanumerickými znaky je nepřípustné. Druhá ušní známka může obsahovat i záznamy chovatele, a to na lícové i rubové straně, pokud není porušena čitelnost povinných údajů. </a:t>
            </a:r>
            <a:br>
              <a:rPr sz="1400"/>
            </a:br>
            <a:r>
              <a:rPr b="0" lang="cs-C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8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8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C31D-006D-495F-BDD1-9C9959851F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2" name=""/>
          <p:cNvGraphicFramePr/>
          <p:nvPr/>
        </p:nvGraphicFramePr>
        <p:xfrm>
          <a:off x="457200" y="1371600"/>
          <a:ext cx="8229600" cy="499284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školy</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dbc5"/>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ŠTZ Mohelnice, 1. máje 2, 789 85 Mohelnic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7dbc5"/>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Číslo projekt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Z.1.07/1.5.00/34.00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šablony klíčové aktivity</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ovace a zkvalitnění výuky prostřednictvím ICT (III/2)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 výukového materiál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značování a evidence skot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značení</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Y_32_INOVACE_136_Chov_skotu</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Vzdělávací obor</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1-51-H/01 Zemědělec – farmář</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matická oblas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hov zvířa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Roční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ruhý</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utor</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g. Miroslav Hu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Datum ověření</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1. 2014 KF 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0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notace / metodický pop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egislativa, ústřední evidence skotu, nový systém evidence, označování hospodářských zvířat, další způsoby značení.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odpis autora</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g. Miroslav Huk</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odpis ředitel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3" name="Rectangle 2"/>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Záznamový list výukového materiál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50920" y="1557360"/>
            <a:ext cx="847080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ůsoby a termíny označování ovcí a koz přemístěných z jiných členských států nebo dovezených ze třetích zemí.</a:t>
            </a:r>
            <a:endParaRPr b="0" lang="en-US" sz="18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vce a kozy přemístěné z jiných členských států EU nebo dovezené ze třetích zemí se označují do 72 hodin ode dne příchodu do místa určení, s výjimkou ovcí a koz dovezených k účasti na svodu zvířat. </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kud dojde k dalšímu přemístění ovcí nebo koz dovezených k účasti na svodu zvířat na jiné hospodářství, označují se tyto ovce nebo kozy do 72 hodin ode dne příchodu do místa určení. </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vcím a kozám přemístěným z jiných členských států EU nebo dovezeným ze třetích zemí přímo na jatka se ponechá původní označení, pokud jsou poražena do 30 dnů ode dne příchodu do místa určení nebo ode dne pohraniční veterinární kontroly. </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vce a kozy přemístěné z jiných členských států, které zůstávají na území České republiky a které jsou označené v souladu s předpisy Evropských společenství, se považují za ovce a kozy označené v souladu s touto vyhláškou.</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8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8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97AA-9C2B-4E5B-8D31-F16B5259A3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50920" y="1557360"/>
            <a:ext cx="8470800" cy="475128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koní a oslů a jejich kříženců</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Vyhláška č. 136/2004 Sb.</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emenní koně se označují způsoby uvedenými v jednotlivých řádech plemenných knih koní, a to:</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vním a grafickým popisem a elektronickým identifikátorem, nebo</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vním a grafickým popisem, elektronickým identifikátorem a výžehem, a to v případě, kdy tento výžeh bude uveden v příslušném řádu plemenné knihy ko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 plemenných koní plemen starokladrubský kůň, lipický kůň, Shagya-arab, norik, slezský norik, českomoravský belgický kůň a moravský teplokrevník lze označování provádět:</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stupem uvedeným v odstavci 1, nebo</a:t>
            </a:r>
            <a:endParaRPr b="0" lang="en-US" sz="1600" spc="-1" strike="noStrike">
              <a:solidFill>
                <a:srgbClr val="000000"/>
              </a:solidFill>
              <a:latin typeface="Arial"/>
            </a:endParaRPr>
          </a:p>
          <a:p>
            <a:pPr lvl="3" marL="16002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vním a grafickým popisem a výžehem, a to v případě, kdy tento způsob označování bude uveden v příslušném řádu plemenné knihy koní.</a:t>
            </a:r>
            <a:endParaRPr b="0" lang="en-US" sz="1600" spc="-1" strike="noStrike">
              <a:solidFill>
                <a:srgbClr val="000000"/>
              </a:solidFill>
              <a:latin typeface="Arial"/>
            </a:endParaRPr>
          </a:p>
          <a:p>
            <a:pPr lvl="2" marL="1143000" indent="-228600">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oně neregistrovaní v plemenné knize, osli a jejich kříženci se označují slovním a grafickým popisem a elektronickým identifikátorem v souladu s nařízením Komise (ES) č. 504/2008</a:t>
            </a:r>
            <a:r>
              <a:rPr b="0" lang="cs-CZ" sz="1600" spc="-1" strike="noStrike" u="sng">
                <a:solidFill>
                  <a:srgbClr val="000000"/>
                </a:solidFill>
                <a:uFillTx/>
                <a:latin typeface="Arial"/>
              </a:rPr>
              <a:t> </a:t>
            </a:r>
            <a:r>
              <a:rPr b="0" lang="cs-CZ" sz="1600" spc="-1" strike="noStrike">
                <a:solidFill>
                  <a:srgbClr val="000000"/>
                </a:solidFill>
                <a:latin typeface="Arial"/>
              </a:rPr>
              <a:t>.</a:t>
            </a:r>
            <a:endParaRPr b="0" lang="en-US" sz="1600" spc="-1" strike="noStrike">
              <a:solidFill>
                <a:srgbClr val="000000"/>
              </a:solidFill>
              <a:latin typeface="Arial"/>
            </a:endParaRPr>
          </a:p>
        </p:txBody>
      </p:sp>
      <p:sp>
        <p:nvSpPr>
          <p:cNvPr id="191"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9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9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ABEF-BDE4-4EED-869E-443216D06F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920" y="1557360"/>
            <a:ext cx="8470800" cy="4751280"/>
          </a:xfrm>
          <a:prstGeom prst="rect">
            <a:avLst/>
          </a:prstGeom>
          <a:noFill/>
          <a:ln w="0">
            <a:noFill/>
          </a:ln>
        </p:spPr>
        <p:txBody>
          <a:bodyPr anchor="t">
            <a:normAutofit/>
          </a:bodyPr>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é hříbě koně, osla a jejich kříženců se označuje před odstavem tak, aby byl vydán průkaz koně po označení, nejpozději do 31. prosince roku narození daného koně, nebo během 6 měsíců od data narození podle toho, který z těchto termínů nastane později.</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soba provádějící označování koní označí koně, osla nebo jejich křížence do 28 dnů ode dne, kdy k tomu byla majitelem vyzvána.</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Slovní a grafický popis</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vní popis musí obsahovat popis základní barvy a popis vrozených odznaků charakterizujících hlavu, krk, končetiny a tělo koně, osla nebo jejich kříženců.</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rafický popis musí obsahovat nákres vrozených a získaných odznaků a chlupových vírů charakterizujících tělo koně, osla nebo jejich kříženců, hlavu, krk a prsa, hrudní a pánevní končetiny.</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vní a grafický popis koně, osla nebo jejich křížence si zajistí jeho chovatel u osoby provádějící označování koní.</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9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9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F829-6E61-4B9C-8E1F-4B816F641E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50920" y="1484280"/>
            <a:ext cx="8642160" cy="4641840"/>
          </a:xfrm>
          <a:prstGeom prst="rect">
            <a:avLst/>
          </a:prstGeom>
          <a:noFill/>
          <a:ln w="0">
            <a:noFill/>
          </a:ln>
        </p:spPr>
        <p:txBody>
          <a:bodyPr anchor="t">
            <a:normAutofit/>
          </a:bodyPr>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jde-li na koni, oslovi nebo jejich kříženci ke změnám, které nesouhlasí s jeho slovním a grafickým popisem uvedeným v průkazu koně nebo v registru koní, zajistí chovatel zvířete opravu u osoby, provádějící označování koní.</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soba provádějící označování koní provede změnu slovního a grafického popisu v průkazu koně a v hlášení o registraci koně narozeného v České republice, které do 7 dnů ode dne zápisu změny odesílá vydávajícímu orgánu.</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značování prasat</a:t>
            </a:r>
            <a:endParaRPr b="0" lang="en-US" sz="18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Vyhláška č. 136/2004 Sb</a:t>
            </a:r>
            <a:r>
              <a:rPr b="0" lang="cs-CZ" sz="1600" spc="-1" strike="noStrike">
                <a:solidFill>
                  <a:srgbClr val="000000"/>
                </a:solidFill>
                <a:latin typeface="Arial"/>
              </a:rPr>
              <a:t>.</a:t>
            </a:r>
            <a:endParaRPr b="0" lang="en-US" sz="16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sata se označují tetováním nebo ušní známkou. </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aždé prase, jehož označování je chovatel povinen zajistit, musí být označeno tetováním do levého ucha nebo tetováním na levou stranu těla anebo ušní známkou do levého ucha, a to před odstavením, nejpozději však před opuštěním hospodářství, ve kterém se narodilo.</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tování prasat musí obsahovat alfanumerický kód, který musí vyjadřovat registrační číslo hospodářství, ve kterém se prase narodilo.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01" name="Zástupný symbol pro datum 3"/>
          <p:cNvSpPr/>
          <p:nvPr/>
        </p:nvSpPr>
        <p:spPr>
          <a:xfrm>
            <a:off x="32400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202"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203"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3E28-CDA7-4E4A-B46A-3D1AEE59859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50920" y="1557000"/>
            <a:ext cx="8470800" cy="4568760"/>
          </a:xfrm>
          <a:prstGeom prst="rect">
            <a:avLst/>
          </a:prstGeom>
          <a:noFill/>
          <a:ln w="0">
            <a:noFill/>
          </a:ln>
        </p:spPr>
        <p:txBody>
          <a:bodyPr anchor="t">
            <a:normAutofit/>
          </a:bodyPr>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astová ušní známka používaná pro označování prasat musí obsahovat:</a:t>
            </a:r>
            <a:endParaRPr b="0" lang="en-US" sz="1600" spc="-1" strike="noStrike">
              <a:solidFill>
                <a:srgbClr val="000000"/>
              </a:solidFill>
              <a:latin typeface="Arial"/>
            </a:endParaRPr>
          </a:p>
          <a:p>
            <a:pPr lvl="4" marL="2057400" indent="-228600">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značení země původu - písmena "CZ" pro Českou republiku,</a:t>
            </a:r>
            <a:endParaRPr b="0" lang="en-US" sz="1600" spc="-1" strike="noStrike">
              <a:solidFill>
                <a:srgbClr val="000000"/>
              </a:solidFill>
              <a:latin typeface="Arial"/>
            </a:endParaRPr>
          </a:p>
          <a:p>
            <a:pPr lvl="4" marL="2057400" indent="-228600">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alfanumerický kód, který musí vyjadřovat část registračního čísla hospodářství, ve kterém se prase narodilo, </a:t>
            </a:r>
            <a:endParaRPr b="0" lang="en-US" sz="1600" spc="-1" strike="noStrike">
              <a:solidFill>
                <a:srgbClr val="000000"/>
              </a:solidFill>
              <a:latin typeface="Arial"/>
            </a:endParaRPr>
          </a:p>
          <a:p>
            <a:pPr lvl="4" marL="2057400" indent="-228600">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ód příslušného úřadu.</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působy a termíny označování prasat přemístěných z jiných členských států EU nebo dovezených ze třetích zemí:</a:t>
            </a:r>
            <a:endParaRPr b="0" lang="en-US" sz="1600" spc="-1" strike="noStrike">
              <a:solidFill>
                <a:srgbClr val="000000"/>
              </a:solidFill>
              <a:latin typeface="Arial"/>
            </a:endParaRPr>
          </a:p>
          <a:p>
            <a:pPr lvl="4" marL="2057400" indent="-228600">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jpozději do 7 dnů ode dne příchodu do místa určení - alfanumerický kód na ušní známce musí vyjadřovat registrační číslo hospodářství, na které byla prasata přemístěna nebo dovezena. </a:t>
            </a:r>
            <a:endParaRPr b="0" lang="en-US" sz="1600" spc="-1" strike="noStrike">
              <a:solidFill>
                <a:srgbClr val="000000"/>
              </a:solidFill>
              <a:latin typeface="Arial"/>
            </a:endParaRPr>
          </a:p>
          <a:p>
            <a:pPr lvl="3" marL="16002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satům přemístěným z jiných členských států EU nebo dovezeným ze třetích zemí přímo na jatka se ponechá původní označení, pokud jsou zvířata poražena do 30 dnů ode dne příchodu do místa určení nebo ode dne pohraniční veterinární kontroly.</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Zástupný symbol pro datum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207" name="Zástupný symbol pro zápatí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208" name="Zástupný symbol pro číslo snímku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3EB7-CAEE-4FAE-BB90-4767F7D36D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9" name="PlaceHolder 1"/>
          <p:cNvSpPr>
            <a:spLocks noGrp="1"/>
          </p:cNvSpPr>
          <p:nvPr>
            <p:ph type="title"/>
          </p:nvPr>
        </p:nvSpPr>
        <p:spPr>
          <a:xfrm>
            <a:off x="179280" y="274680"/>
            <a:ext cx="6840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značování hospodářských zvířat</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211"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212"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767D-C192-4489-A621-5D24C75B80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PlaceHolder 1"/>
          <p:cNvSpPr>
            <a:spLocks noGrp="1"/>
          </p:cNvSpPr>
          <p:nvPr>
            <p:ph/>
          </p:nvPr>
        </p:nvSpPr>
        <p:spPr>
          <a:xfrm>
            <a:off x="250920" y="1557000"/>
            <a:ext cx="8470800" cy="4568760"/>
          </a:xfrm>
          <a:prstGeom prst="rect">
            <a:avLst/>
          </a:prstGeom>
          <a:noFill/>
          <a:ln w="0">
            <a:noFill/>
          </a:ln>
        </p:spPr>
        <p:txBody>
          <a:bodyPr anchor="t">
            <a:normAutofit/>
          </a:bodyPr>
          <a:p>
            <a:pPr marL="343080" indent="-34308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alší způsoby značení</a:t>
            </a:r>
            <a:endParaRPr b="0" lang="en-US" sz="18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ficiální: </a:t>
            </a:r>
            <a:endParaRPr b="0" lang="en-US" sz="1600" spc="-1" strike="noStrike">
              <a:solidFill>
                <a:srgbClr val="000000"/>
              </a:solidFill>
              <a:latin typeface="Arial"/>
            </a:endParaRPr>
          </a:p>
          <a:p>
            <a:pPr lvl="2" marL="1143000" indent="-228600">
              <a:lnSpc>
                <a:spcPct val="90000"/>
              </a:lnSpc>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Tetování</a:t>
            </a:r>
            <a:r>
              <a:rPr b="0" lang="cs-CZ" sz="1600" spc="-1" strike="noStrike">
                <a:solidFill>
                  <a:srgbClr val="000000"/>
                </a:solidFill>
                <a:latin typeface="Arial"/>
              </a:rPr>
              <a:t> (provádí se zpravidla při odrohování telat).</a:t>
            </a:r>
            <a:endParaRPr b="0" lang="en-US" sz="1600" spc="-1" strike="noStrike">
              <a:solidFill>
                <a:srgbClr val="000000"/>
              </a:solidFill>
              <a:latin typeface="Arial"/>
            </a:endParaRPr>
          </a:p>
          <a:p>
            <a:pPr lvl="2" marL="1143000" indent="-228600">
              <a:lnSpc>
                <a:spcPct val="90000"/>
              </a:lnSpc>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ikročip</a:t>
            </a:r>
            <a:r>
              <a:rPr b="0" lang="cs-CZ" sz="1600" spc="-1" strike="noStrike">
                <a:solidFill>
                  <a:srgbClr val="000000"/>
                </a:solidFill>
                <a:latin typeface="Arial"/>
              </a:rPr>
              <a:t> (2-3 mm silný, 2-3 cm dlouhý, implantace u skotu za ucho, kde zaroste a drží pevně; na jatkách se vyjme – musí být přesně  na svém místě).</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covní: </a:t>
            </a:r>
            <a:endParaRPr b="0" lang="en-US" sz="1600" spc="-1" strike="noStrike">
              <a:solidFill>
                <a:srgbClr val="000000"/>
              </a:solidFill>
              <a:latin typeface="Arial"/>
            </a:endParaRPr>
          </a:p>
          <a:p>
            <a:pPr lvl="2" marL="1143000" indent="-228600">
              <a:lnSpc>
                <a:spcPct val="90000"/>
              </a:lnSpc>
              <a:spcBef>
                <a:spcPts val="3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Respondér</a:t>
            </a:r>
            <a:r>
              <a:rPr b="0" lang="cs-CZ" sz="1600" spc="-1" strike="noStrike">
                <a:solidFill>
                  <a:srgbClr val="000000"/>
                </a:solidFill>
                <a:latin typeface="Arial"/>
              </a:rPr>
              <a:t> – (800 Kč) – měření užitkovosti, stanovení krmné dávky.</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4" name="Picture 4" descr="image"/>
          <p:cNvPicPr/>
          <p:nvPr/>
        </p:nvPicPr>
        <p:blipFill>
          <a:blip r:embed="rId1"/>
          <a:stretch/>
        </p:blipFill>
        <p:spPr>
          <a:xfrm>
            <a:off x="2719440" y="3441600"/>
            <a:ext cx="4429080" cy="3389400"/>
          </a:xfrm>
          <a:prstGeom prst="rect">
            <a:avLst/>
          </a:prstGeom>
          <a:ln w="0">
            <a:noFill/>
          </a:ln>
        </p:spPr>
      </p:pic>
      <p:sp>
        <p:nvSpPr>
          <p:cNvPr id="215" name="Rectangle 6"/>
          <p:cNvSpPr/>
          <p:nvPr/>
        </p:nvSpPr>
        <p:spPr>
          <a:xfrm>
            <a:off x="250920" y="274680"/>
            <a:ext cx="6842160" cy="922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alší způsoby značení</a:t>
            </a:r>
            <a:r>
              <a:rPr b="0" lang="cs-CZ"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217"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218"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9787-066A-47AD-A6B9-FA3863678C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p:nvPr>
        </p:nvSpPr>
        <p:spPr>
          <a:xfrm>
            <a:off x="250560" y="1557000"/>
            <a:ext cx="8435880" cy="5111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MIŠKOVSKÝ, DOC. ING. CSc.,Zdeněk. Chov zvířat 2. Vydání první. Praha: CREDIT – vydavatelství agentura, 1995. 249 s. ISBN 80-901645-4-4.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VARGA, ING., Stanislav; KREJČÍ, ING., Vladimír. Zemědělská výroba II.Vydání druhé. Praha: Institut výchovy a vzdělávání Ministerstva zemědělství České republiky, 1995. 236s. ISBN 80-7105-092-X.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VARGA, ING., Stanislav; KREJČÍ, ING., Vladimír. Zemědělská výroba II.Vydání druhé. Praha: Institut výchovy a vzdělávání Ministerstva zemědělství České republiky, 1986. 296 s. ISBN 80-7105-019-9.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URBAN, J., ŠARAPATKA, B., a kol. Ekologické zemědělství: učebnice pro školy i praxi - I. díl. Vydání první. Praha: MŽP a Svaz PRO-BIO, 2003, 280 s. ISBN 80-7212-274-6</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ŠARAPATKA, B., URBAN, J., a kol. Ekologické zemědělství: učebnice pro školy i praxi - II. díl. Vydání první Šumperk: Svaz PRO-BIO, 2005, 334 s. ISBN 80-903583-0-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BURDA, F. Zemědělské výrobky 2 – živočišné výrobky.Vydání první. Praha: Státní zemědělské nakladatelství, 1995. 236 s. ISBN 07-000-86.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lbertus Medium"/>
              </a:rPr>
              <a:t>MAJZLÍKOVÁ, ING., Z. Označování a evidence hospodářských zvířat, zkušenosti z kontrol podmíněnosti v roce 2009. Česká plemenářská inspekce. www.cpinsp.cz </a:t>
            </a:r>
            <a:r>
              <a:rPr b="0" lang="cs-CZ" sz="1200" spc="-1" strike="noStrike">
                <a:solidFill>
                  <a:srgbClr val="000000"/>
                </a:solidFill>
                <a:latin typeface="Arial"/>
              </a:rPr>
              <a:t>[online].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2"/>
          <p:cNvSpPr>
            <a:spLocks noGrp="1"/>
          </p:cNvSpPr>
          <p:nvPr>
            <p:ph type="title"/>
          </p:nvPr>
        </p:nvSpPr>
        <p:spPr>
          <a:xfrm>
            <a:off x="250560" y="476280"/>
            <a:ext cx="8435880" cy="59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lbertus Extra Bold"/>
              </a:rPr>
              <a:t>Použité zdro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5516640"/>
            <a:ext cx="81378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Unicode MS"/>
              </a:rPr>
              <a:t>Chov skotu – Označování a evidence skotu</a:t>
            </a:r>
            <a:endParaRPr b="0" lang="en-US" sz="3200" spc="-1" strike="noStrike">
              <a:solidFill>
                <a:srgbClr val="000000"/>
              </a:solidFill>
              <a:latin typeface="Arial"/>
            </a:endParaRPr>
          </a:p>
        </p:txBody>
      </p:sp>
      <p:sp>
        <p:nvSpPr>
          <p:cNvPr id="95" name="PlaceHolder 2"/>
          <p:cNvSpPr>
            <a:spLocks noGrp="1"/>
          </p:cNvSpPr>
          <p:nvPr>
            <p:ph type="subTitle"/>
          </p:nvPr>
        </p:nvSpPr>
        <p:spPr>
          <a:xfrm>
            <a:off x="4427280" y="6165720"/>
            <a:ext cx="4097160" cy="479520"/>
          </a:xfrm>
          <a:prstGeom prst="rect">
            <a:avLst/>
          </a:prstGeom>
          <a:noFill/>
          <a:ln w="0">
            <a:noFill/>
          </a:ln>
        </p:spPr>
        <p:txBody>
          <a:bodyPr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Unicode MS"/>
              </a:rPr>
              <a:t>Ing. Miroslav Hu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97"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98"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878C-BEB0-464B-8648-C7AEDE8BEB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9" name="PlaceHolder 1"/>
          <p:cNvSpPr>
            <a:spLocks noGrp="1"/>
          </p:cNvSpPr>
          <p:nvPr>
            <p:ph/>
          </p:nvPr>
        </p:nvSpPr>
        <p:spPr>
          <a:xfrm>
            <a:off x="250920" y="1557000"/>
            <a:ext cx="8470800" cy="456876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egislativa</a:t>
            </a:r>
            <a:endParaRPr b="0" lang="en-US" sz="18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Zákon č. 154/2000 Sb. </a:t>
            </a:r>
            <a:r>
              <a:rPr b="0" lang="cs-CZ" sz="1600" spc="-1" strike="noStrike">
                <a:solidFill>
                  <a:srgbClr val="000000"/>
                </a:solidFill>
                <a:latin typeface="Arial"/>
              </a:rPr>
              <a:t>o šlechtění, plemenitbě, a evidenci hospodářských zvířat a o změně některých souvisejících zákonů (plemenářský zákon).</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Úplné znění vyhlášky č.</a:t>
            </a:r>
            <a:r>
              <a:rPr b="0" lang="cs-CZ" sz="1600" spc="-1" strike="noStrike">
                <a:solidFill>
                  <a:srgbClr val="ff0000"/>
                </a:solidFill>
                <a:latin typeface="Arial"/>
              </a:rPr>
              <a:t> </a:t>
            </a:r>
            <a:r>
              <a:rPr b="1" lang="cs-CZ" sz="1600" spc="-1" strike="noStrike">
                <a:solidFill>
                  <a:srgbClr val="ff0000"/>
                </a:solidFill>
                <a:latin typeface="Arial"/>
              </a:rPr>
              <a:t>136/2004 Sb.</a:t>
            </a:r>
            <a:r>
              <a:rPr b="0" lang="cs-CZ" sz="1600" spc="-1" strike="noStrike">
                <a:solidFill>
                  <a:srgbClr val="000000"/>
                </a:solidFill>
                <a:latin typeface="Arial"/>
              </a:rPr>
              <a:t>,</a:t>
            </a:r>
            <a:r>
              <a:rPr b="1" lang="cs-CZ" sz="1600" spc="-1" strike="noStrike">
                <a:solidFill>
                  <a:srgbClr val="ff0000"/>
                </a:solidFill>
                <a:latin typeface="Arial"/>
              </a:rPr>
              <a:t> </a:t>
            </a:r>
            <a:r>
              <a:rPr b="0" lang="cs-CZ" sz="1600" spc="-1" strike="noStrike">
                <a:solidFill>
                  <a:srgbClr val="000000"/>
                </a:solidFill>
                <a:latin typeface="Arial"/>
              </a:rPr>
              <a:t>kterou se stanoví podrobnosti označování zvířat a jejich evidence hospodářství a osob stanovených plemenářským zákonem </a:t>
            </a:r>
            <a:r>
              <a:rPr b="1" lang="cs-CZ" sz="1600" spc="-1" strike="noStrike">
                <a:solidFill>
                  <a:srgbClr val="002060"/>
                </a:solidFill>
                <a:latin typeface="Arial"/>
              </a:rPr>
              <a:t>ve znění vyhlášky č. 199/2007 Sb. a 213/2009 Sb. </a:t>
            </a:r>
            <a:r>
              <a:rPr b="0" lang="cs-CZ" sz="1600" spc="-1" strike="noStrike">
                <a:solidFill>
                  <a:srgbClr val="000000"/>
                </a:solidFill>
                <a:latin typeface="Arial"/>
              </a:rPr>
              <a:t>(20.7.2009).</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Vyhláška 447/2006 Sb. </a:t>
            </a:r>
            <a:r>
              <a:rPr b="0" lang="cs-CZ" sz="1600" spc="-1" strike="noStrike">
                <a:solidFill>
                  <a:srgbClr val="000000"/>
                </a:solidFill>
                <a:latin typeface="Arial"/>
              </a:rPr>
              <a:t>o genetických zdrojích zvířat</a:t>
            </a:r>
            <a:endParaRPr b="0" lang="en-US" sz="1600" spc="-1" strike="noStrike">
              <a:solidFill>
                <a:srgbClr val="000000"/>
              </a:solidFill>
              <a:latin typeface="Arial"/>
            </a:endParaRPr>
          </a:p>
          <a:p>
            <a:pPr lvl="1" marL="743040" indent="-285840">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Vyhláška 448/2006 Sb. </a:t>
            </a:r>
            <a:r>
              <a:rPr b="0" lang="cs-CZ" sz="1600" spc="-1" strike="noStrike">
                <a:solidFill>
                  <a:srgbClr val="000000"/>
                </a:solidFill>
                <a:latin typeface="Arial"/>
              </a:rPr>
              <a:t>o provedení některých ustanovení plemenářského zákona.</a:t>
            </a:r>
            <a:endParaRPr b="0" lang="en-US" sz="1600" spc="-1" strike="noStrike">
              <a:solidFill>
                <a:srgbClr val="000000"/>
              </a:solidFill>
              <a:latin typeface="Arial"/>
            </a:endParaRPr>
          </a:p>
          <a:p>
            <a:pPr lvl="1" marL="743040" indent="-28584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římo použitelné </a:t>
            </a:r>
            <a:r>
              <a:rPr b="1" lang="cs-CZ" sz="1600" spc="-1" strike="noStrike">
                <a:solidFill>
                  <a:srgbClr val="ff0000"/>
                </a:solidFill>
                <a:latin typeface="Arial"/>
              </a:rPr>
              <a:t>předpisy ES.</a:t>
            </a:r>
            <a:endParaRPr b="0" lang="en-US" sz="1600" spc="-1" strike="noStrike">
              <a:solidFill>
                <a:srgbClr val="000000"/>
              </a:solidFill>
              <a:latin typeface="Arial"/>
            </a:endParaRPr>
          </a:p>
        </p:txBody>
      </p:sp>
      <p:sp>
        <p:nvSpPr>
          <p:cNvPr id="100" name="PlaceHolder 2"/>
          <p:cNvSpPr>
            <a:spLocks noGrp="1"/>
          </p:cNvSpPr>
          <p:nvPr>
            <p:ph type="title"/>
          </p:nvPr>
        </p:nvSpPr>
        <p:spPr>
          <a:xfrm>
            <a:off x="250920" y="274680"/>
            <a:ext cx="6626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egisl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02"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03"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9308-529D-45FC-B7A3-82B588518F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4" name="PlaceHolder 1"/>
          <p:cNvSpPr>
            <a:spLocks noGrp="1"/>
          </p:cNvSpPr>
          <p:nvPr>
            <p:ph/>
          </p:nvPr>
        </p:nvSpPr>
        <p:spPr>
          <a:xfrm>
            <a:off x="250920" y="1550520"/>
            <a:ext cx="8470800" cy="45752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dentifikace a evidence zvířat</a:t>
            </a:r>
            <a:endParaRPr b="0" lang="en-US" sz="18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Směrnice rady 92/102/EHS </a:t>
            </a:r>
            <a:r>
              <a:rPr b="0" lang="cs-CZ" sz="1600" spc="-1" strike="noStrike">
                <a:solidFill>
                  <a:srgbClr val="000000"/>
                </a:solidFill>
                <a:latin typeface="Arial"/>
              </a:rPr>
              <a:t>ze dne 27.11.1992 o identifikace a evidování zvířat (prasata).</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 28.8.2008 nahrazená </a:t>
            </a:r>
            <a:r>
              <a:rPr b="1" lang="cs-CZ" sz="1600" spc="-1" strike="noStrike">
                <a:solidFill>
                  <a:srgbClr val="000000"/>
                </a:solidFill>
                <a:latin typeface="Arial"/>
              </a:rPr>
              <a:t>Směrnicí rady 2008/71 ES </a:t>
            </a:r>
            <a:r>
              <a:rPr b="0" lang="cs-CZ" sz="1600" spc="-1" strike="noStrike">
                <a:solidFill>
                  <a:srgbClr val="000000"/>
                </a:solidFill>
                <a:latin typeface="Arial"/>
              </a:rPr>
              <a:t>o identifikaci a evidování prasat.</a:t>
            </a:r>
            <a:endParaRPr b="0"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Nařízení Ev. parlamentu a Rady ES č. 1760/2000 </a:t>
            </a:r>
            <a:r>
              <a:rPr b="0" lang="cs-CZ" sz="1600" spc="-1" strike="noStrike">
                <a:solidFill>
                  <a:srgbClr val="000000"/>
                </a:solidFill>
                <a:latin typeface="Arial"/>
              </a:rPr>
              <a:t>ze dne 17.7.2000 o systému identifikace a registrace skotu, o označování hovězího masa a výrobků z hov. masa a zrušující NR (ES) č 820/97.</a:t>
            </a:r>
            <a:endParaRPr b="0"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Arial"/>
              </a:rPr>
              <a:t>Nařízení rady ES č. 21/2004 </a:t>
            </a:r>
            <a:r>
              <a:rPr b="0" lang="cs-CZ" sz="1600" spc="-1" strike="noStrike">
                <a:solidFill>
                  <a:srgbClr val="000000"/>
                </a:solidFill>
                <a:latin typeface="Arial"/>
              </a:rPr>
              <a:t>ze dne 17.12.2003 o stanovení systému identifikace a evidence ovcí a koz a o změně nařízení ES č. 1782/2003 a směrnic 92/102 EHS a 64/435 EHS.</a:t>
            </a:r>
            <a:endParaRPr b="0" lang="en-US" sz="1600" spc="-1" strike="noStrike">
              <a:solidFill>
                <a:srgbClr val="000000"/>
              </a:solidFill>
              <a:latin typeface="Arial"/>
            </a:endParaRPr>
          </a:p>
        </p:txBody>
      </p:sp>
      <p:sp>
        <p:nvSpPr>
          <p:cNvPr id="105" name="PlaceHolder 2"/>
          <p:cNvSpPr>
            <a:spLocks noGrp="1"/>
          </p:cNvSpPr>
          <p:nvPr>
            <p:ph type="title"/>
          </p:nvPr>
        </p:nvSpPr>
        <p:spPr>
          <a:xfrm>
            <a:off x="250920" y="274680"/>
            <a:ext cx="6626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egisl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07"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08"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36FB-8D6C-4C12-AD3B-E7DDE146D7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9" name="PlaceHolder 1"/>
          <p:cNvSpPr>
            <a:spLocks noGrp="1"/>
          </p:cNvSpPr>
          <p:nvPr>
            <p:ph/>
          </p:nvPr>
        </p:nvSpPr>
        <p:spPr>
          <a:xfrm>
            <a:off x="250920" y="1557000"/>
            <a:ext cx="8470800" cy="4568760"/>
          </a:xfrm>
          <a:prstGeom prst="rect">
            <a:avLst/>
          </a:prstGeom>
          <a:noFill/>
          <a:ln w="0">
            <a:noFill/>
          </a:ln>
        </p:spPr>
        <p:txBody>
          <a:bodyPr anchor="t">
            <a:normAutofit/>
          </a:bodyPr>
          <a:p>
            <a:pPr marL="343080" indent="-343080">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Ústřední evidence skotu</a:t>
            </a:r>
            <a:endParaRPr b="0" lang="en-US" sz="1800" spc="-1" strike="noStrike">
              <a:solidFill>
                <a:srgbClr val="000000"/>
              </a:solidFill>
              <a:latin typeface="Arial"/>
            </a:endParaRPr>
          </a:p>
          <a:p>
            <a:pPr lvl="1" marL="743040" indent="-285840">
              <a:spcBef>
                <a:spcPts val="388"/>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2060"/>
                </a:solidFill>
                <a:latin typeface="Arial"/>
              </a:rPr>
              <a:t>Označování a evidence</a:t>
            </a:r>
            <a:r>
              <a:rPr b="0" lang="cs-CZ" sz="1600" spc="-1" strike="noStrike">
                <a:solidFill>
                  <a:srgbClr val="002060"/>
                </a:solidFill>
                <a:latin typeface="Arial"/>
              </a:rPr>
              <a:t> </a:t>
            </a:r>
            <a:r>
              <a:rPr b="0" lang="cs-CZ" sz="1600" spc="-1" strike="noStrike">
                <a:solidFill>
                  <a:srgbClr val="000000"/>
                </a:solidFill>
                <a:latin typeface="Arial"/>
              </a:rPr>
              <a:t>– zajištění identifikace a zmapování pohybů zvířat – bezpečnost potravin.</a:t>
            </a:r>
            <a:endParaRPr b="0" lang="en-US" sz="1600" spc="-1" strike="noStrike">
              <a:solidFill>
                <a:srgbClr val="000000"/>
              </a:solidFill>
              <a:latin typeface="Arial"/>
            </a:endParaRPr>
          </a:p>
          <a:p>
            <a:pPr lvl="1" marL="743040" indent="-285840">
              <a:spcBef>
                <a:spcPts val="388"/>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2060"/>
                </a:solidFill>
                <a:latin typeface="Arial"/>
              </a:rPr>
              <a:t>Šlechtění a plemenitba</a:t>
            </a:r>
            <a:r>
              <a:rPr b="0" lang="cs-CZ" sz="1600" spc="-1" strike="noStrike">
                <a:solidFill>
                  <a:srgbClr val="002060"/>
                </a:solidFill>
                <a:latin typeface="Arial"/>
              </a:rPr>
              <a:t> </a:t>
            </a:r>
            <a:r>
              <a:rPr b="0" lang="cs-CZ" sz="1600" spc="-1" strike="noStrike">
                <a:solidFill>
                  <a:srgbClr val="000000"/>
                </a:solidFill>
                <a:latin typeface="Arial"/>
              </a:rPr>
              <a:t>– kvalita a produkce chovu.</a:t>
            </a:r>
            <a:endParaRPr b="0" lang="en-US" sz="1600" spc="-1" strike="noStrike">
              <a:solidFill>
                <a:srgbClr val="000000"/>
              </a:solidFill>
              <a:latin typeface="Arial"/>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3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od 1.1.1999 – zavedení systému evidence skotu totožný s EU</a:t>
            </a:r>
            <a:endParaRPr b="0" lang="en-US" sz="18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hrnuje zpracování údajů o pohybech zvířat, jejich narození, porážek a úhynů,</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louží pro zpřesňování informací o nákazových situacích v chovu hospodářských zvířat,</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vádí ji Českomoravská společnost chovatelů s.r.o, pod dozorem Státní veterinární správy,</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ato ústřední evidence pohybů zvířat přebírá údaje o původech zvířat z dat reprodukce a kontroly užitkovos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2"/>
          <p:cNvSpPr>
            <a:spLocks noGrp="1"/>
          </p:cNvSpPr>
          <p:nvPr>
            <p:ph type="title"/>
          </p:nvPr>
        </p:nvSpPr>
        <p:spPr>
          <a:xfrm>
            <a:off x="250920" y="274680"/>
            <a:ext cx="6626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Ústřední evidence sk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12"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13"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6DDE-5A64-4995-A01C-8EABC6E658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4" name="PlaceHolder 1"/>
          <p:cNvSpPr>
            <a:spLocks noGrp="1"/>
          </p:cNvSpPr>
          <p:nvPr>
            <p:ph/>
          </p:nvPr>
        </p:nvSpPr>
        <p:spPr>
          <a:xfrm>
            <a:off x="250920" y="1557360"/>
            <a:ext cx="8470800" cy="47512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ý chovatel musí být registrován příslušnou oprávněnou organizací, která mu  přidělí číslo v rámci okresu.</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MSCH – vystavuje doklad (formát A ) pro  živě narozená telata – do 3 týdnů věku – doklad po celou dobu života zvířete putuje s ním a při každé  změně majitele je povinností nového majitele hlásit a zapsat do dokladu tuto změnu.</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ÚE je základ evidence zvířat, která umožňuje vedení údajů a přehledů o užitkovosti, zdraví, plodnosti, věku, růstu a vývinu zvířat.</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ez správné evidence není možné provádět plemenářskou práci.</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ložení původů - vliv na cenu zvířet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lovice bez původu – jateční cena březí jalovic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 doloženým původem – 17.000 - 35.000,- Kč</a:t>
            </a:r>
            <a:endParaRPr b="0" lang="en-US" sz="16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značení telat - prvotně ihned po narození (pásek s číslem).</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onečné označení do max. 72 hodin po narození -  ušní známk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250920" y="274680"/>
            <a:ext cx="6626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Ústřední evidence sk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17"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18"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1283-48FE-4078-9717-02790A5B38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title"/>
          </p:nvPr>
        </p:nvSpPr>
        <p:spPr>
          <a:xfrm>
            <a:off x="250920" y="274680"/>
            <a:ext cx="6842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ový systém evidence</a:t>
            </a:r>
            <a:r>
              <a:rPr b="0" lang="cs-CZ" sz="3200" spc="-1" strike="noStrike">
                <a:solidFill>
                  <a:srgbClr val="000000"/>
                </a:solidFill>
                <a:latin typeface="Arial"/>
              </a:rPr>
              <a:t> </a:t>
            </a:r>
            <a:endParaRPr b="0" lang="en-US" sz="3200" spc="-1" strike="noStrike">
              <a:solidFill>
                <a:srgbClr val="000000"/>
              </a:solidFill>
              <a:latin typeface="Arial"/>
            </a:endParaRPr>
          </a:p>
        </p:txBody>
      </p:sp>
      <p:sp>
        <p:nvSpPr>
          <p:cNvPr id="120" name="PlaceHolder 2"/>
          <p:cNvSpPr>
            <a:spLocks noGrp="1"/>
          </p:cNvSpPr>
          <p:nvPr>
            <p:ph/>
          </p:nvPr>
        </p:nvSpPr>
        <p:spPr>
          <a:xfrm>
            <a:off x="250920" y="1557360"/>
            <a:ext cx="8470800" cy="4751280"/>
          </a:xfrm>
          <a:prstGeom prst="rect">
            <a:avLst/>
          </a:prstGeom>
          <a:noFill/>
          <a:ln w="0">
            <a:noFill/>
          </a:ln>
        </p:spPr>
        <p:txBody>
          <a:bodyPr anchor="t">
            <a:normAutofit/>
          </a:bodyPr>
          <a:p>
            <a:pPr marL="343080" indent="-34308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ovinné označení</a:t>
            </a:r>
            <a:endParaRPr b="0" lang="en-US" sz="18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2 originální plastové známky </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 originální kovová známka</a:t>
            </a:r>
            <a:endParaRPr b="0" lang="en-US" sz="1600" spc="-1" strike="noStrike">
              <a:solidFill>
                <a:srgbClr val="000000"/>
              </a:solidFill>
              <a:latin typeface="Arial"/>
            </a:endParaRPr>
          </a:p>
          <a:p>
            <a:pPr marL="343080"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áklady na toto značení jsou plně hrazeny státem z prostředků určených pro vedení ústřední evidence – označení:</a:t>
            </a:r>
            <a:endParaRPr b="0" lang="en-US" sz="18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lovičky – žluté plastové známky,</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ýčci – červené plastové známky.</a:t>
            </a:r>
            <a:endParaRPr b="0" lang="en-US" sz="1600" spc="-1" strike="noStrike">
              <a:solidFill>
                <a:srgbClr val="000000"/>
              </a:solidFill>
              <a:latin typeface="Arial"/>
            </a:endParaRPr>
          </a:p>
          <a:p>
            <a:pPr marL="343080" indent="0">
              <a:lnSpc>
                <a:spcPct val="90000"/>
              </a:lnSpc>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námky</a:t>
            </a:r>
            <a:endParaRPr b="0" lang="en-US" sz="18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usí nést označení CZ (podmínka pro EU),</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nak MZe nebo ČMSCH,</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místný kód správní jednotky (kraj),</a:t>
            </a:r>
            <a:endParaRPr b="0" lang="en-US" sz="1600" spc="-1" strike="noStrike">
              <a:solidFill>
                <a:srgbClr val="000000"/>
              </a:solidFill>
              <a:latin typeface="Arial"/>
            </a:endParaRPr>
          </a:p>
          <a:p>
            <a:pPr lvl="1" marL="743040" indent="-285840">
              <a:lnSpc>
                <a:spcPct val="9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šestimístné pořadové  číslo zvířet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250920" y="630864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z Loštice</a:t>
            </a:r>
            <a:endParaRPr b="0" lang="en-US" sz="1200" spc="-1" strike="noStrike">
              <a:solidFill>
                <a:srgbClr val="000000"/>
              </a:solidFill>
              <a:latin typeface="Calibri"/>
            </a:endParaRPr>
          </a:p>
        </p:txBody>
      </p:sp>
      <p:sp>
        <p:nvSpPr>
          <p:cNvPr id="122" name="Footer Placeholder 4"/>
          <p:cNvSpPr/>
          <p:nvPr/>
        </p:nvSpPr>
        <p:spPr>
          <a:xfrm>
            <a:off x="3059280" y="6308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g. Miroslav Huk</a:t>
            </a:r>
            <a:endParaRPr b="0" lang="en-US" sz="1200" spc="-1" strike="noStrike">
              <a:solidFill>
                <a:srgbClr val="000000"/>
              </a:solidFill>
              <a:latin typeface="Calibri"/>
            </a:endParaRPr>
          </a:p>
        </p:txBody>
      </p:sp>
      <p:sp>
        <p:nvSpPr>
          <p:cNvPr id="123" name="Slide Number Placeholder 5"/>
          <p:cNvSpPr/>
          <p:nvPr/>
        </p:nvSpPr>
        <p:spPr>
          <a:xfrm>
            <a:off x="6588000" y="6308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8CCE-AA36-4EE1-8C4C-548669F719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24" name="Picture 3" descr="image006"/>
          <p:cNvPicPr/>
          <p:nvPr/>
        </p:nvPicPr>
        <p:blipFill>
          <a:blip r:embed="rId1"/>
          <a:stretch/>
        </p:blipFill>
        <p:spPr>
          <a:xfrm>
            <a:off x="539640" y="1484280"/>
            <a:ext cx="4248360" cy="3640320"/>
          </a:xfrm>
          <a:prstGeom prst="rect">
            <a:avLst/>
          </a:prstGeom>
          <a:ln w="0">
            <a:noFill/>
          </a:ln>
        </p:spPr>
      </p:pic>
      <p:sp>
        <p:nvSpPr>
          <p:cNvPr id="125" name="Rectangle 4"/>
          <p:cNvSpPr/>
          <p:nvPr/>
        </p:nvSpPr>
        <p:spPr>
          <a:xfrm>
            <a:off x="250920" y="274680"/>
            <a:ext cx="6842160" cy="922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ový systém evidence</a:t>
            </a:r>
            <a:r>
              <a:rPr b="0" lang="cs-CZ" sz="3200" spc="-1" strike="noStrike">
                <a:solidFill>
                  <a:srgbClr val="000000"/>
                </a:solidFill>
                <a:latin typeface="Arial"/>
              </a:rPr>
              <a:t> </a:t>
            </a:r>
            <a:endParaRPr b="0" lang="en-US" sz="3200" spc="-1" strike="noStrike">
              <a:solidFill>
                <a:srgbClr val="000000"/>
              </a:solidFill>
              <a:latin typeface="Calibri"/>
            </a:endParaRPr>
          </a:p>
        </p:txBody>
      </p:sp>
      <p:sp>
        <p:nvSpPr>
          <p:cNvPr id="126" name="Text Box 5"/>
          <p:cNvSpPr/>
          <p:nvPr/>
        </p:nvSpPr>
        <p:spPr>
          <a:xfrm>
            <a:off x="4932360" y="1700280"/>
            <a:ext cx="394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or části plastové ušní známky používané pro označování skotu:</a:t>
            </a:r>
            <a:endParaRPr b="0" lang="en-US" sz="1800" spc="-1" strike="noStrike">
              <a:solidFill>
                <a:srgbClr val="000000"/>
              </a:solidFill>
              <a:latin typeface="Calibri"/>
            </a:endParaRPr>
          </a:p>
        </p:txBody>
      </p:sp>
      <p:pic>
        <p:nvPicPr>
          <p:cNvPr id="127" name="Picture 6" descr="image008"/>
          <p:cNvPicPr/>
          <p:nvPr/>
        </p:nvPicPr>
        <p:blipFill>
          <a:blip r:embed="rId2"/>
          <a:stretch/>
        </p:blipFill>
        <p:spPr>
          <a:xfrm>
            <a:off x="5219640" y="2565360"/>
            <a:ext cx="3456000" cy="3371760"/>
          </a:xfrm>
          <a:prstGeom prst="rect">
            <a:avLst/>
          </a:prstGeom>
          <a:ln w="0">
            <a:noFill/>
          </a:ln>
        </p:spPr>
      </p:pic>
      <p:sp>
        <p:nvSpPr>
          <p:cNvPr id="128" name="Text Box 7"/>
          <p:cNvSpPr/>
          <p:nvPr/>
        </p:nvSpPr>
        <p:spPr>
          <a:xfrm>
            <a:off x="179280" y="5157720"/>
            <a:ext cx="5257800" cy="125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oznámk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Identifikační číslo zvířete uvedené na plastové</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ušní známce se uvádí vždy v tomto pořadí:</a:t>
            </a:r>
            <a:endParaRPr b="0" lang="en-US" sz="1800" spc="-1" strike="noStrike">
              <a:solidFill>
                <a:srgbClr val="000000"/>
              </a:solidFill>
              <a:latin typeface="Calibri"/>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a:t>
            </a:r>
            <a:r>
              <a:rPr b="1" lang="cs-CZ" sz="1800" spc="-1" strike="noStrike">
                <a:solidFill>
                  <a:srgbClr val="ff0000"/>
                </a:solidFill>
                <a:latin typeface="Arial"/>
              </a:rPr>
              <a:t>CZ 019236 921“</a:t>
            </a:r>
            <a:r>
              <a:rPr b="0" lang="cs-CZ"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1:56:50Z</dcterms:created>
  <dc:creator>jontypearce</dc:creator>
  <dc:description/>
  <dc:language>en-US</dc:language>
  <cp:lastModifiedBy>Huk</cp:lastModifiedBy>
  <dcterms:modified xsi:type="dcterms:W3CDTF">2014-02-05T15:00:20Z</dcterms:modified>
  <cp:revision>56</cp:revision>
  <dc:subject/>
  <dc:title>Cow PowerPoint Presentation</dc:title>
</cp:coreProperties>
</file>