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D60-F13F-464D-9DAB-7093D952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135-2B4C-444E-864F-AF0F1D49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322-B583-4D5C-BEB2-70455FA4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F61-5CB9-4C41-870D-9178F324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C5CE-AB82-420F-B255-4896693D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1BB4-64B9-47B5-B34F-E53A7025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6508-ABF0-49F1-A64D-D7855BEA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A509-F32A-4C36-8C24-F9FAFE3D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543C-7AA8-4AF4-BC08-C996E73B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6CCC-D48A-4982-A14B-4382884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9325-C436-4AF7-8D12-E0AFFB93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778-5EFD-442C-AC17-A4C01957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0BD5-9B29-4B01-A4B1-20A382CD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08AC-129E-4AF1-8011-99E959A6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96D6-CF31-4A23-9EEE-B038F00A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CF0B-5F82-4090-BE2E-5D41E46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3612-9BAC-4BA5-9A4E-B3AA19EB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A64-52A8-49C9-AC0B-9D00CF05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F94-8855-4447-8755-C2247533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958-B5FF-466B-8A4A-8CCC0594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289-E348-40D1-8B9B-582AD1EC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538-ED73-458D-B60A-2ADDFA0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BC9-CDA3-4AAC-86B8-3C520C6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3A0-4110-4E22-877F-C9E2857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43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795-905D-45E3-A1D8-F9CCDA06E4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43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714B-0295-457E-87EF-09D39A2CCD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zesro.cz/" TargetMode="External"/><Relationship Id="rId2" Type="http://schemas.openxmlformats.org/officeDocument/2006/relationships/hyperlink" Target="https://docs.google.com/znamky.szesro.cz/text" TargetMode="External"/><Relationship Id="rId3" Type="http://schemas.openxmlformats.org/officeDocument/2006/relationships/hyperlink" Target="http://tresen.vscht.cz/tmt/ESO/EM/3/313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MLÉČNÁ UŽITKOV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24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3237-CC46-4A91-9DB3-B46051A03F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ejekce mléka2 kopie"/>
          <p:cNvPicPr/>
          <p:nvPr/>
        </p:nvPicPr>
        <p:blipFill>
          <a:blip r:embed="rId1">
            <a:grayscl/>
          </a:blip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50920" y="189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Spou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tě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hormon oxytoc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056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ý druh savců hospodářských zvířat má mléko jiného slože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 označením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„mléko“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ez udání druhu) rozumíme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léko kravs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znam mléka pro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uje hodnotné bílkoviny (3,2 %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uje tuk – je lehce stravitelný, je v mléce rozptýlen ve formě jemných kapének – emulz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uje mléčný cukr (4,4 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 energetickou hodno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znivě podporuje činnost střevních mikroorganismů i využitelnost živ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lišuj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a zral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jsou produkována v období plné lak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a nezral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atří sem mlezivo, svým složením se odlišuje od zralého mléka nesmí se využívat k lidské výživ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a nenormál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ýměšky, které nejsou podmíněny březostí plemen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anens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u nezabřezlých jalov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amč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zácně u kozlů a býk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rodějn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ýjimečně u narozených 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áď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FED5-2284-4BB1-BBA9-54B0163BF5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ýznam mléka pro člověka, druhy 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5456-8E3C-4898-9F3D-CB01C4F808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yzikální a chemické vlastnosti mlé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ustot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,028-1,032 g/c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,6-6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d var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0,15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d tuhnut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0,55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lastnosti a slože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3357720"/>
          <a:ext cx="8642160" cy="2950920"/>
        </p:xfrm>
        <a:graphic>
          <a:graphicData uri="http://schemas.openxmlformats.org/drawingml/2006/table">
            <a:tbl>
              <a:tblPr/>
              <a:tblGrid>
                <a:gridCol w="3230640"/>
                <a:gridCol w="1326960"/>
                <a:gridCol w="4084560"/>
              </a:tblGrid>
              <a:tr h="52848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mlé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eziva (5-7 dní po porod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485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ílkoviny (kasein 80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któ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erálmí látky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1C2-5F5B-483D-B8BA-A45BD0BC19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ivy na složení mlé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žení  a kvalita krmné dávky (přetváření živin z krmení na plnohodnotnou mléčnou bílkovinu je 2 – 2,5 výhodnější než na mas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chnika chov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ůsob doj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ádium lakta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áze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znam mlé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je potravin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je krmiv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zajišťuje pravidelný finanční příje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zajišťuje celoroční pracovní čin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livy na slože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a, význam mlé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50560" y="1483920"/>
            <a:ext cx="878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ady považuj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měněnou bar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arva špinavě žlut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říčinou může být zánět vemene, TBC, slintavka, kulhav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ervené zbarve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ři poranění struku, vemene, onemocnění snětí slezinnou, zkrmováním pryskyřníkovitých rostlin, různé bakter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 modravým nádeche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zkrmování přesličky,, rdesna nebo přítomnost některých bakteri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měněnou hu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uť slan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ři zánětu mléčné žlázy a starodojných kra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uť hořk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ři zkrmování vysokých dávek brambor, řepky, nahnilé řepy, vystavení mléka slunečnímu záření, uchovávání delší dobu při nižších teplo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měněnou vů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snadno přijímá pach z vnějšího prostředí (siláže, chlévská mrva, léčiva, dezinfekční prostředk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měněnou viskozi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zánětu mléčné žlázy, slintavce a kulhavce je vločkovité a slizk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!! Mléko se změněnými vlastnostmi se nesmí používat k lidskému konzumu.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6D60-250C-4853-A26D-21CC81A992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ady 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9942-8F52-4249-8E01-0D15FA2648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dnocení za laktaci, tj. od otelení do zaprahnutí se provádí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 přepočtu na 305 dní laktace = normovaná lakt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e-li skutečná délka laktace v rozmezí 250 – 305 dní považuje se za normovanou laktaci skutečná délka lakt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ktace má dvě f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estupná fáze, 30-60 d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ažení vrcholu (nejvyšší denní dojivost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stupná fá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Grafické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ktační kři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ednovrcholová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loch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ar laktační křivky má ekonomický význ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jcennější je plochá laktační křivka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tyto dojnice vyrábějí mléko levněj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lépe využívají objemných krmi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ohou se dojit 2x denně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o otelení jsou méně metabolicky zatěžová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dnocen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léčné užitko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6758-982D-479E-94A6-72ADF30F88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50920" y="260280"/>
            <a:ext cx="67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aktační křiv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1" descr=""/>
          <p:cNvPicPr/>
          <p:nvPr/>
        </p:nvPicPr>
        <p:blipFill>
          <a:blip r:embed="rId1"/>
          <a:stretch/>
        </p:blipFill>
        <p:spPr>
          <a:xfrm>
            <a:off x="0" y="143352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275D-53C1-44BB-B4BE-4031E19B5B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itř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ná příslušnost – tj. užitkový typ (plemena mléčná, kombinovaná a masná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ědiv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mléka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 bílkovin v %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 tuku v %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bílkovin v kg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tuku v kg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dividuali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nnost mléčné žláz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nost (vliv porodu, SP, mezidob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250920" y="260280"/>
            <a:ext cx="6626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Činite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ovlivňuj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čnou užitkovost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966A-925C-4C3C-8C35-5C8F8476E7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živa (na výši mléčné užitkovosti se podílí z 60 – 70 %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chnologie chov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stáj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šetřová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ání na such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kroklima ve stáj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valita odchov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řadí laktace – nejvyšší užitkovost bývá v 5. lakt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http://s1.postimage.org/jgmzo8gtl/b_ba_doj_kr_vu.gif"/>
          <p:cNvPicPr/>
          <p:nvPr/>
        </p:nvPicPr>
        <p:blipFill>
          <a:blip r:embed="rId1"/>
          <a:stretch/>
        </p:blipFill>
        <p:spPr>
          <a:xfrm>
            <a:off x="5987880" y="2708280"/>
            <a:ext cx="3156120" cy="3198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250920" y="260280"/>
            <a:ext cx="6626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Činite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ovlivňuj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čnou užitkovost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7776-67D0-4D4E-9A4D-12A971D0F1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Vydání první. Praha: Nakladatelství Brázda, s. r. o.,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ání druhé. Praha: Institut výchovy a vzdělávání Ministerstva zemědělství České republiky, 1995. 236 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ání druhé. Praha: Institut 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www.szesro.cz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2"/>
              </a:rPr>
              <a:t>https://docs.google.com/znamky.szesro.cz/tex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b6def"/>
                </a:solidFill>
                <a:uFillTx/>
                <a:latin typeface="Arial"/>
                <a:hlinkClick r:id="rId3"/>
              </a:rPr>
              <a:t>http://tresen.vscht.cz/tmt/ESO/EM/3/313.ht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54403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éčná užitkov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24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10., 15. 10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8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ladní pojmy, anatomie a funkce mléčné žlázy, spouštění mléka, druhy mlék, vady a složení mléka, hodnocení mléčné užitkovosti, laktační křivka, činitelé ovlivňující mléčnou užitkovost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skotu - </a:t>
            </a: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Mléčná užitkovost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284720" y="6165720"/>
            <a:ext cx="424008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D143-15C0-42BE-BA3D-8E892187D6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č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užitkovost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roba mléka v ČR byla nejvyšší v 80. letech minulého stole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dprodukce mléka se řešila snížením stavu dojn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provodným negativním jevem snížení stavu dojnic byl pokles užitkov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nut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bezpečit nárůst úrovně užitkovosti, aby byla srovnatelná s dalšími chovy v E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 povede ke snížení výrobních nákladů a tím i ke snížení ceny mléka (včetně ceny mléčných výrobků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žitkov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vyjadřuje ji množst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 m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ka a jeho kvali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 za urči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 časo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 obdo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lbertus Medium"/>
              </a:rPr>
              <a:t>Základní poj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Dojnost 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= schopnost tvořit m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Dojivost 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= množst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 vyprodukova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ho m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Dojitelnost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= schopnost sp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tět m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ko s různou intenzit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Mléčnost 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= produkce mléka jen pro výživu mláďat u nedojných samic (prasnice, klisna, král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3539-6A8A-495C-895B-B915DC29C8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Anatomie 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č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ž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čná žlá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větší kožní útvar, který vznikl přeměnou potních žláz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výrazným sekundárním pohlavním znakem sa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nět k rozvoji mléčné žlázy je zahájení funkc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hlavních hormon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estrogen, progester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1 % vývo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mléčné žlázy proběhne před  zabřeznutím v době pohlavního dospívá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41 % vývoj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ěhem břez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48 % vývoj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čátečních fázích lak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ěhem dalších gravidit zvětšuje mléčná žláza hlavně svůj obj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meno k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ádá se ze 4 zcela samostatných (morfologicky i funkčně) čtvrt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í vazů se upíná ke stěně břiš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věsný vaz tvoří pevnou přepážku mezi pravou a levou polovinou vem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1C5F-39D3-4D33-A634-E5D7DBD0A2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0" y="0"/>
            <a:ext cx="6908760" cy="6858000"/>
            <a:chOff x="0" y="0"/>
            <a:chExt cx="6908760" cy="6858000"/>
          </a:xfrm>
        </p:grpSpPr>
        <p:pic>
          <p:nvPicPr>
            <p:cNvPr id="110" name="Picture 2" descr="Anatomie vemene2 kopie"/>
            <p:cNvPicPr/>
            <p:nvPr/>
          </p:nvPicPr>
          <p:blipFill>
            <a:blip r:embed="rId1"/>
            <a:stretch/>
          </p:blipFill>
          <p:spPr>
            <a:xfrm>
              <a:off x="1619280" y="0"/>
              <a:ext cx="5289480" cy="6858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1" name="Object 3"/>
            <p:cNvGraphicFramePr/>
            <p:nvPr/>
          </p:nvGraphicFramePr>
          <p:xfrm>
            <a:off x="0" y="1268280"/>
            <a:ext cx="168264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268280"/>
                      <a:ext cx="168264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Oval 4"/>
            <p:cNvSpPr/>
            <p:nvPr/>
          </p:nvSpPr>
          <p:spPr>
            <a:xfrm>
              <a:off x="826920" y="1268280"/>
              <a:ext cx="83844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5"/>
            <p:cNvSpPr/>
            <p:nvPr/>
          </p:nvSpPr>
          <p:spPr>
            <a:xfrm flipV="1">
              <a:off x="1547640" y="907560"/>
              <a:ext cx="6145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B12D-288B-42E2-8746-5D33654D26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morfologický znak vem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a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kulovité vem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vejčité vem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suté (svislé, pytlovité) veme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ik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3465360"/>
            <a:ext cx="6786720" cy="306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estr_vemeno600"/>
          <p:cNvPicPr/>
          <p:nvPr/>
        </p:nvPicPr>
        <p:blipFill>
          <a:blip r:embed="rId2"/>
          <a:stretch/>
        </p:blipFill>
        <p:spPr>
          <a:xfrm>
            <a:off x="5351400" y="1484280"/>
            <a:ext cx="3781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C880-5487-4963-AF0F-15684E8B82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estavení, velikost a tvar struků rozhodují o účinnosti strojního doj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álcovit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želovité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levkovité (hruškovité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yjovit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Skupina 3"/>
          <p:cNvGrpSpPr/>
          <p:nvPr/>
        </p:nvGrpSpPr>
        <p:grpSpPr>
          <a:xfrm>
            <a:off x="3909960" y="1846440"/>
            <a:ext cx="5067360" cy="4647960"/>
            <a:chOff x="3909960" y="1846440"/>
            <a:chExt cx="5067360" cy="4647960"/>
          </a:xfrm>
        </p:grpSpPr>
        <p:pic>
          <p:nvPicPr>
            <p:cNvPr id="126" name="Picture 4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3909960" y="1846440"/>
              <a:ext cx="5067360" cy="464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Skupina 2"/>
            <p:cNvGrpSpPr/>
            <p:nvPr/>
          </p:nvGrpSpPr>
          <p:grpSpPr>
            <a:xfrm>
              <a:off x="5219640" y="2781000"/>
              <a:ext cx="3291480" cy="2960280"/>
              <a:chOff x="5219640" y="2781000"/>
              <a:chExt cx="3291480" cy="2960280"/>
            </a:xfrm>
          </p:grpSpPr>
          <p:sp>
            <p:nvSpPr>
              <p:cNvPr id="128" name="TextovéPole 1"/>
              <p:cNvSpPr/>
              <p:nvPr/>
            </p:nvSpPr>
            <p:spPr>
              <a:xfrm>
                <a:off x="5219640" y="2781000"/>
                <a:ext cx="1079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Calibri"/>
                  </a:rPr>
                  <a:t>válcovitý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TextovéPole 7"/>
              <p:cNvSpPr/>
              <p:nvPr/>
            </p:nvSpPr>
            <p:spPr>
              <a:xfrm>
                <a:off x="5903640" y="3801600"/>
                <a:ext cx="1079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Calibri"/>
                  </a:rPr>
                  <a:t>kuželovitý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TextovéPole 8"/>
              <p:cNvSpPr/>
              <p:nvPr/>
            </p:nvSpPr>
            <p:spPr>
              <a:xfrm>
                <a:off x="6732000" y="4653000"/>
                <a:ext cx="1152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Calibri"/>
                  </a:rPr>
                  <a:t>nálevkovitý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TextovéPole 9"/>
              <p:cNvSpPr/>
              <p:nvPr/>
            </p:nvSpPr>
            <p:spPr>
              <a:xfrm>
                <a:off x="7431480" y="5403960"/>
                <a:ext cx="1079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Calibri"/>
                  </a:rPr>
                  <a:t>kyjovitý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443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CC6E-3696-4545-84AD-8CE3EEECDE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ce mléčné žlá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vorba mlé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veoly - kanálky - mlékovody - žlázový mlékojem – stru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estavba živin z látek v krv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robíhá v sekrečních buňká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z glycerolu a mastných kysel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ílkov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z volných aminokysel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któz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z krevní glukóz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hromažďování mlé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ůčk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vod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je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ouštění mlé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akce myoepiteliálních buněk (oxytocin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volnění svěra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7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lad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funkce m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č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žl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2-05T14:53:37Z</dcterms:modified>
  <cp:revision>59</cp:revision>
  <dc:subject/>
  <dc:title>Cow PowerPoint Presentation</dc:title>
</cp:coreProperties>
</file>