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C8B-A479-4DCD-B596-E89F21D0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CF4-61C4-49F3-B018-3CC69DDE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9E6-9B97-4EBF-BDD4-FDECCA36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262-E7A7-444F-BCE7-98EC7B67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FB4-4079-4818-A54A-575EA585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01B-BAE9-48F6-A418-1F527CF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C13-D64B-4BEA-B0DF-F0EE106B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A4C-6346-43EF-B932-B1255CA4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98F-3842-41DA-AE34-4B2F7FC3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81B-4403-405A-89DF-F7D70137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1CC-3A4E-4350-B1CC-8933A342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3FD-D12A-4611-976F-EDBC1F4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867E-54BF-469A-9CF1-1FD6C3640B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0" y="5489640"/>
            <a:ext cx="856944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33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000000"/>
                </a:solidFill>
                <a:latin typeface="Arial"/>
              </a:rPr>
              <a:t>ROZMNOŽOVÁNÍ </a:t>
            </a:r>
            <a:br>
              <a:rPr sz="4900"/>
            </a:br>
            <a:r>
              <a:rPr b="1" lang="cs-CZ" sz="4900" spc="-1" strike="noStrike">
                <a:solidFill>
                  <a:srgbClr val="000000"/>
                </a:solidFill>
                <a:latin typeface="Arial"/>
              </a:rPr>
              <a:t>A PLODNOST ZVÍŘAT 2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48760" y="1557000"/>
            <a:ext cx="8472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semin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Řízený způsob reproduk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 spočívající v odběru a hodnocení ejakulátu, zhotovení inseminační dávky a její zapravení do pohlavních orgánů sam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seminace je nejstarší a zároveň nejúspěšnější biotechnická metoda, která umožňuje řídit rozplozování zvíř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pářeni zvířat je uvolňováno do pohlavních orgánů samice velké „nadbytečné" množství spermií (skot 4-14 miliard, prase 40 - 50 miliard, beran 2-4 miliardy), k realizaci procesu oplození vajíčka stačí daleko menší počet (u krávy je potřebné množství 10 milionů aktivních spermií), vlastní oplození vajíčka provede jedna sper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tedy možno zvýšit využití ejakulátu ředěním. Vysoké využití plemeníka pomocí inseminace dokládá případ býka z Dánska, od kterého bylo získáno pomocí inseminace více jak 100 000 tel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ledky inseminace jsou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hovatelské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šlechtitelské a hygienické), ale i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ekonom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čemž se oba tyto aspekty podmiňuj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EEB3-B8DB-4702-A5D0-B77F2048D4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semin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48760" y="1557360"/>
            <a:ext cx="8472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 chovatelského hledisk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nížená potřeba plemeníků vede k intenzivní selekci, což se projevuje na zlepšení úrovně příštích generací, využití plemeníka není omeze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mi důležité je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dravotní hledisk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obrana proti šíření náka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Ekonomický význa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seminac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počívá ve snížení počtu potřebných plemeník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tím v úspoře nákladů na jejich držení, druhotně je ekonomický přínos v rychlejším zlepšování užitkovosti a z toho plynoucí ekonomický efe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současnosti se inseminace provádí u všech hospodářských zvířat (včetně včel) s největším rozsahem u skotu (95 % stavu krav) a prasat (75 % stavu prasn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eminace je podmínkou úspěšné realizace šlechtitelských programů. Nejdokonaleji je zvládnuta v chovu sko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1370-5A3A-49FD-A5DC-8999AABDDB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semin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760" y="1565280"/>
            <a:ext cx="8472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seminace jako metoda zahrn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ískání a hodnocení spermat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ejakulát se získává simulací páření a odběrem do umělé vagíny, každý ejakulát je ihned laboratorně vyšetřen na kvalitu spermií, jejich koncentraci a pohy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další využití je použit pouze kvalitní ejakulát jehož parametry splňují předepsané norm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pracování a uchování inseminačních dávek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zpracování ejakulátu spočívá v jeho ředění v závislosti na kvalitě spermií ředidlem, které má poskytovat spermiím energetickou výživu, odolnost vůči změnám pH, osmotickému tlaku a poškození při zmražení, zabránit rozmnožení bakteri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naředění se rozdělí ejakulát do </a:t>
            </a:r>
            <a:r>
              <a:rPr b="1" lang="cs-CZ" sz="1800" spc="-1" strike="noStrike">
                <a:solidFill>
                  <a:srgbClr val="002060"/>
                </a:solidFill>
                <a:latin typeface="Arial"/>
              </a:rPr>
              <a:t>inseminačních dáv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uspenze    spermií se plní do polyvinylchloridových dutinek o obsahu 0,25 - 0,5 ml nebo ampul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louhodobé uchovávání inseminačních dávek je realizováno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ryokonzerva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řízeným procesem mražení) a uchovávání v tekutém dusí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5C33-4B6C-455F-B004-8551234B02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semin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0920" y="1557000"/>
            <a:ext cx="8470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astní insemin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pravení inseminační dávky do pohlavních orgánů říjící se samice, využívá se vždy dávek jejichž biologická kvalita splňuje normu kva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spěšnost inseminace je závislá na kvalitě práce lidí zejména při vyhledávání plemenic v ří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ukce inseminačních dávek a inseminace se stala samostatným odvětvím služby šlechtitelských podniků, je za úplatu poskytována chovatelů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5E7A-5B81-44C0-BD4E-52A49FA8BD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Insemin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920" y="1557000"/>
            <a:ext cx="8470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vlivňování pohlavního cyk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produkce podstatnou měrou podmiňuje celkovou efektivnost chovů, a proto byla vyvinuta řada moderních biotechnických met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ynchronizace říje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rozumí se tím sladění říje vybraných zvířat tak, aby k nástupu říje došlo v krátkém časovém rozmezí. Používají se k tomu preparáty na bázi hormonů (progesteron). Metoda se uplatňuje v chovech, kde je problematické vyhledávání říjících plemenic, avšak vhodná je pouze pro dospělá zvířata v dobré kondi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uperovul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je vyvolaná podáním gonadotropních hormonů, tím dochází k uvolnění většího počtu vajíček a tak lze u mimořádně cenných dojnic lépe využít jejich genetický potenciál ve spolupráci s embriotransfer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Embryotransfe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transplantace) zárodečných buněk je metoda, která nemá větší rozšíření. Je pracná a provádí ji pouze specializovaní pracovní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častěji 7-10 dní po inseminaci se provádí výplach zygot  fyziologickým roztokem. Je zjištěn počet zygot a posouzena jejich kvalita. Potom mohou být uchovány zmrazením či přeneseny do pohlavních orgánů jiných plemenic. Těmto plemenicím (častěji jalovice) říkáme příjemkyně – recipientky, zatímco dárkyně nazýváme donor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0020-013C-4617-ADBD-5B4131469A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Ovlivňování pohlavního cyk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01D4-45F7-4BAE-98CB-61D815B7FB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47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Chov zvířat 2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Atlas plemen hospodářských zvířat. Vydání první. Praha: Nakladatelství Brázda, s. r. o.,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95. 236 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86. 296 s. ISBN 80-7105-019-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BURDA, František. Zemědělské výrobky 2 – živočišné výrobky.Vydání první. Praha: Státní zemědělské nakladatelství, 1995. 236 s. ISBN 07-000-8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ČESKÁ ZEMĚDĚLSKÁ UNIVERZITA, AGRONOMICKÁ FAKULTA, CHOV ZVÍŘAT I, Ivan Majzlík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BURDYCH, ING., Vítězslav;  VŠETEČKA, Ing., Jan a kolektiv. Reprodukce ve stádech skotu. 72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268360" y="5300640"/>
            <a:ext cx="4464360" cy="1103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57200" y="1371600"/>
          <a:ext cx="8229600" cy="482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množování a plodnost zvířa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33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1. 2014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y plemenitby, způsoby připouštění, insemin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 Unicode MS"/>
              </a:rPr>
              <a:t>Chov skotu – Rozmnožování a plodnost zvíř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427280" y="6165720"/>
            <a:ext cx="4097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920" y="1557000"/>
            <a:ext cx="8470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ody plemenit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todou plemenitby rozumíme určitý systém páření zvířat, který volíme podle toho, zda chceme vlastnosti plemene zachovat nebo změn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eznáváme plemenitbu čistokrevnou, příbuzenskou a kříž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istokrevná plemenitb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páření zvířat náležejících ke stejnému plemenu (např. býk a kráva českého strakatého plemena). Cílem této plemenitby je zachovat a zlepšit užitkové a tvarové vlastnosti chovaného plemena. Čistokrevná plemenitba je nejběžnější metodou plemenitby hospodářských zvířat.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V rámci čistokrevné plemenitby rozeznáváme plemenitb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Liniovou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je vyšší formou čistokrevné plemenitby. Zvířata patřící k určité linii (pochází ze společného předka a mají určité charakteristickými znaky) se vyznačují některou hospodářsky cennou vlastností ( tučnost mléka, dobrá schopnost k výkrmu) a odlišují se tak od ostatních zvířat téhož plem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Meziliniovou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jedná se o páření příslušníků různých linií. Tak se zlepšují užitkové vlastnosti vysoce prošlechtěných pl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Osvěžení krve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oužití plemeníků téhož plemena, ale z cizího původu (z jiné země). Používá se v chovech, kde se objeví příznaky přešlechtění (zeslabení konstituce, snížení životnosti, snížení užitkovost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0D2C-2584-49B9-8FBB-7BA4EC040B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etody plemenit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buzenská plemenitb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páření navzájem příbuzných jedinců. Při neodborném používání této plemenitby se snižuje životaschopnost potomstva, dochází ke snížení plodnosti, produkce, odolnosti a zdraví. Promyšlené příbuzenská plemenitba sehrává velkou roli při vzniku nových vynikajících plemen a užitkových typ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říž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páření zvířat různých druhů nebo plemen. Podle toho rozeznává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Mezidruhové kříž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j. páření zvířat různých druhů (např. páření klisny s oslem – potomkem je mul, nebo oslice s hřebcem – potomkem je mezek). Kříženci mají vyvinutý pohlavní pud, ale jsou neplodní. Takto získaná zvířata často mají cenné vlastnosti, které nemá ani jeden z rodičů. Páří-li se příslušníci dvou vzdálených druhů, nedojde ke zplození potomst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Meziplemenné křížení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páření zvířat, která jsou příslušníky dvou různých pl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31E7-64EE-42B5-BABA-AE5DDBE228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etody plemenit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ody kříž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ívají se k zušlechtění dosavadních plemen nebo k vytvoření nových, výkonnějších. Souborně se nazývají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změňovací kříž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 může bý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řevodn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jedná se o úplnou změnu původního plemen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ušlechťovac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cílem je zlepšení určité vlastnosti zvířete (např. zlepšení dojivosti a tvaru vemen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kombinač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cílem je vytvoření nového plemena kombinací znaků a vlastností dvou nebo více plem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užitkov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je zaměřeno na produkci kříženců. Kříženci se vyznačují rychlejším růstem, větší užitkovostí, odolností a lepším zužitkováním krmiva. Nesmějí se dále používat k další plemenitb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pouš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em řízený pohlavní akt, při kterém dochází k pohlavnímu spojení samce a samice. Říkáme, že samce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připouštím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samici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zapouští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í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v praxi jediným spolehlivým vodítkem pro správné a včasné zapouště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je jednotlivých druhů hospodářských zvířat se nazývá takto: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ráva se běhá, klisna žádá (jde ke koni), prasnice se bouká, ovce se říjí, koza se prsk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6A32-F159-487E-A380-2681D6FDDF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etody plemenit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48760" y="1557000"/>
            <a:ext cx="8472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působ připouš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pouštění je důležitým faktorem ovlivňujícím výsledky plodnosti samců. Rozeznávám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řipouštění přirozené a inseminaci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irozené připouštění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římým pohlavním styke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ce a samice je možno organizovat třemi způso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řipouštění voln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amice jsou ve stádě s jedním či více samci a páření probíhá dle výskytu říje. Nevýhodou je, že není znám termín zapuštění samic, nemůžeme stanovit datum porodu a původ mláděte, někteří plemeníci se vyčerpávají případně zraní v souboji. Kladem je vysoká plodnost. Tento způsob se používá v primitivních podmínkách cho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řipouštění skupinov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harémové) – vybrané skupině odděleně chovaných samic je přidělen jeden plemeník na dobu připouštěcího období. Jsou odstraněny nevýhody volného připouštění, je však nutné sledovat plodnost plemeníka. Tento způsob se používá v chovu ovcí a masného sk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 ruky"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lemeníci a plemenice jsou chováni odděleně a jsou předvedeni „na ruce" na místo páření, které je realizováno pod kontrolou chovatele. Tento způsob umožňuje přesnou evidenci, výběr rodičovských párů. Nevýhodou je potřeba předběžného vyhledávání samic v ří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C278-B73D-4C76-A941-2CA24A3E7F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působ připou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zi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hlavní nevýhody přirozeného připouště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tř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vysoká potřeba plemeník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s tím souvisí nepříznivé aspekty chovatelské i ekonomické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obtížná kontrola kvality ejakulát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až vyšší procento nezabřezlých samic upozorní na poruch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ití plemeníků pro přirozenou plemenitbu u hospodářských zvířat podléhá omezení ze zákona o plemenitbě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lemeník musí být licencován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ímž se zajistí kvalita plemení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oblíbených zvířat je regulováno použití samců v plemenitbě dohodnutými řády plemenné knihy chovatelských organizací k zajištění využití pouze kvalitních plemení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40F5-4CBA-4E06-8A61-9986828897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působ připou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jednoho plemeníka je možno počítat s následným počtem sam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AC66-C50D-4131-B2B9-7C7E9F57A8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působ připou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7000" y="2133720"/>
          <a:ext cx="8424720" cy="2219040"/>
        </p:xfrm>
        <a:graphic>
          <a:graphicData uri="http://schemas.openxmlformats.org/drawingml/2006/table">
            <a:tbl>
              <a:tblPr/>
              <a:tblGrid>
                <a:gridCol w="2106360"/>
                <a:gridCol w="2106720"/>
                <a:gridCol w="2104920"/>
                <a:gridCol w="2106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áření za tý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áření za 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min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ý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 a ví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řeb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-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ž 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ž 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ž 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cp:lastPrinted>2014-01-06T08:01:15Z</cp:lastPrinted>
  <dcterms:modified xsi:type="dcterms:W3CDTF">2014-02-05T14:58:13Z</dcterms:modified>
  <cp:revision>160</cp:revision>
  <dc:subject/>
  <dc:title>Cow PowerPoint Presentation</dc:title>
</cp:coreProperties>
</file>