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8BCB-4D70-44B5-8453-68D70995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8BB-5CBA-4137-91D3-D5A877AE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0AC-50AA-4F3F-9082-97B06799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A6E-E1FE-4116-908C-048EEF73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859D-D7F2-4C56-B651-722BA410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6222-B10C-42C9-B13D-1D7DCC65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775C-367B-43C3-8ED4-5869FE49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3468-DE08-4618-A8C8-190B0CB8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6EBD-6365-4C04-A03B-1AA047AB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08B1-956C-48D1-9F94-68E550AA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7D0E-3911-4998-8E36-659729D7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11DE-B794-4FB1-B59B-DB1D9DC9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C72E-9CA8-4E4A-A841-6D5D5E3B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88F2-D1EC-4AE4-98A6-2D46DE1B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BD57-9920-4F1C-B4C5-4074FFC2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5733-B4FD-42BA-BE6B-71225D86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FFFB-7DDA-4F01-92DE-06047194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E20-86AA-43BA-A5AC-A0677BD3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6344-0CFC-41E6-A405-1510B6AE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D81C-F36E-4F58-A85C-5FBFD267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BEB-CA31-4A09-B93D-97590EE8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6EFB-262B-48E3-9CF2-1D236033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2CB-5E30-4DB0-BF0F-4FDD81AA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2FF6-632A-4761-81BD-4C95AF0D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5892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7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DEDF-4888-486A-9255-8C3F7C44C2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-9360" y="5489640"/>
            <a:ext cx="8569080" cy="1368360"/>
          </a:xfrm>
          <a:prstGeom prst="rect">
            <a:avLst/>
          </a:prstGeom>
          <a:gradFill rotWithShape="0">
            <a:gsLst>
              <a:gs pos="0">
                <a:srgbClr val="e7dbc5">
                  <a:alpha val="60000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2509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589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1264-4AA9-4FC2-80DF-7B129076B5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36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POROD KRAV, OŠETŘENÍ TELETE A KRÁVY PO POROD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35_Chov_skotu</a:t>
            </a:r>
            <a:endParaRPr b="0" i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utor:  Ing. Miroslav Huk</a:t>
            </a:r>
            <a:endParaRPr b="0" i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8D98-0FDE-4765-A0C0-10BC3E5CF0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lohy pl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Nepravidelná poloha"/>
          <p:cNvPicPr/>
          <p:nvPr/>
        </p:nvPicPr>
        <p:blipFill>
          <a:blip r:embed="rId1"/>
          <a:stretch/>
        </p:blipFill>
        <p:spPr>
          <a:xfrm>
            <a:off x="3851280" y="0"/>
            <a:ext cx="503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203C-1019-4769-91DB-FECE77ABCD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o je důležité udělat po porod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70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 je důležité udělat po porod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 porodu je důlež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čistit teleti nosní a ústní dutinu od plodových vod a obalů, aby nedošlo k udušení telet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šetření pupečního pahýlu a jeho dezinfek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očištění je nutné dát tele k plemenici, aby jej očistila a osušila svým drsným jazykem, tím se  docílí dokonalého prokrvení končetin a urychlení postavení telet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velmi důležité, aby se tele co nejdříve napilo mleziva, nejlépe do 2 hod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ezivo je husté mléko, které obsahuje 6x více protilátek, bílkovin, vitamínů, minerálních látek a soli, které podporují odchod střevní smol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zornost věnujeme také plemeni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myjeme vnější pohlavní orgán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zinfikujeme případné oděrk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áme vlažný nápoj – nejlépe ze lněného semínk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bráníme plemenici v pozření lůžka (placenty) – cenný zdroj bílkovin, hormonů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3881-62AD-4659-B340-7AC999D7FE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mocné ná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4708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mocné nást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 tímto názvem rozumíme nástroje usnadňující por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běžnější nástroje a potřeby používané v porodnictví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ováz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více používaný nástro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ít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lužují porodníkovi ruku, pomáhají třeba při nepravidelném postavení plod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áky a háčk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užívají se při vybavování mrtvých těl, nebo jejich část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smí je používat laik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běžněji se používají – oční (tupé a ostré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erlič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máhají při zasunutí plodu zpět, k tomu ruka porodníkovi nestač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užití i u nepravidelných poloh plod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lešt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máhají při nepravidelné poloze plod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stní kryté a nekryté nož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máhají při krvavé cest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EF61-4ABB-4D08-BE99-78A6278CD0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porodnicke_pomucky_small"/>
          <p:cNvPicPr/>
          <p:nvPr/>
        </p:nvPicPr>
        <p:blipFill>
          <a:blip r:embed="rId1"/>
          <a:stretch/>
        </p:blipFill>
        <p:spPr>
          <a:xfrm>
            <a:off x="0" y="0"/>
            <a:ext cx="5075280" cy="6039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porodnicke_pomucky2_small"/>
          <p:cNvPicPr/>
          <p:nvPr/>
        </p:nvPicPr>
        <p:blipFill>
          <a:blip r:embed="rId2"/>
          <a:stretch/>
        </p:blipFill>
        <p:spPr>
          <a:xfrm>
            <a:off x="4995720" y="765000"/>
            <a:ext cx="41626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29AA-B855-4014-B507-B3B9A06C21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porodnicke_pomucky3_small"/>
          <p:cNvPicPr/>
          <p:nvPr/>
        </p:nvPicPr>
        <p:blipFill>
          <a:blip r:embed="rId1"/>
          <a:stretch/>
        </p:blipFill>
        <p:spPr>
          <a:xfrm>
            <a:off x="-34920" y="0"/>
            <a:ext cx="656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D973-25B6-4026-AF81-5674EF3D93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560" y="1557000"/>
            <a:ext cx="843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MIŠKOVSKÝ, DOC. ING. CSc.,Zdeněk. Chov zvířat 2. Vydání první. Praha: CREDIT – vydavatelství a agentura, 1995. 249 s. ISBN 80-901645-4-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MAJZLÍK, Ivan. Chov zvířat I. Česká zemědělská univerzita, Agronomická fakul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GARDIÁNOVÁ, Ivana. Plodnost. Katedra genetiky a šlechtění. Dostupné z http://www.turnovfree.net/~stybla/skola/czu/prvak/chov/Plodnost.pdf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LOUDA, Prof. ING. DrSc., František. Zásady využívání plemenných býků v podmínkách přirozené plemenitby. Metodika. Výzkumný ústav pro chov skotu, s.r.o., Rapotín, 2007. Dostupné z http://eagri.cz/public/web/file/26938/Prirozena_plemenitba.pdf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LOUDA, Prof. ING. DrSc., František. Uplatnění biologických zásad při řízení reprodukce plemenic. Metodika. Výzkumný ústav pro chov skotu, s.r.o., Rapotín. 2008. Dostupné z http://eagri.cz/public/web/file/33686/Uplatneni_biologickych_zasad_pri_rizeni_reprodukce plemenic.pdf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250560" y="476280"/>
            <a:ext cx="843588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užité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1371600"/>
          <a:ext cx="8229600" cy="49928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koly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ŠTZ Mohelnice, 1. máje 2, 789 85 Mohelnic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 projektu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.1.07/1.5.00/34.003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ablony klíčové aktivity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ce a zkvalitnění výuky prostřednictvím ICT (III/2)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výukového materiálu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od krav, ošetření telete a krávy po porodu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načení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35_Chov_skotu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6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or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51-H/01 Zemědělec – farmář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tická oblast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v zvířat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čník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ověření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1. 2014 KF 2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tace / metodický popis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od, polohy plodu, co je důležité udělat po porodu, pomocné nástroje, ošetření telete a matky po porodu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autor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ředitel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endParaRPr b="0" i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5589360"/>
            <a:ext cx="78501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cs-CZ" sz="2500" spc="-1" strike="noStrike">
                <a:solidFill>
                  <a:srgbClr val="000000"/>
                </a:solidFill>
                <a:latin typeface="Arial Unicode MS"/>
              </a:rPr>
              <a:t>Chov skotu – Porod krav, ošetření telete a krávy po porod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427280" y="6308640"/>
            <a:ext cx="409716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iroslav H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F0F4-F3D2-482A-B384-6115D3876A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8760" y="1557000"/>
            <a:ext cx="8472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rod je fyziologickým ukončením březosti (gravidity). Končí období nitroděložního vývoje jedince a začíná období postnatálního vývo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znaky blížícího se por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7-14 dní před porodem ochabují pánevní vazy, svaly a vazy břišní stěn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ětší se vulva, kůže stydkých pysků se stává hladko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rysy kosti křížové a hrboly sedací ostře vystupují, svalstvo ocasu je uvolněné, aktivní pohyby ocasu jsou omezené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řicho sklesne, boky vpadnou, vystupují obrysy posledních žeber, žeberní výběžky obratlů bederních i obrysy kosti kyčel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lenová zátka krčku děložního se rozpustí a odchází ve formě hustého hlen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éčná žláza se zvětšuje, před porodem se tvoří mleziv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ěkterá zvířata si připravují hnízdo a vyhledávají stanovišt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D24D-5D17-4F13-A343-A82FEBF722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4708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áze por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ředporodní</a:t>
            </a: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přípravné) období končí, když se objeví kontrakce svaloviny děložní a stahy břišní stěny. Jsou nejdříve v delších intervalech, postupně jsou častější a delší vlivem hormonu oxytocin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d porodem věnuje chovatel matkám zvláštní péči – krávy převedeme na porodní stání v porodně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stor všech porodních stájí má být osvětlený, teplý, ale dobře větratelný, udržovaný v čistot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ířata nerušíme a v noci zajistíme dohled pro případ pomo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větších koncentracích zvířat lze řešit skupinové telení ve společných porodních odděleních (volné ustájení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orod zvířat má 3 obdob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otevírac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vypuzovac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oporod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9653-62F9-456F-A9D4-81F8635DC8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470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Děložní stah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orodu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yvolává hormo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dního laloku hypofýzy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xytoc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od je řízen nervově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rmonáln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začátku porodu mění pl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ou nitroděložní polohu 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ohu porod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2060"/>
                </a:solidFill>
                <a:latin typeface="Arial"/>
              </a:rPr>
              <a:t>Otevírací stadium</a:t>
            </a:r>
            <a:r>
              <a:rPr b="0" lang="cs-CZ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arakterizová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tevíráním děložního krčk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ahy děložní svalovi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mechanismus_porodu_small"/>
          <p:cNvPicPr/>
          <p:nvPr/>
        </p:nvPicPr>
        <p:blipFill>
          <a:blip r:embed="rId1"/>
          <a:stretch/>
        </p:blipFill>
        <p:spPr>
          <a:xfrm>
            <a:off x="3995640" y="1830240"/>
            <a:ext cx="514836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EC1F-5A1A-4FCB-B249-B4B943E106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470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hy děložní svaloviny jsou z počátku málo intenzivní, tak např. u skotu jsou napřed 15 min. a na konci období 3 minu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odní bolesti u tohoto období se nazývají otevírací porodní boles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ochodu krávy se z pravidla objeví tmavý alantoisový vak, který obsahuje plodové vody, po něm je vypuzen amnionový vak, ve kterém prosvítají nožič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vní tmavý plodový vak močový se v ochodu objeví nejdříve, nebo často praská v pochvě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vní plodová voda je řídká, čirá a zapáchá po moč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tom vystoupí z ochodu světlý, průsvitný vak, v němž prosvítají nož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jeho prasknutí odtéká nažloutlá, kluzká druhá plodová vo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krávy je první  plodové   vody 5 – 10 litrů, druhé plodové vody 1 – 4 li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to období se projevuje neklidem plemenice, která často vstává, lehá, močí, kálí a ohlíží se po zad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4EB8-AAF7-4F4A-8108-7C71E50727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920" y="1565280"/>
            <a:ext cx="84708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2060"/>
                </a:solidFill>
                <a:latin typeface="Arial"/>
              </a:rPr>
              <a:t>Vypuzovací stad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sknutí plodových vaků, popřípadě vystupující plod, ohlašuje vypuzovací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vá asi 3 hodiny. Ošetřovatel sleduje průběh porodu a je-li třeba pomáhá tahem za končetiny telete v souladu se stahy plemen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čí vypuzením plodu. Ošetřovatel po té musí zjistit, jestli nedošlo k poškození porodních cest, nebo jestli tam není popřípadě druhý pl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2060"/>
                </a:solidFill>
                <a:latin typeface="Arial"/>
              </a:rPr>
              <a:t>Poporodní sta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číná ihned po vypuzení plod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rodní bolesti, které označujeme jako poporodní, jsou představovány děložními stahy za nepatrné účasti břišního lis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jich úkolem je napomáhat k vypuzení lůžka (do 3-12 hodin) a popřípadě zabránit krvácení z děloh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puzením lůžka končí toto období a začíná puerperium (období po porodu - šestinedělí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říje obnoveného pohlavního cyklu nastává u krávy do 4-5 týdnů po porodu, u prasnice 4.-7. den po odstavu selat u klisny již 7.-9. den po ohřeb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7F6A-BF23-42D5-8CF9-F7BBB5E977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Pravidelná poloha"/>
          <p:cNvPicPr/>
          <p:nvPr/>
        </p:nvPicPr>
        <p:blipFill>
          <a:blip r:embed="rId1"/>
          <a:stretch/>
        </p:blipFill>
        <p:spPr>
          <a:xfrm>
            <a:off x="1403280" y="2205000"/>
            <a:ext cx="6408720" cy="27241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lohy pl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Huk</cp:lastModifiedBy>
  <dcterms:modified xsi:type="dcterms:W3CDTF">2014-02-05T14:59:11Z</dcterms:modified>
  <cp:revision>67</cp:revision>
  <dc:subject/>
  <dc:title>Cow PowerPoint Presentation</dc:title>
</cp:coreProperties>
</file>