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95C-D8D6-4A5C-9014-A60B9424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C9B-2928-4DB0-B03A-9A1230DD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FB9-7BD2-458B-BC2F-E5932403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C70-784C-4F0F-9AE4-36C85582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A8DE-3583-45C5-BB6D-5E882912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5D10-3DA3-4800-9716-17FD3572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A521-1F2B-4781-B80C-DAD50F6B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05C-2140-4E7A-8F70-C2710BF8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3A80-D948-403E-AC59-F607EA4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864-DC37-47B5-9F66-FEA4D713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249-D258-41D1-9616-5C56363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363-1765-41A6-8E43-9749CBBB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56F7-8A9C-466A-AA1B-8097673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089-074D-4EBE-8406-B38DB90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AAE0-3524-4B60-B895-3FBB834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FA9F-0B18-49BF-A0C3-CFF6AA3D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B52-CCAE-40D5-BB5D-681566CB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FDE-8068-4674-9A5F-EE8B4E5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5B5-CDC0-43CB-B6AE-3E10F4E5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110-A41A-4C5A-A814-B65420F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7B4-7D42-4EFA-A0DB-70BE249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DF1-535A-4D81-9523-F7B08B5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94E-8939-469B-B521-4A2837A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574-957B-4C85-8282-5DA5019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9BFA-FF6E-4C06-B383-FB8294688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96B-4B37-4B83-9BD1-F9FF02524D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ŘÍJE, BŘEZ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4_Chov_skotu</a:t>
            </a: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i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BD8-08A8-4B8C-8632-1B5C8B50FE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likace v průběhu břez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plikace v průběhu břez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mplikace alimentárního původu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dná se o poruchy tráve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cidóz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narušení acidobazické rovnováhy organis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lkalóz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i předávkování alkalických krmných přís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etóza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důsledek překrmování dusíkatými látkami při současném nedostatku energetické složky v krmné dáv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ethemoglobiné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důsledek přehnojování dusíkatými hnojivy, který se projevuje zvýšeným obsahem dusičnanů a dusitanů v pí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ýhřez pochvy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liv dědičné dispozice nebo důsledek celkové oslabenosti organismu pleme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Ulehnutí před porod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edostatečné zásobení organismu plemenice kostitvornými minerálními látk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Fyziologický otok (edém) vemen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stává při nedostatku pohybu v poslední třetině březosti (postihuje hlavně prvotelk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CD6F-08F9-4BFD-96F4-0555988DFD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548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alší příčiny mohou být původ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echanickéh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irulentníh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 podání nevhodných lé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příčiny vedou zpravidla k potratu (zmetá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likace v průběhu břez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7997-81CA-4458-89BD-E294481F30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AJZLÍK, Ivan. Chov zvířat I. Česká zemědělská univerzita, Agronomická fakul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GARDIÁNOVÁ, Ivana. Plodnost. Katedra genetiky a šlechtění. Dostupné z http://www.turnovfree.net/~stybla/skola/czu/prvak/chov/Plodnost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LOUDA, Prof. ING. DrSc., František. Zásady využívání plemenných býků v podmínkách přirozené plemenitby. Metodika. Výzkumný ústav pro chov skotu, s.r.o., Rapotín, 2007. Dostupné z http://eagri.cz/public/web/file/26938/Prirozena_plemenitba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LOUDA, Prof. ING. DrSc., František. Uplatnění biologických zásad při řízení reprodukce plemenic. Metodika. Výzkumný ústav pro chov skotu, s.r.o., Rapotín. 2008. Dostupné z http://eagri.cz/public/web/file/33686/Uplatneni_biologickych_zasad_pri_rizeni_reprodukce plemenic.pdf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2387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íje, březos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4_Chov_skotu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1. 2014 KF 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lavní, chovatelská a tělesná dospělost u samic skotu, říje, vhodná doba pro zapouštění, březost, diagnostika březosti, komplikace v průběhu březosti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i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7850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Říje, břez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308640"/>
            <a:ext cx="409716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253-9D17-42B1-A433-8F911CF31E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50920" y="0"/>
            <a:ext cx="69501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ch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a z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orňuj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pohlav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, chovatelskou a tělesnou dospělost u samic skotu</a:t>
            </a:r>
            <a:endParaRPr b="0" i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E6F-9104-4959-808A-26C9DB5DDC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Ř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í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ot je typickým představitelem  polyestrických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je se projevu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venek neklidem sam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ochotou přijmout sam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ivem estrogenů docház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překrvení a ot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trném na vulvě, otevír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děložní krček a vyték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en zpočátku čirý, pozděj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krvave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je se projevuje celoročn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intervalu 18-24 dn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élka říje kolísá  od 12 (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 po 30 (36)  hod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629160" y="2327400"/>
            <a:ext cx="5514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48760" y="1557360"/>
            <a:ext cx="8472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hodná doba pro zapouš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lepší výsledky zabřezávání jsou dosahovány při inseminaci prováděné ve druhé třetině, popřípadě v poslední třetině ří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to fáze trvající 6-18 hod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většiny krav jsou příznaky výraznější v chladnějších částech dne, proto se říjící kusy kontrolují pravidelně ráno a več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porodu se říje u krav projeví asi do 30 dnů, zapouští se však až při druhé říji (po 50-70 dnech od porod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ce se směřuje tak, aby porod připadl na předjarní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-li ve stádě uplatňovaná přirozená plemenitba, říjící se krávy spolehlivě vyhledá plemeník (často v extenzivních chovech masného sko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jednoho býka 20-30 plemenic. Při stájových chovech jednodušší kontrola porodů a označování a evidence tel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A7AB-452B-4AAD-A992-E98EA598C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760" y="333360"/>
            <a:ext cx="6697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Vhodná doba pro zapou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7D3-054C-4740-9562-20A4CC32E4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Břez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557360"/>
            <a:ext cx="8470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řez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řirozeným důsledkem správně provedené inseminace (či přirozené plemenitb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ŘEZOST je fyziologický stav plemenice, kdy se v její děloze vyvíjí jeden nebo více zárodků. Začíná okamžikem splynutí samčí a samičí pohlavní buňky a končí porod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řezost u plemenic skotu trvá 280-290 dn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rozpětí je 260-300 dnů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é je z ekonomického i chovatelského hlediska včas zjistit březost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vním příznakem březosti je nedostavení se říje za 3 týdny po zapušt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řezost vyvolává vnější i vnitřní změny na těle matky, na které musí chovatel reagovat dostatečným množstvím kvalitního krm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řezost konč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rod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 těla matky vypuzen plod a plodové oba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Tři období břez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vulár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do 12 dn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embryonál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13.-45. d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fetál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trvá až do konce březosti (do porod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od, který nastane dříve než 240. den březosti nazývám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MET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od mezi 241. až 260. dnem označujeme z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EDČAS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28B-6102-4A20-8031-46AFFEDEC1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Diagnosti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břez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agnostika břez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etody zjišťování břez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linické met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nechání ří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měny chování (zklidně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á chuť k žrád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ětšení objemu bři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měny vemene (hlavně u prvotel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přístrojů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ultrazvuk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k vnější diagnostice grav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nitř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itřní rektální metoda – má největší praktické využití, v průběhu 2.-3. měsíce březosti se vyšetřuje přes stěnu konečníku stav děložních roh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přístrojů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ultrasonograf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ý březost diagnostikuje velmi spolehlivě dříve, než to umožňuje rektální vyšet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E007-B109-4561-A371-4837A55085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Laboratorní met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založeny na rozboru tělních tekutin (poševní hleny, krev, moč, mlék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přesn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časná diagnostika březosti ( již 21.-28. den po inseminac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ELISA P</a:t>
            </a:r>
            <a:r>
              <a:rPr b="1" lang="cs-CZ" sz="16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ovení hladiny progesteronu v mlé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ze provádět i vyhodnocovat v objektech chovu sk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iagnosti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05T14:58:30Z</dcterms:modified>
  <cp:revision>62</cp:revision>
  <dc:subject/>
  <dc:title>Cow PowerPoint Presentation</dc:title>
</cp:coreProperties>
</file>