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0FD8-C5FC-439F-B877-B94DB6F1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3AC2-78EF-4366-83E6-DE84AF8A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116-AE65-4253-8555-90123DC0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632D-A37C-4B2E-BD87-1D0B529D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5038-7B49-43B6-AC3D-36203E1E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6B69-4BAB-4F93-8582-76519C02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7075-4177-4C62-A500-DB4BD6A1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1C81-3C89-4460-ACA5-20F98015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DA9F-01F9-41E0-9D81-93DD620C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0D0B-2705-4362-9B47-3B6FF8A7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A120-8403-4E40-BBAE-F8EA2337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F19E-C9F4-436C-AE0C-735195BE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9596-3CD2-4091-9212-39058842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6FBC-7277-4489-9B57-DE233946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C6D6-6B62-45C5-A028-D1A16E99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766B-CDC0-4798-897B-52F48129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62E4-FDBF-4434-9589-4A706A87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AF71-39AE-42DD-9E70-75867403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5D20-F450-4006-8FAB-183C8F46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323E-1444-4515-A666-49D43DF8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2C4-C387-4044-9F25-DAC1091A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84CD-044D-4AE5-9CBB-8780859E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E0A-EB62-4655-AAB0-035AF921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CF7E-8005-46AB-906F-E90C7D91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5892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8764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3D99-E7DD-4073-B485-DBA190ED16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-9360" y="5489640"/>
            <a:ext cx="8569080" cy="1368360"/>
          </a:xfrm>
          <a:prstGeom prst="rect">
            <a:avLst/>
          </a:prstGeom>
          <a:gradFill rotWithShape="0">
            <a:gsLst>
              <a:gs pos="0">
                <a:srgbClr val="e7dbc5">
                  <a:alpha val="60000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25092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0589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CD15-C4F7-4F16-8D9A-D3642B99F2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vitejtenazemi.cenia.cz/pro-ucitele/download/voda09_prumysl_zemedelstvi.pdf" TargetMode="External"/><Relationship Id="rId2" Type="http://schemas.openxmlformats.org/officeDocument/2006/relationships/hyperlink" Target="http://www.ucitsnadno.cz/index.php?option=com_virtuemart&amp;Itemid=56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81360"/>
            <a:ext cx="79898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EKOLOGICKÉ ASPEKTY CHOVU ZVÍŘ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40a_Chov_sko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r:  Ing. Miroslav H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4920" y="1557000"/>
            <a:ext cx="83264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reakci na rostoucí poptávku po mase a masných výrobcích v rozvinutých zemích bylo ve 20. století nutné intenzifikovat a zefektivnit produkci m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čátky průmyslového chovu hospodářských zvířat se datují již do 20. let, kdy byly objeveny vitaminy A a D. Objev umožnil chov velkého množství zvířat v uzavřených prostorách po celý rok, neboť vitaminy jim byly přidávány do potravy a již je nebylo nutné vystavovat slunečnímu zář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souvislosti s intenzivními chovy hospodářských zvířat se však objevil problém - rychlé šíření nemocí mající v konečném důsledku vliv také na zdraví lidí konzumujících výrobky z velkochov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 40. letech se proto do krmných směsí začala přidávat antibiotika. V zájmu vyšší produktivity se potrava hospodářských zvířat obohacovala o růstové hormony. Díky nim a speciálně upravené stravě tělo zvířete dosáhlo dospělosti mnohem dříve, než by to bylo možné přirozenou cest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E6FA-DC6D-4F92-A1CE-38E7A8031B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Intenzívní chovy ve vyspělých zemí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94920" y="1557000"/>
            <a:ext cx="83264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zornou ukázk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„produktu“ intenzivních chov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tzv. brojler. Jedná se o mládě speciálně vyšlechtěného druhu kura domácího, které díky vysoce intenzivnímu rychlovýkrmu dosahuje váhy dospělého jedince v pouhých pěti týdnech, zatímco jeho kosti a orgány zůstávají přiměřené jeho nízkému vě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 vede k fyzickému utrpení mláďat, četným deformacím končetin, nemocem, selhávání orgánů a permanentnímu stres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strace při plném vědomí či odstraňování ohonů a zubů u selat a částí zobáků u drůbeže bez anestezie jsou ve velkochovech běžnou praxí. Zvířata mají k dispozici minimální životní prostor a většina z nich nikdy neuvidí denní světlo. Nemohou se volně sdružovat a tvořit hierarchizované skupiny jako je tomu ve volné přírodě, mláďata jsou od matek oddělována v příliš raném věku, reprodukce je řízena člověkem a je při ní využíváno především umělého oplodňová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nedbávání fyziologických a sociálních potřeb zvířat může mít za následek sebepoškozování či agresivitu vůči ostatním jedinců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13AB-B4CA-4FD2-9175-D13F46CAF0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Intenzívní chovy ve vyspělých zemí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94920" y="1557000"/>
            <a:ext cx="8326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ůmyslové chovy hospodářských zvířat mají také sociální rozmě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robní zemědělci nejsou schopni konkurovat nízkým cenám masových koncernů plynoucím z úspor z rozsahu (díky intenzivnímu chovu) a jsou často nuceni svoji zemědělskou činnost ukonči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ím je ohrožena potravinová soběstačnost místních komunit, neboť produkce masa je v rukou jen několika málo firem, které mají kontrolu nad cenami a kvalitou živočišných výrobk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centrace chovaných zvířat do velkochovů sice zvyšuje efektivnost masného průmyslu, na druhé straně však vede k vážnému poškození životního prostřed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vází ji degradace půd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nečištění zásob vod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dměrná spotřeba ener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volňování velkého množství skleníkových plynů (oxid uhličitý, metan, oxid dusný) do atmosfé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B78B-1545-4141-B225-BF9CDAD2EF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Intenzívní chovy ve vyspělých zemí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94920" y="1557360"/>
            <a:ext cx="8326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omě lokálního znečištění a produkce emisí skleníkových plynů mají však velkochovy v rozvinutých zemích na svědomí také ekologické škody ve vzdálených obla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evším prasata a drůbež totiž na rozdíl od skotu potřebují stravu bohatou na bílkoviny, tedy zejména pícniny, jejichž pěstování však vyžaduje rozsáhlá prostranství a příznivé klimatické podmínky. Tyto požadavky splňují země Jižní Ameriky, které se staly se dominantními hráči ve světovém obchodu se zemědělskými plodinami pěstovanými pro výk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o příklad lze uvést Brazílii, kde se v současnosti rozmáhá pěstování sójových bobů, kterým znepokojivou rychlostí ustupují místní deštné prales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ěstování sóji spolu s těžbou dřeva a chovem dobytka představují hlavní důvod destrukce amazonských pralesů. Zmenšující se „plíce planety“ pak pohlcují čím dál méně oxidu uhličitého – skleníkového plynu. Ten je navíc ve velkém množství produkován při přepravě milionů tun tohoto krmiva z Brazílie do EU, Číny a dalších zem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3CB9-1F8C-4996-A616-AF49CB765C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Intenzívní chovy ve vyspělých zemí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4920" y="1557000"/>
            <a:ext cx="83264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současné době jsou největším výrobcem živočišných produktů Spojené státy americké, velmi rychle se na přední místa žebříčku derou asijské velmoci Čína a Indie v závěsu s Brazílií. Počet intenzivních chovů závratně roste také v Mexiku, Argentině, Jižní Africe, Thajsku, Pákistánu, na Filipínách i v ostatních asijských stá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roba masných produktů je určena převážně pro domácí trh, přesto se v rozvojovém světě najde několik exportérů do vyspělých zemí v čele s Brazílií a Čí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dokonalý legislativní rámec v méně vyspělých státech umožňuje chov zvířat v nevyhovujících podmínkách a poškozování životního prostřed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blémem je především nakládání s odpadem z velkofarem. Zejména v Asii při zvyšujícím se počtu chovaných zvířat a rostoucí intenzitě chovů v sousedství lidských obydlí chybí účinná metoda zacházení s vyprodukovaným odpad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to většina splašků končí v přilehlých vodních to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F7D4-633A-4EEF-A00C-D864000565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Intenzívní chovy ve vyspělých zemí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94920" y="1557000"/>
            <a:ext cx="83264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lašky mají na okolní přírodu zásadní dopad, obsahují totiž draslík, dusík, fosfor, těžké kovy, zbytky antibiotik a dalších chemikáli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tomnost zmíněných chemických prvků ve vodních tocích vede k přemnožení nežádoucích bakterií a narušení celkové rovnováhy vodních ekosystém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dměrný výskyt řas, které uvolňují toxické látky, má za následek snížení hladiny kyslíku a vymírání řady vodních živočichů. Tento negativní jev byl zaznamenán jak u sladkovodních toků, tak i v případě mořských ekosystém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en vodní organismy jsou ohrožovány znečišťováním vodních toků, v rozvojových zemích takto znehodnocenou vodu lidé dále běžně spotřebovávají a jsou tak vystaveni řadě nebezpečných infekcí a parazitů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E2CD-D788-4821-9CD7-75FEE3B598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Intenzívní chovy ve vyspělých zemí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94920" y="1557360"/>
            <a:ext cx="8326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tikladem průmyslových chovů jsou chovy ekologické, které se v rozvinutých zemích těší čím dál větší oblib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ní myšlenkou biochovů je dosáhnout vysoce kvalitní zemědělské výroby při respektování zásad udržitelného rozvo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arakterizuje ho etičtější přístup ke zvířatům, ochrana životního prostředí, šetření neobnovitelných zdrojů a rozvoj venko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rozdíl od konvenčního zemědělství se na ekologických farmách užívá výhradně přírodní hnojivo. Není zde povoleno používat syntetické pesticidy a herbicidy k odstraňování škůdc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ířata jsou živena převážně z produkce ekofarmy, není tedy nutné krmivo přepravovat na velké vzdálenosti. Zároveň je jim poskytnut větší životní prostor a je garantován pohyb pod širým nebem po určitou část ro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mozřejmostí je absence geneticky modifikovaných organismů a růstových hormon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íky těmto principům jsou ekofarmy mnohem šetrnější vůči životnímu prostředí nežli klasické zemědělstv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5452-3C9C-45F3-B6B4-CD1E89C1FD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Ekologické cho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94920" y="1557000"/>
            <a:ext cx="83264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zi nejzávažnější škody na životním prostředí patř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nečišťování vod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nečišťování ovzduší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tráta biodiverz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egradace půdy projevující se odlesňováním, rozšiřováním pouští a následnou eroz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čkoliv je voda v mnoha zemích nedostatkovou komoditou, při výrobě masných výrobků je s ní nakládáno velmi velkorys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výrobu jednoho kg hovězího masa je potřeba zhruba 15 000 litrů vody, v případě kilogramu kuřecího masa je to 3 až 6 000 litrů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proti tomu produkce kilogramu obilí vyžaduje pouhých 450 litrů vo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60AF-9611-45E0-B5A1-3C3C2FC8C9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Environmentální dopady živočišné vý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94920" y="1557000"/>
            <a:ext cx="83264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raf ilustruje obrovskou náročnost masné výroby na vodu ve srovnání s výrobou dalších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modit v přepočtu na tuny výrtob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E4EF-4C50-49EC-9371-3B1C201633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89080" y="2421000"/>
            <a:ext cx="8572320" cy="3456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Environmentální dopady živočišné vý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94920" y="1557000"/>
            <a:ext cx="83264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kuste odhadnout, kolik procent z celkové spotřeby vody na Zemi připadá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81d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81d6e"/>
                </a:solidFill>
                <a:latin typeface="Arial"/>
              </a:rPr>
              <a:t>zemědělství </a:t>
            </a:r>
            <a:r>
              <a:rPr b="1" i="1" lang="cs-CZ" sz="1800" spc="-1" strike="noStrike">
                <a:solidFill>
                  <a:srgbClr val="081d6e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81d6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81d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81d6e"/>
                </a:solidFill>
                <a:latin typeface="Arial"/>
              </a:rPr>
              <a:t>průmysl </a:t>
            </a:r>
            <a:r>
              <a:rPr b="1" i="1" lang="cs-CZ" sz="1800" spc="-1" strike="noStrike">
                <a:solidFill>
                  <a:srgbClr val="081d6e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81d6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81d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81d6e"/>
                </a:solidFill>
                <a:latin typeface="Arial"/>
              </a:rPr>
              <a:t>pro ostatní účel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81d6e"/>
                </a:solidFill>
                <a:latin typeface="Arial"/>
              </a:rPr>
              <a:t>Asi 75 % spotřeby pohlcuje veškerá zemědělská výroba, kolem 20 % se využí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81d6e"/>
                </a:solidFill>
                <a:latin typeface="Arial"/>
              </a:rPr>
              <a:t>v průmyslu. Na domácnosti a další využití (turistický průmysl a jiné služb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81d6e"/>
                </a:solidFill>
                <a:latin typeface="Arial"/>
              </a:rPr>
              <a:t>připadá přibližně 5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81d6e"/>
                </a:solidFill>
                <a:latin typeface="Arial"/>
              </a:rPr>
              <a:t>V rozvojových zemích se přitom kolem 85 % spotřebované vody užívá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81d6e"/>
                </a:solidFill>
                <a:latin typeface="Arial"/>
              </a:rPr>
              <a:t>činnosti související se získáváním a výrobou potravin. Naopak ve vyspěl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81d6e"/>
                </a:solidFill>
                <a:latin typeface="Arial"/>
              </a:rPr>
              <a:t>zemích, jako jsou USA, spotřebuje kolem 50 % vody průmysl a energeti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DB8B-45CD-4B71-9910-A3D3DE3BE7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Environmentální dopady živočišné vý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ovéPole 7"/>
          <p:cNvSpPr/>
          <p:nvPr/>
        </p:nvSpPr>
        <p:spPr>
          <a:xfrm>
            <a:off x="2987640" y="2144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75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8"/>
          <p:cNvSpPr/>
          <p:nvPr/>
        </p:nvSpPr>
        <p:spPr>
          <a:xfrm>
            <a:off x="2987640" y="24732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20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ovéPole 9"/>
          <p:cNvSpPr/>
          <p:nvPr/>
        </p:nvSpPr>
        <p:spPr>
          <a:xfrm>
            <a:off x="2990880" y="2833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5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1371600"/>
          <a:ext cx="8229600" cy="494820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ologické aspekty chovu zvíř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40a_Chov_sko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12. 2013 KF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ktory prostředí, intenzivní chovy ve vyspělých státech, ekologické chovy, environmentální dopady živočišné výro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94920" y="1557360"/>
            <a:ext cx="8326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nečištění ovzdu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ůmyslový chov hospodářských zvířat je bez pochyby jedním z nejvýznamnějších producentů emisí skleníkových plyn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ovšem není jediným skleníkovým plynem, které chovy hospodářských zvířat do atmosféry uvolňuj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alší plyn je metan, který má na globální oteplování 23x větší vliv nežli oxid uhličit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íl masného průmyslu na světových emisích metanu se odhaduje 35 – 40 %. Metan vzniká jako vedlejší produkt trávicích procesů dobytk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uhá jedna kráva vyprodukuje asi 600 litrů metanu denně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ště větší zátěži pro životní prostředí je oxid dusný vznikající ve chvíli, kdy se dostane do kontaktu kyslík s dusík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ov hospodářských zvířat se podílí na celkových emisích oxidu dusného zapříčiněného lidskou aktivitou ze 2/3. Podle FAO je živočišný průmysl zodpovědný za zhruba 18 % skleníkových plynů vzniklých lidskou činn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BA03-7CC8-432D-AF5D-25B2035FB9D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Environmentální dopady živočišné vý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94920" y="1557000"/>
            <a:ext cx="83264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tráta biodiverz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třeba zmínit negativní vliv masného průmyslu na biologickou rozmanitost druhů. Odlesňování a rozšiřování polí pro pěstování krmných plodin má za následek zmenšování životního prostoru divoce žijících zvířat a rostlin a stojí za vymíráním celých ekosystém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 vymírání některých druhů zvířat je však odpovědný i poměrně nový fenomén spojený s masným průmyslem: „bushmeat“ neboli tzv. maso z pralesa. Lov vzácných druhů živočichů jako jsou gorily, šimpanzi a další primáti na maso je častý především v afrických zemí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amostatnou kapitolou je v tomto ohledu ztráta mořských ekosystémů v důsledku nadměrného rybolovu. V návaznosti na rostoucí poptávku se vlivem přílišného výlovu neustále snižuje populace mořských živočichů a někteří se dokonce ocitají na pokraji vyhynu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3D24-F358-42AD-B2FB-BB592A2604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Environmentální dopady živočišné vý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94920" y="1557000"/>
            <a:ext cx="83264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sný průmysl má negativní důsledky na životní prostředí v celosvětovém měřítku, v rozvojových zemích se však kvůli omezeným zdrojům, obtížným klimatickým podmínkám a nedokonalé legislativě tyto dopady zesiluj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vrhy na omezení expanze masného průmyslu se v rozvinutém ani rozvojovém světě netěší oblibě. Příkladem je Evropská unie, která i přes svůj závazek omezovat emise skleníkových plynů v rámci společné zemědělské politiky velkoryse subvencuje živočišnou výrobu. Činí tak prostřednictvím přímých dotací, skupováním nadbytků výroby, garantováním určité ceny nebo marketingovou činnost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ešení je nasnad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ejména vyspělé země by měly odstranit dotace určené na výrobu masných výrobků a popřípadě na ně uvalit vyšší daně, stejně jako je tomu u jiných komodit s negativním dopadem na životní prostřed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81B6-356A-4790-92EC-F35036B96F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Environmentální dopady živočišné vý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3F7C-B54F-41B9-8442-A82072E804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470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lbertus Medium"/>
              </a:rPr>
              <a:t>MIŠKOVSKÝ, DOC. ING. CSC.,Zdeněk. </a:t>
            </a:r>
            <a:r>
              <a:rPr b="0" i="1" lang="cs-CZ" sz="1400" spc="-1" strike="noStrike">
                <a:solidFill>
                  <a:srgbClr val="000000"/>
                </a:solidFill>
                <a:latin typeface="Albertus Medium"/>
              </a:rPr>
              <a:t>Chov zvířat 2</a:t>
            </a:r>
            <a:r>
              <a:rPr b="0" lang="cs-CZ" sz="1400" spc="-1" strike="noStrike">
                <a:solidFill>
                  <a:srgbClr val="000000"/>
                </a:solidFill>
                <a:latin typeface="Albertus Medium"/>
              </a:rPr>
              <a:t>. Vydání první. Praha: CREDIT – vydavatelství a agentura, 1995. 249 s. ISBN 80-901645-4-4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lbertus Medium"/>
              </a:rPr>
              <a:t>SAMBRAUS, Hans Hinrich. </a:t>
            </a:r>
            <a:r>
              <a:rPr b="0" i="1" lang="cs-CZ" sz="1400" spc="-1" strike="noStrike">
                <a:solidFill>
                  <a:srgbClr val="000000"/>
                </a:solidFill>
                <a:latin typeface="Albertus Medium"/>
              </a:rPr>
              <a:t>Atlas plemen hospodářských zvířat</a:t>
            </a:r>
            <a:r>
              <a:rPr b="0" lang="cs-CZ" sz="1400" spc="-1" strike="noStrike">
                <a:solidFill>
                  <a:srgbClr val="000000"/>
                </a:solidFill>
                <a:latin typeface="Albertus Medium"/>
              </a:rPr>
              <a:t>. Vydání první. Praha: Nakladatelství Brázda, s. r.o.,, 2006. 296 s. ISBN 80-209-0344-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lbertus Medium"/>
              </a:rPr>
              <a:t>VARGA, ING., Stanislav; KREJČÍ, ING., Vladimír. </a:t>
            </a:r>
            <a:r>
              <a:rPr b="0" i="1" lang="cs-CZ" sz="1400" spc="-1" strike="noStrike">
                <a:solidFill>
                  <a:srgbClr val="000000"/>
                </a:solidFill>
                <a:latin typeface="Albertus Medium"/>
              </a:rPr>
              <a:t>Zemědělská výroba II.</a:t>
            </a:r>
            <a:r>
              <a:rPr b="0" lang="cs-CZ" sz="1400" spc="-1" strike="noStrike">
                <a:solidFill>
                  <a:srgbClr val="000000"/>
                </a:solidFill>
                <a:latin typeface="Albertus Medium"/>
              </a:rPr>
              <a:t>Vydání druhé. Praha: Institut výchovy a vzdělávání Ministerstva zemědělství České republiky, 1995. 236 s. ISBN 80-7105-092-X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lbertus Medium"/>
              </a:rPr>
              <a:t>VARGA, ING., Stanislav; KREJČÍ, ING., Vladimír. </a:t>
            </a:r>
            <a:r>
              <a:rPr b="0" i="1" lang="cs-CZ" sz="1400" spc="-1" strike="noStrike">
                <a:solidFill>
                  <a:srgbClr val="000000"/>
                </a:solidFill>
                <a:latin typeface="Albertus Medium"/>
              </a:rPr>
              <a:t>Zemědělská výroba II.</a:t>
            </a:r>
            <a:r>
              <a:rPr b="0" lang="cs-CZ" sz="1400" spc="-1" strike="noStrike">
                <a:solidFill>
                  <a:srgbClr val="000000"/>
                </a:solidFill>
                <a:latin typeface="Albertus Medium"/>
              </a:rPr>
              <a:t>Vydání druhé. Praha: Institut výchovy a vzdělávání Ministerstva zemědělství České republiky, 19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86</a:t>
            </a:r>
            <a:r>
              <a:rPr b="0" lang="cs-CZ" sz="1400" spc="-1" strike="noStrike">
                <a:solidFill>
                  <a:srgbClr val="000000"/>
                </a:solidFill>
                <a:latin typeface="Albertus Medium"/>
              </a:rPr>
              <a:t>.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96 </a:t>
            </a:r>
            <a:r>
              <a:rPr b="0" lang="cs-CZ" sz="1400" spc="-1" strike="noStrike">
                <a:solidFill>
                  <a:srgbClr val="000000"/>
                </a:solidFill>
                <a:latin typeface="Albertus Medium"/>
              </a:rPr>
              <a:t>s. ISBN 80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7105-019-9</a:t>
            </a:r>
            <a:r>
              <a:rPr b="0" lang="cs-CZ" sz="1400" spc="-1" strike="noStrike">
                <a:solidFill>
                  <a:srgbClr val="000000"/>
                </a:solidFill>
                <a:latin typeface="Albertus Medium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URDA, František</a:t>
            </a:r>
            <a:r>
              <a:rPr b="0" lang="cs-CZ" sz="1400" spc="-1" strike="noStrike">
                <a:solidFill>
                  <a:srgbClr val="000000"/>
                </a:solidFill>
                <a:latin typeface="Albertus Medium"/>
              </a:rPr>
              <a:t>. </a:t>
            </a:r>
            <a:r>
              <a:rPr b="0" i="1" lang="cs-CZ" sz="1400" spc="-1" strike="noStrike">
                <a:solidFill>
                  <a:srgbClr val="000000"/>
                </a:solidFill>
                <a:latin typeface="Albertus Medium"/>
              </a:rPr>
              <a:t>Zemědělsk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i="1" lang="cs-CZ" sz="1400" spc="-1" strike="noStrike">
                <a:solidFill>
                  <a:srgbClr val="000000"/>
                </a:solidFill>
                <a:latin typeface="Albertus Medium"/>
              </a:rPr>
              <a:t> výrob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0" i="1" lang="cs-CZ" sz="14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2 –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živočišné výrobky</a:t>
            </a:r>
            <a:r>
              <a:rPr b="0" lang="cs-CZ" sz="1400" spc="-1" strike="noStrike">
                <a:solidFill>
                  <a:srgbClr val="000000"/>
                </a:solidFill>
                <a:latin typeface="Albertus Medium"/>
              </a:rPr>
              <a:t>.Vydání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vní</a:t>
            </a:r>
            <a:r>
              <a:rPr b="0" lang="cs-CZ" sz="1400" spc="-1" strike="noStrike">
                <a:solidFill>
                  <a:srgbClr val="000000"/>
                </a:solidFill>
                <a:latin typeface="Albertus Medium"/>
              </a:rPr>
              <a:t>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lbertus Medium"/>
              </a:rPr>
              <a:t>Praha: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átní zemědělské nakladatelství</a:t>
            </a:r>
            <a:r>
              <a:rPr b="0" lang="cs-CZ" sz="1400" spc="-1" strike="noStrike">
                <a:solidFill>
                  <a:srgbClr val="000000"/>
                </a:solidFill>
                <a:latin typeface="Albertus Medium"/>
              </a:rPr>
              <a:t>, 1995. 236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lbertus Medium"/>
              </a:rPr>
              <a:t>s. ISBN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07-000-86</a:t>
            </a:r>
            <a:r>
              <a:rPr b="0" lang="cs-CZ" sz="1400" spc="-1" strike="noStrike">
                <a:solidFill>
                  <a:srgbClr val="000000"/>
                </a:solidFill>
                <a:latin typeface="Albertus Medium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ESKÁ ZEMĚDĚLSKÁ UNIVERZITA, AGRONOMICKÁ FAKULTA, CHOV ZVÍŘAT I, Ivan Majzlík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b6def"/>
                </a:solidFill>
                <a:uFillTx/>
                <a:latin typeface="Arial"/>
                <a:hlinkClick r:id="rId1"/>
              </a:rPr>
              <a:t>http://vitejtenazemi.cenia.cz/pro-ucitele/download/voda09_prumysl_zemedelstvi.pdf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lbertus Medium"/>
              </a:rPr>
              <a:t>online]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b6def"/>
                </a:solidFill>
                <a:uFillTx/>
                <a:latin typeface="Arial"/>
                <a:hlinkClick r:id="rId2"/>
              </a:rPr>
              <a:t>http://www.ucitsnadno.cz/index.php?option=com_virtuemart&amp;Itemid=56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lbertus Medium"/>
              </a:rPr>
              <a:t>online]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3"/>
          <a:stretch/>
        </p:blipFill>
        <p:spPr>
          <a:xfrm>
            <a:off x="2268360" y="5300640"/>
            <a:ext cx="4464360" cy="1103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250560" y="476280"/>
            <a:ext cx="843588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užité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551664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Arial Unicode MS"/>
              </a:rPr>
              <a:t>Chov skotu – Ekologické aspekty chovu zvíř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427280" y="6165720"/>
            <a:ext cx="4097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Ing. Miroslav H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94920" y="1557360"/>
            <a:ext cx="8326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ov zvířat je uskutečňován v konkrétních přírodních podmínkách a proto dochází k vzájemnému působení zvířat a prostřed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liv faktorů prostředí na zvíř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íře žijící v konkrétním přírodním prostředí se musí podmínkám adaptovat, aklimatizovat 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alizace dědičného základu zvířete vyžaduje zejména pro přiměřen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konnost vhodné podmínky – tzv. „realizační činitele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nější prostředí působí vždy v komplexu a působení je možno rozdělit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biotické fak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hrnují vliv klimatu a půd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iotické fak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hrnují vztahy k ostatním zvířatům či člověk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rofické fak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hrnují vliv výži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ED6F-BA2A-4C13-A076-1AB0EF27EB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Ekologické aspekty chovu zvíř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4920" y="1557000"/>
            <a:ext cx="8326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účinek působícího faktoru je rozhodují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tenzita působ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ba a pravidelnost působ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chopnost akceptace faktoru zvíře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tah organismu a prostředí je realizován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kcí prostřed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svit slunce), na které je odpověd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akce těla zvířet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hledání stín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biotické fak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makroklimatické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teplota, vlhkost, proudění vzduchu, tlak, střídání ročních období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vým působením vyvolávají změn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"/>
              </a:rPr>
              <a:t>etologick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jako součást rychlých regulačních mechanismů pomocí změny aktivity zvířete, konzumace krmení, v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"/>
              </a:rPr>
              <a:t>fyziologické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součást dlouhodobějších regulací změnou výměny látkové a energie, tělesné teploty, produk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"/>
              </a:rPr>
              <a:t>morfologické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součást dlouhodobých mnoho generačních změn na kůži, srsti, velikosti těla či jeho čás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6ADD-3B16-47AB-A278-D3751B6F2B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Ekologické aspekty chovu zvíř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94920" y="1557360"/>
            <a:ext cx="8326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jména extrémní teploty prostředí působí fyziologické změny ovlivňující užitkov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šší teploty ovlivňují prokazatelně chování a užitkovost u dojnic s užitkovosti nad 5 000 kg mlék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ploty do -9 °C zvládají lépe (pokles nádoje o 6,5 %), než teploty +29 °C až +31 °C (pokles nádoje o 16,5 % se snížením kvality mlék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gativní účinek nízké teploty vyrovná v nezateplené stá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stájení na suchém lož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mperovaná napájecí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miva s vyšší sušino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gativní účinek vysoké teploty lze kompenzovat ochlazováním pomocí postřikování krav vod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mikroklimatické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ané stájním prostředím – 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teplota, vlhkost, proudění vzduchu, koncentrace škodlivých plynů, prašnost, hluk, osvětlen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rametry stájového prostředí jsou dány norma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1592-4860-4999-A3ED-C0B4A5CB32E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Ekologické aspekty chovu zvíř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94920" y="1557000"/>
            <a:ext cx="83264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tické fak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plývají ze vzájemných vztahů zvířat. Aby nedocházelo k psychosociálním stresům, je nutné vycházet z etologických poznatků o  chování druhů a kategorií zvířat. Rovněž manipulace ze strany člověka musí být ohleduplná respektující vlastnosti chování zvířat – člověk představuje pro zvířata velmi důležitý prostřeďový fak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ofické fak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hrnují vlivy půdní, působící nepřímo přes krmiva (v krmivu jsou makro i mikroprvky, které jsou přítomny v půdě). Množství a kvalita krmiva působí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dnak morfologicko-fyziologické změny, ale také etologické a výkonnostní změny, které je nutno respektovat např. při řešení technologických parametrů procesu krm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liv zvířat na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ov  hospodářských  zvířat působí a ovlivňuje prostředí. Významnější vliv lze očekávat zejména u chovů s vyšší koncentrací  zvířat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1EE4-DE50-42D4-9604-21135625BA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Ekologické aspekty chovu zvíř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94920" y="1557000"/>
            <a:ext cx="8326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 minimalizaci  nepříznivého  působení   chovu  zvířat přispěj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místění chovatelských zařízení mimo intravilán ob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anovení „rozumné" koncentrace chovaných zvířat zaříz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kladním požadavkem je co možná nejvíce minimalizovat negativní dopady chovu zvířat na životní prostřed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př. jedním z negativních dopadů chovu zvířat je podíl na znečisťování ovzduší emisemi amoniaku a metanu z exkrementů u sko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ekologického hlediska jsou stavby a zařízení pro chov hospodářských zvířat děleny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elké zdroj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koncentrace od 500 ks skotu, od 5000 ks prasat, od 50 000 ks drůbež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třední zdroj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koncentrace 180 - 499 ks skotu, 500 - 4 999 ks prasat,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000- 49 999 ks drůbež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lé zdroj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do 179 ks skotu včetně, do 499 ks prasat včetně, do 999 ks drůbeže včetně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7457-CA82-4627-B92D-9A8B6568F9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Ekologické aspekty chovu zvíř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4920" y="1557000"/>
            <a:ext cx="83264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zemích EU počet zvířat na jednu farmu či zatížení plochy zemědělské půdy zvířaty může být kriteriem pro poskytování dota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ekologického    hlediska   je    důležitá    Směrnice   Rady    EU č.     96/61/1996 o podmínkách pro povolení zřízení chovu s koncentrací více ja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40 000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usů drůbeže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 000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usů prasat ve výkrmu č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75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usů pras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CA3A-93FF-41D2-A667-ADC850BA41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Ekologické aspekty chovu zvíř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Huk</cp:lastModifiedBy>
  <cp:lastPrinted>2013-12-09T08:41:49Z</cp:lastPrinted>
  <dcterms:modified xsi:type="dcterms:W3CDTF">2014-02-17T14:13:28Z</dcterms:modified>
  <cp:revision>118</cp:revision>
  <dc:subject/>
  <dc:title>Cow PowerPoint Presentation</dc:title>
</cp:coreProperties>
</file>