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019-0294-4720-A048-998E975A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C19-98E8-42A4-8625-BD749AB1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AF9-3198-41D1-A463-7387F201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53B-E928-4EDE-9053-20F9A0FD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A21-450D-4E25-83FB-2F1DE593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81A6-97BA-4192-AF0E-C450148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DF15-2B9F-40AA-A670-778D1A9C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B114-70FA-49B4-A6B9-1FE5836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1DAC-D277-4878-8548-1363BEF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BD7-0AF7-4201-B76A-605A193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A76-D4C9-42CA-9E0D-F1E2DB57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027-8A63-4440-9542-BD2FD0F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C407-D691-4826-A483-4FC320A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DC1-0DD1-45B8-AF76-E9A2CE3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1144-E4C5-40DD-8754-CF0A6076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162-6BE7-4627-A5D2-4FA9E4E2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BD2D-E129-4EDA-BAA1-B9AFB695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A95-3798-49DD-B882-EC2679EF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8B1-CCAA-46B0-B7EA-82FA00C8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163-82DD-471A-90A8-18A32F0E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BCA-9744-4966-B995-7055D0E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61D-63DF-4B46-9F2C-C49EE42C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CA1-9B20-45DC-ADEE-E7ACF62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AF4-77FE-4354-8283-8D9A218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325C-8B9E-4F87-A0CA-8B3700A49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7F5-640B-423D-BADF-4F5E4C461E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ser.mendelu.cz/los/Multimedialni_animace_z_oblasti_stroju_a_zarizeni_pro_ZV.sw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elavalczech.cz/" TargetMode="External"/><Relationship Id="rId2" Type="http://schemas.openxmlformats.org/officeDocument/2006/relationships/hyperlink" Target="http://www.cestrfull.cz/?p=3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0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ÚCHOV DOJNIC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- USTÁJE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40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2400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lné ustá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rozšířenější technologie chovu ve všech typ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oxové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hluboké podestýl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ché přistýla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olném ustájení je důležitá návaznost ustájovacích prostor na dojír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hody volného ustá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ižší náročnost na prác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ší zvířa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pší zdravotní stav dojn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ahování lepších reprodukčních ukazatel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výhody volného ustá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nší přehlednost o jednotlivých dojnicí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ší zastavěná ploch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nadnější šíření nemoc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ší možnost poranění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BE7B-77E4-48D9-9596-08801015AA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5056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klízení exkrementů ze stájí pro chov sko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trojní vybavení pro odklízení exkrementů ze stlaných objekt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ěžný shrnova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rozšířenější prostředek pro manipulaci s chlévskou mrvo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ratný shrnova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á se zejména ve stájích s lichým počtem stání, nebo jako vrstviče mrvy na statkových hnojiští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dělují se na horizontální nebo vertikál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hrnovací lop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lní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ípov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011A-2BF5-44CC-8060-552A0D804E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lačítko akce: Video 6">
            <a:hlinkClick r:id="rId1"/>
          </p:cNvPr>
          <p:cNvSpPr/>
          <p:nvPr/>
        </p:nvSpPr>
        <p:spPr>
          <a:xfrm>
            <a:off x="7524720" y="522936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7316"/>
                </a:moveTo>
                <a:lnTo>
                  <a:pt x="4707" y="7316"/>
                </a:lnTo>
                <a:lnTo>
                  <a:pt x="5090" y="7682"/>
                </a:lnTo>
                <a:lnTo>
                  <a:pt x="14299" y="7682"/>
                </a:lnTo>
                <a:lnTo>
                  <a:pt x="14856" y="8239"/>
                </a:lnTo>
                <a:lnTo>
                  <a:pt x="14856" y="8787"/>
                </a:lnTo>
                <a:lnTo>
                  <a:pt x="16701" y="8787"/>
                </a:lnTo>
                <a:lnTo>
                  <a:pt x="17067" y="8239"/>
                </a:lnTo>
                <a:lnTo>
                  <a:pt x="17806" y="8239"/>
                </a:lnTo>
                <a:lnTo>
                  <a:pt x="17806" y="13391"/>
                </a:lnTo>
                <a:lnTo>
                  <a:pt x="17067" y="13391"/>
                </a:lnTo>
                <a:lnTo>
                  <a:pt x="16701" y="12843"/>
                </a:lnTo>
                <a:lnTo>
                  <a:pt x="14856" y="12843"/>
                </a:lnTo>
                <a:lnTo>
                  <a:pt x="14856" y="14122"/>
                </a:lnTo>
                <a:lnTo>
                  <a:pt x="5273" y="14122"/>
                </a:lnTo>
                <a:lnTo>
                  <a:pt x="5273" y="9892"/>
                </a:lnTo>
                <a:lnTo>
                  <a:pt x="5090" y="9892"/>
                </a:lnTo>
                <a:lnTo>
                  <a:pt x="4707" y="10258"/>
                </a:lnTo>
                <a:lnTo>
                  <a:pt x="3794" y="1025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400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Odklízení kejdy (hydromechanické způso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kuté výk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roduktem bezstelivových technologií, které obvykle snižují potřebu lidské práce ve stájích ve srovnání s tra­dičním stelivovým provoz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ákladní hydraulické systémy k odklízení výka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ronové kaná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řízením pro hydraulické kon­tinuální odklízení výkalů z podrostových kanál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uvádění přeronového kanálu do provozu se naplní prostor pod jízkem vod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kaly skotu plavou po hladině a přepadávají (přeronují přes jíze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ímkové kanál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stájové podroštové prostory, kde se tekutý hnůj soustřeďuje po stanovenou dob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jejím uply­nutí a naplnění kanálu se tekutina vypouští vytažením hradítka na konci kaná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7545-CB53-40B7-8B40-F7C6F2BED8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roštové komorové jím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uží ke shromažďování kejdy pod stájemi mladého skotu s celoroštovými kot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ím­ky jsou děleny přepážkami na samostatné, nepropojené ko­mory, které jsou vyvedeny v celé délce nebo vybíracími šach­tami na vnější stranu podélných stěn stáj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jímky jsou stájové podroštové prostory, které slouží pro dlouhodobé skladování tekutého hnoje (6 měsíců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kutý hnůj se homogenizuje až před vyskladněním podrostové jím­ky buď mechanickým nebo hydraulic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Plochy a prostory pro skladování slamnatých a tekutých exkrem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lévská m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mechanizovaném odklizu ze stáje se chlévská mrva skladuje na hnojišti u stáje nebo při denním odvozu na polním hnojiš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ním cílem je uskladnit na co nejmenší ploše co největší množstv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ěhem skladování vzniká hnojův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7A5-F14C-46DA-9AAF-C1B161445F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400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kuté výkaly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ní výkalů je nutné pro aerobní nebo anaerobní přeměnu výkalů na tekutý hnůj – zr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kladnění v období, které je nevhodné pro přímou aplikaci (vegetační obdob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 uskladnění se používa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ímky (podzemní skladovací prostory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drže (nadzemní skladovací prostor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95F-7A31-4758-A246-70F69371C6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400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ování doj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tří s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štění srsti a kůž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ování pazneht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rohova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edování zdravotního stav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ídání říj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edování břez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 p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eminac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terinárních zákrocí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e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en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hrana proti vzájemnému odsávání mlék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idné zacház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to činnosti tvoří nejvyšší procento z nákladů na chov doj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605F-0DAE-4A8F-98EF-C0777E620E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8A8-7AA6-4225-A18A-7A78125B62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Atlas plemen hospodářských zvířat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86. 296 s. ISBN 80-7105-019-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A, František. Zemědělské výrobky 2 – živočišné výrobky.Vydání první. Praha: Státní zemědělské nakladatelství, 1995. 236 s. ISBN 07-000-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1"/>
              </a:rPr>
              <a:t>http://www.delavalczech.cz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Calibri"/>
                <a:hlinkClick r:id="rId2"/>
              </a:rPr>
              <a:t>http://www.cestrfull.cz/?p=33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9928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dojnic - ustáj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021_Ch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2. 2014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ájení dojnic, požadavky na stájové prostředí, systémy ustájení dojn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Chov dojnic - ustájení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24000" y="616572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436-CF08-4611-A69E-D73149E2A2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stájení doj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vytvoř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podmínky pro dojni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pracovní podmínky pro pracovní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znivě ovlivnit ekonomiku cho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 ustájení je ovlivně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entrací zvíř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stními výrobními podmínk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ologií doj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tatečné šířkové a délkové rozměry chodeb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xů dávají celkový půdorys stáje a významně se podíl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ohodě ve stádě doj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s1.postimage.org/jgmzo8gtl/b_ba_doj_kr_vu.gif"/>
          <p:cNvPicPr/>
          <p:nvPr/>
        </p:nvPicPr>
        <p:blipFill>
          <a:blip r:embed="rId1"/>
          <a:stretch/>
        </p:blipFill>
        <p:spPr>
          <a:xfrm>
            <a:off x="5511960" y="2133720"/>
            <a:ext cx="36255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datum 2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zápatí 3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4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90B0-D85B-4249-A902-AC3233D13C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://www.cestrfull.cz/obr/6v.jpg"/>
          <p:cNvPicPr/>
          <p:nvPr/>
        </p:nvPicPr>
        <p:blipFill>
          <a:blip r:embed="rId1"/>
          <a:stretch/>
        </p:blipFill>
        <p:spPr>
          <a:xfrm>
            <a:off x="5003640" y="4097160"/>
            <a:ext cx="4140360" cy="276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cestrfull.cz/obr/1v.jpg"/>
          <p:cNvPicPr/>
          <p:nvPr/>
        </p:nvPicPr>
        <p:blipFill>
          <a:blip r:embed="rId2"/>
          <a:stretch/>
        </p:blipFill>
        <p:spPr>
          <a:xfrm>
            <a:off x="5003640" y="1413000"/>
            <a:ext cx="4140360" cy="276048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9"/>
          <p:cNvSpPr/>
          <p:nvPr/>
        </p:nvSpPr>
        <p:spPr>
          <a:xfrm>
            <a:off x="324000" y="1557360"/>
            <a:ext cx="457200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íce osvědčený systém ustájení z hlediska pohody zvířat je suché lože a individuelní klid k odpočink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ěry boxu jsou odvozeny od tělesného rámce zvířete a umožňují pohodlné vstávání (až 3,5 metru prostor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ože jsou hluboce stlan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E287-1FDD-43EE-8E36-49F76781DE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žadavky na stájové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ovlivněna vnější teplotou, systémem ustájení, typem stavby, hustotou obsazení ap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teplota při vazném ustájení je 10-12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, při volném ustájení 6-10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létě teploty vyšší než 25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 negativně působí na užitkov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nice mají dobrou termoregulační činnost směrem k teplotám nižš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lativní vlhk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0-70 % bez ohledu na ustáje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vlhkost ve spojení s vyšší teplotou negativně ovlivňuje užitkovost a zdravotní stav dojn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ezpečí – zima, kdy se nevětrá ve snaze zvýšit teplotu ve stá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centrace ply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imální přípustné koncentrace plynů v zóně zvíř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0,200 % CO</a:t>
            </a:r>
            <a:r>
              <a:rPr b="1" lang="cs-CZ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0,002 % NH</a:t>
            </a:r>
            <a:r>
              <a:rPr b="1" lang="cs-CZ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0,001 % H</a:t>
            </a:r>
            <a:r>
              <a:rPr b="1" lang="cs-CZ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žadavky na stájové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://www.delavalczech.cz/ImageVaultFiles/id_54/cf_5/Panorama1%20700x394.jpg"/>
          <p:cNvPicPr/>
          <p:nvPr/>
        </p:nvPicPr>
        <p:blipFill>
          <a:blip r:embed="rId1"/>
          <a:stretch/>
        </p:blipFill>
        <p:spPr>
          <a:xfrm>
            <a:off x="2457360" y="3095640"/>
            <a:ext cx="6686640" cy="3762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1596960"/>
            <a:ext cx="842472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ost proudění vzduc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ima 0,25 m.s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léto 0,50 m.s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bez ohledu na ustáje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nice by neměly být v průvanu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vět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uneční světlo působí příznivě na doj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254E-8F4E-46AF-BC3A-3D2A56171B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žadavky na stájové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CE8B-479B-40CB-BCB2-6373E7FD95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azné ustá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v našich chovech nejrozšířeněj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délky stání rozeznáv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é st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élka 270-280 cm (porodny, starší stáje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třeba podestýlky asi 6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lze využít bezstelivový provo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st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élka 200-230 cm, šířka110-120 c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i používaný vazný způsob ustáje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kytuje pohodlné stání i odpočinek při řetězovém váz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třeba podestýlky asi 4 kg, nelze využít bezstelivový provo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é st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élka 160-180 c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vhodné, způsobuje zdravotní problémy končet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třeba podestýlky asi 2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hody vazného ustá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hled o jednotlivých dojnicí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id ve stáj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žnost individuální péč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éně častá poran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výhody vazného ustá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ší prac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nší chovný komfort zvíř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ižší produktivita prá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ACF3-A5D2-4972-B1FD-AD05117C8C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y ustáj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17T14:10:17Z</dcterms:modified>
  <cp:revision>61</cp:revision>
  <dc:subject/>
  <dc:title>Cow PowerPoint Presentation</dc:title>
</cp:coreProperties>
</file>