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A95-237A-43CB-AEB6-F6575F0B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56A-2909-40E0-BB26-1EA073D8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08C-49B1-4EC7-A4D0-FC09FFB0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356-4303-4222-AFF3-5FB8022B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4D86-CD15-40C3-A961-C511AD7A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A749-1F10-4377-A2C7-818636A2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BEFE-CF12-488B-A7EB-FBECBB40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BEFA-C332-4B17-A7E5-B85E23BB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29A8-4626-4DAD-A409-46436FAB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C6CC-210D-469B-8ED4-1043C5D3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33C2-45F0-4BFE-9CA5-D999EAEA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4E8-0A38-4A6B-97A7-6189BCB0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4AAC-3D42-46C9-A7BB-1AF30C11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E220-974B-4A78-88B7-C1409B6B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84BD-C361-44FC-8055-3A9D2882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E05A-DB6B-43E6-8EF9-E8BF6324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B31A-EDE8-4899-BDD2-2F7FF05E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2D6-7402-47EB-AC34-1E11C0A3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FFB-71C8-4B89-9905-7B4BFA4B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05E-9AA4-41F6-905B-CF05C8F6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952-D17A-44C7-A873-EB09BD0B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A2C-BF04-4E6F-9F77-B7C8815F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DE6-7F07-4679-AC9B-7D6B4FAB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3E0-895E-4F01-B9DE-8D5373B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8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4FC5-DC98-45E3-A3E7-07AE849E68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7A1B-8990-40AA-A0AD-0A8D37DD5B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efajir.cz/" TargetMode="External"/><Relationship Id="rId2" Type="http://schemas.openxmlformats.org/officeDocument/2006/relationships/hyperlink" Target="http://www.stefajir.cz/" TargetMode="External"/><Relationship Id="rId3" Type="http://schemas.openxmlformats.org/officeDocument/2006/relationships/hyperlink" Target="http://www.stefajir.cz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4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ZÁKLADY ŠLECHTĚNÍ ZVÍŘ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31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D981-8DF2-4500-B777-5178D8F7D1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trola užitkovosti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rola užitkovosti sk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hrn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jišťování dojiv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u tuk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u bílkov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vality mlé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výsledcích kontroly se vedou záznamy do předepsaných tiskopis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vní tiskopisy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ní kniha krávy (kontrolní list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znam narozených telat od krav v kontrole užitkov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vrzení o půvo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né tiskopisy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znam kontrolovaných chov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ájový zápisník (stájová karta) krávy v kontrole užitkov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znam o poro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vlastnosti vemene se hodnotí zkouškami dojitel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E0E7-3672-49F5-9369-F2EFD36A21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trola dědičnosti užitkových vlastností a zdraví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rola dědičnosti užitkových vlastností sk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uje úroveň předávání užitkových vlastností jedincem (plemeníkem či plemenicí) na potomstv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hrn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u dědičnosti mléčné užitkov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u dědičnosti dojiteln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u dědičnosti masné užitkov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rola dědičnosti zdraví sk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uzuje se zdravotní stav zabřezlých plemenic po otestovaných plemenných býcích a zdravotní stav narozených telat z tohoto připař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hrn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u dědičnosti býků podle posouzení zevnějšku a zdraví potomst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ledky zjištěné KU, KD a KDZ jsou celostátně evidovány a jsou podkladem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uzování užitkové a plemenné hodnoty zvířat. Vypovídají také o užitko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otu v celorepublikovém měřít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A5D1-0C21-466E-9EC1-A247B6DD7E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920" y="1561680"/>
            <a:ext cx="8470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IŠKOVSKÝ, DOC. ING. CSc.,Zdeněk. Chov zvířat 2. Vydání první. Praha: CREDIT – vydavatelství a agentura, 1995. 249 s. ISBN 80-901645-4-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MAJZLÍK, Ivan. Chov zvířat I. Česká zemědělská univerzita, Agronomická fakul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ŠTEFÁNEK, Jiří. Medicína, nemoci, studium na 1. LF UK [online]. [cit. 11. 2. 2010], </a:t>
            </a:r>
            <a:r>
              <a:rPr b="0" lang="cs-CZ" sz="1200" spc="-1" strike="noStrike" u="sng">
                <a:solidFill>
                  <a:srgbClr val="0b6def"/>
                </a:solidFill>
                <a:uFillTx/>
                <a:latin typeface="Albertus Medium"/>
                <a:hlinkClick r:id="rId1"/>
              </a:rPr>
              <a:t>http</a:t>
            </a:r>
            <a:r>
              <a:rPr b="0" lang="cs-CZ" sz="1200" spc="-1" strike="noStrike" u="sng">
                <a:solidFill>
                  <a:srgbClr val="0b6def"/>
                </a:solidFill>
                <a:uFillTx/>
                <a:latin typeface="Albertus Medium"/>
                <a:hlinkClick r:id="rId2"/>
              </a:rPr>
              <a:t>://</a:t>
            </a:r>
            <a:r>
              <a:rPr b="0" lang="cs-CZ" sz="1200" spc="-1" strike="noStrike" u="sng">
                <a:solidFill>
                  <a:srgbClr val="0b6def"/>
                </a:solidFill>
                <a:uFillTx/>
                <a:latin typeface="Albertus Medium"/>
                <a:hlinkClick r:id="rId3"/>
              </a:rPr>
              <a:t>www.stefajir.cz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http://web2.mendelu.cz/af_291_projekty2/vseo/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http://www.wikiskripta.eu/index.php/Selekce_a_její_typ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http://www.cmsch.cz/kontrola-dedicnosti-zdravi-hospodarskych-zvirat/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229600" cy="5194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lady šlechtění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31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12. 2013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lady šlechtění zvířat, systém selekce v zemědělském podniku, selekční programy, hodnocení plemenných zvířat, kontrola užitkovosti, dědičnosti a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5516280"/>
            <a:ext cx="79167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Chov skotu – Základy šlechtění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427280" y="6308640"/>
            <a:ext cx="409716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E9A5-763F-4C96-A926-04DAD7F4E6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áklady šlechtění zvířa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lady šlechtění zvíř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Šlechtění zvířat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cílevědomé zlepšování znaků a vlastností zvířat změnou jejich genové výbav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mplex opatření vedoucí ke zvyšování užitkovosti zvířat je nazýván plemenářská práce. Šlechtění zvířat se realizuje ve dvou základních krocí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ýběr (selekce) vhodných samců a samic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ako rodičů příští gene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olba systému páření vybraných jedinců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metoda plemenit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ušlechťování jakékoli populace zvířat lze považovat za výrazně ekonomickou činnost, protože jejím výsledkem jsou nové generace zvířat, které jsou výkonnější, s vyšší užitnou hodnotou a tím i ce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át má zájem na co nejvyšší úrovni a kvalitě užitkovosti zvířat, pomáhá chovatelům finanční podporou šlechtě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 1.1.2001 vstoupil v planost nový zákon č. 154/2000 Sb. tj. Zákon o šlechtění a plemenitbě hospodářských zvířat“, který doplňují 3 vyhláš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ěcí vyhláška o šlechtění a plemenitbě hospodářských zvíř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hláška o označování a evidenci hospodářských zvíř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hláška o odborné způsobil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3244-F815-4F45-AB37-C4A98711E6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Systém selekce v zem.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SELEKCE = VÝBĚ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ypy sele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Selekce přírodní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bírá k reprodukci jedince, kteří se nejlépe vyrovnali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životními  podmínkami.Hlavním znakem přírodního výběru je reprodukční způsobilost, tj. schopnost zvířete předat své geny příští generac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Selekce umělá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je realizována člověkem, který vybírá zvířata podle znaků, na kterých chovateli zále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ělá selekce je realizována ve třech krocí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ělá selekce mezi dospělými zvířaty rodičovské generace (rozhodnut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vate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rodní selekce mezi vybranými jedincí (různá plodnost rodič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rodní selekce mezi narozenými jedinci (různá životaschopnost mláď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5676-2180-414A-9019-8EC3AA45BA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Systém selekce v zem.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ody selekce a jejich roz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Negativní selek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j.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vyřazení zvířat s nejhorším vývinem znaků a vlast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ozitivní selekce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výběr nejlepších zvířat popula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produkci příští gener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ekcí se populace zvířat rozdělí na skupin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žitkových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 (ta nejsou použita k produkci příštích generací) a skupin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lemenných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 určenou k produkci příštích generac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Soubor:Selekce.png"/>
          <p:cNvPicPr/>
          <p:nvPr/>
        </p:nvPicPr>
        <p:blipFill>
          <a:blip r:embed="rId1"/>
          <a:stretch/>
        </p:blipFill>
        <p:spPr>
          <a:xfrm>
            <a:off x="615960" y="3198960"/>
            <a:ext cx="3056040" cy="328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://web2.mendelu.cz/af_291_projekty2/vseo/files/2/3192.jpg"/>
          <p:cNvPicPr/>
          <p:nvPr/>
        </p:nvPicPr>
        <p:blipFill>
          <a:blip r:embed="rId2"/>
          <a:stretch/>
        </p:blipFill>
        <p:spPr>
          <a:xfrm>
            <a:off x="4098960" y="3068640"/>
            <a:ext cx="4641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47F3-ECB8-4CE4-99A9-51836C73E4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Selekce podle kategorie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lekce podle kategorie zvíř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elekce te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vním selekčním znakem je zdravotní stav telat (do 6.měsíce stář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uhým selekčním znakem je hmotnost tel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elekce jalov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í se na základě hmotnostního růstu, zdravotního stavu a exteriéru (vyřazují se jalovice, které zaostávají v růstu, které trpí chronickými zažívacími poruchami, zvířata s vady exteriéru, zvířata s poruchami plodnost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elekce kra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í se na základě plodnosti a mléčné užitkov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elekce skotu ve výkr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í se na základě hmotnostního přírůstku a zdravotního stav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elekci je nutno provádět v souladu s obratem stá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2EDF-BF29-4D28-BE03-31338F5B88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Selekční programy v chovu sk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lekční programy v chovu sk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á se o složité soubory plemenářských a zooveterinárních opatření vytvářející předpoklady pro výběr žádoucích jedinců pro uplatnění v plemenitb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ladní principy selekčních program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ematické testování a prověřování všech plemenných býk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á intenzita selekce býků a matek býk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pařování krav určených k reprodukci nejlepšími býk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ntrální evidence a řízení vývoje populace sk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elekční program musí zajistit, že každá následují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generace je geneticky kvalitnější než generace předešl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1470-55C3-4FE2-B89D-79B2974618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Hodnocení plemenných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cení plemenných zvíř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přesnější metodou odhadu plemenné hodnoty je hodnocení užitkovosti potomstva. Někdy však potřebujeme rychlejší (předběžné) informace, které můžeme získ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odnocením podle původ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metoda pouze orientační, odhaduje se dědivodst požadované užitkové vlast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odnocení podle bočního příbuzenstv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 chovu skotu se nevyužív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odnocení podle exteriéru zvířet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na základě metodiky popisu a hodnocení zevnějšku zvířete. Hodnocení je ovlivněno subjektivitou hodnoti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odnocení podle vlastní užitkovosti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oužíváme údaje zjištěné kontrolou užitkovosti (ČSN 46 611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ledkem hodnocení plemenných zvířat je jejich zařazení do tří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elita rekord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elita 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elita b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. tříd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I. tříd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cp:lastPrinted>2013-12-10T11:31:48Z</cp:lastPrinted>
  <dcterms:modified xsi:type="dcterms:W3CDTF">2014-02-05T14:57:07Z</dcterms:modified>
  <cp:revision>47</cp:revision>
  <dc:subject/>
  <dc:title>Cow PowerPoint Presentation</dc:title>
</cp:coreProperties>
</file>