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3EF-7E07-4B91-83FD-8E77125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CD0-9372-41BE-A1DA-F2A5140E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9F7-DEB4-4908-BBD4-A9EE6953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03F-AA61-4A89-9F75-C8FEE98A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4432-0A62-4C41-9CFE-8D05DD59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6BAF-08A8-454E-89E7-1F51674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CA35-819E-4351-AAF7-69AD035F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B34-103A-4A53-AF45-FC08827A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8720-09CD-4BFD-ADBB-E306B97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CF5-C887-4A15-B843-9F1FFA55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BDED-7726-4A21-8DB4-3CDF137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199-3604-42C9-8F4A-24FD2E4A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033-EE67-49FC-9C01-76BCE19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B1E-B1CE-4D1E-9575-815DCAE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919-F400-4077-8B27-179D35EA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2CE8-B244-40FE-B2A5-BA576A89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0E17-B499-42E9-85EB-E330BA8B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06D-9D02-4751-824F-4909C044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136-2982-443D-ACFB-9E1950D2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55A-CE8F-4A73-B733-6B036DFD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9F5-EDC1-4262-A92E-C9B71ADF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DA1-7A50-4523-993E-9A70860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3D2-8FFE-4E88-8CDA-9FCF245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4F5-4453-420B-83D7-FBE20AB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2A2-5633-4ECC-80F1-EE2FB5D99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7440-38EB-4AF9-9371-86650742F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5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0560" y="1557360"/>
            <a:ext cx="8713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hody strojního d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ehčení lidské prá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produktivity prá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lepšení kvality nadojeného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Čím rychleji je mléko dopraveno od dojnice do mléčnice, tím je menší možnost snížení jeho kv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lita mléka je závisl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čištění a údržby dojicího zaříz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B8DA-143D-4023-B1A0-F8B3C7B22D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23920" y="1557360"/>
            <a:ext cx="87120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ování mléka po nad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ošetření mléka po nadojení je zajist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y nedošlo ke zhoršení jeho kval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y nedošlo ke snížení jeho vhodnosti pro další zpra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ištění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ltry – provádíme mimo stáj, nejlépe v mléčn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lazení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ojené mléko má 30-35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– ideální pro množení mikroorganism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utné – snížit teplotu mléka co nejrychleji na 5 </a:t>
            </a:r>
            <a:r>
              <a:rPr b="1" lang="cs-CZ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, nejlépe do 150 minut po nadojení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ádrže a ta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chladí se postupně, současně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 chlazením musíme zajistit i míchání mlék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abráníme tím tvorbě smetany, která ovlivňuje únik plynů z mléka a tím jeho kval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růtokové chladič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chladí téměř okamži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542-A462-4462-8D21-7571416393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560" y="1557360"/>
            <a:ext cx="8713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chovávání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uchováváme stále při teplotě 5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až do odvo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á teplota uchovávání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bezpečí namrznutí mléka na stěny chladících nádrž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horšení kvality mléka pro další zpra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smí se míchat zchlazené a čerstvě nadojené mléko (večer a rá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4030-B7EC-4EC8-847A-19D3771B47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F464-C73B-407E-A28D-ADEB54CC3D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lačítko akce: Video 6"/>
          <p:cNvSpPr/>
          <p:nvPr/>
        </p:nvSpPr>
        <p:spPr>
          <a:xfrm>
            <a:off x="3192480" y="2276640"/>
            <a:ext cx="2774880" cy="2552400"/>
          </a:xfrm>
          <a:custGeom>
            <a:avLst/>
            <a:gdLst>
              <a:gd name="textAreaLeft" fmla="*/ 165240 w 2774880"/>
              <a:gd name="textAreaRight" fmla="*/ 2609640 w 2774880"/>
              <a:gd name="textAreaTop" fmla="*/ 165240 h 2552400"/>
              <a:gd name="textAreaBottom" fmla="*/ 2387160 h 2552400"/>
            </a:gdLst>
            <a:ahLst/>
            <a:rect l="textAreaLeft" t="textAreaTop" r="textAreaRight" b="textAreaBottom"/>
            <a:pathLst>
              <a:path w="23482" h="21600">
                <a:moveTo>
                  <a:pt x="0" y="0"/>
                </a:moveTo>
                <a:lnTo>
                  <a:pt x="23482" y="0"/>
                </a:lnTo>
                <a:lnTo>
                  <a:pt x="23482" y="21600"/>
                </a:lnTo>
                <a:lnTo>
                  <a:pt x="0" y="21600"/>
                </a:lnTo>
                <a:close/>
              </a:path>
              <a:path fill="lightenLess" w="23482" h="21600">
                <a:moveTo>
                  <a:pt x="0" y="0"/>
                </a:moveTo>
                <a:lnTo>
                  <a:pt x="23482" y="0"/>
                </a:lnTo>
                <a:lnTo>
                  <a:pt x="22082" y="1400"/>
                </a:lnTo>
                <a:lnTo>
                  <a:pt x="1400" y="1400"/>
                </a:lnTo>
                <a:close/>
              </a:path>
              <a:path fill="darken" w="23482" h="21600">
                <a:moveTo>
                  <a:pt x="23482" y="0"/>
                </a:moveTo>
                <a:lnTo>
                  <a:pt x="23482" y="21600"/>
                </a:lnTo>
                <a:lnTo>
                  <a:pt x="22082" y="20200"/>
                </a:lnTo>
                <a:lnTo>
                  <a:pt x="22082" y="1400"/>
                </a:lnTo>
                <a:close/>
              </a:path>
              <a:path fill="darkenLess" w="23482" h="21600">
                <a:moveTo>
                  <a:pt x="23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82" y="20200"/>
                </a:lnTo>
                <a:close/>
              </a:path>
              <a:path fill="lighten" w="23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82" h="21600">
                <a:moveTo>
                  <a:pt x="4735" y="7301"/>
                </a:moveTo>
                <a:lnTo>
                  <a:pt x="5649" y="7301"/>
                </a:lnTo>
                <a:lnTo>
                  <a:pt x="6032" y="7667"/>
                </a:lnTo>
                <a:lnTo>
                  <a:pt x="15240" y="7667"/>
                </a:lnTo>
                <a:lnTo>
                  <a:pt x="15797" y="8224"/>
                </a:lnTo>
                <a:lnTo>
                  <a:pt x="15797" y="8772"/>
                </a:lnTo>
                <a:lnTo>
                  <a:pt x="17642" y="8772"/>
                </a:lnTo>
                <a:lnTo>
                  <a:pt x="18008" y="8224"/>
                </a:lnTo>
                <a:lnTo>
                  <a:pt x="18748" y="8224"/>
                </a:lnTo>
                <a:lnTo>
                  <a:pt x="18748" y="13376"/>
                </a:lnTo>
                <a:lnTo>
                  <a:pt x="18008" y="13376"/>
                </a:lnTo>
                <a:lnTo>
                  <a:pt x="17642" y="12828"/>
                </a:lnTo>
                <a:lnTo>
                  <a:pt x="15797" y="12828"/>
                </a:lnTo>
                <a:lnTo>
                  <a:pt x="15797" y="14107"/>
                </a:lnTo>
                <a:lnTo>
                  <a:pt x="6214" y="14107"/>
                </a:lnTo>
                <a:lnTo>
                  <a:pt x="6214" y="9877"/>
                </a:lnTo>
                <a:lnTo>
                  <a:pt x="6032" y="9877"/>
                </a:lnTo>
                <a:lnTo>
                  <a:pt x="5649" y="10243"/>
                </a:lnTo>
                <a:lnTo>
                  <a:pt x="4735" y="10243"/>
                </a:lnTo>
                <a:close/>
              </a:path>
            </a:pathLst>
          </a:custGeom>
          <a:solidFill>
            <a:srgbClr val="a6ca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080-298C-4B7B-A10B-EF779E8E51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 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 : Institut 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user.mendelu.cz/los/Multimedialni_animace_z_oblasti_stroju_a_zarizeni_pro_ZV.swf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szesro.cz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https://docs.google.com/znamky.szesro.cz/text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ískávání mlé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5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11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e a technika dojení, příprava vemene, dojení, dojírny, uchovávání mlék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skotu – Získávání mlé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84720" y="6165720"/>
            <a:ext cx="42400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560" y="1557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y nadojené mléko mělo co nejvyšší kvalitu,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usíme dodržovat některé zása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jeho získá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 dojením </a:t>
            </a: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ze stání odstraníme mrvu a výkal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týká se ručního, konvového nebo potrubního dojení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27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při dojení musí být ve stáji klid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týká se ručního, konvového nebo potrubního dojení), nesmí se podestýlat, navážet krmivo, čistit dojn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27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dojič dodržuje BOZP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istý pracovní oděv, na hlavě pokrývku, čisté ruce bez šperků, krátce ostříhané neht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27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omýt a do sucha otřít vemen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každého struku </a:t>
            </a: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provést minimálně dva odstřiky do zvláštní nádob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aby se odstranily ze strukového svěrače mikroorganizmy – tzv. bakteriologická zátka – a bylo možno zjistit, zda je mléko nezávadn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všech těchto činnostech </a:t>
            </a:r>
            <a:r>
              <a:rPr b="1" lang="cs-CZ" sz="1600" spc="-1" strike="noStrike">
                <a:solidFill>
                  <a:srgbClr val="0a2793"/>
                </a:solidFill>
                <a:latin typeface="Arial"/>
              </a:rPr>
              <a:t>začít co nejdříve dojit, aby bylo využito působení oxytocin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vydojilo se maximum vyprodukovaného mléka, které může mít ke konci dojení velmi vysokou tučnost (až 8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E64-4650-4195-BDB2-0E4AAAE8FE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Technologie a technika doj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1C56-2D43-4EC2-B6BB-67C57CA3A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1063800" y="6248520"/>
            <a:ext cx="1149120" cy="457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914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prava vem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dojení prvních střiků (kontrola sraženiny nebo změny barv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ištění struk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uchou jednorázovou utěrkou s dezinfekčními účin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u vodou (30 - 40°C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é osušit opět suchou jednorázovou utěrkou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pravná masá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. 1 minutu, vyvolání spouštěcího reflexu (oxytocin účinek 3 - 5 minu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j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. 5-7 min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a průběhu doj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dojovat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 doj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ení struků dezinfekčním roztokem (omezení zánětu vemene – mastiti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Technologie a technika doj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uční d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inou dojíme z pravé stra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rve dojíme přední čtvrtě, po vydojení zadní čtvrt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aně musí být suché, nikdy nezvlhčuje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ze struku uvolňujeme vytlačování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ot struku musí přečnívat sevřenou dlaň, aby mléko nestékalo po ru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vydojení se provádí tzv. dodojování – předchází se zánětům mléčné žláz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máhavé, dnes se již moc nevyužívá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učně dojíme pouze se zánětem mléčné žlázy, ale vždy po podojení zdravých doj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0159-7E4C-487A-928A-E51D22C831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522440" y="4508640"/>
            <a:ext cx="307656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716360" y="4511520"/>
            <a:ext cx="2906640" cy="19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1557360"/>
            <a:ext cx="8713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ojní d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technologie dojíme na stání nebo v dojír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ení na st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konv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rub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vové dojící zařízení (stacionár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 se v porodnách a ve stájích s menším počtem dojn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přípravě stroje a jeho napojení na vzduchové potrubí nasazujeme strukové násad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ojené mléko jde do kon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trubní dojící za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dojení ve vazných stájí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ojené mléko je potrubím dopravováno do mléč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929-5EAA-4BB9-98B9-3AE4F2B813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1557360"/>
            <a:ext cx="8713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bilní dojicí zařízení pro vazné st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icí jednotka je posouvána od stání jedné dojnice ke druhé po trubkové konstruk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je po dobu dojení shromažďováno v odměrné nádobě – snadno zjistíme, kolik která dojnice nadoj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vydojení se mléko přečerpá do potrubí a je dopraveno do mléč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jení v dojírn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írny dělíme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cionár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ndemov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ybinov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bil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uhov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totandemové – dojič pracuje uvnitř kružn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tolaktorové – dojič pracuje na vnější straně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8E9-37FF-4F36-A504-F5327B6279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F5D-F01E-45EE-855A-E6CDA4F96B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ískávání mlé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6" descr="http://www.delavalczech.cz/ImageVaultFiles/id_785/cf_5/tandem_system_700.jpg"/>
          <p:cNvPicPr/>
          <p:nvPr/>
        </p:nvPicPr>
        <p:blipFill>
          <a:blip r:embed="rId1"/>
          <a:stretch/>
        </p:blipFill>
        <p:spPr>
          <a:xfrm>
            <a:off x="236520" y="1574640"/>
            <a:ext cx="3968640" cy="236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files.lukrom-milk.webnode.cz/200000070-228d723872/Schema_rybinove.jpg"/>
          <p:cNvPicPr/>
          <p:nvPr/>
        </p:nvPicPr>
        <p:blipFill>
          <a:blip r:embed="rId2"/>
          <a:stretch/>
        </p:blipFill>
        <p:spPr>
          <a:xfrm>
            <a:off x="4788000" y="1530360"/>
            <a:ext cx="4087800" cy="245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www.delavalczech.cz/ImageVaultFiles/id_782/cf_5/rotary_system_700.jpg"/>
          <p:cNvPicPr/>
          <p:nvPr/>
        </p:nvPicPr>
        <p:blipFill>
          <a:blip r:embed="rId3"/>
          <a:stretch/>
        </p:blipFill>
        <p:spPr>
          <a:xfrm>
            <a:off x="2340000" y="3944880"/>
            <a:ext cx="42829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1-12T17:49:20Z</dcterms:modified>
  <cp:revision>71</cp:revision>
  <dc:subject/>
  <dc:title>Cow PowerPoint Presentation</dc:title>
</cp:coreProperties>
</file>