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8AF-80AD-4978-9C1A-B77752AA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2CF-1199-4976-B426-6BA2C913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037-9C11-44BC-BF7A-82E750B0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6D6-3BE6-496D-83B8-743FBD53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6540-8640-4316-A917-27594839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2A80-B689-4AE3-98A3-02953C94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5239-9273-4227-9A8C-D1482240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ACB9-BE59-454E-BBDE-F0D7839F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CF3F-6E29-41E6-98F5-3A2D88C0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29BF-AB73-4A72-8491-28751D26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33AC-A267-4E7F-A9C0-A6C4749F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4C7-6ACC-4CE7-9757-6E093C1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EC6E-A67D-4F88-9C98-229FDD4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1ED8-2CA5-486D-8636-52BA3F44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8F7B-1946-4062-95C5-359E666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5A42-D986-4064-8DFC-D973BB90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BDFD-7548-40CE-BB61-849FAC82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24B-015B-40D3-97E6-CE956F84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25E-8FF4-483B-A4BC-35BAB2C0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78F-889C-415E-9A16-7AF4B107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801-677E-4BA5-8D2E-5A1AFFB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174-F51B-4E49-8CB3-5F3C8D3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9FD-C788-4C68-B63D-F067FE4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2CB-07B6-4CB8-B13A-03891654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6469-E29D-4100-BEA6-A98F7428FC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6457-89C3-4211-A369-47427636A6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6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PLEMENA SKOTU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- POZNÁVAČK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8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74DC-9819-47F0-97B9-9DE91C3A67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5">
            <a:hlinkClick r:id="" action="ppaction://hlinkshowjump?jump=nextslide"/>
          </p:cNvPr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9" descr="SalersBreed_Cow_5"/>
          <p:cNvPicPr/>
          <p:nvPr/>
        </p:nvPicPr>
        <p:blipFill>
          <a:blip r:embed="rId1"/>
          <a:stretch/>
        </p:blipFill>
        <p:spPr>
          <a:xfrm>
            <a:off x="2411280" y="1484280"/>
            <a:ext cx="6301080" cy="44290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0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717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8859-DD1E-4FED-9A01-BC10F196BE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14">
            <a:hlinkClick r:id="" action="ppaction://hlinkshowjump?jump=nextslide"/>
          </p:cNvPr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0" descr="home_thumb"/>
          <p:cNvPicPr/>
          <p:nvPr/>
        </p:nvPicPr>
        <p:blipFill>
          <a:blip r:embed="rId1"/>
          <a:stretch/>
        </p:blipFill>
        <p:spPr>
          <a:xfrm>
            <a:off x="2340000" y="1484280"/>
            <a:ext cx="6553080" cy="43624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24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742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66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72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778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90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96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0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802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80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80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820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B42D-0E3E-4346-87F7-510251A882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13">
            <a:hlinkClick r:id="" action="ppaction://hlinkshowjump?jump=nextslide"/>
          </p:cNvPr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0" descr="limousin2"/>
          <p:cNvPicPr/>
          <p:nvPr/>
        </p:nvPicPr>
        <p:blipFill>
          <a:blip r:embed="rId1"/>
          <a:stretch/>
        </p:blipFill>
        <p:spPr>
          <a:xfrm>
            <a:off x="2195640" y="1700280"/>
            <a:ext cx="6769080" cy="40622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2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39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857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875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81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8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87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893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89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1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F55B-60F2-474A-94AC-383B019CE6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16">
            <a:hlinkClick r:id="" action="ppaction://hlinkshowjump?jump=nextslide"/>
          </p:cNvPr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3" descr="KB_L1_Domino_632"/>
          <p:cNvPicPr/>
          <p:nvPr/>
        </p:nvPicPr>
        <p:blipFill>
          <a:blip r:embed="rId1"/>
          <a:stretch/>
        </p:blipFill>
        <p:spPr>
          <a:xfrm>
            <a:off x="2340000" y="1484280"/>
            <a:ext cx="6553080" cy="4367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30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36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960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978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984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90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996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0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0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014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01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020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026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A160-016E-4F78-B20A-E642B6743C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4">
            <a:hlinkClick r:id="" action="ppaction://hlinkshowjump?jump=nextslide"/>
          </p:cNvPr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21" descr="176a"/>
          <p:cNvPicPr/>
          <p:nvPr/>
        </p:nvPicPr>
        <p:blipFill>
          <a:blip r:embed="rId1"/>
          <a:stretch/>
        </p:blipFill>
        <p:spPr>
          <a:xfrm>
            <a:off x="2484360" y="1484280"/>
            <a:ext cx="6191280" cy="43768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2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039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4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04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051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5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05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6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6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081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087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093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10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111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11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2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2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129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C2D-B1CC-410B-A765-E7190B6656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3">
            <a:hlinkClick r:id="" action="ppaction://hlinkshowjump?jump=nextslide"/>
          </p:cNvPr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0" descr="11mature-galloway-bull"/>
          <p:cNvPicPr/>
          <p:nvPr/>
        </p:nvPicPr>
        <p:blipFill>
          <a:blip r:embed="rId1"/>
          <a:stretch/>
        </p:blipFill>
        <p:spPr>
          <a:xfrm>
            <a:off x="2195640" y="1700280"/>
            <a:ext cx="6769080" cy="4016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14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148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15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7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9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60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166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7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7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178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18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190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96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208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1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214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2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5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226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3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232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3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A4B-A935-4CF1-9CB6-0D9E5C407B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6">
            <a:hlinkClick r:id="" action="ppaction://hlinkshowjump?jump=nextslide"/>
          </p:cNvPr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1" descr="Soubor:Cow on Pupers.jpg"/>
          <p:cNvPicPr/>
          <p:nvPr/>
        </p:nvPicPr>
        <p:blipFill>
          <a:blip r:embed="rId1"/>
          <a:stretch/>
        </p:blipFill>
        <p:spPr>
          <a:xfrm>
            <a:off x="2627280" y="1484280"/>
            <a:ext cx="6121440" cy="44704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2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4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24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4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251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257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0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6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7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275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7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281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287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299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30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323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329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595D-3B76-45F1-810E-2CB17E6ED5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10">
            <a:hlinkClick r:id="" action="ppaction://hlinkshowjump?jump=nextslide"/>
          </p:cNvPr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0" descr="Gasconne"/>
          <p:cNvPicPr/>
          <p:nvPr/>
        </p:nvPicPr>
        <p:blipFill>
          <a:blip r:embed="rId1"/>
          <a:stretch/>
        </p:blipFill>
        <p:spPr>
          <a:xfrm>
            <a:off x="2195640" y="1484280"/>
            <a:ext cx="6769080" cy="44229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348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5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354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5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360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6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366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378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384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390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39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396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1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414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1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420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2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438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0595-B10E-486A-8D38-BD9FCCC9B3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17">
            <a:hlinkClick r:id="" action="ppaction://hlinkshowjump?jump=nextslide"/>
          </p:cNvPr>
          <p:cNvSpPr/>
          <p:nvPr/>
        </p:nvSpPr>
        <p:spPr>
          <a:xfrm>
            <a:off x="550872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22" descr="ballygrange_vinny"/>
          <p:cNvPicPr/>
          <p:nvPr/>
        </p:nvPicPr>
        <p:blipFill>
          <a:blip r:embed="rId1"/>
          <a:stretch/>
        </p:blipFill>
        <p:spPr>
          <a:xfrm>
            <a:off x="2195640" y="1557360"/>
            <a:ext cx="6618240" cy="44020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3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43" dur="indefinite" restart="never" nodeType="tmRoot">
          <p:childTnLst>
            <p:seq>
              <p:cTn id="1444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445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451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5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63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469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7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47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8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99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505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511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17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2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523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6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27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529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535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541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4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45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58B-B34D-4C5B-ADFB-B9B38EB159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Box 15">
            <a:hlinkClick r:id="" action="ppaction://hlinkshowjump?jump=nextslide"/>
          </p:cNvPr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20" descr="niloweb"/>
          <p:cNvPicPr/>
          <p:nvPr/>
        </p:nvPicPr>
        <p:blipFill>
          <a:blip r:embed="rId1"/>
          <a:stretch/>
        </p:blipFill>
        <p:spPr>
          <a:xfrm>
            <a:off x="2411280" y="1484280"/>
            <a:ext cx="6372360" cy="44546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46" dur="indefinite" restart="never" nodeType="tmRoot">
          <p:childTnLst>
            <p:seq>
              <p:cTn id="1547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548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554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560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5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566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0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572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584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7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8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590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9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96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0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602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0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3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614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9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620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626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3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632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3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1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642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644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4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mena skotu - poznávač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8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 11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návání plemen sko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63B0-869A-46D4-80E1-47419549C9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1">
            <a:hlinkClick r:id="" action="ppaction://hlinkshowjump?jump=nextslide"/>
          </p:cNvPr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15"/>
          <p:cNvSpPr/>
          <p:nvPr/>
        </p:nvSpPr>
        <p:spPr>
          <a:xfrm>
            <a:off x="392436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5651640" y="6021360"/>
            <a:ext cx="169200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0" descr="Baxter%20Dam"/>
          <p:cNvPicPr/>
          <p:nvPr/>
        </p:nvPicPr>
        <p:blipFill>
          <a:blip r:embed="rId1"/>
          <a:stretch/>
        </p:blipFill>
        <p:spPr>
          <a:xfrm>
            <a:off x="2627280" y="1484280"/>
            <a:ext cx="62294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9" dur="indefinite" restart="never" nodeType="tmRoot">
          <p:childTnLst>
            <p:seq>
              <p:cTn id="165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651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5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657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669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3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675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681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6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687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699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0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70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8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0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715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717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723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729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735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747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0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51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2AFA-14F8-486A-A22C-6F1C117453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Atlas plemen hospodářských zvířat. Vydání první. Praha : Nakladatelství Brázda, s. r. o.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 : Institut výchovy a vzdělávání Ministerstva zemědělství České republiky, 1995. 236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URBAN, J., ŠARAPATKA, B., a kol. Ekologické zemědělství: učebnice pro školy i praxi - I. díl. Vydání prv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raha: MŽP a Svaz PRO-BIO, 2003, 280 s. ISBN 80-7212-274-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ŠARAPATKA, B., URBAN, J., a kol. Ekologické zemědělství: učebnice pro školy i praxi - II. díl. Vydání pr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Šumperk: Svaz PRO-BIO, 2005, 334 s. ISBN 80-903583-0-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BURDA, František. Zemědělské výrobky 2 – živočišné výrobky.Vydání první. Praha : Stá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zemědělské nakladatelství, 1995. 236 s. ISBN 07-000-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emena skotu - poznáv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0C10-CD8F-434E-93A2-5C8A276123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y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9">
            <a:hlinkClick r:id="" action="ppaction://hlinkshowjump?jump=nextslide"/>
          </p:cNvPr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0" descr="holstyn"/>
          <p:cNvPicPr/>
          <p:nvPr/>
        </p:nvPicPr>
        <p:blipFill>
          <a:blip r:embed="rId1"/>
          <a:stretch/>
        </p:blipFill>
        <p:spPr>
          <a:xfrm>
            <a:off x="2195640" y="1484280"/>
            <a:ext cx="6372000" cy="4462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0584-FD4F-498E-9188-078B1C9858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9">
            <a:hlinkClick r:id="" action="ppaction://hlinkshowjump?jump=nextslide"/>
          </p:cNvPr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y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0" descr="http://www.eamos.cz/amos/koz/img_upload/koz_0885/kravy/ayr_cow02.jpg"/>
          <p:cNvPicPr/>
          <p:nvPr/>
        </p:nvPicPr>
        <p:blipFill>
          <a:blip r:embed="rId1"/>
          <a:stretch/>
        </p:blipFill>
        <p:spPr>
          <a:xfrm>
            <a:off x="2195640" y="1484280"/>
            <a:ext cx="6516720" cy="4489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8F05-DAB2-4318-9348-81667E2256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24000" y="105264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24000" y="141300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4000" y="198900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4000" y="270828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24000" y="234936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4000" y="306864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422100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24000" y="364500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24000" y="458136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24000" y="551664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8">
            <a:hlinkClick r:id="" action="ppaction://hlinkshowjump?jump=nextslide"/>
          </p:cNvPr>
          <p:cNvSpPr/>
          <p:nvPr/>
        </p:nvSpPr>
        <p:spPr>
          <a:xfrm>
            <a:off x="324000" y="494172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0" descr="cesky_strakaty_krava"/>
          <p:cNvPicPr/>
          <p:nvPr/>
        </p:nvPicPr>
        <p:blipFill>
          <a:blip r:embed="rId1"/>
          <a:stretch/>
        </p:blipFill>
        <p:spPr>
          <a:xfrm>
            <a:off x="2124000" y="1484280"/>
            <a:ext cx="6804000" cy="4451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A574-5F05-449F-834A-6BB2516D86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105264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141300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24000" y="198900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70828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24000" y="234936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24000" y="306864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24000" y="422100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2">
            <a:hlinkClick r:id="" action="ppaction://hlinkshowjump?jump=nextslide"/>
          </p:cNvPr>
          <p:cNvSpPr/>
          <p:nvPr/>
        </p:nvSpPr>
        <p:spPr>
          <a:xfrm>
            <a:off x="324000" y="364500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24000" y="4581360"/>
            <a:ext cx="17287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24000" y="551664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4941720"/>
            <a:ext cx="17287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0" descr="montbeliard_cow"/>
          <p:cNvPicPr/>
          <p:nvPr/>
        </p:nvPicPr>
        <p:blipFill>
          <a:blip r:embed="rId1"/>
          <a:stretch/>
        </p:blipFill>
        <p:spPr>
          <a:xfrm>
            <a:off x="2195640" y="1484280"/>
            <a:ext cx="6732360" cy="4481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78FA-B140-4E52-B582-3B5337EB58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">
            <a:hlinkClick r:id="" action="ppaction://hlinkshowjump?jump=nextslide"/>
          </p:cNvPr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0" descr="P5250024"/>
          <p:cNvPicPr/>
          <p:nvPr/>
        </p:nvPicPr>
        <p:blipFill>
          <a:blip r:embed="rId1"/>
          <a:stretch/>
        </p:blipFill>
        <p:spPr>
          <a:xfrm>
            <a:off x="2411280" y="1484280"/>
            <a:ext cx="6012000" cy="4432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743-98E3-4572-992B-88A28FB419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5580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Jersey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5128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llo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124000" y="105264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berdeen Ang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24000" y="105264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al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24000" y="1413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Skotské náhorní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7">
            <a:hlinkClick r:id="" action="ppaction://hlinkshowjump?jump=nextslide"/>
          </p:cNvPr>
          <p:cNvSpPr/>
          <p:nvPr/>
        </p:nvSpPr>
        <p:spPr>
          <a:xfrm>
            <a:off x="324000" y="1989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Charol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24000" y="270828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lštýn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324000" y="2349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Ayrshir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24000" y="3068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Gaskoňské plem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4000" y="422100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rown Swi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324000" y="364500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ontbeliard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24000" y="4581360"/>
            <a:ext cx="172692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Limou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324000" y="551664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Masný simentálsk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85128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iemont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124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eref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5580000" y="6021360"/>
            <a:ext cx="1692360" cy="3070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elgické modr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24000" y="4941720"/>
            <a:ext cx="1726920" cy="52020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ff">
                  <a:alpha val="49019"/>
                </a:srgbClr>
              </a:gs>
            </a:gsLst>
            <a:lin ang="0"/>
          </a:gradFill>
          <a:ln w="25560">
            <a:solidFill>
              <a:srgbClr val="6ba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Český strakatý sk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0" descr="Charolais"/>
          <p:cNvPicPr/>
          <p:nvPr/>
        </p:nvPicPr>
        <p:blipFill>
          <a:blip r:embed="rId1"/>
          <a:stretch/>
        </p:blipFill>
        <p:spPr>
          <a:xfrm>
            <a:off x="2268360" y="1557360"/>
            <a:ext cx="6696360" cy="41860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1"/>
          <p:cNvSpPr/>
          <p:nvPr/>
        </p:nvSpPr>
        <p:spPr>
          <a:xfrm>
            <a:off x="39528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42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55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72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96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0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14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1-25T07:51:18Z</dcterms:modified>
  <cp:revision>34</cp:revision>
  <dc:subject/>
  <dc:title>Cow PowerPoint Presentation</dc:title>
</cp:coreProperties>
</file>