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57B-B8C5-44B5-ADA1-3ECB9D9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5E4-ADE7-4AB9-8C70-BD50BD9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E13-B1EF-47D9-A180-D6B2EADA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082-FF98-467B-AAF2-21F54482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816-F893-44D9-9BB4-EA932BB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E289-7C54-4E9C-BE56-1494BE9B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271-73DB-4586-924B-22C9E1C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D699-6D89-4E7C-9EC1-1AAC343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DF8F-6A70-4F5E-A797-A3FAC81F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7167-0AF1-4FE6-8C22-CF9908C7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F14-222D-46DE-8ED5-E293EB8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E58C-54B8-4CCB-A9D9-A1D30BC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6D3A-2A08-4699-BB92-E980C52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D3E0-7726-4D6E-BB4D-A9A61A4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70B-B5F7-484E-9605-D677E5B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507-C97F-4F30-9B7C-F773351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FCD-1248-4FA9-BA20-45EE30AB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0DFD-BD68-4415-9A58-03B3C4C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D82-0D00-4CCE-BEBD-C14E60A0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FA3-2ED7-4DED-81AA-89EE185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70E-7335-453E-B593-74EC6CE2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4F1-F016-4FB1-ABE8-7E7868F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E89-AD55-466D-92E6-EB015F5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99F-4401-488E-BB4F-9960ED5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2F60-F9B5-4508-8C11-0950268544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411-A7A1-4DEC-875E-94DB00658721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2676240"/>
            <a:ext cx="8680320" cy="27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ODCHOV PLEMENNÝCH PRAS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4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chov plemenných 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4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.12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chov plemenných prasat, ustájení a krmení mladých plemenných prasat, příklady krmných dávek v kg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468320"/>
            <a:ext cx="7772400" cy="15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DCHOV PLEMENNÝCH PRAS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CHOV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171080"/>
            <a:ext cx="831852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chov plemen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adá plemenná prasata dělíme do dvou věkových kategori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lemenní běhouni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odstavená selata obojího pohlaví do stáří 3 měsí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lemenní kanečci a plemenné prasničk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vířata od 4. měsíce věku do jejich využití k plemenitbě (využití u kanečků se vyjadřuje prvním připuštěním, u prasniček prvním porodem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chov plemenných běhounů se neliší od odchovu ostatních odstávč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třech měsících věku se odstávčata rozdělí podle pohlaví a chovají se odděle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120320"/>
            <a:ext cx="822960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tájení mladých plemen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rávný vývin mladých zvířat – nutno věnovat pozornos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živ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táj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otě pokož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tváření končeti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chanice chůz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řazení do plemenitb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č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–8 měsíc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30–140 k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ečci (intenzivnější vývin)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kupní trh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–9 měsí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růstek v odchov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čky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00–550 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ečci   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&gt; 60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MLADÝCH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211040"/>
            <a:ext cx="842976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chéma uspořádání stáje pro odchov plemenných prasa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stelecká dvojbouda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tec je rozdělen na lože a kališt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liz výkalů z podroštového prostoru je mechanický, hydromechanický, v případě plného kaliště ruční nebo oběžným shrnovačem hnoj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počet zvířat v jednom kotci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čky do 6 měsíc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0-12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čky nad 6 měsíc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6-8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ečci do 6 měsíc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5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ečci nad 6 měsíc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1-2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MLADÝCH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7" name="Obrázek 1" descr=""/>
          <p:cNvPicPr/>
          <p:nvPr/>
        </p:nvPicPr>
        <p:blipFill>
          <a:blip r:embed="rId1"/>
          <a:stretch/>
        </p:blipFill>
        <p:spPr>
          <a:xfrm>
            <a:off x="568440" y="1211400"/>
            <a:ext cx="3552840" cy="260964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4" descr=""/>
          <p:cNvPicPr/>
          <p:nvPr/>
        </p:nvPicPr>
        <p:blipFill>
          <a:blip r:embed="rId2"/>
          <a:stretch/>
        </p:blipFill>
        <p:spPr>
          <a:xfrm>
            <a:off x="4338720" y="1558800"/>
            <a:ext cx="46386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mení mladých plemenných 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menné běhouny můžeme krmit intenzivně – do stáří 3 měsíců nehrozí přetučně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ději upravíme denní krmnou dávku tak, aby odpovídala dennímu přírůstku 550-600 g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íme 2x den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rniny šrotované, zelená píce mladá, čerstvá, řepa krouha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KS vlhčené nebo granulované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egorie 30-40 kg živé váhy – 1,5 kg KK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egorie 80-90 kg živé váhy – asi 3 kg KKS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a vody – 2-2,5 l na 1 kg suchého krmiva (při zkrmování šťavnatých krmiv se potřeba vody snižuje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MLADÝCH PLEMENNÝCH PRAS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Y KRMNÝCH DÁVEK V KG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drawingml/2006/table">
            <a:tbl>
              <a:tblPr/>
              <a:tblGrid>
                <a:gridCol w="969840"/>
                <a:gridCol w="997200"/>
                <a:gridCol w="776160"/>
                <a:gridCol w="1017720"/>
                <a:gridCol w="992160"/>
                <a:gridCol w="1081080"/>
                <a:gridCol w="785880"/>
                <a:gridCol w="823680"/>
                <a:gridCol w="1095480"/>
                <a:gridCol w="604800"/>
              </a:tblGrid>
              <a:tr h="414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ěk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 měsících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mné obdob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MIVO V KG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Krmná řepa, mrkev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Pařené okopanin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Kukuřičná siláž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Speciální okopanin. siláž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Úsušky pícnin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Zelená pí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Doplňková smě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117e"/>
                          </a:solidFill>
                          <a:latin typeface="Arial"/>
                        </a:rPr>
                        <a:t>KK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ní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ní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ní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5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ní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d7d5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r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ní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zim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6T08:00:53Z</dcterms:modified>
  <cp:revision>251</cp:revision>
  <dc:subject/>
  <dc:title>Piglets template</dc:title>
</cp:coreProperties>
</file>