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333-5658-4EDD-86DB-D952D53A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3D9-B7EF-4FBD-ADED-2971BE8C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250-E880-4819-BEAD-A2B6D380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165-C84E-4663-832D-886C533A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168-39A9-48C5-8C95-34F7F376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F581-A417-4C0E-B28F-69135D3B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4510-DAAF-4630-BE40-C1712AFD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DC6D-4F0D-43E8-AC7F-CDAEE4F5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7172-C2B7-4395-8C2F-5D9EF8FB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D48B-5811-44A9-A457-48B752DE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8CD-41E6-4B7B-AC5B-42E26E64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61B7-EE45-439E-9CB2-BA157A9F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DA0A-E8A4-4F42-BF4A-CBAEABDD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3970-E2B8-4DA5-B615-01DF779C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144A-5A37-41A7-8846-F78BB147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33D2-AD12-4262-B95D-7D211E10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C43C-FB70-4074-85B6-685EA481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B672-DF7A-49E7-8C7C-E3F462C6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A01-D5D7-404F-8812-D7DCC198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828-C35D-4AC8-9ECA-75CC3F61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933-663A-4F1D-A597-001996A2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4C3-0BA1-4265-BEB7-FCC51E17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B42-6961-48EB-997C-CBFE20E9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138-1CCF-40D4-9809-8F18F505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4F49-3A53-48B6-9D48-73B90401E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4222-277C-4F35-8B5D-8335A10D4706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VÝZNAM CHOVU PRASAT</a:t>
            </a:r>
            <a:endParaRPr b="0" lang="en-US" sz="54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41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d2015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133280"/>
            <a:ext cx="8229600" cy="56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Laboratorní zvíř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leme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minesotské</a:t>
            </a:r>
            <a:r>
              <a:rPr b="0" lang="cs-CZ" sz="16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göttingenské</a:t>
            </a:r>
            <a:r>
              <a:rPr b="0" lang="cs-CZ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hodné k lékařským účelů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pra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všežravé, požadavky na výživu a stavba </a:t>
            </a: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trávicího traktu</a:t>
            </a:r>
            <a:r>
              <a:rPr b="0" lang="cs-CZ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odobné člověku (žaludeční šťávy shodné s lidskými)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ělá tvorba žaludečných vředů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230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2307c"/>
                </a:solidFill>
                <a:latin typeface="Arial"/>
              </a:rPr>
              <a:t>zubní lékařství</a:t>
            </a:r>
            <a:r>
              <a:rPr b="0" lang="cs-CZ" sz="1600" spc="-1" strike="noStrike">
                <a:solidFill>
                  <a:srgbClr val="02307c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obdobný vývoj zubů, tvorba zubního kamen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230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2307c"/>
                </a:solidFill>
                <a:latin typeface="Arial"/>
              </a:rPr>
              <a:t>inzul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téměř identický s lidským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230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2307c"/>
                </a:solidFill>
                <a:latin typeface="Arial"/>
              </a:rPr>
              <a:t>identické i kardiovaskulární chorob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rase rovněž trpí ateroskleróz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230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2307c"/>
                </a:solidFill>
                <a:latin typeface="Arial"/>
              </a:rPr>
              <a:t>transplantační chirurgi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opáleniny, náhrada srdečních chlopní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NAM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5" name="Picture 6" descr="Bez názvu 1 kopie"/>
          <p:cNvPicPr/>
          <p:nvPr/>
        </p:nvPicPr>
        <p:blipFill>
          <a:blip r:embed="rId1"/>
          <a:stretch/>
        </p:blipFill>
        <p:spPr>
          <a:xfrm>
            <a:off x="0" y="3463920"/>
            <a:ext cx="4713120" cy="3394080"/>
          </a:xfrm>
          <a:prstGeom prst="rect">
            <a:avLst/>
          </a:prstGeom>
          <a:ln w="0">
            <a:noFill/>
          </a:ln>
        </p:spPr>
      </p:pic>
      <p:sp>
        <p:nvSpPr>
          <p:cNvPr id="146" name="TextovéPole 1"/>
          <p:cNvSpPr/>
          <p:nvPr/>
        </p:nvSpPr>
        <p:spPr>
          <a:xfrm>
            <a:off x="5170320" y="4699080"/>
            <a:ext cx="285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Cvičná operace prasete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– </a:t>
            </a: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náhrada srdce za mechanické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133280"/>
            <a:ext cx="8229600" cy="56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by čeští chovatelé byli schopni konkurovat evropskému trhu s vepřovým masem, měli by v užitkovosti dosahovat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průměrné hmotnosti narozeného selete nad 1,5 kg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živé hmotnosti 30 kg u běhounů ve věku 10 týdn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živé hmotnosti 100 kg ve 140 dnech věk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průměrného denního přírůstku ve výkrmu prasat 850-1000 g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konverze krmiva na jednotku přírůstku pod 2,9 kg, s cílem pod 2,5 kg KKS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56-58 % libového masa v jatečných půlkách finálních hybrid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jednotnosti a vyrovnanosti jatečných prasat i hlavních jatečných část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podílu intramuskulárního tuku na úrovni 1.5-2 %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minimálního výskytu jakostních odchylek masa (PSE, DFD)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zapouštěni prasniček ve 3. říjovém cyklu (210-230 dnů věku, 130-140 kg hmotnosti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2,3 vrhů na 1 prasnici a rok při odstavu selat ve 28 dnech věk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25 a více dochovaných selat na 1 prasnici a ro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2060"/>
                </a:solidFill>
                <a:latin typeface="Arial"/>
              </a:rPr>
              <a:t>12,5 živě narozených selat, 85 % úspěšnosti při 1. zapuště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NAM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13328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www.ksz.af.czu.cz/predmety/</a:t>
            </a:r>
            <a:r>
              <a:rPr b="1" lang="cs-CZ" sz="1200" spc="-1" strike="noStrike">
                <a:solidFill>
                  <a:srgbClr val="2d2015"/>
                </a:solidFill>
                <a:latin typeface="Arial"/>
              </a:rPr>
              <a:t>chovprasat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2ks/projektvzor.pdf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http://www.receptynamaso.cz/tag/bok-s-kosti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5194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znam chovu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41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9., 25.09., 27.09., 08.10. 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znam chovu prasat z hlediska národohospodářského, z hlediska výrobce, zpracovatele a spotřebitele, prase jako laboratorní zvíře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ÝZNAM CHOVU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NAM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33280"/>
            <a:ext cx="8229600" cy="56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hov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ílná součást zemědělské výroby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ČR má vepřové maso nezastupitelné místo, je tradičním pokrmem, v současnosti: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měna stravovacích návyk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a produkt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lak na zdravou výživ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kurence drůbežího mas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optávku po vepřovém mase má vliv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cen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valit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ečný spotřebitel bere v potaz senzorické vlastnosti (barva a protučnělost masa)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souvislosti s cenou a kvalitou je nutné plně využít genetické a ekonomické předpoklady chovu prasat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v prasat není ovlivněn přímou dotační subvencí, ale je řízen tržním hospodářstvím (sezónnost poptávky, přebytky na trhu, pokles cen, snížení stavů prasat v ČR, dovoz ze zemí EU, cenová politika hypermarketů)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 je nutné podmínky chovu zvířat co nejvíce optimalizovat s ohledem na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ku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133280"/>
            <a:ext cx="8229600" cy="56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 hlediska národního hospodářství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mas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nohodnotná potravina vysoké kvality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sobuje organizmus živočišnými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ílkovina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é udržují rovnováhu, složení nepostradatelných aminokyselin v organizm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tu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kožní (sádlo) a mezisvalový – špatný ukazatel produkt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tramuskulár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vnitrosvalový)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je cenný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itivní vliv na jemnost, křehkost, šťavnatost, chuť a vůni mas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krupon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ůže stažená ze hřbetu a z boků, kůže z celého těla je vepřovi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žedělný průmysl – oděvy, obuv, brašnářstv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štětin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platňují se při výrobě kartáčů, výplní žíněnek, čalouněného nábytku (ztrácí na významu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kosti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ekové – využití v potravinářství (polévky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stní tuk – výroba mýdel, svíček, glycerínu, kosmetický průmysl, výroba olejů pro textilní průmysl, knihařské barvy, emulze, lak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chnické – mazadla, izolace, impregnace, klih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NAM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133280"/>
            <a:ext cx="8229600" cy="56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krev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sná hygiena při sběr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ravinářská – masné výrobk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ivářsk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střev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ný průmysl – jitrnice, salámy, párk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oba stru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endokrinní žláz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ískání hormonů – inzulin, progestero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oba krevního séra a plazm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škvar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ravin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ivo (energetický doplněk KS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 algn="just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kejd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edisk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 algn="just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kologického  je odpad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konomického a zemědělského je kvalitní organické hnojivo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NAM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133280"/>
            <a:ext cx="8229600" cy="56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 hlediska výrobc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kytuje </a:t>
            </a: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nesporné výhody: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rychlý obrat finančních prostředk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vysoká plodnost 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8–11 selat/1vrh (2-3 vrhy/rok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krátká doba březosti 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115 d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krátká doba laktace 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4 týdny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33cc"/>
                </a:solidFill>
                <a:latin typeface="Arial"/>
              </a:rPr>
              <a:t>(8 týdnů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 algn="just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vysoká ranost,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 algn="just">
              <a:buClr>
                <a:srgbClr val="2d20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dosažení porážkové hmotnosti 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6 měsíců,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 algn="just">
              <a:buClr>
                <a:srgbClr val="2d20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zařazení prasniček do reprodukce 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7 měsíc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 algn="just">
              <a:buClr>
                <a:srgbClr val="2d20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zařazení kanečků do reprodukce 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8 měsíců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vysoká výtěžnost 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78–82 %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výhod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e má jednoduchý žaludek – převažuje enzymatické trávení, zkrmují se hlavně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centrovaná krmiv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KKS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ěkterá plemena vyžadují pro dosažení vysoké užitkovosti (vysoká schopnost ukládat bílkoviny, omezená schopnost ukládat tuky)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úhradu živin v konkrétních fázích růst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účinnosti KKS rozhodu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sah aminokysel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NAM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3328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 hlediska zpracovatel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2060"/>
                </a:solidFill>
                <a:latin typeface="Arial"/>
              </a:rPr>
              <a:t>zpracovatel vyžadu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rovnoměrnou produkci</a:t>
            </a:r>
            <a:r>
              <a:rPr b="0" lang="cs-CZ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avých a plně vyvinutých prasat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523e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nutričně vyzrálá zvířat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 maximální výtěžností biologicky hodnotného mas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prasata s jemnou kostrou a dobře vyvinutými masnými partiem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maso s dobrými technologickými vlastnostm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íl svaloviny, tuku a dalších tká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rá vaznost (schopnost vázat vodu volnou i přidanou), správná barva a pH mas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zistence, stupeň zrá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maso nevykazující závad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o zdravotní, dietetické ani veterinární stránce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523e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00"/>
                </a:solidFill>
                <a:latin typeface="Arial"/>
              </a:rPr>
              <a:t>minimum jakostních odchyle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523e2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SE - maso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ale (peil) – bledý, Soft (seft) – měkký, Exudative (eksjudejtiv) – vodnatý;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523e2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FD - maso: Dark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ák) – tmavý, Firm (fem) – tuhý, Dry (drai) – suchý.)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NAM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133280"/>
            <a:ext cx="8229600" cy="56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 hlediska spotřebitel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230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2307c"/>
                </a:solidFill>
                <a:latin typeface="Arial"/>
              </a:rPr>
              <a:t>mas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523e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bové, trvanlivé, bez patogenních mikroorganizm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organoleptické vlastnosti, tj. narůžovělá barva, typická vůně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mná vláknitost, křehké, šťavnaté, mramorovan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buClr>
                <a:srgbClr val="0230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2307c"/>
                </a:solidFill>
                <a:latin typeface="Arial"/>
              </a:rPr>
              <a:t>vepřové maso obsahu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523e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od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70–75 %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523e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ílkov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18–22 %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523e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pidy (tuky, fosfolipidy, cholesterol)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2–3 %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523e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xtraktivní látky (sacharidy, organické fosfáty) – malé množství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523e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nerální látky – K, Ca, Mg, F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523e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taminy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hydrofil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rozpustné ve vodě) –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cs-CZ" sz="16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r>
              <a:rPr b="0" lang="cs-CZ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ouze v živočišných potravinách),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anedbatelné množstv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znivé zastoupení nenahraditelných aminokyseli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tatečné množství nenasycených mastných kyselin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ZNAM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2T14:05:29Z</dcterms:modified>
  <cp:revision>129</cp:revision>
  <dc:subject/>
  <dc:title>Piglets template</dc:title>
</cp:coreProperties>
</file>