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EA3-EA56-4866-8F9C-C5E8FD75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4C0-9B6D-4835-B968-38A4EDC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4E0-C26A-4972-B6E0-D2997090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E26-15C5-4158-91C3-EA10C0DC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90C-0D32-45FF-A545-FD96EBE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9EBD-720E-44B5-B7D5-63FBFA20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967-FCCC-46EC-AAA7-7E6BBD48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B85-9E35-4A70-970D-AB5C0E2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A52-CE58-4440-9788-CB099FD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C4D4-0A88-42DD-B4CA-3BA852B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179-DBD5-44A5-A436-ECC99BC8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8586-2D78-4DD2-90E8-175DC1C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FC80-3012-461D-BAD5-520FA71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9F0E-C0C7-4F17-BB50-F7FA0A6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1AA5-A851-46E6-8FA4-F0264F3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C74-B437-438B-AFA1-EA039D87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D2BA-B2CF-4204-942F-FC6148A6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6526-33A7-4F6F-92E0-64BB9973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C55-0EBE-4D4C-A282-D7116EF2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96E-C7A7-4404-9DE1-6BA78484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8AC-9EA1-44C4-AFA8-964B271D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5BF-410C-464C-B38D-68A283DF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6EC-3777-4490-BD72-05AA8B58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1E6-9953-4FA7-9C88-90AF8BE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D81C-0C28-45AA-8FFE-D834CA4BBB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894-FD9A-4AAB-A13E-9081C83BBABB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sz.af.czu.cz/predmety/chovprasat2ks/projektvzor.pdf" TargetMode="External"/><Relationship Id="rId2" Type="http://schemas.openxmlformats.org/officeDocument/2006/relationships/hyperlink" Target="http://www.ksz.af.czu.cz/predmety/chovprasat2ks/projektvzor.pdf" TargetMode="External"/><Relationship Id="rId3" Type="http://schemas.openxmlformats.org/officeDocument/2006/relationships/hyperlink" Target="http://www.ksz.af.czu.cz/predmety/chovprasat2ks/projektvzor.pdf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92792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ŮVOD A ROZDĚLENÍ PLEMEN PRASAT</a:t>
            </a:r>
            <a:endParaRPr b="0" lang="en-US" sz="5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5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ůvod a rozdělení plemen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5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10.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klad nových plemen – domestikace, rozdělení plemen prasat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ŮVOD A ROZDĚLENÍ PLEMEN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ŮVOD A ROZDĚLENÍ PLEMEN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em pro vznik zušlechtěných a ušlechtilých plemen prasat byla domestika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ivokého prasete evropského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ivokého prasete středozemní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ivokého prasete asijského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vysoce užitkových plemen a jejich kříženců vede ke zlepšení výsledků chovu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podíl na tvorbě mnoha vynikajících plemen mají angličtí chovatelé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ledem k rozsáhlé námořní dopravě měla Anglie možnost importovat prasata z nejrůznějších zemí a využít je pro vyšlechtění nových pleme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upně se ke šlechtění přidávaly další země Evropy i jiných kontinentů a výsledkem je vznik asi čtyř set různých plemen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lemeno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představuje skupinu jedinců stejného druhu vzniklou historicky, se stejným fylogenetickým původem, shodnými morfologickými, fyziologickými a užitkovými vlastnostmi, které jsou předávány na potomstvo za předpokladu, že se výrazně nemění podmínky prostředí, ve kterých plemeno žije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39480" indent="-3394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dělení plemen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původ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vropsk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sijsk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ozem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stupně prošlechtě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zušlechtěná (krajová, původní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ušlechtěná (přechodná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šlechtilá (kultur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tělesného rám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k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l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krsl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iaturní (pro laboratorní účel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ŮVOD A ROZDĚLENÍ PLEMEN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postavení uch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mouch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pouch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mírně klopeným uch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užitkového typ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ádel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ekonov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mbinovaná (masosádelná, sádelnomasná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štětin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dce štětinat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deřav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barv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evná (černá, červená, strakatá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ŮVOD A ROZDĚLENÍ PLEMEN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ranost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a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ě ra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d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zeměpisného rozšíření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států (např. belgická, česká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většího územního celku (např. balkánská, skandinávská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e orientace šlechtění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řská pozi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tcovská pozi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ŮVOD A ROZDĚLENÍ PLEMEN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af.czu.cz/predmety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chov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2ks/projektvzor.pdf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5T09:58:18Z</dcterms:modified>
  <cp:revision>138</cp:revision>
  <dc:subject/>
  <dc:title>Piglets template</dc:title>
</cp:coreProperties>
</file>