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EAD-940D-477D-8640-B905A17B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8C7-0773-4DCC-B8E2-333D9960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AE9-3261-4F6E-AF8A-48CEE18E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F0E-4913-46F4-803A-075B35C5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001-7DF0-447A-B799-A9DCAACD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4F15-E6D0-471B-B234-2DF5C63B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AF1A-1DE8-4DA7-B741-4E743967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8C3A-9539-4F91-9D48-59D813A1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A5DB-9493-45D0-AFE5-304E181E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FD71-1394-4BF3-9D07-979EC427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F09-24DE-4009-8295-51B4323E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1385-4F13-48DE-9AAC-4C27FC2C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C2AC-398F-49DF-95FA-ADB07E4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A522-96CA-46A4-8F47-E71F89FF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870A-9B70-42C9-A4D1-1C86C1B6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AF30-1E51-40F1-A87D-B5F37C88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495F-C1E7-4BE9-98DD-82D02399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AA5C-E435-4E7C-8B2F-FA43DDAC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C95-37B3-4B54-8FA4-DF6C0DCC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266-BF01-41FC-9A00-1A3ECB07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571-49DB-409E-BF4A-529EAC91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7DD-FBC7-46DF-950A-86481DF2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7D4-36CF-4B93-8F05-F3F0E631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CD3-C58C-4B97-8ABD-4C017229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4C9E-9CB2-4017-A7EB-7C1AC40BDF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0779-C609-4EA1-A7D6-CE2F3F5FF5DA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sz.af.czu.cz/predmety/chovprasat2ks/projektvzor.pdf" TargetMode="External"/><Relationship Id="rId2" Type="http://schemas.openxmlformats.org/officeDocument/2006/relationships/hyperlink" Target="http://www.ksz.af.czu.cz/predmety/chovprasat2ks/projektvzor.pdf" TargetMode="External"/><Relationship Id="rId3" Type="http://schemas.openxmlformats.org/officeDocument/2006/relationships/hyperlink" Target="http://www.ksz.af.czu.cz/predmety/chovprasat2ks/projektvzor.pd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3090960"/>
            <a:ext cx="868032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BŘEZOST A POROD PRASNIC</a:t>
            </a:r>
            <a:endParaRPr b="0" lang="en-US" sz="60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2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4"/>
          <p:cNvSpPr/>
          <p:nvPr/>
        </p:nvSpPr>
        <p:spPr>
          <a:xfrm>
            <a:off x="2209680" y="21337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_32_INOVACE_149_Chov_prasa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od prasnic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onošené mládě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chopno mimoděložního život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hmotnost je 1-2 kg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vrch těla je pokryt řídkými, jemnými štětinam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barevných plemen je kůže zřetelně pigmentována, u nebarevných plemen je růžov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donošené mládě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nká kůž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ětiny slabě vyvinuté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igmentace nedokonal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tok z pohlavních orgánů (tzv.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čistk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prasnice v poporodním období je nepatrný – 4-5 dní vytéká několik ml bělavě šedé tekutin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ředčasné ukončení gravidit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vypuzení plodu neschopného života označujeme jako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ZMETÁNÍ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má pomoc člověk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porodu není nutná, musí se zajisti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oda prasnice (klid, čistota prostředí, ochrana před nepříznivými vlivy všeho druhu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OD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od prasnic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od je pro mládě i matku radikální změno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d se vyvíjel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bezinfekčním prostřed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konstantní teplotě (kolem 39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ráněn před mechanickým poškození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živován krví matk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matku porod znamená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trátu sil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tevření a zpřístupnění porodních cest negativním vlivům (infekce, …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ýšení citlivosti celého organism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statné změny v látkovém metabolismu (během gravidity byl orientován na růst a vývoj plodu a tvorbu tělních rezerv, po porodu je orientace na tvorbu mléka a kojení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OD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šetření narozeného selet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rodí-li se sele obaleno plodovými obaly (zřídka) je nutné ho co nejdříve z nich vyprosti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ele po narození otřeme suchou a čistou utěrkou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osní otvory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utina úst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akonec celé tělo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upeční provazec se během porodu většinou přetrhne, pokud ne, je nutné jej přetrhnout asi 5 cm od břicha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upeční pahýl po vytlačení rosolovitého pojiva a krve dezinfikujem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možno opakovat v prvních 2-3 dnech několikrát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vní dýchání může být provázeno pokašláváním nebo chroptěním – doporučuje se zvednout zadní nožičky, čímž se usnadní odchod hlenů z dýchacích cest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 prvotním ošetření uložíme sele do vyhřátého prostoru (28-32 </a:t>
            </a:r>
            <a:r>
              <a:rPr b="1" lang="cs-CZ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C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zimě prostor pro selata po porodu vyhříváme v předstihu 2 dní před očekávaným porod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Selatům je nutno uštípat špičák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růběhu porodu se selata nepřikládají k prasnic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ŠETŘENÍ NAROZENÉHO SELET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šetření prasnice po porodu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rasnici po porodu očistím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vyčistíme i porodní kotec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obná poranění ošetříme sami, větší veterinář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Krmivo dáváme prasnici nejdříve 12 hod. po porodu, pitnou vodu musí mít k dispozici stál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porodu prasnice kontrolujeme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chování prasni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akce na sání selat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uť k přijímání krmiv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videlnost kálení a moče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poručuje se v prvních 4-5 dnech měřit teplotu, její zvýšení nad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9,7 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 vyžaduje veterinární vyšetř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ŠETŘENÍ PRASNICE PO POROD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133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IŠKOVSKÝ, DOC. ING. C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,Zdeněk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hov zvířat 2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CREDIT –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avatelství agentura, 1995. 249 s. ISBN 80-901645-4-4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AMBRAUS, Hans Hinrich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Atlas plemen hospodářských zvířat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Vydání první. Prah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Nakladatelství Brázda, s.r.o., 2006. 296 s. ISBN 80-209-0344-5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95. 236s. ISBN 80-7105-092-X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ARGA, ING., Stanislav; KREJČÍ, ING., Vladimír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á výroba II.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ydání druhé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Institu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výchovy a vzdělávání Ministerstva zemědělství České republiky, 19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8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-7105-019-9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RBAN, J., ŠARAPATKA, B., a kol. Ekologické zemědělství: učebnice pro školy i praxi - I. díl. Vydání první. Praha: MŽP a Svaz PRO-BIO, 2003, 280 s. ISBN 80-7212-274-6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ARAPATKA, B., URBAN, J., a kol. Ekologické zemědělství: učebnice pro školy i praxi - II. díl. Vydání první Šumperk: Svaz PRO-BIO, 2005, 334 s. ISBN 80-903583-0-9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URDA, František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Zemědělsk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výrob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y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 –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živočišné výrobky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Vydání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vn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Praha: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tátní zemědělské nakladatelství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, 1995. 23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s. ISBN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07-000-86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LOUDA, Prof., Ing., DrSc.,František; JEŽKOVÁ, Ing., CSc., Alena; STÁDNÍK, Doc., Ing., Ph.D., Luděk; BERAN, Ing., Jan. </a:t>
            </a:r>
            <a:r>
              <a:rPr b="0" i="1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Inseminace prasat. </a:t>
            </a:r>
            <a:r>
              <a:rPr b="0" lang="cs-CZ" sz="1200" spc="-1" strike="noStrike">
                <a:solidFill>
                  <a:srgbClr val="000000"/>
                </a:solidFill>
                <a:latin typeface="Albertus Medium"/>
                <a:ea typeface="Arial"/>
              </a:rPr>
              <a:t>Multimediální učební pomůcka pro výuku „Reprodukce hospodářských zvířat II“. FOND ROZVOJE VYSOKÝCH ŠKOL č. projektu 2652/2010, © Katedra speciální zootechniky, FAPPZ, ČZU v Praze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KA, CSC., Doc. Ing. Roman, Doc. Ing. Michal ŠPRYSL, CSC. a Ing. Jaroslav ČÍTEK, PH.D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y chovu 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Vydání první. Praha: PowerPrint, 2009. ISBN 978-80-904011-2-9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ww.ksz.zf.jcu.cz/studium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%20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/.../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zna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hov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1"/>
              </a:rPr>
              <a:t>www.ksz.af.czu.cz/predmety/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2"/>
              </a:rPr>
              <a:t>chovprasat</a:t>
            </a:r>
            <a:r>
              <a:rPr b="0" lang="cs-CZ" sz="1200" spc="-1" strike="noStrike" u="sng">
                <a:solidFill>
                  <a:srgbClr val="ccb400"/>
                </a:solidFill>
                <a:uFillTx/>
                <a:latin typeface="Arial"/>
                <a:hlinkClick r:id="rId3"/>
              </a:rPr>
              <a:t>2ks/projektvzor.pdf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receptynamaso.cz/tag/bok-s-kosti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523e26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lbertus Medium"/>
              </a:rPr>
              <a:t>http://www.svobodazvirat.cz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www.ksz.af.czu.cz/plemenaprasat/domestikace1.htm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ksz.zf.jcu.cz/studium/Chov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/uzitkove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vlastnosti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-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znamky.szesro.cz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rasata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/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ůvod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a_20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rozdělení</a:t>
            </a: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_</a:t>
            </a:r>
            <a:r>
              <a:rPr b="1" lang="cs-CZ" sz="1200" spc="-1" strike="noStrike">
                <a:solidFill>
                  <a:srgbClr val="523e26"/>
                </a:solidFill>
                <a:latin typeface="Arial"/>
              </a:rPr>
              <a:t>plemen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 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23e26"/>
                </a:solidFill>
                <a:latin typeface="Arial"/>
              </a:rPr>
              <a:t>http://www.szs-bnl.wz.cz/download </a:t>
            </a:r>
            <a:r>
              <a:rPr b="0" lang="cs-CZ" sz="1200" spc="-1" strike="noStrike">
                <a:solidFill>
                  <a:srgbClr val="2d2015"/>
                </a:solidFill>
                <a:latin typeface="Arial"/>
              </a:rPr>
              <a:t>[online].</a:t>
            </a:r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1371600"/>
          <a:ext cx="8229600" cy="494820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kol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ŠTZ Mohelnice, 1. máje 2, 789 85 Mohelnic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íslo projekt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Z.1.07/1.5.00/34.003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šablony klíčové aktivity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vace a zkvalitnění výuky prostřednictvím ICT (III/2) 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ázev výukového materiálu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řezost a porod prasnic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znač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Y_32_INOVACE_149_Chov_pras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ací ob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-51-H/01 Zemědělec – farmář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tická oblas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v zvířat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ční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řet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r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um ověření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 11. 2013 KF 3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tace / metodický popis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řezost prasnic, porod prasnic, ošetření narozeného selete, ošetření prasnice po porodu.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autora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. Miroslav Huk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pis ředitele</a:t>
                      </a:r>
                      <a:endParaRPr b="0" lang="en-US" sz="1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d2015"/>
                </a:solidFill>
                <a:latin typeface="Arial"/>
              </a:rPr>
              <a:t>Záznamový list výukového materiálu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5120" y="4662000"/>
            <a:ext cx="77724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ŘEZOST A POROD PRASNIC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0" name="TextovéPole 5"/>
          <p:cNvSpPr/>
          <p:nvPr/>
        </p:nvSpPr>
        <p:spPr>
          <a:xfrm>
            <a:off x="5710320" y="59990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:  Ing. Miroslav Huk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ŘEZOST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8120" y="1023480"/>
            <a:ext cx="830736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řezost prasnic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Březost začíná splynutím pohlavních buněk a končí vypuzením plodu.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lynutí nastává v horních částech vejcovodu.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ěhem rýhování zygota sestupuje děložním rohe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si 20. den po oplození se pevně spojí s dělohou – tvorba placent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Březost prasnice trvá průměrně 115 dní, s kolísáním od 110 do 120 dní.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  <a:p>
            <a:pPr marL="343080" indent="0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ojení placenty s dělohou je velmi jednoduché – blána klková (chorion) je pouze přiložena k děloze, to má vážné důsledky pro sele i matku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chranné látky nemohou z krve matky přímo přecházet do krevního oběhu plodu; jejich nositelem se stává mlezivo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raviditou je děložní sliznice prasnice jen velmi málo porušená, funkční obnova dělohy je rychlá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023840"/>
            <a:ext cx="82296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řezost prasnic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odstavu selat se říje zpravidla dosahuje 3.-7. den přibližně u 80 % prasnic, u zbývajících později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éče o včasný nástup říje u prasnic je důležitým intenzifikačním opatřením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poždění nástupu říje o týden představuje ztrátu 0,1 vrhu na prasnici za rok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časný nástup říje po odstavu se podporuje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nním kontaktem prasnic s kancem (20-30 minut denně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áváním krmiva s vysokou hladinou energie do sytosti až do zapuštění (nejdéle 10 dnů), předpokladem je ukončená lakta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sáží mléčné žlázy (zahájit asi 2 dny po odstavu)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ístěním prasnic do výběhu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áváním vitamínu A, D a 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upinovým ustájením prasnic po odstavu, nejvýše 8 ks v kotc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jištěním dostatku pitné vod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ŘEZOST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řezost prasnic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řezost prasnice se projevuje určitými zevními znaky, které slouží k rozpoznání či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diagnostice gravidity</a:t>
            </a:r>
            <a:r>
              <a:rPr b="0" lang="cs-CZ" sz="1600" spc="-1" strike="noStrike">
                <a:solidFill>
                  <a:srgbClr val="2d2015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tří k nim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vynechání říj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zklidnění prasnice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zvýšená chuť ke žrádl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což může vést k nežádoucímu ztučnění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změny na vemenu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u prvniček pozorujeme zřetelný vývin již v první polovině gravidity, ve druhé se objevuje sekret, který svými vlastnostmi postupně blíží mléku, 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prasnic, které již rodily, příprava na laktaci nastává většinou 3-4 týdny před porodem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zvětšení břich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atrné zpravidla až ve druhé polovině gravidit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cem březosti dochází k tzv. </a:t>
            </a: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opadávání břich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ýrazné snížení pevnosti břišní stěny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ŘEZOST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6840" y="1023840"/>
            <a:ext cx="828828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ravidita se dá prokázat i dalšími metodami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Laboratorně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výšení hladiny progesteronu v krvi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istologické vyšetření poševní slizni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Rektální vyšetření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šetření uskutečňuje inseminační technik nebo veterinární lékař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je po zavedení ruky vyšetřit děložní rohy, kdy v případě zabřeznutí je znatelně hmatatelné jejich zvětše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11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117e"/>
                </a:solidFill>
                <a:latin typeface="Arial"/>
              </a:rPr>
              <a:t>Ultrazvu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0.-40. den po inseminaci či zapuště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ŘEZOST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ŘEZOST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40" name="Picture 5" descr="Bez názvu 1 kopie"/>
          <p:cNvPicPr/>
          <p:nvPr/>
        </p:nvPicPr>
        <p:blipFill>
          <a:blip r:embed="rId1"/>
          <a:stretch/>
        </p:blipFill>
        <p:spPr>
          <a:xfrm>
            <a:off x="112680" y="882720"/>
            <a:ext cx="9031320" cy="520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Bez názvu 1 kopie"/>
          <p:cNvPicPr/>
          <p:nvPr/>
        </p:nvPicPr>
        <p:blipFill>
          <a:blip r:embed="rId2"/>
          <a:stretch/>
        </p:blipFill>
        <p:spPr>
          <a:xfrm>
            <a:off x="3348000" y="5361120"/>
            <a:ext cx="1674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234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od prasnic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dobí porodu (přípravné, porodní, poporodní) a stadia porodního období (otevírací, vypuzovací, poporodní) jsou stejné jako u skot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znaky blížícího se porodu: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uření a prokrvení vulvy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razné zduření mléčných bradavek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té odkapávání mléka,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klid prasnice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objevení se těchto příznaků následuje porod většinou do 6-8 hodin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od jednotlivých mláďat probíhá v nepravidelných intervalech (1/4-1/2 hod.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lata se většinou rodí v poloze podélně přední (asi 70 %), zbytek v poloze zadní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dové obaly většinou praskají samy, odcházejí v průběhu porodu, nejpozději do 1 hodiny po porodu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odové vody je málo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puzovací období trvá 2-6 hodin (v průměru 3,5 hodiny).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Porod končí, když se prasnice zřetelně uklidní, netlačí, má chuť k žrádlu, k pití a nechává selata klidně sát.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2600" y="204480"/>
            <a:ext cx="8694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ROD PRASNIC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Huk</cp:lastModifiedBy>
  <dcterms:modified xsi:type="dcterms:W3CDTF">2014-02-15T10:02:28Z</dcterms:modified>
  <cp:revision>218</cp:revision>
  <dc:subject/>
  <dc:title>Piglets template</dc:title>
</cp:coreProperties>
</file>