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AA6A-F801-47DE-8140-61A118D0A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EC9E-91F0-461A-8C2D-3ED3EA2A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1BFC-E7AD-438D-A079-93018DF32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0BA0-F127-4E44-8633-55FC3E5C3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7402-A28F-4DBF-B7C9-0112690C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51EFB-9534-4024-8F4D-21A119C50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A7B6-B391-4C99-BD38-EED4BCF5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339B-F517-4B50-9330-85831A1C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817A-62F3-44F3-9460-23DE0A3F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C3AA-3CF1-404B-95D8-B2D58DC9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9872-3FF7-4E85-8A6F-6080E730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6752-EE1D-4C0D-9DC8-ECCAD70C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A4BC-602C-453B-8ADA-CE8E0BCB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3847-936C-4569-94BE-84490FED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1C6E-A8AC-4A5C-8684-E926D4EE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6AB72-FAEC-4836-9B3C-BE677C5D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7BA4-6907-4301-90E7-BA6F84713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AC34-A74A-455C-9892-A71CA743E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CB90-2170-42F8-A892-D3B227F2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A30F-89AF-4594-8957-C375D79E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A942-8C35-497A-A9B6-C184681F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DB08-7C03-461F-A97E-E88DC849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6AC7-12C1-41ED-9C12-92736AA7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32B9-36BF-4036-837A-2B1ED526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IMG_3005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5944-D7A6-4CC1-B2AC-A2DCF72C7B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IMG_300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1"/>
          <p:cNvSpPr/>
          <p:nvPr/>
        </p:nvSpPr>
        <p:spPr>
          <a:xfrm>
            <a:off x="0" y="4568760"/>
            <a:ext cx="9144000" cy="1892520"/>
          </a:xfrm>
          <a:prstGeom prst="rect">
            <a:avLst/>
          </a:prstGeom>
          <a:solidFill>
            <a:srgbClr val="8c7b7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23e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C32A-3D99-4832-B76E-E8EA4EAF7FF2}" type="slidenum">
              <a:rPr b="0" lang="en-GB" sz="1400" spc="-1" strike="noStrike">
                <a:solidFill>
                  <a:srgbClr val="523e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ksz.zf.jcu.cz/studium.../Chov%20prasat/.../vyznam-chovu-prasat" TargetMode="External"/><Relationship Id="rId2" Type="http://schemas.openxmlformats.org/officeDocument/2006/relationships/hyperlink" Target="http://www.ksz.zf.jcu.cz/studium.../Chov%20prasat/.../vyznam-chovu-prasat" TargetMode="External"/><Relationship Id="rId3" Type="http://schemas.openxmlformats.org/officeDocument/2006/relationships/hyperlink" Target="http://www.ksz.zf.jcu.cz/studium.../Chov%20prasat/.../vyznam-chovu-prasat" TargetMode="External"/><Relationship Id="rId4" Type="http://schemas.openxmlformats.org/officeDocument/2006/relationships/hyperlink" Target="http://www.ksz.zf.jcu.cz/studium.../Chov%20prasat/.../vyznam-chovu-prasat" TargetMode="External"/><Relationship Id="rId5" Type="http://schemas.openxmlformats.org/officeDocument/2006/relationships/hyperlink" Target="http://www.ksz.zf.jcu.cz/studium.../Chov%20prasat/.../vyznam-chovu-prasat" TargetMode="External"/><Relationship Id="rId6" Type="http://schemas.openxmlformats.org/officeDocument/2006/relationships/hyperlink" Target="http://www.ksz.zf.jcu.cz/studium.../Chov%20prasat/.../vyznam-chovu-prasat" TargetMode="External"/><Relationship Id="rId7" Type="http://schemas.openxmlformats.org/officeDocument/2006/relationships/hyperlink" Target="http://www.ksz.zf.jcu.cz/studium.../Chov%20prasat/.../vyznam-chovu-prasat" TargetMode="External"/><Relationship Id="rId8" Type="http://schemas.openxmlformats.org/officeDocument/2006/relationships/hyperlink" Target="http://www.ksz.zf.jcu.cz/studium.../Chov%20prasat/.../vyznam-chovu-prasat" TargetMode="External"/><Relationship Id="rId9" Type="http://schemas.openxmlformats.org/officeDocument/2006/relationships/hyperlink" Target="http://www.ksz.zf.jcu.cz/studium.../Chov%20prasat/.../vyznam-chovu-prasat" TargetMode="External"/><Relationship Id="rId10" Type="http://schemas.openxmlformats.org/officeDocument/2006/relationships/hyperlink" Target="http://www.ksz.zf.jcu.cz/studium.../Chov%20prasat/.../vyznam-chovu-prasat" TargetMode="External"/><Relationship Id="rId11" Type="http://schemas.openxmlformats.org/officeDocument/2006/relationships/hyperlink" Target="http://www.ksz.af.czu.cz/predmety/chovprasat2ks/projektvzor.pdf" TargetMode="External"/><Relationship Id="rId12" Type="http://schemas.openxmlformats.org/officeDocument/2006/relationships/hyperlink" Target="http://www.ksz.af.czu.cz/predmety/chovprasat2ks/projektvzor.pdf" TargetMode="External"/><Relationship Id="rId13" Type="http://schemas.openxmlformats.org/officeDocument/2006/relationships/hyperlink" Target="http://www.ksz.af.czu.cz/predmety/chovprasat2ks/projektvzor.pdf" TargetMode="External"/><Relationship Id="rId14" Type="http://schemas.openxmlformats.org/officeDocument/2006/relationships/hyperlink" Target="http://www.svobodazvirat.cz/" TargetMode="External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0000" y="3090960"/>
            <a:ext cx="868032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ODCHOV SELAT</a:t>
            </a:r>
            <a:endParaRPr b="0" lang="en-US" sz="60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24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125" name="TextovéPole 4"/>
          <p:cNvSpPr/>
          <p:nvPr/>
        </p:nvSpPr>
        <p:spPr>
          <a:xfrm>
            <a:off x="2209680" y="213372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Y_32_INOVACE_153_Chov_prasat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6" name="TextovéPole 5"/>
          <p:cNvSpPr/>
          <p:nvPr/>
        </p:nvSpPr>
        <p:spPr>
          <a:xfrm>
            <a:off x="572436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utor:  Ing. Miroslav Huk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1023840"/>
            <a:ext cx="8229600" cy="57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388"/>
              </a:spcBef>
              <a:buClr>
                <a:srgbClr val="0011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Časný odstav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nes nejrozšířenějš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kracuje se délka kojení – lepší předpoklady pro působení prasnice v reprodukci (období kojení je pro prasnici náročnější než gravidita)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elata musí být navyklá na KKS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době odstavu musí přijímat minimálně 0,5 kg KKS denně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11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Odstav selat v 8. týdnu života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užívá se stále méně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užívání raného či časného odchovu znamená zřízení nové kategorie –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DOCHOV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selata po odstavu do živé hmotnosti 30 kg, kdy jsou převáděna do výkrmu nebo do chovu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ODSTAV SEL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1023840"/>
            <a:ext cx="8229600" cy="57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evence ztrát selat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35480" indent="-28296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hyne-li sele v 1. týdnu života, představuje to ztrátu asi 60 kg jadrného krmiva – podíl z celkové spotřeby krmiva na odchov prasnice a období gravidity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35480" indent="-28296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hyne-li sele v 8. týdnu života je výše popsaná ztráta dvojnásobná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31480" indent="-226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dná se o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PŘÍMÉ ZTRÁTY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úhyn selat, mrtvě narozená selata, zmetání prasnic) </a:t>
            </a: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zapříčiněné převážně člověkem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584000" indent="-22608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šetřovatelem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584000" indent="-22608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robcem krmných směs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584000" indent="-22608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jektantem stáje apod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31480" indent="-226080">
              <a:spcBef>
                <a:spcPts val="388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NEPŘÍMÉ ZTRÁTY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584000" indent="-22608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nížení růstové intenzity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584000" indent="-22608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výšení spotřeby krmiv na jednotku přírůstku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584000" indent="-22608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iné zvýšení nákladů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4" marL="2036520" indent="-226080">
              <a:spcBef>
                <a:spcPts val="388"/>
              </a:spcBef>
              <a:buClr>
                <a:srgbClr val="00117e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Příčina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4" marL="2036520" indent="-226080">
              <a:spcBef>
                <a:spcPts val="388"/>
              </a:spcBef>
              <a:buClr>
                <a:srgbClr val="00117e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Nevyhovující podmínky vnějšího prostředí – práce ošetřovatele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35480" indent="-28296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jčastější příčiny snižování intenzity růstu selat a tedy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ZTRÁT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jsou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31480" indent="-226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hronické záněty dýchacích cest (bronchopneumonie)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31480" indent="-226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hřipka selat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31480" indent="-226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ípavka prasat.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REVENCE ZTRÁT SEL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023480"/>
            <a:ext cx="82296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evence: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ůsledné dodržování uzavřeného obratu stáda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urnusový systém chovu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chrana ustájovacích prostorů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platňování preventivních a léčebných programů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dpovědná práce ošetřovatelů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REVENCE ZTRÁT SEL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57200" y="113328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MIŠKOVSKÝ, DOC. ING. CS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,Zdeněk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Chov zvířat 2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Vydání první. Praha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CREDIT –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ydavatelství agentura, 1995. 249 s. ISBN 80-901645-4-4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SAMBRAUS, Hans Hinrich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Atlas plemen hospodářských zvířat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Vydání první. Praha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Nakla datelství Brázda, s.r.o., 2006. 296 s. ISBN 80-209-0344-5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ARGA, ING., Stanislav; KREJČÍ, ING., Vladimír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Zemědělská výroba II.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ydání druhé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Praha: Institu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ýchovy a vzdělávání Ministerstva zemědělství České republiky, 1995. 236s. ISBN 80-7105-092-X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ARGA, ING., Stanislav; KREJČÍ, ING., Vladimír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Zemědělská výroba II.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ydání druhé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Praha: Institu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ýchovy a vzdělávání Ministerstva zemědělství České republiky, 19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86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296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s. ISBN 8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-7105-019-9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URBAN, J., ŠARAPATKA, B., a kol. Ekologické zemědělství: učebnice pro školy i praxi - I. díl. Vydání první. Praha: MŽP a Svaz PRO-BIO, 2003, 280 s. ISBN 80-7212-274-6.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ŠARAPATKA, B., URBAN, J., a kol. Ekologické zemědělství: učebnice pro školy i praxi - II. díl. Vydání první Šumperk: Svaz PRO-BIO, 2005, 334 s. ISBN 80-903583-0-9.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BURDA, František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Zemědělsk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 výrob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ky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2 –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živočišné výrobky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Vydání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vní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Praha: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tátní zemědělské nakladatelství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, 1995. 236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s. ISBN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07-000-86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LOUDA, Prof., Ing., DrSc.,František; JEŽKOVÁ, Ing., CSc., Alena; STÁDNÍK, Doc., Ing., Ph.D., Luděk; BERAN, Ing., Jan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Inseminace prasat.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Multimediální učební pomůcka pro výuku „Reprodukce hospodářských zvířat II“. FOND ROZVOJE VYSOKÝCH ŠKOL č. projektu 2652/2010, © Katedra speciální zootechniky, FAPPZ, ČZU v Praze.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TUPKA, CSC., Doc. Ing. Roman, Doc. Ing. Michal ŠPRYSL, CSC. a Ing. Jaroslav ČÍTEK, PH.D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Základy chovu prasa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Vydání první. Praha: PowerPrint, 2009. ISBN 978-80-904011-2-9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ccb400"/>
                </a:solidFill>
                <a:uFillTx/>
                <a:latin typeface="Arial"/>
                <a:hlinkClick r:id="rId1"/>
              </a:rPr>
              <a:t>www.ksz.zf.jcu.cz/studium.../</a:t>
            </a:r>
            <a:r>
              <a:rPr b="0" lang="cs-CZ" sz="1200" spc="-1" strike="noStrike" u="sng">
                <a:solidFill>
                  <a:srgbClr val="ccb400"/>
                </a:solidFill>
                <a:uFillTx/>
                <a:latin typeface="Arial"/>
                <a:hlinkClick r:id="rId2"/>
              </a:rPr>
              <a:t>Chov</a:t>
            </a:r>
            <a:r>
              <a:rPr b="0" lang="cs-CZ" sz="1200" spc="-1" strike="noStrike" u="sng">
                <a:solidFill>
                  <a:srgbClr val="ccb400"/>
                </a:solidFill>
                <a:uFillTx/>
                <a:latin typeface="Arial"/>
                <a:hlinkClick r:id="rId3"/>
              </a:rPr>
              <a:t>%20</a:t>
            </a:r>
            <a:r>
              <a:rPr b="0" lang="cs-CZ" sz="1200" spc="-1" strike="noStrike" u="sng">
                <a:solidFill>
                  <a:srgbClr val="ccb400"/>
                </a:solidFill>
                <a:uFillTx/>
                <a:latin typeface="Arial"/>
                <a:hlinkClick r:id="rId4"/>
              </a:rPr>
              <a:t>prasat</a:t>
            </a:r>
            <a:r>
              <a:rPr b="0" lang="cs-CZ" sz="1200" spc="-1" strike="noStrike" u="sng">
                <a:solidFill>
                  <a:srgbClr val="ccb400"/>
                </a:solidFill>
                <a:uFillTx/>
                <a:latin typeface="Arial"/>
                <a:hlinkClick r:id="rId5"/>
              </a:rPr>
              <a:t>/.../</a:t>
            </a:r>
            <a:r>
              <a:rPr b="0" lang="cs-CZ" sz="1200" spc="-1" strike="noStrike" u="sng">
                <a:solidFill>
                  <a:srgbClr val="ccb400"/>
                </a:solidFill>
                <a:uFillTx/>
                <a:latin typeface="Arial"/>
                <a:hlinkClick r:id="rId6"/>
              </a:rPr>
              <a:t>vyznam</a:t>
            </a:r>
            <a:r>
              <a:rPr b="0" lang="cs-CZ" sz="1200" spc="-1" strike="noStrike" u="sng">
                <a:solidFill>
                  <a:srgbClr val="ccb400"/>
                </a:solidFill>
                <a:uFillTx/>
                <a:latin typeface="Arial"/>
                <a:hlinkClick r:id="rId7"/>
              </a:rPr>
              <a:t>-</a:t>
            </a:r>
            <a:r>
              <a:rPr b="0" lang="cs-CZ" sz="1200" spc="-1" strike="noStrike" u="sng">
                <a:solidFill>
                  <a:srgbClr val="ccb400"/>
                </a:solidFill>
                <a:uFillTx/>
                <a:latin typeface="Arial"/>
                <a:hlinkClick r:id="rId8"/>
              </a:rPr>
              <a:t>chovu</a:t>
            </a:r>
            <a:r>
              <a:rPr b="0" lang="cs-CZ" sz="1200" spc="-1" strike="noStrike" u="sng">
                <a:solidFill>
                  <a:srgbClr val="ccb400"/>
                </a:solidFill>
                <a:uFillTx/>
                <a:latin typeface="Arial"/>
                <a:hlinkClick r:id="rId9"/>
              </a:rPr>
              <a:t>-</a:t>
            </a:r>
            <a:r>
              <a:rPr b="0" lang="cs-CZ" sz="1200" spc="-1" strike="noStrike" u="sng">
                <a:solidFill>
                  <a:srgbClr val="ccb400"/>
                </a:solidFill>
                <a:uFillTx/>
                <a:latin typeface="Arial"/>
                <a:hlinkClick r:id="rId10"/>
              </a:rPr>
              <a:t>prasat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ccb400"/>
                </a:solidFill>
                <a:uFillTx/>
                <a:latin typeface="Arial"/>
                <a:hlinkClick r:id="rId11"/>
              </a:rPr>
              <a:t>www.ksz.af.czu.cz/predmety/</a:t>
            </a:r>
            <a:r>
              <a:rPr b="0" lang="cs-CZ" sz="1200" spc="-1" strike="noStrike" u="sng">
                <a:solidFill>
                  <a:srgbClr val="ccb400"/>
                </a:solidFill>
                <a:uFillTx/>
                <a:latin typeface="Arial"/>
                <a:hlinkClick r:id="rId12"/>
              </a:rPr>
              <a:t>chovprasat</a:t>
            </a:r>
            <a:r>
              <a:rPr b="0" lang="cs-CZ" sz="1200" spc="-1" strike="noStrike" u="sng">
                <a:solidFill>
                  <a:srgbClr val="ccb400"/>
                </a:solidFill>
                <a:uFillTx/>
                <a:latin typeface="Arial"/>
                <a:hlinkClick r:id="rId13"/>
              </a:rPr>
              <a:t>2ks/projektvzor.pdf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523e26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ccb400"/>
                </a:solidFill>
                <a:uFillTx/>
                <a:latin typeface="Albertus Medium"/>
                <a:hlinkClick r:id="rId14"/>
              </a:rPr>
              <a:t>http://www.svobodazvirat.cz</a:t>
            </a:r>
            <a:r>
              <a:rPr b="0" lang="cs-CZ" sz="1200" spc="-1" strike="noStrike">
                <a:solidFill>
                  <a:srgbClr val="523e26"/>
                </a:solidFill>
                <a:latin typeface="Albertus Medium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http://www.ksz.zf.jcu.cz/studium/Chov-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prasat</a:t>
            </a: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//uzitkove-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vlastnosti</a:t>
            </a: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-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prasat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http://www.znamky.szesro.cz/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Prasata</a:t>
            </a: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/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Původ</a:t>
            </a: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_a_20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rozdělení</a:t>
            </a: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_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plemen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http://www.szs-bnl.wz.cz/download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523e26"/>
                </a:solidFill>
                <a:uFillTx/>
                <a:latin typeface="Arial"/>
              </a:rPr>
              <a:t>www.nedap.com</a:t>
            </a: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 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523e26"/>
                </a:solidFill>
                <a:uFillTx/>
                <a:latin typeface="Arial"/>
              </a:rPr>
              <a:t>http://www.agrico.cz/porodni-klece-1-20.html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OUŽITÉ ZDROJE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457200" y="1371600"/>
          <a:ext cx="8229600" cy="494820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7b7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7b70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ovace a zkvalitnění výuky prostřednictvím ICT (III/2) 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dchov selat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Y_32_INOVACE_153_Chov_prasat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-51-H/01 Zemědělec – farmář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v zvířat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řet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3.12., 04.12. 2013 KF 3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0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dchov selat, ustájení selat, výživa a krmení selat, ošetřování selat, odstav selat, prevence ztrát selat.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28" name="Rectangle 2"/>
          <p:cNvSpPr/>
          <p:nvPr/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d2015"/>
                </a:solidFill>
                <a:latin typeface="Arial"/>
              </a:rPr>
              <a:t>Záznamový list výukového materiálu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35120" y="4662000"/>
            <a:ext cx="7772400" cy="13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ODCHOV SEL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0" name="TextovéPole 5"/>
          <p:cNvSpPr/>
          <p:nvPr/>
        </p:nvSpPr>
        <p:spPr>
          <a:xfrm>
            <a:off x="5710320" y="599904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utor:  Ing. Miroslav Huk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ODCHOV SEL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023480"/>
            <a:ext cx="831852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dchov selat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rozené sele není připravené pro život: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bez imunity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má vyvinutou termoregulaci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á anemii (chudokrevnost) – stav, při kterém je v krvi nedostatek červených krvinek (hemoglobinu – červeného krevního barviva v krvinkách, které přenáší kyslík) a vyplácí se prevence a to očkováním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á nedostatečně vyvinuty trávicí trakt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yto okolnosti ovlivňují péči o sele i jeho životní prostředí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0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porodní ošetření selat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čištění a zprůchodnění dýchacích cest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sušen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střihnout, vyčistit a desinfikovat pupeční šňůru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ložit do tepla asi 30-32 </a:t>
            </a:r>
            <a:r>
              <a:rPr b="0" lang="cs-CZ" sz="16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 (nemá vyvinutou termoregulaci)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 ukončení porodu přiložit k mléčným žlázám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elata při si sání vytvoří určité pořadí a to pak dodržuj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 prvním sáním vybrat menší selata a dát je k předním strukům, silnější dát více dozadu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držujeme zoohygienu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57200" y="1023840"/>
            <a:ext cx="8229600" cy="57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stájení selat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elata jsou po určitou dobu ustájena spolu s matkou v porodním kotci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 kotci nehrozí přilehnutí od prasnice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rodní kotec musí mít oddělený </a:t>
            </a: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prostor pro selata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, tzv. příkrmiště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íkrmiště musí mít lokální vyhřívání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hřev vzduchu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mocí infrazářiče, infralamp, sálavých panelů (nevýhoda – teplo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hor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citlivé břišní a hrudní orgány mohou prochladnout od podlahy)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odlahové vytápění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výhřevné desky, teplovodní či elektrické – nákladné)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oupat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(levné, ale špatně větratelné, špatná kontrola selat)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stor pro selata vyhříváme 3-4 týdny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STÁJENÍ SEL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35" name="Picture 5" descr="Porodní klece"/>
          <p:cNvPicPr/>
          <p:nvPr/>
        </p:nvPicPr>
        <p:blipFill>
          <a:blip r:embed="rId1"/>
          <a:stretch/>
        </p:blipFill>
        <p:spPr>
          <a:xfrm>
            <a:off x="743040" y="1689120"/>
            <a:ext cx="3413160" cy="2392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http://www.agrico.cz/uploads/katalog/zbozi/images/porodni-klec-pksa-i-sikma_cz_201.jpg"/>
          <p:cNvPicPr/>
          <p:nvPr/>
        </p:nvPicPr>
        <p:blipFill>
          <a:blip r:embed="rId2"/>
          <a:stretch/>
        </p:blipFill>
        <p:spPr>
          <a:xfrm>
            <a:off x="4330800" y="1689120"/>
            <a:ext cx="375120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1023840"/>
            <a:ext cx="8229600" cy="57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ůležité jsou i mikroklimatické faktory: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statek kyslíku – podmiňuje růstovou intenzitu selat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irkulace vzduchu – nesmí být průvan!!!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lhkost vzduchu – vysoká je nevhodná, ochlazuje povrch těla selat, podporuje rozvoj mikroorganismů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příznivě působí vysoké hladiny CO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NH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a jiných plynů, které se do stájového prostředí mohou dostat – kotelny, výfukové plyny, průmyslové exhalace apod.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lučnost vyvolává rozruch, který při větších koncentracích selat může způsobit velké škody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STÁJENÍ SEL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1023480"/>
            <a:ext cx="82296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ýživa a krmení selat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vním krmivem je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mlezivo</a:t>
            </a:r>
            <a:r>
              <a:rPr b="0" lang="cs-CZ" sz="1600" spc="-1" strike="noStrike">
                <a:solidFill>
                  <a:srgbClr val="2d2015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mlezivo musí sele dostat co nejdříve – nebezpečí anemie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lezivo – dodává všechny potřebné živiny a ochranné látky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lezivová výživa 2-3 dny, co nejčastěji v přiměřených dávkách (sele saje asi 20x za den a přijme 15-50 g mléka)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ložení mleziva se rychle mění, protilátek ubývá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chopnost střevní stěny propouštět ochranné trvá krátce – asi 2 dny po narození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 mlezivu nastupuje mateřské mléko které selatům dlouho nevydrží (asi 14dní)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 1 kg přírůstku selete je potřeba asi 4 kg mateřského mléka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ncem 2. týdne života začínáme přikrmovat jadrnými krmivy a to buď ve formě  KKS nebo šroty obilovin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krmujeme tak, aby sele v době odstavu (50-60 dnů) spotřebovalo takové množství krmiva, které mu postačí po odstavu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álý dostatek kvalitní vody – teplota 14 </a:t>
            </a:r>
            <a:r>
              <a:rPr b="0" lang="cs-CZ" sz="16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 krmení dbáme na hygienu, odstraňujeme zbytky krmiva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 správném a dostatečném krmení selata dosahují 200-300 g denního přírůstku (optimální ve 3 týdnech – 5 kg, v 5 týdnech – 7-8 kg, ve 2 měsících 15-18 kg živé váhy)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ÝŽIVA A KRMENÍ SEL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7200" y="1023840"/>
            <a:ext cx="8229600" cy="57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šetřování selat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usí být dodržena zoohygiena a výživa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kládáme k prasnici aby mohla sát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upírování (zkracování) ocásků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 24 hod. po narozen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amezuje ohryzávání ocásků = kanibalismus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n tam kde se kanibalismus projevuje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Štípání špičáků – usměrněno zákonem na ochranu zvířat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á-li sele ostré špičáky – před prvním sáním je ošetřovatel uštípne, aby nedošlo k poškození mléčné žlázy prasnice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e 3.-4. týdnu u selat krize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léko nedostačuje a selata ještě nepřijímají dostatek příkrmu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řezávají se další zuby – bolest dásní a horečka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krytá říje prasnice – snížená kvalita a množství mléka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yziologická anemie se může změnit v patologickou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astrace kanečků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e 4-6 týdnu věku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ačínají se tvořit pohlavní hormony, které ovlivňují kvalitu masa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OŠETŘOVÁNÍ SEL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57200" y="1023840"/>
            <a:ext cx="8229600" cy="57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dstav selat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dstavem rozumíme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ddělení selat od matky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jich osamostatnění se z hlediska výživy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dstav provádíme, jestliže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ajistíme selatům plnohodnotnou výživu (náhradu mateřského mléka)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astavíme tvorbu mléka prasnice (zaprahneme prasnici)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zlišujeme: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117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Velmi raný odstav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e věku 36-48 hodin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elata musí být zdravá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jpřísnější varianta tohoto typu odstavu –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TERILNÍ ODCHOV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hovatelsky velmi náročné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117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Raný odstav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e věku 5-10 dní, má podmínku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ychlé navyknutí na mléčnou krmnou směs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388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áha nejslabšího selete 2 kg;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elmi malé využití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ODSTAV SEL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6T21:45:52Z</dcterms:created>
  <dc:creator>Presentation Magazine</dc:creator>
  <dc:description/>
  <dc:language>en-US</dc:language>
  <cp:lastModifiedBy>Huk</cp:lastModifiedBy>
  <dcterms:modified xsi:type="dcterms:W3CDTF">2014-02-16T07:11:34Z</dcterms:modified>
  <cp:revision>264</cp:revision>
  <dc:subject/>
  <dc:title>Piglets template</dc:title>
</cp:coreProperties>
</file>