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C961-4BE8-499E-8357-131F06DD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E6C8-569A-4C96-9D7C-CF52D7E9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8E99-51C3-484B-A371-E512EA7F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8F56-4B59-4FF3-A931-F469863C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FC52-EA4E-4438-8B00-129B00FD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6576-7D65-4406-A83D-7785C557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85D9-45D7-4974-8C16-1FD9742E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933F-DD97-4A17-A610-2A7583E6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8EF7-C892-4652-80E2-A101B01C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4F9D-01F4-43E5-BD97-3B6921CD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5D45-0F80-41DF-83A5-81A75800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95E1-77B1-4DD5-9189-740B12CF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D02F-1E12-4378-8AE2-CAAE38C3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15CF-CE9E-42F5-BD3A-0979F51E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70A3-306F-4EB6-898D-43F86C74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FE02-5866-44AF-8F76-B5CAAFCA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E454-AE25-4CDD-8538-BE0770D5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E888-E08B-46CF-9E7F-2BAB34CA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2760-9DE6-41C0-BF32-D3852CB3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CEF6-DBCC-4CBE-95A0-696B85B5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BC8A-3AA1-4070-9CCF-9E9CAFCC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911A-69D0-4AB7-8EE6-83D638AA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8B64-624E-4B72-91CE-DB297F96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DFA5-FB2A-4EDA-8C51-234DC833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IMG_3005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A9BC-64DE-42D0-A39A-2A9B023EBB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IMG_300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1"/>
          <p:cNvSpPr/>
          <p:nvPr/>
        </p:nvSpPr>
        <p:spPr>
          <a:xfrm>
            <a:off x="0" y="4568760"/>
            <a:ext cx="9144000" cy="1892520"/>
          </a:xfrm>
          <a:prstGeom prst="rect">
            <a:avLst/>
          </a:prstGeom>
          <a:solidFill>
            <a:srgbClr val="8c7b7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23e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DF04-0C68-42C7-B50C-067ACA1558D7}" type="slidenum">
              <a:rPr b="0" lang="en-GB" sz="1400" spc="-1" strike="noStrike">
                <a:solidFill>
                  <a:srgbClr val="523e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000" y="2676240"/>
            <a:ext cx="8680320" cy="27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PRACOVNÍ A ŽIVOTNÍ PROSTŘEDÍ V CHOVU PRASAT</a:t>
            </a:r>
            <a:endParaRPr b="0" lang="en-US" sz="60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24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125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_32_INOVACE_158_Chov_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6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13364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íčiny pracovních úrazů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11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pád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vyhovující technické řešení stáj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dostatečná údržb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rovné podlah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luzké podlah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11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stájová mechanizac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vhodná konstrukce stájových zaříze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stré hran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ízké podchody, …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11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zvířat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patná organizace práce při přesunech zvířa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pořádek na pracovišti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oustředěnost na práci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11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infekční nemoci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nebezpečí přenosu chorob prasat na člověka!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YGIENA A BEZPEČNOST PRÁCE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 CHOVU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1588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eventivní opatření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ezinfekc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ezinsekc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eratizac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držovat zásady osobní hygien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mýva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jíst,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pít,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kouři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áci vykonávat s maximálním soustředěním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užívat ochranné pomůck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uv,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ěv, …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 zvířaty zacházet opatrně, ale rozhodně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ěnovat pozornost i drobným poraněním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bsolvovat pravidelné lékařské prohlídk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YGIENA A BEZPEČNOST PRÁCE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 CHOVU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ACOVNÍ A ŽIVOTNÍ PROSTŘEDÍ V CHOVU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171440"/>
            <a:ext cx="831852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a životní prostředí v chovu 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Koncentrace prasat vede ke koncentraci ekologicky negativních vlivů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jako j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11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koncentrace extrementů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11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koncentrace pachů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11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koncentrace hluk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11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zvýšená prašnos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11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koncentrace obtížného hmyz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11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koncentrace hlodavců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11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koncentrace choroboplodných zárodků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dpoklady k účinné ochraně životního prostředí se vytváří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volbě velikosti budoucí farm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volbě technologického systému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elivový provoz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ezstelivový provoz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projektování budoucí farm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realizaci výstavby budoucí farm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1588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Koncentrace pachů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  nejzávažnější </a:t>
            </a: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problém chovu prasa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ílí s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emická různorodost látek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nitřní i vnější kanalizac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ětrací systém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ptylové podmínky okol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ACOVNÍ A ŽIVOTNÍ PROSTŘEDÍ V CHOVU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114624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Zdroj hlučnosti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ířat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chanizac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římá souvislost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 životním prostředím – </a:t>
            </a: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krmení prasat</a:t>
            </a:r>
            <a:r>
              <a:rPr b="0" lang="cs-CZ" sz="1600" spc="-1" strike="noStrike">
                <a:solidFill>
                  <a:srgbClr val="0011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Nedostatek či nadbytek bílkovin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de k tomu, že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N-látk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jsou odváděna z těla prasete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do odpad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základě těchto zjištění –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nové doporučení České akademie věd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de je stanovena </a:t>
            </a: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horní nutná hranice N-látek (lyzin) ve výživě prasa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Fosfor (P) v krmných dávkách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fytátová podoba fosforu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krmivech –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absolutně nevyužitelný fosfo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terý bez užitku vychází z těla ven </a:t>
            </a:r>
            <a:r>
              <a:rPr b="0" lang="cs-CZ" sz="1600" spc="-1" strike="noStrike">
                <a:solidFill>
                  <a:srgbClr val="0011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v půdě je rozkládány a splavován do povrchových vod – eutrofizace</a:t>
            </a:r>
            <a:r>
              <a:rPr b="0" lang="cs-CZ" sz="1600" spc="-1" strike="noStrike">
                <a:solidFill>
                  <a:srgbClr val="00117e"/>
                </a:solidFill>
                <a:latin typeface="Arial"/>
              </a:rPr>
              <a:t>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atření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dávat fosfor v pro prasata přijatelné podobě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ACOVNÍ A ŽIVOTNÍ PROSTŘEDÍ V CHOVU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1588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Krmení na úrovní potřeb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zká souvislost se životním prostředím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ikvidace zbytků krmiv – nehygienické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zká souvislost s pachem, vlhkostí, koncentrací mikroorganismů, hmyzu, hlodavců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revenc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videlné preventivní čištění objektů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ezinfekc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ezinsekc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eratizac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Chemikálie v chovu prasat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těrové hmot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sanační prostředk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ikvidace léků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ACOVNÍ A ŽIVOTNÍ PROSTŘEDÍ V CHOVU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11970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Kejd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měs tuhých výkalů, moče a vody (užitkové, technologické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hodné organické hnojivo (po doplnění chybějících živin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ůležitá je kvalita – minimální obsah sušiny 6 %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plikovat povrchově nebo podpovrchově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lze používat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e každé plodině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každém vegetačním stadiu – používat jaro nebo podzim, podle agrotechniky zemědělských plodin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 každého počas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ACOVNÍ A ŽIVOTNÍ PROSTŘEDÍ V CHOVU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11332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MIŠKOVSKÝ, DOC. ING. C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,Zdeněk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Chov zvířat 2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CREDIT –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avatelství agentura, 1995. 249 s. ISBN 80-901645-4-4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AMBRAUS, Hans Hinrich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Atlas plemen hospodářských zvířat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Nakladatelství Brázda, s.r.o., 2006. 296 s. ISBN 80-209-0344-5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ýchovy a vzdělávání Ministerstva zemědělství České republiky, 1995. 236s. ISBN 80-7105-092-X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ýchovy a vzdělávání Ministerstva zemědělství České republiky, 19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96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. ISBN 8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-7105-019-9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RBAN, J., ŠARAPATKA, B., a kol. Ekologické zemědělství: učebnice pro školy i praxi - I. díl. Vydání první. Praha: MŽP a Svaz PRO-BIO, 2003, 280 s. ISBN 80-7212-274-6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ARAPATKA, B., URBAN, J., a kol. Ekologické zemědělství: učebnice pro školy i praxi - II. díl. Vydání první Šumperk: Svaz PRO-BIO, 2005, 334 s. ISBN 80-903583-0-9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BURDA, František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 výrob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y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 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živočišné výrobky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Vydání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vn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tátní zemědělské nakladatelstv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, 1995. 236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. ISB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07-000-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LOUDA, Prof., Ing., DrSc.,František; JEŽKOVÁ, Ing., CSc., Alena; STÁDNÍK, Doc., Ing., Ph.D., Luděk; BERAN, Ing., Jan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Inseminace prasat.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Multimediální učební pomůcka pro výuku „Reprodukce hospodářských zvířat II“. FOND ROZVOJE VYSOKÝCH ŠKOL č. projektu 2652/2010, © Katedra speciální zootechniky, FAPPZ, ČZU v Praze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TUPKA, CSC., Doc. Ing. Roman, Doc. Ing. Michal ŠPRYSL, CSC. a Ing. Jaroslav ČÍTEK, PH.D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Základy chovu pras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Vydání první. Praha: PowerPrint, 2009. ISBN 978-80-904011-2-9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OVÁK, Ing. Milan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Bezpečnost a ochrana zdraví při práci v zemědělství: (Pracovní rizika v rostlinné a v živočišné výrobě a na pracovištích obdobného charakteru). Vydání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ruhé. Praha: Výzkumný ústav bezpečnosti práce, v. v. i., Jeruzalémská 9, Praha 1, 2008. ISBN 978- 80-86973-96-8. 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ww.ksz.zf.jcu.cz/studium.../Chov%20prasat/.../vyznam-chovu-prasat 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ww.ksz.af.czu.cz/predmety/chovprasat2ks/projektvzor.pdf 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www.receptynamaso.cz/tag/bok-s-kosti 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23e26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lbertus Medium"/>
              </a:rPr>
              <a:t>http://www.svobodazvirat.cz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www.ksz.af.czu.cz/plemenaprasat/domestikace1.htm 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ksz.zf.jcu.cz/studium/Chov-prasat//uzitkove-vlastnosti-prasat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znamky.szesro.cz/Prasata/Původ_a_20rozdělení_pleme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szs-bnl.wz.cz/download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523e26"/>
                </a:solidFill>
                <a:uFillTx/>
                <a:latin typeface="Arial"/>
              </a:rPr>
              <a:t>www.nedap.com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 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457200" y="1371600"/>
          <a:ext cx="8229600" cy="519444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acovní a životní prostředí v chovu pras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Y_32_INOVACE_158_Chov_pras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řet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1.2014 KF 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6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zika při pracovních činnostech, rizika při ošetřování hospodářských zvířat, hygiena a bezpečnost práce v chovu prasat, pracovní a životní prostředí v chovu prasat.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8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znamový list výukového materiálu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5120" y="446868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RACOVNÍ A ŽIVOTNÍ PROSTŘEDÍ V CHOVU PRAS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0" name="TextovéPole 5"/>
          <p:cNvSpPr/>
          <p:nvPr/>
        </p:nvSpPr>
        <p:spPr>
          <a:xfrm>
            <a:off x="6119640" y="60372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1023840"/>
            <a:ext cx="822960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izika při pracovních činnostech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hyb v prostorách určených pro chov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ády zaměstnanců vlivem neprovádění úklidu na komunikacích, neudržování podlah, nezakrytí kanálů, nezabezpečení shozů, pater nebo schodů, pády na kluzkých (zejména mokrých) podlahách, pády do jímek, u chovu koní pády při jízdě na koni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nipulace se zvířat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čištění, přivazování a odvazování, vážení, veterinárních a inseminačních zákrocích, nakládání na dopravní prostředky, přehánění apod. je riziko přitisknutí, přimáčknutí ke konstrukci, kousnutí, kopnutí, přišlápnutí, povalení, bodnutí rohem, napadení, u drůbeže klovnutí, poranění křídly aj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pravy a údržba stájové technik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iziko uklouznutí, pádu nářadí, poranění o ostré hrany či odletující úlomky při odsekávání nebo narážení součástí bez ochranných brýlí, při opravách, údržbě a čištění stroje za chodu, při používání chemických přípravků na dezinfekci zařízení či prostor (např. dojicího zařízení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IZIKA PŘI PRACOVNÍCH ČINNOSTECH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02348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áce v nádržích, jímkách, zásobnících, senážních věžích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iziko při vstupu bez zajištění druhou, případně třetí osobou a bez ověření výskytu nebezpečných plynů a dostatku kyslíku ve vzduchu (otrava, udušení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pravy a údržba krmné technik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dobné jako v rostlinné výrobě při dopravě a opravách transportních zařízení, při práci spojené se zásobníky krmných směsí, šrotů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IZIKA PŘI PRACOVNÍCH ČINNOSTECH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15848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izika při ošetřování hospodářských zvíř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acházení se zvířat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usí být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lidné,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hodné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lídné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ůležité je jednání ošetřovatelů a jejich vztah ke zvířatům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ratnos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kamžité a přiměřené reakce na chování zvířete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utná je znalost chování zvířat a správného postupu při vytváření jejich určitých žádoucích návyků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načná rizika jsou při přemisťování trvale uvázaných zvířat (pocit strachu, s nepředvídatelnou reakcí)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ýrání a dráždění zvířat je nepřípustné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e zvířeti se přistupuje až po upozornění hlasem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zakázáno přistupovat k ležícímu zvířeti, pokud se nejedná o zvíře nemocné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 nebezpečných zvířat nebo zvířat s nebezpečnými projevy je nutné jištění druhým zaměstnancem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IZIKA PŘI OŠETŘOVÁNÍ HOSPODÁŘSKÝCH ZVÍŘ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11588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Čištění zvířat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hygienickým opatřením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vlivňuje i celkový zdravotní stav zvířa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stupuje se ze strany (u skotu), koně v boxech se přivazují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 volného ustájení zvířat na hluboké podestýlce (sláma) se čištění provádí zpravidla při jejím odstraňován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ivazování a odvazování, převádění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yzicky náročná práce, nutné použití ohlávky s vodícím řemenem, vodící šňůrou nebo tyčí (s výjimkou koní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odící řemen nesmí mít ošetřovatel omotán okolo ruky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nahánění velkých zvířat pomocí naháněcích uliček a zábran musí být zaměstnanec vždy za zábranou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IZIKA PŘI OŠETŘOVÁNÍ HOSPODÁŘSKÝCH ZVÍŘ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211040"/>
            <a:ext cx="822960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eterinární zákroky, inseminace, odrohování, strouhání paznehtů, kování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ždy je nutno zajistit dostatečný počet kvalifikovaných zaměstnanců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rmení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izikové, pokud je spojeno s bezprostředním stykem se zvířetem (staré objekty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dkliz hnoj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izikový, pokud se jedná o odkliz visutými drážkami, oběžným shrnovačem chlévské mrvy či jiným transportním zařízením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IZIKA PŘI OŠETŘOVÁNÍ HOSPODÁŘSKÝCH ZVÍŘ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1120320"/>
            <a:ext cx="8229600" cy="57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ygiena a bezpečnost práce v chovu 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Arial"/>
              </a:rPr>
              <a:t>ZÁKAZ PRÁCE SE ZVÍŘATY MLADISTVÍM </a:t>
            </a:r>
            <a:endParaRPr b="0" lang="en-US" sz="2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Arial"/>
              </a:rPr>
              <a:t>A TĚHOTNÝM ŽENÁM</a:t>
            </a:r>
            <a:endParaRPr b="0" lang="en-US" sz="2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ahrnuj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jištění vhodného, zdravotně nezávadného pracovního prostřed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chranu pracovníka před nadměrným zatížením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chranu pracovníka před pracovními úraz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chranu pracovníka před chorobami z povolání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draví pracovníka v chovu prasat ohrožuj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řídání teplo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soká vlhkos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ůvan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šnos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lučnos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YGIENA A BEZPEČNOST PRÁCE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 CHOVU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21:45:52Z</dcterms:created>
  <dc:creator>Presentation Magazine</dc:creator>
  <dc:description/>
  <dc:language>en-US</dc:language>
  <cp:lastModifiedBy>Huk</cp:lastModifiedBy>
  <dcterms:modified xsi:type="dcterms:W3CDTF">2014-02-16T16:34:16Z</dcterms:modified>
  <cp:revision>266</cp:revision>
  <dc:subject/>
  <dc:title>Piglets template</dc:title>
</cp:coreProperties>
</file>