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978-33CE-4BD0-BF73-3C1A6049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BF4-57BD-4B39-84A5-B86C0BCD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9EF-BC35-4980-A624-9CB48E9D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DB4-34A1-43DF-BA36-1FBF462D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3EB-8E78-4B26-B0A0-4F7505AC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1745-5EAA-4C83-AA1F-06BFE5DC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8E9F-A93B-4584-9389-4CDD3C46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0D65-D77F-4612-BC00-26572DFF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1DB1-6E0D-4D3C-B35F-3A9EB265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8BB5-0926-4950-B770-F7B02361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7FA-8D91-4588-B7C0-D7912453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13B7-7B31-4A67-B228-BABC4692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BFDB-0BFB-4F74-ABF4-3F45C77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2B03-7A5B-4043-AFC5-AD01397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249-9D7C-4E9C-949A-A4A0646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AB56-EAA2-4036-8C91-FA283D27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0DFE-AA7D-4A77-9B87-D40CC02E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7CD9-9CB1-4F5E-9B72-E725A880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0C3-1B18-43E4-A9DE-8DF8661C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881-FE08-4BF8-A418-63891BFD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7F1-C042-4236-B0C1-BDDFDBDD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2E5-4BE6-4372-900D-AF6C83A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E39-E58D-4C50-AD89-0FB4AF07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017-2AD5-49DA-9428-8E0A4B8B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20D9-B37F-41BC-9DB0-CF2A64A4A0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99F-D126-466B-B358-56C9BE6BBF60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3090960"/>
            <a:ext cx="868032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METODY PLEMENITBY PRAS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48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pouštění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adem úspěšného zapouštění prasnice je její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lnohodnotná říje 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OUKÁNÍ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vá asi 2-3 dny, opakuje se po 21 dnech (kolísání 18-24 dní). Po porodu se říje dostavuje zpravidla 6.-10. den po odstavu sel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jevy říje prasnic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klid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krvení sliznice vnějších pohlavních orgán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vnímavost na přítomnost kance nebo na kančí pac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arakteristickým příznakem vrcholu říje je tzv.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reflex nehybnosti – stádium ochoty k páření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ovulaci dochází několik hodin před ukončením tohoto reflexu – asi 30-40 hod. od začátku říj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trola a vyhledávání říjících prasni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provádí dvakrát denně v intervalu 10-12 hod., v klidu ve stáji, nejlépe po krmení. Využívá se tzv.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anec prubíř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větší pravděpodobnost zabřeznutí je při zapuštění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8-12 hod.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zjištění reflexu nehybnosti. Opakované zapuštění (dvojskok) provádíme za dalších 10-12 hod. za předpokladu, že stadium ochoty trv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ce zapouštíme ve výběhu kance, podle potřeby v připouštědl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áření (koitus, kopulace) trvá průměrně 10-30 minut, vlastní ejakulace (odsemenění) 5-15 minu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UŠTĚNÍ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áze říje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oestrus – trvá 2 dn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ání prasnic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áče na ostat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ulva zarudlá, zvětšená, zvlhl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ce odmítá kance, nežer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Estrus – vlastní říje – trvá 2-2,5 dn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ání prasnic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chází ke zklidně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jímá krmivo, vydává zvláštní zvu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flex nehybnosti – neodmítá kan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etaestrus – trvá 1 den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ání prasnic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znívání všech projevů říj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ce odmítá kance i inseminaci, ta je v tomto období neúčinn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d201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ÁZE ŘÍJE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ÁZE ŘÍJE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3" name="Picture 11" descr="Bez názvu 1 kopie"/>
          <p:cNvPicPr/>
          <p:nvPr/>
        </p:nvPicPr>
        <p:blipFill>
          <a:blip r:embed="rId1"/>
          <a:stretch/>
        </p:blipFill>
        <p:spPr>
          <a:xfrm>
            <a:off x="458640" y="1023840"/>
            <a:ext cx="83426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HLAVNÍ ORGÁNY PRASNIC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5" name="Picture 5" descr="Bez názvu 1 kopie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12920" y="1023480"/>
            <a:ext cx="833256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seminace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tšinou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odavatelsky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 –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Inseminační stanice kanců (ISK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dá chovateli sperma a ten sám provede inseminaci prasni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žný je i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ervisní způsob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inseminační služba připraví inseminační dávku a inseminační technik provede inseminac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á se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rátkodobě konzervované sper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é zaručuje dobré výsledky 2-3 dny po odběru a zpracován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meno se uchovává při teplotě 14-16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117e"/>
                </a:solidFill>
                <a:latin typeface="Arial"/>
              </a:rPr>
              <a:t>Postup inseminac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SEMINACE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8" name="Obrázek 4" descr=""/>
          <p:cNvPicPr/>
          <p:nvPr/>
        </p:nvPicPr>
        <p:blipFill>
          <a:blip r:embed="rId1"/>
          <a:stretch/>
        </p:blipFill>
        <p:spPr>
          <a:xfrm>
            <a:off x="3116160" y="3206880"/>
            <a:ext cx="39690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seminace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Délka insemina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5-7 minut, využívat reflex nasává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Ovulace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astává asi ve 2.-3. třetině říj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Inseminovat poprvé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8-12 hod. po vyhled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j. po zjištění reflexu nehybnost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Reinseminace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8-12 hod. po insemina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musí být ještě reflex nehybnost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Inseminace zmrazeným semenem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4. hod před ovulac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kratší přežitelnost spermií po rozmraz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 inseminac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jistíme prasnici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individuální ustájení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SEMINACE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SEMINACE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62" name="Picture 3" descr="Bez názvu 1 kopie"/>
          <p:cNvPicPr/>
          <p:nvPr/>
        </p:nvPicPr>
        <p:blipFill>
          <a:blip r:embed="rId1"/>
          <a:stretch/>
        </p:blipFill>
        <p:spPr>
          <a:xfrm>
            <a:off x="282600" y="852480"/>
            <a:ext cx="85266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Zástupný symbol pro obsah 4" descr=""/>
          <p:cNvPicPr/>
          <p:nvPr/>
        </p:nvPicPr>
        <p:blipFill>
          <a:blip r:embed="rId1"/>
          <a:stretch/>
        </p:blipFill>
        <p:spPr>
          <a:xfrm>
            <a:off x="1995480" y="1174680"/>
            <a:ext cx="5473800" cy="42084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XUÁLNÍ CHOVÁNÍ PŘI PŘIROZENÉ PLEMENITBĚ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LEDISKA KONTROLY REPRODUKCE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6" name="TextovéPole 4"/>
          <p:cNvSpPr/>
          <p:nvPr/>
        </p:nvSpPr>
        <p:spPr>
          <a:xfrm>
            <a:off x="3503520" y="3066480"/>
            <a:ext cx="191772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Kontrola reprodukce u prasat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7" name="TextovéPole 5"/>
          <p:cNvSpPr/>
          <p:nvPr/>
        </p:nvSpPr>
        <p:spPr>
          <a:xfrm>
            <a:off x="3503520" y="1522800"/>
            <a:ext cx="1917720" cy="520200"/>
          </a:xfrm>
          <a:prstGeom prst="rect">
            <a:avLst/>
          </a:prstGeom>
          <a:noFill/>
          <a:ln w="12600">
            <a:solidFill>
              <a:srgbClr val="001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Kontrola říje u prasnic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8" name="TextovéPole 6"/>
          <p:cNvSpPr/>
          <p:nvPr/>
        </p:nvSpPr>
        <p:spPr>
          <a:xfrm>
            <a:off x="5421240" y="2304360"/>
            <a:ext cx="1919520" cy="520200"/>
          </a:xfrm>
          <a:prstGeom prst="rect">
            <a:avLst/>
          </a:prstGeom>
          <a:noFill/>
          <a:ln w="12600">
            <a:solidFill>
              <a:srgbClr val="001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Čas inseminace prasnic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9" name="TextovéPole 7"/>
          <p:cNvSpPr/>
          <p:nvPr/>
        </p:nvSpPr>
        <p:spPr>
          <a:xfrm>
            <a:off x="6127920" y="3066480"/>
            <a:ext cx="1919160" cy="520200"/>
          </a:xfrm>
          <a:prstGeom prst="rect">
            <a:avLst/>
          </a:prstGeom>
          <a:noFill/>
          <a:ln w="12600">
            <a:solidFill>
              <a:srgbClr val="001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Kontrola březosti prasnic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0" name="TextovéPole 8"/>
          <p:cNvSpPr/>
          <p:nvPr/>
        </p:nvSpPr>
        <p:spPr>
          <a:xfrm>
            <a:off x="5421240" y="3855600"/>
            <a:ext cx="1919520" cy="520200"/>
          </a:xfrm>
          <a:prstGeom prst="rect">
            <a:avLst/>
          </a:prstGeom>
          <a:noFill/>
          <a:ln w="12600">
            <a:solidFill>
              <a:srgbClr val="001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Kontrola četnosti vrhů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1" name="TextovéPole 9"/>
          <p:cNvSpPr/>
          <p:nvPr/>
        </p:nvSpPr>
        <p:spPr>
          <a:xfrm>
            <a:off x="3503520" y="4610160"/>
            <a:ext cx="1917720" cy="520200"/>
          </a:xfrm>
          <a:prstGeom prst="rect">
            <a:avLst/>
          </a:prstGeom>
          <a:noFill/>
          <a:ln w="12600">
            <a:solidFill>
              <a:srgbClr val="001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Zvýšení frekvence vrhů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2" name="TextovéPole 10"/>
          <p:cNvSpPr/>
          <p:nvPr/>
        </p:nvSpPr>
        <p:spPr>
          <a:xfrm>
            <a:off x="1584360" y="3855600"/>
            <a:ext cx="1919160" cy="520200"/>
          </a:xfrm>
          <a:prstGeom prst="rect">
            <a:avLst/>
          </a:prstGeom>
          <a:noFill/>
          <a:ln w="12600">
            <a:solidFill>
              <a:srgbClr val="001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Zvyšování mléčnosti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3" name="TextovéPole 11"/>
          <p:cNvSpPr/>
          <p:nvPr/>
        </p:nvSpPr>
        <p:spPr>
          <a:xfrm>
            <a:off x="878040" y="3066480"/>
            <a:ext cx="1919160" cy="520200"/>
          </a:xfrm>
          <a:prstGeom prst="rect">
            <a:avLst/>
          </a:prstGeom>
          <a:noFill/>
          <a:ln w="12600">
            <a:solidFill>
              <a:srgbClr val="001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Embryotransfer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(přenos embrya)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4" name="TextovéPole 12"/>
          <p:cNvSpPr/>
          <p:nvPr/>
        </p:nvSpPr>
        <p:spPr>
          <a:xfrm>
            <a:off x="1584360" y="2278440"/>
            <a:ext cx="1919160" cy="520200"/>
          </a:xfrm>
          <a:prstGeom prst="rect">
            <a:avLst/>
          </a:prstGeom>
          <a:noFill/>
          <a:ln w="12600">
            <a:solidFill>
              <a:srgbClr val="001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117e"/>
                </a:solidFill>
                <a:latin typeface="Arial"/>
              </a:rPr>
              <a:t>Zařazení mladších zvířat do chovu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cxnSp>
        <p:nvCxnSpPr>
          <p:cNvPr id="175" name="Přímá spojnice se šipkou 14"/>
          <p:cNvCxnSpPr>
            <a:stCxn id="167" idx="2"/>
            <a:endCxn id="166" idx="0"/>
          </p:cNvCxnSpPr>
          <p:nvPr/>
        </p:nvCxnSpPr>
        <p:spPr>
          <a:xfrm>
            <a:off x="4462200" y="2044440"/>
            <a:ext cx="1080" cy="1021320"/>
          </a:xfrm>
          <a:prstGeom prst="straightConnector1">
            <a:avLst/>
          </a:prstGeom>
          <a:ln w="9360">
            <a:solidFill>
              <a:srgbClr val="00117e"/>
            </a:solidFill>
            <a:miter/>
            <a:tailEnd len="med" type="triangle" w="med"/>
          </a:ln>
        </p:spPr>
      </p:cxnSp>
      <p:cxnSp>
        <p:nvCxnSpPr>
          <p:cNvPr id="176" name="Přímá spojnice se šipkou 19"/>
          <p:cNvCxnSpPr>
            <a:stCxn id="169" idx="1"/>
            <a:endCxn id="166" idx="3"/>
          </p:cNvCxnSpPr>
          <p:nvPr/>
        </p:nvCxnSpPr>
        <p:spPr>
          <a:xfrm flipH="1">
            <a:off x="5420520" y="3327120"/>
            <a:ext cx="707400" cy="1080"/>
          </a:xfrm>
          <a:prstGeom prst="straightConnector1">
            <a:avLst/>
          </a:prstGeom>
          <a:ln w="9360">
            <a:solidFill>
              <a:srgbClr val="00117e"/>
            </a:solidFill>
            <a:miter/>
            <a:tailEnd len="med" type="triangle" w="med"/>
          </a:ln>
        </p:spPr>
      </p:cxnSp>
      <p:cxnSp>
        <p:nvCxnSpPr>
          <p:cNvPr id="177" name="Přímá spojnice se šipkou 23"/>
          <p:cNvCxnSpPr>
            <a:stCxn id="170" idx="0"/>
          </p:cNvCxnSpPr>
          <p:nvPr/>
        </p:nvCxnSpPr>
        <p:spPr>
          <a:xfrm flipH="1" flipV="1">
            <a:off x="5420880" y="3590640"/>
            <a:ext cx="961200" cy="264240"/>
          </a:xfrm>
          <a:prstGeom prst="straightConnector1">
            <a:avLst/>
          </a:prstGeom>
          <a:ln w="9360">
            <a:solidFill>
              <a:srgbClr val="00117e"/>
            </a:solidFill>
            <a:miter/>
            <a:tailEnd len="med" type="triangle" w="med"/>
          </a:ln>
        </p:spPr>
      </p:cxnSp>
      <p:cxnSp>
        <p:nvCxnSpPr>
          <p:cNvPr id="178" name="Přímá spojnice se šipkou 26"/>
          <p:cNvCxnSpPr>
            <a:stCxn id="171" idx="0"/>
            <a:endCxn id="166" idx="2"/>
          </p:cNvCxnSpPr>
          <p:nvPr/>
        </p:nvCxnSpPr>
        <p:spPr>
          <a:xfrm flipV="1">
            <a:off x="4462200" y="3587040"/>
            <a:ext cx="1080" cy="1021320"/>
          </a:xfrm>
          <a:prstGeom prst="straightConnector1">
            <a:avLst/>
          </a:prstGeom>
          <a:ln w="9360">
            <a:solidFill>
              <a:srgbClr val="00117e"/>
            </a:solidFill>
            <a:miter/>
            <a:tailEnd len="med" type="triangle" w="med"/>
          </a:ln>
        </p:spPr>
      </p:cxnSp>
      <p:cxnSp>
        <p:nvCxnSpPr>
          <p:cNvPr id="179" name="Přímá spojnice se šipkou 30"/>
          <p:cNvCxnSpPr/>
          <p:nvPr/>
        </p:nvCxnSpPr>
        <p:spPr>
          <a:xfrm flipV="1">
            <a:off x="2543040" y="3604680"/>
            <a:ext cx="961200" cy="232560"/>
          </a:xfrm>
          <a:prstGeom prst="straightConnector1">
            <a:avLst/>
          </a:prstGeom>
          <a:ln w="9360">
            <a:solidFill>
              <a:srgbClr val="00117e"/>
            </a:solidFill>
            <a:miter/>
            <a:tailEnd len="med" type="triangle" w="med"/>
          </a:ln>
        </p:spPr>
      </p:cxnSp>
      <p:cxnSp>
        <p:nvCxnSpPr>
          <p:cNvPr id="180" name="Přímá spojnice se šipkou 33"/>
          <p:cNvCxnSpPr/>
          <p:nvPr/>
        </p:nvCxnSpPr>
        <p:spPr>
          <a:xfrm>
            <a:off x="2543040" y="2812680"/>
            <a:ext cx="961200" cy="253080"/>
          </a:xfrm>
          <a:prstGeom prst="straightConnector1">
            <a:avLst/>
          </a:prstGeom>
          <a:ln w="6480">
            <a:solidFill>
              <a:srgbClr val="00117e"/>
            </a:solidFill>
            <a:miter/>
            <a:tailEnd len="med" type="triangle" w="med"/>
          </a:ln>
        </p:spPr>
      </p:cxnSp>
      <p:cxnSp>
        <p:nvCxnSpPr>
          <p:cNvPr id="181" name="Přímá spojnice se šipkou 36"/>
          <p:cNvCxnSpPr>
            <a:stCxn id="173" idx="3"/>
          </p:cNvCxnSpPr>
          <p:nvPr/>
        </p:nvCxnSpPr>
        <p:spPr>
          <a:xfrm>
            <a:off x="2797200" y="3327120"/>
            <a:ext cx="707040" cy="1080"/>
          </a:xfrm>
          <a:prstGeom prst="straightConnector1">
            <a:avLst/>
          </a:prstGeom>
          <a:ln w="9360">
            <a:solidFill>
              <a:srgbClr val="00117e"/>
            </a:solidFill>
            <a:miter/>
            <a:tailEnd len="med" type="triangle" w="med"/>
          </a:ln>
        </p:spPr>
      </p:cxnSp>
      <p:cxnSp>
        <p:nvCxnSpPr>
          <p:cNvPr id="182" name="Přímá spojnice se šipkou 39"/>
          <p:cNvCxnSpPr>
            <a:stCxn id="168" idx="2"/>
          </p:cNvCxnSpPr>
          <p:nvPr/>
        </p:nvCxnSpPr>
        <p:spPr>
          <a:xfrm flipH="1">
            <a:off x="5420880" y="2825640"/>
            <a:ext cx="961200" cy="240480"/>
          </a:xfrm>
          <a:prstGeom prst="straightConnector1">
            <a:avLst/>
          </a:prstGeom>
          <a:ln w="9360">
            <a:solidFill>
              <a:srgbClr val="00117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7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ntr" presetID="17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1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" nodeType="afterEffect" fill="hold" presetClass="entr" presetID="1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entr" presetID="1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" nodeType="afterEffect" fill="hold" presetClass="entr" presetID="17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79" nodeType="afterEffect" fill="hold" presetClass="entr" presetID="17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8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0" nodeType="afterEffect" fill="hold" presetClass="entr" presetID="17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ks/projektvzor.pdf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519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ody plemenitby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48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. 11., 08. 11. 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menitba prasat, zapouštění prasnic, fáze říje prasnic, inseminace prasnic, sexuální chování při přirozené plemenitbě, hlediska kontroly reprodukce prasat.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2000"/>
            <a:ext cx="77724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ETODY PLEMENITBY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Y PLEMENITBY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1120" y="1023480"/>
            <a:ext cx="81918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ody plemenitb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em každého plemenářského programu 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čistokrevná plemenitba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rasat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řs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šlechtění se zaměřuje na reprodukční vlastnost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tcovs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šlechtění se zaměřuje na jatečnou hodnotu a kvalitu mas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bou případech se vyžaduje odpovídající tělesný rámec, dobré zdraví, pevná konstituce a odolnost vůči stresů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ářský program se zajišťuj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šlechtitelských chovech (ŠCH) – zde se soustřeďují zvířata s nejvyšší plemennou hodnotou a systematicky se zlepšuje jejich genofond. Produkují plemenné kance i prasnič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ozmnožovacích chovech (RCH) – nakupují se zvířata od ŠCH, produkují se zde kříženci F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generace pro potřeby užitkových chov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užitkových chovech (UCH) – nakupují křížence (prasničky) z RCH a kance ze ŠCH a produkují finální hybridy pro podniky, zabývající se výkrmem pras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Zástupný symbol pro obsah 4" descr=""/>
          <p:cNvPicPr/>
          <p:nvPr/>
        </p:nvPicPr>
        <p:blipFill>
          <a:blip r:embed="rId1"/>
          <a:stretch/>
        </p:blipFill>
        <p:spPr>
          <a:xfrm>
            <a:off x="1873080" y="1023840"/>
            <a:ext cx="5513400" cy="4251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Y PLEMENITBY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12560" y="1023480"/>
            <a:ext cx="82738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menitba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LEMENITBA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cílevědomé rozmnožování zvířat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atel musí přihlížet k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ářským okolnostem (viz schéma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atelským podmínká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ituaci na trh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řazení do plemenitby (první zapuštění)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asnič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stáří 7-7,5 měsíců, při živé hmotnosti 110-120 kg, probíhá 2-4 říj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prasniček k plemenitbě určujeme podle intenzity brakování (běžné chovy asi 30 %, intenzivní chovy asi 50 %)  a procenta zabřezávání (zpravidla 75-80 %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jednu prasnici se počítá se dvěma odstávčaty samičího pohlav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anc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n vybraní stanovenou komisí ve věku 6-9 měsíc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řazení ve třídě ELI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karanténě (trvá 28 dní), současně probíhá nácvik odběru semen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itba se u prasat uskutečňuje buď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řirozeným způsob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lučně připouštění z ruky) nebo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inseminací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LEMENITBA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75920" y="1015560"/>
            <a:ext cx="8281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menitba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okrevná plemenit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niová plemenit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ziliniová plemenitb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věžení krv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buzenská plemenitb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zk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dále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říž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kontinuit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duché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vouplemenné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ří a víceplemenn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ětn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inuit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ídav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tač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LEMENITBA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9" name="Obrázek 1" descr=""/>
          <p:cNvPicPr/>
          <p:nvPr/>
        </p:nvPicPr>
        <p:blipFill>
          <a:blip r:embed="rId1"/>
          <a:stretch/>
        </p:blipFill>
        <p:spPr>
          <a:xfrm>
            <a:off x="4437000" y="1015920"/>
            <a:ext cx="4707000" cy="195588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2" descr=""/>
          <p:cNvPicPr/>
          <p:nvPr/>
        </p:nvPicPr>
        <p:blipFill>
          <a:blip r:embed="rId2"/>
          <a:stretch/>
        </p:blipFill>
        <p:spPr>
          <a:xfrm>
            <a:off x="4637160" y="2971800"/>
            <a:ext cx="4506840" cy="1949400"/>
          </a:xfrm>
          <a:prstGeom prst="rect">
            <a:avLst/>
          </a:prstGeom>
          <a:ln w="0">
            <a:noFill/>
          </a:ln>
        </p:spPr>
      </p:pic>
      <p:pic>
        <p:nvPicPr>
          <p:cNvPr id="141" name="Obrázek 4" descr=""/>
          <p:cNvPicPr/>
          <p:nvPr/>
        </p:nvPicPr>
        <p:blipFill>
          <a:blip r:embed="rId3"/>
          <a:stretch/>
        </p:blipFill>
        <p:spPr>
          <a:xfrm>
            <a:off x="4437000" y="4919760"/>
            <a:ext cx="4707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rázek 3" descr=""/>
          <p:cNvPicPr/>
          <p:nvPr/>
        </p:nvPicPr>
        <p:blipFill>
          <a:blip r:embed="rId1"/>
          <a:stretch/>
        </p:blipFill>
        <p:spPr>
          <a:xfrm>
            <a:off x="4687920" y="1157400"/>
            <a:ext cx="4289400" cy="1834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LEMENITBA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4" name="Obrázek 5" descr=""/>
          <p:cNvPicPr/>
          <p:nvPr/>
        </p:nvPicPr>
        <p:blipFill>
          <a:blip r:embed="rId2"/>
          <a:stretch/>
        </p:blipFill>
        <p:spPr>
          <a:xfrm>
            <a:off x="1193760" y="3305160"/>
            <a:ext cx="4267080" cy="2897280"/>
          </a:xfrm>
          <a:prstGeom prst="rect">
            <a:avLst/>
          </a:prstGeom>
          <a:ln w="0">
            <a:noFill/>
          </a:ln>
        </p:spPr>
      </p:pic>
      <p:sp>
        <p:nvSpPr>
          <p:cNvPr id="145" name="Obdélník 1"/>
          <p:cNvSpPr/>
          <p:nvPr/>
        </p:nvSpPr>
        <p:spPr>
          <a:xfrm>
            <a:off x="515880" y="1338120"/>
            <a:ext cx="3618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002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změňovac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šlechťovac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řilití krv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liorač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mbinač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řevodné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15520" y="1023840"/>
            <a:ext cx="82422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menitba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eteroz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e genetickému zlepšování zvířat má chovatel k dispozici tři základní složky plemenářské práce, a to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okrevnou plemenitb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říž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ekc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zvyšování výroby vepřového masa s ohledem na požadavky konzumenta a zpracující průmysl se ukazuje výhodné využívat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HETEROZ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117e"/>
                </a:solidFill>
                <a:latin typeface="Arial"/>
              </a:rPr>
              <a:t>Jedná se o jev při křížení organizmů, kdy kříženci první generace nějakým způsobem převyšují rodiče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eterózní efekt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řevaha vlastností potomka nad průměrem rodičovského páru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LEMENITBA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5T10:01:24Z</dcterms:modified>
  <cp:revision>209</cp:revision>
  <dc:subject/>
  <dc:title>Piglets template</dc:title>
</cp:coreProperties>
</file>