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A58-15CA-4A82-B60B-7FB7D58F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C7A-AB41-437B-9A03-06618745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09F-B9E5-43B9-BE13-41E8EC7F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7AD-5468-4FBF-A1C0-73147E43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9D9-091A-42C1-862D-DAFDF679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AE7-16F5-4CB8-A35A-D10F0D70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5B9-4DDF-4008-A7EA-2955E141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4857-CD12-463B-B827-6ED9587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97C-BAC9-43E2-8697-BC76AE14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F350-C3CD-4F3D-B449-BAD12A9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4EB-04D6-4179-BE70-80650492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80FE-666C-420C-8360-B06FDA8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1CC-375B-47BF-8F12-7A6A610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131A-058D-4A5A-A374-3F08997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8E9F-719F-48F6-9CAF-76DD16E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973D-B1CF-493D-9357-522723F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9AF-4D73-4164-8ADE-7B8B4143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2C9-8604-432D-80D8-C1577D62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BC6-D805-4DD8-8ACA-2563B4E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1BF-909B-4D15-9D57-5658B811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E46-D3DD-434C-AA70-E734E83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8EC-BD8C-4FF2-B6B7-92F394A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1A6-8CA1-4205-ACB5-5BA758A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A30-249A-4D87-95EB-8E798F1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5DA5-65FE-4BF5-B81C-1732EBFFC3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6F6D-5F46-4A29-B186-528AF8029FBC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sz.zf.jcu.cz/studium.../Chov%20prasat/.../vyznam-chovu-prasa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090960"/>
            <a:ext cx="86803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CHOV KANCŮ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2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1203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ygiena a bezpečnost práce v chovu kanců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hov kanc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z pohledu BOZP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jnáročnější kategorií prasat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omě obecných rizik ohrožení zdraví, existu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větší nebezpečí napadení člověka zvířetem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útočnější jsou starší jedinci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ance může ošetřovat pouze osoba starší 18 le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ne žena), fyzicky zdatná a vybavená potřebnými ochrannými prostřed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é je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střídat ošetřovatel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eznámá osoba je více ohrožen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činnostech, kdy může dojít k přímému kontaktu ošetřovatele se zvířetem,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musí být přítomna druhá osob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je schopna v případě nutnosti zasáhnou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anců platí zásada, že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 ležícímu zvířeti nepřistupujem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s výjimkou nemocného zvířet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atel musí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být vždy za kancem a mí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okud bude ohrožen,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ostatečný únikový prostor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veterinárních zákrocích je třeba zajistit fixaci kance pomocí klece nebo fixační smyčk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individuálním odchovu je nutné zabránit přímému styku s jinými kanci – nebezpečí soubojů a zranění zvířat a ošetřovatel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prava kanců – v pevných klecích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YGIENA A BEZPEČNOST PRÁCE V CHOVU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MIŠKOVSKÝ, DOC. ING. CSc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Vydání první. Praha: CREDIT – 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Vydání první. Praha: 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ydání druhé. Praha: Institut 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ydání druhé. Praha: Institut výchovy a vzdělávání Ministerstva zemědělství České republiky, 1986. 296 s. ISBN 80-7105-019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emědělské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.Vydání první. Praha: Státní zemědělské nakladatelství, 1995. 236 s. ISBN 07-000-86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zf.jcu.cz/studium.../Chov%20prasat/.../vyznam-chovu-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af.czu.cz/predmety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ks/projektvzor.pdf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kanců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2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.12.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běr a využití kanců, ustájení, krmení a ošetřování kanců, zacházení s kanci, hygiena a bezpečnost práce v chovu kanců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OV KANCŮ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běr a využití kanců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a genetickém založení jedin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oba rodiče podílí stejným dílem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a genofondu populace</a:t>
            </a:r>
            <a:r>
              <a:rPr b="0" lang="cs-CZ" sz="1600" spc="-1" strike="noStrike">
                <a:solidFill>
                  <a:srgbClr val="523e26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však (hlavně v podmínkách inseminace) podíl kance – plemeníka výrazně větš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plemenitbu využíváme kance vybrané výběrovou komis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ěrovému řízení se podrobují kanci ve věku 6 – 9 měsí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anec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s nímž se počítá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 inseminaci, musí být zařazen do třídy Elita</a:t>
            </a:r>
            <a:r>
              <a:rPr b="1" lang="cs-CZ" sz="1600" spc="-1" strike="noStrike">
                <a:solidFill>
                  <a:srgbClr val="523e26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ed první inseminací karanté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terá trvá většinou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8 d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Ta se využívá k provedení a vyhodnocení předepsaných zkoušek a k nácviku odběru semen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kanec vyhoví, přechází do provozních inseminačních stanic, kde je dále testován na reprodukci; po vyhodnocení je rozhodnuto o jeho dalším využit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řirozené plemenitbě počítáme na 1 kance v průměru 25-30 prasnic, v inseminaci 250-300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mladých kanců se intenzita využívání v přirozené plemenitbě i inseminaci snižuje o třetinu až polovin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ůběhu týdne se připouští dospělý kanec 2-3x, mladý 1x. Počet týdenních odběrů je stejný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kanec není využíván, je nutné provádět každých 8 dní tzv. kondiční odběr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A VYUŽITÍ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řirozené plemenitbě i v inseminaci se dosahuje asi 80 % zabřezává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výsledcích reprodukce se podílí řada faktorů, např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pozice prasnic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rávná organizace připoušt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inseminaci práce laboratoř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áce inseminačního technika,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odnocení podílu kance na výsledcích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žaduje dostatečný počet případů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tatek znalostí a zkušenos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užití vhodné metody hodnocení apod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BĚR A VYUŽITÍ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627520" y="1725480"/>
            <a:ext cx="35164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023840"/>
            <a:ext cx="822960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tájení kanců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ohledem na malou potřebu kanců se budují malokapacitní stavb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ům prubířům nebo stimulačním kancům se vymezují individuální kotce ve stájích pro prasnice zapouštěné a břez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eminační stanice kanců většinou soustřeďují několik desítek plemenných kanců, tomu odpovídá typ stáje a její vybaven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i jsou umístěni ve dvou řadách v individuálních kotcích, na které navazují výběh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cha kotce je 6 – 7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kaliště (roštované) připadají asi 2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louzavý tvrdý výběh má mít plochu kolem 10 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Žádoucí jsou i měkké travnaté výběh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TÁJENÍ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8" name="Picture 4" descr="http://www.topfarm.cz/_LIB/Image.php?ID=2457"/>
          <p:cNvPicPr/>
          <p:nvPr/>
        </p:nvPicPr>
        <p:blipFill>
          <a:blip r:embed="rId1"/>
          <a:stretch/>
        </p:blipFill>
        <p:spPr>
          <a:xfrm>
            <a:off x="6580080" y="3044880"/>
            <a:ext cx="256392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ttp://web2.mendelu.cz/af_291_projekty2/vseo/files/3/221.jpg"/>
          <p:cNvPicPr/>
          <p:nvPr/>
        </p:nvPicPr>
        <p:blipFill>
          <a:blip r:embed="rId2"/>
          <a:stretch/>
        </p:blipFill>
        <p:spPr>
          <a:xfrm>
            <a:off x="3073320" y="4678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nseminace.jpg"/>
          <p:cNvPicPr/>
          <p:nvPr/>
        </p:nvPicPr>
        <p:blipFill>
          <a:blip r:embed="rId3"/>
          <a:stretch/>
        </p:blipFill>
        <p:spPr>
          <a:xfrm>
            <a:off x="-12600" y="46782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mení kanců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20720" indent="-2772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živa plemenných kanců rozhod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08440" indent="-2214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jejich plodnost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08440" indent="-2214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lavní aktivitě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08440" indent="-2214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jejich produkčním věk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0720" indent="-2772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tvorbu semene má mimořádný význam plnohodnotná bílkovinná výživ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0720" indent="-2772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soké nároky mají kanci i na minerální látky (Ca, P, K, Mn, Zn) a na vitaminy A, D a 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20720" indent="-2772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ná dávka pro kance se neobejde bez krmiv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08440" indent="-2214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živočišného původ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apř., 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ybí mouč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okostní mouč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ék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08440" indent="-2214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rostlinného původ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např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ves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rách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s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ladá zelená píce (především jetel a vojtěška)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ná řep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551960" indent="-2214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ná mrkev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kanců se také požívají KKS (KA – základní krmivo pro plemenné kance), které se podávají suché, popř. mírně zvlhčené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ávka KA se určuje pode stáří, kondice, intenzity využívání i podle způsobu ustájení kance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ůměru se pohybuje od 2,5 do 3,2 kg, vyšší dávky vyžadují zpravidla mladší jedinci a jedinci ustájení v lehkých boudách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mí se 2x denně, většinou ručně, protože výkonné mechanizační opatření se nevyplác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 dispozici musí být samozřejmě kvalitní napájecí voda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MENÍ KANCŮ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5" name="Picture 2" descr="http://svt.pi.gin.cz/vuztweb/doc/z_vyr/chov_prasat/pra_obr1.jpg"/>
          <p:cNvPicPr/>
          <p:nvPr/>
        </p:nvPicPr>
        <p:blipFill>
          <a:blip r:embed="rId1"/>
          <a:stretch/>
        </p:blipFill>
        <p:spPr>
          <a:xfrm>
            <a:off x="1763640" y="3497400"/>
            <a:ext cx="38782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ování a zacházení s kanci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šetřování zahrnuj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éči o kance samotnéh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éči o jeho prostředí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 je třeba především udržovat v čistot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é kartáčová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such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bavuje povrch těla nečistot a lupů, kůže lépe plní svoji funkci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čas omyt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měřeně teplou vodou (v létě studenou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x týdně použít mýdlo (dělá se v inseminačních stanicích)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ustavnou péči vyžadují spárky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ým pohybem zvířete dochází k dostatečnému a pravidelnému opotřebení rohoviny spárk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letních měsících kance při vysokých teplotách 1-2x denně sprchujeme studenou vodo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 pravidelným povinnostem ošetřovatele patří udržovaní čistoty a pořádku v kotcích a sledování zdravotního stavu zvířat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sledně dodržujeme hygienu a bezpečnost práce.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OVÁNÍ A ZACHÁZENÍ S KANCI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09:56:19Z</dcterms:modified>
  <cp:revision>257</cp:revision>
  <dc:subject/>
  <dc:title>Piglets template</dc:title>
</cp:coreProperties>
</file>