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9B3-EEBD-4EB2-9565-A6A45B01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303-3437-4B1F-B121-AAD1CE45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65B-81BE-4AF0-987C-2BC1D2AD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C62-760A-46BB-94E5-C31C7C86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987-D857-4004-B40C-EE49A85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6463-BBD6-48E3-9A91-DF57D92A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98EE-493D-433C-A877-D99AAC6C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BCB-05AA-4E98-A8C6-963C3FA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9B43-95FA-48EA-8481-ED839B96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7F04-7900-45C9-8897-CA7D274D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195-B966-44D2-8542-FE9615BE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4D2-0B9C-407B-8C51-10874256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78E1-0B3C-4687-9CB0-A966D02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852B-A9EB-4107-931C-9F060F2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65C2-9C9E-463D-AA7F-A4B2F70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8DF-764A-4C2F-AA01-53E24FB6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4C19-913F-45F1-8467-09F72EE8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4C10-9C0B-42A5-9715-A9B4B71A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B7A-7A7C-469A-9EBB-D13C646B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430-3DA0-4D15-B479-337510A7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53A-C85E-4B54-A96A-D4FDA59E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6F5-5EBA-4822-9F11-67EF3F9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850-7F87-4CFC-BA27-B80BB27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623-19B0-4CA8-8CAF-B6F3527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FC37-1FD7-4F92-BF60-9DD481BC3B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85CC-F98C-4E29-A811-3DD24B323D6E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sz.zf.jcu.cz/studium.../Chov%20prasat/.../vyznam-chovu-prasat" TargetMode="External"/><Relationship Id="rId2" Type="http://schemas.openxmlformats.org/officeDocument/2006/relationships/hyperlink" Target="http://www.ksz.af.czu.cz/predmety/chovprasat2ks/projektvzor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2676240"/>
            <a:ext cx="868032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ZPENĚŽOVÁNÍ JATEČNÝCH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6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023840"/>
            <a:ext cx="82296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kol o klasifikaci vystavuje klasifikátor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kol se zpracovává pro celou partii prasat od jednoho dodavatele dodanou v jednom dn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átor uschovává protokol nejméně 6 měsíců od data jeho vystav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pii dostává dodavatel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tokol obsahuj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obní číslo klasifikátor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asifikační metod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klasifik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daje o dodavatel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resu jate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řadová čísla jatečných prasat, která přidělují jatky v rámci eviden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řídu jakos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íl svaloviny (zmasilosti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loušťku sádla včetně kůže v m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loušťku svalu v m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 jatečně upraveného těla (JUT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počtenou porážkovou hmotno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120320"/>
            <a:ext cx="822960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prasata zpeněžujem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živém stavu podl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ní (čisté) hmotnos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yslově hodnocené zmasilos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mase podl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i jatečných půle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68160" indent="-22392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linii půlícího řezu zjišťované výšky tu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aparativní metod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tody odhadu jatečné hodnoty na živém zvířeti jsou nepřesné, zdlouhavé a pracn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řesný je také odhad podle výšky tuku zjišťované v linii půlícího řezu jatečné půl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jpřesnější a nejobjektivnějš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etoda apara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dvě varian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voubodová metod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měříme ve dvou určených bodech pomocí posuvného měřítka (jen pro malé jatečné provoz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terární metod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stupní údaje zjišťujeme  ve stanovených bodech vpichovací sond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2" name="Obrázek 4" descr=""/>
          <p:cNvPicPr/>
          <p:nvPr/>
        </p:nvPicPr>
        <p:blipFill>
          <a:blip r:embed="rId1"/>
          <a:stretch/>
        </p:blipFill>
        <p:spPr>
          <a:xfrm>
            <a:off x="0" y="1023840"/>
            <a:ext cx="3905280" cy="4511880"/>
          </a:xfrm>
          <a:prstGeom prst="rect">
            <a:avLst/>
          </a:prstGeom>
          <a:ln w="0">
            <a:noFill/>
          </a:ln>
        </p:spPr>
      </p:pic>
      <p:pic>
        <p:nvPicPr>
          <p:cNvPr id="153" name="Obrázek 5" descr=""/>
          <p:cNvPicPr/>
          <p:nvPr/>
        </p:nvPicPr>
        <p:blipFill>
          <a:blip r:embed="rId2"/>
          <a:stretch/>
        </p:blipFill>
        <p:spPr>
          <a:xfrm>
            <a:off x="4025880" y="1554120"/>
            <a:ext cx="4559400" cy="443700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6"/>
          <p:cNvSpPr/>
          <p:nvPr/>
        </p:nvSpPr>
        <p:spPr>
          <a:xfrm>
            <a:off x="3770280" y="1023840"/>
            <a:ext cx="43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ěření zmasilosti různými typy přístroj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5" name="TextovéPole 7"/>
          <p:cNvSpPr/>
          <p:nvPr/>
        </p:nvSpPr>
        <p:spPr>
          <a:xfrm>
            <a:off x="1022400" y="5535720"/>
            <a:ext cx="14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GP přístroj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6" name="TextovéPole 8"/>
          <p:cNvSpPr/>
          <p:nvPr/>
        </p:nvSpPr>
        <p:spPr>
          <a:xfrm>
            <a:off x="4414680" y="6066000"/>
            <a:ext cx="14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OM přístroj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8" name="Obrázek 4" descr=""/>
          <p:cNvPicPr/>
          <p:nvPr/>
        </p:nvPicPr>
        <p:blipFill>
          <a:blip r:embed="rId1"/>
          <a:stretch/>
        </p:blipFill>
        <p:spPr>
          <a:xfrm>
            <a:off x="0" y="1023840"/>
            <a:ext cx="9172440" cy="3084480"/>
          </a:xfrm>
          <a:prstGeom prst="rect">
            <a:avLst/>
          </a:prstGeom>
          <a:ln w="0">
            <a:noFill/>
          </a:ln>
        </p:spPr>
      </p:pic>
      <p:sp>
        <p:nvSpPr>
          <p:cNvPr id="159" name="TextovéPole 5"/>
          <p:cNvSpPr/>
          <p:nvPr/>
        </p:nvSpPr>
        <p:spPr>
          <a:xfrm>
            <a:off x="5827680" y="4108320"/>
            <a:ext cx="294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ěření přístrojem Auto FO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60" name="Obrázek 6" descr=""/>
          <p:cNvPicPr/>
          <p:nvPr/>
        </p:nvPicPr>
        <p:blipFill>
          <a:blip r:embed="rId2"/>
          <a:stretch/>
        </p:blipFill>
        <p:spPr>
          <a:xfrm>
            <a:off x="0" y="4097160"/>
            <a:ext cx="4886280" cy="276084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7"/>
          <p:cNvSpPr/>
          <p:nvPr/>
        </p:nvSpPr>
        <p:spPr>
          <a:xfrm>
            <a:off x="4886280" y="4757760"/>
            <a:ext cx="294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čítačová tomografi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zf.jcu.cz/studium.../Chov%20prasat/.../vyznam-chovu-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www.ksz.af.czu.cz/predmety/chovprasat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prasat//uzitkove-vlastnosti-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Prasata/Původ_a_20rozdělení_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peněžování jatečných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6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12. 2013 KF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prava jatečných prasat na prodej, hodnocení jatečných prasat, zpeněžování jatečných prasat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46832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PRAVA JATEČNÝCH PRASAT NA PRODEJ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23480"/>
            <a:ext cx="8318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prava jatečných prasat na prodej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pravu nepodceňovat – zhodnotí se ekonomicky v biologické a hygienické hodnotě masa a masných výrob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ožadavky na jatečná prasat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usí být zdrav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nemocná nebo z nemoci podezřelá prasata se poráží jak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UTNÁ PORÁŽK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vláštní hygienické opatře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usí být čistá, s nepoškozenou kůží, řádně ošetřovaná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iditelná zranění (i zhojená) mohou být důvodem ke konfiskaci částí těla nebo i celého zvířet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smí být před porážkou krmena krmivy zhoršujícími kvalitu masa a tuk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anci se prodávají odděleně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maso většinou nepříjemně páchne (zkouška varem) po moči a pot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Jatečná prasata se prodávají v nákupní lačnost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12 hod. před prodejem nekrmíme (ekonomicky nevýhodné – znehodnocení krmiva, zdravotní problémy při transportu zvířat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7920" indent="-280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kládání, vykládání a přeprava zvířat musí být šetrná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řeplňovat dopravní prostřed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mezit možnost vzájemného napadání zvíř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ětr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19960" indent="-22392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pravovat zvířata rán nebo večer – nižší teplot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480"/>
            <a:ext cx="82231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cení jateč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984 zavedení jednotného klasifikačního schématu v zemích Evropské uni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notí se zmasilost jatečných těl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tečná prasata se zařazují do tříd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EUROP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EUROP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vinnost objektivní klasifikace v ČR podle zákona č. 306/2000 Sb. od 1. 4. 2001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ní přínos tohoto systému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ktivní posouzení jatečné hodnoty zvířat – stanovení odpovídající obchodní tříd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ění klasifikace nezávislým klasifikátorem – pracovník jatek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kamžitá informace o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motnostech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ílech svalovin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řídách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ách pro prodávajícího i kupujícíh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yšování kvality jatečných zvíř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důvěry mezi prodávajícím a kupující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0234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BJEKTIVNÍ KLASIFIKACE – APARATIVNÍ METOD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ktivně zjištěné podíly svaloviny slouží k zařazení jatečných půlek do předepsaných obchodních tříd SEUROP systém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7" name="Obrázek 1" descr=""/>
          <p:cNvPicPr/>
          <p:nvPr/>
        </p:nvPicPr>
        <p:blipFill>
          <a:blip r:embed="rId1"/>
          <a:stretch/>
        </p:blipFill>
        <p:spPr>
          <a:xfrm>
            <a:off x="457200" y="2109960"/>
            <a:ext cx="6456240" cy="1852560"/>
          </a:xfrm>
          <a:prstGeom prst="rect">
            <a:avLst/>
          </a:prstGeom>
          <a:ln w="0">
            <a:noFill/>
          </a:ln>
        </p:spPr>
      </p:pic>
      <p:sp>
        <p:nvSpPr>
          <p:cNvPr id="138" name="TextovéPole 4"/>
          <p:cNvSpPr/>
          <p:nvPr/>
        </p:nvSpPr>
        <p:spPr>
          <a:xfrm>
            <a:off x="5759280" y="4124160"/>
            <a:ext cx="29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lektronické měřítko IS-D-03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ídy v systému SEUROP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397160"/>
          <a:ext cx="8364600" cy="3170160"/>
        </p:xfrm>
        <a:graphic>
          <a:graphicData uri="http://schemas.openxmlformats.org/drawingml/2006/table">
            <a:tbl>
              <a:tblPr/>
              <a:tblGrid>
                <a:gridCol w="3075120"/>
                <a:gridCol w="1108080"/>
                <a:gridCol w="4181400"/>
              </a:tblGrid>
              <a:tr h="36612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chodní třída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žadavky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792360"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I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á prasata s hmotností jatečně upraveného těla 60 kg a více, avšak méně než 120 kg.</a:t>
                      </a:r>
                      <a:endParaRPr b="0" lang="en-US" sz="15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ifikace dle podílu svaloviny.</a:t>
                      </a:r>
                      <a:endParaRPr b="0" lang="en-US" sz="15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a více kg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– 59,9 kg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54,9 kg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– 49,9 kg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44,9 kg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ně než 40 kg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7200" y="4545000"/>
          <a:ext cx="8367840" cy="2306520"/>
        </p:xfrm>
        <a:graphic>
          <a:graphicData uri="http://schemas.openxmlformats.org/drawingml/2006/table">
            <a:tbl>
              <a:tblPr/>
              <a:tblGrid>
                <a:gridCol w="3103560"/>
                <a:gridCol w="5264280"/>
              </a:tblGrid>
              <a:tr h="581040"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 prasata</a:t>
                      </a:r>
                      <a:endParaRPr b="0" lang="en-US" sz="15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8e5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ě upravená těla prasat do 59,9 kg včetně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45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ě upravená těla prasat nad 120kg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44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ě upravená těla zmasilých prasnic a řezanců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345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ě upravená těla hubených prasnic a řezanců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344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tečně upravená těla kanců.</a:t>
                      </a:r>
                      <a:endParaRPr b="0" lang="en-US" sz="16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rázek 3" descr=""/>
          <p:cNvPicPr/>
          <p:nvPr/>
        </p:nvPicPr>
        <p:blipFill>
          <a:blip r:embed="rId1"/>
          <a:stretch/>
        </p:blipFill>
        <p:spPr>
          <a:xfrm>
            <a:off x="0" y="1023840"/>
            <a:ext cx="9153360" cy="583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CE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sady zpeněžování jatečných prasat vychází z prováděcí vyhlášky ministerstva zemědělství č. 194/2004 „O způsobu provádění klasifikace JUT zvířat“ a spočívají v důsledném dodržová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evzetí prasat na jatká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á byla ustájena odděleně v ucelených partiích, aby byla zjistitelná jejich identita až do ukončení porážky, veterinární prohlídky a zařazení do obchodních tříd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značení zvířa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é musí souhlasit s průvodními doklad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odávek lačných zvířa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jatky, což znamená, že posledních 12 hodin před dodávkou nejsou krmen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ákupu prasa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á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 pohledu veterinárních předpis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smí být krmena krmivem a různými přísadami a doplňky s nežádoucími účinky na jakost masa, tuku a ostatních jatečných produkt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značování zařazených jatečně upravených těl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JUT) dle zdravotní nezávadnosti, a to nesmyvatelnou a nerozmazatelnou barvou na kůži kýty nebo zadní nožičky každé půlky praset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ísmenem příslušné třídy jakosti (minimálně 20 mm a zřetelně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centuálním zastoupením svalovin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ENĚŽOVÁNÍ JATEČ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cp:lastPrinted>2013-12-06T06:36:32Z</cp:lastPrinted>
  <dcterms:modified xsi:type="dcterms:W3CDTF">2014-02-26T12:22:06Z</dcterms:modified>
  <cp:revision>262</cp:revision>
  <dc:subject/>
  <dc:title>Piglets template</dc:title>
</cp:coreProperties>
</file>