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A7D4-040B-4175-8525-27CB3061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D0A2-8574-428E-9915-931567AE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1B78-EFD5-4967-857E-310FF56C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6A2E-FE69-483A-9B5A-46AB7A7B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45B1-E132-46C0-BB77-613EC859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4D6B-F8A1-4854-8990-02FA0BAA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086E-01CF-4D2F-89B5-47E21FB6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5063-A7FC-4C99-8708-F677EC10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6003-69EF-4337-85B6-5B6814A0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020C-61C4-42A6-9A9D-E582D898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8B8B-E09F-4C16-A3E9-109CD240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5AAD-2E5D-4C9A-B1F2-7D1EC5A8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15CF-49DC-40C7-BB37-5E6B5E81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D27E-B06E-4143-8D1C-7271F5A6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5216-3646-4752-81E3-263B3827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F0F6-77C8-4F3A-B8A5-F6B93DFD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8C36-E598-4E6C-AE78-CD1374F5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9048-8FCE-42C7-A02D-07C65F69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BC44-CE96-43BC-9245-32F95583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03EE-13DB-4DED-846F-A992E7E7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EC59-6E2E-41C1-A102-2C1621E5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B9A3-AF14-484A-8853-8C412FC3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7171-5A3D-478C-9BF9-55982A37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B68D-8C8B-4FE1-886C-087D4C17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IMG_3005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8EF5-26A2-4F75-BF1E-E553B9F4B2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IMG_300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1"/>
          <p:cNvSpPr/>
          <p:nvPr/>
        </p:nvSpPr>
        <p:spPr>
          <a:xfrm>
            <a:off x="0" y="4568760"/>
            <a:ext cx="9144000" cy="1892520"/>
          </a:xfrm>
          <a:prstGeom prst="rect">
            <a:avLst/>
          </a:prstGeom>
          <a:solidFill>
            <a:srgbClr val="8c7b7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23e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6D12-738E-4723-97B6-8B1CFFD37FB5}" type="slidenum">
              <a:rPr b="0" lang="en-GB" sz="1400" spc="-1" strike="noStrike">
                <a:solidFill>
                  <a:srgbClr val="523e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ksz.zf.jcu.cz/studium.../Chov%20prasat/.../vyznam-chovu-prasat" TargetMode="External"/><Relationship Id="rId2" Type="http://schemas.openxmlformats.org/officeDocument/2006/relationships/hyperlink" Target="http://www.ksz.zf.jcu.cz/studium.../Chov%20prasat/.../vyznam-chovu-prasat" TargetMode="External"/><Relationship Id="rId3" Type="http://schemas.openxmlformats.org/officeDocument/2006/relationships/hyperlink" Target="http://www.ksz.zf.jcu.cz/studium.../Chov%20prasat/.../vyznam-chovu-prasat" TargetMode="External"/><Relationship Id="rId4" Type="http://schemas.openxmlformats.org/officeDocument/2006/relationships/hyperlink" Target="http://www.ksz.zf.jcu.cz/studium.../Chov%20prasat/.../vyznam-chovu-prasat" TargetMode="External"/><Relationship Id="rId5" Type="http://schemas.openxmlformats.org/officeDocument/2006/relationships/hyperlink" Target="http://www.ksz.zf.jcu.cz/studium.../Chov%20prasat/.../vyznam-chovu-prasat" TargetMode="External"/><Relationship Id="rId6" Type="http://schemas.openxmlformats.org/officeDocument/2006/relationships/hyperlink" Target="http://www.ksz.zf.jcu.cz/studium.../Chov%20prasat/.../vyznam-chovu-prasat" TargetMode="External"/><Relationship Id="rId7" Type="http://schemas.openxmlformats.org/officeDocument/2006/relationships/hyperlink" Target="http://www.ksz.zf.jcu.cz/studium.../Chov%20prasat/.../vyznam-chovu-prasat" TargetMode="External"/><Relationship Id="rId8" Type="http://schemas.openxmlformats.org/officeDocument/2006/relationships/hyperlink" Target="http://www.ksz.zf.jcu.cz/studium.../Chov%20prasat/.../vyznam-chovu-prasat" TargetMode="External"/><Relationship Id="rId9" Type="http://schemas.openxmlformats.org/officeDocument/2006/relationships/hyperlink" Target="http://www.ksz.zf.jcu.cz/studium.../Chov%20prasat/.../vyznam-chovu-prasat" TargetMode="External"/><Relationship Id="rId10" Type="http://schemas.openxmlformats.org/officeDocument/2006/relationships/hyperlink" Target="http://www.ksz.zf.jcu.cz/studium.../Chov%20prasat/.../vyznam-chovu-prasat" TargetMode="External"/><Relationship Id="rId11" Type="http://schemas.openxmlformats.org/officeDocument/2006/relationships/hyperlink" Target="http://www.ksz.af.czu.cz/predmety/chovprasat2ks/projektvzor.pdf" TargetMode="External"/><Relationship Id="rId12" Type="http://schemas.openxmlformats.org/officeDocument/2006/relationships/hyperlink" Target="http://www.ksz.af.czu.cz/predmety/chovprasat2ks/projektvzor.pdf" TargetMode="External"/><Relationship Id="rId13" Type="http://schemas.openxmlformats.org/officeDocument/2006/relationships/hyperlink" Target="http://www.ksz.af.czu.cz/predmety/chovprasat2ks/projektvzor.pdf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B_2jrH3Kbg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000" y="2676240"/>
            <a:ext cx="8680320" cy="27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ZPRACOVÁNÍ JATEČNÝCH PRASAT</a:t>
            </a:r>
            <a:endParaRPr b="0" lang="en-US" sz="60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24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125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_32_INOVACE_157_Chov_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6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tečné produkty a masné výrobky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lavním jatečným produktem je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maso – jatečná půlk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343080" indent="-34308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Výtěžnost u prasat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 hmotnosti 110-120 kg </a:t>
            </a: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se pohybuje kolem 80%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vnitřní orgány a krev zvyšují výtěžnost cca o 5%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82600" y="204840"/>
            <a:ext cx="8694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TEČNÉ PRODUKTY A MASNÉ VÝROBKY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50" name="Obrázek 4" descr=""/>
          <p:cNvPicPr/>
          <p:nvPr/>
        </p:nvPicPr>
        <p:blipFill>
          <a:blip r:embed="rId1"/>
          <a:stretch/>
        </p:blipFill>
        <p:spPr>
          <a:xfrm>
            <a:off x="457200" y="2173320"/>
            <a:ext cx="5827680" cy="4562280"/>
          </a:xfrm>
          <a:prstGeom prst="rect">
            <a:avLst/>
          </a:prstGeom>
          <a:ln w="0">
            <a:noFill/>
          </a:ln>
        </p:spPr>
      </p:pic>
      <p:sp>
        <p:nvSpPr>
          <p:cNvPr id="151" name="TextovéPole 1"/>
          <p:cNvSpPr/>
          <p:nvPr/>
        </p:nvSpPr>
        <p:spPr>
          <a:xfrm>
            <a:off x="6510240" y="3141720"/>
            <a:ext cx="1951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atečné půlky se bourají stanoveným způsobem.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alším jatečným produktem je vepřový tuk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přové sádlo se dělí n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řbet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st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řev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uponové – škrabky při čištění krupon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chnické – sádlo kanců, výřezy z uší, nesmí se používat pro potravinářské účel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dlejší jatečné produkty – krev, kůže, střeva, kosti, štětiny, žlázy s vnitřní sekrecí, mícha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so, sádlo, krev – suroviny pro masné výrobk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Masné výrobky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Druh bílkovinných potravin z různě upraveného (krájeného, mletého apod.), syrového nebo předvařeného masa s přísadou ochucujících látek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aktory ovlivňující kvalitu mas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enetické založe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olnost prasat ke stres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olnost k jakostním odchylkám masa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282600" y="204840"/>
            <a:ext cx="8694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TEČNÉ PRODUKTY A MASNÉ VÝROBKY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023480"/>
            <a:ext cx="8229600" cy="57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tramuskulární tuk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ízký obsah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ýt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řední obsah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cko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soký obsah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kovička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82600" y="204840"/>
            <a:ext cx="8694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TEČNÉ PRODUKTY A MASNÉ VÝROBKY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56" name="Obrázek 4" descr=""/>
          <p:cNvPicPr/>
          <p:nvPr/>
        </p:nvPicPr>
        <p:blipFill>
          <a:blip r:embed="rId1"/>
          <a:stretch/>
        </p:blipFill>
        <p:spPr>
          <a:xfrm>
            <a:off x="3098880" y="1131840"/>
            <a:ext cx="60451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živa a technika krmení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triční faktory, které působí na kvalitu masa a tuku, zahrnují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roveň výživ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nohodnotnost die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ravotně hygienické parametry krmiv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běr krmiv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chnologické úpravy krmiv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chniku a technologii krmen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stájení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usí splnit podmínky welfar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welfare se deﬁnuje jako stav naplnění všech materiálních a nemateriálních podmínek, které jsou předpokladem zdraví organismu, kdy je zvíře v souladu s jeho životním prostředím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prava a zacházení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nahánění nepoužívat elektrické biče a tyče, ale plné zábrany a rovné cest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užívat odpovídající dopravní prostředky s větráním, napájením,v létě s chlazením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rážk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lazen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282600" y="204840"/>
            <a:ext cx="8694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TEČNÉ PRODUKTY A MASNÉ VÝROBKY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6840" y="1023840"/>
            <a:ext cx="8304120" cy="55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kostní odchylky masa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tenzivní selekce prasat na maximální podíl libové svaloviny v jatečné půlce bývá provázena zvýšenou citlivostí zvířat ke stresu, což se projevuje výskytem vad masa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maso PS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pale - saft - exudative, bledý - měkký - vodnatý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maso DFD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dark - firm - dry, tmavý - tuhý - suchý)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de o maso nemocných zvířat, ale o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jakostní vadu masa, ke které dochází teprve po porážce zvířat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důsledku abnormálních biochemických změn masa, což je podmíněno již uvedenými faktory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S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- maso se vyznačuje vodnatou konzistencí, nízkou vazností vody, což je provázeno hmotnostními ztrátami při chladírenském ošetření a technologickém opracování masa (</a:t>
            </a: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u prasat s PSE masem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ůstává kyselina mléčná ve svalových buňkách, </a:t>
            </a: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pH je proto za 45 minut po porážce nízké – 5,8 a méně</a:t>
            </a:r>
            <a:r>
              <a:rPr b="0" lang="cs-CZ" sz="1600" spc="-1" strike="noStrike">
                <a:solidFill>
                  <a:srgbClr val="00117e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282600" y="204840"/>
            <a:ext cx="8694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TEČNÉ PRODUKTY A MASNÉ VÝROBKY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133640"/>
            <a:ext cx="835992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DFD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- maso má tmavou barvu, tuhou konzistenci, je suché, tj. neuvolňuje šťávu, má často lepivý povrch. I když se toto maso vyznačuje dobrou vazností vody, jeho skladovatelnost je velmi nízká, protože rychle podléhá mikrobiálnímu rozkladu </a:t>
            </a:r>
            <a:r>
              <a:rPr b="0" lang="cs-CZ" sz="1600" spc="-1" strike="noStrike">
                <a:solidFill>
                  <a:srgbClr val="0011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u prasat s DFD masem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chází kyselina mléčná ještě bezprostředně před porážkou ze svalových buněk do krve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takže hodnota pH je vysoká – 6,2 a více</a:t>
            </a:r>
            <a:r>
              <a:rPr b="0" lang="cs-CZ" sz="1600" spc="-1" strike="noStrike">
                <a:solidFill>
                  <a:srgbClr val="00117e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82600" y="204840"/>
            <a:ext cx="8694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TEČNÉ PRODUKTY A MASNÉ VÝROBKY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63" name="Obrázek 1" descr=""/>
          <p:cNvPicPr/>
          <p:nvPr/>
        </p:nvPicPr>
        <p:blipFill>
          <a:blip r:embed="rId1"/>
          <a:stretch/>
        </p:blipFill>
        <p:spPr>
          <a:xfrm>
            <a:off x="1565280" y="2705040"/>
            <a:ext cx="63817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457200" y="1023840"/>
          <a:ext cx="8229600" cy="568656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355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stnosti senzorické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5c5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E maso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5c5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D maso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5c54"/>
                    </a:solidFill>
                  </a:tcPr>
                </a:tc>
              </a:tr>
              <a:tr h="355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va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ětlá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avší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</a:tr>
              <a:tr h="355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zistence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ěkčí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vnější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</a:tr>
              <a:tr h="355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ťavnatost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šší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hčí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</a:tr>
              <a:tr h="354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řehkost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žší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lepšená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</a:tr>
              <a:tr h="355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ůně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chylná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chylná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</a:tr>
              <a:tr h="355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ť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chylná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chylná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</a:tr>
              <a:tr h="355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stnosti hygienické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95c5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E maso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95c5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D maso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95c54"/>
                    </a:solidFill>
                  </a:tcPr>
                </a:tc>
              </a:tr>
              <a:tr h="355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ah choroboplodných zárodků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žší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šší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</a:tr>
              <a:tr h="355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vanlivost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ší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ší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</a:tr>
              <a:tr h="355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stnosti technologické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95c5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E maso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95c5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D maso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95c54"/>
                    </a:solidFill>
                  </a:tcPr>
                </a:tc>
              </a:tr>
              <a:tr h="355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pnost vázat sůl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ená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ížená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</a:tr>
              <a:tr h="354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pnost vázat vodu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šší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šší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</a:tr>
              <a:tr h="355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hovatelnost svalové bílkoviny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ížená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lepšená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</a:tr>
              <a:tr h="355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ulgační kapacita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ší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ená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</a:tr>
              <a:tr h="355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orba a zachování barvy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menšená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změněná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</a:tr>
            </a:tbl>
          </a:graphicData>
        </a:graphic>
      </p:graphicFrame>
      <p:sp>
        <p:nvSpPr>
          <p:cNvPr id="165" name="Rectangle 2"/>
          <p:cNvSpPr/>
          <p:nvPr/>
        </p:nvSpPr>
        <p:spPr>
          <a:xfrm>
            <a:off x="282600" y="204840"/>
            <a:ext cx="8694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TEČNÉ PRODUKTY A MASNÉ VÝROBKY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57200" y="1023840"/>
          <a:ext cx="8229600" cy="5227560"/>
        </p:xfrm>
        <a:graphic>
          <a:graphicData uri="http://schemas.openxmlformats.org/drawingml/2006/table">
            <a:tbl>
              <a:tblPr/>
              <a:tblGrid>
                <a:gridCol w="2955960"/>
                <a:gridCol w="527364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upinové označení </a:t>
                      </a: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ných výrobků</a:t>
                      </a: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5c5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íklady</a:t>
                      </a: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ných výrobků</a:t>
                      </a: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5c54"/>
                    </a:solidFill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bné masné výrobky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řty, špekáčky, moravské klobásy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</a:tr>
              <a:tr h="57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ěkké salámy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něnský salám, kabanos, plzeňský salám, šunkový salám,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</a:tr>
              <a:tr h="578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vanlivé masné výrobky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yčejný suchý salám, turistický salám trvanlivý, trvanlivý salám „Vysočina“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</a:tr>
              <a:tr h="57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ální masné výrobky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kánská pečeně, anglická slanina, moravská domácí šunka, debrecínská pečeně, domácí roláda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</a:tr>
              <a:tr h="578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řené masné výrobky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ácí jaternice, domácí kroupová jelítka, tlačenka, paštika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čené masné výrobky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ácí sekaná pečeně, jemná sekaná pečeně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</a:tr>
              <a:tr h="578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ená masa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unka bez kosti, uzená vepřová hlava, uzený vepřový jazyk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</a:tr>
              <a:tr h="370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atní masné výrobky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ílé klobásy, vinné klobásy, klobásy k zapékání do těsta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</a:tr>
              <a:tr h="578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né výrobky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spenina, polévky – jaternicová, bouřka, gulášová, dršťková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2"/>
          <p:cNvSpPr/>
          <p:nvPr/>
        </p:nvSpPr>
        <p:spPr>
          <a:xfrm>
            <a:off x="282600" y="204840"/>
            <a:ext cx="8694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TEČNÉ PRODUKTY A MASNÉ VÝROBKY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1196640"/>
            <a:ext cx="8229600" cy="55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trola jakosti masa a masných výrobků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poražení prohlídka masa, vnitřností i těžených surovin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myslové hodnoce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aboratorní hodnocen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hlídku masa uzavírá veterinář rozhodnutím, že maso je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živatelné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míněně poživatelné – stanoví se podmínky poživatelnosti (vaření po určitou dobu, uložení do solného roztoku o stanové koncentraci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poživatelné – je konfiskováno a zpracovává se ve veterinárních asanačních ústavech pro krmné účel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výrobě masných produktů – třístupňová kontrola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stupní – suroviny a materiál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zioperační – kontrola technologických postupů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stupní – hotové výrobk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kontrolách se podílejí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terinární služb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ygienická služb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rgány inspekce jakosti potravinářských výrobků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282600" y="204840"/>
            <a:ext cx="8694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NTROLA JAKOSTI MASA 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 MASNÝCH VÝROBKŮ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1332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MIŠKOVSKÝ, DOC. ING. C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,Zdeněk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hov zvířat 2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REDIT –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avatelství agentura, 1995. 249 s. ISBN 80-901645-4-4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AMBRAUS, Hans Hinrich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Atlas plemen hospodářských zvířat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Nakladatelství Brázda, s.r.o., 2006. 296 s. ISBN 80-209-0344-5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95. 236s. ISBN 80-7105-092-X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96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8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-7105-019-9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RBAN, J., ŠARAPATKA, B., a kol. Ekologické zemědělství: učebnice pro školy i praxi - I. díl. Vydání první. Praha: MŽP a Svaz PRO-BIO, 2003, 280 s. ISBN 80-7212-274-6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ARAPATKA, B., URBAN, J., a kol. Ekologické zemědělství: učebnice pro školy i praxi - II. díl. Vydání první Šumperk: Svaz PRO-BIO, 2005, 334 s. ISBN 80-903583-0-9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BURDA, František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výrob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y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 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živočišné výrobky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Vydání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vn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tátní zemědělské nakladatelstv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, 1995. 236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07-000-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LOUDA, Prof., Ing., DrSc.,František; JEŽKOVÁ, Ing., CSc., Alena; STÁDNÍK, Doc., Ing., Ph.D., Luděk; BERAN, Ing., Jan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Inseminace prasat.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Multimediální učební pomůcka pro výuku „Reprodukce hospodářských zvířat II“. FOND ROZVOJE VYSOKÝCH ŠKOL č. projektu 2652/2010, © Katedra speciální zootechniky, FAPPZ, ČZU v Praze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UPKA, CSC., Doc. Ing. Roman, Doc. Ing. Michal ŠPRYSL, CSC. a Ing. Jaroslav ČÍTEK, PH.D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áklady chovu 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Vydání první. Praha: PowerPrint, 2009. ISBN 978-80-904011-2-9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1"/>
              </a:rPr>
              <a:t>www.ksz.zf.jcu.cz/studium.../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2"/>
              </a:rPr>
              <a:t>Chov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3"/>
              </a:rPr>
              <a:t>%20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4"/>
              </a:rPr>
              <a:t>prasat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5"/>
              </a:rPr>
              <a:t>/.../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6"/>
              </a:rPr>
              <a:t>vyznam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7"/>
              </a:rPr>
              <a:t>-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8"/>
              </a:rPr>
              <a:t>chovu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9"/>
              </a:rPr>
              <a:t>-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10"/>
              </a:rPr>
              <a:t>prasa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11"/>
              </a:rPr>
              <a:t>www.ksz.af.czu.cz/predmety/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12"/>
              </a:rPr>
              <a:t>chovprasat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13"/>
              </a:rPr>
              <a:t>2ks/projektvzor.pdf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receptynamaso.cz/tag/bok-s-kosti 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523e2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lbertus Medium"/>
              </a:rPr>
              <a:t>http://www.svobodazvirat.cz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ksz.af.czu.cz/plemenaprasat/domestikace1.htm 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ksz.zf.jcu.cz/studium/Chov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//uzitkove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vlastnosti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znamky.szesro.cz/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a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/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ůvod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_a_20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rozdělení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_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leme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szs-bnl.wz.cz/download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523e26"/>
                </a:solidFill>
                <a:uFillTx/>
                <a:latin typeface="Arial"/>
              </a:rPr>
              <a:t>www.nedap.com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 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57200" y="1371600"/>
          <a:ext cx="8229600" cy="509760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pracování jatečných 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Y_32_INOVACE_157_Chov_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řet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12.2013 KF 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ážka jatečných prasat, ošetřování masa na jatkách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tečné produkty a masné výrobky, kontrola jakosti masa a masných výrobků. 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8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znamový list výukového materiálu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5120" y="4468320"/>
            <a:ext cx="7772400" cy="15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ZPRACOVÁNÍ JATEČNÝCH PRAS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0" name="TextovéPole 5"/>
          <p:cNvSpPr/>
          <p:nvPr/>
        </p:nvSpPr>
        <p:spPr>
          <a:xfrm>
            <a:off x="5710320" y="59990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RÁŽKA JATEČNÝCH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023480"/>
            <a:ext cx="831852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rážka jatečných 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sledná hodnota masa a masných výrobků závisí na úrovni zemědělské prvovýroby a zpracovatel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ířata odeslaná na jatky musí vyšetřit veterinární lékař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terinář na jatkách dozoruje také příjem, ošetřování a ustájen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tečná zvířata se před porážkou nechají odpočinout a dokonale se očist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rážka začíná omráčením zvířat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íře zbavíme citlivosti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usí být zachována činnost nervových center ovládajících funkci srdce, cév a dýchán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sata omračujeme elektrickým proudem pomocí omračovacích kleští (někdy CO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nebo N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 – rajský plyn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omráčení zvířete musí dojít do 20-30 sekund k vykrvení (proříznutí krkavice – krční tepny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vykrvení následuj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nější opracování – odstranění pokožky a štětin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častěji paříme, teplota vody 60-70 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ba působení horké vody 3-7 minu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6840" y="979560"/>
            <a:ext cx="8520120" cy="57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pařenou pokožku a štětiny mechanicky seškrabujeme v odštětinovacích strojích nebo ručně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vnějším opracování následuje tzv.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vykolení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rozumíme tím otevření tělních dutin a vyjmutí všech vnitřních orgánů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kolení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musí proběhnout do 30 minut od vykrvení zvířet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jinak dojde k aktivaci činnosti mikroorganismů, které se mohou rozšířit po celém těle a jatečný produkt zcela znehodnoti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áze vykolení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hlavní orgány, močový měchýř, část močové trubice a střevní komplet žaludek a slezina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zv. kořínek – játra, plíce včetně průdušnice, srdce, jazyk a jícen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konec se vyjmou ledviny a uvolní se plstní tuk (orgánový, vnitřní tuk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RÁŽKA JATEČNÝCH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35" name="Picture 2" descr="[DOCISTENI]"/>
          <p:cNvPicPr/>
          <p:nvPr/>
        </p:nvPicPr>
        <p:blipFill>
          <a:blip r:embed="rId1"/>
          <a:stretch/>
        </p:blipFill>
        <p:spPr>
          <a:xfrm>
            <a:off x="4194000" y="979560"/>
            <a:ext cx="3108600" cy="2330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www.pentas.cz/editor/filestore/Image/porazky/a.jpg"/>
          <p:cNvPicPr/>
          <p:nvPr/>
        </p:nvPicPr>
        <p:blipFill>
          <a:blip r:embed="rId2"/>
          <a:stretch/>
        </p:blipFill>
        <p:spPr>
          <a:xfrm>
            <a:off x="1738440" y="1023840"/>
            <a:ext cx="215712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6840" y="1023840"/>
            <a:ext cx="852012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sledním úkonem jatečného opracování j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ůle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ečná úprava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ůlí se ručně nebo ručně vedenou motorovou pilo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ečná úprav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jmutí plstního tuk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čištění místa vpich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stranění krvavých část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jmutí míchy a zbytků tělesných orgánů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sprchováním půlek prudkým proudem studené vody je jatečné opracování prasete skončeno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RÁŽKA JATEČNÝCH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39" name="Obrázek 4" descr=""/>
          <p:cNvPicPr/>
          <p:nvPr/>
        </p:nvPicPr>
        <p:blipFill>
          <a:blip r:embed="rId1"/>
          <a:stretch/>
        </p:blipFill>
        <p:spPr>
          <a:xfrm>
            <a:off x="760320" y="4227480"/>
            <a:ext cx="792180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Obrázek 1" descr=""/>
          <p:cNvPicPr/>
          <p:nvPr/>
        </p:nvPicPr>
        <p:blipFill>
          <a:blip r:embed="rId1"/>
          <a:stretch/>
        </p:blipFill>
        <p:spPr>
          <a:xfrm>
            <a:off x="139680" y="1008000"/>
            <a:ext cx="8947080" cy="2906640"/>
          </a:xfrm>
          <a:prstGeom prst="rect">
            <a:avLst/>
          </a:prstGeom>
          <a:ln w="0">
            <a:noFill/>
          </a:ln>
        </p:spPr>
      </p:pic>
      <p:pic>
        <p:nvPicPr>
          <p:cNvPr id="141" name="Obrázek 2" descr=""/>
          <p:cNvPicPr/>
          <p:nvPr/>
        </p:nvPicPr>
        <p:blipFill>
          <a:blip r:embed="rId2"/>
          <a:stretch/>
        </p:blipFill>
        <p:spPr>
          <a:xfrm>
            <a:off x="139680" y="3914640"/>
            <a:ext cx="8947080" cy="28990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RÁŽKA JATEČNÝCH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60440" y="11520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b400"/>
                </a:solidFill>
                <a:uFillTx/>
                <a:latin typeface="Arial"/>
                <a:hlinkClick r:id="rId1"/>
              </a:rPr>
              <a:t>http://www.youtube.com/watch?v=JB_2jrH3Kbg</a:t>
            </a:r>
            <a:endParaRPr b="0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44" name="Obrázek 4" descr=""/>
          <p:cNvPicPr/>
          <p:nvPr/>
        </p:nvPicPr>
        <p:blipFill>
          <a:blip r:embed="rId2"/>
          <a:stretch/>
        </p:blipFill>
        <p:spPr>
          <a:xfrm>
            <a:off x="166680" y="1023840"/>
            <a:ext cx="8818560" cy="2853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RÁŽKA JATEČNÝCH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023840"/>
            <a:ext cx="823608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šetřování masa na jatkách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konci porážecí linky má maso teplotu 38-40 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, která je vhodná pro všechny rozkladné proces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kud není maso určeno ke zpracování v čerstvém stavu, musí se konzervova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častější je konzervace chladem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ladíme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rychle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o rychlém chlazení hovoříme tehdy, jestliže se v jatečně upraveném těle dosáhneme do 5 hod po porážce teploty kolem 0 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. Nesmí dojít k poklesu teploty pod -2 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ostupně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na porážkovou linku navazují odvěšovny, kde maso zůstává 11-12 hodin, potom se přemísťuje do chladícího box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vidlo 10 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 do 10 hodin platí výhradně pro jatečně upravená těla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nitřnosti konzervujeme odděleně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uchováváme je pouze krátkodobě – jejich kvalita a vzhled se rychle zhoršují (játra, slezina, mozek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282600" y="204840"/>
            <a:ext cx="86947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ŠETŘOVÁNÍ MASA NA JATKÁCH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21:45:52Z</dcterms:created>
  <dc:creator>Presentation Magazine</dc:creator>
  <dc:description/>
  <dc:language>en-US</dc:language>
  <cp:lastModifiedBy>Huk</cp:lastModifiedBy>
  <dcterms:modified xsi:type="dcterms:W3CDTF">2014-02-16T16:26:34Z</dcterms:modified>
  <cp:revision>268</cp:revision>
  <dc:subject/>
  <dc:title>Piglets template</dc:title>
</cp:coreProperties>
</file>