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BFA-8A4C-4C34-A84B-AC107E82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69F-BDDC-4B75-A9BE-A5BCFB1C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CCC-FD46-4DA3-B080-C07D8BFD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807-C07C-4B23-9AFB-B425A0BB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94B-27CF-45AC-AA4B-D23AE35A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850A-8CAE-4BCF-BEC9-D1DF092A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4F5F-7815-46DE-84B4-F1929A9D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5740-9E21-49B1-B16E-9973DCE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C42-8B1C-44E7-B679-54EBBD6D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C952-CB96-47FA-9F5D-A6DCE20C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22A-4D36-42FD-B7BA-7F1CE85B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AC6-313E-4BA6-9537-9C324096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B526-3140-48F1-A744-E0C5D8C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4A9C-2B36-4C2B-ADF7-591D8B5D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687-2EA3-4B46-8831-54CED7D1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9139-266E-46E4-B23E-2367F4CF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68E-4EE2-4DC8-AB41-D12FBF33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D393-0D9F-4384-999B-3C75E48D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16D-8216-4E3A-96B2-C442453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614-D78C-410C-9AE2-42917E5A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B67-CE58-415B-9466-2B43BBB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841-4019-4807-B610-17EC01F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EE7-20C2-40AF-B3C4-4C9438F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6C9-6BC7-49DB-AB07-65B367E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1A4-E65E-4D56-BA7E-EC073AB1DE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0AD-1643-41C4-A5C2-EE58AF098C8E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sz.af.czu.cz/predmety/chovprasat2ks/projektvzor.pdf" TargetMode="External"/><Relationship Id="rId2" Type="http://schemas.openxmlformats.org/officeDocument/2006/relationships/hyperlink" Target="http://www.ksz.af.czu.cz/predmety/chovprasat2ks/projektvzor.pdf" TargetMode="External"/><Relationship Id="rId3" Type="http://schemas.openxmlformats.org/officeDocument/2006/relationships/hyperlink" Target="http://www.ksz.af.czu.cz/predmety/chovprasat2ks/projektvzor.pdf" TargetMode="External"/><Relationship Id="rId4" Type="http://schemas.openxmlformats.org/officeDocument/2006/relationships/hyperlink" Target="http://www.receptynamaso.cz/tag/bok-s-kosti" TargetMode="External"/><Relationship Id="rId5" Type="http://schemas.openxmlformats.org/officeDocument/2006/relationships/hyperlink" Target="http://www.svobodazvirat.cz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2676240"/>
            <a:ext cx="868032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CHOROBY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60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d2015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82600" y="1023480"/>
            <a:ext cx="86947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Červenk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kyt nejvíce v letním obdob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ce      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akter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é žijí v půdě, u zdravých prasat na mandlích a ve střevech aniž škod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určitých stresových podmínek prasata onemoc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mocná zvířa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ově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odav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kubační doba 1 – 7 dnů, průměrně 3 – 4 d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ta zvýšen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přivkové skvrny, které tmavnou, splývají, úhyn za 3 – 4 dny nebo uzdravení nebo přechod do chronické form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even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kov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sinfekce 2% NaOH, 6% chloramin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7" name="Picture 4" descr="http://www.crnet.cz/kollar/admin/images/shop/1273345383.jpeg"/>
          <p:cNvPicPr/>
          <p:nvPr/>
        </p:nvPicPr>
        <p:blipFill>
          <a:blip r:embed="rId1"/>
          <a:stretch/>
        </p:blipFill>
        <p:spPr>
          <a:xfrm>
            <a:off x="6300720" y="277020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hřipk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fekční onemocnění postihující mladší kategorie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kytuje se v chovech s nízkou chovatelskou úrov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ůsobuje vysoké ztrá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iru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zniku se podíl stresové faktory, které snižují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rozenou obranyschopno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roje a šíř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mým styk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pénková infek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TextovéPole 1"/>
          <p:cNvSpPr/>
          <p:nvPr/>
        </p:nvSpPr>
        <p:spPr>
          <a:xfrm>
            <a:off x="282600" y="5006880"/>
            <a:ext cx="4765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roce 2009 se objevil zmutovaný virus chřipky prasat A/H1N1, který napadá i člověka. Tento virus se šíří z prasat na člověka, vyjímečně z člověka na člověka. Onemocnění způsobované tímto virem začalo být označováno jako „prasečí chřipka“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enos z tepelně upraveného vepřového masa na člověka není možný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1" name="Picture 5" descr="Soubor:H1N1 map.svg"/>
          <p:cNvPicPr/>
          <p:nvPr/>
        </p:nvPicPr>
        <p:blipFill>
          <a:blip r:embed="rId1"/>
          <a:stretch/>
        </p:blipFill>
        <p:spPr>
          <a:xfrm>
            <a:off x="4694400" y="4478400"/>
            <a:ext cx="4449600" cy="225720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5"/>
          <p:cNvSpPr/>
          <p:nvPr/>
        </p:nvSpPr>
        <p:spPr>
          <a:xfrm>
            <a:off x="5541840" y="3346560"/>
            <a:ext cx="349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šíření prasečí chřipky     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y s potvrzenými smrtelnými případy     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y s potvrzenou infekcí prasečí chřipky     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áty s podezřením na infekci prasečí chřipky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Obdélník 4"/>
          <p:cNvSpPr/>
          <p:nvPr/>
        </p:nvSpPr>
        <p:spPr>
          <a:xfrm>
            <a:off x="6097680" y="4311720"/>
            <a:ext cx="155520" cy="160200"/>
          </a:xfrm>
          <a:prstGeom prst="rect">
            <a:avLst/>
          </a:prstGeom>
          <a:solidFill>
            <a:srgbClr val="2d2015"/>
          </a:solidFill>
          <a:ln w="9360">
            <a:solidFill>
              <a:srgbClr val="89786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4" name="Obdélník 7"/>
          <p:cNvSpPr/>
          <p:nvPr/>
        </p:nvSpPr>
        <p:spPr>
          <a:xfrm>
            <a:off x="5875200" y="4311720"/>
            <a:ext cx="155880" cy="160200"/>
          </a:xfrm>
          <a:prstGeom prst="rect">
            <a:avLst/>
          </a:prstGeom>
          <a:solidFill>
            <a:srgbClr val="d94719"/>
          </a:solidFill>
          <a:ln w="9360">
            <a:solidFill>
              <a:srgbClr val="89786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5" name="Obdélník 8"/>
          <p:cNvSpPr/>
          <p:nvPr/>
        </p:nvSpPr>
        <p:spPr>
          <a:xfrm>
            <a:off x="5651640" y="4311720"/>
            <a:ext cx="155520" cy="160200"/>
          </a:xfrm>
          <a:prstGeom prst="rect">
            <a:avLst/>
          </a:prstGeom>
          <a:solidFill>
            <a:srgbClr val="ffc000"/>
          </a:solidFill>
          <a:ln w="9360">
            <a:solidFill>
              <a:srgbClr val="89786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82600" y="1023840"/>
            <a:ext cx="869472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ta 40 – 40,5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, nesají, zalézají do slám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enohnisavý výtok z nosu a oč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šel, zrychlené a namáhavé dých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, která přežijí – zakrslost, průj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rší prasat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běh mírnější, ale zůstávají vironosič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rtvá selata, nevyrovnané vrh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šel, poruchy plodnost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zdravování chov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02384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Mor prasat 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nás sporadický výsky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mi infekční onemocnění, projevující se poruchami v trávicím a dýchacím aparát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ůvod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togaviru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roje a šíř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mocná prasata a prasata v inkubační dob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ivo, stelivo, voda, člověk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akaž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ní spojivk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pénkovou infekc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kubační doba 3 – 4 d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plota 40 -42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něty spojivek, výtok z nosu, pokašláv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cpa nebo průjem s kr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zní uzliny zvětše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6 –8 dnů úhyn nebo přechod do chronického stadi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82600" y="1023840"/>
            <a:ext cx="869472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almonelóz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kyt u prasat do stáří 3 měsí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akter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kubační doba 4 – 6 dn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teplo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chutenst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j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ůže boltců modrofialov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nět žaludku a střev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ízní uzliny zvětšen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sinfek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6% chloramin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% NaOH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ípavka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eklé onemocnění charakterizované poruchou osifikace kostí rypáku a jeho deformac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akter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no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mý styk s nemocnými zvířa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ýchání, funění, výtok z nosu hlenový, hnisavý s kr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6 – 8 týdnu  deformace horní čelisti a obličejových kost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dospělých prasat bez klinických příznaků, ale vylučují zárod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rovádí s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lum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ematické vyřazování nemocných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 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af.czu.cz/predmety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chov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4"/>
              </a:rPr>
              <a:t>http://www.receptynamaso.cz/tag/bok-s-k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lbertus Medium"/>
                <a:hlinkClick r:id="rId5"/>
              </a:rPr>
              <a:t>http://www.svobodazvirat.cz</a:t>
            </a: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http://www.crnet.cz/kollar/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roby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60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1.2014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zitózy, neinfekční choroby, infekční choroby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46832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OROBY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900760" y="60339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Škrkavčito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jrozšířenější parazitální onemocnění 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Škrkavka praseč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oblý červ, 15 – 30 cm dlouhý. Vajíčka se dostávají trusem do vnějšího prostředí. K invazi dochází s krmivem a vodou. V tenkém střevě se z vajíček líhnou larvy. Ty pronikají přes stěnu střevní do jaterního krevního oběhu a krví jsou zanášeny do jater a plic. Průdušnicí se dostanou do hltanu, jsou polknuty a v tenkém střevě pohlavně dospívají. Sající selata se kontaminují znečištěnými struky. Nejvnímavější jsou selata do 4 měsí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linické 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silném napadení kašel, nechutenství, skřípání zubů, zaostávání v růst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ar střev, ucpání střev, perforace střev – úhy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vence - desinfekce 2% Na O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RAZITÓZ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3" name="Picture 5" descr="http://files.reiki-f-m.webnode.cz/200000425-db6c8dc66f/images.jpg"/>
          <p:cNvPicPr/>
          <p:nvPr/>
        </p:nvPicPr>
        <p:blipFill>
          <a:blip r:embed="rId1"/>
          <a:stretch/>
        </p:blipFill>
        <p:spPr>
          <a:xfrm>
            <a:off x="6168960" y="4834080"/>
            <a:ext cx="2975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15880" y="1023480"/>
            <a:ext cx="8229600" cy="57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vitaminóz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dostatek vitamínu  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dí se slepá selata, zrůdy (nevyvinuté oči, zkrácené končetiny, vývojové poruchy ledvin a plic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raty, nevyrovnané a málo početné vrh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y mrtvých a málo vitálních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selat průjmy, záněty dýchacích cest, kožní vyráž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rasnic nepravidelná říje, neplodno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vence - už u březích prasnic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dostatek vitamínu  B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něty kůž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uchy pohyb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omalený rů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ven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82600" y="1023840"/>
            <a:ext cx="86947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dostatek vitamínu 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rasnic slabé vrhy, rodí se malá selata se sníženou vitalito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ávčata, běhouni – nekoordinovaná chůze, slabost svalstva, průjem, kožní vyráž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ven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irhóza jater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ětšují se játra a nabývají tuhé konzistence, funkce jater se zhoršuj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či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ovaté rostli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kteriální jed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sticidy, herbicid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aziti (škrkavk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chutenství, malátnost, průjem, zácpa. 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rovádí s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8" name="Picture 2" descr="http://www.ordinace.cz/img/articles/16b9/16253.jpg"/>
          <p:cNvPicPr/>
          <p:nvPr/>
        </p:nvPicPr>
        <p:blipFill>
          <a:blip r:embed="rId1"/>
          <a:stretch/>
        </p:blipFill>
        <p:spPr>
          <a:xfrm>
            <a:off x="5597640" y="4859280"/>
            <a:ext cx="35463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hudokrevnost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ihuje selata ve stáří 3 – 6 týdn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mrtnost 10 – 15%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či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statek F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statek vitamínu A a B 12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ledost kůže a slizni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imomřivost, průjm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paráty F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taminy A+D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ven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řivi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kyt u mladých rostoucích selat,  v zimních a jarních měsící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či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statek Ca nebo P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statek vitaminu D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rmování vysokého množství bílkovi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řeč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vič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nulé přešlapov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záchvatu jsou selata jakoby zdravá, zpočátku jsou záchvaty krátkodobé a občasn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82600" y="1023840"/>
            <a:ext cx="869472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ánět žaludku a střev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čin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etní poruchy – krmivo studené, horké, nahnilé, plísnivé atd.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travy – otrava dusitany, dusičnany, solanin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fekční nemoci – doprovodný příznak při července a mor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á teplo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porné průjmy, dehydrat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chutenství, malátnost, zalézání do slám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rac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ůže bledá, sliznice bled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jící prasnice rychle ztrácí mléko, selata hyn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éčb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odstranění příčiny dojde k uzdravení za 3 – 5 d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– 2 dny hladovka, pak vařené lněné semen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ařené šroty, přídavek vitamínů A+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INFEKČNÍ CHOROB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cp:lastPrinted>2014-01-28T09:32:28Z</cp:lastPrinted>
  <dcterms:modified xsi:type="dcterms:W3CDTF">2014-02-26T12:17:16Z</dcterms:modified>
  <cp:revision>260</cp:revision>
  <dc:subject/>
  <dc:title>Piglets template</dc:title>
</cp:coreProperties>
</file>