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2A1-D6A6-4A36-A680-33B1C75C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2A9-5181-47B4-BEB9-04FE1263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95A-3617-4778-9FFB-DCC98575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B774-773F-4334-A131-FD6305F3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ECE-00E8-456C-859D-5F82A705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A821-D880-45AB-AB21-56FD7526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C5F0-AA83-4135-979D-70CB30D9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A1B6-9A7F-4B1E-BFB5-845E1E82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78B0-ED43-473C-AFB5-C8D7EA55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A0D7-3722-4D2D-AA66-97E7B0C7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2D64-47A0-4BC6-A40E-2311FA4B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9AE6-1D5A-4C34-B83F-1134621E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82ED-FF48-4682-BA99-4D576D07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69DF-6926-4496-BF3E-10013D30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AE19-5205-4449-AAD3-46D1E803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B284-F17D-49D0-B33D-F9DA8759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8440-F573-4F27-B71B-CD784C05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D937-E8CC-4AE4-8BD5-0D33E09D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F53A-065B-4F08-A04C-6A19AFE9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8E3-C542-4BC7-9A34-DF5C43AA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8B8-6EA3-4A3E-8F1B-8E1570F6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0942-8D9C-4726-A092-6BD2620A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5A9-D17A-49CD-8BE8-629E469E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248-726F-4A15-9728-BFA480ED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MG_3005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641C-93A7-426E-AAB9-7EAD0EE46D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IMG_3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0" y="4568760"/>
            <a:ext cx="9144000" cy="1892520"/>
          </a:xfrm>
          <a:prstGeom prst="rect">
            <a:avLst/>
          </a:prstGeom>
          <a:solidFill>
            <a:srgbClr val="8c7b7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23e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A640-BDEA-4415-BCC4-0EFEC3710F35}" type="slidenum">
              <a:rPr b="0" lang="en-GB" sz="1400" spc="-1" strike="noStrike">
                <a:solidFill>
                  <a:srgbClr val="523e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sz.af.czu.cz/predmety/chovprasat2ks/projektvzor.pdf" TargetMode="External"/><Relationship Id="rId2" Type="http://schemas.openxmlformats.org/officeDocument/2006/relationships/hyperlink" Target="http://www.ksz.af.czu.cz/predmety/chovprasat2ks/projektvzor.pdf" TargetMode="External"/><Relationship Id="rId3" Type="http://schemas.openxmlformats.org/officeDocument/2006/relationships/hyperlink" Target="http://www.ksz.af.czu.cz/predmety/chovprasat2ks/projektvzor.pdf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000" y="3090960"/>
            <a:ext cx="868032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CHOV PRASNIC 1</a:t>
            </a:r>
            <a:endParaRPr b="0" lang="en-US" sz="60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24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_32_INOVACE_150_Chov_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6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1462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šetřování prasnic zapouštěných a březích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Zjišťování říje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každá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romeškaná říje představuje ekonomickou ztrátu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!!!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Inseminac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vyžaduje vybavení (místnost a pracovním stolem, skříň, inseminační pomůcky, chladnička) s hygienickým standardem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Sledování známek zabřeznutí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Zajištění klidu, příznivého prostředí a přiměřené výživy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Sledování životních projevů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notlivých zvířa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Přesuny zvířat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zvýšené nároky na ošetřovatele, spojeno s dezinfekcí povrchu těl zvířat a kotců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HOV PRASNIC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APOUŠTĚNÝCH A BŘEZÍCH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133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IŠKOVSKÝ, DOC. ING. C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,Zdeněk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hov zvířat 2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REDIT –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avatelství agentura, 1995. 249 s. ISBN 80-901645-4-4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AMBRAUS, Hans Hinrich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Atlas plemen hospodářských zvířat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Nakladatelství Brázda, s.r.o., 2006. 296 s. ISBN 80-209-0344-5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95. 236s. ISBN 80-7105-092-X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96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8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-7105-019-9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RBAN, J., ŠARAPATKA, B., a kol. Ekologické zemědělství: učebnice pro školy i praxi - I. díl. Vydání první. Praha: MŽP a Svaz PRO-BIO, 2003, 280 s. ISBN 80-7212-274-6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ARAPATKA, B., URBAN, J., a kol. Ekologické zemědělství: učebnice pro školy i praxi - II. díl. Vydání první Šumperk: Svaz PRO-BIO, 2005, 334 s. ISBN 80-903583-0-9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BURDA, František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výro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y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 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živočišné výrobky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Vydání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vn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tátní zemědělské nakladatelstv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, 1995. 23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07-000-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LOUDA, Prof., Ing., DrSc.,František; JEŽKOVÁ, Ing., CSc., Alena; STÁDNÍK, Doc., Ing., Ph.D., Luděk; BERAN, Ing., Jan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Inseminace prasat.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ultimediální učební pomůcka pro výuku „Reprodukce hospodářských zvířat II“. FOND ROZVOJE VYSOKÝCH ŠKOL č. projektu 2652/2010, © Katedra speciální zootechniky, FAPPZ, ČZU v Praze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UPKA, CSC., Doc. Ing. Roman, Doc. Ing. Michal ŠPRYSL, CSC. a Ing. Jaroslav ČÍTEK, PH.D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áklady chovu 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Vydání první. Praha: PowerPrint, 2009. ISBN 978-80-904011-2-9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ww.ksz.zf.jcu.cz/studium.../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hov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%20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/.../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yzna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hov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asat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1"/>
              </a:rPr>
              <a:t>www.ksz.af.czu.cz/predmety/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2"/>
              </a:rPr>
              <a:t>chovprasat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3"/>
              </a:rPr>
              <a:t>2ks/projektvzor.pdf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receptynamaso.cz/tag/bok-s-kosti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523e2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lbertus Medium"/>
              </a:rPr>
              <a:t>http://www.svobodazvirat.cz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ksz.af.czu.cz/plemenaprasat/domestikace1.htm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ksz.zf.jcu.cz/studium/Chov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//uzitkove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vlastnosti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znamky.szesro.cz/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a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/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ůvod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_a_20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rozdělení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_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lemen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szs-bnl.wz.cz/download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1371600"/>
          <a:ext cx="8229600" cy="48290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v prasnic 1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Y_32_INOVACE_150_Chov_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řet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 11. 2013 KF 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v prasnic – úvod, chov prasnic zapouštěných a březích.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d2015"/>
                </a:solidFill>
                <a:latin typeface="Arial"/>
              </a:rPr>
              <a:t>Záznamový list výukového materiál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5120" y="4662000"/>
            <a:ext cx="77724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CHOV PRASNIC 1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0" name="TextovéPole 5"/>
          <p:cNvSpPr/>
          <p:nvPr/>
        </p:nvSpPr>
        <p:spPr>
          <a:xfrm>
            <a:off x="5710320" y="59990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HOV PRASNIC - ÚVOD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023480"/>
            <a:ext cx="831852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ov prasnic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á základní význam, protože rozhoduje o ekonomice chovů všech dalších kategori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le fáze reprodukčního procesu dělíme kategorii prasnic na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snice zapouštěné a břez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snice vysokobřezí, rodící a kojíc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ategorie prasnic jalových neexistu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o odstavu selat se prasnice během několika dní říjí a je hned znovu zapuštěna.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19664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ov prasnic zapouštěných a březích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ná se o prasnice po odstavu selat do vysokého stupně gravidity – asi do 10 dnů před porodem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stájení prasnic zapouštěných a březích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usí vytvářet základní předpoklady pro pohodu zvířat (welfare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usí vytvářet přijatelné pracovní podmínky pro člověk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ov musí být ekonomicky únosný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HOV PRASNIC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APOUŠTĚNÝCH A BŘEZÍCH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35" name="Obrázek 4" descr=""/>
          <p:cNvPicPr/>
          <p:nvPr/>
        </p:nvPicPr>
        <p:blipFill>
          <a:blip r:embed="rId1"/>
          <a:stretch/>
        </p:blipFill>
        <p:spPr>
          <a:xfrm>
            <a:off x="0" y="3476520"/>
            <a:ext cx="74581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63320" y="1120680"/>
            <a:ext cx="82674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stájení prasnic, ale i ostatních kategorií prasat lze řešit jako: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ezstelivové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telivov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předpoklad dostatku suché slámy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denním přistýláním a odklizem hnoj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luboká podestýlk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Výhoda stelivového ustájen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zabezpečení vhodných tepelných podmínek pro zvířat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Nevýhoda stelivového ustájení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větší nároky na ruční práci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snice této kategorie ustajujeme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individuálně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ožnost individuálního krme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snadnění kontroly říje, inseminace, kontroly gravidit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loučení vzájemného napadá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užívá se  v době zapouštění a v prvních 3-4 týdnech po zapuště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skupinově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zjištění a potvrzení gravidit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upiny musí být vyrovnané – věk, stupeň gravidity, kondice, temperamen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timální skupina 3-5 prasnic, max. 7 prasnic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HOV PRASNIC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APOUŠTĚNÝCH A BŘEZÍCH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38" name="Obrázek 1" descr=""/>
          <p:cNvPicPr/>
          <p:nvPr/>
        </p:nvPicPr>
        <p:blipFill>
          <a:blip r:embed="rId1"/>
          <a:stretch/>
        </p:blipFill>
        <p:spPr>
          <a:xfrm>
            <a:off x="5456160" y="1488960"/>
            <a:ext cx="3662280" cy="897120"/>
          </a:xfrm>
          <a:prstGeom prst="rect">
            <a:avLst/>
          </a:prstGeom>
          <a:ln w="0">
            <a:noFill/>
          </a:ln>
        </p:spPr>
      </p:pic>
      <p:sp>
        <p:nvSpPr>
          <p:cNvPr id="139" name="TextovéPole 4"/>
          <p:cNvSpPr/>
          <p:nvPr/>
        </p:nvSpPr>
        <p:spPr>
          <a:xfrm>
            <a:off x="5600880" y="2382840"/>
            <a:ext cx="106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ovové rošty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0" name="TextovéPole 5"/>
          <p:cNvSpPr/>
          <p:nvPr/>
        </p:nvSpPr>
        <p:spPr>
          <a:xfrm>
            <a:off x="6680160" y="2382840"/>
            <a:ext cx="124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etonové rošty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1" name="TextovéPole 6"/>
          <p:cNvSpPr/>
          <p:nvPr/>
        </p:nvSpPr>
        <p:spPr>
          <a:xfrm>
            <a:off x="7935840" y="2382840"/>
            <a:ext cx="11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lastové rošty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6840" y="1120320"/>
            <a:ext cx="827388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kombinací obou způsobů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ože je rozděleno na jednotlivé box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roštované kaliště je sopečné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HOV PRASNIC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APOUŠTĚNÝCH A BŘEZÍCH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44" name="Obrázek 4" descr=""/>
          <p:cNvPicPr/>
          <p:nvPr/>
        </p:nvPicPr>
        <p:blipFill>
          <a:blip r:embed="rId1"/>
          <a:stretch/>
        </p:blipFill>
        <p:spPr>
          <a:xfrm>
            <a:off x="189000" y="2389320"/>
            <a:ext cx="4241880" cy="3259080"/>
          </a:xfrm>
          <a:prstGeom prst="rect">
            <a:avLst/>
          </a:prstGeom>
          <a:ln w="0">
            <a:noFill/>
          </a:ln>
        </p:spPr>
      </p:pic>
      <p:pic>
        <p:nvPicPr>
          <p:cNvPr id="145" name="Obrázek 5" descr=""/>
          <p:cNvPicPr/>
          <p:nvPr/>
        </p:nvPicPr>
        <p:blipFill>
          <a:blip r:embed="rId2"/>
          <a:stretch/>
        </p:blipFill>
        <p:spPr>
          <a:xfrm>
            <a:off x="5256360" y="1836720"/>
            <a:ext cx="3887640" cy="4114800"/>
          </a:xfrm>
          <a:prstGeom prst="rect">
            <a:avLst/>
          </a:prstGeom>
          <a:ln w="0">
            <a:noFill/>
          </a:ln>
        </p:spPr>
      </p:pic>
      <p:sp>
        <p:nvSpPr>
          <p:cNvPr id="146" name="TextovéPole 6"/>
          <p:cNvSpPr/>
          <p:nvPr/>
        </p:nvSpPr>
        <p:spPr>
          <a:xfrm>
            <a:off x="457200" y="553716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dividuální kotec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7" name="TextovéPole 7"/>
          <p:cNvSpPr/>
          <p:nvPr/>
        </p:nvSpPr>
        <p:spPr>
          <a:xfrm>
            <a:off x="3679920" y="5535720"/>
            <a:ext cx="178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upinový kotec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113364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Krmení prasnice zapouštěných a březích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období odstavu (asi 20 hod před a 10 hod po) – </a:t>
            </a: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HLADOVKA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Další dva dny nižší krmná dávk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v případě kompletní krmné směsi (KKS) asi 1-1,5 kg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Od třetího dne se dávka zvyšuje na 2,5-3,5 kg KK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takto krmíme až do zapuštění či inseminac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Po zapuštění či inseminaci krmnou dávku snížíme 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u mladších prasnic na 2,6 kg, u starších prasnic na 2,2 kg – překrmování je nežádoucí!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11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V poslední třetině březosti zvýšíme krmnou dávku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 0,5 kg KKS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7-10 dní </a:t>
            </a: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před očekávaným porodem přejdeme na krmnou směs pro kojící prasnice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HOV PRASNIC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APOUŠTĚNÝCH A BŘEZÍCH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HOV PRASNIC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APOUŠTĚNÝCH A BŘEZÍCH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51" name="Obrázek 4" descr=""/>
          <p:cNvPicPr/>
          <p:nvPr/>
        </p:nvPicPr>
        <p:blipFill>
          <a:blip r:embed="rId1"/>
          <a:stretch/>
        </p:blipFill>
        <p:spPr>
          <a:xfrm>
            <a:off x="820800" y="1779480"/>
            <a:ext cx="7502400" cy="5078520"/>
          </a:xfrm>
          <a:prstGeom prst="rect">
            <a:avLst/>
          </a:prstGeom>
          <a:ln w="0">
            <a:noFill/>
          </a:ln>
        </p:spPr>
      </p:pic>
      <p:sp>
        <p:nvSpPr>
          <p:cNvPr id="152" name="TextovéPole 5"/>
          <p:cNvSpPr/>
          <p:nvPr/>
        </p:nvSpPr>
        <p:spPr>
          <a:xfrm>
            <a:off x="882720" y="1417680"/>
            <a:ext cx="73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říklady krmných dávek pro březí prasnice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21:45:52Z</dcterms:created>
  <dc:creator>Presentation Magazine</dc:creator>
  <dc:description/>
  <dc:language>en-US</dc:language>
  <cp:lastModifiedBy>Huk</cp:lastModifiedBy>
  <dcterms:modified xsi:type="dcterms:W3CDTF">2014-02-15T10:03:54Z</dcterms:modified>
  <cp:revision>227</cp:revision>
  <dc:subject/>
  <dc:title>Piglets template</dc:title>
</cp:coreProperties>
</file>