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8E16C-B9FB-4AC2-8AC8-61088A8E7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BA193-E0AC-40E7-93C8-633AD5F17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28B08-5F84-4EF0-8AC2-35E40B4DE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95FD6-3347-4458-B8DE-E8502FB7A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0F7D2-15F8-4AFE-9F1A-C1AA8A72C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677B2-B0D1-45E2-A16C-276A3FE86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6D5A2-1BE6-4AED-8644-98490A9E0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10415-7947-40E2-8540-7761CC5F7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B5E18-AAD5-452A-AFFD-BDC925C58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F6F0E-4085-4130-93CB-5406F2774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97434-5641-4C0A-B740-BD60C6E3E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3FA00-4E3B-4346-8A8A-490416826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C31E7-0C1A-4842-8BA1-83E05D3A4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B763E-72E4-4EC2-B44B-174E0CAFF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69D79-CD29-44F3-8710-5FDFBE393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6D59B-417B-4575-96F0-110CBFC35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5628B-3A52-4418-A3C8-552C56E69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D5794-C76B-4A25-8007-5F2A084C4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1D7A3-9C24-42EC-A580-51E5CD8F3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85485-0BB9-47EE-A328-A3DBC1F27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A8F1A-4086-464B-83AE-E052AEEF5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B1EE3-7B44-44BA-A24C-1209740EB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0B9D4-598D-4CD4-B1DE-9931D738B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4886D-63C8-4481-939F-D8E803DF8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1" descr="IMG_3005-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23e2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23e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3e2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23e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3e2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23e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3e2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23e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3e2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23e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3e2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523e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3e2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523e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3e2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5E24B-F241-4445-BD2C-39EE46CD414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0" descr="IMG_3005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11"/>
          <p:cNvSpPr/>
          <p:nvPr/>
        </p:nvSpPr>
        <p:spPr>
          <a:xfrm>
            <a:off x="0" y="4568760"/>
            <a:ext cx="9144000" cy="1892520"/>
          </a:xfrm>
          <a:prstGeom prst="rect">
            <a:avLst/>
          </a:prstGeom>
          <a:solidFill>
            <a:srgbClr val="8c7b7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23e2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23e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3e2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23e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3e2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23e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3e2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23e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3e2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23e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3e2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523e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3e2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523e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3e2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23e2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23e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3e2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23e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3e2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23e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3e2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23e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3e2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23e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3e2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523e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3e2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523e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3e2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523e2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3E3C5-0D20-4248-BBCB-648833D5AE78}" type="slidenum">
              <a:rPr b="0" lang="en-GB" sz="1400" spc="-1" strike="noStrike">
                <a:solidFill>
                  <a:srgbClr val="523e2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ksz.zf.jcu.cz/studium.../Chov%20prasat/.../vyznam-chovu-prasat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70000" y="2676240"/>
            <a:ext cx="8680320" cy="273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000000"/>
                </a:solidFill>
                <a:latin typeface="Arial"/>
                <a:ea typeface="Arial"/>
              </a:rPr>
              <a:t>VÝKRM PRASAT</a:t>
            </a:r>
            <a:endParaRPr b="0" lang="en-US" sz="6000" spc="-1" strike="noStrike">
              <a:solidFill>
                <a:srgbClr val="523e26"/>
              </a:solidFill>
              <a:latin typeface="Arial"/>
            </a:endParaRPr>
          </a:p>
        </p:txBody>
      </p:sp>
      <p:pic>
        <p:nvPicPr>
          <p:cNvPr id="124" name="Obrázek 3" descr=""/>
          <p:cNvPicPr/>
          <p:nvPr/>
        </p:nvPicPr>
        <p:blipFill>
          <a:blip r:embed="rId1"/>
          <a:stretch/>
        </p:blipFill>
        <p:spPr>
          <a:xfrm>
            <a:off x="1530360" y="476280"/>
            <a:ext cx="6083280" cy="1484280"/>
          </a:xfrm>
          <a:prstGeom prst="rect">
            <a:avLst/>
          </a:prstGeom>
          <a:ln w="0">
            <a:noFill/>
          </a:ln>
        </p:spPr>
      </p:pic>
      <p:sp>
        <p:nvSpPr>
          <p:cNvPr id="125" name="TextovéPole 4"/>
          <p:cNvSpPr/>
          <p:nvPr/>
        </p:nvSpPr>
        <p:spPr>
          <a:xfrm>
            <a:off x="2209680" y="2133720"/>
            <a:ext cx="49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VY_32_INOVACE_155_Chov_prasat</a:t>
            </a:r>
            <a:endParaRPr b="0" lang="en-US" sz="1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26" name="TextovéPole 5"/>
          <p:cNvSpPr/>
          <p:nvPr/>
        </p:nvSpPr>
        <p:spPr>
          <a:xfrm>
            <a:off x="5724360" y="558972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utor:  Ing. Miroslav Huk</a:t>
            </a:r>
            <a:endParaRPr b="0" lang="en-US" sz="1800" spc="-1" strike="noStrike">
              <a:solidFill>
                <a:srgbClr val="523e2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457200" y="1023840"/>
            <a:ext cx="8229600" cy="583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23e2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23e2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23e2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23e2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23e2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23e2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23e2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23e2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23e2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23e2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23e2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23e2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Zásobník na krmné směsi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Schéma dávkovače suchého krmiva</a:t>
            </a:r>
            <a:endParaRPr b="0" lang="en-US" sz="1400" spc="-1" strike="noStrike">
              <a:solidFill>
                <a:srgbClr val="523e2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23e2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23e2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23e2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23e2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23e2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23e2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23e2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23e2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23e2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2d2015"/>
                </a:solidFill>
                <a:latin typeface="Arial"/>
              </a:rPr>
              <a:t>	</a:t>
            </a:r>
            <a:r>
              <a:rPr b="0" lang="cs-CZ" sz="1400" spc="-1" strike="noStrike">
                <a:solidFill>
                  <a:srgbClr val="2d2015"/>
                </a:solidFill>
                <a:latin typeface="Arial"/>
              </a:rPr>
              <a:t>   </a:t>
            </a:r>
            <a:r>
              <a:rPr b="0" lang="cs-CZ" sz="1400" spc="-1" strike="noStrike">
                <a:solidFill>
                  <a:srgbClr val="2d2015"/>
                </a:solidFill>
                <a:latin typeface="Arial"/>
              </a:rPr>
              <a:t>Schéma mokrého krmení prasat</a:t>
            </a:r>
            <a:r>
              <a:rPr b="0" lang="cs-CZ" sz="1400" spc="-1" strike="noStrike">
                <a:solidFill>
                  <a:srgbClr val="2d2015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82600" y="204480"/>
            <a:ext cx="8694720" cy="81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ZPŮSOBY VÝKRMU PRASAT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pic>
        <p:nvPicPr>
          <p:cNvPr id="145" name="Obrázek 4" descr=""/>
          <p:cNvPicPr/>
          <p:nvPr/>
        </p:nvPicPr>
        <p:blipFill>
          <a:blip r:embed="rId1"/>
          <a:stretch/>
        </p:blipFill>
        <p:spPr>
          <a:xfrm>
            <a:off x="457200" y="1023840"/>
            <a:ext cx="2747880" cy="3200400"/>
          </a:xfrm>
          <a:prstGeom prst="rect">
            <a:avLst/>
          </a:prstGeom>
          <a:ln w="0">
            <a:noFill/>
          </a:ln>
        </p:spPr>
      </p:pic>
      <p:pic>
        <p:nvPicPr>
          <p:cNvPr id="146" name="Obrázek 5" descr=""/>
          <p:cNvPicPr/>
          <p:nvPr/>
        </p:nvPicPr>
        <p:blipFill>
          <a:blip r:embed="rId2"/>
          <a:stretch/>
        </p:blipFill>
        <p:spPr>
          <a:xfrm>
            <a:off x="3205080" y="1274760"/>
            <a:ext cx="1882800" cy="2948040"/>
          </a:xfrm>
          <a:prstGeom prst="rect">
            <a:avLst/>
          </a:prstGeom>
          <a:ln w="0">
            <a:noFill/>
          </a:ln>
        </p:spPr>
      </p:pic>
      <p:pic>
        <p:nvPicPr>
          <p:cNvPr id="147" name="Obrázek 6" descr=""/>
          <p:cNvPicPr/>
          <p:nvPr/>
        </p:nvPicPr>
        <p:blipFill>
          <a:blip r:embed="rId3"/>
          <a:stretch/>
        </p:blipFill>
        <p:spPr>
          <a:xfrm>
            <a:off x="5087880" y="1224000"/>
            <a:ext cx="3497400" cy="2124000"/>
          </a:xfrm>
          <a:prstGeom prst="rect">
            <a:avLst/>
          </a:prstGeom>
          <a:ln w="0">
            <a:noFill/>
          </a:ln>
        </p:spPr>
      </p:pic>
      <p:pic>
        <p:nvPicPr>
          <p:cNvPr id="148" name="Obrázek 7" descr=""/>
          <p:cNvPicPr/>
          <p:nvPr/>
        </p:nvPicPr>
        <p:blipFill>
          <a:blip r:embed="rId4"/>
          <a:stretch/>
        </p:blipFill>
        <p:spPr>
          <a:xfrm>
            <a:off x="457200" y="4673520"/>
            <a:ext cx="4797360" cy="1866960"/>
          </a:xfrm>
          <a:prstGeom prst="rect">
            <a:avLst/>
          </a:prstGeom>
          <a:ln w="0">
            <a:noFill/>
          </a:ln>
        </p:spPr>
      </p:pic>
      <p:sp>
        <p:nvSpPr>
          <p:cNvPr id="149" name="TextovéPole 9"/>
          <p:cNvSpPr/>
          <p:nvPr/>
        </p:nvSpPr>
        <p:spPr>
          <a:xfrm>
            <a:off x="6299280" y="3348000"/>
            <a:ext cx="267804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Krmící vozík pro přípravu vlhčených a mokrých míchanic, jejich rozvoz a dávkování ve stáji.</a:t>
            </a:r>
            <a:endParaRPr b="0" lang="en-US" sz="1400" spc="-1" strike="noStrike">
              <a:solidFill>
                <a:srgbClr val="523e2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1. vana, </a:t>
            </a:r>
            <a:endParaRPr b="0" lang="en-US" sz="1400" spc="-1" strike="noStrike">
              <a:solidFill>
                <a:srgbClr val="523e2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2. pojezdová kola, </a:t>
            </a:r>
            <a:endParaRPr b="0" lang="en-US" sz="1400" spc="-1" strike="noStrike">
              <a:solidFill>
                <a:srgbClr val="523e2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3. pracovní plošina, </a:t>
            </a:r>
            <a:endParaRPr b="0" lang="en-US" sz="1400" spc="-1" strike="noStrike">
              <a:solidFill>
                <a:srgbClr val="523e2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4. elektroskříň s ovladači, </a:t>
            </a:r>
            <a:endParaRPr b="0" lang="en-US" sz="1400" spc="-1" strike="noStrike">
              <a:solidFill>
                <a:srgbClr val="523e2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5. šnekový dopravník, </a:t>
            </a:r>
            <a:endParaRPr b="0" lang="en-US" sz="1400" spc="-1" strike="noStrike">
              <a:solidFill>
                <a:srgbClr val="523e2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6. ovládání závěru, </a:t>
            </a:r>
            <a:endParaRPr b="0" lang="en-US" sz="1400" spc="-1" strike="noStrike">
              <a:solidFill>
                <a:srgbClr val="523e2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7. ovládání polohy dopravníku, 8. stupnice (otevření závěru).</a:t>
            </a:r>
            <a:endParaRPr b="0" lang="en-US" sz="1400" spc="-1" strike="noStrike">
              <a:solidFill>
                <a:srgbClr val="523e2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457200" y="1023480"/>
            <a:ext cx="8229600" cy="569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Ustájení prasat ve výkrmu</a:t>
            </a:r>
            <a:endParaRPr b="0" lang="en-US" sz="18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e výkrmu převládá bezstelivový systém ustájení. 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Kotec je většinou diferencován na pevné lože a roštované kaliště, v menší míře se používá celoroštové podlahy. 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Na jeden kus se počítá 0,7 – 0,8 metru čtverečního ustájovací plochy. 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Optimální počet zvířat v kotci je 10 – 12 kusů. 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elikost kotců je možno pomocí stavitelných zábran měnit v závislosti na růstu zvířat. 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tájové mikroklima, hlavně při vysokých koncentracích zvířat je nutno udržovat pomocí účinného větracího systému.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Jeho sledování a údržbě je nutno věnovat maximální pozornost, neboť jeho vyřazení může způsobit značné ztráty.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 zimním období je důležité zajistit optimální teplotu pro mladší zvířata (mobilní výhřevná zařízení, dostatek suchého steliva, snížení stropů apod.).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Letní období – u hlediska mikroklimatu velmi složité, organizovat vyskladnění turnusu ještě před létem.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Relativní vlhkost by neměla překročit 85 %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Odkliz výkalů závisí na typu ustájení, tj. v podstatě systém mechanický či hydromechanický.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82600" y="204480"/>
            <a:ext cx="8694720" cy="81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USTÁJENÍ PRASAT VE VÝKRMU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457200" y="1023480"/>
            <a:ext cx="8229600" cy="569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Krmení prasat ve výkrmu</a:t>
            </a:r>
            <a:endParaRPr b="0" lang="en-US" sz="18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otřeba živin pro prasata ve výkrmu je ovlivňována zákonitostmi růstu zvířat. 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U nejmladších kategorií se tvoří především kostní tkáň, na to navazuje intenzivní tvorba svalové tkáně (mezi 4 – 6 měsícem). 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Tvorba tukové tkáně nabývá převahy až v posledním období výkrmu, a to v pořadí nejdříve vnitřní tuk, potom tuk mezisvalový a podkožní a konečně tuk nitrosvalový. 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Uvedené poznatky jsou důležité pro sestavování krmné dávky nebo pro výběr krmné směsi.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 každé době výkrmu je nutno respektovat specifické požadavky organismu. 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Krmením můžeme ovlivňovat tvorbu hlavních tkání (svalové, tukové, kostní), ale také kvalitu masa a tuku. 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0000"/>
                </a:solidFill>
                <a:latin typeface="Arial"/>
              </a:rPr>
              <a:t>Příznivý vliv na kvalitu tuku i masa má především ječmen</a:t>
            </a:r>
            <a:r>
              <a:rPr b="0" lang="cs-CZ" sz="1600" spc="-1" strike="noStrike">
                <a:solidFill>
                  <a:srgbClr val="2d2015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0000"/>
                </a:solidFill>
                <a:latin typeface="Arial"/>
              </a:rPr>
              <a:t>Stejně ovlivňuje maso i pšenice, sádlo je však při vyšších dávkách poněkud zrnitější.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0000"/>
                </a:solidFill>
                <a:latin typeface="Arial"/>
              </a:rPr>
              <a:t>Nápadná žlutá barva a měkká konzistence tuku bývá důsledkem dlouhodobého zkrmování většího množství kukuřice!!!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0000"/>
                </a:solidFill>
                <a:latin typeface="Arial"/>
              </a:rPr>
              <a:t>Z luskovin má pozitivní účinky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na kvalitu jatečného produktu hlavně </a:t>
            </a:r>
            <a:r>
              <a:rPr b="1" lang="cs-CZ" sz="1600" spc="-1" strike="noStrike">
                <a:solidFill>
                  <a:srgbClr val="ff0000"/>
                </a:solidFill>
                <a:latin typeface="Arial"/>
              </a:rPr>
              <a:t>hrách.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0000"/>
                </a:solidFill>
                <a:latin typeface="Arial"/>
              </a:rPr>
              <a:t>Z krmiv živočišného původu působí nejpříznivěji mléko. 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0000"/>
                </a:solidFill>
                <a:latin typeface="Arial"/>
              </a:rPr>
              <a:t>Rybí moučka podávaná ke konci výkrmu zanechává výrazný pach.</a:t>
            </a:r>
            <a:r>
              <a:rPr b="0" lang="cs-CZ" sz="1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82600" y="204480"/>
            <a:ext cx="8694720" cy="81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RMENÍ PRASAT VE VÝKRMU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457200" y="1023840"/>
            <a:ext cx="8229600" cy="57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ýkrm je možno řešit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omocí kompletních krmných směsí (KKS)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formou tradičních krmných dávek jejichž základem jsou statková krmiva. 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potřeba KKS na 1 kg přírůstku je do 3 kg. 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Krmí se 3 - 4x denně a prasata musí mít k dispozici v případě suchých směsí dostatek vody. 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Tradiční krmné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dávky jsou založeny hlavně na </a:t>
            </a:r>
            <a:r>
              <a:rPr b="1" lang="cs-CZ" sz="1600" spc="-1" strike="noStrike">
                <a:solidFill>
                  <a:srgbClr val="00117e"/>
                </a:solidFill>
                <a:latin typeface="Arial"/>
              </a:rPr>
              <a:t>zkrmování brambor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(vařené, pařené, 3 – 7 kg, podle hmotnosti zvířete) </a:t>
            </a:r>
            <a:r>
              <a:rPr b="1" lang="cs-CZ" sz="1600" spc="-1" strike="noStrike">
                <a:solidFill>
                  <a:srgbClr val="00117e"/>
                </a:solidFill>
                <a:latin typeface="Arial"/>
              </a:rPr>
              <a:t>a doplňkových krmných směsí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, případně statkových jadrných krmiv. 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ro přípravu, rozvoz a podávání krmiv je široká paleta postupů, od ručních až po automatizované systémy – pro suché, zvlhčené i tekuté krmivo – které podle naprogramovaných dávek řídí, evidují i vyhodnocují výkrm prasat.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82600" y="204480"/>
            <a:ext cx="8694720" cy="81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RMENÍ PRASAT VE VÝKRMU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457200" y="1023840"/>
            <a:ext cx="8229600" cy="57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šetřování prasat ve výkrmu</a:t>
            </a:r>
            <a:endParaRPr b="0" lang="en-US" sz="18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 vyššími pracovními nároky je spojen začátek i konec turnusu.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11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117e"/>
                </a:solidFill>
                <a:latin typeface="Arial"/>
              </a:rPr>
              <a:t>Výkrmna</a:t>
            </a:r>
            <a:r>
              <a:rPr b="0" lang="cs-CZ" sz="1600" spc="-1" strike="noStrike">
                <a:solidFill>
                  <a:srgbClr val="2d2015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je pro selata novým prostředím s jiným uspořádáním kotců, s jiným systémem krmení, ošetřování a jiným kolektivem zvířat.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Reakce selat nové prostředí: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neklid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naha unikat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naha hledat svoje původní partnery.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Ošetřovatel při zahájení nového turnusu musí: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ledovat životní projevy zvířat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omezit všechny stresující faktory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ledovat čistotu kotců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je-li zahájení turnusu v chladném ročním období zajistit zateplení nebo výhřevné zařízení.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82600" y="204480"/>
            <a:ext cx="8694720" cy="81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OŠETŘOVÁNÍ PRASAT VE VÝKRMU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457200" y="1023480"/>
            <a:ext cx="8229600" cy="510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Konec turnusu je spojen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 přípravou zvířat na vyskladnění (prodej)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yčištění stáje po vyskladnění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oprava všech zařízení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yčištění zásobníků krmiv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dezinfekce.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Během výkrmu je nutno dodržovat technologický postup, sledovat orientačně růst a zdravotní stav zvířat.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82600" y="204480"/>
            <a:ext cx="8694720" cy="81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OŠETŘOVÁNÍ PRASAT VE VÝKRMU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457200" y="113328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lbertus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MIŠKOVSKÝ, DOC. ING. CS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.,Zdeněk. </a:t>
            </a:r>
            <a:r>
              <a:rPr b="0" i="1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Chov zvířat 2</a:t>
            </a:r>
            <a:r>
              <a:rPr b="0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. Vydání první. Praha: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CREDIT –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vydavatelství agentura, 1995. 249 s. ISBN 80-901645-4-4. </a:t>
            </a:r>
            <a:endParaRPr b="0" lang="en-US" sz="12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lbertus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SAMBRAUS, Hans Hinrich. </a:t>
            </a:r>
            <a:r>
              <a:rPr b="0" i="1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Atlas plemen hospodářských zvířat</a:t>
            </a:r>
            <a:r>
              <a:rPr b="0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. Vydání první. Praha: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Nakladatelství Brázda, s.r.o., 2006. 296 s. ISBN 80-209-0344-5. </a:t>
            </a:r>
            <a:endParaRPr b="0" lang="en-US" sz="12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lbertus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VARGA, ING., Stanislav; KREJČÍ, ING., Vladimír. </a:t>
            </a:r>
            <a:r>
              <a:rPr b="0" i="1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Zemědělská výroba II.</a:t>
            </a:r>
            <a:r>
              <a:rPr b="0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Vydání druhé.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Praha: Institut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výchovy a vzdělávání Ministerstva zemědělství České republiky, 1995. 236s. ISBN 80-7105-092-X. </a:t>
            </a:r>
            <a:endParaRPr b="0" lang="en-US" sz="12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lbertus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VARGA, ING., Stanislav; KREJČÍ, ING., Vladimír. </a:t>
            </a:r>
            <a:r>
              <a:rPr b="0" i="1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Zemědělská výroba II.</a:t>
            </a:r>
            <a:r>
              <a:rPr b="0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Vydání druhé.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Praha: Institut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výchovy a vzdělávání Ministerstva zemědělství České republiky, 19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86</a:t>
            </a:r>
            <a:r>
              <a:rPr b="0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.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296 </a:t>
            </a:r>
            <a:r>
              <a:rPr b="0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s. ISBN 80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-7105-019-9</a:t>
            </a:r>
            <a:r>
              <a:rPr b="0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. </a:t>
            </a:r>
            <a:endParaRPr b="0" lang="en-US" sz="12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URBAN, J., ŠARAPATKA, B., a kol. Ekologické zemědělství: učebnice pro školy i praxi - I. díl. Vydání první. Praha: MŽP a Svaz PRO-BIO, 2003, 280 s. ISBN 80-7212-274-6.</a:t>
            </a:r>
            <a:endParaRPr b="0" lang="en-US" sz="12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ŠARAPATKA, B., URBAN, J., a kol. Ekologické zemědělství: učebnice pro školy i praxi - II. díl. Vydání první Šumperk: Svaz PRO-BIO, 2005, 334 s. ISBN 80-903583-0-9.</a:t>
            </a:r>
            <a:endParaRPr b="0" lang="en-US" sz="12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BURDA, František</a:t>
            </a:r>
            <a:r>
              <a:rPr b="0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. </a:t>
            </a:r>
            <a:r>
              <a:rPr b="0" i="1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Zemědělsk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0" i="1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 výrob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ky</a:t>
            </a:r>
            <a:r>
              <a:rPr b="0" i="1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2 –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živočišné výrobky</a:t>
            </a:r>
            <a:r>
              <a:rPr b="0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.Vydání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první</a:t>
            </a:r>
            <a:r>
              <a:rPr b="0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.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Praha: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Státní zemědělské nakladatelství</a:t>
            </a:r>
            <a:r>
              <a:rPr b="0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, 1995. 236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s. ISBN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07-000-86</a:t>
            </a:r>
            <a:r>
              <a:rPr b="0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. </a:t>
            </a:r>
            <a:endParaRPr b="0" lang="en-US" sz="12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lbertus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LOUDA, Prof., Ing., DrSc.,František; JEŽKOVÁ, Ing., CSc., Alena; STÁDNÍK, Doc., Ing., Ph.D., Luděk; BERAN, Ing., Jan. </a:t>
            </a:r>
            <a:r>
              <a:rPr b="0" i="1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Inseminace prasat. </a:t>
            </a:r>
            <a:r>
              <a:rPr b="0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Multimediální učební pomůcka pro výuku „Reprodukce hospodářských zvířat II“. FOND ROZVOJE VYSOKÝCH ŠKOL č. projektu 2652/2010, © Katedra speciální zootechniky, FAPPZ, ČZU v Praze.</a:t>
            </a:r>
            <a:endParaRPr b="0" lang="en-US" sz="12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STUPKA, CSC., Doc. Ing. Roman, Doc. Ing. Michal ŠPRYSL, CSC. a Ing. Jaroslav ČÍTEK, PH.D.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Základy chovu prasat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. Vydání první. Praha: PowerPrint, 2009. ISBN 978-80-904011-2-9. </a:t>
            </a:r>
            <a:endParaRPr b="0" lang="en-US" sz="12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 u="sng">
                <a:solidFill>
                  <a:srgbClr val="ccb400"/>
                </a:solidFill>
                <a:uFillTx/>
                <a:latin typeface="Arial"/>
                <a:hlinkClick r:id="rId1"/>
              </a:rPr>
              <a:t>www.ksz.zf.jcu.cz/studium.../Chov%20prasat/.../vyznam-chovu-prasat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[online]. </a:t>
            </a:r>
            <a:endParaRPr b="0" lang="en-US" sz="12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www.ksz.af.czu.cz/predmety/chovprasat2ks/projektvzor.pdf [online]. </a:t>
            </a:r>
            <a:endParaRPr b="0" lang="en-US" sz="12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http://www.receptynamaso.cz/tag/bok-s-kosti [online]. </a:t>
            </a:r>
            <a:endParaRPr b="0" lang="en-US" sz="12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523e26"/>
              </a:buClr>
              <a:buFont typeface="Albertus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23e26"/>
                </a:solidFill>
                <a:latin typeface="Albertus Medium"/>
              </a:rPr>
              <a:t>http://www.svobodazvirat.cz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[online]. </a:t>
            </a:r>
            <a:endParaRPr b="0" lang="en-US" sz="12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523e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23e26"/>
                </a:solidFill>
                <a:latin typeface="Arial"/>
              </a:rPr>
              <a:t>http://www.ksz.zf.jcu.cz/studium/Chov-prasat//uzitkove-vlastnosti-prasat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[online]. </a:t>
            </a:r>
            <a:endParaRPr b="0" lang="en-US" sz="12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523e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23e26"/>
                </a:solidFill>
                <a:latin typeface="Arial"/>
              </a:rPr>
              <a:t>http://www.znamky.szesro.cz/Prasata/Původ_a_20rozdělení_plemen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[online]. </a:t>
            </a:r>
            <a:endParaRPr b="0" lang="en-US" sz="12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523e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23e26"/>
                </a:solidFill>
                <a:latin typeface="Arial"/>
              </a:rPr>
              <a:t>http://www.szs-bnl.wz.cz/download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[online]. </a:t>
            </a:r>
            <a:endParaRPr b="0" lang="en-US" sz="12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523e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 u="sng">
                <a:solidFill>
                  <a:srgbClr val="523e26"/>
                </a:solidFill>
                <a:uFillTx/>
                <a:latin typeface="Arial"/>
              </a:rPr>
              <a:t>www.nedap.com</a:t>
            </a:r>
            <a:r>
              <a:rPr b="0" lang="cs-CZ" sz="1200" spc="-1" strike="noStrike">
                <a:solidFill>
                  <a:srgbClr val="523e26"/>
                </a:solidFill>
                <a:latin typeface="Arial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[online]. </a:t>
            </a:r>
            <a:endParaRPr b="0" lang="en-US" sz="12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523e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23e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23e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23e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23e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5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POUŽITÉ ZDROJE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7" name=""/>
          <p:cNvGraphicFramePr/>
          <p:nvPr/>
        </p:nvGraphicFramePr>
        <p:xfrm>
          <a:off x="457200" y="1371600"/>
          <a:ext cx="8229600" cy="4948200"/>
        </p:xfrm>
        <a:graphic>
          <a:graphicData uri="http://schemas.openxmlformats.org/drawingml/2006/table">
            <a:tbl>
              <a:tblPr/>
              <a:tblGrid>
                <a:gridCol w="2962440"/>
                <a:gridCol w="5267160"/>
              </a:tblGrid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ázev školy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c7b7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ŠTZ Mohelnice, 1. máje 2, 789 85 Mohelnice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c7b70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Číslo projektu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Z.1.07/1.5.00/34.0033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ázev šablony klíčové aktivity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ovace a zkvalitnění výuky prostřednictvím ICT (III/2) 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ázev výukového materiálu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ýkrm prasat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1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značení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Y_32_INOVACE_155_Chov_prasat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zdělávací obor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-51-H/01 Zemědělec – farmář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matická oblast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hov zvířat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očník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řetí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utor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g. Miroslav Huk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um ověření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6 12. 2013 KF 3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903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otace / metodický popis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Způsoby výkrmu prasat, ustájení, krmení a ošetřování prasat ve výkrmu.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odpis autora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g. Miroslav Huk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odpis ředitele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128" name="Rectangle 2"/>
          <p:cNvSpPr/>
          <p:nvPr/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Záznamový list výukového materiálu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35120" y="4468680"/>
            <a:ext cx="7772400" cy="131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VÝKRM PRASAT</a:t>
            </a: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30" name="TextovéPole 5"/>
          <p:cNvSpPr/>
          <p:nvPr/>
        </p:nvSpPr>
        <p:spPr>
          <a:xfrm>
            <a:off x="5710320" y="5999040"/>
            <a:ext cx="30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utor:  Ing. Miroslav Huk</a:t>
            </a:r>
            <a:endParaRPr b="0" lang="en-US" sz="1800" spc="-1" strike="noStrike">
              <a:solidFill>
                <a:srgbClr val="523e26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82600" y="204480"/>
            <a:ext cx="8694720" cy="81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ZPŮSOBY VÝKRMU PRASAT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023480"/>
            <a:ext cx="8318520" cy="569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Způsoby výkrmu prasat</a:t>
            </a:r>
            <a:endParaRPr b="0" lang="en-US" sz="18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ykrmené prase je konečným produktem chovu. 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ykrmeným prasetem zhodnocujeme veškerou práci i náklady vložené 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do šlechtění, 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do odchovu selat, 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do odchovu mladých prasat, 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do chovu prasnic i kanců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do vlastního výkrmu.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marL="343080" indent="0">
              <a:spcBef>
                <a:spcPts val="3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spcBef>
                <a:spcPts val="388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Podle kvality hlavního jatečného produktu, tj. podle kvality jatečných půlek rozlišujeme způsoby výkrmu</a:t>
            </a:r>
            <a:endParaRPr b="0" lang="en-US" sz="18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11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117e"/>
                </a:solidFill>
                <a:latin typeface="Arial"/>
              </a:rPr>
              <a:t>výkrm masný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odle hmotnosti jatečného produktu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3" marL="1600200" indent="-228600">
              <a:spcBef>
                <a:spcPts val="388"/>
              </a:spcBef>
              <a:buClr>
                <a:srgbClr val="402a15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402a15"/>
                </a:solidFill>
                <a:latin typeface="Arial"/>
              </a:rPr>
              <a:t>šunkový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3" marL="1600200" indent="-228600">
              <a:spcBef>
                <a:spcPts val="388"/>
              </a:spcBef>
              <a:buClr>
                <a:srgbClr val="402a15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402a15"/>
                </a:solidFill>
                <a:latin typeface="Arial"/>
              </a:rPr>
              <a:t>bekonový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3" marL="1600200" indent="-228600">
              <a:spcBef>
                <a:spcPts val="388"/>
              </a:spcBef>
              <a:buClr>
                <a:srgbClr val="402a15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402a15"/>
                </a:solidFill>
                <a:latin typeface="Arial"/>
              </a:rPr>
              <a:t>výsekový. 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11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117e"/>
                </a:solidFill>
                <a:latin typeface="Arial"/>
              </a:rPr>
              <a:t>výkrm polosádelný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11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117e"/>
                </a:solidFill>
                <a:latin typeface="Arial"/>
              </a:rPr>
              <a:t>výkrm sádelný.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457200" y="1023840"/>
            <a:ext cx="8229600" cy="57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600200" indent="-228600">
              <a:spcBef>
                <a:spcPts val="388"/>
              </a:spcBef>
              <a:buClr>
                <a:srgbClr val="402a15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402a15"/>
                </a:solidFill>
                <a:latin typeface="Arial"/>
              </a:rPr>
              <a:t>Šunkový výkrm (masný výkrm)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4" marL="2057400" indent="-228600">
              <a:spcBef>
                <a:spcPts val="388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rovádí se za účelem získání kvalitní libové kýty.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4" marL="2057400" indent="-228600">
              <a:spcBef>
                <a:spcPts val="388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rovádí se metodou rychlovýkrmu a končí v živé hmotnosti 80 kg. 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4" marL="2057400" indent="-228600">
              <a:spcBef>
                <a:spcPts val="388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Je náročný na vysoce kvalitní krmiva i na počet selat., tzn., že je také ekonomicky náročný.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4" marL="2057400" indent="-228600">
              <a:spcBef>
                <a:spcPts val="388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 minulosti se prováděl hlavně pro exportní účely (pražská šunka). 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4" marL="2057400" indent="-228600">
              <a:spcBef>
                <a:spcPts val="388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Dnes se s ním setkáváme v ČR jen výjimečně.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1" marL="457200">
              <a:spcBef>
                <a:spcPts val="3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23e26"/>
              </a:solidFill>
              <a:latin typeface="Arial"/>
            </a:endParaRPr>
          </a:p>
          <a:p>
            <a:pPr lvl="3" marL="1600200" indent="-228600">
              <a:spcBef>
                <a:spcPts val="388"/>
              </a:spcBef>
              <a:buClr>
                <a:srgbClr val="402a15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402a15"/>
                </a:solidFill>
                <a:latin typeface="Arial"/>
              </a:rPr>
              <a:t>Bekonový výkrm (masný výkrm)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4" marL="2057400" indent="-228600">
              <a:spcBef>
                <a:spcPts val="388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Je prodloužený výkrm šunkový.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4" marL="2057400" indent="-228600">
              <a:spcBef>
                <a:spcPts val="388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Jeho cílem je získat libové půlky se souvislou slabou vrstvou podkožního tuku. 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4" marL="2057400" indent="-228600">
              <a:spcBef>
                <a:spcPts val="388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Jeho výrobou proslulo především Dánsko.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4" marL="2057400" indent="-228600">
              <a:spcBef>
                <a:spcPts val="388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Tento výkrm se v ČR nevyužívá.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1" marL="457200">
              <a:spcBef>
                <a:spcPts val="3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23e26"/>
              </a:solidFill>
              <a:latin typeface="Arial"/>
            </a:endParaRPr>
          </a:p>
          <a:p>
            <a:pPr lvl="3" marL="1600200" indent="-228600">
              <a:spcBef>
                <a:spcPts val="388"/>
              </a:spcBef>
              <a:buClr>
                <a:srgbClr val="402a15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402a15"/>
                </a:solidFill>
                <a:latin typeface="Arial"/>
              </a:rPr>
              <a:t>Výsekový výkrm (masný výkrm)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4" marL="2057400" indent="-228600">
              <a:spcBef>
                <a:spcPts val="388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 současné době hlavní druh výkrmu v ČR. 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4" marL="2057400" indent="-228600">
              <a:spcBef>
                <a:spcPts val="388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rasata se vykrmují do živé hmotnosti asi 100 – 110 kg. 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4" marL="2057400" indent="-228600">
              <a:spcBef>
                <a:spcPts val="388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Maso získané z těchto prasat vyhovuje jak pro přímé kuchařské zpracování, tak i pro výrobu masných výrobků.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82600" y="204480"/>
            <a:ext cx="8694720" cy="81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ZPŮSOBY VÝKRMU PRASAT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457200" y="1023840"/>
            <a:ext cx="8229600" cy="57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600200" indent="-228600">
              <a:spcBef>
                <a:spcPts val="388"/>
              </a:spcBef>
              <a:buClr>
                <a:srgbClr val="402a15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402a15"/>
                </a:solidFill>
                <a:latin typeface="Arial"/>
              </a:rPr>
              <a:t>Polosádelný výkrm 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4" marL="2057400" indent="-228600">
              <a:spcBef>
                <a:spcPts val="388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ýkrm do živé hmotnosti 150 kg. 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4" marL="2057400" indent="-228600">
              <a:spcBef>
                <a:spcPts val="388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 ohledem na prošlechtění prasat na masnou produkci se používá dnes minimálně (drobnochov – samozásobení).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1" marL="457200">
              <a:spcBef>
                <a:spcPts val="3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23e26"/>
              </a:solidFill>
              <a:latin typeface="Arial"/>
            </a:endParaRPr>
          </a:p>
          <a:p>
            <a:pPr lvl="3" marL="1600200" indent="-228600">
              <a:spcBef>
                <a:spcPts val="388"/>
              </a:spcBef>
              <a:buClr>
                <a:srgbClr val="402a15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402a15"/>
                </a:solidFill>
                <a:latin typeface="Arial"/>
              </a:rPr>
              <a:t>Sádelný výkrm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4" marL="2057400" indent="-228600">
              <a:spcBef>
                <a:spcPts val="388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ýkrm do živé hmotnosti nad 150 kg. 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4" marL="2057400" indent="-228600">
              <a:spcBef>
                <a:spcPts val="388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tejně jako předchozí druh se tento v současné době nepoužívá (nižší kvalita jatečného produktu – vyšší podíl sádla). 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>
              <a:spcBef>
                <a:spcPts val="3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23e26"/>
              </a:solidFill>
              <a:latin typeface="Arial"/>
            </a:endParaRPr>
          </a:p>
          <a:p>
            <a:pPr>
              <a:spcBef>
                <a:spcPts val="388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Podle organizace výrobního postupu</a:t>
            </a:r>
            <a:endParaRPr b="0" lang="en-US" sz="1800" spc="-1" strike="noStrike">
              <a:solidFill>
                <a:srgbClr val="523e26"/>
              </a:solidFill>
              <a:latin typeface="Arial"/>
            </a:endParaRPr>
          </a:p>
          <a:p>
            <a:pPr lvl="1" marL="457200">
              <a:spcBef>
                <a:spcPts val="388"/>
              </a:spcBef>
              <a:buClr>
                <a:srgbClr val="0011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117e"/>
                </a:solidFill>
                <a:latin typeface="Arial"/>
              </a:rPr>
              <a:t>výkrm kontinuální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1" marL="457200">
              <a:spcBef>
                <a:spcPts val="388"/>
              </a:spcBef>
              <a:buClr>
                <a:srgbClr val="0011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117e"/>
                </a:solidFill>
                <a:latin typeface="Arial"/>
              </a:rPr>
              <a:t>výkrm turnusový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402a15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402a15"/>
                </a:solidFill>
                <a:latin typeface="Arial"/>
              </a:rPr>
              <a:t>výkrm jednofázový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402a15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402a15"/>
                </a:solidFill>
                <a:latin typeface="Arial"/>
              </a:rPr>
              <a:t>výkrm dvoufázový.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82600" y="204480"/>
            <a:ext cx="8694720" cy="81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ZPŮSOBY VÝKRMU PRASAT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457200" y="1023840"/>
            <a:ext cx="8229600" cy="57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388"/>
              </a:spcBef>
              <a:buClr>
                <a:srgbClr val="0011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117e"/>
                </a:solidFill>
                <a:latin typeface="Arial"/>
              </a:rPr>
              <a:t>Kontinuální, nepřetržitý výkrm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Způsob, kdy jsou ve výkrmně všechny hmotnostní kategorie.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lynulý prodej jatečných prasat navazuje na plynulé zařazování nových selat. 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Tento postup má řadu významných nedostatků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3" marL="1600200" indent="-22860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nedovoluje náležitou asanaci prostředí, 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3" marL="1600200" indent="-22860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způsobuje permanentní neklid, 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3" marL="1600200" indent="-22860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ztěžuje optimalizaci krmení apod.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11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117e"/>
                </a:solidFill>
                <a:latin typeface="Arial"/>
              </a:rPr>
              <a:t>Turnusový výkrm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ýše uvedené nedostatky odstraňuje. 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Je náročnější na organizaci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3" marL="1600200" indent="-22860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yskladnění zvířat musí proběhnout jednorázově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3" marL="1600200" indent="-22860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následuje úprava a kontrola všech zařízení, 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3" marL="1600200" indent="-22860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dokonalá dezinfekce, 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3" marL="1600200" indent="-22860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jednorázové ustájení nové skupiny selat. 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Zastavená skupina selat by měla být náležitě vyrovnaná, aby byla záruka, že většina dosáhne jatečné zralosti ve stejném čase. 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82600" y="204480"/>
            <a:ext cx="8694720" cy="81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ZPŮSOBY VÝKRMU PRASAT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457200" y="1023840"/>
            <a:ext cx="8229600" cy="57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Dále se z organizačního hlediska rozlišujeme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402a15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402a15"/>
                </a:solidFill>
                <a:latin typeface="Arial"/>
              </a:rPr>
              <a:t>jednofázový výkrm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3" marL="1600200" indent="-22860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způsob kdy zvířata během výkrmu vykrmujeme v jedné stáji a nepřemisťujeme je, 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3" marL="1600200" indent="-22860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ýhodou je 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4" marL="2057400" indent="-228600">
              <a:spcBef>
                <a:spcPts val="388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úspora práce, 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4" marL="2057400" indent="-228600">
              <a:spcBef>
                <a:spcPts val="388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omezení neklidu a stresů.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3" marL="1600200" indent="-22860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roblémem je velikost kotce, neboť měnit počet zvířat ve skupinovém kotci je nežádoucí. 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3" marL="1600200" indent="-22860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Řešením jsou stavitelné zábrany, které umožňují přizpůsobit velikost kotce rostoucím zvířatům. 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402a15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402a15"/>
                </a:solidFill>
                <a:latin typeface="Arial"/>
              </a:rPr>
              <a:t>dvoufázový výkrm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3" marL="1600200" indent="-22860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rovádí se ve dvou stájích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4" marL="2057400" indent="-228600">
              <a:spcBef>
                <a:spcPts val="388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 předvýkrmně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4" marL="2057400" indent="-228600">
              <a:spcBef>
                <a:spcPts val="388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e vlastní výkrmové stáji.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>
              <a:spcBef>
                <a:spcPts val="3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23e26"/>
              </a:solidFill>
              <a:latin typeface="Arial"/>
            </a:endParaRPr>
          </a:p>
          <a:p>
            <a:pPr>
              <a:spcBef>
                <a:spcPts val="388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Podle konzistence krmné dávky</a:t>
            </a:r>
            <a:endParaRPr b="0" lang="en-US" sz="18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11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117e"/>
                </a:solidFill>
                <a:latin typeface="Arial"/>
              </a:rPr>
              <a:t>výkrm suchými směsmi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11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117e"/>
                </a:solidFill>
                <a:latin typeface="Arial"/>
              </a:rPr>
              <a:t>výkrm mokrými krmivy.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82600" y="204480"/>
            <a:ext cx="8694720" cy="81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ZPŮSOBY VÝKRMU PRASAT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457200" y="1023840"/>
            <a:ext cx="8229600" cy="57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388"/>
              </a:spcBef>
              <a:buClr>
                <a:srgbClr val="0011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117e"/>
                </a:solidFill>
                <a:latin typeface="Arial"/>
              </a:rPr>
              <a:t>Výkrm suchými směsmi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má výhody rázu technického (mechanizace, automatizace) a hygienického (suché krmivo nepodléhá tak zkáze)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nevýhodou je vyšší prašnost ve stáji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ušení krmiv se promítá do nákladů na krmení.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11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117e"/>
                </a:solidFill>
                <a:latin typeface="Arial"/>
              </a:rPr>
              <a:t>Výkrm mokrými krmivy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dovoluje zhodnotit statková krmiva v původním stavu, nebo po menší úpravě (vařená, pařená), ale i ostatní komponenty, jako syrovátka, kuchyňské zbytky apod, 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krmiva s vyšším obsahem vody jsou živnou půdou pro mikroorganismy a snáze se kazí a vyžadují hygienicky náročnější systém krmení. 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>
              <a:spcBef>
                <a:spcPts val="3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Mezi těmito dvěma způsoby existuje řada variant, kdy krmivo se může podávat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zvlhčené (se sušinou 70-85 %)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drobtovité (sušina 65-70 %)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e formě husté kaše (30-40 %)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e formě řídké kaše (23-30%)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nebo tekuté (při sušině pod 23 %). 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82600" y="204480"/>
            <a:ext cx="8694720" cy="81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ZPŮSOBY VÝKRMU PRASAT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6T21:45:52Z</dcterms:created>
  <dc:creator>Presentation Magazine</dc:creator>
  <dc:description/>
  <dc:language>en-US</dc:language>
  <cp:lastModifiedBy>Huk</cp:lastModifiedBy>
  <dcterms:modified xsi:type="dcterms:W3CDTF">2014-02-26T12:11:15Z</dcterms:modified>
  <cp:revision>259</cp:revision>
  <dc:subject/>
  <dc:title>Piglets template</dc:title>
</cp:coreProperties>
</file>