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F0E9-AE96-4911-8614-8994B06A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A9FA-41E8-487A-802C-CC63BD7B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21CB-345F-4454-B98B-7C6B97FF7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F6FC-F786-459A-B268-BAD07A48D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9EC6-476B-40D1-B063-BF443249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A6B4-8EC8-4F7D-B5D9-44062C270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ED13-F1D6-4749-BE89-11F096BD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25ED-2820-47F1-A254-C68B8122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F499-B2B5-4E2D-896C-16AD289B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121B-6067-4161-91C0-F07DC7D2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2299-D52A-47C3-9E73-77E4106F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F474-E9BA-49C9-AD15-A53C8351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88E3-3317-463C-AF0E-D5BB67DC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E26B-98F9-4BF4-B20E-80CC45D9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77CD-5FE7-4CD8-9C50-9EC17855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73E2-FBA2-4B62-9C6C-32851B09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A377-FF29-4BE6-8C3E-BB067106A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8299-4465-4C04-86CA-D99D3D78F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1614-65A8-48AC-B13A-4D8EBE0D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2775-D80B-4DDA-961F-FAFB46BB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C2EB-90F2-4F2C-A23B-8D52D813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D511-13AC-4ABE-AC69-48862A1C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5A94-E356-49F2-B1D4-2CD1839A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988B-60C3-4FDB-9E8C-BA21947C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IMG_3005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3CEA-1FB3-43AA-9A6C-F1C6881A22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IMG_300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1"/>
          <p:cNvSpPr/>
          <p:nvPr/>
        </p:nvSpPr>
        <p:spPr>
          <a:xfrm>
            <a:off x="0" y="4568760"/>
            <a:ext cx="9144000" cy="1892520"/>
          </a:xfrm>
          <a:prstGeom prst="rect">
            <a:avLst/>
          </a:prstGeom>
          <a:solidFill>
            <a:srgbClr val="8c7b7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23e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EFBE-9DF7-4117-88B6-E0F363D02A2C}" type="slidenum">
              <a:rPr b="0" lang="en-GB" sz="1400" spc="-1" strike="noStrike">
                <a:solidFill>
                  <a:srgbClr val="523e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3090960"/>
            <a:ext cx="792792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PLEMENÁŘSKÁ PRÁCE V CHOVU PRASAT</a:t>
            </a:r>
            <a:endParaRPr b="0" lang="en-US" sz="60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24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125" name="TextovéPole 4"/>
          <p:cNvSpPr/>
          <p:nvPr/>
        </p:nvSpPr>
        <p:spPr>
          <a:xfrm>
            <a:off x="2209680" y="213372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_32_INOVACE_147_Chov_prasa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6" name="TextovéPole 5"/>
          <p:cNvSpPr/>
          <p:nvPr/>
        </p:nvSpPr>
        <p:spPr>
          <a:xfrm>
            <a:off x="572436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r:  Ing. Miroslav Huk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115848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koušky vlastní užitkovosti plemenných prasa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ílem je získání informací o užitkovém typu zvířete před zařazením do plemenitby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vádí se u kanečků ve ŠCH a v RCH při živé hmotnosti 80-120 kg a u prasniček při živé hmotnosti 70-110 kg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jišťuje se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ůměrný denní přírůstek od narozen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stranní výška hřbetního tuku a hloubka zádového svalu ultrazvukem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še řeší specializovaný pracovník plemenářské služby, která zpracovává výsledky měření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KOUŠKY VLASTNÍ UŽITKOVOSTI PLEMENNÝCH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546200"/>
            <a:ext cx="822960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koušky výkrmnosti a jatečné hodnoty potomstva plemenných kanců a prasnic – zkoušky VHJ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vádí se ve stanicích kontroly výkrmnosti a dědičnosti prasat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ntrolují se kanci a prasnice plemen a linií chovaných ve ŠCH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 prověření kance nutno vyhodnotit 5 dvojic (5 vepřů, 5 prasnic)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 prověření prasnice stačí vyhodnotit 1 dvojici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věřují se zdraví odstávčata z 1. nebo 2. vrhu ve hmotnosti 20-28 kg (věk nemá přesáhnout 90 dní)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lastní test trvá od 30 do100 kg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vířata jsou krmená KS podle jednotné receptury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 dosažení jatečné hmotnosti jsou poražena a je posouzena jejich jatečná hodnota a kvalita masa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KOUŠKY VÝKRMNOSTI A JATEČNÉ HODNOTY POTOMSTVA PLEMENNÝCH KANCŮ A PRASNIC – ZKOUŠKY VHJ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158840"/>
            <a:ext cx="8229600" cy="55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ntrola dědičnosti užitkových vlastností prasa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vádí se u všech plemenných kanců ve ŠCH a u vybraných kanců v RCH nebo užitkových chovech (UCH)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odnotí se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lastní užitkovost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krmnost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atečná hodnota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istokrevného potomstva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ybridního potomstva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anec je vyhodnocen jako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lepšovatel – symbol +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diferent – symbol +-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horšovatel – symbol -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NTROLA DĚDIČNOSTI UŽITKOVÝCH VLASTNOSTÍ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1158840"/>
            <a:ext cx="8229600" cy="55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rvalé a čitelné označení prasat je podmínkou plemenářské i chovatelské práce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vádí se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továním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rubováním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ošným tetováním (tetovací pistolí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šními známkami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mocí elektronických prvků – čipy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 označování zvířat úzce navazuje evidence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NTROLA DĚDIČNOSTI UŽITKOVÝCH VLASTNOSTÍ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Object 3"/>
          <p:cNvGraphicFramePr/>
          <p:nvPr/>
        </p:nvGraphicFramePr>
        <p:xfrm>
          <a:off x="15840" y="1044720"/>
          <a:ext cx="9128160" cy="489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0" y="1044720"/>
                    <a:ext cx="9128160" cy="48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ZOR REGISTRU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6" name="Obdélník 5"/>
          <p:cNvSpPr/>
          <p:nvPr/>
        </p:nvSpPr>
        <p:spPr>
          <a:xfrm>
            <a:off x="15840" y="5937120"/>
            <a:ext cx="5946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píše se počáteční stav, potom se píší přírůstky a úbytky seřazené podle data. V případě přesunů zvířat se píše odkud a kam se zvířata přesunula.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ZOR REGISTRU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graphicFrame>
        <p:nvGraphicFramePr>
          <p:cNvPr id="158" name="Object 3"/>
          <p:cNvGraphicFramePr/>
          <p:nvPr/>
        </p:nvGraphicFramePr>
        <p:xfrm>
          <a:off x="28440" y="1068480"/>
          <a:ext cx="8974440" cy="493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40" y="1068480"/>
                    <a:ext cx="8974440" cy="49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Obdélník 5"/>
          <p:cNvSpPr/>
          <p:nvPr/>
        </p:nvSpPr>
        <p:spPr>
          <a:xfrm>
            <a:off x="28440" y="5780160"/>
            <a:ext cx="6037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yplňuje se obdobně – pouze přírůstky a úbytky stejného typu se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čítají bez ohledu na datum,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př. 1 řádkem se zapíší všechna narozená selata v měsíci. Pokud nedojde ke změně – neposílá se.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6" descr="http://eagri.cz/public/web/ws_content?contentKind=image&amp;section=1&amp;id=136-204e.pcx"/>
          <p:cNvPicPr/>
          <p:nvPr/>
        </p:nvPicPr>
        <p:blipFill>
          <a:blip r:embed="rId1"/>
          <a:stretch/>
        </p:blipFill>
        <p:spPr>
          <a:xfrm>
            <a:off x="4559400" y="0"/>
            <a:ext cx="45846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http://eagri.cz/public/web/ws_content?contentKind=image&amp;section=1&amp;id=136-204d.pcx"/>
          <p:cNvPicPr/>
          <p:nvPr/>
        </p:nvPicPr>
        <p:blipFill>
          <a:blip r:embed="rId2"/>
          <a:stretch/>
        </p:blipFill>
        <p:spPr>
          <a:xfrm>
            <a:off x="0" y="0"/>
            <a:ext cx="455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7200" y="113328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MIŠKOVSKÝ, DOC. ING. CS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,Zdeněk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Chov zvířat 2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Vydání první. Praha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CREDIT –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ydavatelství agentura, 1995. 249 s. ISBN 80-901645-4-4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SAMBRAUS, Hans Hinrich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Atlas plemen hospodářských zvířat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Vydání první. Praha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Nakladatelství Brázda, s.r.o., 2006. 296 s. ISBN 80-209-0344-5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ARGA, ING., Stanislav; KREJČÍ, ING., Vladimír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Zemědělská výroba II.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ydání druhé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Praha: Institu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ýchovy a vzdělávání Ministerstva zemědělství České republiky, 1995. 236s. ISBN 80-7105-092-X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ARGA, ING., Stanislav; KREJČÍ, ING., Vladimír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Zemědělská výroba II.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ydání druhé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Praha: Institu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ýchovy a vzdělávání Ministerstva zemědělství České republiky, 19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86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296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s. ISBN 8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-7105-019-9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URBAN, J., ŠARAPATKA, B., a kol. Ekologické zemědělství: učebnice pro školy i praxi - I. díl. Vydání první. Praha: MŽP a Svaz PRO-BIO, 2003, 280 s. ISBN 80-7212-274-6.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ŠARAPATKA, B., URBAN, J., a kol. Ekologické zemědělství: učebnice pro školy i praxi - II. díl. Vydání první Šumperk: Svaz PRO-BIO, 2005, 334 s. ISBN 80-903583-0-9.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BURDA, František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Zemědělsk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 výrob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y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2 –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živočišné výrobky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Vydání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vní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Praha: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tátní zemědělské nakladatelství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, 1995. 236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s. ISBN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07-000-86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TUPKA, CSC., Doc. Ing. Roman, Doc. Ing. Michal ŠPRYSL, CSC. a Ing. Jaroslav ČÍTEK, PH.D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Základy chovu pras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Vydání první. Praha: PowerPrint, 2009. ISBN 978-80-904011-2-9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www.ksz.zf.jcu.cz/studium.../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Chov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%20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ras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/.../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vyzna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chov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rasat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www.ksz.af.czu.cz/predmety/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chovpras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ks/projektvzor.pdf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www.receptynamaso.cz/tag/bok-s-kosti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523e26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lbertus Medium"/>
              </a:rPr>
              <a:t>http://www.svobodazvirat.cz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www.ksz.af.czu.cz/plemenaprasat/domestikace1.htm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http://www.ksz.zf.jcu.cz/studium/Chov-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rasat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//uzitkove-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vlastnosti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-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rasat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http://www.znamky.szesro.cz/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rasata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/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ůvod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_a_20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rozdělení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_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lemen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http://www.szs-bnl.wz.cz/download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UŽITÉ ZDROJE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457200" y="990720"/>
          <a:ext cx="8229600" cy="568476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7b7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7b70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ovace a zkvalitnění výuky prostřednictvím ICT (III/2) 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emenářská práce v chovu prasa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Y_32_INOVACE_147_Chov_prasa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-51-H/01 Zemědělec – farmář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v zvířa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řet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. 11., 06. 11. 2013 KF 3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27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ýběr a hodnocení plemenných prasat, zásady hodnocení typu, konstituce a zevnějšku, kontrola užitkovosti a dědičnosti prasat, kontrola užitkových a reprodukčních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astností prasat, zkoušky užitkovosti, výkrmnosti a jatečné hodnoty potomstva, kontrola dědičnosti prasat, vzor registru prasat.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28" name="Rectangle 2"/>
          <p:cNvSpPr/>
          <p:nvPr/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d2015"/>
                </a:solidFill>
                <a:latin typeface="Arial"/>
              </a:rPr>
              <a:t>Záznamový list výukového materiálu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5120" y="4662000"/>
            <a:ext cx="7772400" cy="13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LEMENÁŘSKÁ PRÁCE V CHOVU PRAS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0" name="TextovéPole 5"/>
          <p:cNvSpPr/>
          <p:nvPr/>
        </p:nvSpPr>
        <p:spPr>
          <a:xfrm>
            <a:off x="5710320" y="59990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r:  Ing. Miroslav Huk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LEMENÁŘSKÁ PRÁCE V CHOVU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3320" y="1023480"/>
            <a:ext cx="831996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emenářská práce se podílí na tom, aby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hlavní produkt chov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JATEČNÉ PRAS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odpovídal požadavkům výrobců, zpracovatelů i konzumentů vepřového masa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0">
              <a:spcBef>
                <a:spcPts val="3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zajišťována Svazen chovatelů prasat v Čechách a na Moravě prostřednictvím plemenné knihy (PK)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0">
              <a:spcBef>
                <a:spcPts val="3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emenná kniha  je vedená pro každé uznané a povolené plemeno prasat v ČR a má dvě úrovně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ntrální plemenná kniha (CPK)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gionální plemenná kniha (RPK)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0">
              <a:spcBef>
                <a:spcPts val="3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asata, jejich potomstvo, embrya, sperma, vajíčka, která nejsou zapsána do plemenné knihy se nepovažují za plemenná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0">
              <a:spcBef>
                <a:spcPts val="3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elekce (výběr) je zaměřena jednak na reprodukční vlastnosti (plodnost, mléčnost) a dále na produkční vlastnosti (výkrmnost a jatečná hodnota)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7200" y="115848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ýběr a hodnocení plemenných prasa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běr je základním článkem plemenářské práce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dmínkou úspěšnosti výběru je dostatek informací a jejich správné vyhodnocení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 chovu prasat se výběr zaměřuje hlavně na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reprodukční vlastnosti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 případě mateřských plemen (BU,L,Pc,popř.D), v případě otcovských plemen (D,H,BL,Pn,ČVM) na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vlastnosti produkč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lastní proces selekce využívá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odnocení exteriéru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ntrolu užitkovosti (KU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ntrolu dědičnosti (KD) užitkových vlastností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 hodnocení se zjištěné výsledky zpracovávají pomocí matematických a statistických metod do tzv. selekčních indexů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elekční index je číslo charakterizující plemennou hodnotu zvířete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emenná zvířata (prasnice a kanci) jsou na základě dosažených výsledků zařazeny do výsledné třídy plemenné hodnoty ER, Ea, Eb, I, II. (ER – elita rekord, Ea – elita a, Eb – elita b, I a II třída)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BĚR A HODNOCENÍ PLEMENNÝCH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15848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ásady hodnocení exteriéru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 hodnocení typu, konstituce a zevnějšku (TZK) patří zjišťování základních tělesných rozměrů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 každého jedince sledujeme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emenný a užitkový typ, celkovou ušlechtilost a harmonii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nstituci a zdrav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ělesný rámec, tělesnou stavbu, vazbu předo-, středo- a zadotrup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nčetiny a chůzi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mperament, pohlavní výraz, struky, u kanců varlata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ÁSADY HODNOCENÍ EXTERIÉRU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– TYPU, KONSTITUCE A ZEVNĚJŠKU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37" name="Obrázek 4" descr=""/>
          <p:cNvPicPr/>
          <p:nvPr/>
        </p:nvPicPr>
        <p:blipFill>
          <a:blip r:embed="rId1"/>
          <a:stretch/>
        </p:blipFill>
        <p:spPr>
          <a:xfrm>
            <a:off x="0" y="3948120"/>
            <a:ext cx="4757760" cy="2909880"/>
          </a:xfrm>
          <a:prstGeom prst="rect">
            <a:avLst/>
          </a:prstGeom>
          <a:ln w="0">
            <a:noFill/>
          </a:ln>
        </p:spPr>
      </p:pic>
      <p:sp>
        <p:nvSpPr>
          <p:cNvPr id="138" name="TextovéPole 5"/>
          <p:cNvSpPr/>
          <p:nvPr/>
        </p:nvSpPr>
        <p:spPr>
          <a:xfrm>
            <a:off x="4757760" y="3946680"/>
            <a:ext cx="3929040" cy="23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ýška v kohoutku,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loubka hrudi, 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írka hrudi,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ýška zádi,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Šířka zádi,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élka těla,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bvod hrudi,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bvod holeně.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ěřeno holí nebo páskovou mírou</a:t>
            </a:r>
            <a:r>
              <a:rPr b="0" lang="cs-CZ" sz="1400" spc="-1" strike="noStrike">
                <a:solidFill>
                  <a:srgbClr val="2d2015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158840"/>
            <a:ext cx="8229600" cy="55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ntrola užitkovosti a dědičnosti prasa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vádí se u kanců, prasnic a jejich potomstva ve šlechtitelských chovech (ŠCH) a rozmnožovacích chovech (RCH)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oučasně se provádí kontrola zdraví a dědičnosti zdraví (veterinární správa)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asnice se zařazují do kontroly užitkovosti (KU) počínaje prvním vrhem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vidují se v tzv.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MATRICE PRASNIC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anci jsou zařazeni do KU zapsáním do tzv.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REGISTRU KANCŮ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to seznam kanců působících v inseminaci nebo přirozené plemenitbě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ntrola užitkových vlastností prasat v ČR zahrnuje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ntrolu reprodukčních vlastností kanců a prasnic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koušky vlastní užitkovosti plemenných prasat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koušky výkrmnosti a jatečné hodnoty potomstva plemenných kanců a prasnic včetně zjišťování kvalita masa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NTROLA UŽITKOVOSTI A DĚDIČNOSTI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115848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ntrola reprodukčních vlastností prasa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U kanců působících v inseminaci a v přirozené plemenitbě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e ŠCH a RCH se kontroluje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odnost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otožnost kance použitého k inseminaci či připouštěn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čet všech narozených selat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čet živě narozených selat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U prasnic ve šlechtitelských chovech se zjišťuje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atum zapuštění nebo inseminace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čet všech narozených selat a počet živě narozených selat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čet dochovaných selat do 21 dnů (tolerance 18-24 dnů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lková hmotnost vrhu v 21 dnech, z toho se usuzuje na kvalitu mléčnosti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čet zakrslých selat (do 3,5 kg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hlaví selat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čet struků u selat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atum oprasení a datum odstavu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NTROLA REPRODUKČNÍCH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LASTNOSTÍ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1158840"/>
            <a:ext cx="8229600" cy="55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ntrola reprodukčních vlastností prasa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U prasnic v rozmnožovacích chovech se zjišťuje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atum zapuštění nebo inseminace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čet struků pouze u prasnic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elata se ve třech týdnech neváž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čet zakrslých selat se odhaduje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atum oprasení a datum odstavu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Povinnosti chovatele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 kontrole reprodukčních vlastností kanců a prasat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ložit tzv.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DENÍK REPRODUKC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 24 hod. po každé změně udělat záznam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NTROLA REPRODUKČNÍCH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LASTNOSTÍ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21:45:52Z</dcterms:created>
  <dc:creator>Presentation Magazine</dc:creator>
  <dc:description/>
  <dc:language>en-US</dc:language>
  <cp:lastModifiedBy>Huk</cp:lastModifiedBy>
  <dcterms:modified xsi:type="dcterms:W3CDTF">2014-02-15T10:00:11Z</dcterms:modified>
  <cp:revision>185</cp:revision>
  <dc:subject/>
  <dc:title>Piglets template</dc:title>
</cp:coreProperties>
</file>