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FAD7-C533-45CD-8914-98F82EC8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D18-1BEB-4A21-AA92-09958E2F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63D4-BA9E-40B0-B981-262C0BCE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802-BB26-49F2-9F0A-97992015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155-FC16-44B1-8045-90DFB559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60B7-7E57-4DF0-87F7-C5FD1E5A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76AC-54E8-4786-BA7D-97AE1342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9FAA-5CA1-498C-AFA0-052D6541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E0C2-F1A0-4A04-9941-19EC4683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4C88-C06F-47FE-B335-56FA99D7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210-16C2-4254-99BD-708EC699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C091-2A6C-4064-8937-A3328DC4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BD9E-B90D-46EF-8E12-8DA8C635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504E-9D24-4E68-A720-B7BA4B80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9156-C874-4D43-BE74-B812E700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DDA2-2383-4251-816D-E544F8BA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04BF-6C19-4BD2-B075-17BC07A4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D501-850D-45CE-BC03-D62E1DBF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158-B965-44FA-A3C3-CC4EA30A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9500-CB1E-47A5-B4B8-E1209089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297-25D7-4E7E-858B-67EF6486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A8A-D203-4774-BC79-C2D5C82A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C77-693C-4E5B-A53E-D553C9EB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661-A8AA-4957-8732-149359F5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MG_3005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AB2B-7FAE-4B76-9DCD-AAF5FDEE8D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IMG_3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0" y="4568760"/>
            <a:ext cx="9144000" cy="1892520"/>
          </a:xfrm>
          <a:prstGeom prst="rect">
            <a:avLst/>
          </a:prstGeom>
          <a:solidFill>
            <a:srgbClr val="8c7b7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23e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9974-A323-46A8-AFA9-63C1C0157E37}" type="slidenum">
              <a:rPr b="0" lang="en-GB" sz="1400" spc="-1" strike="noStrike">
                <a:solidFill>
                  <a:srgbClr val="523e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927920" cy="16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UŽITKOVÉ VLASTNOSTI PRASAT</a:t>
            </a:r>
            <a:endParaRPr b="0" lang="en-US" sz="5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24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_32_INOVACE_143_Chov_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6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kostní odchylky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nzivní selekce prasat na maximální podíl libové svaloviny v jatečné půlce bývá provázena zvýšenou citlivostí zvířat ke stresu, což se projevuje výskytem vad masa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maso PS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pale – saft – exudative,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bledý – měkký – vodnat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maso DFD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dark – firm – dry,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tmavý – tuhý – such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de o maso nemocných zvířat, jde o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jakostní vadu masa, ke které dochází teprve po porážce zvířat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důsledku abnormálních biochemických změn masa, což je podmíněno již uvedenými faktory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SE – mas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 vyznačuje vodnatou konzistencí, nízkou vazností vody, což je provázeno hmotnostními ztrátami při chladírenském ošetření a technologickém opracování masa 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 prasat s PSE masem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ůstává kyselina mléčná ve svalových buňkách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H je proto za 45 minut po porážce nízké – 5,8 a méně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DFD – mas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á tmavou barvu, tuhou konzistenci, je suché, tj. neuvolňuje šťávu, má často lepivý povrch. I když se toto maso vyznačuje dobrou vazností vody, jeho skladovatelnost je velmi nízká, protože rychle podléhá mikrobiálnímu rozkladu (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u prasat s DFD masem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chází kyselina mléčná ještě bezprostředně před porážkou ze svalových buněk do krve, takže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hodnota pH je vysoká – 6,2 a ví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457200" y="204840"/>
            <a:ext cx="8229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KČNÍ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arva masa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znamná kvalitativní vlastnost masa, spotřebitel ji při nákupu přímo smyslově posuzuje. Optický dojem je velmi důležitý, zvláště při prodeji porcovaného nebo balíčkovaného mas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arva masa je závislá především na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centraci svalového barviva – závisí na plemenné příslušnosti, stupni únavy, zdravotním stavu, věku aj.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tické hodnotě – závisí na stupni zralosti masa, s níž úzce souvisí stupeň hydratace bílkovin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ivní posouzení barvy umožňuje použití fotometrických přístrojů.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457200" y="204840"/>
            <a:ext cx="8229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KČNÍ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Šťavnatos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chopnost masa poutat vodu a udržet ji při kuchyňském zpracování i při výrobě masných výrobk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azno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 fyzikálně chemického hlediska síla, kterou bílkoviny masa udržují část své vlastní vody a jisté množství vody přidané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technologickém smyslu schopnost masa udržet při mechanickém namáhání (tlakem či teplotou) vodu přirozeně přítomnou v mase, popř. i vodu přidano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emnos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uhost, křehkost – je dána množstvím vaziva ve svalech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ramorování masa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ditelný mezisvalový tuk, nezbytný při všech úpravách mas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ČR se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ontrola jakostních odchylek vepřového mas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SE a DFD) provádí: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základě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měření hodnot pH</a:t>
            </a:r>
            <a:r>
              <a:rPr b="1" lang="cs-CZ" sz="16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za 45 - 60 minut po porážce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základě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měření hodnot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H</a:t>
            </a:r>
            <a:r>
              <a:rPr b="1" lang="cs-CZ" sz="1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za 24 hodin po porážce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základě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měření barvy vepřového mas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 24 hodin po porážc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457200" y="204840"/>
            <a:ext cx="8229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KČNÍ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valitativní vlastnosti sádla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suzují se podle těchto hledisek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arv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zistenc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uť a vůně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osti sádla jsou podmíněny poměrem nasycených a nenasycených mastných kyselin. 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ím více nenasycených kyselin má sádlo, tím je mazlavější a měkčí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valitní vyškvařené sádlo má bílou barvu, zrnitou, masťovitou konzistenci, příjemnou chuť a vůni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kvarky jsou též využívány v lidské potravě a jako krmivo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57200" y="204840"/>
            <a:ext cx="8229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KČNÍ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13364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IŠKOVSKÝ, DOC. ING. C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,Zdeněk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hov zvířat 2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REDIT –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avatelství agentura, 1995. 249 s. ISBN 80-901645-4-4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AMBRAUS, Hans Hinrich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Atlas plemen hospodářských zvířat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Nakladatelství Brázda, s.r.o., 2006. 296 s. ISBN 80-209-0344-5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95. 236s. ISBN 80-7105-092-X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96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8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-7105-019-9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RBAN, J., ŠARAPATKA, B., a kol. Ekologické zemědělství: učebnice pro školy i praxi - I. díl. Vydání první. Praha: MŽP a Svaz PRO-BIO, 2003, 280 s. ISBN 80-7212-274-6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ARAPATKA, B., URBAN, J., a kol. Ekologické zemědělství: učebnice pro školy i praxi - II. díl. Vydání první Šumperk: Svaz PRO-BIO, 2005, 334 s. ISBN 80-903583-0-9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BURDA, František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výro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y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 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živočišné výrobky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Vydání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vn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tátní zemědělské nakladatelstv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, 1995. 23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07-000-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STUPKA, CSC., Doc. Ing. Roman, Doc. Ing. Michal ŠPRYSL, CSC. a Ing. Jaroslav ČÍTEK, PH.D. </a:t>
            </a:r>
            <a:r>
              <a:rPr b="0" i="1" lang="cs-CZ" sz="1200" spc="-1" strike="noStrike">
                <a:solidFill>
                  <a:srgbClr val="2d2015"/>
                </a:solidFill>
                <a:latin typeface="Arial"/>
              </a:rPr>
              <a:t>Základy chovu prasat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. Vydání první. Praha: PowerPrint, 2009. ISBN 978-80-904011-2-9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www.ksz.zf.jcu.cz/studium.../</a:t>
            </a:r>
            <a:r>
              <a:rPr b="1" lang="cs-CZ" sz="1200" spc="-1" strike="noStrike">
                <a:solidFill>
                  <a:srgbClr val="2d2015"/>
                </a:solidFill>
                <a:latin typeface="Arial"/>
              </a:rPr>
              <a:t>Chov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%20</a:t>
            </a:r>
            <a:r>
              <a:rPr b="1" lang="cs-CZ" sz="1200" spc="-1" strike="noStrike">
                <a:solidFill>
                  <a:srgbClr val="2d2015"/>
                </a:solidFill>
                <a:latin typeface="Arial"/>
              </a:rPr>
              <a:t>prasat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/.../</a:t>
            </a:r>
            <a:r>
              <a:rPr b="1" lang="cs-CZ" sz="1200" spc="-1" strike="noStrike">
                <a:solidFill>
                  <a:srgbClr val="2d2015"/>
                </a:solidFill>
                <a:latin typeface="Arial"/>
              </a:rPr>
              <a:t>vyznam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2d2015"/>
                </a:solidFill>
                <a:latin typeface="Arial"/>
              </a:rPr>
              <a:t>chovu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2d2015"/>
                </a:solidFill>
                <a:latin typeface="Arial"/>
              </a:rPr>
              <a:t>prasat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ww.ksz.af.czu.cz/predmety/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hov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ks/projektvzor.pdf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receptynamaso.cz/tag/bok-s-kosti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523e2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lbertus Medium"/>
              </a:rPr>
              <a:t>http://www.svobodazvirat.cz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ksz.af.czu.cz/plemenaprasat/domestikace1.htm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ksz.zf.jcu.cz/studium/Chov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//uzitkove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vlastnosti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1371600"/>
          <a:ext cx="8229600" cy="494820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žitkové vlastnosti 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Y_32_INOVACE_143_Chov_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řet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.10., 11.10. 2013 KF 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žitkové vlastnosti prasat, jejich rozdělení, reprodukční vlastnosti prasat a produkční vlastnosti prasat.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015"/>
                          </a:solidFill>
                          <a:latin typeface="Arial"/>
                          <a:ea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d2015"/>
                </a:solidFill>
                <a:latin typeface="Arial"/>
              </a:rPr>
              <a:t>Záznamový list výukového materiál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5120" y="46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UŽITKOVÉ VLASTNOSTI PRAS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0" name="TextovéPole 5"/>
          <p:cNvSpPr/>
          <p:nvPr/>
        </p:nvSpPr>
        <p:spPr>
          <a:xfrm>
            <a:off x="5710320" y="59990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ŽITKOVÉ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žitkové vlastnosti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itkové vlastnosti (znaky) prasat dělíme do dvou základních skupin: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reprodukč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odnos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éčnos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rodukč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krmnos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tečná hodnot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33" name="Obrázek 1" descr=""/>
          <p:cNvPicPr/>
          <p:nvPr/>
        </p:nvPicPr>
        <p:blipFill>
          <a:blip r:embed="rId1"/>
          <a:stretch/>
        </p:blipFill>
        <p:spPr>
          <a:xfrm>
            <a:off x="1004760" y="3219480"/>
            <a:ext cx="41356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lodnos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schopnost prasnice produkovat určitý počet selat ve vrh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schopnost kance produkovat kvalitní sperm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suzujeme ji podle počtu narozených selat (živě i mrtvě) a rozeznáváme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otencionální plodnost</a:t>
            </a: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schopnost prasnice uvolňovat během říje vajíčka schopná oplození bez ohledu na </a:t>
            </a:r>
            <a:r>
              <a:rPr b="0" lang="cs-CZ" sz="1600" spc="-1" strike="noStrike">
                <a:solidFill>
                  <a:srgbClr val="291f13"/>
                </a:solidFill>
                <a:latin typeface="Arial"/>
              </a:rPr>
              <a:t>jejich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další vývoj (během 1 říje se jich uvolní 14 – 20 - 25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skutečná</a:t>
            </a: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lodnost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charakterizována počtem živě narozených sela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odnost stoupá do 4.-5. vrh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 prasnice za rok požadujeme v průměru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2,2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rh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ivy působící na plodnost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devším výživ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statní vnější vliv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ruchy plodnosti zahrnující tyto jevy – SMEDI syndrom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stillbirth (mrtvě narozená selata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mumification (mumifikovaná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ED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embronic death (embryonální úmrtnost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infertility (neplodnost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PRODUKČNÍ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léčnos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schopnost prasnice produkovat mléko v době sání sela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asové období, po které trvá vyměšování mléka  se nazývá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lakt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u prasnice až 12 týdnů)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ootechnicky se vyjadřuje –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motností vrhu v 21 dnech věku sela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silně ovlivněna podmínkami vnějšího prostřed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éko – albuminové, bílkoviny (5,5 %), tuk (7 %), mléčný cukr (4 %), popeloviny (0,8 %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nutno, aby prvních 36 hodin po narození přijala selata co nejvíce mleziva (vytvoření pasivní imunity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nní produkce mléka je asi 5-8 kg, tj. asi 300 kg za laktaci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éko je jediným zdrojem výživy pro selata do věku 21 dní – prasnice je během laktace nutno intenzivně krmi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vyrovnanost vrhu</a:t>
            </a: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doplňující kritérium pro hodnocení mléčnosti (vyjadřuje odchylku hmotnosti jednotlivých selat od průměrné hmotnosti selete ve vrhu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PRODUKČNÍ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krmnos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jadřuje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schopnost prasete vytvářet z přijaté potravy jatečné produkt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krmnost posuzujeme: 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ůměrnými denními přírůstk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ukazatel růstu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potřebou krmiva, resp. metabolizované energie/1kg přírůstku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yjadřuje efektivnost výkrmu)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nak se střední dědivost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krmnost je ovlivňována: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žitkovým type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hlaví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krmeností apod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populace masných plemen a hybridů je třeba v souvislosti s přechodem na objektivní hodnocení jatečné hodnoty pamatovat si následující pravidla chovu: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žádné prase nemůže tvořit svalovinu (maso) až k hranici,  která je podmíněna jeho dědičným založením, aniž by mělo v krmné dávce zajištěno dostatečné množství bílkoviny vysoké biologické hodnot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žádné prase nemůže být mimořádně velkými přídavky bílkovin nuceno vytvářet více svaloviny než mu umožňuje dědičné  založe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stliže je kryta potřeba prasete pro zachování života a pro  produkci masa, musí být zbytek krmiva využit k tvorbě tuk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DUKČNÍ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Zástupný symbol pro obsah 2" descr=""/>
          <p:cNvPicPr/>
          <p:nvPr/>
        </p:nvPicPr>
        <p:blipFill>
          <a:blip r:embed="rId1"/>
          <a:stretch/>
        </p:blipFill>
        <p:spPr>
          <a:xfrm>
            <a:off x="457200" y="1023840"/>
            <a:ext cx="8229600" cy="5724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DUKČNÍ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vantitativní ukazatele jatečné hodnoty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odíl cenných část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HMČ (hlavní masité části) – kýta, pečeně, krkovička, plec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odíl tučných část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ukové krytí HMČ, plstní sádlo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odíl méněcenných část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bok, paždík, lalok, kolínko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odíl jatečných odřezků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hlava, nožičky, ocásek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oměr masa a tuku, resp. kostí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valitavní ukazatele jatečné hodnoty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arv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ťavnatos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řehkos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ramorová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loušťka svalových vláken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uť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ůně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valitu masa ovlivňují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ědičná dispozic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nější vlivy (60-80 %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ěk, způsob výkrmu, složení krmné dávky, plemeno, pohlaví, předporážkové ošetření jatečných zvířat, omráčení, vykrvení apod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DUKČNÍ VLASTNOSTI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21:45:52Z</dcterms:created>
  <dc:creator>Presentation Magazine</dc:creator>
  <dc:description/>
  <dc:language>en-US</dc:language>
  <cp:lastModifiedBy>Huk</cp:lastModifiedBy>
  <dcterms:modified xsi:type="dcterms:W3CDTF">2014-02-12T15:08:24Z</dcterms:modified>
  <cp:revision>144</cp:revision>
  <dc:subject/>
  <dc:title>Piglets template</dc:title>
</cp:coreProperties>
</file>