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D66-369F-47C1-B48C-9B9B5985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75E-847E-4CEA-940A-21A57BD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53B-B060-4C77-8EFE-B4A49CBE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FDF-B94A-46FD-913E-C4EB9F94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825-0342-4173-87D3-7B0281F5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26BB-7A2E-493E-A46F-B27DCFF6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CF7D-EF35-42BE-9F92-9FAA22A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B34-DE9E-4EDF-8E5B-DA34908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61B4-5E8C-463A-B9B2-19C5B51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46FE-E805-43B3-9708-B5B25F91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B37-9313-49FF-AD7A-3BA5A24D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312-72E9-4230-870A-6D667E26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4A5E-0547-41AF-AB02-A0DB14C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6B00-EB4A-428A-A1DA-20D7CF9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2FE5-46F7-44BA-8B72-59C5BCD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9B82-EF0F-4052-B2C8-0A9F2328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CFD-BDFA-47A6-B037-5E88253C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481A-958D-45B0-B102-19983B21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217-1A6A-43F7-945A-9A0407C3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536-7B9F-43FD-974D-0281ED9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896-6DBF-45EF-9A75-AAD4FBB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A30-5B0F-44E5-AFE6-FE0DD76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30E-2F39-4058-AA48-53777A3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F7D-44AA-4F6A-98FA-D42ADE7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E1E2-A2A6-4BD6-8E78-C03F3CB42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0DC2-5C21-4DE1-B437-36170E4DD3D5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DOMESTIKACE PRASAT</a:t>
            </a:r>
            <a:endParaRPr b="0" lang="en-US" sz="5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2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d2015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17288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á doba je charakterizována poklesem celkových stavů prasat i prasnic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ek poklesu spotřeby vepřového masa (z 50 kg na 40 kg na 1 obyvatele a rok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žování nákladů (hlavně na krmné směsi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ek dovozů vepřového masa i živých prasat z E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proti úplné soběstačnosti v osmdesátých letech minulého století je stávající soběstačnost asi pouze 70 %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hledem k ekonomické krizi se nemůžeme domnívat, že by se tato vyhnula agrárnímu sektoru, tudíž stávající trend bude patrně pokračovat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OUČASNÝ STAV A PERSPEKTIVY CHOV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asven-vyuka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estikace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2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.10., 09.10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ákladní typy divokých prasat, proces domestikace, území domestikace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e je jedním z nejstarších domácích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dobí 10 000 let před naším letopočtem počali lidé rozpoznávat výhodné vlastnosti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ci dnešních prasat se vyskytovali v rozsáhlých oblastech Blízkého východu a v severní Afric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es se počet druhů prasat odhaduje na 36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 se od sebe liší v různosti utváření lebky, velikosti a tvaru trupu, délce, hustotě a barvě štětin, počtu struků, plodností, hmotnost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vropské divoké pras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stavuje typický sádelný užitkový typ s klínovitou hlavou, na vysoké noze, méně osvalené, však velmi mobil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Asijské divoké pr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ětšinou černé, představuje raně sádelný užitkový typ, je malé, jemné konstituce, s vysokou schopností ukládat tuk. Jsou málo mobilní, však vysoce plodná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hodným křížením výše uvedených druhů v dávnověku vzniklo ve středomoří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ase střed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edstavující prakticky průměr obou typ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ces domestika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mestikace hospodářských zvířat, včetně prasete, je výslednicí morfologických, fyziologických a psychologických změn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orfolog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dná se o snížení tělesné velikosti, zjemnění kostry, změnu tvarů lebky, zvýšení velikosti a funkce svalů, změny tučnosti, v mnohém i kožních změn, jako pigmentace, barvy, štěti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fyziolog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jedná se o lepší metabolický výkon organismu, spočívající ve větším objemu a délce střeva, tedy vyšší žravosti a využití krmiva, nižší hmotnosti srdce, jater a sleziny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sychik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odrazem nižší hmotnosti mozku (o 34%), jde o výrazně nižší efektivitu smyslů (oko, čich, sluch), nižší agresivitu a tím adaptaci k lidskému prostřed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imo uvedené změny, se procesem domestikace prasete výrazně zvýšila jeho plodnos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76000" y="1023840"/>
            <a:ext cx="811044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523e2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1327320"/>
            <a:ext cx="4211640" cy="5530680"/>
          </a:xfrm>
          <a:prstGeom prst="rect">
            <a:avLst/>
          </a:prstGeom>
          <a:ln w="0">
            <a:noFill/>
          </a:ln>
        </p:spPr>
      </p:pic>
      <p:grpSp>
        <p:nvGrpSpPr>
          <p:cNvPr id="138" name="Skupina 9"/>
          <p:cNvGrpSpPr/>
          <p:nvPr/>
        </p:nvGrpSpPr>
        <p:grpSpPr>
          <a:xfrm>
            <a:off x="3591000" y="2060640"/>
            <a:ext cx="5424480" cy="2881080"/>
            <a:chOff x="3591000" y="2060640"/>
            <a:chExt cx="5424480" cy="2881080"/>
          </a:xfrm>
        </p:grpSpPr>
        <p:pic>
          <p:nvPicPr>
            <p:cNvPr id="139" name="Picture 4" descr=""/>
            <p:cNvPicPr/>
            <p:nvPr/>
          </p:nvPicPr>
          <p:blipFill>
            <a:blip r:embed="rId2"/>
            <a:stretch/>
          </p:blipFill>
          <p:spPr>
            <a:xfrm>
              <a:off x="3591000" y="2414520"/>
              <a:ext cx="5424480" cy="25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ovéPole 7"/>
            <p:cNvSpPr/>
            <p:nvPr/>
          </p:nvSpPr>
          <p:spPr>
            <a:xfrm>
              <a:off x="4224600" y="2090160"/>
              <a:ext cx="12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523e26"/>
                  </a:solidFill>
                  <a:latin typeface="Arial"/>
                </a:rPr>
                <a:t>Blízký východ</a:t>
              </a:r>
              <a:endParaRPr b="0" lang="en-US" sz="1000" spc="-1" strike="noStrike">
                <a:solidFill>
                  <a:srgbClr val="523e26"/>
                </a:solidFill>
                <a:latin typeface="Arial"/>
              </a:endParaRPr>
            </a:p>
          </p:txBody>
        </p:sp>
        <p:sp>
          <p:nvSpPr>
            <p:cNvPr id="141" name="TextovéPole 8"/>
            <p:cNvSpPr/>
            <p:nvPr/>
          </p:nvSpPr>
          <p:spPr>
            <a:xfrm>
              <a:off x="5422320" y="2060640"/>
              <a:ext cx="138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523e26"/>
                  </a:solidFill>
                  <a:latin typeface="Arial"/>
                </a:rPr>
                <a:t>Severní Řecko</a:t>
              </a:r>
              <a:endParaRPr b="0" lang="en-US" sz="1000" spc="-1" strike="noStrike">
                <a:solidFill>
                  <a:srgbClr val="523e26"/>
                </a:solidFill>
                <a:latin typeface="Arial"/>
              </a:endParaRPr>
            </a:p>
          </p:txBody>
        </p:sp>
      </p:grpSp>
      <p:sp>
        <p:nvSpPr>
          <p:cNvPr id="142" name="TextovéPole 1"/>
          <p:cNvSpPr/>
          <p:nvPr/>
        </p:nvSpPr>
        <p:spPr>
          <a:xfrm>
            <a:off x="4330800" y="1370160"/>
            <a:ext cx="25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Změna tělesných proporcí prasete během domestikace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TextovéPole 9"/>
          <p:cNvSpPr/>
          <p:nvPr/>
        </p:nvSpPr>
        <p:spPr>
          <a:xfrm>
            <a:off x="5475240" y="509256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hled oblastí domestikace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02384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ze se domnívat, že domestikace prasat proběhla v relativně krátkém sledu jejich 10-20 generací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Území domestika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mestikace prasete probíhala v několika oblaste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oblast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rec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Írá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ýri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Írán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íny včetně jihu Asie a Evropy, resp. jižního Švédsk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4122720"/>
            <a:ext cx="9144000" cy="2735280"/>
          </a:xfrm>
          <a:prstGeom prst="rect">
            <a:avLst/>
          </a:prstGeom>
          <a:ln w="0">
            <a:noFill/>
          </a:ln>
        </p:spPr>
      </p:pic>
      <p:sp>
        <p:nvSpPr>
          <p:cNvPr id="146" name="Oval 8"/>
          <p:cNvSpPr/>
          <p:nvPr/>
        </p:nvSpPr>
        <p:spPr>
          <a:xfrm>
            <a:off x="3348000" y="5446800"/>
            <a:ext cx="1224000" cy="122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átky domestikace hospodářských zvířat, tedy i prasete, spadají cca do období let 9 000 – 3 000 př.n.l. na Blízkém Východě, v oblasti takzvaného úrodného půlměsíce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archeozoologie se však prokázala existence i jiných domestikačních center prasete, jako Čína a jižní Švédsko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původních oblastí domestikace se následně prasata rozšířila do Egypta, Indie a na Balkánský poloostrov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Střední Evropě se objevuje díky migraci národů a následnému obchodu, směřujícímu přes Středozemní moře do jižní Evropy a na sever podél hlavních evropských řek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Ameriky se prase dostalo s Kolumbem (15. století), do Afriky a Austrálie až v období jejich kolonizace Evropany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MESTIKACE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čkoliv má chov prasat na našem území dlouhodobou tradici (první písemné zprávy pocházejí z 11. století), jednalo se převážně o extenzivní chov původního primitivního prasete.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m zdrojem obživy byla pastva (na úhoru, strništi a hlavně v dubových a bukových lesích)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rve ve druhé polovině 19. století začíná intenzivní stájový chov a stavy prasat prudce vzrůstají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V tomto období dochází k zavlečení četných nákaz, které způsobily stagnaci chov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rve na počátku 20. století se začala situace konsolidovat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 chovu jsou využívána kvalitní plemena, včetně domácích plemen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á polovina minulého století a současnost je charakterizována hledáním intenzivnějších forem chovu se snahou o získání libového jatečného produktu, který by odpovídal změněnému životnímu stylu spotřebitele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VOJ CHOVU PRASAT V ČR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2T14:05:46Z</dcterms:modified>
  <cp:revision>129</cp:revision>
  <dc:subject/>
  <dc:title>Piglets template</dc:title>
</cp:coreProperties>
</file>