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11.wmf" ContentType="image/x-wmf"/>
  <Override PartName="/ppt/media/image23.wmf" ContentType="image/x-wmf"/>
  <Override PartName="/ppt/media/image9.jpeg" ContentType="image/jpeg"/>
  <Override PartName="/ppt/media/image30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25.wmf" ContentType="image/x-wmf"/>
  <Override PartName="/ppt/media/image18.wmf" ContentType="image/x-wmf"/>
  <Override PartName="/ppt/media/image36.jpeg" ContentType="image/jpeg"/>
  <Override PartName="/ppt/media/image2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C0C-4A4E-4423-A857-55D0DBFC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3BC-F427-491A-AF9E-9C1A8697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B5C-25F0-4239-AE75-D42DA929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D07-8AB2-4BCF-ACB4-B93B54E1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600-EFE2-45D5-97CA-E4235D14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5311-B07C-48B4-8042-BB7D7E18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2509-EF30-45EF-9470-B0FAB232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9C41-9DF5-473F-8D45-30C03BF2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690C-802A-4D3C-ACCF-081536E0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40D3-03E7-4B26-BA07-8A245EFC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E87-2A2D-4479-8960-E702DFB3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15E4-3825-4122-8B10-E1AE0D89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68DA-36D1-4C8B-B4A8-066F769C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EEBF-7662-4E83-B949-12E52F2D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D259-0D2C-41C4-BDBB-947A0A3D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3F47-44FF-4313-9D80-08841C91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85DC-44DA-4988-9082-84AB2B35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F153-2274-4216-9262-51723420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8BF-5918-4E09-9BE8-F7C0FB5B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5A8-B2E1-48A1-B731-37A7E049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6A8-FF23-49CC-AE00-18B7C76F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3F1-679F-4F2E-84F1-4C824D57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719-840F-4B11-9E81-D310E0B2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9BE-38F6-414A-B316-552D3A86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FF75-A6CC-4070-9542-AE84A477D6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14ED-8C02-4D65-A260-F9817D44C8DA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92792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TVAROVÉ VLASTNOSTI PRASAT</a:t>
            </a:r>
            <a:endParaRPr b="0" lang="en-US" sz="5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44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stituční typ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stituční typ lze charakterizovat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rmonickou tělesnou stavbo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vnou kostro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brým zdravotním stave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způsobivostí podmínkám prostřed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chopnosti odolávat nepříznivým stresovým faktorům, chorobám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skytovat v daných podmínkách standardně vysokou užitkovos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yp intenzity vývinu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určen obdobím intenzivního ukládání tuku, tedy ukončením tělesného vývinu.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ouvisí s raností fyziologickou a raností užitkovo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fyziologická ranos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imituje věk při dosažení pohlavní dospělosti zvířet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užitková ranos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rčuje dobu ukončení vývinu (jatečná zralost), kdy se začíná snižovat intenzita tvorby svalové tkáně a zvyšuje se intenzita tvorby tukové tkáně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d2015"/>
                </a:solidFill>
                <a:latin typeface="Arial"/>
              </a:rPr>
              <a:t>Konstituc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tupeň zdraví jedin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ý vyjadřuje jeho životní energii. 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jevuje s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rčitou reaktivností zvířat vůči škodlivým klimatickým vlivům a některým nakažlivým chorobá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podmíněna  anatomicko-morfologickou stavbou těla a jeho orgán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to vlastnos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ruhov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n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dividuál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jená s celou řadou vnějších znaků a známek, z nichž lze usuzovat na konstituční typ zvířet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eznáváme konstituci: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vno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mno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abo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rubo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ěkkou (lymfatickou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evnějše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uka o zevnějšku, tedy exteriéru hospodářských zvířat pojednává o vnějších tvarech hospodářských zvířat ve vztahu k biologickým zvláštnostem, užitkovým vlastnostem a k hospodářské hodnotě zvířat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xteriérové znaky poukazují zpravidla jen na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charakter užitkového směru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,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lze však dle nich určit výši produk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kladem praktického  hodnocení  prasat podle exteriéru je: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sná a podrobná znalost názvů krajin  těla  prasete a masných partií praset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nalost  posouzení zevnějšku prasat a  žádoucích či nežádoucích odchylek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nalost  užití  značkovacího klíče a jeho využití při popisu exteriér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nalost plemenného standard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56" name="Picture 4" descr="tkz1"/>
          <p:cNvPicPr/>
          <p:nvPr/>
        </p:nvPicPr>
        <p:blipFill>
          <a:blip r:embed="rId1"/>
          <a:stretch/>
        </p:blipFill>
        <p:spPr>
          <a:xfrm>
            <a:off x="347760" y="3940200"/>
            <a:ext cx="5040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uzování zevnějšku prasat 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lav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59" name="Picture 10" descr=""/>
          <p:cNvPicPr/>
          <p:nvPr/>
        </p:nvPicPr>
        <p:blipFill>
          <a:blip r:embed="rId1"/>
          <a:stretch/>
        </p:blipFill>
        <p:spPr>
          <a:xfrm>
            <a:off x="2757600" y="1434960"/>
            <a:ext cx="1334880" cy="1254240"/>
          </a:xfrm>
          <a:prstGeom prst="rect">
            <a:avLst/>
          </a:prstGeom>
          <a:ln w="0">
            <a:noFill/>
          </a:ln>
        </p:spPr>
      </p:pic>
      <p:sp>
        <p:nvSpPr>
          <p:cNvPr id="160" name="TextovéPole 7"/>
          <p:cNvSpPr/>
          <p:nvPr/>
        </p:nvSpPr>
        <p:spPr>
          <a:xfrm>
            <a:off x="2813040" y="2639880"/>
            <a:ext cx="13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lava dobrá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61" name="Picture 11" descr=""/>
          <p:cNvPicPr/>
          <p:nvPr/>
        </p:nvPicPr>
        <p:blipFill>
          <a:blip r:embed="rId2"/>
          <a:stretch/>
        </p:blipFill>
        <p:spPr>
          <a:xfrm>
            <a:off x="4910040" y="1434960"/>
            <a:ext cx="1308240" cy="125424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16"/>
          <p:cNvSpPr/>
          <p:nvPr/>
        </p:nvSpPr>
        <p:spPr>
          <a:xfrm>
            <a:off x="4260960" y="2639880"/>
            <a:ext cx="26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lava dobrá dospělého kance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63" name="Picture 12" descr=""/>
          <p:cNvPicPr/>
          <p:nvPr/>
        </p:nvPicPr>
        <p:blipFill>
          <a:blip r:embed="rId3"/>
          <a:stretch/>
        </p:blipFill>
        <p:spPr>
          <a:xfrm>
            <a:off x="6921360" y="1386000"/>
            <a:ext cx="1447920" cy="125388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18"/>
          <p:cNvSpPr/>
          <p:nvPr/>
        </p:nvSpPr>
        <p:spPr>
          <a:xfrm>
            <a:off x="6921360" y="2639880"/>
            <a:ext cx="17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lava méně dobrá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65" name="Picture 13" descr=""/>
          <p:cNvPicPr/>
          <p:nvPr/>
        </p:nvPicPr>
        <p:blipFill>
          <a:blip r:embed="rId4"/>
          <a:stretch/>
        </p:blipFill>
        <p:spPr>
          <a:xfrm>
            <a:off x="1743120" y="3147840"/>
            <a:ext cx="1334880" cy="1308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"/>
          <p:cNvPicPr/>
          <p:nvPr/>
        </p:nvPicPr>
        <p:blipFill>
          <a:blip r:embed="rId5"/>
          <a:stretch/>
        </p:blipFill>
        <p:spPr>
          <a:xfrm>
            <a:off x="3987720" y="3192480"/>
            <a:ext cx="1317600" cy="1263600"/>
          </a:xfrm>
          <a:prstGeom prst="rect">
            <a:avLst/>
          </a:prstGeom>
          <a:ln w="0">
            <a:noFill/>
          </a:ln>
        </p:spPr>
      </p:pic>
      <p:sp>
        <p:nvSpPr>
          <p:cNvPr id="167" name="TextovéPole 21"/>
          <p:cNvSpPr/>
          <p:nvPr/>
        </p:nvSpPr>
        <p:spPr>
          <a:xfrm>
            <a:off x="1531800" y="4527720"/>
            <a:ext cx="181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Vadná hlava - krátká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8" name="TextovéPole 22"/>
          <p:cNvSpPr/>
          <p:nvPr/>
        </p:nvSpPr>
        <p:spPr>
          <a:xfrm>
            <a:off x="3816360" y="4500720"/>
            <a:ext cx="186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Vadná hlava - dlouhá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uzování zevnějšku prasat 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řbe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101680" y="1515960"/>
            <a:ext cx="2752920" cy="1427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5829480" y="1596960"/>
            <a:ext cx="2595240" cy="1327320"/>
          </a:xfrm>
          <a:prstGeom prst="rect">
            <a:avLst/>
          </a:prstGeom>
          <a:ln w="0">
            <a:noFill/>
          </a:ln>
        </p:spPr>
      </p:pic>
      <p:sp>
        <p:nvSpPr>
          <p:cNvPr id="173" name="TextovéPole 6"/>
          <p:cNvSpPr/>
          <p:nvPr/>
        </p:nvSpPr>
        <p:spPr>
          <a:xfrm>
            <a:off x="2895480" y="29242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řbet pevný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4" name="TextovéPole 7"/>
          <p:cNvSpPr/>
          <p:nvPr/>
        </p:nvSpPr>
        <p:spPr>
          <a:xfrm>
            <a:off x="5864400" y="2922480"/>
            <a:ext cx="26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řbet dobrý – sehnutá hlava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2166840" y="3560760"/>
            <a:ext cx="2687760" cy="127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5842080" y="3486240"/>
            <a:ext cx="2595600" cy="142236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10"/>
          <p:cNvSpPr/>
          <p:nvPr/>
        </p:nvSpPr>
        <p:spPr>
          <a:xfrm>
            <a:off x="2905200" y="484344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řbet měkký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8" name="TextovéPole 11"/>
          <p:cNvSpPr/>
          <p:nvPr/>
        </p:nvSpPr>
        <p:spPr>
          <a:xfrm>
            <a:off x="5954760" y="483408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řbet za lopatkou propadlý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uzování zevnějšku prasat 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řbe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585720" y="1843200"/>
            <a:ext cx="2208240" cy="3578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5489640" y="1023840"/>
            <a:ext cx="2031840" cy="3668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2924280" y="1843200"/>
            <a:ext cx="2033640" cy="357804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7"/>
          <p:cNvSpPr/>
          <p:nvPr/>
        </p:nvSpPr>
        <p:spPr>
          <a:xfrm>
            <a:off x="1084320" y="561024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řbet dobrý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5" name="TextovéPole 8"/>
          <p:cNvSpPr/>
          <p:nvPr/>
        </p:nvSpPr>
        <p:spPr>
          <a:xfrm>
            <a:off x="3335400" y="5610240"/>
            <a:ext cx="132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řbet ztučnělý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6" name="TextovéPole 9"/>
          <p:cNvSpPr/>
          <p:nvPr/>
        </p:nvSpPr>
        <p:spPr>
          <a:xfrm>
            <a:off x="5899320" y="469260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řbet úzký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uzování zevnějšku prasat 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rudní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596880" y="1843200"/>
            <a:ext cx="1733400" cy="1660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2722680" y="1843200"/>
            <a:ext cx="1784160" cy="1660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5029200" y="1843200"/>
            <a:ext cx="1641600" cy="1660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4"/>
          <a:stretch/>
        </p:blipFill>
        <p:spPr>
          <a:xfrm>
            <a:off x="6804000" y="1843200"/>
            <a:ext cx="1773360" cy="166032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7"/>
          <p:cNvSpPr/>
          <p:nvPr/>
        </p:nvSpPr>
        <p:spPr>
          <a:xfrm>
            <a:off x="987480" y="35035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ruď dobrá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4" name="TextovéPole 7"/>
          <p:cNvSpPr/>
          <p:nvPr/>
        </p:nvSpPr>
        <p:spPr>
          <a:xfrm>
            <a:off x="2944800" y="35035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ruď vadná - mělká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5" name="TextovéPole 7"/>
          <p:cNvSpPr/>
          <p:nvPr/>
        </p:nvSpPr>
        <p:spPr>
          <a:xfrm>
            <a:off x="5289480" y="35035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ruď dobrá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6" name="TextovéPole 7"/>
          <p:cNvSpPr/>
          <p:nvPr/>
        </p:nvSpPr>
        <p:spPr>
          <a:xfrm>
            <a:off x="6764400" y="35035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ruď vadná - úzká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5"/>
          <a:stretch/>
        </p:blipFill>
        <p:spPr>
          <a:xfrm>
            <a:off x="870120" y="3944880"/>
            <a:ext cx="1460160" cy="2017800"/>
          </a:xfrm>
          <a:prstGeom prst="rect">
            <a:avLst/>
          </a:prstGeom>
          <a:ln w="0">
            <a:noFill/>
          </a:ln>
        </p:spPr>
      </p:pic>
      <p:sp>
        <p:nvSpPr>
          <p:cNvPr id="198" name="TextovéPole 7"/>
          <p:cNvSpPr/>
          <p:nvPr/>
        </p:nvSpPr>
        <p:spPr>
          <a:xfrm>
            <a:off x="717480" y="59626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ruď táhle oválná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6"/>
          <a:stretch/>
        </p:blipFill>
        <p:spPr>
          <a:xfrm>
            <a:off x="2743200" y="4089240"/>
            <a:ext cx="1763640" cy="170676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7"/>
          <p:cNvSpPr/>
          <p:nvPr/>
        </p:nvSpPr>
        <p:spPr>
          <a:xfrm>
            <a:off x="2722680" y="5962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ruď úzká, mělká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201" name="Picture 13" descr=""/>
          <p:cNvPicPr/>
          <p:nvPr/>
        </p:nvPicPr>
        <p:blipFill>
          <a:blip r:embed="rId7"/>
          <a:stretch/>
        </p:blipFill>
        <p:spPr>
          <a:xfrm>
            <a:off x="4808520" y="4089240"/>
            <a:ext cx="1451160" cy="1706760"/>
          </a:xfrm>
          <a:prstGeom prst="rect">
            <a:avLst/>
          </a:prstGeom>
          <a:ln w="0">
            <a:noFill/>
          </a:ln>
        </p:spPr>
      </p:pic>
      <p:sp>
        <p:nvSpPr>
          <p:cNvPr id="202" name="TextovéPole 7"/>
          <p:cNvSpPr/>
          <p:nvPr/>
        </p:nvSpPr>
        <p:spPr>
          <a:xfrm>
            <a:off x="4867200" y="5951520"/>
            <a:ext cx="14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Hruď válcovitá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uzování zevnějšku prasat 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áď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četin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757520" y="1536840"/>
            <a:ext cx="1474560" cy="1566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6" name="TextovéPole 7"/>
          <p:cNvSpPr/>
          <p:nvPr/>
        </p:nvSpPr>
        <p:spPr>
          <a:xfrm>
            <a:off x="1889280" y="31129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Záď dobrá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3635280" y="1495440"/>
            <a:ext cx="1554120" cy="160812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7"/>
          <p:cNvSpPr/>
          <p:nvPr/>
        </p:nvSpPr>
        <p:spPr>
          <a:xfrm>
            <a:off x="3807000" y="31129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Záď vadná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3"/>
          <a:stretch/>
        </p:blipFill>
        <p:spPr>
          <a:xfrm>
            <a:off x="5329080" y="1536840"/>
            <a:ext cx="1444680" cy="1566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4"/>
          <a:stretch/>
        </p:blipFill>
        <p:spPr>
          <a:xfrm>
            <a:off x="7050240" y="1536840"/>
            <a:ext cx="1636560" cy="1566720"/>
          </a:xfrm>
          <a:prstGeom prst="rect">
            <a:avLst/>
          </a:prstGeom>
          <a:ln w="0">
            <a:noFill/>
          </a:ln>
        </p:spPr>
      </p:pic>
      <p:sp>
        <p:nvSpPr>
          <p:cNvPr id="211" name="TextovéPole 7"/>
          <p:cNvSpPr/>
          <p:nvPr/>
        </p:nvSpPr>
        <p:spPr>
          <a:xfrm>
            <a:off x="5560920" y="3154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Záď dobrá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2" name="TextovéPole 11"/>
          <p:cNvSpPr/>
          <p:nvPr/>
        </p:nvSpPr>
        <p:spPr>
          <a:xfrm>
            <a:off x="7316640" y="316080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Záď vadná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2495520" y="3618000"/>
            <a:ext cx="3065400" cy="2151000"/>
          </a:xfrm>
          <a:prstGeom prst="rect">
            <a:avLst/>
          </a:prstGeom>
          <a:ln w="0">
            <a:noFill/>
          </a:ln>
        </p:spPr>
      </p:pic>
      <p:sp>
        <p:nvSpPr>
          <p:cNvPr id="214" name="TextovéPole 7"/>
          <p:cNvSpPr/>
          <p:nvPr/>
        </p:nvSpPr>
        <p:spPr>
          <a:xfrm>
            <a:off x="2495520" y="5640480"/>
            <a:ext cx="14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Dobrá končetina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5" name="TextovéPole 7"/>
          <p:cNvSpPr/>
          <p:nvPr/>
        </p:nvSpPr>
        <p:spPr>
          <a:xfrm>
            <a:off x="4095720" y="5653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Vadná končetina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rajiny těla prasete 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av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íc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lo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ýl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houte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c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leno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ěnk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0. Spárky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1. Hřbe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2. Hrudní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3. Bedr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4. Bo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5. Břicho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6. Přední slabin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7. Zadní slabin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. Kříž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9. Kýt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20. Hlezno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21. Spěnk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22. Spár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652840" y="1378080"/>
            <a:ext cx="60339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sné partie praset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av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lo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kovičk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c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čeně přední a zad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ůček horní a dol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ýt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línko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línko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žičk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žičk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cáse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řbetní sádlo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stní sádlo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3387600" y="1622520"/>
            <a:ext cx="57564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371600"/>
          <a:ext cx="8229600" cy="49482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varové vlastnosti 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44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10.2013 KF 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varové vlastnosti prasat, jejich rozdělení, základní typy prasat, konstituce, exteriér, krajiny těla prasete.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d2015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Skupina 2"/>
          <p:cNvGrpSpPr/>
          <p:nvPr/>
        </p:nvGrpSpPr>
        <p:grpSpPr>
          <a:xfrm>
            <a:off x="120600" y="1741320"/>
            <a:ext cx="8935560" cy="3441240"/>
            <a:chOff x="120600" y="1741320"/>
            <a:chExt cx="8935560" cy="3441240"/>
          </a:xfrm>
        </p:grpSpPr>
        <p:pic>
          <p:nvPicPr>
            <p:cNvPr id="223" name="Picture 21" descr="Bez názvu 1 kopie"/>
            <p:cNvPicPr/>
            <p:nvPr/>
          </p:nvPicPr>
          <p:blipFill>
            <a:blip r:embed="rId1"/>
            <a:stretch/>
          </p:blipFill>
          <p:spPr>
            <a:xfrm>
              <a:off x="120600" y="1832400"/>
              <a:ext cx="8566200" cy="327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4" name="Skupina 1"/>
            <p:cNvGrpSpPr/>
            <p:nvPr/>
          </p:nvGrpSpPr>
          <p:grpSpPr>
            <a:xfrm>
              <a:off x="985320" y="1741320"/>
              <a:ext cx="8070840" cy="3441240"/>
              <a:chOff x="985320" y="1741320"/>
              <a:chExt cx="8070840" cy="3441240"/>
            </a:xfrm>
          </p:grpSpPr>
          <p:sp>
            <p:nvSpPr>
              <p:cNvPr id="225" name="Rectangle 7"/>
              <p:cNvSpPr/>
              <p:nvPr/>
            </p:nvSpPr>
            <p:spPr>
              <a:xfrm>
                <a:off x="985320" y="1867320"/>
                <a:ext cx="76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3366ff"/>
                    </a:solidFill>
                    <a:latin typeface="Arial CE"/>
                  </a:rPr>
                  <a:t>hlava</a:t>
                </a:r>
                <a:endParaRPr b="0" lang="en-US" sz="1800" spc="-1" strike="noStrike">
                  <a:solidFill>
                    <a:srgbClr val="523e26"/>
                  </a:solidFill>
                  <a:latin typeface="Arial"/>
                </a:endParaRPr>
              </a:p>
            </p:txBody>
          </p:sp>
          <p:sp>
            <p:nvSpPr>
              <p:cNvPr id="226" name="Rectangle 8"/>
              <p:cNvSpPr/>
              <p:nvPr/>
            </p:nvSpPr>
            <p:spPr>
              <a:xfrm>
                <a:off x="2130840" y="1843560"/>
                <a:ext cx="123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ff0000"/>
                    </a:solidFill>
                    <a:latin typeface="Arial CE"/>
                  </a:rPr>
                  <a:t>krkovička</a:t>
                </a:r>
                <a:endParaRPr b="0" lang="en-US" sz="1800" spc="-1" strike="noStrike">
                  <a:solidFill>
                    <a:srgbClr val="523e26"/>
                  </a:solidFill>
                  <a:latin typeface="Arial"/>
                </a:endParaRPr>
              </a:p>
            </p:txBody>
          </p:sp>
          <p:sp>
            <p:nvSpPr>
              <p:cNvPr id="227" name="Rectangle 9"/>
              <p:cNvSpPr/>
              <p:nvPr/>
            </p:nvSpPr>
            <p:spPr>
              <a:xfrm>
                <a:off x="3875040" y="20192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ff0000"/>
                    </a:solidFill>
                    <a:latin typeface="Arial CE"/>
                  </a:rPr>
                  <a:t>pečeně</a:t>
                </a:r>
                <a:endParaRPr b="0" lang="en-US" sz="1800" spc="-1" strike="noStrike">
                  <a:solidFill>
                    <a:srgbClr val="523e26"/>
                  </a:solidFill>
                  <a:latin typeface="Arial"/>
                </a:endParaRPr>
              </a:p>
            </p:txBody>
          </p:sp>
          <p:sp>
            <p:nvSpPr>
              <p:cNvPr id="228" name="Rectangle 10"/>
              <p:cNvSpPr/>
              <p:nvPr/>
            </p:nvSpPr>
            <p:spPr>
              <a:xfrm>
                <a:off x="5486760" y="1741320"/>
                <a:ext cx="63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ff0000"/>
                    </a:solidFill>
                    <a:latin typeface="Arial CE"/>
                  </a:rPr>
                  <a:t>kýta</a:t>
                </a:r>
                <a:endParaRPr b="0" lang="en-US" sz="1800" spc="-1" strike="noStrike">
                  <a:solidFill>
                    <a:srgbClr val="523e26"/>
                  </a:solidFill>
                  <a:latin typeface="Arial"/>
                </a:endParaRPr>
              </a:p>
            </p:txBody>
          </p:sp>
          <p:sp>
            <p:nvSpPr>
              <p:cNvPr id="229" name="Rectangle 11"/>
              <p:cNvSpPr/>
              <p:nvPr/>
            </p:nvSpPr>
            <p:spPr>
              <a:xfrm>
                <a:off x="4881600" y="4021200"/>
                <a:ext cx="89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ff33cc"/>
                    </a:solidFill>
                    <a:latin typeface="Arial CE"/>
                  </a:rPr>
                  <a:t>paždík</a:t>
                </a:r>
                <a:endParaRPr b="0" lang="en-US" sz="1800" spc="-1" strike="noStrike">
                  <a:solidFill>
                    <a:srgbClr val="523e26"/>
                  </a:solidFill>
                  <a:latin typeface="Arial"/>
                </a:endParaRPr>
              </a:p>
            </p:txBody>
          </p:sp>
          <p:sp>
            <p:nvSpPr>
              <p:cNvPr id="230" name="Rectangle 12"/>
              <p:cNvSpPr/>
              <p:nvPr/>
            </p:nvSpPr>
            <p:spPr>
              <a:xfrm>
                <a:off x="3763080" y="384768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ff33cc"/>
                    </a:solidFill>
                    <a:latin typeface="Arial CE"/>
                  </a:rPr>
                  <a:t>bok</a:t>
                </a:r>
                <a:endParaRPr b="0" lang="en-US" sz="1800" spc="-1" strike="noStrike">
                  <a:solidFill>
                    <a:srgbClr val="523e26"/>
                  </a:solidFill>
                  <a:latin typeface="Arial"/>
                </a:endParaRPr>
              </a:p>
            </p:txBody>
          </p:sp>
          <p:sp>
            <p:nvSpPr>
              <p:cNvPr id="231" name="Rectangle 13"/>
              <p:cNvSpPr/>
              <p:nvPr/>
            </p:nvSpPr>
            <p:spPr>
              <a:xfrm>
                <a:off x="2473560" y="384696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ff0000"/>
                    </a:solidFill>
                    <a:latin typeface="Arial CE"/>
                  </a:rPr>
                  <a:t>plec</a:t>
                </a:r>
                <a:endParaRPr b="0" lang="en-US" sz="1800" spc="-1" strike="noStrike">
                  <a:solidFill>
                    <a:srgbClr val="523e26"/>
                  </a:solidFill>
                  <a:latin typeface="Arial"/>
                </a:endParaRPr>
              </a:p>
            </p:txBody>
          </p:sp>
          <p:sp>
            <p:nvSpPr>
              <p:cNvPr id="232" name="Rectangle 14"/>
              <p:cNvSpPr/>
              <p:nvPr/>
            </p:nvSpPr>
            <p:spPr>
              <a:xfrm>
                <a:off x="1068480" y="378432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ff33cc"/>
                    </a:solidFill>
                    <a:latin typeface="Arial CE"/>
                  </a:rPr>
                  <a:t>lalok</a:t>
                </a:r>
                <a:endParaRPr b="0" lang="en-US" sz="1800" spc="-1" strike="noStrike">
                  <a:solidFill>
                    <a:srgbClr val="523e26"/>
                  </a:solidFill>
                  <a:latin typeface="Arial"/>
                </a:endParaRPr>
              </a:p>
            </p:txBody>
          </p:sp>
          <p:sp>
            <p:nvSpPr>
              <p:cNvPr id="233" name="Rectangle 15"/>
              <p:cNvSpPr/>
              <p:nvPr/>
            </p:nvSpPr>
            <p:spPr>
              <a:xfrm>
                <a:off x="2224080" y="4363200"/>
                <a:ext cx="174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3366ff"/>
                    </a:solidFill>
                    <a:latin typeface="Arial CE"/>
                  </a:rPr>
                  <a:t>kolínko přední</a:t>
                </a:r>
                <a:endParaRPr b="0" lang="en-US" sz="1800" spc="-1" strike="noStrike">
                  <a:solidFill>
                    <a:srgbClr val="523e26"/>
                  </a:solidFill>
                  <a:latin typeface="Arial"/>
                </a:endParaRPr>
              </a:p>
            </p:txBody>
          </p:sp>
          <p:sp>
            <p:nvSpPr>
              <p:cNvPr id="234" name="Rectangle 16"/>
              <p:cNvSpPr/>
              <p:nvPr/>
            </p:nvSpPr>
            <p:spPr>
              <a:xfrm>
                <a:off x="7387920" y="3988080"/>
                <a:ext cx="166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3366ff"/>
                    </a:solidFill>
                    <a:latin typeface="Arial CE"/>
                  </a:rPr>
                  <a:t>nožička</a:t>
                </a:r>
                <a:r>
                  <a:rPr b="0" lang="cs-CZ" sz="1800" spc="-1" strike="noStrike">
                    <a:solidFill>
                      <a:srgbClr val="523e26"/>
                    </a:solidFill>
                    <a:latin typeface="Arial CE"/>
                  </a:rPr>
                  <a:t> </a:t>
                </a:r>
                <a:r>
                  <a:rPr b="1" lang="cs-CZ" sz="1800" spc="-1" strike="noStrike">
                    <a:solidFill>
                      <a:srgbClr val="3366ff"/>
                    </a:solidFill>
                    <a:latin typeface="Arial CE"/>
                  </a:rPr>
                  <a:t>zadní</a:t>
                </a:r>
                <a:endParaRPr b="0" lang="en-US" sz="1800" spc="-1" strike="noStrike">
                  <a:solidFill>
                    <a:srgbClr val="523e26"/>
                  </a:solidFill>
                  <a:latin typeface="Arial"/>
                </a:endParaRPr>
              </a:p>
            </p:txBody>
          </p:sp>
          <p:sp>
            <p:nvSpPr>
              <p:cNvPr id="235" name="Rectangle 17"/>
              <p:cNvSpPr/>
              <p:nvPr/>
            </p:nvSpPr>
            <p:spPr>
              <a:xfrm>
                <a:off x="6163920" y="3672000"/>
                <a:ext cx="163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3366ff"/>
                    </a:solidFill>
                    <a:latin typeface="Arial CE"/>
                  </a:rPr>
                  <a:t>kolínko</a:t>
                </a:r>
                <a:r>
                  <a:rPr b="0" lang="cs-CZ" sz="1800" spc="-1" strike="noStrike">
                    <a:solidFill>
                      <a:srgbClr val="523e26"/>
                    </a:solidFill>
                    <a:latin typeface="Arial CE"/>
                  </a:rPr>
                  <a:t> </a:t>
                </a:r>
                <a:r>
                  <a:rPr b="1" lang="cs-CZ" sz="1800" spc="-1" strike="noStrike">
                    <a:solidFill>
                      <a:srgbClr val="3366ff"/>
                    </a:solidFill>
                    <a:latin typeface="Arial CE"/>
                  </a:rPr>
                  <a:t>zadní</a:t>
                </a:r>
                <a:endParaRPr b="0" lang="en-US" sz="1800" spc="-1" strike="noStrike">
                  <a:solidFill>
                    <a:srgbClr val="523e26"/>
                  </a:solidFill>
                  <a:latin typeface="Arial"/>
                </a:endParaRPr>
              </a:p>
            </p:txBody>
          </p:sp>
          <p:sp>
            <p:nvSpPr>
              <p:cNvPr id="236" name="Rectangle 18"/>
              <p:cNvSpPr/>
              <p:nvPr/>
            </p:nvSpPr>
            <p:spPr>
              <a:xfrm>
                <a:off x="1376280" y="4814280"/>
                <a:ext cx="178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3366ff"/>
                    </a:solidFill>
                    <a:latin typeface="Arial CE"/>
                  </a:rPr>
                  <a:t>nožička přední</a:t>
                </a:r>
                <a:endParaRPr b="0" lang="en-US" sz="1800" spc="-1" strike="noStrike">
                  <a:solidFill>
                    <a:srgbClr val="523e26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02384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éma dělení jatečné půlky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457200" y="204840"/>
            <a:ext cx="8229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133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Nakla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UPKA, CSC., Doc. Ing. Roman, Doc. Ing. Michal ŠPRYSL, CSC. a Ing. Jaroslav ČÍTEK, PH.D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áklady chovu 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Vydání první. Praha: PowerPrint, 2009. ISBN 978-80-904011-2-9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zf.jcu.cz/studium.../Chov%20prasat/.../vyznam-chovu-prasat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af.czu.cz/predmety/chovprasat2ks/projektvzor.pdf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receptynamaso.cz/tag/bok-s-kosti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523e2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lbertus Medium"/>
              </a:rPr>
              <a:t>http://www.svobodazvirat.cz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ksz.af.czu.cz/plemenaprasat/domestikace1.htm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ksz.zf.jcu.cz/studium/Chov-prasat//uzitkove-vlastnosti-prasat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523e26"/>
                </a:solidFill>
                <a:uFillTx/>
                <a:latin typeface="Arial"/>
              </a:rPr>
              <a:t>http://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www.cathleen.wz.cz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6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5710320" y="59990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d2015"/>
                </a:solidFill>
                <a:latin typeface="Arial"/>
              </a:rPr>
              <a:t>Typ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Třídění hospodářských zvířat a jejich plemen podle typů řeší –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typologie hospodářských zvířat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 –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nauka, která pomáhá třídit informace o vlastnostech, užitkovosti a plemenitbě hospodářských zvířat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Typ – souhrn exteriérových vlastností charakteristických pro určité části popula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zootechnice je typ považován za soubor hlavních morfologických znaků svědčících o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slušnosti zvířete k určitému plemen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slušnosti zvířete k určitému užitkovému směr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le stupně vyjádření těchto znaků hovoříme o zvířeti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rovnané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éně vrovnané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typické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zeznáváme čtyři základní typy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ný typ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žitkový typ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stituční typ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p intenzity vývin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emenný typ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uhrn exteriérových a užitkových vlastností odpovídajících danému standardu, plemenných typů je tolik kolik je plemen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žitkový typ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arakterizován jako plemenný typ ve vztahu k výkrmnosti a jatečné hodnotě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žitkový typ je založen geneticky, dá se ovlivnit prostředí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ádelný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aný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d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mbinova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sosádelný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ádelnomasný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sný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p LW (large white),L (large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elgický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merický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ekonový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sata raného sádelného užitkového typu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ředstavitel – čínská prasata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lý tělesný rámec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átká, široká hlav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nosní části silně prosedlan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álcovitý, krátký trup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iroký, hluboký, krátký hrudník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iroká záď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bře vyvinuté kýt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abé, krátké končetiny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anost – intenzivní růst svaloviny 40 – 60 kg kdy ukončují vývin a nastává ukládání tuk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oká plodnos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načná náročnost na krmení, ustájení, ošetřová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7" name="Picture 11" descr=""/>
          <p:cNvPicPr/>
          <p:nvPr/>
        </p:nvPicPr>
        <p:blipFill>
          <a:blip r:embed="rId1"/>
          <a:stretch/>
        </p:blipFill>
        <p:spPr>
          <a:xfrm>
            <a:off x="5840280" y="1228680"/>
            <a:ext cx="26085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sata pozdně sádelného užitkového typu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ředstavitel – evropské divoké pras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ký tělesný rámec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lší, těžší, klínovitá hlav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měřeně hluboký a široký trup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abě vyvinuté hřbetní svalstvo a kýt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oké, silné končetin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ělesný vývin ukončen v 1,5 - 2 letech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hmotnosti 150 - 200kg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produkce nízk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hodná k pastvě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náročná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270400" y="1765440"/>
            <a:ext cx="356400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sata kombinovaného užitkového typu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tvoří přechod mezi sádelným a masným typem: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í až větší tělesný rámec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měřeně dlouhá hlava, v čele dosti široká, mírně prosedlan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ě dlouhý, dostatečně široký a hluboký trup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ď je široká s dobře osvalenou kýto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hy pevné, středně vysoké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končují vývin v hmotnosti 90 kg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orná plodnost a výkrmnos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ě náročná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779400" y="4249800"/>
            <a:ext cx="3495600" cy="233208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12"/>
          <p:cNvSpPr/>
          <p:nvPr/>
        </p:nvSpPr>
        <p:spPr>
          <a:xfrm>
            <a:off x="1120680" y="3873600"/>
            <a:ext cx="28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sosádelný užitkový typ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2"/>
          <a:stretch/>
        </p:blipFill>
        <p:spPr>
          <a:xfrm>
            <a:off x="5568840" y="3129120"/>
            <a:ext cx="3117960" cy="1971360"/>
          </a:xfrm>
          <a:prstGeom prst="rect">
            <a:avLst/>
          </a:prstGeom>
          <a:ln w="0">
            <a:noFill/>
          </a:ln>
        </p:spPr>
      </p:pic>
      <p:sp>
        <p:nvSpPr>
          <p:cNvPr id="146" name="TextovéPole 16"/>
          <p:cNvSpPr/>
          <p:nvPr/>
        </p:nvSpPr>
        <p:spPr>
          <a:xfrm>
            <a:off x="5840280" y="2698920"/>
            <a:ext cx="28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ádelnomasný užitkový typ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sata masného užitkového typu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ředstavitel belgická landrace, pietrain, duroc, hamshire a dánská landras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dprůměrný vývin masitých část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í až velký tělesný rámec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niklo cíleným šlechtěním prasat kombinovaného typ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ava lehká, středně dlouhá, pevná, such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uboký a široký trup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mi dobře vyvinuté hřbetní a bederní svalstvo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orně utvářená kýta a těžší zmasilá plec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četiny přiměřeně dlouhé, pevné, suché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ročná na krmení, ustájení a ošetřová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VAR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39840" y="4506840"/>
            <a:ext cx="51591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dcterms:modified xsi:type="dcterms:W3CDTF">2014-02-12T14:10:02Z</dcterms:modified>
  <cp:revision>158</cp:revision>
  <dc:subject/>
  <dc:title>Piglets template</dc:title>
</cp:coreProperties>
</file>