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153C-8438-4377-81E1-F1D16107B3A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6EB5-C323-47D1-84AD-44AABD742B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04C6-52EC-41CD-B0E4-1534F78344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A39D-A3EF-49C3-8626-20F75487CBA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AAB9-8099-465B-B323-246DF9F30B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C3DC-EA3C-4A89-972B-519D685DB8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A048-CAB1-408B-830B-93EB9F595D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B799-7DCA-41FA-8E33-571609B51B2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8980-827B-40ED-85D5-3B323A1B05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FA47-86CD-426C-B399-3DAD8A355C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DE1E-11C9-4D9A-9D18-6E9BF241CA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E0E1-ED52-4E9A-B242-E559B16CC2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A322-D9A5-4798-98A8-803E088E01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EB29-E336-47A6-BDEE-2C4FF4ADBC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4D2F-BEAC-4CE6-B5FA-C228A9EB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3A6-B4F9-4F1D-A262-34DD0A07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D79-7EDD-4BBB-AABF-B971EBCB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8B7E-5863-46D5-8E9F-73F66C20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129B-C936-451F-B922-C31C43AB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8FC4-EC41-4722-908D-9AB2AEBC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60DC-B0AC-4DE7-8D6E-425A911F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E9B9-96FD-415F-8EE7-1F3A3A7C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3F6D-9A8D-4926-B717-6BDD05F8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80B1-765D-4A11-A4A5-0EFF05DF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624D-65D8-4003-B1C5-A045A956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E1B-9C7E-4343-A3BE-62E6E40C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D66D-6CAE-4B34-9473-ECBF1F3D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5190-64BB-447E-9B90-9139E189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D439-754F-43D4-A9B5-51F98F8A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4751-BEBE-4BE5-B091-D1F96C6F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CA60-6C5F-44DA-B6F7-A13B9358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679BD-0D31-41DD-952B-865B7584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81172-E095-421C-B828-860AC7C6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C7F99-A5C9-4DDB-8AAA-C21F2B99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2903B-1315-4848-ACC6-8F2682C6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7DF2B-87D2-44EF-A388-7DC4D6DD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752-4D60-478D-AB79-15654FB2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64510-ACCF-45F0-8D67-9309CA01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493A0-E964-45F7-BB86-DB890957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891D9-E002-4A88-B415-EB28CA4E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770BC-B894-4E2A-AEC7-66BF9C53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0D51F-BDDC-40C5-9A52-28514ED9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9A634-2FF5-4DB5-A329-455BB265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E407C-C4C3-4362-8213-86795B87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AF7C1-9AF8-4E93-8E88-5B894CC2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8FADC-C781-4AA3-8A75-A0F8543D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45C8E-3C3E-40BB-AEF3-117D551D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EB9-5569-4127-9F2B-4B6F624A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D2C0B-0170-4720-9BEF-9A20104B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0FAEC-9346-42A3-A4C2-D2C4E1DF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93FDD-5EEC-48A9-A986-049AD461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4E81A-16E4-4AF6-B463-4BE0C0F6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8B3FB-DF1F-4EED-82D2-3B4DEA00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B5BDE-35B1-4032-943F-22B024AA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57706-91E4-4937-BD4E-315A759D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925BA-A6F4-447A-B368-48908035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D6BB8-3F96-48EF-9D74-0C026416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33AE0-531A-4958-A324-E7CCC135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C0EF-606B-4CD6-A569-BF6B4AF4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81D5D-9E89-47A2-8C09-C65FA57A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0F279-E5F2-45D4-A68B-71A1652D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FC875-7B65-4EF9-A414-5413D96C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76491-1C5E-48B3-ABAD-5D9F1B81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77572-AC83-4AD7-B03F-289A0D5A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D5949-49F2-4833-B2C3-449CF6ED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173C5-96B0-4654-A1D5-D4014DDA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473A4-0B6D-4EC6-B247-B78323E9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2F794-EBB0-4188-A219-52BBE7CC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61C97-9CEC-45DD-8A8A-E37196CD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C3C-FCCA-4C57-ACDA-C2678A27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297EA-9CBC-49B0-A8B5-186DFAA7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F1D0B-9695-4322-B180-FBD02E40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4721D-655A-4D5A-9CFA-ABD9298E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31B61-AF75-4802-BFEB-07D56D87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B1779-4E6E-4F21-9FD0-E51ACBE8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6EBE8-4BDB-4558-8063-889F5F3A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DD018-391B-4BCA-BF48-4842CD82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06D83-9929-4D85-A530-F1BA5249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B39F6-9F8C-4481-8BE7-EF8F958E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E16E7-5CF5-4E4C-8AB4-079F5BC6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119-4C28-4492-A819-305F3C46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A4CDB-05EA-4A12-92BD-190BA0B7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CD93E-71AD-472D-9C3D-253FD04F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3432D-FB74-430B-86B9-05C4CA5A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8DF17-6C26-4919-AF9A-4E58EFA6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327A2-BD96-4FB9-81C3-C09E6E30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72A07-000B-4B7F-9619-DFFBA06E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9E816-36D2-491C-BCCC-6919777B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1F622-CB63-495D-AA64-58F62DDA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1B021-8D31-4710-B180-024D2844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DA3D8-6A2C-49B4-A1D7-FFD83379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C75D-71D9-4334-8CAC-75B6D773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6EBD5-3C8F-4E4A-82AC-604845AC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855BC-DDC2-40FC-8940-9DAA3F86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21369-1FDA-49BE-9A15-14AA5276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B9391-FC58-4A25-863B-6111F98D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E0B8E-60D8-461B-A867-5CB560DE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009D6-6598-45A1-8D2E-FA22A804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B9BB0-9B81-4F54-A445-8825172E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6D77E-14A3-4398-9221-1F77E2E5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473C8-4FD2-4BD5-957A-46686045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588D5-7ACC-4BC7-8BBA-76941B44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C704-5233-40A6-8184-FCAA09E9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0B2EB-91ED-4B85-8B35-A0ACC2B0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31A58-DD48-4863-AC00-CCC1B2D5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247DC-8A1C-49EA-A58B-50A63B0B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3AC54-A72B-455B-BD07-E91F90FD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9447B-CCB9-431C-9D71-EF7733FF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F1F4C-A9BC-414E-BACE-F22CB788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321B5-9B52-40F5-AC5B-FF01FAD8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E4BD-86D3-49EB-884B-9EEB38222E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E327-C15C-428A-A349-2DA81085F658}" type="slidenum">
              <a:rPr b="0" lang="cs-CZ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28B0-CA64-46BF-BB2F-FF58711C25C5}" type="slidenum">
              <a:rPr b="0" lang="cs-CZ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47D3-336E-484B-807D-9A916A8E2D85}" type="slidenum">
              <a:rPr b="0" lang="cs-CZ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6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910D-FECA-4356-8B91-45D7135C2C0F}" type="slidenum">
              <a:rPr b="0" lang="cs-CZ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320B-C1CD-40D1-B6CD-593B3D7882B8}" type="slidenum">
              <a:rPr b="0" lang="cs-CZ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31D8-7A18-4923-B240-CD5B36AC8ABD}" type="slidenum">
              <a:rPr b="0" lang="cs-CZ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0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1CBE-4BB3-473D-9688-2A9D3DB18D4B}" type="slidenum">
              <a:rPr b="0" lang="cs-CZ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ndara"/>
              </a:rPr>
              <a:t>Šroubové spoj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4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385" name="TextovéPole 4"/>
          <p:cNvSpPr/>
          <p:nvPr/>
        </p:nvSpPr>
        <p:spPr>
          <a:xfrm>
            <a:off x="2195640" y="263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01_Sroubove_sp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ovéPole 5"/>
          <p:cNvSpPr/>
          <p:nvPr/>
        </p:nvSpPr>
        <p:spPr>
          <a:xfrm>
            <a:off x="5724360" y="5589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r: ing. Antónia Král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2"/>
          <a:stretch/>
        </p:blipFill>
        <p:spPr>
          <a:xfrm>
            <a:off x="666720" y="3141720"/>
            <a:ext cx="172728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71552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yčejná tva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 zkosením tva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už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ož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jířovit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jazýč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no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Přímá spojnice se šipkou 2"/>
          <p:cNvCxnSpPr/>
          <p:nvPr/>
        </p:nvCxnSpPr>
        <p:spPr>
          <a:xfrm flipV="1">
            <a:off x="1834920" y="2781000"/>
            <a:ext cx="2305440" cy="1296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6" name="Přímá spojnice se šipkou 4"/>
          <p:cNvCxnSpPr/>
          <p:nvPr/>
        </p:nvCxnSpPr>
        <p:spPr>
          <a:xfrm flipV="1">
            <a:off x="1834920" y="3212280"/>
            <a:ext cx="2305440" cy="864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7" name="Přímá spojnice se šipkou 6"/>
          <p:cNvCxnSpPr/>
          <p:nvPr/>
        </p:nvCxnSpPr>
        <p:spPr>
          <a:xfrm flipV="1">
            <a:off x="1834920" y="3644280"/>
            <a:ext cx="2305440" cy="43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8" name="Přímá spojnice se šipkou 8"/>
          <p:cNvCxnSpPr/>
          <p:nvPr/>
        </p:nvCxnSpPr>
        <p:spPr>
          <a:xfrm>
            <a:off x="1834920" y="4076280"/>
            <a:ext cx="23054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9" name="Přímá spojnice se šipkou 10"/>
          <p:cNvCxnSpPr/>
          <p:nvPr/>
        </p:nvCxnSpPr>
        <p:spPr>
          <a:xfrm>
            <a:off x="1834920" y="4076640"/>
            <a:ext cx="2305440" cy="4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0" name="Přímá spojnice se šipkou 12"/>
          <p:cNvCxnSpPr/>
          <p:nvPr/>
        </p:nvCxnSpPr>
        <p:spPr>
          <a:xfrm>
            <a:off x="1834920" y="4076280"/>
            <a:ext cx="2305440" cy="865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1" name="Přímá spojnice se šipkou 14"/>
          <p:cNvCxnSpPr/>
          <p:nvPr/>
        </p:nvCxnSpPr>
        <p:spPr>
          <a:xfrm>
            <a:off x="1834920" y="4076280"/>
            <a:ext cx="2305440" cy="1297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714240" y="523800"/>
            <a:ext cx="771552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znam literatury a zdroj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ojnictví I – J. Doleček, Z. Holoub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cs.wikipedia.org/wiki/%C5%A0roubov%C3%BD_sp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žité fotografie z vlastní databáze (ing. A. Králov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Materiál je určen pro bezplatné používání pro potřeby výuky a pro vzdělávání na všech typech škol a školských zařízeních. Jakékoliv další využití podléhá autorskému záko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znamový list výukového materiál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962440"/>
                <a:gridCol w="52671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ko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řední škola technická a zemědělská Mohel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Z.1.07/1.5.00/34.0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šablony klíčové aktiv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ovace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zkvalitnění výuky prostřednictvím ICT (III/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ázev výukového materiál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Šroubové spo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znač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Y_32_INOVACE_01_Sroubove_spo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zdělávací ob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chanik seřizovač, Obráběč kovů, Nástroja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atický okru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ojnictví 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ční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v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g. Antónia Králov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um ověře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0.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otace / metodický pop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ýukový list vhodný pro žáky prvních ročníků. Učební text zahrnuje problematiku šroubových spojů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au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dpis ředite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252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dělení spoj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Výbuch 1 1"/>
          <p:cNvSpPr/>
          <p:nvPr/>
        </p:nvSpPr>
        <p:spPr>
          <a:xfrm>
            <a:off x="1979640" y="981000"/>
            <a:ext cx="5173560" cy="19940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Rozebíratel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Šestnácticípá hvězda 2"/>
          <p:cNvSpPr/>
          <p:nvPr/>
        </p:nvSpPr>
        <p:spPr>
          <a:xfrm>
            <a:off x="646200" y="2944800"/>
            <a:ext cx="2160360" cy="1203480"/>
          </a:xfrm>
          <a:custGeom>
            <a:avLst/>
            <a:gdLst>
              <a:gd name="textAreaLeft" fmla="*/ 493200 w 2160360"/>
              <a:gd name="textAreaRight" fmla="*/ 1667160 w 2160360"/>
              <a:gd name="textAreaTop" fmla="*/ 274680 h 1203480"/>
              <a:gd name="textAreaBottom" fmla="*/ 928800 h 1203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roub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Šestnácticípá hvězda 3"/>
          <p:cNvSpPr/>
          <p:nvPr/>
        </p:nvSpPr>
        <p:spPr>
          <a:xfrm>
            <a:off x="3276720" y="3282840"/>
            <a:ext cx="2065320" cy="1130400"/>
          </a:xfrm>
          <a:custGeom>
            <a:avLst/>
            <a:gdLst>
              <a:gd name="textAreaLeft" fmla="*/ 471240 w 2065320"/>
              <a:gd name="textAreaRight" fmla="*/ 1594080 w 2065320"/>
              <a:gd name="textAreaTop" fmla="*/ 258120 h 1130400"/>
              <a:gd name="textAreaBottom" fmla="*/ 87228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lí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Šestnácticípá hvězda 4"/>
          <p:cNvSpPr/>
          <p:nvPr/>
        </p:nvSpPr>
        <p:spPr>
          <a:xfrm>
            <a:off x="6227640" y="3068640"/>
            <a:ext cx="1851120" cy="1128600"/>
          </a:xfrm>
          <a:custGeom>
            <a:avLst/>
            <a:gdLst>
              <a:gd name="textAreaLeft" fmla="*/ 422640 w 1851120"/>
              <a:gd name="textAreaRight" fmla="*/ 1428480 w 1851120"/>
              <a:gd name="textAreaTop" fmla="*/ 257400 h 1128600"/>
              <a:gd name="textAreaBottom" fmla="*/ 871200 h 11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r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Šestnácticípá hvězda 5"/>
          <p:cNvSpPr/>
          <p:nvPr/>
        </p:nvSpPr>
        <p:spPr>
          <a:xfrm>
            <a:off x="1692360" y="4941720"/>
            <a:ext cx="1800000" cy="1057320"/>
          </a:xfrm>
          <a:custGeom>
            <a:avLst/>
            <a:gdLst>
              <a:gd name="textAreaLeft" fmla="*/ 410760 w 1800000"/>
              <a:gd name="textAreaRight" fmla="*/ 1389240 w 1800000"/>
              <a:gd name="textAreaTop" fmla="*/ 241200 h 1057320"/>
              <a:gd name="textAreaBottom" fmla="*/ 81612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ín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Šestnácticípá hvězda 6"/>
          <p:cNvSpPr/>
          <p:nvPr/>
        </p:nvSpPr>
        <p:spPr>
          <a:xfrm>
            <a:off x="5353200" y="4869000"/>
            <a:ext cx="1800000" cy="863640"/>
          </a:xfrm>
          <a:custGeom>
            <a:avLst/>
            <a:gdLst>
              <a:gd name="textAreaLeft" fmla="*/ 410760 w 1800000"/>
              <a:gd name="textAreaRight" fmla="*/ 1389240 w 180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u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Výbuch 2 3"/>
          <p:cNvSpPr/>
          <p:nvPr/>
        </p:nvSpPr>
        <p:spPr>
          <a:xfrm>
            <a:off x="1619280" y="115920"/>
            <a:ext cx="5761080" cy="1995480"/>
          </a:xfrm>
          <a:prstGeom prst="irregularSeal2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Nerozebíratel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Šestnácticípá hvězda 4"/>
          <p:cNvSpPr/>
          <p:nvPr/>
        </p:nvSpPr>
        <p:spPr>
          <a:xfrm>
            <a:off x="324000" y="2467080"/>
            <a:ext cx="2087280" cy="1130040"/>
          </a:xfrm>
          <a:custGeom>
            <a:avLst/>
            <a:gdLst>
              <a:gd name="textAreaLeft" fmla="*/ 476280 w 2087280"/>
              <a:gd name="textAreaRight" fmla="*/ 1611000 w 2087280"/>
              <a:gd name="textAreaTop" fmla="*/ 257760 h 1130040"/>
              <a:gd name="textAreaBottom" fmla="*/ 872280 h 113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ýt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Šestnácticípá hvězda 6"/>
          <p:cNvSpPr/>
          <p:nvPr/>
        </p:nvSpPr>
        <p:spPr>
          <a:xfrm>
            <a:off x="3708360" y="3068640"/>
            <a:ext cx="1943280" cy="1274760"/>
          </a:xfrm>
          <a:custGeom>
            <a:avLst/>
            <a:gdLst>
              <a:gd name="textAreaLeft" fmla="*/ 443520 w 1943280"/>
              <a:gd name="textAreaRight" fmla="*/ 1499760 w 1943280"/>
              <a:gd name="textAreaTop" fmla="*/ 290880 h 1274760"/>
              <a:gd name="textAreaBottom" fmla="*/ 983880 h 12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ar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Šestnácticípá hvězda 7"/>
          <p:cNvSpPr/>
          <p:nvPr/>
        </p:nvSpPr>
        <p:spPr>
          <a:xfrm>
            <a:off x="6732720" y="2924280"/>
            <a:ext cx="2160360" cy="1347840"/>
          </a:xfrm>
          <a:custGeom>
            <a:avLst/>
            <a:gdLst>
              <a:gd name="textAreaLeft" fmla="*/ 493200 w 2160360"/>
              <a:gd name="textAreaRight" fmla="*/ 1667160 w 2160360"/>
              <a:gd name="textAreaTop" fmla="*/ 307440 h 1347840"/>
              <a:gd name="textAreaBottom" fmla="*/ 1040400 h 1347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p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Šestnácticípá hvězda 8"/>
          <p:cNvSpPr/>
          <p:nvPr/>
        </p:nvSpPr>
        <p:spPr>
          <a:xfrm>
            <a:off x="684360" y="4272120"/>
            <a:ext cx="2374920" cy="1417320"/>
          </a:xfrm>
          <a:custGeom>
            <a:avLst/>
            <a:gdLst>
              <a:gd name="textAreaLeft" fmla="*/ 542160 w 2374920"/>
              <a:gd name="textAreaRight" fmla="*/ 1832760 w 2374920"/>
              <a:gd name="textAreaTop" fmla="*/ 323280 h 1417320"/>
              <a:gd name="textAreaBottom" fmla="*/ 1094040 h 141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j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Šestnácticípá hvězda 9"/>
          <p:cNvSpPr/>
          <p:nvPr/>
        </p:nvSpPr>
        <p:spPr>
          <a:xfrm>
            <a:off x="4284720" y="4979880"/>
            <a:ext cx="2065320" cy="1235160"/>
          </a:xfrm>
          <a:custGeom>
            <a:avLst/>
            <a:gdLst>
              <a:gd name="textAreaLeft" fmla="*/ 471240 w 2065320"/>
              <a:gd name="textAreaRight" fmla="*/ 1594080 w 2065320"/>
              <a:gd name="textAreaTop" fmla="*/ 281880 h 1235160"/>
              <a:gd name="textAreaBottom" fmla="*/ 953280 h 123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Šroubové spo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druhy šroubových spoj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j šroubem a maticí – používá se pro spoj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abších součá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Spoj šroubem s hlavou – používá 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řípadech, že jedna součást je siln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Spoj závrtným šroubem – používá se 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padech obtížného centr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Soubor:Bolted joint.svg"/>
          <p:cNvPicPr/>
          <p:nvPr/>
        </p:nvPicPr>
        <p:blipFill>
          <a:blip r:embed="rId1"/>
          <a:stretch/>
        </p:blipFill>
        <p:spPr>
          <a:xfrm>
            <a:off x="611280" y="1714680"/>
            <a:ext cx="2124000" cy="322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Soubor:Bolted joint 2.svg"/>
          <p:cNvPicPr/>
          <p:nvPr/>
        </p:nvPicPr>
        <p:blipFill>
          <a:blip r:embed="rId2"/>
          <a:stretch/>
        </p:blipFill>
        <p:spPr>
          <a:xfrm>
            <a:off x="3348000" y="1714680"/>
            <a:ext cx="2124000" cy="3228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Soubor:Bolted joint 1.svg"/>
          <p:cNvPicPr/>
          <p:nvPr/>
        </p:nvPicPr>
        <p:blipFill>
          <a:blip r:embed="rId3"/>
          <a:stretch/>
        </p:blipFill>
        <p:spPr>
          <a:xfrm>
            <a:off x="6372360" y="1341360"/>
            <a:ext cx="2124000" cy="32292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68360" y="46800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                    2.                  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uhy šroubů, matic a podlož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 šestihrannou hla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válcovou hlavou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hlav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vnitřním šestihran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ustné šrou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půlkulatou hla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roub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pínací šrou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z hl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rtné šrou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ěcí šrou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Přímá spojnice se šipkou 46"/>
          <p:cNvCxnSpPr/>
          <p:nvPr/>
        </p:nvCxnSpPr>
        <p:spPr>
          <a:xfrm flipV="1">
            <a:off x="1619280" y="2707920"/>
            <a:ext cx="721440" cy="1226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2" name="Přímá spojnice se šipkou 48"/>
          <p:cNvCxnSpPr/>
          <p:nvPr/>
        </p:nvCxnSpPr>
        <p:spPr>
          <a:xfrm>
            <a:off x="1619280" y="3933360"/>
            <a:ext cx="721440" cy="864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3" name="Přímá spojnice se šipkou 50"/>
          <p:cNvCxnSpPr/>
          <p:nvPr/>
        </p:nvCxnSpPr>
        <p:spPr>
          <a:xfrm flipV="1">
            <a:off x="3564000" y="1843920"/>
            <a:ext cx="1513440" cy="864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4" name="Přímá spojnice se šipkou 52"/>
          <p:cNvCxnSpPr/>
          <p:nvPr/>
        </p:nvCxnSpPr>
        <p:spPr>
          <a:xfrm flipV="1">
            <a:off x="3564000" y="2275920"/>
            <a:ext cx="1513440" cy="43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5" name="Přímá spojnice se šipkou 54"/>
          <p:cNvCxnSpPr/>
          <p:nvPr/>
        </p:nvCxnSpPr>
        <p:spPr>
          <a:xfrm flipV="1">
            <a:off x="3564000" y="2636640"/>
            <a:ext cx="1513440" cy="7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6" name="Přímá spojnice se šipkou 56"/>
          <p:cNvCxnSpPr/>
          <p:nvPr/>
        </p:nvCxnSpPr>
        <p:spPr>
          <a:xfrm>
            <a:off x="3564000" y="2707920"/>
            <a:ext cx="1513440" cy="36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7" name="Přímá spojnice se šipkou 58"/>
          <p:cNvCxnSpPr/>
          <p:nvPr/>
        </p:nvCxnSpPr>
        <p:spPr>
          <a:xfrm>
            <a:off x="3564000" y="2708280"/>
            <a:ext cx="1513440" cy="79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8" name="Přímá spojnice se šipkou 60"/>
          <p:cNvCxnSpPr/>
          <p:nvPr/>
        </p:nvCxnSpPr>
        <p:spPr>
          <a:xfrm>
            <a:off x="3564000" y="2708280"/>
            <a:ext cx="1513440" cy="1226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9" name="Přímá spojnice se šipkou 62"/>
          <p:cNvCxnSpPr/>
          <p:nvPr/>
        </p:nvCxnSpPr>
        <p:spPr>
          <a:xfrm>
            <a:off x="3708000" y="4797360"/>
            <a:ext cx="1369080" cy="50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0" name="Přímá spojnice se šipkou 64"/>
          <p:cNvCxnSpPr/>
          <p:nvPr/>
        </p:nvCxnSpPr>
        <p:spPr>
          <a:xfrm>
            <a:off x="3708000" y="4797360"/>
            <a:ext cx="1369080" cy="936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714240" y="523800"/>
            <a:ext cx="771552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4284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estihran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run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ýhov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ochranou závitu proti nečisto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ti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řídlat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 zářez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otv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Přímá spojnice se šipkou 4"/>
          <p:cNvCxnSpPr/>
          <p:nvPr/>
        </p:nvCxnSpPr>
        <p:spPr>
          <a:xfrm flipV="1">
            <a:off x="1618920" y="1843920"/>
            <a:ext cx="2521800" cy="180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5" name="Přímá spojnice se šipkou 8"/>
          <p:cNvCxnSpPr/>
          <p:nvPr/>
        </p:nvCxnSpPr>
        <p:spPr>
          <a:xfrm flipV="1">
            <a:off x="1618920" y="2275920"/>
            <a:ext cx="2521800" cy="1369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6" name="Přímá spojnice se šipkou 13"/>
          <p:cNvCxnSpPr/>
          <p:nvPr/>
        </p:nvCxnSpPr>
        <p:spPr>
          <a:xfrm flipV="1">
            <a:off x="1618920" y="2743920"/>
            <a:ext cx="2521800" cy="90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7" name="Přímá spojnice se šipkou 15"/>
          <p:cNvCxnSpPr/>
          <p:nvPr/>
        </p:nvCxnSpPr>
        <p:spPr>
          <a:xfrm flipV="1">
            <a:off x="1618920" y="3195360"/>
            <a:ext cx="2521800" cy="450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8" name="Přímá spojnice se šipkou 17"/>
          <p:cNvCxnSpPr/>
          <p:nvPr/>
        </p:nvCxnSpPr>
        <p:spPr>
          <a:xfrm>
            <a:off x="1618920" y="3644640"/>
            <a:ext cx="25218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9" name="Přímá spojnice se šipkou 19"/>
          <p:cNvCxnSpPr/>
          <p:nvPr/>
        </p:nvCxnSpPr>
        <p:spPr>
          <a:xfrm>
            <a:off x="1618920" y="3644640"/>
            <a:ext cx="2521800" cy="36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0" name="Přímá spojnice se šipkou 21"/>
          <p:cNvCxnSpPr/>
          <p:nvPr/>
        </p:nvCxnSpPr>
        <p:spPr>
          <a:xfrm>
            <a:off x="1618920" y="3645000"/>
            <a:ext cx="2521800" cy="79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1" name="Přímá spojnice se šipkou 23"/>
          <p:cNvCxnSpPr/>
          <p:nvPr/>
        </p:nvCxnSpPr>
        <p:spPr>
          <a:xfrm>
            <a:off x="1618920" y="3645000"/>
            <a:ext cx="2521800" cy="1297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09:56:31Z</dcterms:created>
  <dc:creator>Kralova</dc:creator>
  <dc:description/>
  <dc:language>en-US</dc:language>
  <cp:lastModifiedBy>Kralova</cp:lastModifiedBy>
  <dcterms:modified xsi:type="dcterms:W3CDTF">2013-02-14T11:50:57Z</dcterms:modified>
  <cp:revision>38</cp:revision>
  <dc:subject/>
  <dc:title>SPOJE</dc:title>
</cp:coreProperties>
</file>