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c8fe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7c8fe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9E11-F57B-4653-AF4D-21284B322AA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CFBB-F43A-4D6A-8F4E-4DCEC6BED1A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17C1-EA8C-4AC3-AB9C-E957283F0AE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5535-6AC4-4EE6-87A7-4041AAE5180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43DF-867F-4F34-BB26-EDCC8974BAA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C822-AE06-4A04-94F2-946B6F6ABDE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EC24-BC88-41AF-85E5-1A1D2C92BBB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877F-F2C0-4D40-8448-F830014511D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B6DB-91C7-4B5B-8F37-09A633F26D8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EB71-2377-4A94-972C-176CDDCAA15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5489-8347-4887-BE0F-4847314BE35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26C6-0F7F-4FE4-A939-20572E69E5F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8F18-1D94-424C-AA6C-B409462BA8A1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E5A1-9167-4F0A-B54A-BDD893FC09D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D4E2-2932-4A50-BB05-39011F95F1B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B82C-8F84-47AD-A51D-959B05DA1BA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73BB-9C56-4D42-85CD-7CC4EA46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c8f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75F6-DD52-44BC-952D-D72E10C1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c8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CCB6-F382-4B25-92CF-94A94361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c8f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0735-2D30-4EDB-A83F-D1748430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c8f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E5FD-43A7-4E29-AAEC-255B93D3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c8f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E12-175F-4C98-BFF0-2BB8F78D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c8f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E379-184A-4D35-BECF-205857C6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c8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CF05-8EE5-4AEE-9A45-09D7D432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C14D-93A4-43EF-BD49-7A347413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c8f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DC3F-2F37-4F12-8D8D-B23257C2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c8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90C3-514D-430B-A119-589DFD85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7c8f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D7BC-3B61-4DEB-BB22-1CA7A85F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c8f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7c8f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04C9-4204-4B26-A0B1-059C4A93F10A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2242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Šroubové spoje-procvičování</a:t>
            </a:r>
            <a:endParaRPr b="0" lang="en-US" sz="4400" spc="-1" strike="noStrike">
              <a:solidFill>
                <a:srgbClr val="d7c8fe"/>
              </a:solidFill>
              <a:latin typeface="Arial"/>
            </a:endParaRPr>
          </a:p>
        </p:txBody>
      </p:sp>
      <p:pic>
        <p:nvPicPr>
          <p:cNvPr id="49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50" name="TextovéPole 4"/>
          <p:cNvSpPr/>
          <p:nvPr/>
        </p:nvSpPr>
        <p:spPr>
          <a:xfrm>
            <a:off x="2195640" y="396252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VY_32_INOVACE_02_Sroubove_spoje_procvicova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Autor: ing. Antónia Král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3564000" y="2076480"/>
            <a:ext cx="16556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7c8fe"/>
                </a:solidFill>
                <a:latin typeface="Arial"/>
              </a:rPr>
              <a:t>Šroubové spoje.</a:t>
            </a:r>
            <a:endParaRPr b="0" lang="en-US" sz="3600" spc="-1" strike="noStrike">
              <a:solidFill>
                <a:srgbClr val="d7c8fe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ákladní druhy šroubových spojů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oj šroubem a maticí – používá se pro spojení slabších součá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oj šroubem s hlavou – používá se v případech, že jedna součást je silnějš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oj závrtným šroubem – používá se v případech obtížného centr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Šipka doprava 1"/>
          <p:cNvSpPr/>
          <p:nvPr/>
        </p:nvSpPr>
        <p:spPr>
          <a:xfrm>
            <a:off x="428760" y="4581360"/>
            <a:ext cx="8319960" cy="20876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ccff33"/>
          </a:solidFill>
          <a:ln w="25560">
            <a:solidFill>
              <a:srgbClr val="2e0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Šipka doprava 4"/>
          <p:cNvSpPr/>
          <p:nvPr/>
        </p:nvSpPr>
        <p:spPr>
          <a:xfrm>
            <a:off x="428760" y="3068640"/>
            <a:ext cx="8319960" cy="21607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ccff33"/>
          </a:solidFill>
          <a:ln w="25560">
            <a:solidFill>
              <a:srgbClr val="2e0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lačítko akce: Zpět nebo Předchozí 3">
            <a:hlinkClick r:id="" action="ppaction://hlinkshowjump?jump=previousslide"/>
          </p:cNvPr>
          <p:cNvSpPr/>
          <p:nvPr/>
        </p:nvSpPr>
        <p:spPr>
          <a:xfrm>
            <a:off x="250920" y="630864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57" h="21600">
                <a:moveTo>
                  <a:pt x="25372" y="10800"/>
                </a:moveTo>
                <a:lnTo>
                  <a:pt x="39385" y="3794"/>
                </a:lnTo>
                <a:lnTo>
                  <a:pt x="39385" y="17806"/>
                </a:lnTo>
                <a:close/>
              </a:path>
            </a:pathLst>
          </a:custGeom>
          <a:solidFill>
            <a:srgbClr val="4203e7"/>
          </a:solidFill>
          <a:ln w="25560">
            <a:solidFill>
              <a:srgbClr val="2e0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7c8fe"/>
                </a:solidFill>
                <a:latin typeface="Arial"/>
              </a:rPr>
              <a:t>Šroubové spoje.</a:t>
            </a:r>
            <a:endParaRPr b="0" lang="en-US" sz="3600" spc="-1" strike="noStrike">
              <a:solidFill>
                <a:srgbClr val="d7c8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ákladní druhy šroubových spojů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oj šroubem a maticí – používá se pro spojení slabších součá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oj šroubem s hlavou – používá se v případech, že jedna součást je silnějš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oj závrtným šroubem – používá se v případech obtížného centr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Šipka doprava 1"/>
          <p:cNvSpPr/>
          <p:nvPr/>
        </p:nvSpPr>
        <p:spPr>
          <a:xfrm>
            <a:off x="428760" y="1638360"/>
            <a:ext cx="8319960" cy="19447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ccff33"/>
          </a:solidFill>
          <a:ln w="25560">
            <a:solidFill>
              <a:srgbClr val="2e0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Šipka doprava 4"/>
          <p:cNvSpPr/>
          <p:nvPr/>
        </p:nvSpPr>
        <p:spPr>
          <a:xfrm>
            <a:off x="469800" y="4581360"/>
            <a:ext cx="8320320" cy="194328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ccff33"/>
          </a:solidFill>
          <a:ln w="25560">
            <a:solidFill>
              <a:srgbClr val="2e0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lačítko akce: Zpět nebo Předchozí 2"/>
          <p:cNvSpPr/>
          <p:nvPr/>
        </p:nvSpPr>
        <p:spPr>
          <a:xfrm>
            <a:off x="324000" y="6308640"/>
            <a:ext cx="1223640" cy="433440"/>
          </a:xfrm>
          <a:custGeom>
            <a:avLst/>
            <a:gdLst>
              <a:gd name="textAreaLeft" fmla="*/ 28080 w 1223640"/>
              <a:gd name="textAreaRight" fmla="*/ 1195560 w 122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60946" h="21600">
                <a:moveTo>
                  <a:pt x="0" y="0"/>
                </a:moveTo>
                <a:lnTo>
                  <a:pt x="60946" y="0"/>
                </a:lnTo>
                <a:lnTo>
                  <a:pt x="60946" y="21600"/>
                </a:lnTo>
                <a:lnTo>
                  <a:pt x="0" y="21600"/>
                </a:lnTo>
                <a:close/>
              </a:path>
              <a:path fill="lightenLess" w="60946" h="21600">
                <a:moveTo>
                  <a:pt x="0" y="0"/>
                </a:moveTo>
                <a:lnTo>
                  <a:pt x="60946" y="0"/>
                </a:lnTo>
                <a:lnTo>
                  <a:pt x="59546" y="1400"/>
                </a:lnTo>
                <a:lnTo>
                  <a:pt x="1400" y="1400"/>
                </a:lnTo>
                <a:close/>
              </a:path>
              <a:path fill="darken" w="60946" h="21600">
                <a:moveTo>
                  <a:pt x="60946" y="0"/>
                </a:moveTo>
                <a:lnTo>
                  <a:pt x="60946" y="21600"/>
                </a:lnTo>
                <a:lnTo>
                  <a:pt x="59546" y="20200"/>
                </a:lnTo>
                <a:lnTo>
                  <a:pt x="59546" y="1400"/>
                </a:lnTo>
                <a:close/>
              </a:path>
              <a:path fill="darkenLess" w="60946" h="21600">
                <a:moveTo>
                  <a:pt x="60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546" y="20200"/>
                </a:lnTo>
                <a:close/>
              </a:path>
              <a:path fill="lighten" w="60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946" h="21600">
                <a:moveTo>
                  <a:pt x="23467" y="10800"/>
                </a:moveTo>
                <a:lnTo>
                  <a:pt x="37480" y="3794"/>
                </a:lnTo>
                <a:lnTo>
                  <a:pt x="37480" y="17806"/>
                </a:lnTo>
                <a:close/>
              </a:path>
            </a:pathLst>
          </a:custGeom>
          <a:solidFill>
            <a:srgbClr val="4203e7"/>
          </a:solidFill>
          <a:ln w="25560">
            <a:solidFill>
              <a:srgbClr val="2e0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7c8fe"/>
                </a:solidFill>
                <a:latin typeface="Arial"/>
              </a:rPr>
              <a:t>Šroubové spoje.</a:t>
            </a:r>
            <a:endParaRPr b="0" lang="en-US" sz="3600" spc="-1" strike="noStrike">
              <a:solidFill>
                <a:srgbClr val="d7c8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ákladní druhy šroubových spojů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oj šroubem a maticí – používá se pro spojení slabších součá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oj šroubem s hlavou – používá se v případech, že jedna součást je silnějš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oj závrtným šroubem – používá se v případech obtížného centr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Šipka doprava 1"/>
          <p:cNvSpPr/>
          <p:nvPr/>
        </p:nvSpPr>
        <p:spPr>
          <a:xfrm>
            <a:off x="428760" y="1638360"/>
            <a:ext cx="8319960" cy="19447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ccff33"/>
          </a:solidFill>
          <a:ln w="25560">
            <a:solidFill>
              <a:srgbClr val="2e0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Šipka doprava 4"/>
          <p:cNvSpPr/>
          <p:nvPr/>
        </p:nvSpPr>
        <p:spPr>
          <a:xfrm>
            <a:off x="449280" y="3068640"/>
            <a:ext cx="8319960" cy="22320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ccff33"/>
          </a:solidFill>
          <a:ln w="25560">
            <a:solidFill>
              <a:srgbClr val="2e0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lačítko akce: Zpět nebo Předchozí 2"/>
          <p:cNvSpPr/>
          <p:nvPr/>
        </p:nvSpPr>
        <p:spPr>
          <a:xfrm>
            <a:off x="611280" y="6237360"/>
            <a:ext cx="1224000" cy="504720"/>
          </a:xfrm>
          <a:custGeom>
            <a:avLst/>
            <a:gdLst>
              <a:gd name="textAreaLeft" fmla="*/ 32400 w 1224000"/>
              <a:gd name="textAreaRight" fmla="*/ 1191600 w 1224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52360" h="21600">
                <a:moveTo>
                  <a:pt x="0" y="0"/>
                </a:moveTo>
                <a:lnTo>
                  <a:pt x="52360" y="0"/>
                </a:lnTo>
                <a:lnTo>
                  <a:pt x="52360" y="21600"/>
                </a:lnTo>
                <a:lnTo>
                  <a:pt x="0" y="21600"/>
                </a:lnTo>
                <a:close/>
              </a:path>
              <a:path fill="lightenLess" w="52360" h="21600">
                <a:moveTo>
                  <a:pt x="0" y="0"/>
                </a:moveTo>
                <a:lnTo>
                  <a:pt x="52360" y="0"/>
                </a:lnTo>
                <a:lnTo>
                  <a:pt x="50960" y="1400"/>
                </a:lnTo>
                <a:lnTo>
                  <a:pt x="1400" y="1400"/>
                </a:lnTo>
                <a:close/>
              </a:path>
              <a:path fill="darken" w="52360" h="21600">
                <a:moveTo>
                  <a:pt x="52360" y="0"/>
                </a:moveTo>
                <a:lnTo>
                  <a:pt x="52360" y="21600"/>
                </a:lnTo>
                <a:lnTo>
                  <a:pt x="50960" y="20200"/>
                </a:lnTo>
                <a:lnTo>
                  <a:pt x="50960" y="1400"/>
                </a:lnTo>
                <a:close/>
              </a:path>
              <a:path fill="darkenLess" w="52360" h="21600">
                <a:moveTo>
                  <a:pt x="5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60" y="20200"/>
                </a:lnTo>
                <a:close/>
              </a:path>
              <a:path fill="lighten" w="5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60" h="21600">
                <a:moveTo>
                  <a:pt x="19174" y="10800"/>
                </a:moveTo>
                <a:lnTo>
                  <a:pt x="33187" y="3794"/>
                </a:lnTo>
                <a:lnTo>
                  <a:pt x="33187" y="17806"/>
                </a:lnTo>
                <a:close/>
              </a:path>
            </a:pathLst>
          </a:custGeom>
          <a:solidFill>
            <a:srgbClr val="4203e7"/>
          </a:solidFill>
          <a:ln w="25560">
            <a:solidFill>
              <a:srgbClr val="2e0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lačítko akce: Dopředu nebo Další 3">
            <a:hlinkClick r:id="" action="ppaction://hlinkshowjump?jump=nextslide"/>
          </p:cNvPr>
          <p:cNvSpPr/>
          <p:nvPr/>
        </p:nvSpPr>
        <p:spPr>
          <a:xfrm>
            <a:off x="7308720" y="6093000"/>
            <a:ext cx="1224000" cy="649080"/>
          </a:xfrm>
          <a:custGeom>
            <a:avLst/>
            <a:gdLst>
              <a:gd name="textAreaLeft" fmla="*/ 41760 w 1224000"/>
              <a:gd name="textAreaRight" fmla="*/ 1182240 w 1224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40722" h="21600">
                <a:moveTo>
                  <a:pt x="0" y="0"/>
                </a:moveTo>
                <a:lnTo>
                  <a:pt x="40722" y="0"/>
                </a:lnTo>
                <a:lnTo>
                  <a:pt x="40722" y="21600"/>
                </a:lnTo>
                <a:lnTo>
                  <a:pt x="0" y="21600"/>
                </a:lnTo>
                <a:close/>
              </a:path>
              <a:path fill="lightenLess" w="40722" h="21600">
                <a:moveTo>
                  <a:pt x="0" y="0"/>
                </a:moveTo>
                <a:lnTo>
                  <a:pt x="40722" y="0"/>
                </a:lnTo>
                <a:lnTo>
                  <a:pt x="39322" y="1400"/>
                </a:lnTo>
                <a:lnTo>
                  <a:pt x="1400" y="1400"/>
                </a:lnTo>
                <a:close/>
              </a:path>
              <a:path fill="darken" w="40722" h="21600">
                <a:moveTo>
                  <a:pt x="40722" y="0"/>
                </a:moveTo>
                <a:lnTo>
                  <a:pt x="40722" y="21600"/>
                </a:lnTo>
                <a:lnTo>
                  <a:pt x="39322" y="20200"/>
                </a:lnTo>
                <a:lnTo>
                  <a:pt x="39322" y="1400"/>
                </a:lnTo>
                <a:close/>
              </a:path>
              <a:path fill="darkenLess" w="40722" h="21600">
                <a:moveTo>
                  <a:pt x="40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22" y="20200"/>
                </a:lnTo>
                <a:close/>
              </a:path>
              <a:path fill="lighten" w="40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22" h="21600">
                <a:moveTo>
                  <a:pt x="13354" y="3794"/>
                </a:moveTo>
                <a:lnTo>
                  <a:pt x="27367" y="10800"/>
                </a:lnTo>
                <a:lnTo>
                  <a:pt x="13354" y="17806"/>
                </a:lnTo>
                <a:close/>
              </a:path>
            </a:pathLst>
          </a:custGeom>
          <a:solidFill>
            <a:srgbClr val="4203e7"/>
          </a:solidFill>
          <a:ln w="25560">
            <a:solidFill>
              <a:srgbClr val="2e0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682560" y="573120"/>
            <a:ext cx="7832880" cy="3541680"/>
          </a:xfrm>
          <a:prstGeom prst="rect">
            <a:avLst/>
          </a:prstGeom>
          <a:ln w="0">
            <a:noFill/>
          </a:ln>
        </p:spPr>
      </p:pic>
      <p:sp>
        <p:nvSpPr>
          <p:cNvPr id="147" name="TextovéPole 1"/>
          <p:cNvSpPr/>
          <p:nvPr/>
        </p:nvSpPr>
        <p:spPr>
          <a:xfrm>
            <a:off x="847800" y="189000"/>
            <a:ext cx="61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OKÁŽEŠ POPSAT ČÁSTI SPOJ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bdélník 2"/>
          <p:cNvSpPr/>
          <p:nvPr/>
        </p:nvSpPr>
        <p:spPr>
          <a:xfrm>
            <a:off x="824040" y="4437000"/>
            <a:ext cx="7553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………………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1a.  …………………..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1b.  …………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1c.  …………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2.  …………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3.  …………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4.  …………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lačítko akce: Dopředu nebo Další 3">
            <a:hlinkClick r:id="" action="ppaction://hlinkshowjump?jump=nextslide"/>
          </p:cNvPr>
          <p:cNvSpPr/>
          <p:nvPr/>
        </p:nvSpPr>
        <p:spPr>
          <a:xfrm>
            <a:off x="6443640" y="6093000"/>
            <a:ext cx="1513080" cy="576000"/>
          </a:xfrm>
          <a:custGeom>
            <a:avLst/>
            <a:gdLst>
              <a:gd name="textAreaLeft" fmla="*/ 37080 w 1513080"/>
              <a:gd name="textAreaRight" fmla="*/ 1476000 w 1513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6719" h="21600">
                <a:moveTo>
                  <a:pt x="0" y="0"/>
                </a:moveTo>
                <a:lnTo>
                  <a:pt x="56719" y="0"/>
                </a:lnTo>
                <a:lnTo>
                  <a:pt x="56719" y="21600"/>
                </a:lnTo>
                <a:lnTo>
                  <a:pt x="0" y="21600"/>
                </a:lnTo>
                <a:close/>
              </a:path>
              <a:path fill="lightenLess" w="56719" h="21600">
                <a:moveTo>
                  <a:pt x="0" y="0"/>
                </a:moveTo>
                <a:lnTo>
                  <a:pt x="56719" y="0"/>
                </a:lnTo>
                <a:lnTo>
                  <a:pt x="55319" y="1400"/>
                </a:lnTo>
                <a:lnTo>
                  <a:pt x="1400" y="1400"/>
                </a:lnTo>
                <a:close/>
              </a:path>
              <a:path fill="darken" w="56719" h="21600">
                <a:moveTo>
                  <a:pt x="56719" y="0"/>
                </a:moveTo>
                <a:lnTo>
                  <a:pt x="56719" y="21600"/>
                </a:lnTo>
                <a:lnTo>
                  <a:pt x="55319" y="20200"/>
                </a:lnTo>
                <a:lnTo>
                  <a:pt x="55319" y="1400"/>
                </a:lnTo>
                <a:close/>
              </a:path>
              <a:path fill="darkenLess" w="56719" h="21600">
                <a:moveTo>
                  <a:pt x="56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319" y="20200"/>
                </a:lnTo>
                <a:close/>
              </a:path>
              <a:path fill="lighten" w="56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719" h="21600">
                <a:moveTo>
                  <a:pt x="21353" y="3794"/>
                </a:moveTo>
                <a:lnTo>
                  <a:pt x="35366" y="10800"/>
                </a:lnTo>
                <a:lnTo>
                  <a:pt x="21353" y="17806"/>
                </a:lnTo>
                <a:close/>
              </a:path>
            </a:pathLst>
          </a:custGeom>
          <a:solidFill>
            <a:srgbClr val="4203e7"/>
          </a:solidFill>
          <a:ln w="25560">
            <a:solidFill>
              <a:srgbClr val="2e0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682560" y="573120"/>
            <a:ext cx="7832880" cy="3541680"/>
          </a:xfrm>
          <a:prstGeom prst="rect">
            <a:avLst/>
          </a:prstGeom>
          <a:ln w="0">
            <a:noFill/>
          </a:ln>
        </p:spPr>
      </p:pic>
      <p:sp>
        <p:nvSpPr>
          <p:cNvPr id="151" name="TextovéPole 1"/>
          <p:cNvSpPr/>
          <p:nvPr/>
        </p:nvSpPr>
        <p:spPr>
          <a:xfrm>
            <a:off x="847800" y="189000"/>
            <a:ext cx="61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OKÁŽEŠ POPSAT ČÁSTI SPOJ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bdélník 2"/>
          <p:cNvSpPr/>
          <p:nvPr/>
        </p:nvSpPr>
        <p:spPr>
          <a:xfrm>
            <a:off x="824040" y="4437000"/>
            <a:ext cx="755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Šroub s hlavou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1a. hlava šroub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1b. dřík šroub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1c. závit šroub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2.  Ma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3.  Podlož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4.  Materiá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7c8fe"/>
                </a:solidFill>
                <a:latin typeface="Arial"/>
              </a:rPr>
              <a:t>Seznam literatury a zdrojů</a:t>
            </a:r>
            <a:endParaRPr b="0" lang="en-US" sz="4400" spc="-1" strike="noStrike">
              <a:solidFill>
                <a:srgbClr val="d7c8fe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ttp://0205.cepac.cz/Screens/ContentProvider.aspx/vlACj9yTeN-W5Hzv2y1_fBXdJ2ebRyQWa5PCQ6i1f2c1/M0006_spojovaci_soucasti/distancni_text/menu/index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Materiál je určen pro bezplatné používání pro potřeby výuky a pro vzdělávání na všech typech škol a školských zařízeních. Jakékoliv další využití podléhá autorskému zákon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d7c8fe"/>
                </a:solidFill>
                <a:latin typeface="Arial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d7c8fe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c002c"/>
                      </a:solidFill>
                    </a:lnL>
                    <a:lnR w="5760">
                      <a:solidFill>
                        <a:srgbClr val="0c002c"/>
                      </a:solidFill>
                    </a:lnR>
                    <a:lnT w="5760">
                      <a:solidFill>
                        <a:srgbClr val="0c002c"/>
                      </a:solidFill>
                    </a:lnT>
                    <a:lnB w="18720">
                      <a:solidFill>
                        <a:srgbClr val="0c002c"/>
                      </a:solidFill>
                    </a:lnB>
                    <a:solidFill>
                      <a:srgbClr val="4203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Střední škola technická a zemědělská Mohelni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c002c"/>
                      </a:solidFill>
                    </a:lnL>
                    <a:lnR w="5760">
                      <a:solidFill>
                        <a:srgbClr val="0c002c"/>
                      </a:solidFill>
                    </a:lnR>
                    <a:lnT w="5760">
                      <a:solidFill>
                        <a:srgbClr val="0c002c"/>
                      </a:solidFill>
                    </a:lnT>
                    <a:lnB w="18720">
                      <a:solidFill>
                        <a:srgbClr val="0c002c"/>
                      </a:solidFill>
                    </a:lnB>
                    <a:solidFill>
                      <a:srgbClr val="4203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c002c"/>
                      </a:solidFill>
                    </a:lnL>
                    <a:lnR w="5760">
                      <a:solidFill>
                        <a:srgbClr val="0c002c"/>
                      </a:solidFill>
                    </a:lnR>
                    <a:lnT w="18720">
                      <a:solidFill>
                        <a:srgbClr val="0c002c"/>
                      </a:solidFill>
                    </a:lnT>
                    <a:lnB w="5760">
                      <a:solidFill>
                        <a:srgbClr val="0c002c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c002c"/>
                      </a:solidFill>
                    </a:lnL>
                    <a:lnR w="5760">
                      <a:solidFill>
                        <a:srgbClr val="0c002c"/>
                      </a:solidFill>
                    </a:lnR>
                    <a:lnT w="18720">
                      <a:solidFill>
                        <a:srgbClr val="0c002c"/>
                      </a:solidFill>
                    </a:lnT>
                    <a:lnB w="5760">
                      <a:solidFill>
                        <a:srgbClr val="0c002c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c002c"/>
                      </a:solidFill>
                    </a:lnL>
                    <a:lnR w="5760">
                      <a:solidFill>
                        <a:srgbClr val="0c002c"/>
                      </a:solidFill>
                    </a:lnR>
                    <a:lnT w="5760">
                      <a:solidFill>
                        <a:srgbClr val="0c002c"/>
                      </a:solidFill>
                    </a:lnT>
                    <a:lnB w="5760">
                      <a:solidFill>
                        <a:srgbClr val="0c002c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c002c"/>
                          </a:solidFill>
                          <a:latin typeface="Calibri"/>
                          <a:ea typeface="Calibri"/>
                        </a:rPr>
                        <a:t>Inovace a zkvalitnění výuky prostřednictvím ICT (III/2)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c002c"/>
                      </a:solidFill>
                    </a:lnL>
                    <a:lnR w="5760">
                      <a:solidFill>
                        <a:srgbClr val="0c002c"/>
                      </a:solidFill>
                    </a:lnR>
                    <a:lnT w="5760">
                      <a:solidFill>
                        <a:srgbClr val="0c002c"/>
                      </a:solidFill>
                    </a:lnT>
                    <a:lnB w="5760">
                      <a:solidFill>
                        <a:srgbClr val="0c002c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c002c"/>
                      </a:solidFill>
                    </a:lnL>
                    <a:lnR w="5760">
                      <a:solidFill>
                        <a:srgbClr val="0c002c"/>
                      </a:solidFill>
                    </a:lnR>
                    <a:lnT w="5760">
                      <a:solidFill>
                        <a:srgbClr val="0c002c"/>
                      </a:solidFill>
                    </a:lnT>
                    <a:lnB w="5760">
                      <a:solidFill>
                        <a:srgbClr val="0c002c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Šroubové spoj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c002c"/>
                      </a:solidFill>
                    </a:lnL>
                    <a:lnR w="5760">
                      <a:solidFill>
                        <a:srgbClr val="0c002c"/>
                      </a:solidFill>
                    </a:lnR>
                    <a:lnT w="5760">
                      <a:solidFill>
                        <a:srgbClr val="0c002c"/>
                      </a:solidFill>
                    </a:lnT>
                    <a:lnB w="5760">
                      <a:solidFill>
                        <a:srgbClr val="0c002c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c002c"/>
                      </a:solidFill>
                    </a:lnL>
                    <a:lnR w="5760">
                      <a:solidFill>
                        <a:srgbClr val="0c002c"/>
                      </a:solidFill>
                    </a:lnR>
                    <a:lnT w="5760">
                      <a:solidFill>
                        <a:srgbClr val="0c002c"/>
                      </a:solidFill>
                    </a:lnT>
                    <a:lnB w="5760">
                      <a:solidFill>
                        <a:srgbClr val="0c002c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02_Sroubove_spoje_procvicovan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c002c"/>
                      </a:solidFill>
                    </a:lnL>
                    <a:lnR w="5760">
                      <a:solidFill>
                        <a:srgbClr val="0c002c"/>
                      </a:solidFill>
                    </a:lnR>
                    <a:lnT w="5760">
                      <a:solidFill>
                        <a:srgbClr val="0c002c"/>
                      </a:solidFill>
                    </a:lnT>
                    <a:lnB w="5760">
                      <a:solidFill>
                        <a:srgbClr val="0c002c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c002c"/>
                      </a:solidFill>
                    </a:lnL>
                    <a:lnR w="5760">
                      <a:solidFill>
                        <a:srgbClr val="0c002c"/>
                      </a:solidFill>
                    </a:lnR>
                    <a:lnT w="5760">
                      <a:solidFill>
                        <a:srgbClr val="0c002c"/>
                      </a:solidFill>
                    </a:lnT>
                    <a:lnB w="5760">
                      <a:solidFill>
                        <a:srgbClr val="0c002c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chanik seřizovač, Obráběč kovů, Nástrojař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c002c"/>
                      </a:solidFill>
                    </a:lnL>
                    <a:lnR w="5760">
                      <a:solidFill>
                        <a:srgbClr val="0c002c"/>
                      </a:solidFill>
                    </a:lnR>
                    <a:lnT w="5760">
                      <a:solidFill>
                        <a:srgbClr val="0c002c"/>
                      </a:solidFill>
                    </a:lnT>
                    <a:lnB w="5760">
                      <a:solidFill>
                        <a:srgbClr val="0c002c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c002c"/>
                      </a:solidFill>
                    </a:lnL>
                    <a:lnR w="5760">
                      <a:solidFill>
                        <a:srgbClr val="0c002c"/>
                      </a:solidFill>
                    </a:lnR>
                    <a:lnT w="5760">
                      <a:solidFill>
                        <a:srgbClr val="0c002c"/>
                      </a:solidFill>
                    </a:lnT>
                    <a:lnB w="5760">
                      <a:solidFill>
                        <a:srgbClr val="0c002c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rojnictví 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c002c"/>
                      </a:solidFill>
                    </a:lnL>
                    <a:lnR w="5760">
                      <a:solidFill>
                        <a:srgbClr val="0c002c"/>
                      </a:solidFill>
                    </a:lnR>
                    <a:lnT w="5760">
                      <a:solidFill>
                        <a:srgbClr val="0c002c"/>
                      </a:solidFill>
                    </a:lnT>
                    <a:lnB w="5760">
                      <a:solidFill>
                        <a:srgbClr val="0c002c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c002c"/>
                      </a:solidFill>
                    </a:lnL>
                    <a:lnR w="5760">
                      <a:solidFill>
                        <a:srgbClr val="0c002c"/>
                      </a:solidFill>
                    </a:lnR>
                    <a:lnT w="5760">
                      <a:solidFill>
                        <a:srgbClr val="0c002c"/>
                      </a:solidFill>
                    </a:lnT>
                    <a:lnB w="5760">
                      <a:solidFill>
                        <a:srgbClr val="0c002c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v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c002c"/>
                      </a:solidFill>
                    </a:lnL>
                    <a:lnR w="5760">
                      <a:solidFill>
                        <a:srgbClr val="0c002c"/>
                      </a:solidFill>
                    </a:lnR>
                    <a:lnT w="5760">
                      <a:solidFill>
                        <a:srgbClr val="0c002c"/>
                      </a:solidFill>
                    </a:lnT>
                    <a:lnB w="5760">
                      <a:solidFill>
                        <a:srgbClr val="0c002c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c002c"/>
                      </a:solidFill>
                    </a:lnL>
                    <a:lnR w="5760">
                      <a:solidFill>
                        <a:srgbClr val="0c002c"/>
                      </a:solidFill>
                    </a:lnR>
                    <a:lnT w="5760">
                      <a:solidFill>
                        <a:srgbClr val="0c002c"/>
                      </a:solidFill>
                    </a:lnT>
                    <a:lnB w="5760">
                      <a:solidFill>
                        <a:srgbClr val="0c002c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g. Antónia Králová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c002c"/>
                      </a:solidFill>
                    </a:lnL>
                    <a:lnR w="5760">
                      <a:solidFill>
                        <a:srgbClr val="0c002c"/>
                      </a:solidFill>
                    </a:lnR>
                    <a:lnT w="5760">
                      <a:solidFill>
                        <a:srgbClr val="0c002c"/>
                      </a:solidFill>
                    </a:lnT>
                    <a:lnB w="5760">
                      <a:solidFill>
                        <a:srgbClr val="0c002c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c002c"/>
                      </a:solidFill>
                    </a:lnL>
                    <a:lnR w="5760">
                      <a:solidFill>
                        <a:srgbClr val="0c002c"/>
                      </a:solidFill>
                    </a:lnR>
                    <a:lnT w="5760">
                      <a:solidFill>
                        <a:srgbClr val="0c002c"/>
                      </a:solidFill>
                    </a:lnT>
                    <a:lnB w="5760">
                      <a:solidFill>
                        <a:srgbClr val="0c002c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10.20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c002c"/>
                      </a:solidFill>
                    </a:lnL>
                    <a:lnR w="5760">
                      <a:solidFill>
                        <a:srgbClr val="0c002c"/>
                      </a:solidFill>
                    </a:lnR>
                    <a:lnT w="5760">
                      <a:solidFill>
                        <a:srgbClr val="0c002c"/>
                      </a:solidFill>
                    </a:lnT>
                    <a:lnB w="5760">
                      <a:solidFill>
                        <a:srgbClr val="0c002c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c002c"/>
                      </a:solidFill>
                    </a:lnL>
                    <a:lnR w="5760">
                      <a:solidFill>
                        <a:srgbClr val="0c002c"/>
                      </a:solidFill>
                    </a:lnR>
                    <a:lnT w="5760">
                      <a:solidFill>
                        <a:srgbClr val="0c002c"/>
                      </a:solidFill>
                    </a:lnT>
                    <a:lnB w="5760">
                      <a:solidFill>
                        <a:srgbClr val="0c002c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c002c"/>
                          </a:solidFill>
                          <a:latin typeface="Arial"/>
                        </a:rPr>
                        <a:t>Prezentace je určena pro I. ročník střední školy předmětu Strojnictví. Obsahuje motivaci, výklad a procvičování tematického celku „Šroubové spoje“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c002c"/>
                      </a:solidFill>
                    </a:lnL>
                    <a:lnR w="5760">
                      <a:solidFill>
                        <a:srgbClr val="0c002c"/>
                      </a:solidFill>
                    </a:lnR>
                    <a:lnT w="5760">
                      <a:solidFill>
                        <a:srgbClr val="0c002c"/>
                      </a:solidFill>
                    </a:lnT>
                    <a:lnB w="5760">
                      <a:solidFill>
                        <a:srgbClr val="0c002c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c002c"/>
                      </a:solidFill>
                    </a:lnL>
                    <a:lnR w="5760">
                      <a:solidFill>
                        <a:srgbClr val="0c002c"/>
                      </a:solidFill>
                    </a:lnR>
                    <a:lnT w="5760">
                      <a:solidFill>
                        <a:srgbClr val="0c002c"/>
                      </a:solidFill>
                    </a:lnT>
                    <a:lnB w="5760">
                      <a:solidFill>
                        <a:srgbClr val="0c002c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c002c"/>
                      </a:solidFill>
                    </a:lnL>
                    <a:lnR w="5760">
                      <a:solidFill>
                        <a:srgbClr val="0c002c"/>
                      </a:solidFill>
                    </a:lnR>
                    <a:lnT w="5760">
                      <a:solidFill>
                        <a:srgbClr val="0c002c"/>
                      </a:solidFill>
                    </a:lnT>
                    <a:lnB w="5760">
                      <a:solidFill>
                        <a:srgbClr val="0c002c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c002c"/>
                      </a:solidFill>
                    </a:lnL>
                    <a:lnR w="5760">
                      <a:solidFill>
                        <a:srgbClr val="0c002c"/>
                      </a:solidFill>
                    </a:lnR>
                    <a:lnT w="5760">
                      <a:solidFill>
                        <a:srgbClr val="0c002c"/>
                      </a:solidFill>
                    </a:lnT>
                    <a:lnB w="5760">
                      <a:solidFill>
                        <a:srgbClr val="0c002c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c002c"/>
                      </a:solidFill>
                    </a:lnL>
                    <a:lnR w="5760">
                      <a:solidFill>
                        <a:srgbClr val="0c002c"/>
                      </a:solidFill>
                    </a:lnR>
                    <a:lnT w="5760">
                      <a:solidFill>
                        <a:srgbClr val="0c002c"/>
                      </a:solidFill>
                    </a:lnT>
                    <a:lnB w="5760">
                      <a:solidFill>
                        <a:srgbClr val="0c002c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77240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7c8fe"/>
                </a:solidFill>
                <a:latin typeface="Arial"/>
              </a:rPr>
              <a:t>PODLE FUNKCE DĚLÍME ŠROUBOVÉ SPOJE</a:t>
            </a:r>
            <a:endParaRPr b="0" lang="en-US" sz="4400" spc="-1" strike="noStrike">
              <a:solidFill>
                <a:srgbClr val="d7c8f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03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ROZEBIRATELNÉ        NEROZEBIRATELN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7" name="Přímá spojnice se šipkou 3"/>
          <p:cNvCxnSpPr/>
          <p:nvPr/>
        </p:nvCxnSpPr>
        <p:spPr>
          <a:xfrm flipH="1">
            <a:off x="2483640" y="1989000"/>
            <a:ext cx="1583640" cy="172800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8" name="Přímá spojnice se šipkou 5"/>
          <p:cNvCxnSpPr/>
          <p:nvPr/>
        </p:nvCxnSpPr>
        <p:spPr>
          <a:xfrm>
            <a:off x="5076360" y="2060280"/>
            <a:ext cx="1367640" cy="16563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9" name="Šipka dolů 6">
            <a:hlinkClick r:id="rId1" action="ppaction://hlinksldjump"/>
          </p:cNvPr>
          <p:cNvSpPr/>
          <p:nvPr/>
        </p:nvSpPr>
        <p:spPr>
          <a:xfrm>
            <a:off x="-57240" y="3716280"/>
            <a:ext cx="9201240" cy="1728720"/>
          </a:xfrm>
          <a:prstGeom prst="pie">
            <a:avLst/>
          </a:prstGeom>
          <a:solidFill>
            <a:srgbClr val="4203e7"/>
          </a:solidFill>
          <a:ln w="25560">
            <a:solidFill>
              <a:srgbClr val="2e0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c002c"/>
                </a:solidFill>
                <a:latin typeface="Arial"/>
              </a:rPr>
              <a:t>Ř EŠ E N 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77240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7c8fe"/>
                </a:solidFill>
                <a:latin typeface="Arial"/>
              </a:rPr>
              <a:t>PODLE FUNKCE DĚLÍME ŠROUBOVÉ SPOJE</a:t>
            </a:r>
            <a:endParaRPr b="0" lang="en-US" sz="4400" spc="-1" strike="noStrike">
              <a:solidFill>
                <a:srgbClr val="d7c8f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-324360" y="3908520"/>
            <a:ext cx="9720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ROZEBIRATELNÉ</a:t>
            </a: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NEROZEBIRATELN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2" name="Přímá spojnice se šipkou 3"/>
          <p:cNvCxnSpPr/>
          <p:nvPr/>
        </p:nvCxnSpPr>
        <p:spPr>
          <a:xfrm flipH="1">
            <a:off x="2483640" y="1989000"/>
            <a:ext cx="1583640" cy="172800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3" name="Přímá spojnice se šipkou 5"/>
          <p:cNvCxnSpPr/>
          <p:nvPr/>
        </p:nvCxnSpPr>
        <p:spPr>
          <a:xfrm>
            <a:off x="5076360" y="2060280"/>
            <a:ext cx="1367640" cy="16563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4" name="Tlačítko akce: Zpět nebo Předchozí 2">
            <a:hlinkClick r:id="" action="ppaction://hlinkshowjump?jump=previousslide"/>
          </p:cNvPr>
          <p:cNvSpPr/>
          <p:nvPr/>
        </p:nvSpPr>
        <p:spPr>
          <a:xfrm>
            <a:off x="755640" y="5661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1468" y="10800"/>
                </a:moveTo>
                <a:lnTo>
                  <a:pt x="25481" y="3794"/>
                </a:lnTo>
                <a:lnTo>
                  <a:pt x="25481" y="17806"/>
                </a:lnTo>
                <a:close/>
              </a:path>
            </a:pathLst>
          </a:custGeom>
          <a:solidFill>
            <a:srgbClr val="4203e7"/>
          </a:solidFill>
          <a:ln w="25560">
            <a:solidFill>
              <a:srgbClr val="2e0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lačítko akce: Dopředu nebo Další 4">
            <a:hlinkClick r:id="" action="ppaction://hlinkshowjump?jump=nextslide"/>
          </p:cNvPr>
          <p:cNvSpPr/>
          <p:nvPr/>
        </p:nvSpPr>
        <p:spPr>
          <a:xfrm>
            <a:off x="6875640" y="5661000"/>
            <a:ext cx="936360" cy="504720"/>
          </a:xfrm>
          <a:custGeom>
            <a:avLst/>
            <a:gdLst>
              <a:gd name="textAreaLeft" fmla="*/ 32400 w 936360"/>
              <a:gd name="textAreaRight" fmla="*/ 903960 w 93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0059" h="21600">
                <a:moveTo>
                  <a:pt x="0" y="0"/>
                </a:moveTo>
                <a:lnTo>
                  <a:pt x="40059" y="0"/>
                </a:lnTo>
                <a:lnTo>
                  <a:pt x="40059" y="21600"/>
                </a:lnTo>
                <a:lnTo>
                  <a:pt x="0" y="21600"/>
                </a:lnTo>
                <a:close/>
              </a:path>
              <a:path fill="lightenLess" w="40059" h="21600">
                <a:moveTo>
                  <a:pt x="0" y="0"/>
                </a:moveTo>
                <a:lnTo>
                  <a:pt x="40059" y="0"/>
                </a:lnTo>
                <a:lnTo>
                  <a:pt x="38659" y="1400"/>
                </a:lnTo>
                <a:lnTo>
                  <a:pt x="1400" y="1400"/>
                </a:lnTo>
                <a:close/>
              </a:path>
              <a:path fill="darken" w="40059" h="21600">
                <a:moveTo>
                  <a:pt x="40059" y="0"/>
                </a:moveTo>
                <a:lnTo>
                  <a:pt x="40059" y="21600"/>
                </a:lnTo>
                <a:lnTo>
                  <a:pt x="38659" y="20200"/>
                </a:lnTo>
                <a:lnTo>
                  <a:pt x="38659" y="1400"/>
                </a:lnTo>
                <a:close/>
              </a:path>
              <a:path fill="darkenLess" w="40059" h="21600">
                <a:moveTo>
                  <a:pt x="40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59" y="20200"/>
                </a:lnTo>
                <a:close/>
              </a:path>
              <a:path fill="lighten" w="40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59" h="21600">
                <a:moveTo>
                  <a:pt x="13023" y="3794"/>
                </a:moveTo>
                <a:lnTo>
                  <a:pt x="27036" y="10800"/>
                </a:lnTo>
                <a:lnTo>
                  <a:pt x="13023" y="17806"/>
                </a:lnTo>
                <a:close/>
              </a:path>
            </a:pathLst>
          </a:custGeom>
          <a:solidFill>
            <a:srgbClr val="4203e7"/>
          </a:solidFill>
          <a:ln w="25560">
            <a:solidFill>
              <a:srgbClr val="2e0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844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7c8fe"/>
                </a:solidFill>
                <a:latin typeface="Arial"/>
              </a:rPr>
              <a:t>Doplňuj vepsáním jaké znáš spoje</a:t>
            </a:r>
            <a:br>
              <a:rPr sz="2800"/>
            </a:br>
            <a:r>
              <a:rPr b="0" lang="cs-CZ" sz="2800" spc="-1" strike="noStrike">
                <a:solidFill>
                  <a:srgbClr val="d7c8fe"/>
                </a:solidFill>
                <a:latin typeface="Arial"/>
              </a:rPr>
              <a:t>(řešení dole pod šipkou) 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7c8fe"/>
              </a:solidFill>
              <a:latin typeface="Arial"/>
            </a:endParaRPr>
          </a:p>
        </p:txBody>
      </p:sp>
      <p:sp>
        <p:nvSpPr>
          <p:cNvPr id="67" name="Výbuch 1 1"/>
          <p:cNvSpPr/>
          <p:nvPr/>
        </p:nvSpPr>
        <p:spPr>
          <a:xfrm>
            <a:off x="2987640" y="1268280"/>
            <a:ext cx="3075120" cy="1706760"/>
          </a:xfrm>
          <a:prstGeom prst="irregularSeal1">
            <a:avLst/>
          </a:prstGeom>
          <a:solidFill>
            <a:srgbClr val="ffff66"/>
          </a:solidFill>
          <a:ln w="57240">
            <a:solidFill>
              <a:srgbClr val="ff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Šestnácticípá hvězda 2"/>
          <p:cNvSpPr/>
          <p:nvPr/>
        </p:nvSpPr>
        <p:spPr>
          <a:xfrm>
            <a:off x="368280" y="2276640"/>
            <a:ext cx="2160720" cy="1203120"/>
          </a:xfrm>
          <a:custGeom>
            <a:avLst/>
            <a:gdLst>
              <a:gd name="textAreaLeft" fmla="*/ 493200 w 2160720"/>
              <a:gd name="textAreaRight" fmla="*/ 1667520 w 2160720"/>
              <a:gd name="textAreaTop" fmla="*/ 274680 h 1203120"/>
              <a:gd name="textAreaBottom" fmla="*/ 928440 h 1203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5c2a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Šestnácticípá hvězda 3"/>
          <p:cNvSpPr/>
          <p:nvPr/>
        </p:nvSpPr>
        <p:spPr>
          <a:xfrm>
            <a:off x="3276720" y="3282840"/>
            <a:ext cx="2065320" cy="1130400"/>
          </a:xfrm>
          <a:custGeom>
            <a:avLst/>
            <a:gdLst>
              <a:gd name="textAreaLeft" fmla="*/ 471240 w 2065320"/>
              <a:gd name="textAreaRight" fmla="*/ 1594080 w 2065320"/>
              <a:gd name="textAreaTop" fmla="*/ 258120 h 1130400"/>
              <a:gd name="textAreaBottom" fmla="*/ 87228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5c2a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Šestnácticípá hvězda 4"/>
          <p:cNvSpPr/>
          <p:nvPr/>
        </p:nvSpPr>
        <p:spPr>
          <a:xfrm>
            <a:off x="6485040" y="1984320"/>
            <a:ext cx="1850760" cy="1128600"/>
          </a:xfrm>
          <a:custGeom>
            <a:avLst/>
            <a:gdLst>
              <a:gd name="textAreaLeft" fmla="*/ 422280 w 1850760"/>
              <a:gd name="textAreaRight" fmla="*/ 1428480 w 1850760"/>
              <a:gd name="textAreaTop" fmla="*/ 257400 h 1128600"/>
              <a:gd name="textAreaBottom" fmla="*/ 871200 h 11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5c2a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Šestnácticípá hvězda 5"/>
          <p:cNvSpPr/>
          <p:nvPr/>
        </p:nvSpPr>
        <p:spPr>
          <a:xfrm>
            <a:off x="1271520" y="4413240"/>
            <a:ext cx="1800360" cy="1057320"/>
          </a:xfrm>
          <a:custGeom>
            <a:avLst/>
            <a:gdLst>
              <a:gd name="textAreaLeft" fmla="*/ 410760 w 1800360"/>
              <a:gd name="textAreaRight" fmla="*/ 1389600 w 1800360"/>
              <a:gd name="textAreaTop" fmla="*/ 241200 h 1057320"/>
              <a:gd name="textAreaBottom" fmla="*/ 816120 h 105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5c2a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Šestnácticípá hvězda 6"/>
          <p:cNvSpPr/>
          <p:nvPr/>
        </p:nvSpPr>
        <p:spPr>
          <a:xfrm>
            <a:off x="6054840" y="3848040"/>
            <a:ext cx="1800000" cy="863640"/>
          </a:xfrm>
          <a:custGeom>
            <a:avLst/>
            <a:gdLst>
              <a:gd name="textAreaLeft" fmla="*/ 410760 w 1800000"/>
              <a:gd name="textAreaRight" fmla="*/ 1389240 w 180000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5c2a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Obdélník 7"/>
          <p:cNvSpPr/>
          <p:nvPr/>
        </p:nvSpPr>
        <p:spPr>
          <a:xfrm>
            <a:off x="306360" y="6183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Rozebíratel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Obdélník 8"/>
          <p:cNvSpPr/>
          <p:nvPr/>
        </p:nvSpPr>
        <p:spPr>
          <a:xfrm>
            <a:off x="6945120" y="614196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er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Obdélník 9"/>
          <p:cNvSpPr/>
          <p:nvPr/>
        </p:nvSpPr>
        <p:spPr>
          <a:xfrm>
            <a:off x="3568680" y="61419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olík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Obdélník 10"/>
          <p:cNvSpPr/>
          <p:nvPr/>
        </p:nvSpPr>
        <p:spPr>
          <a:xfrm>
            <a:off x="5814000" y="61419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už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bdélník 11"/>
          <p:cNvSpPr/>
          <p:nvPr/>
        </p:nvSpPr>
        <p:spPr>
          <a:xfrm>
            <a:off x="4721760" y="61419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lín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Obdélník 12"/>
          <p:cNvSpPr/>
          <p:nvPr/>
        </p:nvSpPr>
        <p:spPr>
          <a:xfrm>
            <a:off x="2245680" y="6183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šroub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Šipka doprava 14">
            <a:hlinkClick r:id="rId1" action="ppaction://hlinksldjump"/>
          </p:cNvPr>
          <p:cNvSpPr/>
          <p:nvPr/>
        </p:nvSpPr>
        <p:spPr>
          <a:xfrm>
            <a:off x="557280" y="5691240"/>
            <a:ext cx="8224920" cy="12715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4203e7"/>
          </a:solidFill>
          <a:ln w="25560">
            <a:solidFill>
              <a:srgbClr val="2e0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c002c"/>
                </a:solidFill>
                <a:latin typeface="Arial"/>
              </a:rPr>
              <a:t>KLIKNI  A  KONTROLUJ  ŘEŠ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9844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7c8fe"/>
                </a:solidFill>
                <a:latin typeface="Arial"/>
              </a:rPr>
              <a:t>Doplňuj vepsáním jaké znáš spoje</a:t>
            </a:r>
            <a:br>
              <a:rPr sz="2800"/>
            </a:br>
            <a:r>
              <a:rPr b="0" lang="cs-CZ" sz="2800" spc="-1" strike="noStrike">
                <a:solidFill>
                  <a:srgbClr val="d7c8fe"/>
                </a:solidFill>
                <a:latin typeface="Arial"/>
              </a:rPr>
              <a:t>(řešení dole pod šipkou) 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7c8fe"/>
              </a:solidFill>
              <a:latin typeface="Arial"/>
            </a:endParaRPr>
          </a:p>
        </p:txBody>
      </p:sp>
      <p:sp>
        <p:nvSpPr>
          <p:cNvPr id="81" name="Výbuch 1 1"/>
          <p:cNvSpPr/>
          <p:nvPr/>
        </p:nvSpPr>
        <p:spPr>
          <a:xfrm>
            <a:off x="2987640" y="1268280"/>
            <a:ext cx="3075120" cy="1706760"/>
          </a:xfrm>
          <a:prstGeom prst="irregularSeal1">
            <a:avLst/>
          </a:prstGeom>
          <a:solidFill>
            <a:srgbClr val="ffff66"/>
          </a:solidFill>
          <a:ln w="57240">
            <a:solidFill>
              <a:srgbClr val="ff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Šestnácticípá hvězda 2"/>
          <p:cNvSpPr/>
          <p:nvPr/>
        </p:nvSpPr>
        <p:spPr>
          <a:xfrm>
            <a:off x="368280" y="2276640"/>
            <a:ext cx="2160720" cy="1203120"/>
          </a:xfrm>
          <a:custGeom>
            <a:avLst/>
            <a:gdLst>
              <a:gd name="textAreaLeft" fmla="*/ 493200 w 2160720"/>
              <a:gd name="textAreaRight" fmla="*/ 1667520 w 2160720"/>
              <a:gd name="textAreaTop" fmla="*/ 274680 h 1203120"/>
              <a:gd name="textAreaBottom" fmla="*/ 928440 h 1203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5c2a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Šestnácticípá hvězda 3"/>
          <p:cNvSpPr/>
          <p:nvPr/>
        </p:nvSpPr>
        <p:spPr>
          <a:xfrm>
            <a:off x="3276720" y="3282840"/>
            <a:ext cx="2065320" cy="1130400"/>
          </a:xfrm>
          <a:custGeom>
            <a:avLst/>
            <a:gdLst>
              <a:gd name="textAreaLeft" fmla="*/ 471240 w 2065320"/>
              <a:gd name="textAreaRight" fmla="*/ 1594080 w 2065320"/>
              <a:gd name="textAreaTop" fmla="*/ 258120 h 1130400"/>
              <a:gd name="textAreaBottom" fmla="*/ 87228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5c2a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Šestnácticípá hvězda 4"/>
          <p:cNvSpPr/>
          <p:nvPr/>
        </p:nvSpPr>
        <p:spPr>
          <a:xfrm>
            <a:off x="6485040" y="1984320"/>
            <a:ext cx="1850760" cy="1128600"/>
          </a:xfrm>
          <a:custGeom>
            <a:avLst/>
            <a:gdLst>
              <a:gd name="textAreaLeft" fmla="*/ 422280 w 1850760"/>
              <a:gd name="textAreaRight" fmla="*/ 1428480 w 1850760"/>
              <a:gd name="textAreaTop" fmla="*/ 257400 h 1128600"/>
              <a:gd name="textAreaBottom" fmla="*/ 871200 h 11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5c2a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Šestnácticípá hvězda 5"/>
          <p:cNvSpPr/>
          <p:nvPr/>
        </p:nvSpPr>
        <p:spPr>
          <a:xfrm>
            <a:off x="1271520" y="4413240"/>
            <a:ext cx="1800360" cy="1057320"/>
          </a:xfrm>
          <a:custGeom>
            <a:avLst/>
            <a:gdLst>
              <a:gd name="textAreaLeft" fmla="*/ 410760 w 1800360"/>
              <a:gd name="textAreaRight" fmla="*/ 1389600 w 1800360"/>
              <a:gd name="textAreaTop" fmla="*/ 241200 h 1057320"/>
              <a:gd name="textAreaBottom" fmla="*/ 816120 h 105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5c2a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Šestnácticípá hvězda 6"/>
          <p:cNvSpPr/>
          <p:nvPr/>
        </p:nvSpPr>
        <p:spPr>
          <a:xfrm>
            <a:off x="6054840" y="3848040"/>
            <a:ext cx="1800000" cy="863640"/>
          </a:xfrm>
          <a:custGeom>
            <a:avLst/>
            <a:gdLst>
              <a:gd name="textAreaLeft" fmla="*/ 410760 w 1800000"/>
              <a:gd name="textAreaRight" fmla="*/ 1389240 w 180000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5c2a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Obdélník 7"/>
          <p:cNvSpPr/>
          <p:nvPr/>
        </p:nvSpPr>
        <p:spPr>
          <a:xfrm>
            <a:off x="306360" y="6183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Rozebíratel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Obdélník 8"/>
          <p:cNvSpPr/>
          <p:nvPr/>
        </p:nvSpPr>
        <p:spPr>
          <a:xfrm>
            <a:off x="6945120" y="614196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er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bdélník 9"/>
          <p:cNvSpPr/>
          <p:nvPr/>
        </p:nvSpPr>
        <p:spPr>
          <a:xfrm>
            <a:off x="3568680" y="61419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olík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bdélník 10"/>
          <p:cNvSpPr/>
          <p:nvPr/>
        </p:nvSpPr>
        <p:spPr>
          <a:xfrm>
            <a:off x="5814000" y="61419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už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bdélník 11"/>
          <p:cNvSpPr/>
          <p:nvPr/>
        </p:nvSpPr>
        <p:spPr>
          <a:xfrm>
            <a:off x="4721760" y="61419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lín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bdélník 12"/>
          <p:cNvSpPr/>
          <p:nvPr/>
        </p:nvSpPr>
        <p:spPr>
          <a:xfrm>
            <a:off x="2245680" y="6183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šroub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lačítko akce: Zpět nebo Předchozí 13">
            <a:hlinkClick r:id="" action="ppaction://hlinkshowjump?jump=previousslide"/>
          </p:cNvPr>
          <p:cNvSpPr/>
          <p:nvPr/>
        </p:nvSpPr>
        <p:spPr>
          <a:xfrm>
            <a:off x="684360" y="5732640"/>
            <a:ext cx="934920" cy="409320"/>
          </a:xfrm>
          <a:custGeom>
            <a:avLst/>
            <a:gdLst>
              <a:gd name="textAreaLeft" fmla="*/ 26280 w 934920"/>
              <a:gd name="textAreaRight" fmla="*/ 908640 w 934920"/>
              <a:gd name="textAreaTop" fmla="*/ 26280 h 409320"/>
              <a:gd name="textAreaBottom" fmla="*/ 383040 h 409320"/>
            </a:gdLst>
            <a:ahLst/>
            <a:rect l="textAreaLeft" t="textAreaTop" r="textAreaRight" b="textAreaBottom"/>
            <a:pathLst>
              <a:path w="49312" h="21600">
                <a:moveTo>
                  <a:pt x="0" y="0"/>
                </a:moveTo>
                <a:lnTo>
                  <a:pt x="49312" y="0"/>
                </a:lnTo>
                <a:lnTo>
                  <a:pt x="49312" y="21600"/>
                </a:lnTo>
                <a:lnTo>
                  <a:pt x="0" y="21600"/>
                </a:lnTo>
                <a:close/>
              </a:path>
              <a:path fill="lightenLess" w="49312" h="21600">
                <a:moveTo>
                  <a:pt x="0" y="0"/>
                </a:moveTo>
                <a:lnTo>
                  <a:pt x="49312" y="0"/>
                </a:lnTo>
                <a:lnTo>
                  <a:pt x="47912" y="1400"/>
                </a:lnTo>
                <a:lnTo>
                  <a:pt x="1400" y="1400"/>
                </a:lnTo>
                <a:close/>
              </a:path>
              <a:path fill="darken" w="49312" h="21600">
                <a:moveTo>
                  <a:pt x="49312" y="0"/>
                </a:moveTo>
                <a:lnTo>
                  <a:pt x="49312" y="21600"/>
                </a:lnTo>
                <a:lnTo>
                  <a:pt x="47912" y="20200"/>
                </a:lnTo>
                <a:lnTo>
                  <a:pt x="47912" y="1400"/>
                </a:lnTo>
                <a:close/>
              </a:path>
              <a:path fill="darkenLess" w="49312" h="21600">
                <a:moveTo>
                  <a:pt x="493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12" y="20200"/>
                </a:lnTo>
                <a:close/>
              </a:path>
              <a:path fill="lighten" w="493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12" h="21600">
                <a:moveTo>
                  <a:pt x="17649" y="10800"/>
                </a:moveTo>
                <a:lnTo>
                  <a:pt x="31662" y="3794"/>
                </a:lnTo>
                <a:lnTo>
                  <a:pt x="31662" y="17806"/>
                </a:lnTo>
                <a:close/>
              </a:path>
            </a:pathLst>
          </a:custGeom>
          <a:solidFill>
            <a:srgbClr val="4203e7"/>
          </a:solidFill>
          <a:ln w="25560">
            <a:solidFill>
              <a:srgbClr val="2e0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lačítko akce: Dopředu nebo Další 15">
            <a:hlinkClick r:id="" action="ppaction://hlinkshowjump?jump=nextslide"/>
          </p:cNvPr>
          <p:cNvSpPr/>
          <p:nvPr/>
        </p:nvSpPr>
        <p:spPr>
          <a:xfrm>
            <a:off x="7667640" y="5732640"/>
            <a:ext cx="936720" cy="450720"/>
          </a:xfrm>
          <a:custGeom>
            <a:avLst/>
            <a:gdLst>
              <a:gd name="textAreaLeft" fmla="*/ 29160 w 936720"/>
              <a:gd name="textAreaRight" fmla="*/ 907560 w 936720"/>
              <a:gd name="textAreaTop" fmla="*/ 29160 h 450720"/>
              <a:gd name="textAreaBottom" fmla="*/ 421560 h 450720"/>
            </a:gdLst>
            <a:ahLst/>
            <a:rect l="textAreaLeft" t="textAreaTop" r="textAreaRight" b="textAreaBottom"/>
            <a:pathLst>
              <a:path w="44872" h="21600">
                <a:moveTo>
                  <a:pt x="0" y="0"/>
                </a:moveTo>
                <a:lnTo>
                  <a:pt x="44872" y="0"/>
                </a:lnTo>
                <a:lnTo>
                  <a:pt x="44872" y="21600"/>
                </a:lnTo>
                <a:lnTo>
                  <a:pt x="0" y="21600"/>
                </a:lnTo>
                <a:close/>
              </a:path>
              <a:path fill="lightenLess" w="44872" h="21600">
                <a:moveTo>
                  <a:pt x="0" y="0"/>
                </a:moveTo>
                <a:lnTo>
                  <a:pt x="44872" y="0"/>
                </a:lnTo>
                <a:lnTo>
                  <a:pt x="43472" y="1400"/>
                </a:lnTo>
                <a:lnTo>
                  <a:pt x="1400" y="1400"/>
                </a:lnTo>
                <a:close/>
              </a:path>
              <a:path fill="darken" w="44872" h="21600">
                <a:moveTo>
                  <a:pt x="44872" y="0"/>
                </a:moveTo>
                <a:lnTo>
                  <a:pt x="44872" y="21600"/>
                </a:lnTo>
                <a:lnTo>
                  <a:pt x="43472" y="20200"/>
                </a:lnTo>
                <a:lnTo>
                  <a:pt x="43472" y="1400"/>
                </a:lnTo>
                <a:close/>
              </a:path>
              <a:path fill="darkenLess" w="44872" h="21600">
                <a:moveTo>
                  <a:pt x="44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72" y="20200"/>
                </a:lnTo>
                <a:close/>
              </a:path>
              <a:path fill="lighten" w="44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872" h="21600">
                <a:moveTo>
                  <a:pt x="15430" y="3794"/>
                </a:moveTo>
                <a:lnTo>
                  <a:pt x="29443" y="10800"/>
                </a:lnTo>
                <a:lnTo>
                  <a:pt x="15430" y="17806"/>
                </a:lnTo>
                <a:close/>
              </a:path>
            </a:pathLst>
          </a:custGeom>
          <a:solidFill>
            <a:srgbClr val="4203e7"/>
          </a:solidFill>
          <a:ln w="25560">
            <a:solidFill>
              <a:srgbClr val="2e0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Výbuch 2 3"/>
          <p:cNvSpPr/>
          <p:nvPr/>
        </p:nvSpPr>
        <p:spPr>
          <a:xfrm>
            <a:off x="2411280" y="260280"/>
            <a:ext cx="4608720" cy="1851120"/>
          </a:xfrm>
          <a:prstGeom prst="irregularSeal2">
            <a:avLst/>
          </a:prstGeom>
          <a:solidFill>
            <a:srgbClr val="ccff33"/>
          </a:solidFill>
          <a:ln w="57240">
            <a:solidFill>
              <a:srgbClr val="ff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Šestnácticípá hvězda 4"/>
          <p:cNvSpPr/>
          <p:nvPr/>
        </p:nvSpPr>
        <p:spPr>
          <a:xfrm>
            <a:off x="306360" y="2100240"/>
            <a:ext cx="2087640" cy="1130400"/>
          </a:xfrm>
          <a:custGeom>
            <a:avLst/>
            <a:gdLst>
              <a:gd name="textAreaLeft" fmla="*/ 476640 w 2087640"/>
              <a:gd name="textAreaRight" fmla="*/ 1611000 w 2087640"/>
              <a:gd name="textAreaTop" fmla="*/ 258120 h 1130400"/>
              <a:gd name="textAreaBottom" fmla="*/ 87228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5724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Šestnácticípá hvězda 6"/>
          <p:cNvSpPr/>
          <p:nvPr/>
        </p:nvSpPr>
        <p:spPr>
          <a:xfrm>
            <a:off x="3745080" y="2432160"/>
            <a:ext cx="1942920" cy="1274760"/>
          </a:xfrm>
          <a:custGeom>
            <a:avLst/>
            <a:gdLst>
              <a:gd name="textAreaLeft" fmla="*/ 443520 w 1942920"/>
              <a:gd name="textAreaRight" fmla="*/ 1499400 w 1942920"/>
              <a:gd name="textAreaTop" fmla="*/ 290880 h 1274760"/>
              <a:gd name="textAreaBottom" fmla="*/ 983880 h 12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5724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Šestnácticípá hvězda 7"/>
          <p:cNvSpPr/>
          <p:nvPr/>
        </p:nvSpPr>
        <p:spPr>
          <a:xfrm>
            <a:off x="6516720" y="1882800"/>
            <a:ext cx="2160720" cy="1347840"/>
          </a:xfrm>
          <a:custGeom>
            <a:avLst/>
            <a:gdLst>
              <a:gd name="textAreaLeft" fmla="*/ 493200 w 2160720"/>
              <a:gd name="textAreaRight" fmla="*/ 1667520 w 2160720"/>
              <a:gd name="textAreaTop" fmla="*/ 307440 h 1347840"/>
              <a:gd name="textAreaBottom" fmla="*/ 1040400 h 1347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5724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Šestnácticípá hvězda 8"/>
          <p:cNvSpPr/>
          <p:nvPr/>
        </p:nvSpPr>
        <p:spPr>
          <a:xfrm>
            <a:off x="1206360" y="4043520"/>
            <a:ext cx="2374920" cy="1417320"/>
          </a:xfrm>
          <a:custGeom>
            <a:avLst/>
            <a:gdLst>
              <a:gd name="textAreaLeft" fmla="*/ 542160 w 2374920"/>
              <a:gd name="textAreaRight" fmla="*/ 1832760 w 2374920"/>
              <a:gd name="textAreaTop" fmla="*/ 323280 h 1417320"/>
              <a:gd name="textAreaBottom" fmla="*/ 1094040 h 141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5724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Šestnácticípá hvězda 9"/>
          <p:cNvSpPr/>
          <p:nvPr/>
        </p:nvSpPr>
        <p:spPr>
          <a:xfrm>
            <a:off x="5316480" y="4232160"/>
            <a:ext cx="2065320" cy="1235160"/>
          </a:xfrm>
          <a:custGeom>
            <a:avLst/>
            <a:gdLst>
              <a:gd name="textAreaLeft" fmla="*/ 471240 w 2065320"/>
              <a:gd name="textAreaRight" fmla="*/ 1594080 w 2065320"/>
              <a:gd name="textAreaTop" fmla="*/ 281880 h 1235160"/>
              <a:gd name="textAreaBottom" fmla="*/ 953280 h 123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5724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bdélník 1"/>
          <p:cNvSpPr/>
          <p:nvPr/>
        </p:nvSpPr>
        <p:spPr>
          <a:xfrm>
            <a:off x="1067760" y="617544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Nerozebíratel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bdélník 2"/>
          <p:cNvSpPr/>
          <p:nvPr/>
        </p:nvSpPr>
        <p:spPr>
          <a:xfrm>
            <a:off x="3106080" y="61977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ýt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bdélník 5"/>
          <p:cNvSpPr/>
          <p:nvPr/>
        </p:nvSpPr>
        <p:spPr>
          <a:xfrm>
            <a:off x="3971160" y="61466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áje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bdélník 10"/>
          <p:cNvSpPr/>
          <p:nvPr/>
        </p:nvSpPr>
        <p:spPr>
          <a:xfrm>
            <a:off x="7026120" y="617544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lak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bdélník 11"/>
          <p:cNvSpPr/>
          <p:nvPr/>
        </p:nvSpPr>
        <p:spPr>
          <a:xfrm>
            <a:off x="4878720" y="617544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var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bdélník 12"/>
          <p:cNvSpPr/>
          <p:nvPr/>
        </p:nvSpPr>
        <p:spPr>
          <a:xfrm>
            <a:off x="6082560" y="614988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epe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Šipka doprava 13">
            <a:hlinkClick r:id="rId1" action="ppaction://hlinksldjump"/>
          </p:cNvPr>
          <p:cNvSpPr/>
          <p:nvPr/>
        </p:nvSpPr>
        <p:spPr>
          <a:xfrm>
            <a:off x="1057320" y="5711760"/>
            <a:ext cx="8224920" cy="12715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4203e7"/>
          </a:solidFill>
          <a:ln w="25560">
            <a:solidFill>
              <a:srgbClr val="2e0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c002c"/>
                </a:solidFill>
                <a:latin typeface="Arial"/>
              </a:rPr>
              <a:t>KLIKNI A  KONTROLUJ  ŘEŠ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Výbuch 2 3"/>
          <p:cNvSpPr/>
          <p:nvPr/>
        </p:nvSpPr>
        <p:spPr>
          <a:xfrm>
            <a:off x="2411280" y="260280"/>
            <a:ext cx="4608720" cy="1851120"/>
          </a:xfrm>
          <a:prstGeom prst="irregularSeal2">
            <a:avLst/>
          </a:prstGeom>
          <a:solidFill>
            <a:srgbClr val="ccff33"/>
          </a:solidFill>
          <a:ln w="57240">
            <a:solidFill>
              <a:srgbClr val="ff0000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Šestnácticípá hvězda 4"/>
          <p:cNvSpPr/>
          <p:nvPr/>
        </p:nvSpPr>
        <p:spPr>
          <a:xfrm>
            <a:off x="306360" y="2100240"/>
            <a:ext cx="2087640" cy="1130400"/>
          </a:xfrm>
          <a:custGeom>
            <a:avLst/>
            <a:gdLst>
              <a:gd name="textAreaLeft" fmla="*/ 476640 w 2087640"/>
              <a:gd name="textAreaRight" fmla="*/ 1611000 w 2087640"/>
              <a:gd name="textAreaTop" fmla="*/ 258120 h 1130400"/>
              <a:gd name="textAreaBottom" fmla="*/ 87228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5724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Šestnácticípá hvězda 6"/>
          <p:cNvSpPr/>
          <p:nvPr/>
        </p:nvSpPr>
        <p:spPr>
          <a:xfrm>
            <a:off x="3745080" y="2432160"/>
            <a:ext cx="1942920" cy="1274760"/>
          </a:xfrm>
          <a:custGeom>
            <a:avLst/>
            <a:gdLst>
              <a:gd name="textAreaLeft" fmla="*/ 443520 w 1942920"/>
              <a:gd name="textAreaRight" fmla="*/ 1499400 w 1942920"/>
              <a:gd name="textAreaTop" fmla="*/ 290880 h 1274760"/>
              <a:gd name="textAreaBottom" fmla="*/ 983880 h 12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5724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Šestnácticípá hvězda 7"/>
          <p:cNvSpPr/>
          <p:nvPr/>
        </p:nvSpPr>
        <p:spPr>
          <a:xfrm>
            <a:off x="6516720" y="1882800"/>
            <a:ext cx="2160720" cy="1347840"/>
          </a:xfrm>
          <a:custGeom>
            <a:avLst/>
            <a:gdLst>
              <a:gd name="textAreaLeft" fmla="*/ 493200 w 2160720"/>
              <a:gd name="textAreaRight" fmla="*/ 1667520 w 2160720"/>
              <a:gd name="textAreaTop" fmla="*/ 307440 h 1347840"/>
              <a:gd name="textAreaBottom" fmla="*/ 1040400 h 1347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5724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Šestnácticípá hvězda 8"/>
          <p:cNvSpPr/>
          <p:nvPr/>
        </p:nvSpPr>
        <p:spPr>
          <a:xfrm>
            <a:off x="1206360" y="4043520"/>
            <a:ext cx="2374920" cy="1417320"/>
          </a:xfrm>
          <a:custGeom>
            <a:avLst/>
            <a:gdLst>
              <a:gd name="textAreaLeft" fmla="*/ 542160 w 2374920"/>
              <a:gd name="textAreaRight" fmla="*/ 1832760 w 2374920"/>
              <a:gd name="textAreaTop" fmla="*/ 323280 h 1417320"/>
              <a:gd name="textAreaBottom" fmla="*/ 1094040 h 141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5724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Šestnácticípá hvězda 9"/>
          <p:cNvSpPr/>
          <p:nvPr/>
        </p:nvSpPr>
        <p:spPr>
          <a:xfrm>
            <a:off x="5316480" y="4232160"/>
            <a:ext cx="2065320" cy="1235160"/>
          </a:xfrm>
          <a:custGeom>
            <a:avLst/>
            <a:gdLst>
              <a:gd name="textAreaLeft" fmla="*/ 471240 w 2065320"/>
              <a:gd name="textAreaRight" fmla="*/ 1594080 w 2065320"/>
              <a:gd name="textAreaTop" fmla="*/ 281880 h 1235160"/>
              <a:gd name="textAreaBottom" fmla="*/ 953280 h 123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5724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bdélník 1"/>
          <p:cNvSpPr/>
          <p:nvPr/>
        </p:nvSpPr>
        <p:spPr>
          <a:xfrm>
            <a:off x="1067760" y="617544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Nerozebíratel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bdélník 2"/>
          <p:cNvSpPr/>
          <p:nvPr/>
        </p:nvSpPr>
        <p:spPr>
          <a:xfrm>
            <a:off x="3106080" y="61977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ýt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bdélník 5"/>
          <p:cNvSpPr/>
          <p:nvPr/>
        </p:nvSpPr>
        <p:spPr>
          <a:xfrm>
            <a:off x="3971160" y="61466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áje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bdélník 10"/>
          <p:cNvSpPr/>
          <p:nvPr/>
        </p:nvSpPr>
        <p:spPr>
          <a:xfrm>
            <a:off x="7026120" y="617544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lak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bdélník 11"/>
          <p:cNvSpPr/>
          <p:nvPr/>
        </p:nvSpPr>
        <p:spPr>
          <a:xfrm>
            <a:off x="4878720" y="617544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var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bdélník 12"/>
          <p:cNvSpPr/>
          <p:nvPr/>
        </p:nvSpPr>
        <p:spPr>
          <a:xfrm>
            <a:off x="6082560" y="614988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epe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lačítko akce: Zpět nebo Předchozí 14">
            <a:hlinkClick r:id="" action="ppaction://hlinkshowjump?jump=previousslide"/>
          </p:cNvPr>
          <p:cNvSpPr/>
          <p:nvPr/>
        </p:nvSpPr>
        <p:spPr>
          <a:xfrm>
            <a:off x="539640" y="5661000"/>
            <a:ext cx="1079640" cy="485640"/>
          </a:xfrm>
          <a:custGeom>
            <a:avLst/>
            <a:gdLst>
              <a:gd name="textAreaLeft" fmla="*/ 31320 w 1079640"/>
              <a:gd name="textAreaRight" fmla="*/ 1048320 w 1079640"/>
              <a:gd name="textAreaTop" fmla="*/ 31320 h 485640"/>
              <a:gd name="textAreaBottom" fmla="*/ 454320 h 485640"/>
            </a:gdLst>
            <a:ahLst/>
            <a:rect l="textAreaLeft" t="textAreaTop" r="textAreaRight" b="textAreaBottom"/>
            <a:pathLst>
              <a:path w="48000" h="21600">
                <a:moveTo>
                  <a:pt x="0" y="0"/>
                </a:moveTo>
                <a:lnTo>
                  <a:pt x="48000" y="0"/>
                </a:lnTo>
                <a:lnTo>
                  <a:pt x="48000" y="21600"/>
                </a:lnTo>
                <a:lnTo>
                  <a:pt x="0" y="21600"/>
                </a:lnTo>
                <a:close/>
              </a:path>
              <a:path fill="lightenLess" w="48000" h="21600">
                <a:moveTo>
                  <a:pt x="0" y="0"/>
                </a:moveTo>
                <a:lnTo>
                  <a:pt x="48000" y="0"/>
                </a:lnTo>
                <a:lnTo>
                  <a:pt x="46600" y="1400"/>
                </a:lnTo>
                <a:lnTo>
                  <a:pt x="1400" y="1400"/>
                </a:lnTo>
                <a:close/>
              </a:path>
              <a:path fill="darken" w="48000" h="21600">
                <a:moveTo>
                  <a:pt x="48000" y="0"/>
                </a:moveTo>
                <a:lnTo>
                  <a:pt x="48000" y="21600"/>
                </a:lnTo>
                <a:lnTo>
                  <a:pt x="46600" y="20200"/>
                </a:lnTo>
                <a:lnTo>
                  <a:pt x="46600" y="1400"/>
                </a:lnTo>
                <a:close/>
              </a:path>
              <a:path fill="darkenLess" w="48000" h="21600">
                <a:moveTo>
                  <a:pt x="4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00" y="20200"/>
                </a:lnTo>
                <a:close/>
              </a:path>
              <a:path fill="lighten" w="4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00" h="21600">
                <a:moveTo>
                  <a:pt x="16994" y="10800"/>
                </a:moveTo>
                <a:lnTo>
                  <a:pt x="31006" y="3794"/>
                </a:lnTo>
                <a:lnTo>
                  <a:pt x="31006" y="17806"/>
                </a:lnTo>
                <a:close/>
              </a:path>
            </a:pathLst>
          </a:custGeom>
          <a:solidFill>
            <a:srgbClr val="4203e7"/>
          </a:solidFill>
          <a:ln w="25560">
            <a:solidFill>
              <a:srgbClr val="2e0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lačítko akce: Dopředu nebo Další 15">
            <a:hlinkClick r:id="" action="ppaction://hlinkshowjump?jump=nextslide"/>
          </p:cNvPr>
          <p:cNvSpPr/>
          <p:nvPr/>
        </p:nvSpPr>
        <p:spPr>
          <a:xfrm>
            <a:off x="7596360" y="5661000"/>
            <a:ext cx="936360" cy="485640"/>
          </a:xfrm>
          <a:custGeom>
            <a:avLst/>
            <a:gdLst>
              <a:gd name="textAreaLeft" fmla="*/ 31320 w 936360"/>
              <a:gd name="textAreaRight" fmla="*/ 905040 w 936360"/>
              <a:gd name="textAreaTop" fmla="*/ 31320 h 485640"/>
              <a:gd name="textAreaBottom" fmla="*/ 454320 h 485640"/>
            </a:gdLst>
            <a:ahLst/>
            <a:rect l="textAreaLeft" t="textAreaTop" r="textAreaRight" b="textAreaBottom"/>
            <a:pathLst>
              <a:path w="41632" h="21600">
                <a:moveTo>
                  <a:pt x="0" y="0"/>
                </a:moveTo>
                <a:lnTo>
                  <a:pt x="41632" y="0"/>
                </a:lnTo>
                <a:lnTo>
                  <a:pt x="41632" y="21600"/>
                </a:lnTo>
                <a:lnTo>
                  <a:pt x="0" y="21600"/>
                </a:lnTo>
                <a:close/>
              </a:path>
              <a:path fill="lightenLess" w="41632" h="21600">
                <a:moveTo>
                  <a:pt x="0" y="0"/>
                </a:moveTo>
                <a:lnTo>
                  <a:pt x="41632" y="0"/>
                </a:lnTo>
                <a:lnTo>
                  <a:pt x="40232" y="1400"/>
                </a:lnTo>
                <a:lnTo>
                  <a:pt x="1400" y="1400"/>
                </a:lnTo>
                <a:close/>
              </a:path>
              <a:path fill="darken" w="41632" h="21600">
                <a:moveTo>
                  <a:pt x="41632" y="0"/>
                </a:moveTo>
                <a:lnTo>
                  <a:pt x="41632" y="21600"/>
                </a:lnTo>
                <a:lnTo>
                  <a:pt x="40232" y="20200"/>
                </a:lnTo>
                <a:lnTo>
                  <a:pt x="40232" y="1400"/>
                </a:lnTo>
                <a:close/>
              </a:path>
              <a:path fill="darkenLess" w="41632" h="21600">
                <a:moveTo>
                  <a:pt x="41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232" y="20200"/>
                </a:lnTo>
                <a:close/>
              </a:path>
              <a:path fill="lighten" w="41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632" h="21600">
                <a:moveTo>
                  <a:pt x="13810" y="3794"/>
                </a:moveTo>
                <a:lnTo>
                  <a:pt x="27822" y="10800"/>
                </a:lnTo>
                <a:lnTo>
                  <a:pt x="13810" y="17806"/>
                </a:lnTo>
                <a:close/>
              </a:path>
            </a:pathLst>
          </a:custGeom>
          <a:solidFill>
            <a:srgbClr val="4203e7"/>
          </a:solidFill>
          <a:ln w="25560">
            <a:solidFill>
              <a:srgbClr val="2e0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7c8fe"/>
                </a:solidFill>
                <a:latin typeface="Arial"/>
              </a:rPr>
              <a:t>Šroubové spoje.</a:t>
            </a:r>
            <a:endParaRPr b="0" lang="en-US" sz="3600" spc="-1" strike="noStrike">
              <a:solidFill>
                <a:srgbClr val="d7c8fe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8760" y="1631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ákladní druhy šroubových spojů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oj šroubem a maticí – používá se pro spojení slabších součá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oj šroubem s hlavou – používá se v případech, že jedna součást je silnějš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oj závrtným šroubem – používá se v případech obtížného centr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Šipka doprava 1"/>
          <p:cNvSpPr/>
          <p:nvPr/>
        </p:nvSpPr>
        <p:spPr>
          <a:xfrm>
            <a:off x="539640" y="1628640"/>
            <a:ext cx="8604360" cy="19447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ccff33"/>
          </a:solidFill>
          <a:ln w="25560">
            <a:solidFill>
              <a:srgbClr val="2e0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Šipka doprava 4"/>
          <p:cNvSpPr/>
          <p:nvPr/>
        </p:nvSpPr>
        <p:spPr>
          <a:xfrm>
            <a:off x="539640" y="4662360"/>
            <a:ext cx="8320320" cy="194472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ccff33"/>
          </a:solidFill>
          <a:ln w="25560">
            <a:solidFill>
              <a:srgbClr val="2e0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Šipka doprava 5"/>
          <p:cNvSpPr/>
          <p:nvPr/>
        </p:nvSpPr>
        <p:spPr>
          <a:xfrm>
            <a:off x="539640" y="3105000"/>
            <a:ext cx="8320320" cy="194472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ccff33"/>
          </a:solidFill>
          <a:ln w="25560">
            <a:solidFill>
              <a:srgbClr val="2e0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lačítko akce: Vlastní 3"/>
          <p:cNvSpPr/>
          <p:nvPr/>
        </p:nvSpPr>
        <p:spPr>
          <a:xfrm>
            <a:off x="596880" y="3716280"/>
            <a:ext cx="7775640" cy="720720"/>
          </a:xfrm>
          <a:custGeom>
            <a:avLst/>
            <a:gdLst>
              <a:gd name="textAreaLeft" fmla="*/ 46440 w 7775640"/>
              <a:gd name="textAreaRight" fmla="*/ 7729200 w 777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2931" h="21600">
                <a:moveTo>
                  <a:pt x="0" y="0"/>
                </a:moveTo>
                <a:lnTo>
                  <a:pt x="232931" y="0"/>
                </a:lnTo>
                <a:lnTo>
                  <a:pt x="232931" y="21600"/>
                </a:lnTo>
                <a:lnTo>
                  <a:pt x="0" y="21600"/>
                </a:lnTo>
                <a:close/>
              </a:path>
              <a:path fill="lightenLess" w="232931" h="21600">
                <a:moveTo>
                  <a:pt x="0" y="0"/>
                </a:moveTo>
                <a:lnTo>
                  <a:pt x="232931" y="0"/>
                </a:lnTo>
                <a:lnTo>
                  <a:pt x="231531" y="1400"/>
                </a:lnTo>
                <a:lnTo>
                  <a:pt x="1400" y="1400"/>
                </a:lnTo>
                <a:close/>
              </a:path>
              <a:path fill="darken" w="232931" h="21600">
                <a:moveTo>
                  <a:pt x="232931" y="0"/>
                </a:moveTo>
                <a:lnTo>
                  <a:pt x="232931" y="21600"/>
                </a:lnTo>
                <a:lnTo>
                  <a:pt x="231531" y="20200"/>
                </a:lnTo>
                <a:lnTo>
                  <a:pt x="231531" y="1400"/>
                </a:lnTo>
                <a:close/>
              </a:path>
              <a:path fill="darkenLess" w="232931" h="21600">
                <a:moveTo>
                  <a:pt x="23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531" y="20200"/>
                </a:lnTo>
                <a:close/>
              </a:path>
              <a:path fill="lighten" w="23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c002c"/>
                </a:solidFill>
                <a:latin typeface="Arial"/>
              </a:rPr>
              <a:t>KLIKN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lačítko akce: Vlastní 2">
            <a:hlinkClick r:id="" action="ppaction://hlinkshowjump?jump=nextslide"/>
          </p:cNvPr>
          <p:cNvSpPr/>
          <p:nvPr/>
        </p:nvSpPr>
        <p:spPr>
          <a:xfrm>
            <a:off x="611280" y="2236680"/>
            <a:ext cx="7888320" cy="712800"/>
          </a:xfrm>
          <a:custGeom>
            <a:avLst/>
            <a:gdLst>
              <a:gd name="textAreaLeft" fmla="*/ 46080 w 7888320"/>
              <a:gd name="textAreaRight" fmla="*/ 7842240 w 7888320"/>
              <a:gd name="textAreaTop" fmla="*/ 46080 h 712800"/>
              <a:gd name="textAreaBottom" fmla="*/ 666720 h 712800"/>
            </a:gdLst>
            <a:ahLst/>
            <a:rect l="textAreaLeft" t="textAreaTop" r="textAreaRight" b="textAreaBottom"/>
            <a:pathLst>
              <a:path w="238930" h="21600">
                <a:moveTo>
                  <a:pt x="0" y="0"/>
                </a:moveTo>
                <a:lnTo>
                  <a:pt x="238930" y="0"/>
                </a:lnTo>
                <a:lnTo>
                  <a:pt x="238930" y="21600"/>
                </a:lnTo>
                <a:lnTo>
                  <a:pt x="0" y="21600"/>
                </a:lnTo>
                <a:close/>
              </a:path>
              <a:path fill="lightenLess" w="238930" h="21600">
                <a:moveTo>
                  <a:pt x="0" y="0"/>
                </a:moveTo>
                <a:lnTo>
                  <a:pt x="238930" y="0"/>
                </a:lnTo>
                <a:lnTo>
                  <a:pt x="237530" y="1400"/>
                </a:lnTo>
                <a:lnTo>
                  <a:pt x="1400" y="1400"/>
                </a:lnTo>
                <a:close/>
              </a:path>
              <a:path fill="darken" w="238930" h="21600">
                <a:moveTo>
                  <a:pt x="238930" y="0"/>
                </a:moveTo>
                <a:lnTo>
                  <a:pt x="238930" y="21600"/>
                </a:lnTo>
                <a:lnTo>
                  <a:pt x="237530" y="20200"/>
                </a:lnTo>
                <a:lnTo>
                  <a:pt x="237530" y="1400"/>
                </a:lnTo>
                <a:close/>
              </a:path>
              <a:path fill="darkenLess" w="238930" h="21600">
                <a:moveTo>
                  <a:pt x="238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530" y="20200"/>
                </a:lnTo>
                <a:close/>
              </a:path>
              <a:path fill="lighten" w="238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c002c"/>
                </a:solidFill>
                <a:latin typeface="Arial"/>
              </a:rPr>
              <a:t>KLIKN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lačítko akce: Vlastní 6"/>
          <p:cNvSpPr/>
          <p:nvPr/>
        </p:nvSpPr>
        <p:spPr>
          <a:xfrm>
            <a:off x="596880" y="5229360"/>
            <a:ext cx="7632720" cy="728640"/>
          </a:xfrm>
          <a:custGeom>
            <a:avLst/>
            <a:gdLst>
              <a:gd name="textAreaLeft" fmla="*/ 47160 w 7632720"/>
              <a:gd name="textAreaRight" fmla="*/ 7585560 w 7632720"/>
              <a:gd name="textAreaTop" fmla="*/ 47160 h 728640"/>
              <a:gd name="textAreaBottom" fmla="*/ 681480 h 728640"/>
            </a:gdLst>
            <a:ahLst/>
            <a:rect l="textAreaLeft" t="textAreaTop" r="textAreaRight" b="textAreaBottom"/>
            <a:pathLst>
              <a:path w="226165" h="21600">
                <a:moveTo>
                  <a:pt x="0" y="0"/>
                </a:moveTo>
                <a:lnTo>
                  <a:pt x="226165" y="0"/>
                </a:lnTo>
                <a:lnTo>
                  <a:pt x="226165" y="21600"/>
                </a:lnTo>
                <a:lnTo>
                  <a:pt x="0" y="21600"/>
                </a:lnTo>
                <a:close/>
              </a:path>
              <a:path fill="lightenLess" w="226165" h="21600">
                <a:moveTo>
                  <a:pt x="0" y="0"/>
                </a:moveTo>
                <a:lnTo>
                  <a:pt x="226165" y="0"/>
                </a:lnTo>
                <a:lnTo>
                  <a:pt x="224765" y="1400"/>
                </a:lnTo>
                <a:lnTo>
                  <a:pt x="1400" y="1400"/>
                </a:lnTo>
                <a:close/>
              </a:path>
              <a:path fill="darken" w="226165" h="21600">
                <a:moveTo>
                  <a:pt x="226165" y="0"/>
                </a:moveTo>
                <a:lnTo>
                  <a:pt x="226165" y="21600"/>
                </a:lnTo>
                <a:lnTo>
                  <a:pt x="224765" y="20200"/>
                </a:lnTo>
                <a:lnTo>
                  <a:pt x="224765" y="1400"/>
                </a:lnTo>
                <a:close/>
              </a:path>
              <a:path fill="darkenLess" w="226165" h="21600">
                <a:moveTo>
                  <a:pt x="2261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765" y="20200"/>
                </a:lnTo>
                <a:close/>
              </a:path>
              <a:path fill="lighten" w="2261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c002c"/>
                </a:solidFill>
                <a:latin typeface="Arial"/>
              </a:rPr>
              <a:t>KLIKN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09:56:31Z</dcterms:created>
  <dc:creator>Kralova</dc:creator>
  <dc:description/>
  <dc:language>en-US</dc:language>
  <cp:lastModifiedBy>Kralova</cp:lastModifiedBy>
  <dcterms:modified xsi:type="dcterms:W3CDTF">2013-02-14T11:52:32Z</dcterms:modified>
  <cp:revision>51</cp:revision>
  <dc:subject/>
  <dc:title>SPOJE</dc:title>
</cp:coreProperties>
</file>