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F804-F7E7-4E4A-AAA1-2AE2EE66D1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95D7-E36D-4331-8B56-BB4E49A308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C127-EA46-4CE2-AFC6-C805EE4D11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2F7C-FCB8-4FEB-A15B-34A824DB55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1C20-1AEB-491C-9DC8-7817824AEC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3743-45A5-41BB-93EA-955120667B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F5AE-224E-4A61-87FB-ACEA1262F7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22CA-79F1-4F66-9750-B90C836DFC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642A-BF13-4DD7-B292-E92FEC1F00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2597-C512-4E37-83E5-F5E8A6782A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718F-1564-40B7-AF11-5FC1BD2B22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34E3-4F5F-4E15-BA85-F6797B8618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600D-E08C-4F68-8795-54E02FC1E0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E28-6382-4F52-ACE1-93D7460F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C2F-1F03-4747-8F36-35DAC298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D35-1FF5-4458-80A0-154409E6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7C6C-2ED8-4756-91D7-1AAB3B40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42A-BE6E-42EE-892F-300297AE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E9A-2A80-48DE-874E-4D932C1C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248-D988-45D8-A298-77C4D8BA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38F-8511-412B-90CA-2F82E95B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057-B698-4C19-9B11-C964C929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538-86C1-49EB-965B-1A311B2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DEE-BDB8-4919-97C6-E2F25F86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38D-4BB4-43D9-A520-53E91AD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5DCB-47D4-44AF-86D8-8613E3D35E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11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Šrouby, matice, podložky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4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4"/>
          <p:cNvSpPr/>
          <p:nvPr/>
        </p:nvSpPr>
        <p:spPr>
          <a:xfrm>
            <a:off x="2195640" y="4149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03_Srouby_matice_podlo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ing. Antónia Král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635280" y="2060640"/>
            <a:ext cx="172872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73e87"/>
                </a:solidFill>
                <a:latin typeface="Arial"/>
              </a:rPr>
              <a:t>Jak dělíme podložky?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yčejná tva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zkosením tva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už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vějířovi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jazýč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no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Přímá spojnice se šipkou 2"/>
          <p:cNvCxnSpPr/>
          <p:nvPr/>
        </p:nvCxnSpPr>
        <p:spPr>
          <a:xfrm flipV="1">
            <a:off x="1834920" y="2781000"/>
            <a:ext cx="2305440" cy="12960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18" name="Přímá spojnice se šipkou 4"/>
          <p:cNvCxnSpPr/>
          <p:nvPr/>
        </p:nvCxnSpPr>
        <p:spPr>
          <a:xfrm flipV="1">
            <a:off x="1834920" y="3212280"/>
            <a:ext cx="2305440" cy="8643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19" name="Přímá spojnice se šipkou 6"/>
          <p:cNvCxnSpPr/>
          <p:nvPr/>
        </p:nvCxnSpPr>
        <p:spPr>
          <a:xfrm flipV="1">
            <a:off x="1834920" y="3644280"/>
            <a:ext cx="2305440" cy="4323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20" name="Přímá spojnice se šipkou 8"/>
          <p:cNvCxnSpPr/>
          <p:nvPr/>
        </p:nvCxnSpPr>
        <p:spPr>
          <a:xfrm>
            <a:off x="1834920" y="4076280"/>
            <a:ext cx="2305440" cy="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21" name="Přímá spojnice se šipkou 10"/>
          <p:cNvCxnSpPr/>
          <p:nvPr/>
        </p:nvCxnSpPr>
        <p:spPr>
          <a:xfrm>
            <a:off x="1834920" y="4076640"/>
            <a:ext cx="2305440" cy="43272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22" name="Přímá spojnice se šipkou 12"/>
          <p:cNvCxnSpPr/>
          <p:nvPr/>
        </p:nvCxnSpPr>
        <p:spPr>
          <a:xfrm>
            <a:off x="1834920" y="4076280"/>
            <a:ext cx="2305440" cy="8658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23" name="Přímá spojnice se šipkou 14"/>
          <p:cNvCxnSpPr/>
          <p:nvPr/>
        </p:nvCxnSpPr>
        <p:spPr>
          <a:xfrm>
            <a:off x="1834920" y="4076280"/>
            <a:ext cx="2305440" cy="12978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sp>
        <p:nvSpPr>
          <p:cNvPr id="124" name="Tlačítko akce: Informace 11">
            <a:hlinkClick r:id="" action="ppaction://hlinkshowjump?jump=nextslide"/>
          </p:cNvPr>
          <p:cNvSpPr/>
          <p:nvPr/>
        </p:nvSpPr>
        <p:spPr>
          <a:xfrm>
            <a:off x="1116000" y="6237360"/>
            <a:ext cx="2448000" cy="504720"/>
          </a:xfrm>
          <a:custGeom>
            <a:avLst/>
            <a:gdLst>
              <a:gd name="textAreaLeft" fmla="*/ 32400 w 2448000"/>
              <a:gd name="textAreaRight" fmla="*/ 2415600 w 244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04705" h="21600">
                <a:moveTo>
                  <a:pt x="0" y="0"/>
                </a:moveTo>
                <a:lnTo>
                  <a:pt x="104705" y="0"/>
                </a:lnTo>
                <a:lnTo>
                  <a:pt x="104705" y="21600"/>
                </a:lnTo>
                <a:lnTo>
                  <a:pt x="0" y="21600"/>
                </a:lnTo>
                <a:close/>
              </a:path>
              <a:path fill="lightenLess" w="104705" h="21600">
                <a:moveTo>
                  <a:pt x="0" y="0"/>
                </a:moveTo>
                <a:lnTo>
                  <a:pt x="104705" y="0"/>
                </a:lnTo>
                <a:lnTo>
                  <a:pt x="103305" y="1400"/>
                </a:lnTo>
                <a:lnTo>
                  <a:pt x="1400" y="1400"/>
                </a:lnTo>
                <a:close/>
              </a:path>
              <a:path fill="darken" w="104705" h="21600">
                <a:moveTo>
                  <a:pt x="104705" y="0"/>
                </a:moveTo>
                <a:lnTo>
                  <a:pt x="104705" y="21600"/>
                </a:lnTo>
                <a:lnTo>
                  <a:pt x="103305" y="20200"/>
                </a:lnTo>
                <a:lnTo>
                  <a:pt x="103305" y="1400"/>
                </a:lnTo>
                <a:close/>
              </a:path>
              <a:path fill="darkenLess" w="104705" h="21600">
                <a:moveTo>
                  <a:pt x="104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305" y="20200"/>
                </a:lnTo>
                <a:close/>
              </a:path>
              <a:path fill="lighten" w="104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705" h="21600">
                <a:moveTo>
                  <a:pt x="5235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104705" h="21600">
                <a:moveTo>
                  <a:pt x="5235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104705" h="21600">
                <a:moveTo>
                  <a:pt x="49776" y="8224"/>
                </a:moveTo>
                <a:lnTo>
                  <a:pt x="53641" y="8224"/>
                </a:lnTo>
                <a:lnTo>
                  <a:pt x="53641" y="15221"/>
                </a:lnTo>
                <a:lnTo>
                  <a:pt x="54929" y="15221"/>
                </a:lnTo>
                <a:lnTo>
                  <a:pt x="54929" y="16144"/>
                </a:lnTo>
                <a:lnTo>
                  <a:pt x="49776" y="16144"/>
                </a:lnTo>
                <a:lnTo>
                  <a:pt x="49776" y="15221"/>
                </a:lnTo>
                <a:lnTo>
                  <a:pt x="51065" y="15221"/>
                </a:lnTo>
                <a:lnTo>
                  <a:pt x="51065" y="9129"/>
                </a:lnTo>
                <a:lnTo>
                  <a:pt x="49776" y="9129"/>
                </a:lnTo>
                <a:close/>
              </a:path>
            </a:pathLst>
          </a:custGeom>
          <a:solidFill>
            <a:srgbClr val="31b6fd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14240" y="523800"/>
            <a:ext cx="77155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73e87"/>
                </a:solidFill>
                <a:latin typeface="Arial"/>
              </a:rPr>
              <a:t>Seznam literatury a zdroje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é fotografie z vlastní databáze (ing. A. Králov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Materiál je určen pro bezplatné používání pro potřeby výuky a pro vzdělávání na všech typech škol a školských zařízeních. Jakékoliv další využití podléhá autorskému záko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73e87"/>
                </a:solidFill>
                <a:latin typeface="Arial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třední škola technická a zemědělská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Šrouby, matice, podlož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3_Srouby_matice_podloz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hanik seřizovač, Obráběč kovů, Nástroja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jnictví 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v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g. Antónia Králov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10. 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vičovací list vhodný pro žáky prvních ročníků. Učební text umožňuje procvičování dané tématik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73e87"/>
                </a:solidFill>
                <a:latin typeface="Arial"/>
              </a:rPr>
              <a:t>Jak dělíme šrouby?</a:t>
            </a:r>
            <a:endParaRPr b="0" lang="en-US" sz="5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.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rou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Přímá spojnice se šipkou 46"/>
          <p:cNvCxnSpPr/>
          <p:nvPr/>
        </p:nvCxnSpPr>
        <p:spPr>
          <a:xfrm flipV="1">
            <a:off x="1692000" y="2707560"/>
            <a:ext cx="648360" cy="12978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58" name="Přímá spojnice se šipkou 48"/>
          <p:cNvCxnSpPr/>
          <p:nvPr/>
        </p:nvCxnSpPr>
        <p:spPr>
          <a:xfrm>
            <a:off x="1619280" y="4005360"/>
            <a:ext cx="721440" cy="79272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59" name="Přímá spojnice se šipkou 50"/>
          <p:cNvCxnSpPr/>
          <p:nvPr/>
        </p:nvCxnSpPr>
        <p:spPr>
          <a:xfrm flipV="1">
            <a:off x="3564000" y="1843920"/>
            <a:ext cx="1513440" cy="8643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60" name="Přímá spojnice se šipkou 52"/>
          <p:cNvCxnSpPr/>
          <p:nvPr/>
        </p:nvCxnSpPr>
        <p:spPr>
          <a:xfrm flipV="1">
            <a:off x="3564000" y="2275920"/>
            <a:ext cx="1513440" cy="4323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61" name="Přímá spojnice se šipkou 54"/>
          <p:cNvCxnSpPr/>
          <p:nvPr/>
        </p:nvCxnSpPr>
        <p:spPr>
          <a:xfrm flipV="1">
            <a:off x="3564000" y="2636640"/>
            <a:ext cx="1513440" cy="720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62" name="Přímá spojnice se šipkou 56"/>
          <p:cNvCxnSpPr/>
          <p:nvPr/>
        </p:nvCxnSpPr>
        <p:spPr>
          <a:xfrm>
            <a:off x="3564000" y="2707920"/>
            <a:ext cx="1513440" cy="36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63" name="Přímá spojnice se šipkou 58"/>
          <p:cNvCxnSpPr/>
          <p:nvPr/>
        </p:nvCxnSpPr>
        <p:spPr>
          <a:xfrm>
            <a:off x="3564000" y="2708280"/>
            <a:ext cx="1513440" cy="79272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64" name="Přímá spojnice se šipkou 60"/>
          <p:cNvCxnSpPr/>
          <p:nvPr/>
        </p:nvCxnSpPr>
        <p:spPr>
          <a:xfrm>
            <a:off x="3564000" y="2708280"/>
            <a:ext cx="1513440" cy="12261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65" name="Přímá spojnice se šipkou 62"/>
          <p:cNvCxnSpPr/>
          <p:nvPr/>
        </p:nvCxnSpPr>
        <p:spPr>
          <a:xfrm>
            <a:off x="3851280" y="5049360"/>
            <a:ext cx="1226160" cy="25164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66" name="Přímá spojnice se šipkou 64"/>
          <p:cNvCxnSpPr/>
          <p:nvPr/>
        </p:nvCxnSpPr>
        <p:spPr>
          <a:xfrm>
            <a:off x="3851280" y="5049360"/>
            <a:ext cx="1226160" cy="68364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sp>
        <p:nvSpPr>
          <p:cNvPr id="67" name="Tlačítko akce: Dopředu nebo Další 13">
            <a:hlinkClick r:id="" action="ppaction://hlinkshowjump?jump=nextslide"/>
          </p:cNvPr>
          <p:cNvSpPr/>
          <p:nvPr/>
        </p:nvSpPr>
        <p:spPr>
          <a:xfrm>
            <a:off x="6948360" y="6237360"/>
            <a:ext cx="1944720" cy="504720"/>
          </a:xfrm>
          <a:custGeom>
            <a:avLst/>
            <a:gdLst>
              <a:gd name="textAreaLeft" fmla="*/ 32400 w 1944720"/>
              <a:gd name="textAreaRight" fmla="*/ 1912320 w 194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82" h="21600">
                <a:moveTo>
                  <a:pt x="0" y="0"/>
                </a:moveTo>
                <a:lnTo>
                  <a:pt x="83182" y="0"/>
                </a:lnTo>
                <a:lnTo>
                  <a:pt x="83182" y="21600"/>
                </a:lnTo>
                <a:lnTo>
                  <a:pt x="0" y="21600"/>
                </a:lnTo>
                <a:close/>
              </a:path>
              <a:path fill="lightenLess" w="83182" h="21600">
                <a:moveTo>
                  <a:pt x="0" y="0"/>
                </a:moveTo>
                <a:lnTo>
                  <a:pt x="83182" y="0"/>
                </a:lnTo>
                <a:lnTo>
                  <a:pt x="81782" y="1400"/>
                </a:lnTo>
                <a:lnTo>
                  <a:pt x="1400" y="1400"/>
                </a:lnTo>
                <a:close/>
              </a:path>
              <a:path fill="darken" w="83182" h="21600">
                <a:moveTo>
                  <a:pt x="83182" y="0"/>
                </a:moveTo>
                <a:lnTo>
                  <a:pt x="83182" y="21600"/>
                </a:lnTo>
                <a:lnTo>
                  <a:pt x="81782" y="20200"/>
                </a:lnTo>
                <a:lnTo>
                  <a:pt x="81782" y="1400"/>
                </a:lnTo>
                <a:close/>
              </a:path>
              <a:path fill="darkenLess" w="83182" h="21600">
                <a:moveTo>
                  <a:pt x="8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2" y="20200"/>
                </a:lnTo>
                <a:close/>
              </a:path>
              <a:path fill="lighten" w="8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182" h="21600">
                <a:moveTo>
                  <a:pt x="34585" y="3794"/>
                </a:moveTo>
                <a:lnTo>
                  <a:pt x="48598" y="10800"/>
                </a:lnTo>
                <a:lnTo>
                  <a:pt x="34585" y="17806"/>
                </a:lnTo>
                <a:close/>
              </a:path>
            </a:pathLst>
          </a:custGeom>
          <a:solidFill>
            <a:srgbClr val="31b6fd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73e87"/>
                </a:solidFill>
                <a:latin typeface="Arial"/>
              </a:rPr>
              <a:t>Jak dělíme šrouby?</a:t>
            </a:r>
            <a:endParaRPr b="0" lang="en-US" sz="5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šestihrannou hla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válcovou hlavou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s hl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s vnitřním šestihra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ustné šro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půlkulatou hla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rou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upínací šro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rtné šro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ěcí šro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Přímá spojnice se šipkou 46"/>
          <p:cNvCxnSpPr/>
          <p:nvPr/>
        </p:nvCxnSpPr>
        <p:spPr>
          <a:xfrm flipV="1">
            <a:off x="1692000" y="2707560"/>
            <a:ext cx="648360" cy="12978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71" name="Přímá spojnice se šipkou 48"/>
          <p:cNvCxnSpPr/>
          <p:nvPr/>
        </p:nvCxnSpPr>
        <p:spPr>
          <a:xfrm>
            <a:off x="1619280" y="4005360"/>
            <a:ext cx="721440" cy="79272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72" name="Přímá spojnice se šipkou 50"/>
          <p:cNvCxnSpPr/>
          <p:nvPr/>
        </p:nvCxnSpPr>
        <p:spPr>
          <a:xfrm flipV="1">
            <a:off x="3564000" y="1843920"/>
            <a:ext cx="1513440" cy="8643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73" name="Přímá spojnice se šipkou 52"/>
          <p:cNvCxnSpPr/>
          <p:nvPr/>
        </p:nvCxnSpPr>
        <p:spPr>
          <a:xfrm flipV="1">
            <a:off x="3564000" y="2275920"/>
            <a:ext cx="1513440" cy="4323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74" name="Přímá spojnice se šipkou 54"/>
          <p:cNvCxnSpPr/>
          <p:nvPr/>
        </p:nvCxnSpPr>
        <p:spPr>
          <a:xfrm flipV="1">
            <a:off x="3564000" y="2636640"/>
            <a:ext cx="1513440" cy="720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75" name="Přímá spojnice se šipkou 56"/>
          <p:cNvCxnSpPr/>
          <p:nvPr/>
        </p:nvCxnSpPr>
        <p:spPr>
          <a:xfrm>
            <a:off x="3564000" y="2707920"/>
            <a:ext cx="1513440" cy="36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76" name="Přímá spojnice se šipkou 58"/>
          <p:cNvCxnSpPr/>
          <p:nvPr/>
        </p:nvCxnSpPr>
        <p:spPr>
          <a:xfrm>
            <a:off x="3564000" y="2708280"/>
            <a:ext cx="1513440" cy="79272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77" name="Přímá spojnice se šipkou 60"/>
          <p:cNvCxnSpPr/>
          <p:nvPr/>
        </p:nvCxnSpPr>
        <p:spPr>
          <a:xfrm>
            <a:off x="3564000" y="2708280"/>
            <a:ext cx="1513440" cy="12261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78" name="Přímá spojnice se šipkou 62"/>
          <p:cNvCxnSpPr/>
          <p:nvPr/>
        </p:nvCxnSpPr>
        <p:spPr>
          <a:xfrm>
            <a:off x="3851280" y="5049360"/>
            <a:ext cx="1226160" cy="25164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79" name="Přímá spojnice se šipkou 64"/>
          <p:cNvCxnSpPr/>
          <p:nvPr/>
        </p:nvCxnSpPr>
        <p:spPr>
          <a:xfrm>
            <a:off x="3851280" y="5049360"/>
            <a:ext cx="1226160" cy="68364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sp>
        <p:nvSpPr>
          <p:cNvPr id="80" name="Tlačítko akce: Informace 8">
            <a:hlinkClick r:id="" action="ppaction://hlinkshowjump?jump=nextslide"/>
          </p:cNvPr>
          <p:cNvSpPr/>
          <p:nvPr/>
        </p:nvSpPr>
        <p:spPr>
          <a:xfrm>
            <a:off x="1116000" y="6237360"/>
            <a:ext cx="2448000" cy="504720"/>
          </a:xfrm>
          <a:custGeom>
            <a:avLst/>
            <a:gdLst>
              <a:gd name="textAreaLeft" fmla="*/ 32400 w 2448000"/>
              <a:gd name="textAreaRight" fmla="*/ 2415600 w 244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04705" h="21600">
                <a:moveTo>
                  <a:pt x="0" y="0"/>
                </a:moveTo>
                <a:lnTo>
                  <a:pt x="104705" y="0"/>
                </a:lnTo>
                <a:lnTo>
                  <a:pt x="104705" y="21600"/>
                </a:lnTo>
                <a:lnTo>
                  <a:pt x="0" y="21600"/>
                </a:lnTo>
                <a:close/>
              </a:path>
              <a:path fill="lightenLess" w="104705" h="21600">
                <a:moveTo>
                  <a:pt x="0" y="0"/>
                </a:moveTo>
                <a:lnTo>
                  <a:pt x="104705" y="0"/>
                </a:lnTo>
                <a:lnTo>
                  <a:pt x="103305" y="1400"/>
                </a:lnTo>
                <a:lnTo>
                  <a:pt x="1400" y="1400"/>
                </a:lnTo>
                <a:close/>
              </a:path>
              <a:path fill="darken" w="104705" h="21600">
                <a:moveTo>
                  <a:pt x="104705" y="0"/>
                </a:moveTo>
                <a:lnTo>
                  <a:pt x="104705" y="21600"/>
                </a:lnTo>
                <a:lnTo>
                  <a:pt x="103305" y="20200"/>
                </a:lnTo>
                <a:lnTo>
                  <a:pt x="103305" y="1400"/>
                </a:lnTo>
                <a:close/>
              </a:path>
              <a:path fill="darkenLess" w="104705" h="21600">
                <a:moveTo>
                  <a:pt x="104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305" y="20200"/>
                </a:lnTo>
                <a:close/>
              </a:path>
              <a:path fill="lighten" w="104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705" h="21600">
                <a:moveTo>
                  <a:pt x="5235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104705" h="21600">
                <a:moveTo>
                  <a:pt x="5235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104705" h="21600">
                <a:moveTo>
                  <a:pt x="49776" y="8224"/>
                </a:moveTo>
                <a:lnTo>
                  <a:pt x="53641" y="8224"/>
                </a:lnTo>
                <a:lnTo>
                  <a:pt x="53641" y="15221"/>
                </a:lnTo>
                <a:lnTo>
                  <a:pt x="54929" y="15221"/>
                </a:lnTo>
                <a:lnTo>
                  <a:pt x="54929" y="16144"/>
                </a:lnTo>
                <a:lnTo>
                  <a:pt x="49776" y="16144"/>
                </a:lnTo>
                <a:lnTo>
                  <a:pt x="49776" y="15221"/>
                </a:lnTo>
                <a:lnTo>
                  <a:pt x="51065" y="15221"/>
                </a:lnTo>
                <a:lnTo>
                  <a:pt x="51065" y="9129"/>
                </a:lnTo>
                <a:lnTo>
                  <a:pt x="49776" y="9129"/>
                </a:lnTo>
                <a:close/>
              </a:path>
            </a:pathLst>
          </a:custGeom>
          <a:solidFill>
            <a:srgbClr val="31b6fd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14240" y="523800"/>
            <a:ext cx="77155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73e87"/>
                </a:solidFill>
                <a:latin typeface="Arial"/>
              </a:rPr>
              <a:t>Jak dělíme matice?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tic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Přímá spojnice se šipkou 4"/>
          <p:cNvCxnSpPr/>
          <p:nvPr/>
        </p:nvCxnSpPr>
        <p:spPr>
          <a:xfrm flipV="1">
            <a:off x="1618920" y="1843920"/>
            <a:ext cx="2521800" cy="180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85" name="Přímá spojnice se šipkou 8"/>
          <p:cNvCxnSpPr/>
          <p:nvPr/>
        </p:nvCxnSpPr>
        <p:spPr>
          <a:xfrm flipV="1">
            <a:off x="1618920" y="2275920"/>
            <a:ext cx="2521800" cy="1369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86" name="Přímá spojnice se šipkou 13"/>
          <p:cNvCxnSpPr/>
          <p:nvPr/>
        </p:nvCxnSpPr>
        <p:spPr>
          <a:xfrm flipV="1">
            <a:off x="1618920" y="2743920"/>
            <a:ext cx="2521800" cy="90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87" name="Přímá spojnice se šipkou 15"/>
          <p:cNvCxnSpPr/>
          <p:nvPr/>
        </p:nvCxnSpPr>
        <p:spPr>
          <a:xfrm flipV="1">
            <a:off x="1618920" y="3195360"/>
            <a:ext cx="2521800" cy="4500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88" name="Přímá spojnice se šipkou 17"/>
          <p:cNvCxnSpPr/>
          <p:nvPr/>
        </p:nvCxnSpPr>
        <p:spPr>
          <a:xfrm>
            <a:off x="1618920" y="3644640"/>
            <a:ext cx="2521800" cy="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89" name="Přímá spojnice se šipkou 19"/>
          <p:cNvCxnSpPr/>
          <p:nvPr/>
        </p:nvCxnSpPr>
        <p:spPr>
          <a:xfrm>
            <a:off x="1618920" y="3644640"/>
            <a:ext cx="2521800" cy="36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90" name="Přímá spojnice se šipkou 21"/>
          <p:cNvCxnSpPr/>
          <p:nvPr/>
        </p:nvCxnSpPr>
        <p:spPr>
          <a:xfrm>
            <a:off x="1618920" y="3645000"/>
            <a:ext cx="2521800" cy="79272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91" name="Přímá spojnice se šipkou 23"/>
          <p:cNvCxnSpPr/>
          <p:nvPr/>
        </p:nvCxnSpPr>
        <p:spPr>
          <a:xfrm>
            <a:off x="1618920" y="3645000"/>
            <a:ext cx="2521800" cy="129744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sp>
        <p:nvSpPr>
          <p:cNvPr id="92" name="Tlačítko akce: Dopředu nebo Další 11">
            <a:hlinkClick r:id="" action="ppaction://hlinkshowjump?jump=nextslide"/>
          </p:cNvPr>
          <p:cNvSpPr/>
          <p:nvPr/>
        </p:nvSpPr>
        <p:spPr>
          <a:xfrm>
            <a:off x="6948360" y="6237360"/>
            <a:ext cx="1944720" cy="504720"/>
          </a:xfrm>
          <a:custGeom>
            <a:avLst/>
            <a:gdLst>
              <a:gd name="textAreaLeft" fmla="*/ 32400 w 1944720"/>
              <a:gd name="textAreaRight" fmla="*/ 1912320 w 194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82" h="21600">
                <a:moveTo>
                  <a:pt x="0" y="0"/>
                </a:moveTo>
                <a:lnTo>
                  <a:pt x="83182" y="0"/>
                </a:lnTo>
                <a:lnTo>
                  <a:pt x="83182" y="21600"/>
                </a:lnTo>
                <a:lnTo>
                  <a:pt x="0" y="21600"/>
                </a:lnTo>
                <a:close/>
              </a:path>
              <a:path fill="lightenLess" w="83182" h="21600">
                <a:moveTo>
                  <a:pt x="0" y="0"/>
                </a:moveTo>
                <a:lnTo>
                  <a:pt x="83182" y="0"/>
                </a:lnTo>
                <a:lnTo>
                  <a:pt x="81782" y="1400"/>
                </a:lnTo>
                <a:lnTo>
                  <a:pt x="1400" y="1400"/>
                </a:lnTo>
                <a:close/>
              </a:path>
              <a:path fill="darken" w="83182" h="21600">
                <a:moveTo>
                  <a:pt x="83182" y="0"/>
                </a:moveTo>
                <a:lnTo>
                  <a:pt x="83182" y="21600"/>
                </a:lnTo>
                <a:lnTo>
                  <a:pt x="81782" y="20200"/>
                </a:lnTo>
                <a:lnTo>
                  <a:pt x="81782" y="1400"/>
                </a:lnTo>
                <a:close/>
              </a:path>
              <a:path fill="darkenLess" w="83182" h="21600">
                <a:moveTo>
                  <a:pt x="8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2" y="20200"/>
                </a:lnTo>
                <a:close/>
              </a:path>
              <a:path fill="lighten" w="8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182" h="21600">
                <a:moveTo>
                  <a:pt x="34585" y="3794"/>
                </a:moveTo>
                <a:lnTo>
                  <a:pt x="48598" y="10800"/>
                </a:lnTo>
                <a:lnTo>
                  <a:pt x="34585" y="17806"/>
                </a:lnTo>
                <a:close/>
              </a:path>
            </a:pathLst>
          </a:custGeom>
          <a:solidFill>
            <a:srgbClr val="31b6fd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73e87"/>
                </a:solidFill>
                <a:latin typeface="Arial"/>
              </a:rPr>
              <a:t>Jak dělíme matice?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estihran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run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ýhov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ochranou závitu proti neč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ti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typ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řídla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zářez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ot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Přímá spojnice se šipkou 4"/>
          <p:cNvCxnSpPr/>
          <p:nvPr/>
        </p:nvCxnSpPr>
        <p:spPr>
          <a:xfrm flipV="1">
            <a:off x="1618920" y="1843920"/>
            <a:ext cx="2521800" cy="180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96" name="Přímá spojnice se šipkou 8"/>
          <p:cNvCxnSpPr/>
          <p:nvPr/>
        </p:nvCxnSpPr>
        <p:spPr>
          <a:xfrm flipV="1">
            <a:off x="1618920" y="2275920"/>
            <a:ext cx="2521800" cy="1369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97" name="Přímá spojnice se šipkou 13"/>
          <p:cNvCxnSpPr/>
          <p:nvPr/>
        </p:nvCxnSpPr>
        <p:spPr>
          <a:xfrm flipV="1">
            <a:off x="1618920" y="2743920"/>
            <a:ext cx="2521800" cy="90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98" name="Přímá spojnice se šipkou 15"/>
          <p:cNvCxnSpPr/>
          <p:nvPr/>
        </p:nvCxnSpPr>
        <p:spPr>
          <a:xfrm flipV="1">
            <a:off x="1618920" y="3195360"/>
            <a:ext cx="2521800" cy="4500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99" name="Přímá spojnice se šipkou 17"/>
          <p:cNvCxnSpPr/>
          <p:nvPr/>
        </p:nvCxnSpPr>
        <p:spPr>
          <a:xfrm>
            <a:off x="1618920" y="3644640"/>
            <a:ext cx="2521800" cy="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00" name="Přímá spojnice se šipkou 19"/>
          <p:cNvCxnSpPr/>
          <p:nvPr/>
        </p:nvCxnSpPr>
        <p:spPr>
          <a:xfrm>
            <a:off x="1618920" y="3644640"/>
            <a:ext cx="2521800" cy="36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01" name="Přímá spojnice se šipkou 21"/>
          <p:cNvCxnSpPr/>
          <p:nvPr/>
        </p:nvCxnSpPr>
        <p:spPr>
          <a:xfrm>
            <a:off x="1618920" y="3645000"/>
            <a:ext cx="2521800" cy="79272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02" name="Přímá spojnice se šipkou 23"/>
          <p:cNvCxnSpPr/>
          <p:nvPr/>
        </p:nvCxnSpPr>
        <p:spPr>
          <a:xfrm>
            <a:off x="1618920" y="3645000"/>
            <a:ext cx="2521800" cy="129744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sp>
        <p:nvSpPr>
          <p:cNvPr id="103" name="Tlačítko akce: Informace 11">
            <a:hlinkClick r:id="" action="ppaction://hlinkshowjump?jump=nextslide"/>
          </p:cNvPr>
          <p:cNvSpPr/>
          <p:nvPr/>
        </p:nvSpPr>
        <p:spPr>
          <a:xfrm>
            <a:off x="1116000" y="6237360"/>
            <a:ext cx="2448000" cy="504720"/>
          </a:xfrm>
          <a:custGeom>
            <a:avLst/>
            <a:gdLst>
              <a:gd name="textAreaLeft" fmla="*/ 32400 w 2448000"/>
              <a:gd name="textAreaRight" fmla="*/ 2415600 w 244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04705" h="21600">
                <a:moveTo>
                  <a:pt x="0" y="0"/>
                </a:moveTo>
                <a:lnTo>
                  <a:pt x="104705" y="0"/>
                </a:lnTo>
                <a:lnTo>
                  <a:pt x="104705" y="21600"/>
                </a:lnTo>
                <a:lnTo>
                  <a:pt x="0" y="21600"/>
                </a:lnTo>
                <a:close/>
              </a:path>
              <a:path fill="lightenLess" w="104705" h="21600">
                <a:moveTo>
                  <a:pt x="0" y="0"/>
                </a:moveTo>
                <a:lnTo>
                  <a:pt x="104705" y="0"/>
                </a:lnTo>
                <a:lnTo>
                  <a:pt x="103305" y="1400"/>
                </a:lnTo>
                <a:lnTo>
                  <a:pt x="1400" y="1400"/>
                </a:lnTo>
                <a:close/>
              </a:path>
              <a:path fill="darken" w="104705" h="21600">
                <a:moveTo>
                  <a:pt x="104705" y="0"/>
                </a:moveTo>
                <a:lnTo>
                  <a:pt x="104705" y="21600"/>
                </a:lnTo>
                <a:lnTo>
                  <a:pt x="103305" y="20200"/>
                </a:lnTo>
                <a:lnTo>
                  <a:pt x="103305" y="1400"/>
                </a:lnTo>
                <a:close/>
              </a:path>
              <a:path fill="darkenLess" w="104705" h="21600">
                <a:moveTo>
                  <a:pt x="104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305" y="20200"/>
                </a:lnTo>
                <a:close/>
              </a:path>
              <a:path fill="lighten" w="104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705" h="21600">
                <a:moveTo>
                  <a:pt x="5235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104705" h="21600">
                <a:moveTo>
                  <a:pt x="5235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104705" h="21600">
                <a:moveTo>
                  <a:pt x="49776" y="8224"/>
                </a:moveTo>
                <a:lnTo>
                  <a:pt x="53641" y="8224"/>
                </a:lnTo>
                <a:lnTo>
                  <a:pt x="53641" y="15221"/>
                </a:lnTo>
                <a:lnTo>
                  <a:pt x="54929" y="15221"/>
                </a:lnTo>
                <a:lnTo>
                  <a:pt x="54929" y="16144"/>
                </a:lnTo>
                <a:lnTo>
                  <a:pt x="49776" y="16144"/>
                </a:lnTo>
                <a:lnTo>
                  <a:pt x="49776" y="15221"/>
                </a:lnTo>
                <a:lnTo>
                  <a:pt x="51065" y="15221"/>
                </a:lnTo>
                <a:lnTo>
                  <a:pt x="51065" y="9129"/>
                </a:lnTo>
                <a:lnTo>
                  <a:pt x="49776" y="9129"/>
                </a:lnTo>
                <a:close/>
              </a:path>
            </a:pathLst>
          </a:custGeom>
          <a:solidFill>
            <a:srgbClr val="31b6fd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155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73e87"/>
                </a:solidFill>
                <a:latin typeface="Arial"/>
              </a:rPr>
              <a:t>Jak dělíme podložky?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Přímá spojnice se šipkou 2"/>
          <p:cNvCxnSpPr/>
          <p:nvPr/>
        </p:nvCxnSpPr>
        <p:spPr>
          <a:xfrm flipV="1">
            <a:off x="1834920" y="2781000"/>
            <a:ext cx="2305440" cy="12960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08" name="Přímá spojnice se šipkou 4"/>
          <p:cNvCxnSpPr/>
          <p:nvPr/>
        </p:nvCxnSpPr>
        <p:spPr>
          <a:xfrm flipV="1">
            <a:off x="1834920" y="3212280"/>
            <a:ext cx="2305440" cy="8643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09" name="Přímá spojnice se šipkou 6"/>
          <p:cNvCxnSpPr/>
          <p:nvPr/>
        </p:nvCxnSpPr>
        <p:spPr>
          <a:xfrm flipV="1">
            <a:off x="1834920" y="3644280"/>
            <a:ext cx="2305440" cy="43236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10" name="Přímá spojnice se šipkou 8"/>
          <p:cNvCxnSpPr/>
          <p:nvPr/>
        </p:nvCxnSpPr>
        <p:spPr>
          <a:xfrm>
            <a:off x="1834920" y="4076280"/>
            <a:ext cx="2305440" cy="108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11" name="Přímá spojnice se šipkou 10"/>
          <p:cNvCxnSpPr/>
          <p:nvPr/>
        </p:nvCxnSpPr>
        <p:spPr>
          <a:xfrm>
            <a:off x="1834920" y="4076640"/>
            <a:ext cx="2305440" cy="43272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12" name="Přímá spojnice se šipkou 12"/>
          <p:cNvCxnSpPr/>
          <p:nvPr/>
        </p:nvCxnSpPr>
        <p:spPr>
          <a:xfrm>
            <a:off x="1834920" y="4076280"/>
            <a:ext cx="2305440" cy="8658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cxnSp>
        <p:nvCxnSpPr>
          <p:cNvPr id="113" name="Přímá spojnice se šipkou 14"/>
          <p:cNvCxnSpPr/>
          <p:nvPr/>
        </p:nvCxnSpPr>
        <p:spPr>
          <a:xfrm>
            <a:off x="1834920" y="4076280"/>
            <a:ext cx="2305440" cy="1297800"/>
          </a:xfrm>
          <a:prstGeom prst="straightConnector1">
            <a:avLst/>
          </a:prstGeom>
          <a:ln w="9360">
            <a:solidFill>
              <a:srgbClr val="2ba5e5"/>
            </a:solidFill>
            <a:miter/>
            <a:tailEnd len="med" type="arrow" w="med"/>
          </a:ln>
        </p:spPr>
      </p:cxnSp>
      <p:sp>
        <p:nvSpPr>
          <p:cNvPr id="114" name="Tlačítko akce: Dopředu nebo Další 11">
            <a:hlinkClick r:id="" action="ppaction://hlinkshowjump?jump=nextslide"/>
          </p:cNvPr>
          <p:cNvSpPr/>
          <p:nvPr/>
        </p:nvSpPr>
        <p:spPr>
          <a:xfrm>
            <a:off x="6948360" y="6237360"/>
            <a:ext cx="1944720" cy="504720"/>
          </a:xfrm>
          <a:custGeom>
            <a:avLst/>
            <a:gdLst>
              <a:gd name="textAreaLeft" fmla="*/ 32400 w 1944720"/>
              <a:gd name="textAreaRight" fmla="*/ 1912320 w 194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82" h="21600">
                <a:moveTo>
                  <a:pt x="0" y="0"/>
                </a:moveTo>
                <a:lnTo>
                  <a:pt x="83182" y="0"/>
                </a:lnTo>
                <a:lnTo>
                  <a:pt x="83182" y="21600"/>
                </a:lnTo>
                <a:lnTo>
                  <a:pt x="0" y="21600"/>
                </a:lnTo>
                <a:close/>
              </a:path>
              <a:path fill="lightenLess" w="83182" h="21600">
                <a:moveTo>
                  <a:pt x="0" y="0"/>
                </a:moveTo>
                <a:lnTo>
                  <a:pt x="83182" y="0"/>
                </a:lnTo>
                <a:lnTo>
                  <a:pt x="81782" y="1400"/>
                </a:lnTo>
                <a:lnTo>
                  <a:pt x="1400" y="1400"/>
                </a:lnTo>
                <a:close/>
              </a:path>
              <a:path fill="darken" w="83182" h="21600">
                <a:moveTo>
                  <a:pt x="83182" y="0"/>
                </a:moveTo>
                <a:lnTo>
                  <a:pt x="83182" y="21600"/>
                </a:lnTo>
                <a:lnTo>
                  <a:pt x="81782" y="20200"/>
                </a:lnTo>
                <a:lnTo>
                  <a:pt x="81782" y="1400"/>
                </a:lnTo>
                <a:close/>
              </a:path>
              <a:path fill="darkenLess" w="83182" h="21600">
                <a:moveTo>
                  <a:pt x="8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2" y="20200"/>
                </a:lnTo>
                <a:close/>
              </a:path>
              <a:path fill="lighten" w="8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3182" h="21600">
                <a:moveTo>
                  <a:pt x="34585" y="3794"/>
                </a:moveTo>
                <a:lnTo>
                  <a:pt x="48598" y="10800"/>
                </a:lnTo>
                <a:lnTo>
                  <a:pt x="34585" y="17806"/>
                </a:lnTo>
                <a:close/>
              </a:path>
            </a:pathLst>
          </a:custGeom>
          <a:solidFill>
            <a:srgbClr val="31b6fd"/>
          </a:solidFill>
          <a:ln w="381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9:56:31Z</dcterms:created>
  <dc:creator>Kralova</dc:creator>
  <dc:description/>
  <dc:language>en-US</dc:language>
  <cp:lastModifiedBy>Kralova</cp:lastModifiedBy>
  <dcterms:modified xsi:type="dcterms:W3CDTF">2013-02-14T13:17:59Z</dcterms:modified>
  <cp:revision>57</cp:revision>
  <dc:subject/>
  <dc:title>SPOJE</dc:title>
</cp:coreProperties>
</file>