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4E4-67C1-4A84-B12B-DD4DF05D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3DB-52A8-47CC-AF19-CE2DB19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205-3668-45C1-B17B-3C42A17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C0D-559E-4E6A-A50D-EC277CDC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5FD-6BCF-45A4-BE60-A9AF43D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6A0-48FE-4B52-9786-52C3E0C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462-A355-41A4-BB3D-2ED97F65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8F9-1407-4EDE-9886-00A5849D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8C7-0E50-400D-B7F3-33F85A4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1E1-CAC9-4459-BAEF-CD812F9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9E0-D931-494E-AD8A-9C74D56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C33-E2B3-4A2D-B745-79695B8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5E7-0C3D-41BE-9F4E-7BC3CA746A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ás ka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2_Pás ka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Bc. Martin Krbec, D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Rev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997000"/>
            <a:ext cx="8137440" cy="27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evize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ouží ke kontrole pravopisu a gramatiky v dokumentu. Dále můžeme sledovat revize v dokumentu, zamknout dokument nebo do dokumentu přidávat komentář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 Kontrola pravopisu, Komentář, Sledování, Změny, Porovnat a Zám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95280" y="1573200"/>
            <a:ext cx="8296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obra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997000"/>
            <a:ext cx="8137440" cy="27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mocí karty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obraz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me nastavit zobrazení dokumentu. Zobrazit můžeme pravítko nebo mřížku. Pomocí lupy zobrazit požadované zobraz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 Zobrazení dokumentů, Zobrazit či skrýt, Lupa, Okno a Mak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65280" y="1557360"/>
            <a:ext cx="7756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ÍRKOVÁ, Kateřina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Microsoft Office Word 2007: podrobná uživatelská příručk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 Vyd. 1. Computer Press, 2007. ISBN 978-80-251-1571-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503568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ŠTZ Mohelnice, 1. máje 2, 789 85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ás kar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102_Pás kar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-41-L/51 Mechanik elektrotechn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xtový  proce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tin Krbec, Di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 9.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M je zaměřen na pás karet. Vysvětluje rozdíl mezi kartou, skupinou a příkazem. Pro jednotlivé karty jsou uvedeny její nejdůležitější funkce a seznam skupin, které karta obsahu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ás kar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ás karet se skládá ze tří základních součástí: z karet, skupin a příkaz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ste pochopili jejich používání, je dobré znát jejich názv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Kart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 horní části pásu se nachází sedm základních karet. Každá karta je určena pro určitou oblast čin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arty obsahují několik skupin, v nichž jsou společně zobrazeny související polož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030a0"/>
                </a:solidFill>
                <a:latin typeface="Calibri"/>
              </a:rPr>
              <a:t>Příkaz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říkazem se rozumí tlačítko, pole pro zadání nebo nabíd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Skupina 32"/>
          <p:cNvGrpSpPr/>
          <p:nvPr/>
        </p:nvGrpSpPr>
        <p:grpSpPr>
          <a:xfrm>
            <a:off x="250920" y="1052640"/>
            <a:ext cx="8691480" cy="5040360"/>
            <a:chOff x="250920" y="1052640"/>
            <a:chExt cx="8691480" cy="50403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250920" y="2420640"/>
              <a:ext cx="8691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bdélník 14"/>
            <p:cNvSpPr/>
            <p:nvPr/>
          </p:nvSpPr>
          <p:spPr>
            <a:xfrm>
              <a:off x="250920" y="3573720"/>
              <a:ext cx="2016000" cy="287280"/>
            </a:xfrm>
            <a:prstGeom prst="rect">
              <a:avLst/>
            </a:prstGeom>
            <a:noFill/>
            <a:ln w="63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délník 16"/>
            <p:cNvSpPr/>
            <p:nvPr/>
          </p:nvSpPr>
          <p:spPr>
            <a:xfrm>
              <a:off x="2266920" y="3573720"/>
              <a:ext cx="3168720" cy="287280"/>
            </a:xfrm>
            <a:prstGeom prst="rect">
              <a:avLst/>
            </a:prstGeom>
            <a:noFill/>
            <a:ln w="63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délník 17"/>
            <p:cNvSpPr/>
            <p:nvPr/>
          </p:nvSpPr>
          <p:spPr>
            <a:xfrm>
              <a:off x="5435640" y="3573720"/>
              <a:ext cx="2520720" cy="287280"/>
            </a:xfrm>
            <a:prstGeom prst="rect">
              <a:avLst/>
            </a:prstGeom>
            <a:noFill/>
            <a:ln w="63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délník 18"/>
            <p:cNvSpPr/>
            <p:nvPr/>
          </p:nvSpPr>
          <p:spPr>
            <a:xfrm>
              <a:off x="755640" y="2421000"/>
              <a:ext cx="718920" cy="287280"/>
            </a:xfrm>
            <a:prstGeom prst="rect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álný popisek 20"/>
            <p:cNvSpPr/>
            <p:nvPr/>
          </p:nvSpPr>
          <p:spPr>
            <a:xfrm>
              <a:off x="1042920" y="1197000"/>
              <a:ext cx="2160360" cy="612720"/>
            </a:xfrm>
            <a:prstGeom prst="wedgeEllipseCallout">
              <a:avLst>
                <a:gd name="adj1" fmla="val -40550"/>
                <a:gd name="adj2" fmla="val 129768"/>
              </a:avLst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ff0000"/>
                  </a:solidFill>
                  <a:latin typeface="Calibri"/>
                </a:rPr>
                <a:t>Kart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álný popisek 23"/>
            <p:cNvSpPr/>
            <p:nvPr/>
          </p:nvSpPr>
          <p:spPr>
            <a:xfrm>
              <a:off x="2556000" y="5085000"/>
              <a:ext cx="2808360" cy="1008000"/>
            </a:xfrm>
            <a:prstGeom prst="wedgeEllipseCallout">
              <a:avLst>
                <a:gd name="adj1" fmla="val 75750"/>
                <a:gd name="adj2" fmla="val -162819"/>
              </a:avLst>
            </a:prstGeom>
            <a:noFill/>
            <a:ln w="25560">
              <a:solidFill>
                <a:srgbClr val="00b05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000000"/>
                  </a:solidFill>
                  <a:latin typeface="Calibri"/>
                </a:rPr>
                <a:t>Skupin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álný popisek 24"/>
            <p:cNvSpPr/>
            <p:nvPr/>
          </p:nvSpPr>
          <p:spPr>
            <a:xfrm>
              <a:off x="2556000" y="5085000"/>
              <a:ext cx="2808360" cy="1008000"/>
            </a:xfrm>
            <a:prstGeom prst="wedgeEllipseCallout">
              <a:avLst>
                <a:gd name="adj1" fmla="val -87050"/>
                <a:gd name="adj2" fmla="val -16409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000000"/>
                  </a:solidFill>
                  <a:latin typeface="Calibri"/>
                </a:rPr>
                <a:t>Skupin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álný popisek 25"/>
            <p:cNvSpPr/>
            <p:nvPr/>
          </p:nvSpPr>
          <p:spPr>
            <a:xfrm>
              <a:off x="2556000" y="5085000"/>
              <a:ext cx="2808360" cy="1008000"/>
            </a:xfrm>
            <a:prstGeom prst="wedgeEllipseCallout">
              <a:avLst>
                <a:gd name="adj1" fmla="val 1000"/>
                <a:gd name="adj2" fmla="val -165375"/>
              </a:avLst>
            </a:prstGeom>
            <a:noFill/>
            <a:ln w="25560">
              <a:solidFill>
                <a:srgbClr val="00b05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00b050"/>
                  </a:solidFill>
                  <a:latin typeface="Calibri"/>
                </a:rPr>
                <a:t>Skupin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bdélník 26"/>
            <p:cNvSpPr/>
            <p:nvPr/>
          </p:nvSpPr>
          <p:spPr>
            <a:xfrm>
              <a:off x="2338200" y="2853000"/>
              <a:ext cx="1584360" cy="287280"/>
            </a:xfrm>
            <a:prstGeom prst="rect">
              <a:avLst/>
            </a:prstGeom>
            <a:noFill/>
            <a:ln w="63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bdélník 27"/>
            <p:cNvSpPr/>
            <p:nvPr/>
          </p:nvSpPr>
          <p:spPr>
            <a:xfrm>
              <a:off x="5507280" y="2853000"/>
              <a:ext cx="433080" cy="287280"/>
            </a:xfrm>
            <a:prstGeom prst="rect">
              <a:avLst/>
            </a:prstGeom>
            <a:noFill/>
            <a:ln w="63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bdélník 28"/>
            <p:cNvSpPr/>
            <p:nvPr/>
          </p:nvSpPr>
          <p:spPr>
            <a:xfrm>
              <a:off x="7164360" y="2853000"/>
              <a:ext cx="431640" cy="287280"/>
            </a:xfrm>
            <a:prstGeom prst="rect">
              <a:avLst/>
            </a:prstGeom>
            <a:noFill/>
            <a:ln w="63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álný popisek 29"/>
            <p:cNvSpPr/>
            <p:nvPr/>
          </p:nvSpPr>
          <p:spPr>
            <a:xfrm>
              <a:off x="4427640" y="1052640"/>
              <a:ext cx="2808360" cy="1008000"/>
            </a:xfrm>
            <a:prstGeom prst="wedgeEllipseCallout">
              <a:avLst>
                <a:gd name="adj1" fmla="val -1296"/>
                <a:gd name="adj2" fmla="val 125902"/>
              </a:avLst>
            </a:prstGeom>
            <a:noFill/>
            <a:ln w="25560">
              <a:solidFill>
                <a:srgbClr val="7030a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7030a0"/>
                  </a:solidFill>
                  <a:latin typeface="Calibri"/>
                </a:rPr>
                <a:t>Příkaz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álný popisek 30"/>
            <p:cNvSpPr/>
            <p:nvPr/>
          </p:nvSpPr>
          <p:spPr>
            <a:xfrm>
              <a:off x="4427640" y="1052640"/>
              <a:ext cx="2808360" cy="1008000"/>
            </a:xfrm>
            <a:prstGeom prst="wedgeEllipseCallout">
              <a:avLst>
                <a:gd name="adj1" fmla="val -91180"/>
                <a:gd name="adj2" fmla="val 122069"/>
              </a:avLst>
            </a:prstGeom>
            <a:noFill/>
            <a:ln w="25560">
              <a:solidFill>
                <a:srgbClr val="7030a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7030a0"/>
                  </a:solidFill>
                  <a:latin typeface="Calibri"/>
                </a:rPr>
                <a:t>Příkaz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álný popisek 31"/>
            <p:cNvSpPr/>
            <p:nvPr/>
          </p:nvSpPr>
          <p:spPr>
            <a:xfrm>
              <a:off x="4427640" y="1052640"/>
              <a:ext cx="2808360" cy="1008000"/>
            </a:xfrm>
            <a:prstGeom prst="wedgeEllipseCallout">
              <a:avLst>
                <a:gd name="adj1" fmla="val 55569"/>
                <a:gd name="adj2" fmla="val 123347"/>
              </a:avLst>
            </a:prstGeom>
            <a:noFill/>
            <a:ln w="25560">
              <a:solidFill>
                <a:srgbClr val="7030a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600" spc="-1" strike="noStrike">
                  <a:solidFill>
                    <a:srgbClr val="7030a0"/>
                  </a:solidFill>
                  <a:latin typeface="Calibri"/>
                </a:rPr>
                <a:t>Příkaz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o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96200" cy="76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2997000"/>
            <a:ext cx="8137440" cy="27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o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obsahuje příkazy pro práci se schránkou, nastavuje vlastnosti písma a odstavce, práce se styly. Příkazy na této kartě se používají nejčastě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 Schránka, Písmo, Odstavec, Styly a Úpra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lo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2997000"/>
            <a:ext cx="8137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lož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možňuje vkládat do dokumentu různé typy objektů. Vkládat můžeme obrázek, tabulku, grafy, konec stránky, textové pole či hypertextový odkaz. Pomocí této karty můžeme také upravovat záhlaví a zápatí doku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 Stránky, Tabulky, Ilustrace, Odkazy, Záhlaví a zápatí, Text a Symb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93720" y="1557360"/>
            <a:ext cx="76993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Rozložení strán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2997360"/>
            <a:ext cx="81374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ložení stránk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ouží k nastavení vzhledu celého dokumentu. V této kartě nastavujeme okraje,  orientaci a velikost stránky, vytváříme sloupce, vkládáme vodoznak, měníme pozadí stránky a její ohranič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 Motivy, Vzhled stránky, Pozadí stránky, Odstavec a Uspořád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95280" y="1566720"/>
            <a:ext cx="829620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Odka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2997000"/>
            <a:ext cx="8137440" cy="27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dkaz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ouží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řidání poznámky pod čarou, vysvětlivky, citace nebo obsahu do dokume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– Obsah, Poznámky pod čarou, Citace a bibliografie, Titulky, Rejstřík a Seznam ci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22440" y="1557360"/>
            <a:ext cx="78422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orespo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2997360"/>
            <a:ext cx="81374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rt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respondence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ouží pro práci s hromadnou korespondencí. Pomocí jednoduchého průvodce můžeme vytvářet adresy na obálky nebo štítky s adresami pro obál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b050"/>
                </a:solidFill>
                <a:latin typeface="Calibri"/>
              </a:rPr>
              <a:t>Skupiny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- Vytvořit, Spustit hromadnou korespon-denci, Zapsat a vložit pole, Náhled výsledků a Dokonč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985680" y="1557360"/>
            <a:ext cx="7115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bec</cp:lastModifiedBy>
  <dcterms:modified xsi:type="dcterms:W3CDTF">2013-11-25T15:03:13Z</dcterms:modified>
  <cp:revision>38</cp:revision>
  <dc:subject/>
  <dc:title>Název DUMu</dc:title>
</cp:coreProperties>
</file>