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B8A-3CA5-4671-BFE1-1F41481E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609-650B-456B-8395-6EE103F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C5F-37FD-4359-9EF3-85A8D35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091-0C03-461B-97AF-FB80B5C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EE0-E420-4789-90EE-1AAD4DB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D65-0092-4CFF-ACA2-DC7E723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761-66DC-436D-BE2C-A3AEFB0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0F0-A00A-4E07-B420-C3DAF27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DD0-DEB1-4CA3-A098-63AC783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482-AA8A-4187-A00C-AFCCDE1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EB3-6C0A-4FA2-8417-31BF8EE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B26-BBC9-4426-A024-7CC9AD3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E99B-77F8-4678-8B1D-55C7D43EF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ametrické program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971640" y="2637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ké program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734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metrické program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Parametrické program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11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vedená prezentace řeší problematiku programování pomocí parametru. Ukázky zápisu logicky popisují postup při sestavování programů kde jsou parametry použit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metrické program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6421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NC systémy umožňují programovat místo konkrétních hodnot souřadnic X,Y,Z příslušný parametr P. Parametr je tedy symbolická proměnná, která v parametrickém podprogramu nahrazuje konkrétní hodnotu vyráběné součásti. V tabulce parametrů se nalézá hodnota danému parametru přiřazen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ýznam parametrického progr. nabývá na důležitosti při využívání podprogamů, kdy jedním parametrickým podprogramem můžeme popsat celou řadu podobných úloh. Systémy umožňují deklarovat až 99 parametrů a lze je sčítat, odčítat, dělit i násobit podle příslušné funkce G. Tím se podstatně zkrátí délka progra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aždý řídící s. vyžaduje trochu odlišné praktiky, které mohou být zdrojem chy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áce s parametry je rozdělena do dvou fáz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deklarace parametrů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(zápis par.)       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vyvolávání paramet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1480" y="47628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efinice parametru (MIKROPRO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0200" y="112536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ametr sestává z adresy P a významové části, která udává číslo parametru např. 1, takže v zápise 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1 = -5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perace s paramet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 Přiřazení   ….    P2=P1       (P2= -5)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Negace     ….    P3=-P2       (P3= 5)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) Sčítání      ….    P4=P3+P2  (P4= 0)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) Odčítání   ….    P5=P3-P2   (P5= 10)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) Násobení …     P6=P1*P5   (P6= -50)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) Dělení      ….    P7=P5/P3    (P7=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ametry musí být definovány před tím, než jsou použity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 použit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1= -0,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5 X10 Y12 Z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125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Ukázka parametricky zapsaného programu pro gravírování pís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! Vyzkoušejte změnit parametry P1 P2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eklarace paramet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00 P1=50   výška pí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10 P2=30   šířka pí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00  P3=-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10  P4=-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20  P5=P1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30  P6=P2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40  P7=-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50  P8=-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60  p9=p1/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81000"/>
            <a:ext cx="86421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0      m6                                      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10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20      G0        X20       Y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30      G0                               Z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40      G9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45      G1                               Z-2                      F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60      G1                      Yp1                      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70      G1        Xp6       Y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80      G1        Xp6       Y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90      G1                      Y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0      G0                               Z2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20      G0        X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30      G1                               Z-2                     F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40      G1                     Yp1                      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50      G2                     Yp7                 R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60      G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70      G0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80      G0        X0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ápis parametrů v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02-04T10:15:11Z</dcterms:modified>
  <cp:revision>26</cp:revision>
  <dc:subject/>
  <dc:title>Název DUMu</dc:title>
</cp:coreProperties>
</file>