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AB5-E2C7-4424-9DC1-B7450B42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C11-1431-4B2D-A248-E4133FBE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509-4E29-477E-8336-3212C465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255-26BB-4C99-83E8-A99FC5C5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104-16C2-475E-92E2-A1C2F575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758-83C0-4B55-A333-EA35F3AC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3AC-1D92-4114-9F70-DC86A5CC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693-B467-412B-9BE6-190EE40F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657-4AB9-4D18-9D99-E138E9C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16F-AC33-4150-BCE5-2443980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B08-1B64-42D1-B24E-ED747F3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274-6669-4161-97BB-105FAEF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6400-9BC2-463C-8974-190500C69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ktura a tvorba progra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611280" y="2637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6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uktura a tvorba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tabul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uktura a tvorba progra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Struktura a tvorba progra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popisuje jednotlivé kroky při sestavování programu pro CNC stroj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větluje význam přípravných a pomocných funkcí a jednotlivých adres používaných při programování v G kóde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620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ruktura a tvorba progra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84464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gram je uspořádaný rozpis jednotlivých geometrických a technologických příkazů a dat v takové formě a posloupnosti, jak jej vyžaduje software NC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213000"/>
            <a:ext cx="86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formace potřebné k řízení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formace o geometrii obrábění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popisují dráhu nástroje  vzhledem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robku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formace o technologii obrábění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zajišťují dosažení technologický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dmínek – otáčky, posuvy a podobn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formace pomocné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zajišťují např. ovládání chladící kapaliny,zpevň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portů nebo stolů, start vřetene v potřebném smyslu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dobn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41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efi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stup při sestavování NC progra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197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studovat výrobní výk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studovat technologický post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rčit pracovní postup, sled nástrojů a jejich umíst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rčit nástroje a jejich seřizovací konstan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rčit způsob upnutí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rčit řezné podmín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stavit hrubovací cy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stavit dokončovací cykly s ohledem na pož. drsnost a toleran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rčit místa pro ruční nebo automatickou výměnu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10. Provést kontrolu možných kolizí nástrojů s obrobkem, upínač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vba NC progra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341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Zápis části programu v ISO kódech pro řídící systém Mikron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13372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010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 9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02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0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12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04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 5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0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 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-2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0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 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-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070      G00                                    Z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80        G00       X0           Y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7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am se skládá z bloků (vět), bloky potom z jednotlivých sl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19700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lok (věta )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47800" y="1917720"/>
          <a:ext cx="7467120" cy="577800"/>
        </p:xfrm>
        <a:graphic>
          <a:graphicData uri="http://schemas.openxmlformats.org/drawingml/2006/table">
            <a:tbl>
              <a:tblPr/>
              <a:tblGrid>
                <a:gridCol w="1493280"/>
                <a:gridCol w="1493640"/>
                <a:gridCol w="1493280"/>
                <a:gridCol w="1493280"/>
                <a:gridCol w="149364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55640" y="2492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lovo               slovo              slovo              slovo             slo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005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50028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opis jednoho slova v bloku NC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36572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68480" y="4559400"/>
          <a:ext cx="1371600" cy="6094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879200" y="5437080"/>
            <a:ext cx="3591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-  adresová část sl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-  významová část slov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lo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amovací funkce přípravné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- význam nejdůležitějš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12536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1341360"/>
          <a:ext cx="7467840" cy="5175360"/>
        </p:xfrm>
        <a:graphic>
          <a:graphicData uri="http://schemas.openxmlformats.org/drawingml/2006/table">
            <a:tbl>
              <a:tblPr/>
              <a:tblGrid>
                <a:gridCol w="914400"/>
                <a:gridCol w="65534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chlopos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mková interpolace (posuv po přím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hová interpolace ve směru hod. ručič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hová interpolace proti směru h.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rušení korekce dráhy nástr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áhová korekce nástroje z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áhová korekce nástroje zle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ávání rozměrů absolut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ávání rozměrů přírůstkov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etí na referenční body str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60280"/>
            <a:ext cx="9144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amovací funkce pomocné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- význam některých z n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1052640"/>
          <a:ext cx="7391520" cy="5175000"/>
        </p:xfrm>
        <a:graphic>
          <a:graphicData uri="http://schemas.openxmlformats.org/drawingml/2006/table">
            <a:tbl>
              <a:tblPr/>
              <a:tblGrid>
                <a:gridCol w="1067040"/>
                <a:gridCol w="63244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vý 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vřetene 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vřetene dole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stavení vřet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uštění chlaz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stavení chlaz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ec podprogramu nebo cyk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ec informace (konec program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nutí kontinuálního navazování blo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ec informace a náv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ýznam adres  DIN 66 00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341360"/>
            <a:ext cx="756144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A,B,C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úhlové rozměry kolem os X,Y,Z (otáčen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růměr díry, čepu, kruž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E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č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F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osuvová fun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G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řípravné fun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I,J,K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interpolační parametry v řízených osách X,Y,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L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adresa bloku pod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M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omocné fun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N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číslo bloku (vě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O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číslo podmín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P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číslo paramet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R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oloměr kruhového oblou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S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funkce otáček vřet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T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nástrojová fun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U,V,W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omocné rozměry v základních os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ff"/>
                </a:solidFill>
                <a:latin typeface="Arial"/>
              </a:rPr>
              <a:t>X,Y,Z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- primární pohyby v řízených os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1:34Z</dcterms:modified>
  <cp:revision>21</cp:revision>
  <dc:subject/>
  <dc:title>Název DUMu</dc:title>
</cp:coreProperties>
</file>