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1AF0-D06A-42C5-8352-82B458B0C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E314-D0DE-420E-8757-157CF75A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25FC-596F-4AB0-8F4A-8D8D6865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8C85-5EB7-42CA-B3F2-CAFC4D64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E3F3-18FA-47B5-A2F4-AE93E871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CEC6-0319-49B7-B665-0D5C6E52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6EFA-FE22-49B8-A2CE-64761D70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CE24-8437-4C2D-9FDF-9D5E1687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1C50-5FC9-413C-B3FB-BDA0E8F1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19CA-92E7-44F9-8815-929A1D6D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2DF5-684E-41D8-A688-237D0CD7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F7A8-F716-443B-B016-C94CD205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A1F7-D16E-41D2-B59C-802D90E028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212640"/>
            <a:ext cx="7772400" cy="11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užití a příklady zápisu základních přípravných funkcí - frézka - soustru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250920" y="263700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Y_32_INOVACE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7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oužití a příklady zápisu základních přípravných funkcí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rézka - soustruh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611964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Valenta Jarosla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819440" y="3340080"/>
            <a:ext cx="3657600" cy="266688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819440" y="2349360"/>
            <a:ext cx="1600200" cy="9907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477040" y="2349360"/>
            <a:ext cx="1218960" cy="9907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419640" y="2349360"/>
            <a:ext cx="3276360" cy="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696000" y="2349360"/>
            <a:ext cx="1800" cy="2438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477040" y="4788000"/>
            <a:ext cx="1218960" cy="12189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819440" y="1968480"/>
            <a:ext cx="1440" cy="137160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010200" y="1739520"/>
            <a:ext cx="685800" cy="60948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5477040" y="6006960"/>
            <a:ext cx="1752480" cy="180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1270080" y="1844640"/>
            <a:ext cx="5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+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6467400" y="55497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+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5857920" y="158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+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2733840" y="3720960"/>
            <a:ext cx="182844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500" y="20946"/>
                </a:moveTo>
                <a:arcTo wR="10800" hR="10800" stAng="4197911" swAng="17402089"/>
                <a:lnTo>
                  <a:pt x="10800" y="10800"/>
                </a:lnTo>
                <a:close/>
              </a:path>
              <a:path fill="none" w="21600" h="21600">
                <a:moveTo>
                  <a:pt x="14500" y="20946"/>
                </a:moveTo>
                <a:arcTo wR="10800" hR="10800" stAng="4197911" swAng="17402089"/>
              </a:path>
            </a:pathLst>
          </a:custGeom>
          <a:noFill/>
          <a:ln cap="sq"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4562640" y="4635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497d"/>
                </a:solidFill>
                <a:latin typeface="Times New Roman"/>
              </a:rPr>
              <a:t>G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5632560" y="3192480"/>
            <a:ext cx="951840" cy="182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11" y="17046"/>
                </a:moveTo>
                <a:arcTo wR="10800" hR="10800" stAng="2119875" swAng="17663656"/>
                <a:lnTo>
                  <a:pt x="10800" y="10800"/>
                </a:lnTo>
                <a:close/>
              </a:path>
              <a:path fill="none" w="21600" h="21600">
                <a:moveTo>
                  <a:pt x="19611" y="17046"/>
                </a:moveTo>
                <a:arcTo wR="10800" hR="10800" stAng="2119875" swAng="17663656"/>
              </a:path>
            </a:pathLst>
          </a:custGeom>
          <a:noFill/>
          <a:ln cap="sq"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5842080" y="3645000"/>
            <a:ext cx="72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497d"/>
                </a:solidFill>
                <a:latin typeface="Times New Roman"/>
              </a:rPr>
              <a:t>G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3343320" y="2502000"/>
            <a:ext cx="1904760" cy="685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619" y="20902"/>
                </a:moveTo>
                <a:arcTo wR="10800" hR="10800" stAng="4157399" swAng="17442601"/>
                <a:lnTo>
                  <a:pt x="10800" y="10800"/>
                </a:lnTo>
                <a:close/>
              </a:path>
              <a:path fill="none" w="21600" h="21600">
                <a:moveTo>
                  <a:pt x="14619" y="20902"/>
                </a:moveTo>
                <a:arcTo wR="10800" hR="10800" stAng="4157399" swAng="17442601"/>
              </a:path>
            </a:pathLst>
          </a:custGeom>
          <a:noFill/>
          <a:ln cap="sq"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4791240" y="28065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497d"/>
                </a:solidFill>
                <a:latin typeface="Times New Roman"/>
              </a:rPr>
              <a:t>G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33336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Smysl orientace kruhových oblouků v jednotlivých roviná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4000" y="836640"/>
            <a:ext cx="849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o úplný popis kruhové dráhy je možno použít dvou způsobů, které se střídavě používají u řídících systémů: programovat ještě adresu R (poloměr kruhového oblouku), nebo adresy interpolačních parametrů I J K (vždy pouze dvojice parametrů odpovídající rovině kruhového oblouku), které udávají polohu středu kruhového oblouku. Při absolutním programování jsou adresy I J K souřadnice středu vzhledem k počátku souřadnic, při přírůstkovém programování jsou vztaženy k počátečnímu bodu kruhového oblou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Řídící systém frézky z důvodů kompatibility umožňuje oba způsoby zápisu kruhové interpolace, není však možná jejich kombinace. Pokud je tedy v bloku zapsána adresa R je zápis adres I,J nebo K považován za syntaktickou chybu, obráceně např. po zapsání I je není možno již zapsat adresu 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ximální středový úhel kruhového oblouku programovaného v jednom bloku pomocí poloměru R je 180o, při programování pomocí adres I,J,K lze zapsat celý kruh. Rychlost posuvu zadaná adresou F odpovídá rychlosti měřené tečně ke kruhovému oblouk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52560" y="3213000"/>
            <a:ext cx="2666880" cy="27432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5219640" y="3213000"/>
            <a:ext cx="2667240" cy="27432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2324160" y="313704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723960" y="466092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6591240" y="2984400"/>
            <a:ext cx="0" cy="335304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4762440" y="4660920"/>
            <a:ext cx="358164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1409760" y="3441600"/>
            <a:ext cx="152280" cy="152640"/>
          </a:xfrm>
          <a:prstGeom prst="flowChartConnector">
            <a:avLst/>
          </a:prstGeom>
          <a:solidFill>
            <a:srgbClr val="ff00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1486080" y="3594240"/>
            <a:ext cx="0" cy="10666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3467160" y="4051440"/>
            <a:ext cx="152280" cy="152280"/>
          </a:xfrm>
          <a:prstGeom prst="ellipse">
            <a:avLst/>
          </a:prstGeom>
          <a:solidFill>
            <a:srgbClr val="ff00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485720" y="4127400"/>
            <a:ext cx="19810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1486080" y="3594240"/>
            <a:ext cx="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1486080" y="4660920"/>
            <a:ext cx="8380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324160" y="2831760"/>
            <a:ext cx="0" cy="12193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2400480" y="275580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+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860400" y="3137040"/>
            <a:ext cx="55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3543480" y="3594240"/>
            <a:ext cx="7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2994120" y="4127400"/>
            <a:ext cx="73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+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3238560" y="4660920"/>
            <a:ext cx="9144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3619440" y="4702320"/>
            <a:ext cx="7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+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1714680" y="46609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1486080" y="420372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1486080" y="367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-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1562040" y="3594240"/>
            <a:ext cx="762120" cy="1066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72280" y="5270400"/>
            <a:ext cx="152280" cy="152640"/>
          </a:xfrm>
          <a:prstGeom prst="ellipse">
            <a:avLst/>
          </a:prstGeom>
          <a:solidFill>
            <a:srgbClr val="ff00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448240" y="4660560"/>
            <a:ext cx="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5448240" y="4660920"/>
            <a:ext cx="1143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972480" y="5803920"/>
            <a:ext cx="152280" cy="152280"/>
          </a:xfrm>
          <a:prstGeom prst="ellipse">
            <a:avLst/>
          </a:prstGeom>
          <a:solidFill>
            <a:srgbClr val="ff00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5524560" y="5346720"/>
            <a:ext cx="15238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7048440" y="534672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4838760" y="5159520"/>
            <a:ext cx="6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7124760" y="5727600"/>
            <a:ext cx="6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6515280" y="5423040"/>
            <a:ext cx="64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-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6515280" y="4889520"/>
            <a:ext cx="7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+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5981760" y="4203720"/>
            <a:ext cx="63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5448240" y="4584600"/>
            <a:ext cx="5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91240" y="2755800"/>
            <a:ext cx="0" cy="10670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6591240" y="2644920"/>
            <a:ext cx="7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+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524560" y="4660560"/>
            <a:ext cx="106668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7581960" y="4660920"/>
            <a:ext cx="8380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8229600" y="4191120"/>
            <a:ext cx="6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+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238760" y="2527200"/>
            <a:ext cx="20840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12" y="888"/>
                </a:moveTo>
                <a:arcTo wR="10800" hR="10800" stAng="-6803720" swAng="3001281"/>
                <a:lnTo>
                  <a:pt x="10800" y="10800"/>
                </a:lnTo>
                <a:close/>
              </a:path>
              <a:path fill="none" w="21600" h="21600">
                <a:moveTo>
                  <a:pt x="6512" y="888"/>
                </a:moveTo>
                <a:arcTo wR="10800" hR="10800" stAng="-6803720" swAng="3001281"/>
              </a:path>
            </a:pathLst>
          </a:custGeom>
          <a:noFill/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2003400" y="214632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497d"/>
                </a:solidFill>
                <a:latin typeface="Times New Roman"/>
              </a:rPr>
              <a:t>G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5854320" y="2451240"/>
            <a:ext cx="1450080" cy="170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95" y="1961"/>
                </a:moveTo>
                <a:arcTo wR="10800" hR="10800" stAng="-7504132" swAng="4281535"/>
                <a:lnTo>
                  <a:pt x="10800" y="10800"/>
                </a:lnTo>
                <a:close/>
              </a:path>
              <a:path fill="none" w="21600" h="21600">
                <a:moveTo>
                  <a:pt x="4595" y="1961"/>
                </a:moveTo>
                <a:arcTo wR="10800" hR="10800" stAng="-7504132" swAng="4281535"/>
              </a:path>
            </a:pathLst>
          </a:custGeom>
          <a:noFill/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6286680" y="207000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497d"/>
                </a:solidFill>
                <a:latin typeface="Times New Roman"/>
              </a:rPr>
              <a:t>G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404640"/>
            <a:ext cx="8496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ápis pomocí interpolačních parametrů je velmi náročný na přesnost určení správné velikosti adres protože se jedná o geometricky přeučené zadání. Maximální přípustná hodnota chyby je 0.01 m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Určení znamének interpolačních parametr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radius" descr=""/>
          <p:cNvPicPr/>
          <p:nvPr/>
        </p:nvPicPr>
        <p:blipFill>
          <a:blip r:embed="rId1"/>
          <a:stretch/>
        </p:blipFill>
        <p:spPr>
          <a:xfrm>
            <a:off x="2340000" y="981000"/>
            <a:ext cx="4896000" cy="3024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95280" y="189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Příkla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Soustružení na čisto součásti s rádius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414972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0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8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10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 najetí do osy na čelo součásti – bod 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2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14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 soustružení do bodu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3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3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24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75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 soustružení zaoblení do bodu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4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5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 do bodu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5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3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 do bodu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6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6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3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2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 soustružení zaoblení 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d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užitá literatura: vlastní text a obrázky, uživatelská příručka Mikropr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68360" y="1484280"/>
          <a:ext cx="8229600" cy="524844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užití a příklady zápisu základních přípravných funkcí –frézka - soust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47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_ Použití a příklady zápisu základních přípravných       funkcí –frézka - soust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áklady programování číslicově řízených stroj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enta Jarosla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.11. 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ezentace definuje konkrétní význam přípravných funkcí G0,G1,G2 a G3, jejich zápis v programu a graficky znázorňuje jejich použití. Problematika zápisu zahrnuje jak technologii frézování tak soustružení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189000"/>
            <a:ext cx="8207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oužití a příklady zápisu základních přípravných funkcí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- frézka – soustruh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916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Adresy: X Y Z 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268280"/>
            <a:ext cx="52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ff"/>
                </a:solidFill>
                <a:latin typeface="Arial"/>
              </a:rPr>
              <a:t>G0 Rychlé poloho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2565360"/>
            <a:ext cx="8424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říklady zápisu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24 G0 X51 Y5.67 Z48.27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30 G0 X56 A5.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60 G0 Y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unkce G0 se používá pro rychlé přestavení nástroje mimo záběr. Funkce G0 vykonává současný pohyb v osách X Y Z tak, že výsledná dráha pohybu je přímková. Pohyb osy A je realizován otáčením přídavného stolu nebo děličky a programuje se ve stupních s desetinným dělením. Všechny pohyby se dějí maximální rychlostí stroje. Pohyb může být programován maximálně ve třech libovolných osách současně, jinak řídící systém příkaz nevykoná a vypíše chybové hlášen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ři zkráceném zápisu funkce není nutné adresu, jejíž hodnota se oproti předešlému zápisu v některém předešlém řádku nemění, vypisova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549360"/>
            <a:ext cx="842472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G1 Lineární interpo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Adresy: X Y Z A 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říklady zápisu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0 G1 X6.33 Y7.40 Z-76.50 F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56 G1 Y105 A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unkce G1 je základní pohybová funkce určená pro obrábění. Pohyb nástroje se vykonává opět po přímce jako u funkce G0, ale rychlost pohybu je volitelná a zadává se adresou F - posuv. Pohyb se může uskutečnit současně ve třech libovolných osách. Opět platí, že adresy ve kterých nedochází ke změně proti předchozímu zápisu, není nutno vypisova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40464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Příklad použití funkcí G0 a G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a frézce je třeba přesně vyvrtat otvory v desce podle obráz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409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19700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37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2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 najetí nad první otv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2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100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 spuštění vřete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3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-15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10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 vrtání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4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 vyjetí z otvo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5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7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5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 najetí nad druhý otv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6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-15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 vrt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7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 vyjetí z otvo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8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11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3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 najetí nad třetí otv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9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-15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 vrt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0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10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 vyjet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řed spuštěním programu je nutno sesouhlasit souřadnice frézky s obrobkem. Pomocí ručního řízení najet do nulového bodu obrobku a tam vynulovat souřadn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rtání do hloubky –15 zabezpečí dokonalé projetí špičky vrtáku. (obrobek musí být pochopitelně podložený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ísto funkcí G1 a G0 pro vrtání a vyjetí je možno použít funkci G8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slední vyjetí je na výšku Z100, která umožní vyndání obrob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54936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Zápis programu pro vyvrtání otvor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9280" y="40464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Příkla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rogram pro dokončovací obrábění předhrubované součásti na soustruh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68360" y="1125360"/>
            <a:ext cx="4824720" cy="3070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436572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5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100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 start otáč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0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30.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11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 rychlé najetí před materiál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1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75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10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 soustružení válcové ploc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3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54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4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 soustružení kuželové ploc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4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77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 soustružení čelní ploc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40464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Příkla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uželová plocha je zadaná úhl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24000" y="1052640"/>
            <a:ext cx="4753080" cy="3168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9280" y="4294080"/>
            <a:ext cx="878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0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26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10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10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 soustružení válcov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lochy do bodu 2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2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6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16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 soustružení kuželov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lochy do bodu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3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45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 soustružení válcov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lochy do bodu 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známka: Místo B160 je možno programovat B-20, výsledek bude stejn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549360"/>
            <a:ext cx="864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765000"/>
            <a:ext cx="8569080" cy="44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G2 Kruhová interpolace ve směru hodinových ručič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G3 Kruhová interpolace proti směru hodinových ručiček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Adresy: X Y Z</a:t>
            </a:r>
            <a:r>
              <a:rPr b="1" i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 R (I J K)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říklady zápisů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10 G2 X46.7 Y25.89 R31.5 F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50 G3 X15.7 Y56.9 I13.7 J2.6 F1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unkce G2 a G3 vykonávají současný pohyb ve dvou osách tak, že výsledná dráha pohybu leží na kružnici. Nejčastěji se používá kruhová interpolace mezi osami X a Y, možná je i kombinace XZ YZ. Obdobně jako u předchozích funkcí je možno programovat buď absolutně (v příslušných adresách se potom zapisují souřadnice koncového bodu kruhového oblouku), nebo přírůstkově (zapisuje se délka dráhy v jednotlivých osách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02-02T10:22:24Z</dcterms:modified>
  <cp:revision>33</cp:revision>
  <dc:subject/>
  <dc:title>Název DUMu</dc:title>
</cp:coreProperties>
</file>