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46D-43DE-40CF-98CB-27BADA10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D30-8019-4BBE-B062-6B0479A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940-BF73-4A58-8D23-5F56DEEE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DB7-103C-4791-9BD1-44D0864B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750-9BC7-4FBA-B475-1FE2526D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647-6987-41D4-BB05-8ED0002D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FB3-8571-4FF2-82CA-A705847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835-61B6-4B6F-AA18-76116AA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901-9AFB-4CD3-BE9A-AA0819D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541-24C4-407D-B010-AFB9CD8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DFA-43B0-4309-9A9F-E3D4AE9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F50-1693-45E4-AA24-B520C80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ACF-1E9A-4796-AD15-A7D95804B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 do programování CNC 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826920" y="2637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vod do programování CNC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046920" y="5516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alenta Jarosla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817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vod do programová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Úvod do programová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9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čební text zahrnuje podstatu, princip a význam programování CNC strojů. Vysvětluje základní používané zkratky a rozdělení programování dle automatizace vstupních dat. Pro lepší pochopení problematiky je vložena videosek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Úvod do programování CNC str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197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častné náročné požadavky na výrobek, na jeho kvalitu a funkčnost, požadavky na výrazné zvýšení produktivity práce, rostoucí nároky na flexibilitu výrobního systému, rychle se měnící sortiment výroby, zkracování časů na inovace, větší nároky na spolehlivost výrobního systému, a mnohé další požadavky není už možné v současnosti realizovat konvenčními metodami přípravy, plánování a řízení výroby. Proto se stává nutností vznik výroby nového typu. Na tyto náročné požadavky reaguje koncept integrované výroby využívající nejmodernější prostředky výpočtové techniky a progresivní metody informačních technologi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149720"/>
            <a:ext cx="858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Člověk se neustále zdokonaluje a vyvíjí.Mění se trend,vývoj i prostředí kolem něj.Jsou to technické možnosti a jejich dispozice, které nás limitují. Proto se je snažíme neustále zlepšovat a zdokonalovat, vyvíjíme nové technologie pro jeho další rozvoj. Tento rozvoj techniky a nových technologií přispěl v oblasti obrábění k rozvoji nových strojů a jejich říz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765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ýkladový slovník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773360"/>
            <a:ext cx="8353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NC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- Numerical Control – číslicové řízení jako systém, jehož děj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jsou řízeny přímým vkládáním číslicových údaj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CNC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- Computer Numerical Control – počítačem řízený NC stroj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ebo manipulační zaříz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DNC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- Direct Numerical Control – počítačem řízená a monitorovaná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íť NC, CNC strojů, robotů ap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IS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- Internationál Standards Organisation – binární kód používá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 programování prováděnému pomocí 8-mi stopé děr. pás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CAD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- Computer Aided Desigen – počítačová podpora konstruov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CAM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- Computer Aided Manufacturing – přímé řízení výro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čítač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CAE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- Computer Aided Engineering – počítačová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ženýrských prací, která využívá počítače pro výpoč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 průběhu návrh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CIM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-  výroba plně řízená počítačem, automatizovaná výrob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dstata číslicového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907920"/>
            <a:ext cx="8351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i číslicově řízeném obrábění je program výroby součásti zadán stroji ve formě čísel a písmen. Program je tedy soubor alfanumerických znaků v takové podobě a posloupnosti, aby byl danému řídícímu systému srozumiteln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lastní program je sestaven s programových funkcí a to, přípravných G , pomocných M a jednotlivých ad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67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549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ozdělení podle stupně automatizace zpracování vstupních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484280"/>
            <a:ext cx="8532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Ruční programování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mé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– programujeme přímo na 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nepřímé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– programujeme mimo 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Automatické (strojní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- program je tvořen strategií obrábění pomocí cyklů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 operací.   Sinumerik, Kovoprog, MTS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Dialogové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- program je tvořen pomocí nabízených  dialogový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ken.  Heidenh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CAD/CAM systém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- realizují vyšší stupeň počítačové podp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ýkres vytvořený v modulu CAD se kopíruje p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lší práci v modulu CAM. edgeCAM, Catia, NX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olidWorks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vní tři můžeme programovat na dílně (dílenské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AD/CAM systémy zpracováváme v konstrukčních a programovacích kanceláří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765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Videosekce –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ráce CNC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697800" cy="460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324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17:25Z</dcterms:modified>
  <cp:revision>27</cp:revision>
  <dc:subject/>
  <dc:title>Název DUMu</dc:title>
</cp:coreProperties>
</file>