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039-713F-4750-8512-B741FEEE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0F3-43B0-474E-96A1-45736881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556-BC1B-4055-B47B-189293C7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BAB-A11D-4DBE-8212-915242C2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639-74C6-4934-A084-F0FF0D02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294-692B-41C8-BB38-11113BF4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93A-4689-4844-A45E-82DACDF0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548-7F0A-470A-8C5A-52F76219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28C-583D-454A-B953-60005AB6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BD5-66F6-4631-8627-B4CCADC9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678-7D6A-48CC-98CA-E2449B42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991-816B-46B2-9549-3D6CC7A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E710-B817-4787-95EF-6B2EA1C9B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erenční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258920" y="263700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8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ferenční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enta Jarosl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ferenční bo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 Referenční bo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y programování číslicově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uvádí způsoby najetí do referenčních bodů, možnosti funkce G98 a graficky vysvětluje princip referenčních znače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404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ferenční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052640"/>
            <a:ext cx="878544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98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Najetí do referenčního bo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dresy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říklad zápisu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N1 G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98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e používá k ztotožnění  zobrazovaných souřadnic se   skutečnou polohou vůči souřadnému  systému stroje. Toto ztotožnění   je  nutné  provést,  pokud  dojde  z  jakéhokoliv důvodu ke ztrátě   souřadnic.  Ztráta souřadnic  nastane výpadkem  napájení, vypnutím   stroje  tlačítkem Centrál  stop během  pohybu, najetím  na koncový   spínač  pohybů, ztrátou  vazby krokového  motoru přetížením. Pokud   k žádné  uvedené  situaci  nedojde,  zachovává  si  řídící  systém   správné souřadnice po celou dobu  provozu i po vypnutí a opětovném   zapnut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řesné najetí na koncové spínače v referenčním bodě je možné pouze do určité  rychlosti pohybu. Proto je nájezd do reference možný pouze  v  automatickém  režimu  funkcí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98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Tato funkce vyvolá následující sled  pohybů: Osa X rychloposuvem najede   na koncový  spínač, vrátí se několik  milimetrů zpět, znovu najede   na  koncový spínač  malou rychlostí  a vrátí  se o jeden milimetr.   Stejným způsobem potom na koncový spínač najede osa 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404640"/>
            <a:ext cx="8785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žitím adresy H je možné chování funkce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G98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modifikovat. Například pro zkrácení času může být někdy vhodné referovat pouze v ose X. Je možné k referenci použít i koncové spínače ve směru záporných os, ovšem to si vyžádá změnu položek v tabulce strojní konstan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o zastavení  všech pohybů se zobrazené  souřadnice polohy přepíší souřadnicemi, které náleží danému  nástroji v referenčním bodu.  Pokud  pro zadaný   nástroj jsou v tabulce Korekce zadány nulové korekce (neni osazena   nástrojem),   vypíší  se   souřadnice  polohy   nulového bodu seřizovacího  bodu   upínače nástrojů (revolverové  hlavy nebo rychlovýměnné hlavy).  Tyto  souřadnice  má  systém  trvale  uloženy   v tabulce Strojní konstanty. Pokud jsou pro nástroj zapsány určité   korekce v tabulce Nástroje,  budou samozřejmě akceptovány a vypíší se souřadnice o hodnotu korekcí  posunuty od velikosti  z tabulky strojní konstan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Tabulka hodnot 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H1 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reference pouze   X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H2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                               X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H4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  Z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H8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  Z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3333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římý, inkrementální systém odměřování dráhy s referenčními značkami s kódovanou vzdálenost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2505240" y="4264200"/>
            <a:ext cx="3744720" cy="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505240" y="4335480"/>
            <a:ext cx="3744720" cy="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2505240" y="4408560"/>
            <a:ext cx="3744720" cy="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2505240" y="4192560"/>
            <a:ext cx="3744720" cy="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2938320" y="4192560"/>
            <a:ext cx="0" cy="1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4192560"/>
            <a:ext cx="0" cy="1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233960" y="4192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4192560"/>
            <a:ext cx="0" cy="1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5025960" y="4192560"/>
            <a:ext cx="0" cy="1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5673600" y="4192560"/>
            <a:ext cx="0" cy="1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938320" y="3903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305240" y="3903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37960" y="39038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305240" y="39038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673600" y="3903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441600" y="35434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809960" y="35434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2505240" y="4479840"/>
            <a:ext cx="374472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505240" y="4551480"/>
            <a:ext cx="374472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2505240" y="4624560"/>
            <a:ext cx="374472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505240" y="4695840"/>
            <a:ext cx="374472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2505240" y="4768920"/>
            <a:ext cx="374472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2433600" y="5127480"/>
            <a:ext cx="38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505240" y="3616200"/>
            <a:ext cx="3817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2433600" y="3616200"/>
            <a:ext cx="71640" cy="503280"/>
          </a:xfrm>
          <a:custGeom>
            <a:avLst/>
            <a:gdLst/>
            <a:ahLst/>
            <a:rect l="l" t="t" r="r" b="b"/>
            <a:pathLst>
              <a:path w="52" h="317">
                <a:moveTo>
                  <a:pt x="45" y="0"/>
                </a:moveTo>
                <a:cubicBezTo>
                  <a:pt x="22" y="49"/>
                  <a:pt x="0" y="98"/>
                  <a:pt x="0" y="136"/>
                </a:cubicBezTo>
                <a:cubicBezTo>
                  <a:pt x="0" y="174"/>
                  <a:pt x="38" y="197"/>
                  <a:pt x="45" y="227"/>
                </a:cubicBezTo>
                <a:cubicBezTo>
                  <a:pt x="52" y="257"/>
                  <a:pt x="45" y="302"/>
                  <a:pt x="45" y="31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2422440" y="4768920"/>
            <a:ext cx="82800" cy="358560"/>
          </a:xfrm>
          <a:custGeom>
            <a:avLst/>
            <a:gdLst/>
            <a:ahLst/>
            <a:rect l="l" t="t" r="r" b="b"/>
            <a:pathLst>
              <a:path w="52" h="181">
                <a:moveTo>
                  <a:pt x="52" y="0"/>
                </a:moveTo>
                <a:cubicBezTo>
                  <a:pt x="33" y="30"/>
                  <a:pt x="14" y="61"/>
                  <a:pt x="7" y="91"/>
                </a:cubicBezTo>
                <a:cubicBezTo>
                  <a:pt x="0" y="121"/>
                  <a:pt x="3" y="151"/>
                  <a:pt x="7" y="18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505240" y="4119480"/>
            <a:ext cx="0" cy="649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"/>
          <p:cNvCxnSpPr/>
          <p:nvPr/>
        </p:nvCxnSpPr>
        <p:spPr>
          <a:xfrm rot="5400000">
            <a:off x="6033960" y="3831120"/>
            <a:ext cx="504000" cy="73800"/>
          </a:xfrm>
          <a:prstGeom prst="curvedConnector5">
            <a:avLst>
              <a:gd name="adj1" fmla="val 49821"/>
              <a:gd name="adj2" fmla="val 50000"/>
              <a:gd name="adj3" fmla="val 49821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6249960" y="4119480"/>
            <a:ext cx="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6249960" y="4840200"/>
            <a:ext cx="1440" cy="287280"/>
          </a:xfrm>
          <a:custGeom>
            <a:avLst/>
            <a:gdLst/>
            <a:ahLst/>
            <a:rect l="l" t="t" r="r" b="b"/>
            <a:pathLst>
              <a:path w="1" h="181">
                <a:moveTo>
                  <a:pt x="0" y="0"/>
                </a:moveTo>
                <a:cubicBezTo>
                  <a:pt x="0" y="34"/>
                  <a:pt x="0" y="68"/>
                  <a:pt x="0" y="91"/>
                </a:cubicBezTo>
                <a:cubicBezTo>
                  <a:pt x="0" y="114"/>
                  <a:pt x="0" y="121"/>
                  <a:pt x="0" y="136"/>
                </a:cubicBezTo>
                <a:cubicBezTo>
                  <a:pt x="0" y="151"/>
                  <a:pt x="0" y="174"/>
                  <a:pt x="0" y="18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257796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264960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272268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279396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86560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93832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300996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08124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315432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22596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329724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37032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44160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351468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58632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373068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80196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387360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394668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01796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408924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16232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423396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430524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37832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444960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452268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59432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466560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73868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480996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88160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95468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502596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509760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517032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524196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531324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538632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45796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53068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560232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567360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574668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581832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588960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596268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603396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610560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6178680" y="447984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3360600" y="2890800"/>
            <a:ext cx="304920" cy="685800"/>
          </a:xfrm>
          <a:prstGeom prst="rect">
            <a:avLst/>
          </a:prstGeom>
          <a:noFill/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3360600" y="3043080"/>
            <a:ext cx="304920" cy="0"/>
          </a:xfrm>
          <a:prstGeom prst="line">
            <a:avLst/>
          </a:prstGeom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360600" y="3043080"/>
            <a:ext cx="152640" cy="228600"/>
          </a:xfrm>
          <a:prstGeom prst="line">
            <a:avLst/>
          </a:prstGeom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360240" y="3119400"/>
            <a:ext cx="304920" cy="457200"/>
          </a:xfrm>
          <a:prstGeom prst="line">
            <a:avLst/>
          </a:prstGeom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9200" y="3424320"/>
            <a:ext cx="76320" cy="152280"/>
          </a:xfrm>
          <a:prstGeom prst="line">
            <a:avLst/>
          </a:prstGeom>
          <a:ln cap="sq"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208320" y="2509920"/>
            <a:ext cx="609480" cy="228600"/>
          </a:xfrm>
          <a:prstGeom prst="rect">
            <a:avLst/>
          </a:prstGeom>
          <a:noFill/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3208320" y="2738520"/>
            <a:ext cx="152280" cy="15228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65160" y="2738520"/>
            <a:ext cx="152280" cy="15228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84640" y="2357280"/>
            <a:ext cx="0" cy="15264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741840" y="2357280"/>
            <a:ext cx="0" cy="15264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3284640" y="2357280"/>
            <a:ext cx="457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2205000"/>
            <a:ext cx="762120" cy="152280"/>
          </a:xfrm>
          <a:prstGeom prst="rect">
            <a:avLst/>
          </a:prstGeom>
          <a:noFill/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08320" y="2052360"/>
            <a:ext cx="0" cy="15228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817800" y="2052360"/>
            <a:ext cx="0" cy="15228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208320" y="1290240"/>
            <a:ext cx="76320" cy="76212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665160" y="1290240"/>
            <a:ext cx="152280" cy="76212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13240" y="1742760"/>
            <a:ext cx="0" cy="1871640"/>
          </a:xfrm>
          <a:prstGeom prst="line">
            <a:avLst/>
          </a:prstGeom>
          <a:ln w="6480">
            <a:solidFill>
              <a:srgbClr val="080808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3284640" y="1278000"/>
            <a:ext cx="38088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8"/>
                </a:moveTo>
                <a:cubicBezTo>
                  <a:pt x="36" y="4"/>
                  <a:pt x="72" y="0"/>
                  <a:pt x="96" y="8"/>
                </a:cubicBezTo>
                <a:cubicBezTo>
                  <a:pt x="120" y="16"/>
                  <a:pt x="120" y="56"/>
                  <a:pt x="144" y="56"/>
                </a:cubicBezTo>
                <a:cubicBezTo>
                  <a:pt x="168" y="56"/>
                  <a:pt x="204" y="32"/>
                  <a:pt x="240" y="8"/>
                </a:cubicBezTo>
              </a:path>
            </a:pathLst>
          </a:custGeom>
          <a:noFill/>
          <a:ln cap="sq"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4513320" y="2890800"/>
            <a:ext cx="304920" cy="685800"/>
          </a:xfrm>
          <a:prstGeom prst="rect">
            <a:avLst/>
          </a:prstGeom>
          <a:noFill/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4513320" y="3043080"/>
            <a:ext cx="304920" cy="0"/>
          </a:xfrm>
          <a:prstGeom prst="line">
            <a:avLst/>
          </a:prstGeom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12960" y="3043080"/>
            <a:ext cx="152280" cy="228600"/>
          </a:xfrm>
          <a:prstGeom prst="line">
            <a:avLst/>
          </a:prstGeom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512960" y="3119400"/>
            <a:ext cx="304920" cy="457200"/>
          </a:xfrm>
          <a:prstGeom prst="line">
            <a:avLst/>
          </a:prstGeom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741920" y="3424320"/>
            <a:ext cx="76320" cy="152280"/>
          </a:xfrm>
          <a:prstGeom prst="line">
            <a:avLst/>
          </a:prstGeom>
          <a:ln cap="sq"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4361040" y="2509920"/>
            <a:ext cx="609480" cy="228600"/>
          </a:xfrm>
          <a:prstGeom prst="rect">
            <a:avLst/>
          </a:prstGeom>
          <a:noFill/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4361040" y="2738520"/>
            <a:ext cx="152280" cy="15228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17880" y="2738520"/>
            <a:ext cx="152280" cy="15228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437000" y="2357280"/>
            <a:ext cx="0" cy="15264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894200" y="2357280"/>
            <a:ext cx="0" cy="15264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4437000" y="2357280"/>
            <a:ext cx="457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2205000"/>
            <a:ext cx="762120" cy="152280"/>
          </a:xfrm>
          <a:prstGeom prst="rect">
            <a:avLst/>
          </a:prstGeom>
          <a:noFill/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361040" y="2052360"/>
            <a:ext cx="0" cy="15228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970520" y="2052360"/>
            <a:ext cx="0" cy="15228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361040" y="1290240"/>
            <a:ext cx="75960" cy="76212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4817880" y="1290240"/>
            <a:ext cx="152280" cy="76212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665600" y="1671480"/>
            <a:ext cx="0" cy="1872000"/>
          </a:xfrm>
          <a:prstGeom prst="line">
            <a:avLst/>
          </a:prstGeom>
          <a:ln w="6480">
            <a:solidFill>
              <a:srgbClr val="080808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4437000" y="1278000"/>
            <a:ext cx="38124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8"/>
                </a:moveTo>
                <a:cubicBezTo>
                  <a:pt x="36" y="4"/>
                  <a:pt x="72" y="0"/>
                  <a:pt x="96" y="8"/>
                </a:cubicBezTo>
                <a:cubicBezTo>
                  <a:pt x="120" y="16"/>
                  <a:pt x="120" y="56"/>
                  <a:pt x="144" y="56"/>
                </a:cubicBezTo>
                <a:cubicBezTo>
                  <a:pt x="168" y="56"/>
                  <a:pt x="204" y="32"/>
                  <a:pt x="240" y="8"/>
                </a:cubicBezTo>
              </a:path>
            </a:pathLst>
          </a:custGeom>
          <a:noFill/>
          <a:ln cap="sq"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728880" y="3182760"/>
            <a:ext cx="719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537372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 inkrementálních systémů s referenčními značkami s kódovanou vzdáleností je možno získat absolutní polohu vždy po 20mm, to znamená přejetí dvou referenčních znač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užitá literatura: vlastní text a obrázky, uživatelská příručka Mikropr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ta</cp:lastModifiedBy>
  <dcterms:modified xsi:type="dcterms:W3CDTF">2013-02-04T10:14:28Z</dcterms:modified>
  <cp:revision>25</cp:revision>
  <dc:subject/>
  <dc:title>Název DUMu</dc:title>
</cp:coreProperties>
</file>