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EA4-81B2-4300-9C14-DEE7BADD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C5A-1F5F-4DDC-A969-F74ED472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C4F-57AD-413B-90E1-6B00E72D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2E2-6287-4AB5-9B84-8FF5D767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B5A-8419-407E-866B-43AAE56A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A72-CED9-48BB-82DC-6CF27A93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026-C232-4235-B3B6-F1093CCB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02E-CC7F-4F5E-BBD0-19B25EB2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572-9EF1-400E-9F85-F9B8B3FA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C523-0858-4202-B72F-AF50134B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E6F-DE5A-4001-94F5-F6A839BA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59E-8FAD-4DBE-A5D3-8BA3FD6E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1DF3-005D-4326-BCBC-EB29EAAF4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ontrolní testové otá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755640" y="2637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ontrolní testové otáz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nta Jarosl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ntrolní testové otáz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 Kontrolní testové otáz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klady programování číslicově řízených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enta Jarosla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.1.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ntrolní testové otázky ověřují znalosti žáků v dané problematic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ontrolní testové otá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125360"/>
            <a:ext cx="8642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1)NC program 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       rozpis geometrických, technologických a pomocných příkaz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       popis technických částí pracovního postup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       rozpis geologických, technických a jiných příkaz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2)N 025 – písmeno N ve slově je čá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ýznam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res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ologick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3)Pomocné funkce značí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4)Rozměr 30h7 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nitřní rozmě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nější rozmě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ozměr otvo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0200" y="765000"/>
            <a:ext cx="871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5)Co je interpolá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rpolační paramet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itmeticko – logická jednot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ulátor otáč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6)CAM znamen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čítačová podpora výpoč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čítačová podpora konstrukc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římé řízení výro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7)Mezi geometrické informace patří např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res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, M, T,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resy X, Y, Z,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šechny adres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8)Upnutí součásti na stroji musí bý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uhé a pevn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řesné a kolm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vné a rychl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549360"/>
            <a:ext cx="864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9)Pro konvenční stroje je lépe frézov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sled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sousled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ojí je správ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30)CNC j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čítačem řízený NC stro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čítačem řízený nástro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ýroba plně řízená počítač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31)CNC stroje pracují s přesnost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acují i přesně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32)Pro řeznou rychlost platí vzor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π d n / 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π d v / 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π 1000 / d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692280"/>
            <a:ext cx="864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33)K technologickým vlastnostem patř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obrobitel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epelná roztaž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ev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34)Fazetka j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pojnice dvou hlavních ostří u vrtá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úzká ploška podél drážek, která vede vrtá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řechodová válcová plocha mezi tělem vrtáku a upínací čá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35)Mikrometr měří s přesností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0,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36)Odvalovací fréza se používá na výrobu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rovinných plo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ozubených k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varových plo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69228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37)Který kužel je samosvorn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etrický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trm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or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38)Dural je slit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l Cu M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l Cu M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l Zn M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39)Kalením se získávají tyto vlast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zmenšení tvrd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zvětšení tvrd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zlepšení obrobitel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40)Charakteristika dělícího přístroje j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aximální počet soustředných kružnic na dělícím kotouč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aximální počet dírek na kružni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velikost šnekového převo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549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právné odpovědi testových otáz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197000"/>
            <a:ext cx="561672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3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4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5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7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7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8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8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9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9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užitá literatura: vlastní text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nta</cp:lastModifiedBy>
  <dcterms:modified xsi:type="dcterms:W3CDTF">2013-02-04T10:20:05Z</dcterms:modified>
  <cp:revision>30</cp:revision>
  <dc:subject/>
  <dc:title>Název DUMu</dc:title>
</cp:coreProperties>
</file>