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76433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9B9C-93C2-4F08-BA05-E4F9552AA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AE0C-5BC1-4F3D-9E35-FF5A22E5A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EB98-FFA5-49D5-BC40-36DB35E52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D7D5-1C3D-4A3D-A31E-7E712AC84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7280-3351-4A37-AD80-46D831747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0A8A-4447-49EC-8AD6-5320CB775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7999-97FC-4A29-A2D2-022D333C2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8817-1B1E-4839-A1AC-B62576D3D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AAE6-A153-44AA-9131-D7B650D26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7B81-E98F-4747-9017-E17044EDD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A284-3FAA-430B-97AB-ED90904BB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2477-D7CC-46AF-A36A-403DC895C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D0AAD-1D82-41ED-82D4-0C8F820DD8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068640"/>
            <a:ext cx="7772400" cy="13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Kontrolní testové otázk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Obrázek 3" descr=""/>
          <p:cNvPicPr/>
          <p:nvPr/>
        </p:nvPicPr>
        <p:blipFill>
          <a:blip r:embed="rId1"/>
          <a:stretch/>
        </p:blipFill>
        <p:spPr>
          <a:xfrm>
            <a:off x="1530360" y="476280"/>
            <a:ext cx="6083280" cy="1484280"/>
          </a:xfrm>
          <a:prstGeom prst="rect">
            <a:avLst/>
          </a:prstGeom>
          <a:ln w="0">
            <a:noFill/>
          </a:ln>
        </p:spPr>
      </p:pic>
      <p:sp>
        <p:nvSpPr>
          <p:cNvPr id="43" name="TextovéPole 4"/>
          <p:cNvSpPr/>
          <p:nvPr/>
        </p:nvSpPr>
        <p:spPr>
          <a:xfrm>
            <a:off x="900000" y="2637000"/>
            <a:ext cx="770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VY_32_INOVACE_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48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_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Kontrolní testové otázk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ovéPole 5"/>
          <p:cNvSpPr/>
          <p:nvPr/>
        </p:nvSpPr>
        <p:spPr>
          <a:xfrm>
            <a:off x="6119640" y="558972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utor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enta Jaroslav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Záznamový list výukového materiálu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457200" y="1600200"/>
          <a:ext cx="8229600" cy="4829040"/>
        </p:xfrm>
        <a:graphic>
          <a:graphicData uri="http://schemas.openxmlformats.org/drawingml/2006/table">
            <a:tbl>
              <a:tblPr/>
              <a:tblGrid>
                <a:gridCol w="2962440"/>
                <a:gridCol w="5267160"/>
              </a:tblGrid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Název škol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SŠTZ Mohelnice, 1. máje 2, 789 85 Mohelni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Číslo projekt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Z.1.07/1.5.00/34.00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ázev šablony klíčové aktivit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ovace a zkvalitnění výuky prostřednictvím ICT (III/2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ázev výukového materiál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Kontrolní testové otázk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značen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VY_32_INOVACE_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48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_ Kontrolní testové otázk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Vzdělávací ob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echanik seřizovač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ematický okru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Základy programování číslicově řízených strojů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oční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ut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Valenta Jaroslav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atum ověřen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.10. 2012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notace / metodický pop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Kontrolní testové otázky ověřují znalosti žáků v dané problematice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odpis autor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odpis ředite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24000" y="26028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Kontrolní testové otázk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179280" y="836640"/>
            <a:ext cx="878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/>
          <p:nvPr/>
        </p:nvSpPr>
        <p:spPr>
          <a:xfrm>
            <a:off x="324000" y="907920"/>
            <a:ext cx="86407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1. Pravoúhlý souřadný systém j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) stanoven podle buzoly určením světových stra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) na sebe kolmé vedení pohybů nástroje na obráběcím stroj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) stanoven programátorem při sestavení CNC kód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2. Lineární interpolace j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) zavrtávání do materiálu po šroubovic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) přímo úměrně zvětšující se pohy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) pohyb nástroje po přím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3. Slovo v programu j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) slovní popis následující oper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) celý jeden řádek program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) prvek bloku např. M0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4. Řídícím systémem u NC strojů j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) systém sloužící ke zpracování NC kódů a řízení stroj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) systém k řízení nástroj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) systém sloužící k řízení obrobk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95280" y="692280"/>
            <a:ext cx="8497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5. Nárůstek při obrábění se tvoří 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) obrobk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) držáku nástroj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) Nástroj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6. Nulový bod obrobku je při zapnutí stroje shodný 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) nulovým bodem stroj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) nulovým bodem nástroj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) je umístěn podle velikosti upnutého obrobk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7. Úhel čela na nástroji se označují písmen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) alf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) be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) gam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8. Technologické informace CNC programu jsou dán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) výrobcem stroje a vlastnostmi stroj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) kvalitou materiálu obrobku a kvalitou materiálu nástroj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) určením posuvu nástroje (F), otáček nástroje (S) a číslem nástroje (T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24000" y="76500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Správné odpovědi testových otáze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/>
          <p:nvPr/>
        </p:nvSpPr>
        <p:spPr>
          <a:xfrm>
            <a:off x="2050920" y="1844640"/>
            <a:ext cx="864252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7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8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oužitá literatura: vlastní text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Valenta</cp:lastModifiedBy>
  <dcterms:modified xsi:type="dcterms:W3CDTF">2013-02-04T10:10:47Z</dcterms:modified>
  <cp:revision>20</cp:revision>
  <dc:subject/>
  <dc:title>Název DUMu</dc:title>
</cp:coreProperties>
</file>