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638-35A4-4243-B647-4C02A1E9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F79-6291-4BE1-80BA-351D041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D5C-0AE7-41B8-AF3D-B51FD0E8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C71-1BAF-4043-B7E9-C4EA21B1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359-E3E2-448E-8963-8066DE4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058-D80D-4860-8CC9-E42B75AB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4F7-6570-4907-8AF5-E7AA72DD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1D-3119-4CB6-B357-07A9E89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C81-BC6B-45FB-AE93-E8EA465D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617-3139-4E34-B1B7-73ED4D8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B63-9BA1-4816-8340-B1BAB65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720-A92C-4303-882E-4C5A1EC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581-83C2-44F3-9F72-A74F0A4ED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názornění korekce nástroje zprava G41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zleva G42 na soustru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79280" y="263700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názornění korekce nástroje zprava G41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a zleva G42 na soustru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413000"/>
          <a:ext cx="8229600" cy="50544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názornění korekce nástroje zprava G41 a zleva G42 na soustruh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Znázornění korekce nástroje zprava G41 a zleva G42 na soustruh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é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popisuje a graficky znázorňuje použití funkcí G41 aG42. Umožňuje snadno pochopit problematiku soustružení tvaru s ohledem na rádius špičky nástro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76280"/>
            <a:ext cx="849636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Znázornění korekce nástroje zprava G41 a zleva G42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 soustruh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G41 a G42 zajistí posunutí skutečné dráhy nástroje oproti dráze programované tak, aby se eliminoval vliv poloměru špičky nástroje na tvar obrobku. Velikost poloměru špičky každého nástroje je zapsána v tabulce KOREKCE. (Rovněž musí být správně zapsán typ nástroje, který rozhoduje o směru provedení korekcí.) Celá problematika je patrná z následujících obrázků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653000"/>
            <a:ext cx="2895480" cy="13716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881600"/>
            <a:ext cx="1295640" cy="914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4881600"/>
            <a:ext cx="1143000" cy="914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71240" y="5338800"/>
            <a:ext cx="61722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76720" y="4347720"/>
            <a:ext cx="0" cy="3049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819520" y="4500720"/>
            <a:ext cx="45720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19520" y="3967200"/>
            <a:ext cx="0" cy="5335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967200"/>
            <a:ext cx="45720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437920" y="4195440"/>
            <a:ext cx="381240" cy="3049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38280" y="3433320"/>
            <a:ext cx="0" cy="7621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0400" y="3585960"/>
            <a:ext cx="0" cy="68580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395520"/>
            <a:ext cx="762120" cy="29232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32" y="152"/>
                  <a:pt x="288" y="168"/>
                </a:cubicBezTo>
                <a:cubicBezTo>
                  <a:pt x="344" y="184"/>
                  <a:pt x="448" y="128"/>
                  <a:pt x="480" y="120"/>
                </a:cubicBezTo>
              </a:path>
            </a:pathLst>
          </a:custGeom>
          <a:noFill/>
          <a:ln cap="sq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4348080"/>
            <a:ext cx="152280" cy="152640"/>
          </a:xfrm>
          <a:prstGeom prst="ellipse">
            <a:avLst/>
          </a:prstGeom>
          <a:solidFill>
            <a:srgbClr val="00ff00"/>
          </a:solidFill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172200" y="4347720"/>
            <a:ext cx="0" cy="3049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172200" y="4195440"/>
            <a:ext cx="838080" cy="68580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172200" y="3967200"/>
            <a:ext cx="45720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967200"/>
            <a:ext cx="0" cy="5335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10280" y="3205080"/>
            <a:ext cx="0" cy="9907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248520" y="3433320"/>
            <a:ext cx="0" cy="83844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2050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144"/>
                </a:moveTo>
                <a:cubicBezTo>
                  <a:pt x="48" y="100"/>
                  <a:pt x="96" y="56"/>
                  <a:pt x="144" y="48"/>
                </a:cubicBezTo>
                <a:cubicBezTo>
                  <a:pt x="192" y="40"/>
                  <a:pt x="232" y="104"/>
                  <a:pt x="288" y="96"/>
                </a:cubicBezTo>
                <a:cubicBezTo>
                  <a:pt x="344" y="88"/>
                  <a:pt x="448" y="16"/>
                  <a:pt x="480" y="0"/>
                </a:cubicBezTo>
              </a:path>
            </a:pathLst>
          </a:custGeom>
          <a:noFill/>
          <a:ln cap="sq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348080"/>
            <a:ext cx="152640" cy="152640"/>
          </a:xfrm>
          <a:prstGeom prst="ellipse">
            <a:avLst/>
          </a:prstGeom>
          <a:solidFill>
            <a:srgbClr val="00ff00"/>
          </a:solidFill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119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119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 4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378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 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368960" cy="3466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333360"/>
            <a:ext cx="86421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loha nástroje je dána polohou jeho teoretické špičky – bodem P. Protože ve většině případů je špička nástroje zaoblena poloměrem několika desetin milimetru, není skutečný tzv. utvářející bod ostří totožný s bodem P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Z obrázku je vidět že k odchylce skutečného tvaru od tvaru programovaného dochází na kuželových plochách, naopak plochy čelní a válcové jsou obrobeny bez chyby. Velikost vzniklé chyby závisí na poloměru špičky a na sklonu obráběné plochy. Podobné problémy vznikají i při obrábění rádiusů pomocí funkcí G2 a G3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2602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 třeba přesně obrobit konečný tvar součásti na obrá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465800" cy="312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3860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1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4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zařazení kore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13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9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7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7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3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9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2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1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7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1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8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zrušení kore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9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1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1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odjetí od ku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a</cp:lastModifiedBy>
  <dcterms:modified xsi:type="dcterms:W3CDTF">2013-02-04T10:12:24Z</dcterms:modified>
  <cp:revision>27</cp:revision>
  <dc:subject/>
  <dc:title>Název DUMu</dc:title>
</cp:coreProperties>
</file>