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1BD-F947-4A42-88C4-E14BF5D7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662-2021-4DC7-BE15-0DA28EB0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35F-7297-4E99-B46F-FA3A1481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848-E8E2-48A1-849F-476808CA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DD1-11F2-4CDA-B892-055B789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133-425E-44E5-A090-56D0CF8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3C1-EC31-4C4C-B298-FDE09EF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B26-1E3C-4A14-9CD2-6D6E8762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664-85C8-4527-8D6D-D209947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F37-AB45-44CA-95C7-F83BD57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BB9-7CC1-479D-931B-B75C22A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901-BB9C-495B-AC77-B448E95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AF5-608C-471A-96A6-6D1ADD21F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řadnicový systém CNC stro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395280" y="2637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uřadnicový systém C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ta Jarosl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uřadnicový systém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 Souřadnicový systém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y programování číslicově řízených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enta Jarosl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popisuje základní osový systém na CNC frézce a CNC soustruh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obrazuje kartézský systém souřadnic a otočné osy kolem os základních. Vysvětluje problematiku soustružení před a za osou rota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ouřadnicový systém CNC 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9337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3789360"/>
            <a:ext cx="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5229360"/>
            <a:ext cx="1943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292720" y="5229360"/>
            <a:ext cx="1008000" cy="1079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101080" y="4797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77080" y="5013360"/>
            <a:ext cx="574560" cy="720720"/>
          </a:xfrm>
          <a:custGeom>
            <a:avLst/>
            <a:gdLst>
              <a:gd name="textAreaLeft" fmla="*/ 0 w 574560"/>
              <a:gd name="textAreaRight" fmla="*/ 574920 w 5745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5551" y="12038"/>
                </a:moveTo>
                <a:arcTo wR="-5393" hR="-5393" stAng="10003889" swAng="-15298043"/>
                <a:lnTo>
                  <a:pt x="10468" y="21595"/>
                </a:lnTo>
                <a:arcTo wR="10800" hR="10800" stAng="5505847" swAng="15298043"/>
                <a:lnTo>
                  <a:pt x="23940" y="7702"/>
                </a:lnTo>
                <a:lnTo>
                  <a:pt x="19921" y="14201"/>
                </a:lnTo>
                <a:lnTo>
                  <a:pt x="13421" y="10182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940360" y="3716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4950" y="10372"/>
                </a:moveTo>
                <a:arcTo wR="-5866" hR="-5866" stAng="-10548977" swAng="-12418537"/>
                <a:lnTo>
                  <a:pt x="843" y="14984"/>
                </a:lnTo>
                <a:arcTo wR="10800" hR="10800" stAng="9432486" swAng="12418537"/>
                <a:lnTo>
                  <a:pt x="24264" y="11785"/>
                </a:lnTo>
                <a:lnTo>
                  <a:pt x="18734" y="16561"/>
                </a:lnTo>
                <a:lnTo>
                  <a:pt x="13958" y="11031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64000" y="5516640"/>
            <a:ext cx="648000" cy="64908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3193203"/>
                <a:lnTo>
                  <a:pt x="2513" y="17726"/>
                </a:lnTo>
                <a:arcTo wR="10800" hR="10800" stAng="8406797" swAng="1319320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4221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5516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501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479736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značení souřadnicových 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05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uřadnicový systém -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řadný systém XYZ je definován v souladu s normami ISO jako pravoúhlý, pravotočivý. Osa Z je vždy rovnoběžná s osu vřetene, osa X vždy leží v rovině upínacího stolu. Souřadný systém pro svislou i vodorovnou  polohu vřetene včetně vyznačení kladných směrů je na následujícím obráz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852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ladný smysl otáčivých pohybů A,B,C je ve směru otáčení hodinových ručiček při pozorování v kladném směru 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61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549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ouřadnicový systém u frézek s odlišností uložení vřet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800600"/>
            <a:ext cx="1981080" cy="30492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71600" y="4038120"/>
            <a:ext cx="1143000" cy="7621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352680" y="4038120"/>
            <a:ext cx="990720" cy="7621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4038480"/>
            <a:ext cx="1828800" cy="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52680" y="4343040"/>
            <a:ext cx="990720" cy="7621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2514600"/>
            <a:ext cx="0" cy="228600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657600"/>
            <a:ext cx="609840" cy="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2666880"/>
            <a:ext cx="0" cy="9907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76520" y="2666880"/>
            <a:ext cx="0" cy="9907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590920"/>
            <a:ext cx="60984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208" y="40"/>
                  <a:pt x="240" y="48"/>
                </a:cubicBezTo>
                <a:cubicBezTo>
                  <a:pt x="272" y="56"/>
                  <a:pt x="264" y="48"/>
                  <a:pt x="288" y="48"/>
                </a:cubicBezTo>
                <a:cubicBezTo>
                  <a:pt x="312" y="48"/>
                  <a:pt x="368" y="48"/>
                  <a:pt x="384" y="48"/>
                </a:cubicBezTo>
              </a:path>
            </a:pathLst>
          </a:custGeom>
          <a:noFill/>
          <a:ln cap="sq"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71600" y="411444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14600" y="3581280"/>
            <a:ext cx="68580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800600"/>
            <a:ext cx="12193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871440" y="48420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800600"/>
            <a:ext cx="1904760" cy="30492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334120" y="4114440"/>
            <a:ext cx="838080" cy="6858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238880" y="4114440"/>
            <a:ext cx="685800" cy="6858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4114800"/>
            <a:ext cx="1752480" cy="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238880" y="4419360"/>
            <a:ext cx="685800" cy="68580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4114800"/>
            <a:ext cx="0" cy="304920"/>
          </a:xfrm>
          <a:prstGeom prst="line">
            <a:avLst/>
          </a:prstGeom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334120" y="4038120"/>
            <a:ext cx="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4800600"/>
            <a:ext cx="10670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3581280"/>
            <a:ext cx="60948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505320"/>
            <a:ext cx="129528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2004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3200400"/>
            <a:ext cx="914400" cy="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809880"/>
            <a:ext cx="990720" cy="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15200" y="3200040"/>
            <a:ext cx="0" cy="6094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8217000" y="3200400"/>
            <a:ext cx="88920" cy="609480"/>
          </a:xfrm>
          <a:custGeom>
            <a:avLst/>
            <a:gdLst/>
            <a:ahLst/>
            <a:rect l="l" t="t" r="r" b="b"/>
            <a:pathLst>
              <a:path w="56" h="384">
                <a:moveTo>
                  <a:pt x="8" y="0"/>
                </a:moveTo>
                <a:cubicBezTo>
                  <a:pt x="4" y="32"/>
                  <a:pt x="0" y="64"/>
                  <a:pt x="8" y="96"/>
                </a:cubicBezTo>
                <a:cubicBezTo>
                  <a:pt x="16" y="128"/>
                  <a:pt x="56" y="160"/>
                  <a:pt x="56" y="192"/>
                </a:cubicBezTo>
                <a:cubicBezTo>
                  <a:pt x="56" y="224"/>
                  <a:pt x="8" y="256"/>
                  <a:pt x="8" y="288"/>
                </a:cubicBezTo>
                <a:cubicBezTo>
                  <a:pt x="8" y="320"/>
                  <a:pt x="32" y="352"/>
                  <a:pt x="56" y="384"/>
                </a:cubicBezTo>
              </a:path>
            </a:pathLst>
          </a:custGeom>
          <a:noFill/>
          <a:ln cap="sq"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014440" y="33940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308640" y="3048120"/>
            <a:ext cx="7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487692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1206000" y="5603760"/>
            <a:ext cx="16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vislá 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241960" y="563868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dorovná 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 určení smyslu pohybu v osách ( + , - ) platí pravidl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48428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růstá-li rozměr obrobku při relativním pohybu nástroje vzhled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e stojícímu obrobku v dané ose, je smysl pohybu kladný a naop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řet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28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řet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uřadnicový systém -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oustru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419120" y="262404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419120" y="262404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800360" y="262404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800360" y="2928960"/>
            <a:ext cx="22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028960" y="292896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724040" y="3233880"/>
            <a:ext cx="83808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419120" y="475776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00360" y="445248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800360" y="4452840"/>
            <a:ext cx="22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028960" y="414828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18760" y="3386160"/>
            <a:ext cx="304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418760" y="3995640"/>
            <a:ext cx="304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419120" y="36910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266840" y="3691080"/>
            <a:ext cx="160020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2486160" y="3614760"/>
            <a:ext cx="152280" cy="15228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2562120" y="369108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2562120" y="3691080"/>
            <a:ext cx="4572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867040" y="4148280"/>
            <a:ext cx="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095640" y="4300560"/>
            <a:ext cx="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867040" y="4148280"/>
            <a:ext cx="228600" cy="1522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867040" y="4529160"/>
            <a:ext cx="228600" cy="1522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4605480"/>
            <a:ext cx="0" cy="30456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943360" y="4910040"/>
            <a:ext cx="75960" cy="763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019320" y="4986360"/>
            <a:ext cx="0" cy="763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095640" y="4376880"/>
            <a:ext cx="304920" cy="2286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4605480"/>
            <a:ext cx="0" cy="4572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18960" y="5062680"/>
            <a:ext cx="3812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943360" y="5062680"/>
            <a:ext cx="533160" cy="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943360" y="5062680"/>
            <a:ext cx="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476520" y="5062680"/>
            <a:ext cx="0" cy="30456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943360" y="536724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52" y="48"/>
                  <a:pt x="192" y="48"/>
                </a:cubicBezTo>
                <a:cubicBezTo>
                  <a:pt x="232" y="48"/>
                  <a:pt x="312" y="8"/>
                  <a:pt x="336" y="0"/>
                </a:cubicBezTo>
              </a:path>
            </a:pathLst>
          </a:custGeom>
          <a:noFill/>
          <a:ln cap="sq"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943360" y="4376880"/>
            <a:ext cx="75960" cy="7596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2104920" y="3691080"/>
            <a:ext cx="5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028960" y="4467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369108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2852640"/>
            <a:ext cx="0" cy="2133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285264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5457960" y="285264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457960" y="3157560"/>
            <a:ext cx="22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5686560" y="315756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5381640" y="3462480"/>
            <a:ext cx="914400" cy="914400"/>
          </a:xfrm>
          <a:prstGeom prst="rect">
            <a:avLst/>
          </a:prstGeom>
          <a:noFill/>
          <a:ln cap="sq"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4986360"/>
            <a:ext cx="381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57960" y="468108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5457960" y="4681440"/>
            <a:ext cx="22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86560" y="437688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5000760" y="3919680"/>
            <a:ext cx="1523880" cy="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6219720" y="3843360"/>
            <a:ext cx="152640" cy="152280"/>
          </a:xfrm>
          <a:prstGeom prst="donut">
            <a:avLst>
              <a:gd name="adj" fmla="val 25000"/>
            </a:avLst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6296040" y="3919680"/>
            <a:ext cx="4572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899320" y="3857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5838840" y="391968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296040" y="3080880"/>
            <a:ext cx="0" cy="838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5762520" y="27147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391968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600960" y="3080880"/>
            <a:ext cx="0" cy="38124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600960" y="3309840"/>
            <a:ext cx="228600" cy="15264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29560" y="2928960"/>
            <a:ext cx="0" cy="3808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600600" y="2928960"/>
            <a:ext cx="228600" cy="15228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676920" y="2623680"/>
            <a:ext cx="0" cy="38124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676920" y="2547720"/>
            <a:ext cx="76320" cy="7596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753240" y="2471760"/>
            <a:ext cx="0" cy="763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29560" y="3004920"/>
            <a:ext cx="304560" cy="2286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134120" y="2471760"/>
            <a:ext cx="0" cy="5335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53240" y="247176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6676920" y="2471760"/>
            <a:ext cx="533520" cy="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676920" y="2166480"/>
            <a:ext cx="0" cy="30492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210440" y="2014560"/>
            <a:ext cx="0" cy="457200"/>
          </a:xfrm>
          <a:prstGeom prst="line">
            <a:avLst/>
          </a:prstGeom>
          <a:ln cap="sq"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6676920" y="2001960"/>
            <a:ext cx="533520" cy="164880"/>
          </a:xfrm>
          <a:custGeom>
            <a:avLst/>
            <a:gdLst/>
            <a:ahLst/>
            <a:rect l="l" t="t" r="r" b="b"/>
            <a:pathLst>
              <a:path w="336" h="104">
                <a:moveTo>
                  <a:pt x="0" y="104"/>
                </a:moveTo>
                <a:cubicBezTo>
                  <a:pt x="32" y="84"/>
                  <a:pt x="64" y="64"/>
                  <a:pt x="96" y="56"/>
                </a:cubicBezTo>
                <a:cubicBezTo>
                  <a:pt x="128" y="48"/>
                  <a:pt x="168" y="64"/>
                  <a:pt x="192" y="56"/>
                </a:cubicBezTo>
                <a:cubicBezTo>
                  <a:pt x="216" y="48"/>
                  <a:pt x="216" y="16"/>
                  <a:pt x="240" y="8"/>
                </a:cubicBezTo>
                <a:cubicBezTo>
                  <a:pt x="264" y="0"/>
                  <a:pt x="320" y="8"/>
                  <a:pt x="336" y="8"/>
                </a:cubicBezTo>
              </a:path>
            </a:pathLst>
          </a:custGeom>
          <a:noFill/>
          <a:ln cap="sq"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6676920" y="3157560"/>
            <a:ext cx="76320" cy="7632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76360" y="3614760"/>
            <a:ext cx="304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76360" y="4224240"/>
            <a:ext cx="304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5661000"/>
            <a:ext cx="410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PŘED osou soustru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soustruhy s vodorovným lož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5897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566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ástroj ZA osou soustru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soustruhy se šikmým lož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052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pis os a pohybů určuje norma ISO. Jejím smyslem je umožnit návaznost programování NC strojů od různých výrobc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užitá literatura: vlastní text a obrázky, uživatelská příručka Mikropr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2-02T10:20:38Z</dcterms:modified>
  <cp:revision>23</cp:revision>
  <dc:subject/>
  <dc:title>Název DUMu</dc:title>
</cp:coreProperties>
</file>