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E99F-24E5-46BE-9734-2B43A2B67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1354-E901-4325-95FB-486EC5A3A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604E-8752-4206-A8D4-4EBA5B861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6414-9433-49A9-9433-A3617907D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FB51-49CE-4099-AF02-0E01A9A4D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85A5-CA81-456C-BFEE-86511E796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EB5C-050A-4B1A-988E-0132ED14D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A12B-F870-4572-BE76-925BCB9A5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6999-F12A-48F8-B6D3-C1C2D1015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3AE9-40A6-404E-89D2-E1921982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6026-9E12-41AC-A210-9668B8166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0E83-4A65-4AD6-A568-1D161D669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47B15-8AE5-4C34-9638-1C685EDB36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3213000"/>
            <a:ext cx="77724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incip a řízení CNC stroj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Obrázek 3" descr=""/>
          <p:cNvPicPr/>
          <p:nvPr/>
        </p:nvPicPr>
        <p:blipFill>
          <a:blip r:embed="rId1"/>
          <a:stretch/>
        </p:blipFill>
        <p:spPr>
          <a:xfrm>
            <a:off x="1530360" y="476280"/>
            <a:ext cx="6083280" cy="1484280"/>
          </a:xfrm>
          <a:prstGeom prst="rect">
            <a:avLst/>
          </a:prstGeom>
          <a:ln w="0">
            <a:noFill/>
          </a:ln>
        </p:spPr>
      </p:pic>
      <p:sp>
        <p:nvSpPr>
          <p:cNvPr id="43" name="TextovéPole 4"/>
          <p:cNvSpPr/>
          <p:nvPr/>
        </p:nvSpPr>
        <p:spPr>
          <a:xfrm>
            <a:off x="1042920" y="263700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VY_32_INOVACE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4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incip a řízení CNC stro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ovéPole 5"/>
          <p:cNvSpPr/>
          <p:nvPr/>
        </p:nvSpPr>
        <p:spPr>
          <a:xfrm>
            <a:off x="5940360" y="5589720"/>
            <a:ext cx="34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utor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alenta Jarosla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250920" y="476280"/>
            <a:ext cx="86421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Rozdělení podle stupně automatizace zpracování vstupních informac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/>
          <p:nvPr/>
        </p:nvSpPr>
        <p:spPr>
          <a:xfrm>
            <a:off x="755640" y="2349360"/>
            <a:ext cx="806436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cs-CZ" sz="1800" spc="-1" strike="noStrike">
                <a:solidFill>
                  <a:srgbClr val="0000ff"/>
                </a:solidFill>
                <a:latin typeface="Arial"/>
              </a:rPr>
              <a:t>Ruční programová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cs-CZ" sz="1800" spc="-1" strike="noStrike">
                <a:solidFill>
                  <a:srgbClr val="0000ff"/>
                </a:solidFill>
                <a:latin typeface="Arial"/>
              </a:rPr>
              <a:t>Přímé a nepřímé programování CNC systémů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cs-CZ" sz="1800" spc="-1" strike="noStrike">
                <a:solidFill>
                  <a:srgbClr val="0000ff"/>
                </a:solidFill>
                <a:latin typeface="Arial"/>
              </a:rPr>
              <a:t>Automatické (strojní) programování (KOVOPROG, Sinumerik, MT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cs-CZ" sz="1800" spc="-1" strike="noStrike">
                <a:solidFill>
                  <a:srgbClr val="0000ff"/>
                </a:solidFill>
                <a:latin typeface="Arial"/>
              </a:rPr>
              <a:t>Dialogové (Heidenhai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CAD/CAM systémy (EdgeCAM, SolidWorx, NX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/>
          <p:nvPr/>
        </p:nvSpPr>
        <p:spPr>
          <a:xfrm>
            <a:off x="395280" y="177336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Dílenské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oužitá literatura: vlastní text a obrázky, uživatelská příručka Mikropro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Záznamový list výukového materiálu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57200" y="1600200"/>
          <a:ext cx="8229600" cy="4844880"/>
        </p:xfrm>
        <a:graphic>
          <a:graphicData uri="http://schemas.openxmlformats.org/drawingml/2006/table">
            <a:tbl>
              <a:tblPr/>
              <a:tblGrid>
                <a:gridCol w="2962440"/>
                <a:gridCol w="5267160"/>
              </a:tblGrid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Název škol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SŠTZ Mohelnice, 1. máje 2, 789 85 Mohelni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Číslo projek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Z.1.07/1.5.00/34.0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ázev šablony klíčové aktiv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ovace a zkvalitnění výuky prostřednictvím ICT (III/2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ázev výukového materiál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incip a řízení CNC stroj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znač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Y_32_INOVACE_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42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_ Princip a řízení CNC stroj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zdělávací ob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echanik seřizova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ematický okru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Základy programování číslicově řízených strojů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oční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ut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alenta Jarosla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atum ověř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.9 20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73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notace / metodický pop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ezentace vysvětluje obecně dle schématu princip řízení NC a CNC systému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Zobrazuje důležité prvky zobrazení na displej stroje a ovládací panel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dpis auto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dpis ředite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-171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Princip a řízení CNC stro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190440" y="1484280"/>
            <a:ext cx="1219320" cy="457200"/>
          </a:xfrm>
          <a:prstGeom prst="rect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190440" y="798480"/>
            <a:ext cx="1371600" cy="45720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266760" y="763560"/>
            <a:ext cx="123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ke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/>
          <p:nvPr/>
        </p:nvSpPr>
        <p:spPr>
          <a:xfrm>
            <a:off x="723960" y="1255680"/>
            <a:ext cx="0" cy="2286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/>
          <p:nvPr/>
        </p:nvSpPr>
        <p:spPr>
          <a:xfrm>
            <a:off x="250920" y="1484280"/>
            <a:ext cx="102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Čteč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/>
          <p:nvPr/>
        </p:nvSpPr>
        <p:spPr>
          <a:xfrm>
            <a:off x="190440" y="2170080"/>
            <a:ext cx="5334120" cy="533520"/>
          </a:xfrm>
          <a:prstGeom prst="rect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/>
          <p:nvPr/>
        </p:nvSpPr>
        <p:spPr>
          <a:xfrm>
            <a:off x="250920" y="2211480"/>
            <a:ext cx="52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Čtení, dekódování, edit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/>
          <p:nvPr/>
        </p:nvSpPr>
        <p:spPr>
          <a:xfrm>
            <a:off x="190440" y="2932200"/>
            <a:ext cx="2667240" cy="761760"/>
          </a:xfrm>
          <a:prstGeom prst="rect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2897280"/>
            <a:ext cx="260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ložení geo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nformací X,Y,Z,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/>
          <p:nvPr/>
        </p:nvSpPr>
        <p:spPr>
          <a:xfrm>
            <a:off x="3086280" y="2932200"/>
            <a:ext cx="2438280" cy="761760"/>
          </a:xfrm>
          <a:prstGeom prst="rect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3070080" y="2932200"/>
            <a:ext cx="250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ložení technolo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cí S,M,T,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/>
          <p:nvPr/>
        </p:nvSpPr>
        <p:spPr>
          <a:xfrm>
            <a:off x="190440" y="3922560"/>
            <a:ext cx="2667240" cy="838440"/>
          </a:xfrm>
          <a:prstGeom prst="rect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190440" y="4989600"/>
            <a:ext cx="2667240" cy="457200"/>
          </a:xfrm>
          <a:prstGeom prst="rect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/>
          <p:nvPr/>
        </p:nvSpPr>
        <p:spPr>
          <a:xfrm>
            <a:off x="190440" y="5599080"/>
            <a:ext cx="2667240" cy="457200"/>
          </a:xfrm>
          <a:prstGeom prst="rect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/>
          <p:nvPr/>
        </p:nvSpPr>
        <p:spPr>
          <a:xfrm>
            <a:off x="190440" y="6208560"/>
            <a:ext cx="2667240" cy="457200"/>
          </a:xfrm>
          <a:prstGeom prst="rect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3922560"/>
            <a:ext cx="229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ýpočet korek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unutí počátk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/>
          <p:nvPr/>
        </p:nvSpPr>
        <p:spPr>
          <a:xfrm>
            <a:off x="3086280" y="3922560"/>
            <a:ext cx="2438280" cy="838440"/>
          </a:xfrm>
          <a:prstGeom prst="rect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3086280" y="3922560"/>
            <a:ext cx="251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.vyvolá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ládacích funkc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>
            <a:off x="571680" y="4954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polá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/>
          <p:nvPr/>
        </p:nvSpPr>
        <p:spPr>
          <a:xfrm>
            <a:off x="419040" y="55990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erenční č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723960" y="620856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silova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/>
          <p:nvPr/>
        </p:nvSpPr>
        <p:spPr>
          <a:xfrm>
            <a:off x="723960" y="1941480"/>
            <a:ext cx="0" cy="2286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>
            <a:off x="1486080" y="4761000"/>
            <a:ext cx="0" cy="2286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1486080" y="5446800"/>
            <a:ext cx="0" cy="1522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/>
          <p:nvPr/>
        </p:nvSpPr>
        <p:spPr>
          <a:xfrm>
            <a:off x="1486080" y="6056280"/>
            <a:ext cx="0" cy="1522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/>
          <p:nvPr/>
        </p:nvSpPr>
        <p:spPr>
          <a:xfrm>
            <a:off x="1486080" y="3693960"/>
            <a:ext cx="0" cy="2286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/>
          <p:nvPr/>
        </p:nvSpPr>
        <p:spPr>
          <a:xfrm>
            <a:off x="1486080" y="2703600"/>
            <a:ext cx="0" cy="2286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/>
          <p:nvPr/>
        </p:nvSpPr>
        <p:spPr>
          <a:xfrm>
            <a:off x="4229280" y="2703600"/>
            <a:ext cx="0" cy="2286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/>
          <p:nvPr/>
        </p:nvSpPr>
        <p:spPr>
          <a:xfrm>
            <a:off x="4229280" y="3693960"/>
            <a:ext cx="0" cy="2286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/>
          <p:nvPr/>
        </p:nvSpPr>
        <p:spPr>
          <a:xfrm>
            <a:off x="6134040" y="2779560"/>
            <a:ext cx="2286000" cy="1067040"/>
          </a:xfrm>
          <a:prstGeom prst="rect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/>
          <p:nvPr/>
        </p:nvSpPr>
        <p:spPr>
          <a:xfrm>
            <a:off x="6134040" y="2932200"/>
            <a:ext cx="1905120" cy="685800"/>
          </a:xfrm>
          <a:prstGeom prst="rect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/>
          <p:nvPr/>
        </p:nvSpPr>
        <p:spPr>
          <a:xfrm>
            <a:off x="6134040" y="2855880"/>
            <a:ext cx="193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chanism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o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/>
          <p:nvPr/>
        </p:nvSpPr>
        <p:spPr>
          <a:xfrm>
            <a:off x="7658280" y="3846600"/>
            <a:ext cx="761760" cy="380880"/>
          </a:xfrm>
          <a:prstGeom prst="rect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/>
          <p:nvPr/>
        </p:nvSpPr>
        <p:spPr>
          <a:xfrm>
            <a:off x="7886880" y="4227480"/>
            <a:ext cx="304560" cy="30492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/>
          <p:nvPr/>
        </p:nvSpPr>
        <p:spPr>
          <a:xfrm>
            <a:off x="7734240" y="4532400"/>
            <a:ext cx="609840" cy="304560"/>
          </a:xfrm>
          <a:prstGeom prst="rect">
            <a:avLst/>
          </a:prstGeom>
          <a:noFill/>
          <a:ln cap="sq"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7734240" y="4532400"/>
            <a:ext cx="152640" cy="228600"/>
          </a:xfrm>
          <a:prstGeom prst="line">
            <a:avLst/>
          </a:prstGeom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7810200" y="4532400"/>
            <a:ext cx="228600" cy="304560"/>
          </a:xfrm>
          <a:prstGeom prst="line">
            <a:avLst/>
          </a:prstGeom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7962480" y="4532400"/>
            <a:ext cx="228600" cy="304560"/>
          </a:xfrm>
          <a:prstGeom prst="line">
            <a:avLst/>
          </a:prstGeom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8115120" y="4532400"/>
            <a:ext cx="228600" cy="304560"/>
          </a:xfrm>
          <a:prstGeom prst="line">
            <a:avLst/>
          </a:prstGeom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/>
          <p:nvPr/>
        </p:nvSpPr>
        <p:spPr>
          <a:xfrm>
            <a:off x="6134040" y="4989600"/>
            <a:ext cx="2057400" cy="304560"/>
          </a:xfrm>
          <a:prstGeom prst="rect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>
            <a:off x="8191440" y="5141880"/>
            <a:ext cx="7632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/>
          <p:nvPr/>
        </p:nvSpPr>
        <p:spPr>
          <a:xfrm>
            <a:off x="8267760" y="5065560"/>
            <a:ext cx="0" cy="152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8344080" y="5065560"/>
            <a:ext cx="0" cy="152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/>
          <p:nvPr/>
        </p:nvSpPr>
        <p:spPr>
          <a:xfrm>
            <a:off x="8420040" y="4836960"/>
            <a:ext cx="533520" cy="53352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>
            <a:off x="8344080" y="5141880"/>
            <a:ext cx="7596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/>
          <p:nvPr/>
        </p:nvSpPr>
        <p:spPr>
          <a:xfrm>
            <a:off x="8480520" y="4836960"/>
            <a:ext cx="45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/>
          <p:nvPr/>
        </p:nvSpPr>
        <p:spPr>
          <a:xfrm>
            <a:off x="2857680" y="6437160"/>
            <a:ext cx="58672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/>
          <p:nvPr/>
        </p:nvSpPr>
        <p:spPr>
          <a:xfrm>
            <a:off x="8724960" y="5370480"/>
            <a:ext cx="0" cy="10666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>
            <a:off x="4762440" y="6437160"/>
            <a:ext cx="15264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/>
          <p:nvPr/>
        </p:nvSpPr>
        <p:spPr>
          <a:xfrm>
            <a:off x="4838760" y="4913280"/>
            <a:ext cx="533520" cy="53352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4822920" y="4913280"/>
            <a:ext cx="59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5905080" y="5141880"/>
            <a:ext cx="2286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/>
          <p:nvPr/>
        </p:nvSpPr>
        <p:spPr>
          <a:xfrm>
            <a:off x="5905440" y="5065560"/>
            <a:ext cx="0" cy="152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5829480" y="5065560"/>
            <a:ext cx="0" cy="152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5372280" y="5141880"/>
            <a:ext cx="4572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2857680" y="5827680"/>
            <a:ext cx="22860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/>
          <p:nvPr/>
        </p:nvSpPr>
        <p:spPr>
          <a:xfrm>
            <a:off x="5143680" y="5446800"/>
            <a:ext cx="0" cy="3808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4000320" y="5827680"/>
            <a:ext cx="759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/>
          <p:nvPr/>
        </p:nvSpPr>
        <p:spPr>
          <a:xfrm>
            <a:off x="5432400" y="6056280"/>
            <a:ext cx="205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lohová ser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/>
          <p:nvPr/>
        </p:nvSpPr>
        <p:spPr>
          <a:xfrm>
            <a:off x="-38160" y="2017800"/>
            <a:ext cx="0" cy="350496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/>
          <p:nvPr/>
        </p:nvSpPr>
        <p:spPr>
          <a:xfrm>
            <a:off x="-38160" y="5522760"/>
            <a:ext cx="4572000" cy="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4533840" y="4836600"/>
            <a:ext cx="0" cy="68580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/>
          <p:nvPr/>
        </p:nvSpPr>
        <p:spPr>
          <a:xfrm>
            <a:off x="4533840" y="4836960"/>
            <a:ext cx="1219320" cy="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753160" y="2017440"/>
            <a:ext cx="0" cy="281916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/>
          <p:nvPr/>
        </p:nvSpPr>
        <p:spPr>
          <a:xfrm>
            <a:off x="-38160" y="2017800"/>
            <a:ext cx="5791320" cy="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2705040" y="1255320"/>
            <a:ext cx="0" cy="76212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/>
          <p:nvPr/>
        </p:nvSpPr>
        <p:spPr>
          <a:xfrm>
            <a:off x="2705040" y="1255680"/>
            <a:ext cx="2590920" cy="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/>
          <p:nvPr/>
        </p:nvSpPr>
        <p:spPr>
          <a:xfrm>
            <a:off x="2689200" y="874800"/>
            <a:ext cx="264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émový pro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/>
          <p:nvPr/>
        </p:nvSpPr>
        <p:spPr>
          <a:xfrm>
            <a:off x="4686480" y="1484280"/>
            <a:ext cx="1066680" cy="457200"/>
          </a:xfrm>
          <a:prstGeom prst="rect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/>
          <p:nvPr/>
        </p:nvSpPr>
        <p:spPr>
          <a:xfrm>
            <a:off x="4838760" y="1484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-38160" y="4836960"/>
            <a:ext cx="4572000" cy="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/>
          <p:nvPr/>
        </p:nvSpPr>
        <p:spPr>
          <a:xfrm>
            <a:off x="5533920" y="4325760"/>
            <a:ext cx="1295640" cy="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829560" y="3821040"/>
            <a:ext cx="0" cy="50472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5800" y="838080"/>
            <a:ext cx="1905120" cy="457200"/>
          </a:xfrm>
          <a:prstGeom prst="rect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/>
          <p:nvPr/>
        </p:nvSpPr>
        <p:spPr>
          <a:xfrm>
            <a:off x="3352680" y="838080"/>
            <a:ext cx="1905120" cy="457200"/>
          </a:xfrm>
          <a:prstGeom prst="rect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1676520"/>
            <a:ext cx="1905120" cy="457200"/>
          </a:xfrm>
          <a:prstGeom prst="rect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/>
          <p:nvPr/>
        </p:nvSpPr>
        <p:spPr>
          <a:xfrm>
            <a:off x="3352680" y="1676520"/>
            <a:ext cx="1905120" cy="457200"/>
          </a:xfrm>
          <a:prstGeom prst="rect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/>
          <p:nvPr/>
        </p:nvSpPr>
        <p:spPr>
          <a:xfrm>
            <a:off x="762120" y="838080"/>
            <a:ext cx="17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ke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/>
          <p:nvPr/>
        </p:nvSpPr>
        <p:spPr>
          <a:xfrm>
            <a:off x="3657600" y="8380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luh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/>
          <p:nvPr/>
        </p:nvSpPr>
        <p:spPr>
          <a:xfrm>
            <a:off x="1066680" y="1676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Čteč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/>
          <p:nvPr/>
        </p:nvSpPr>
        <p:spPr>
          <a:xfrm>
            <a:off x="3276720" y="1641600"/>
            <a:ext cx="22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ládací pan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2438280"/>
            <a:ext cx="4572000" cy="457200"/>
          </a:xfrm>
          <a:prstGeom prst="rect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/>
          <p:nvPr/>
        </p:nvSpPr>
        <p:spPr>
          <a:xfrm>
            <a:off x="1981080" y="2438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kódová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3124080"/>
            <a:ext cx="2438280" cy="1143000"/>
          </a:xfrm>
          <a:prstGeom prst="rect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3048120"/>
            <a:ext cx="289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mě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ometrický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cí X,Y,Z,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" y="4495680"/>
            <a:ext cx="2438280" cy="685800"/>
          </a:xfrm>
          <a:prstGeom prst="rect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/>
          <p:nvPr/>
        </p:nvSpPr>
        <p:spPr>
          <a:xfrm>
            <a:off x="152280" y="4419720"/>
            <a:ext cx="282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rekce na rozmě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ástro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5334120"/>
            <a:ext cx="2438280" cy="380880"/>
          </a:xfrm>
          <a:prstGeom prst="rect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5867280"/>
            <a:ext cx="2438280" cy="381240"/>
          </a:xfrm>
          <a:prstGeom prst="rect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" y="6400800"/>
            <a:ext cx="2438280" cy="380880"/>
          </a:xfrm>
          <a:prstGeom prst="rect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/>
          <p:nvPr/>
        </p:nvSpPr>
        <p:spPr>
          <a:xfrm>
            <a:off x="1600200" y="1295280"/>
            <a:ext cx="0" cy="38124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/>
          <p:nvPr/>
        </p:nvSpPr>
        <p:spPr>
          <a:xfrm>
            <a:off x="1600200" y="2133720"/>
            <a:ext cx="0" cy="30456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2895480"/>
            <a:ext cx="0" cy="22860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/>
          <p:nvPr/>
        </p:nvSpPr>
        <p:spPr>
          <a:xfrm>
            <a:off x="1371600" y="4267080"/>
            <a:ext cx="0" cy="22860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/>
          <p:nvPr/>
        </p:nvSpPr>
        <p:spPr>
          <a:xfrm>
            <a:off x="1371600" y="5181480"/>
            <a:ext cx="0" cy="15264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/>
          <p:nvPr/>
        </p:nvSpPr>
        <p:spPr>
          <a:xfrm>
            <a:off x="1371600" y="5715000"/>
            <a:ext cx="0" cy="15228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/>
          <p:nvPr/>
        </p:nvSpPr>
        <p:spPr>
          <a:xfrm>
            <a:off x="1371600" y="6248520"/>
            <a:ext cx="0" cy="15228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/>
          <p:nvPr/>
        </p:nvSpPr>
        <p:spPr>
          <a:xfrm>
            <a:off x="4267080" y="1295280"/>
            <a:ext cx="0" cy="38124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/>
          <p:nvPr/>
        </p:nvSpPr>
        <p:spPr>
          <a:xfrm>
            <a:off x="4267080" y="2133720"/>
            <a:ext cx="0" cy="30456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/>
          <p:nvPr/>
        </p:nvSpPr>
        <p:spPr>
          <a:xfrm>
            <a:off x="533520" y="52992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polá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83236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erenční č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64008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silova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3124080"/>
            <a:ext cx="2286000" cy="1143000"/>
          </a:xfrm>
          <a:prstGeom prst="rect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/>
          <p:nvPr/>
        </p:nvSpPr>
        <p:spPr>
          <a:xfrm>
            <a:off x="2895480" y="3089160"/>
            <a:ext cx="25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měť ovládací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kc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,M,T,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/>
          <p:nvPr/>
        </p:nvSpPr>
        <p:spPr>
          <a:xfrm>
            <a:off x="4114800" y="2895480"/>
            <a:ext cx="0" cy="22860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/>
          <p:nvPr/>
        </p:nvSpPr>
        <p:spPr>
          <a:xfrm>
            <a:off x="5562720" y="2895480"/>
            <a:ext cx="2286000" cy="762120"/>
          </a:xfrm>
          <a:prstGeom prst="rect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/>
          <p:nvPr/>
        </p:nvSpPr>
        <p:spPr>
          <a:xfrm>
            <a:off x="5562720" y="2819520"/>
            <a:ext cx="2062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řizpůsobovac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i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3581280"/>
            <a:ext cx="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5257440" y="3276720"/>
            <a:ext cx="30492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/>
          <p:nvPr/>
        </p:nvSpPr>
        <p:spPr>
          <a:xfrm>
            <a:off x="6705720" y="3809880"/>
            <a:ext cx="2286000" cy="1067040"/>
          </a:xfrm>
          <a:prstGeom prst="rect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/>
          <p:nvPr/>
        </p:nvSpPr>
        <p:spPr>
          <a:xfrm>
            <a:off x="6705720" y="3962520"/>
            <a:ext cx="1904760" cy="685800"/>
          </a:xfrm>
          <a:prstGeom prst="rect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/>
          <p:nvPr/>
        </p:nvSpPr>
        <p:spPr>
          <a:xfrm>
            <a:off x="6705720" y="3886200"/>
            <a:ext cx="193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chanism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o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/>
          <p:nvPr/>
        </p:nvSpPr>
        <p:spPr>
          <a:xfrm>
            <a:off x="8229600" y="4876920"/>
            <a:ext cx="762120" cy="380880"/>
          </a:xfrm>
          <a:prstGeom prst="rect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/>
          <p:nvPr/>
        </p:nvSpPr>
        <p:spPr>
          <a:xfrm>
            <a:off x="8458200" y="5257800"/>
            <a:ext cx="304920" cy="30492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5562720"/>
            <a:ext cx="609480" cy="304560"/>
          </a:xfrm>
          <a:prstGeom prst="rect">
            <a:avLst/>
          </a:prstGeom>
          <a:noFill/>
          <a:ln cap="sq"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8305560" y="5562720"/>
            <a:ext cx="152280" cy="228600"/>
          </a:xfrm>
          <a:prstGeom prst="line">
            <a:avLst/>
          </a:prstGeom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8381520" y="5562720"/>
            <a:ext cx="228600" cy="304560"/>
          </a:xfrm>
          <a:prstGeom prst="line">
            <a:avLst/>
          </a:prstGeom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8534160" y="5562720"/>
            <a:ext cx="228600" cy="304560"/>
          </a:xfrm>
          <a:prstGeom prst="line">
            <a:avLst/>
          </a:prstGeom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8686440" y="5562720"/>
            <a:ext cx="228600" cy="304560"/>
          </a:xfrm>
          <a:prstGeom prst="line">
            <a:avLst/>
          </a:prstGeom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/>
          <p:nvPr/>
        </p:nvSpPr>
        <p:spPr>
          <a:xfrm>
            <a:off x="8610480" y="51055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/>
          <p:nvPr/>
        </p:nvSpPr>
        <p:spPr>
          <a:xfrm>
            <a:off x="6477120" y="6248520"/>
            <a:ext cx="1828800" cy="304560"/>
          </a:xfrm>
          <a:prstGeom prst="rect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6400800"/>
            <a:ext cx="7596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/>
          <p:nvPr/>
        </p:nvSpPr>
        <p:spPr>
          <a:xfrm>
            <a:off x="8381880" y="6324480"/>
            <a:ext cx="0" cy="152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/>
          <p:nvPr/>
        </p:nvSpPr>
        <p:spPr>
          <a:xfrm>
            <a:off x="8610480" y="6095880"/>
            <a:ext cx="533520" cy="53352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/>
          <p:nvPr/>
        </p:nvSpPr>
        <p:spPr>
          <a:xfrm>
            <a:off x="8458200" y="6324480"/>
            <a:ext cx="0" cy="152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/>
          <p:nvPr/>
        </p:nvSpPr>
        <p:spPr>
          <a:xfrm>
            <a:off x="8458200" y="6400800"/>
            <a:ext cx="1522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/>
          <p:nvPr/>
        </p:nvSpPr>
        <p:spPr>
          <a:xfrm>
            <a:off x="8915400" y="6629400"/>
            <a:ext cx="0" cy="15228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2666520" y="6781680"/>
            <a:ext cx="624852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/>
          <p:nvPr/>
        </p:nvSpPr>
        <p:spPr>
          <a:xfrm>
            <a:off x="8610480" y="6095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5181120" y="6400800"/>
            <a:ext cx="1295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4800240" y="6400800"/>
            <a:ext cx="30492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/>
          <p:nvPr/>
        </p:nvSpPr>
        <p:spPr>
          <a:xfrm>
            <a:off x="4267080" y="6095880"/>
            <a:ext cx="533520" cy="53352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/>
          <p:nvPr/>
        </p:nvSpPr>
        <p:spPr>
          <a:xfrm>
            <a:off x="4253400" y="61372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/>
          <p:nvPr/>
        </p:nvSpPr>
        <p:spPr>
          <a:xfrm>
            <a:off x="5105520" y="6324480"/>
            <a:ext cx="0" cy="152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/>
          <p:nvPr/>
        </p:nvSpPr>
        <p:spPr>
          <a:xfrm>
            <a:off x="5181480" y="6324480"/>
            <a:ext cx="0" cy="152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3429000" y="6400800"/>
            <a:ext cx="8380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3429000" y="6019920"/>
            <a:ext cx="0" cy="3808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2666520" y="6019920"/>
            <a:ext cx="76212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/>
          <p:nvPr/>
        </p:nvSpPr>
        <p:spPr>
          <a:xfrm>
            <a:off x="324000" y="18900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Řízení NC stro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24000" y="260280"/>
            <a:ext cx="8569080" cy="55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0000"/>
                </a:solidFill>
                <a:latin typeface="Arial"/>
              </a:rPr>
              <a:t>Interpolátor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– aritmeticko.logická jednotka, která geometrické                            informace o dráze nástroje rozdělí na velmi malé úsečky rovnoběžné s osami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0000"/>
                </a:solidFill>
                <a:latin typeface="Arial"/>
              </a:rPr>
              <a:t>Diferenční člen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(porovnávací) – porovná skutečnou polohu nástroje s požadovanou poloho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0000"/>
                </a:solidFill>
                <a:latin typeface="Arial"/>
              </a:rPr>
              <a:t>Geometrické informace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– popisují dráhy nástroj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- po přečtení korekcí získáme informace o dráze nástroje a tat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upravená geometrická inf, je zpracována v interpolátor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0000"/>
                </a:solidFill>
                <a:latin typeface="Arial"/>
              </a:rPr>
              <a:t>Zesilovač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– upravuje signál získaný z diferenčního členu na síťov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signál, který dokáže pohánět moto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– mo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0000"/>
                </a:solidFill>
                <a:latin typeface="Arial"/>
              </a:rPr>
              <a:t>OZ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– odměřovací zaříze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/>
          <p:nvPr/>
        </p:nvSpPr>
        <p:spPr>
          <a:xfrm>
            <a:off x="324000" y="5157720"/>
            <a:ext cx="842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Konstrukce řídících systémů MIKROPRO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Řídící systémy jsou postaveny modulově. Skládají se z NC části, PLC části, pohonů, případně pomocných bloků. Systémy jsou podle užití buď osazovány do samostatných rozvaděčů s vysokým krytím, nebo zabudovány přímo do strojů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24000" y="333360"/>
            <a:ext cx="864072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Ovládací prv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ro ovládání stroje s řídícím systémem MIKROPROG slouží jednak počítačová klávesnice a jednak klávesnice speciální zabudovaná do ovládacího panelu nebo v jiných případech umístěná na ručním ovladači připevněná pohyblivým kabelem. Mezi oběma klávesnicemi je rozdělení funkcí provedeno z bezpečnostních důvodů tak, že z klávesnice počítače nelze spustit žádný pohyb stroj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900000" y="2997360"/>
            <a:ext cx="698508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68360" y="260280"/>
            <a:ext cx="813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Hlavní panel stro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187280" y="981000"/>
            <a:ext cx="6769440" cy="48243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1079640" y="595008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braz hlavní panel se objeví vždy po zapnutí řídícího systému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468360" y="260280"/>
            <a:ext cx="8064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Archív NC program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971640" y="907920"/>
            <a:ext cx="6985080" cy="44658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395280" y="5661000"/>
            <a:ext cx="849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 levém okně je seznam všech programů ve zvoleném adresáři se zvolenou příponou. V pravém okně je náhled začátku programu označeného kursorem. S programy je možno pracovat podle nabídky na spodní liště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68360" y="549360"/>
            <a:ext cx="813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di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116000" y="1125360"/>
            <a:ext cx="6912000" cy="46800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900000" y="595008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žim a obraz editor jsou určeny pro zápis a opravy NC program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C</cp:lastModifiedBy>
  <dcterms:modified xsi:type="dcterms:W3CDTF">2013-02-02T10:18:11Z</dcterms:modified>
  <cp:revision>19</cp:revision>
  <dc:subject/>
  <dc:title>Název DUMu</dc:title>
</cp:coreProperties>
</file>