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C97-FDA1-4A1A-AB3C-02D30CAA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BAE-93A2-41DE-824B-FB247EA6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F58-16B3-4339-A11C-D32F5B6C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3FC-94F4-4907-AC65-3FA3FC04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1CA-738B-4E1C-8AB7-DE3468C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F98-4105-43E5-B2FB-A6B888E7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342-6069-4BD6-B552-D755F24B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568-5C22-402D-917D-5210C933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F1D-1C74-4862-A1AE-BF73E898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F0F-B0C2-4BF9-9E73-7E9ADE5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7C6-9446-4332-BCB2-7BAEEF3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0C7-0643-463C-9528-BD451D4F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C9CB-1C2C-4BBE-B127-48279BDCA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áhová korek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619280" y="2637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ráhová kore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áhová korek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1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Dráhová korek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objasňuje záležitosti týkajících se korekce dráhy nástroje při programování kontur. Řeší vhodnou formu zápisu v programu a její správné ukončení funkcí G4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76280"/>
            <a:ext cx="828036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Dráhová kore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oužití dráhové korekce na fréz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41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Korekce zpr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42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Korekce zle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Adresy: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bez ad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íklady zápisu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5 G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66 G0 X10 Y12 Z106 G42G4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unkce G41 a G42 umožňují programovat požadovaný tvar obrobku bez ohledu na použitý průměr nástroje. Funkce zabezpečí přesunutí skutečné dráhy nástroje na ekvidistantu k dráze programované. Velikost posunutí se rovná poloměru právě používaného nástroje. (průměr nástroje je zapsán v tabulce korekce). Pokud ještě nebyl nástroj v programu zadán vyhlásí řídící systém chyb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476280"/>
            <a:ext cx="84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Znázornění dráhové korekce nástroje zleva G41 a zprava G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a fréz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340000" y="1773000"/>
            <a:ext cx="0" cy="281916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1773360"/>
            <a:ext cx="2362320" cy="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025800" y="2306520"/>
            <a:ext cx="0" cy="236232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025800" y="2306520"/>
            <a:ext cx="1828800" cy="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4592520"/>
            <a:ext cx="685800" cy="7632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72" y="24"/>
                  <a:pt x="144" y="48"/>
                  <a:pt x="192" y="48"/>
                </a:cubicBezTo>
                <a:cubicBezTo>
                  <a:pt x="240" y="48"/>
                  <a:pt x="248" y="0"/>
                  <a:pt x="288" y="0"/>
                </a:cubicBezTo>
                <a:cubicBezTo>
                  <a:pt x="328" y="0"/>
                  <a:pt x="408" y="40"/>
                  <a:pt x="432" y="48"/>
                </a:cubicBezTo>
              </a:path>
            </a:pathLst>
          </a:custGeom>
          <a:noFill/>
          <a:ln cap="sq"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702320" y="1773360"/>
            <a:ext cx="16488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0" y="0"/>
                </a:moveTo>
                <a:cubicBezTo>
                  <a:pt x="16" y="52"/>
                  <a:pt x="32" y="104"/>
                  <a:pt x="48" y="144"/>
                </a:cubicBezTo>
                <a:cubicBezTo>
                  <a:pt x="64" y="184"/>
                  <a:pt x="88" y="208"/>
                  <a:pt x="96" y="240"/>
                </a:cubicBezTo>
                <a:cubicBezTo>
                  <a:pt x="104" y="272"/>
                  <a:pt x="96" y="320"/>
                  <a:pt x="96" y="336"/>
                </a:cubicBezTo>
              </a:path>
            </a:pathLst>
          </a:custGeom>
          <a:noFill/>
          <a:ln cap="sq"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26000" y="1773360"/>
            <a:ext cx="76320" cy="7596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245120" y="1773360"/>
            <a:ext cx="533160" cy="53316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787920" y="1773360"/>
            <a:ext cx="533160" cy="53316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330720" y="1773360"/>
            <a:ext cx="533160" cy="53316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873520" y="1773360"/>
            <a:ext cx="533160" cy="53316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73360"/>
            <a:ext cx="685800" cy="6858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2230560"/>
            <a:ext cx="685800" cy="6858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687760"/>
            <a:ext cx="685800" cy="6858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3220920"/>
            <a:ext cx="685800" cy="6858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754440"/>
            <a:ext cx="685800" cy="68580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4287960"/>
            <a:ext cx="380880" cy="380880"/>
          </a:xfrm>
          <a:prstGeom prst="line">
            <a:avLst/>
          </a:prstGeom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425600" y="2382840"/>
            <a:ext cx="914400" cy="914400"/>
          </a:xfrm>
          <a:prstGeom prst="donut">
            <a:avLst>
              <a:gd name="adj" fmla="val 25000"/>
            </a:avLst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40000" y="268740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501920" y="2840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253512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654200" y="36021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025800" y="2459160"/>
            <a:ext cx="914400" cy="914400"/>
          </a:xfrm>
          <a:prstGeom prst="donut">
            <a:avLst>
              <a:gd name="adj" fmla="val 25000"/>
            </a:avLst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178080" y="29163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483000" y="2611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254400" y="36021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968400" y="413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G4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41353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G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1425600" y="284004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956880" y="2230560"/>
            <a:ext cx="180216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33" y="879"/>
                </a:moveTo>
                <a:arcTo wR="10800" hR="10800" stAng="-6796335" swAng="2675960"/>
                <a:lnTo>
                  <a:pt x="10800" y="10800"/>
                </a:lnTo>
                <a:close/>
              </a:path>
              <a:path fill="none" w="21600" h="21600">
                <a:moveTo>
                  <a:pt x="6533" y="879"/>
                </a:moveTo>
                <a:arcTo wR="10800" hR="10800" stAng="-6796335" swAng="2675960"/>
              </a:path>
            </a:pathLst>
          </a:custGeom>
          <a:noFill/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2720880" y="2330280"/>
            <a:ext cx="1371240" cy="114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89" y="3876"/>
                </a:moveTo>
                <a:arcTo wR="10800" hR="10800" stAng="-2392412" swAng="4079306"/>
                <a:lnTo>
                  <a:pt x="10800" y="10800"/>
                </a:lnTo>
                <a:close/>
              </a:path>
              <a:path fill="none" w="21600" h="21600">
                <a:moveTo>
                  <a:pt x="19089" y="3876"/>
                </a:moveTo>
                <a:arcTo wR="10800" hR="10800" stAng="-2392412" swAng="4079306"/>
              </a:path>
            </a:pathLst>
          </a:custGeom>
          <a:noFill/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256536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ysl korekce je dán poloh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ředu nástroje od obrysu 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ěru jeho pohybu, čímž 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rozliší vnější a vnitřní povr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yslem korekce stanovíme též způsob obrábění: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usledn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esousledn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084640"/>
            <a:ext cx="84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G41 se používá pokud má obráběná plocha ležet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pravo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d dráhy nástroje, funkce G42 pro plochu ležící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lev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d dráhy ná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 jiných řídících systémů může být definována poloha nástroje k obráběné ploš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1125360"/>
            <a:ext cx="835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bě funkce G41 a G42 korigují dráhu zapsanou funkcemi G0, G1, G2, G3, pro jiné funkce jejich použití nemá smysl a může způsobit chybu v polohování nástroje. Zápis každé korekční funkce má v programu trvalou platnost až do zrušení funkcí G40 nebo do konce progra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gramovaná dráha pohybu se skládá vždy z přímek a kruhových oblouků. Tomu odpovídá rovněž tvar ekvidistanty získaný korekční funkcí. V bodech, kde na sebe jednotlivé části programované dráhy navazují bez společné tečny, je dráha ekvidistanty doplněna automaticky kruhovým obloukem o poloměru použitého ná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 bezchybnou činnost korekčních funkcí je třeba k obráběnému povrchu nástrojem přijet již se zařazenou korekcí z té strany obráběného obrysu, po kterém se má dále nástroj pohybovat. Nejvhodnější je nájezd kolmo k obráběné ploše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40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pkovou frézou průměr 10 mm je třeba zvenčí ofrézovat tvar šablony podle obr. Výchozí poloha nástroje je zvolena na souřadnicích X-30 Y0. Pohyb v ose Z není uvažová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416720" cy="410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4653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197000"/>
            <a:ext cx="89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   M6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výměna nástroje – fréza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    M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8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spuštění vřet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    G4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zavedení korekce zpr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    G1    X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příjezd nástroje k povrch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   G1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postupné frézování tva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   G1    X4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70    G1    X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    G3    X89.456         Y31.411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90    G1    X112.6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14.5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  G2    X1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10  G1    X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20  G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zrušení kore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30  G0    X-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odjetí do výchozí poloh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620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Zápis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229360"/>
            <a:ext cx="878544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Zrušení kore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í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4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ruší dosud nastavené korekce 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4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4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. Funkci je vhodné aplikovat vždy při dokončení kontu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18900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Ukázka funkce G41 korekce zpr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var součásti zapsaný svými uzlovými body jako podprogram je dvakrá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rézován nástrojem jiného průměru. Skutečná dráha nástroje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sunuta podle použitého průměru nástroj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0       M6                                      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0       M3                                      S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30       G26       L100                 ;skok do pod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40       M6                                      T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50       G26       L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70       M30                                ;konec hlavniho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00      G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10      G1        X0        Y0          Z-5                F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20      G1                  Y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30      G1        X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40      G1                  Y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50      G3        X30       Y25                 R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60      G1        X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70      G2        X80       Y5                  R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80      G1          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190      G1        X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00      G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10      G0        X-20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220      M17                             ;konec pod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25:13Z</dcterms:modified>
  <cp:revision>22</cp:revision>
  <dc:subject/>
  <dc:title>Název DUMu</dc:title>
</cp:coreProperties>
</file>