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1A82-655F-4AE8-9B0A-0215E130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0BBF-B058-4440-B34F-06F69CD2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4C2A-B817-4FBE-A6F3-DB367DD78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B6B5-944E-460E-9599-B32861C0F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4077-D59A-4595-9357-C0D5E640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665E-757E-4DA8-A39E-2FE4BF2A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C943-66F6-43E5-819D-BDC0BFF5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A968-C69C-4BC5-A6A1-B21EB613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CBCB-760E-4484-B90B-F43683C0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1E2D-0102-4998-90A7-DEE7DAED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1D4D-4979-4102-87A9-E1476150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B9B3-BB52-483B-94C0-542C989C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27E9-769D-44D4-B826-96A3B7CBD4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evné cykly speciál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1187280" y="2637000"/>
            <a:ext cx="69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Y_32_INOVACE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5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vné cykly speciál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611964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enta Jarosla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84488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vné cykly speciál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55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_ Pevné cykly speciál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chanik seřizova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áklady programování číslicově řízených stroj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enta Jarosla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.31.1. 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7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ezentace ukazuje možnosti použití méně obvyklých cyklů včetně ukázky jejich zápis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47628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evné cykly speciál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981000"/>
            <a:ext cx="878544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ff"/>
                </a:solidFill>
                <a:latin typeface="Arial"/>
              </a:rPr>
              <a:t>G77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Cyklus pro frézování vnitřních závit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Adresy: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DZWH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Příklady zápisu: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102 G77 D30 Z10 W2.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54 G77 D45 Z-15.4 W3 H1 F1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Funkce </a:t>
            </a: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G 77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slouží k vyfrézování vnitřního závitu hřebínkovou frézou. Nástroj se při frézování pohybuje po šroubové dráze jednoho závitu plus nutné překrytí. V adrese  D se zapisuje velký průměr závitu, v adrese W stoupání závitu. Adresa Z určuje konečnou  polohu nástroje při výběhu ze závitu. Frézování začíná ve výchozí poloze v ose budoucího závitu ve výšce, která je zhruba o hodnotu stoupání W posunutá od konečné polohy.  Pomocí adresy H se určuje smysl stoupání případně další parametry závit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H0 určuje pravý závi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H1 levý závit. (pokud  není H zapsáno, platí H0.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Celkový sled pohybů ve funkce </a:t>
            </a: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G77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je tento: Nájezd v ose Z do výchozí polohy pro frézování, nájezd nástroje šroubovým pohybem obloukem na požadovaný průměr D, frézování šroubovým pohybem v délce jednoho závitu, výjezd šroubovým pohybem ze závitu do osy otvoru, vyjetí z otvoru do výchozí polohy cykl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476280"/>
            <a:ext cx="8642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ff"/>
                </a:solidFill>
                <a:latin typeface="Arial"/>
              </a:rPr>
              <a:t>G78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Cyklus pro frézování vnějších závit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Adresy: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DZWH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Příklady zápisu: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102 G77 D30 Z10 W2.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54 G77 D45 Z-15.4 W3 H1 F1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Funkce </a:t>
            </a: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G 78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slouží k vyfrézování vnějšího závitu hřebínkovou frézou. Nástroj se při frézování pohybuje po šroubové dráze jednoho závitu plus nutné překrytí. V adrese D se zapisuje malý průměr závitu, v adrese W stoupání závitu. Adresa Z určuje konečnou  polohu nástroje při výběhu ze závitu. Frézování začíná ve výchozí poloze v ose budoucího závitu ve výšce, která je zhruba o hodnotu stoupání W posunutá od konečné polohy.  Pomocí adresy H se určuje smysl stoupání případně další parametry závit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H0 určuje pravý závi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H1 levý závit. (pokud  není H zapsáno, platí H0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Celkový sled pohybů ve funkce </a:t>
            </a: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G77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je tento: Odjetí do bezpečné polohy mimo frézovaný průměr, nájezd v ose Z do výchozí polohy pro frézování, nájezd nástroje šroubovým pohybem obloukem na požadovaný průměr D, frézování šoubovým pohybem v délce jednoho závitu, výjezd šroubovým pohybem ze závitu, vyjetí na výchozí polohu cyklu a návrat do osy frézovaného závit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0920" y="476280"/>
            <a:ext cx="87138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G2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Zrcadlení souřadn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dresy: 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říklady zápisu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50 G20 H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60 G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unkce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G2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mění znaménko souřadnic ve všech následujících blocích programu až do ukončení běhu programu nebo do ukončení platnosti funkce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G2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 Způsob změny znamének závisí na zadané hodnotě adresy H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1 mění se znaménko osy 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2 mění se znaménko osy 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3 mění se znaménko obou os  X  i 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latnost funkce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G20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 ukončuje zadáním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G2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s jinou hodnotou H nebo s hodnotou H0 nebo pouhým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G20.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unkce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G20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možňuje rychlejší zapsání tvarů symetrických podle některé osy tím, že je možno zapsat pouze jednu část a části další získat zrcadlení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říklad: Činnost funkce G20 je možno vyzkoušet  následujícím programem. Podprogramu je spuštěn opakovaně vždy s jinou hodnotou H ve funkci G2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76280"/>
            <a:ext cx="8785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10    M6                                      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20    M3                                      S1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30    G26       L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40    G20       H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50    G26       L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60    G20       H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70    G26       L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80    G20       H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90    G26       L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92    M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pod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100   G0                                         Z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105   G0        X10        Y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110   G1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Z0                  F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120   G1                       Y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130   G2                       Y40                       R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140   G0                                         Z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150   G0        X0           Y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160   M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užitá literatura: vlastní text a uživatelská příručka Mikropr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3-02-02T10:28:47Z</dcterms:modified>
  <cp:revision>23</cp:revision>
  <dc:subject/>
  <dc:title>Název DUMu</dc:title>
</cp:coreProperties>
</file>