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7CE-ACCA-4F89-A6A3-D1FF9356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C57-0CCA-48BC-A307-FE2FD117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0DA-8A37-4ABA-8D43-D692BFF3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63E-F919-45C7-827E-EACCF8F2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1EF-1808-4F1C-B970-D421AEF5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033-FD29-4573-B1F3-70EE4C0F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8B7-13B6-42ED-85AF-FD884CE7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A91-433E-46EA-B389-08312004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36D-AF02-4F6F-B5F3-63AF9F55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C6F-DBA7-409B-B17A-694FD88E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625-D7A3-44E2-9A73-618D2F3F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10D-BA4D-46A4-8CF7-0AB927F9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17FC-B4C6-4C62-AD80-520ECC61A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vné cykly – cyklické funkce - fréz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900000" y="2637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vné cykly – cyklické fun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2602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75 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yklus pro kruhové vybra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1557360"/>
            <a:ext cx="2895480" cy="20574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2741760" y="1785960"/>
            <a:ext cx="1676160" cy="16002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5637240" y="1557360"/>
            <a:ext cx="990720" cy="20574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6094440" y="1785960"/>
            <a:ext cx="533520" cy="152388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636880" y="1557360"/>
            <a:ext cx="228600" cy="2286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636880" y="1557360"/>
            <a:ext cx="609480" cy="60948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2680" y="1557360"/>
            <a:ext cx="228600" cy="2286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637240" y="2090880"/>
            <a:ext cx="457200" cy="4572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637240" y="2471760"/>
            <a:ext cx="457200" cy="4572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37240" y="2852640"/>
            <a:ext cx="457200" cy="4572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713560" y="3233880"/>
            <a:ext cx="380880" cy="38088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094080" y="3309840"/>
            <a:ext cx="304920" cy="30492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99000" y="3386160"/>
            <a:ext cx="228600" cy="2286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2589120" y="262404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3579840" y="178596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6018120" y="262404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6475320" y="1785960"/>
            <a:ext cx="0" cy="1523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6323040" y="1785960"/>
            <a:ext cx="0" cy="1523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6170760" y="1785960"/>
            <a:ext cx="0" cy="1523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6475320" y="3309840"/>
            <a:ext cx="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6627960" y="361476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6323040" y="3843360"/>
            <a:ext cx="1066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6627960" y="384336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322680" y="384336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6703920" y="346248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3351240" y="2395440"/>
            <a:ext cx="457200" cy="457200"/>
          </a:xfrm>
          <a:prstGeom prst="ellipse">
            <a:avLst/>
          </a:prstGeom>
          <a:noFill/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094440" y="132876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627960" y="13284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6094440" y="1328760"/>
            <a:ext cx="533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6170760" y="9478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674720" y="1785960"/>
            <a:ext cx="1905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98400" y="3386160"/>
            <a:ext cx="19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1674720" y="1785960"/>
            <a:ext cx="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1293840" y="2395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4149720"/>
            <a:ext cx="87138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G7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e používá pro výrobu kruhového vybrání o průměru D a hloubce Z (zadané absolutně nebo přírůstkově) postupným frézováním po     třískách W. Cyklus začíná a končí nad středem kruhového vybrá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likost překrytí stop nástroje při frézování je dána nastavením v    uživatelských konstantá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říklad zápisu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N60  G75  D40  Z-8  W2  F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47628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Ukázka funkce G75 - cyklus pro kruhové vybr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ástroj fréza průměr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       M6                                      T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20       M3                                      S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0       G0        X40       Y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0       G0                                Z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50       G75      D20                 Z-3       W2        F200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60       G0        X65       Y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70       G75      D40                 Z-5       W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80       G0                                Z-4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90       G75      D15                 Z-8       W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0      G0                               Z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10      G0       X0         Y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9280" y="189000"/>
            <a:ext cx="8713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76 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yklus pro vrtání příru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533520"/>
            <a:ext cx="3200400" cy="32004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990720"/>
            <a:ext cx="2286000" cy="22860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21337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6858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762120"/>
            <a:ext cx="457200" cy="4572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905120"/>
            <a:ext cx="457200" cy="4572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3048120"/>
            <a:ext cx="457200" cy="4572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905120"/>
            <a:ext cx="457200" cy="4572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1905120"/>
            <a:ext cx="457200" cy="457200"/>
          </a:xfrm>
          <a:prstGeom prst="ellipse">
            <a:avLst/>
          </a:prstGeom>
          <a:noFill/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8229600" y="533520"/>
            <a:ext cx="685800" cy="32004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8077320" y="2133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762120"/>
            <a:ext cx="380880" cy="4572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3048120"/>
            <a:ext cx="380880" cy="4572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3276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990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305560" y="3048120"/>
            <a:ext cx="228600" cy="22860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276720"/>
            <a:ext cx="228600" cy="22860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305560" y="762120"/>
            <a:ext cx="228600" cy="22860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990720"/>
            <a:ext cx="228600" cy="22860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229240" y="533520"/>
            <a:ext cx="304920" cy="38088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686440" y="533520"/>
            <a:ext cx="152280" cy="2286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229240" y="1143000"/>
            <a:ext cx="228600" cy="30492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229600" y="1219320"/>
            <a:ext cx="533520" cy="6858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29240" y="1523880"/>
            <a:ext cx="685800" cy="8384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229240" y="1981080"/>
            <a:ext cx="685800" cy="8384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229240" y="2438280"/>
            <a:ext cx="685800" cy="8384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762760" y="2895480"/>
            <a:ext cx="152280" cy="1526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229240" y="3429000"/>
            <a:ext cx="304920" cy="30492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534160" y="3505320"/>
            <a:ext cx="228600" cy="2286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2133720"/>
            <a:ext cx="0" cy="2057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2133720"/>
            <a:ext cx="0" cy="213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4191120"/>
            <a:ext cx="228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8915400" y="37339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8305920" y="3276720"/>
            <a:ext cx="0" cy="99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419112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153280" y="419112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/>
          <p:nvPr/>
        </p:nvSpPr>
        <p:spPr>
          <a:xfrm>
            <a:off x="8915400" y="419112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>
            <a:off x="8442360" y="38098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91628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G76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je cyklus určený pro vrtání více otvorů rozmístěných po roztečné kružnici o průměru D. Počet ot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zadává v adrese H, adresou Z je dána hloubka vrtání (absolutně nebo přírůstkově).   Cyklus začíná ve středu roztečné kružnice. První otvor leží vpravo od osy, na stejné souřadnici Y jako střed kružn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4941720"/>
            <a:ext cx="882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 vyvrtání posledního otvoru se nástroj vrátí do výchozího bodu,  tj. střed   kružni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 vrtání je použit pevný cyklus G81, který nelze modifikova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říklad zápisu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G76  D75  Z-10  H4  F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4000" y="549360"/>
            <a:ext cx="842472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Ukázka funkce G76 - cyklus pro obrábění na kružni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ako podprogramy jsou použity vrtací cykly G81 a G8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ástroj vrták nebo vrtací fré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       M6                                      T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20       M3                                      S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0       G0        X50       Y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0       G0                                 Z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50       G76       D30                 L100      H6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60       G76       D70                 L200      H8        B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70       G0                                Z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80       G0        X0        Y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90       M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odprogra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0      G81                           Z-10                F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10      m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200      G83                           Z-25      W5        F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210      m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50920" y="54936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ff"/>
                </a:solidFill>
                <a:latin typeface="Arial"/>
              </a:rPr>
              <a:t>G81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vrtací cyklus – nástroj se pohybuje pr. posuvem v ose Z do zadané hloubky, následně se vrací rychloposuvem do výchozího bod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ff"/>
                </a:solidFill>
                <a:latin typeface="Arial"/>
              </a:rPr>
              <a:t>G83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vrtací cyklus s výplachem – používá se pro rychlý zápis sledu pohybů pro postupné vrtání hlubokého otvoru, při kterém je třeba několikrát vrtání přerušit a nástroj vysunout pro odstranění třísek.         V adrese W se udává hloubka vrtaná najednou.                                    Sled pohybů – vrtání do hloubky W, vyjetí rychloposuvem, zasunutí nástroje rychloposuvem do vyvrtaného otv. 0,5 nade dno, vrtání o další hloubku W až do vyvrtání celého otvoru. Potom se nástroj vrátí do výchozího bod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ff"/>
                </a:solidFill>
                <a:latin typeface="Arial"/>
              </a:rPr>
              <a:t>G85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ystružovací cyklus – funguje obdobně jako cyklus vrtací G81 s tím rozdílem, že zpětný pohyb nástroje se děje pracovním posuv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obrázky,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vné cykly-cyklické funkce-frézo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Pevné cykly-cyklické funkce-frézo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.1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popisuje  a graficky předvádí práci s pevnými cykly, které patří do vybavení řídících systémů. Zahrnuje cykly pro frézování a vrtání. Ukázka zápisu programu vede k snadnému pochopení významu jednotlivých ad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052640"/>
            <a:ext cx="8640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kupina funkcí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71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ž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85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souhrnně nazývá pevné cyk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yto funkce umožňují výrazně zkrátit pracnost programování často se opakujících tvarů a zkrátit celkovou délku programu. Každý pevný cyklus má určenou sekvenci pohybů, tzv. úseků, kterou by jinak bylo nutno programovat funkcemi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0,G1,G2,G3, a G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lečnou vlastností všech cyklů je návrat do výchozího bo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edy bodu, ve kterém byl cyklus vyvolán) po ukončení cyk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šechny cykly je možno zadat jak v absolutních tak v  přírůstkových souřadnicí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vné cykly můžeme rozdělit dle technologi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o fréz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o soustruž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o vrt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7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evné cykly – cyklické funkce - fréz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333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 7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cyklu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rtání matice otvor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1628640"/>
            <a:ext cx="3886200" cy="259092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644920" y="1857240"/>
            <a:ext cx="914400" cy="9144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5083200" y="1857240"/>
            <a:ext cx="914400" cy="9144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2644920" y="3000240"/>
            <a:ext cx="914400" cy="9144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863880" y="1857240"/>
            <a:ext cx="914400" cy="9144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3863880" y="3000240"/>
            <a:ext cx="914400" cy="9144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083200" y="3000240"/>
            <a:ext cx="914400" cy="914400"/>
          </a:xfrm>
          <a:prstGeom prst="ellipse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568600" y="231444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492280" y="345744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20098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102120" y="32288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321080" y="20858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4321080" y="32288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540400" y="20858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5540400" y="32288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102120" y="3762360"/>
            <a:ext cx="0" cy="838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321080" y="368604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102120" y="4600440"/>
            <a:ext cx="12189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483000" y="4219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30520" y="345744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30520" y="231444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730520" y="2314440"/>
            <a:ext cx="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730520" y="269568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6073920" y="231444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6073920" y="345744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6912000" y="2314440"/>
            <a:ext cx="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102120" y="12474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540400" y="1247760"/>
            <a:ext cx="0" cy="838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102120" y="1247760"/>
            <a:ext cx="24382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531120" y="261936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154760" y="83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797360"/>
            <a:ext cx="828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G7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louží k vrtání sítě otvorů, které mají vzájemnou pravidelnou rozteč U v ose X a V v ose Y. Cyklus začíná nad libovolným rohovým otvorem. V adresách X a Y jsou zapsány souřadnice plochy, ve které mají být vrtané otv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říklad zápisu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N40  G71  X50  Y30  Z-5  U10  V10  F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404640"/>
            <a:ext cx="878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Ukázka funkce G71 - cyklus pro síťové obrábě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       M6                                      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20       M3                                      S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0       G0        X20        Y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0       G0                               Z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50       G71       X90       Y85       U10        V15        L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60       G0                               Z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70       G0        X0         Y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80       M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0      G81                            Z-5                 F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10      M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260280"/>
            <a:ext cx="86407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73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yklus pro obdélníkové vybr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1544760" y="1679400"/>
            <a:ext cx="3733560" cy="221004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1925640" y="2060640"/>
            <a:ext cx="2590920" cy="1447560"/>
          </a:xfrm>
          <a:prstGeom prst="roundRect">
            <a:avLst>
              <a:gd name="adj" fmla="val 16667"/>
            </a:avLst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077920" y="2365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230560" y="2136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2001960" y="32796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2212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059360" y="2365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211640" y="29750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983040" y="32036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773360" y="3203640"/>
            <a:ext cx="533160" cy="5331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925640" y="2975040"/>
            <a:ext cx="533520" cy="53316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925640" y="1298160"/>
            <a:ext cx="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16560" y="1298160"/>
            <a:ext cx="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925640" y="1374840"/>
            <a:ext cx="2590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3508200"/>
            <a:ext cx="1600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2060640"/>
            <a:ext cx="1600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5811840" y="2060640"/>
            <a:ext cx="0" cy="144756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430960" y="251784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3052800" y="993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2687760" y="3203640"/>
            <a:ext cx="8380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6573960" y="1679400"/>
            <a:ext cx="609480" cy="221004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6878520" y="2060640"/>
            <a:ext cx="304920" cy="144756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83440" y="137484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78520" y="137448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6878520" y="137484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573960" y="1374840"/>
            <a:ext cx="304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7183440" y="137484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7335720" y="99360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7107120" y="2060640"/>
            <a:ext cx="0" cy="1447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7031160" y="2060640"/>
            <a:ext cx="0" cy="1447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6954840" y="2060640"/>
            <a:ext cx="0" cy="1447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7107120" y="35082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7183440" y="388944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7107120" y="4270320"/>
            <a:ext cx="763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7183440" y="427032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802560" y="4270320"/>
            <a:ext cx="304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7335720" y="388944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573600" y="1679400"/>
            <a:ext cx="152280" cy="1526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573960" y="1679400"/>
            <a:ext cx="380880" cy="3812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573600" y="1679400"/>
            <a:ext cx="609480" cy="6098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573960" y="2212920"/>
            <a:ext cx="304560" cy="30492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73960" y="2441520"/>
            <a:ext cx="304560" cy="30492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573960" y="2670120"/>
            <a:ext cx="304560" cy="30492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573960" y="2898720"/>
            <a:ext cx="304560" cy="30492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573960" y="3127320"/>
            <a:ext cx="304560" cy="30492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573960" y="3355920"/>
            <a:ext cx="304560" cy="30492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573960" y="3508200"/>
            <a:ext cx="380880" cy="3812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02560" y="3508200"/>
            <a:ext cx="380880" cy="3812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030800" y="3736800"/>
            <a:ext cx="152280" cy="1526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30800" y="1908000"/>
            <a:ext cx="152280" cy="1526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365720"/>
            <a:ext cx="8893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G73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slouží k vyfrézování obdélníkové dutiny v materiálu postupným frézováním po vrstvách. Rozměry dutiny se zadávají pomocí adres X,Y,Z. Adresa W udává hloubku materiálu odebraného v jedné vrstvě. Nástroj nejdříve odjede v osách X a Y o poloměr použ. nástroje a potom se zavrtá pr. posuvem na hloubku první třísk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 cyklu </a:t>
            </a: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G73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jsou délky pohybů nástr. automaticky korigovány podle průměru požitého nástroje z tabulky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kore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Příklad zápisu: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N15   G73  X25  Y32  Z-10  W4  F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54936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Ukázka funkce G73 - cyklus pro obdélníkové vybrá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ástroj  fréza průměr 10 m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       M6                                      T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20       M3                                      S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0       G0        X12         Y5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0       G0                                    Z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50       G73       X50       Y30       Z-4       W2.5      F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60       G0        X40        Y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70       G73       X66       Y18       Z-6       W3        F1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80       G0                                   Z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90       G0        X0          Y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58920" y="260280"/>
            <a:ext cx="8785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74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yklus frézování dráž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1763640" y="1413000"/>
            <a:ext cx="2895840" cy="16002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297160" y="1870200"/>
            <a:ext cx="1981080" cy="609480"/>
          </a:xfrm>
          <a:prstGeom prst="flowChartTerminator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2602080" y="1946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3973680" y="1946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2449440" y="217476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1992240" y="1870200"/>
            <a:ext cx="609840" cy="60948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297160" y="2174760"/>
            <a:ext cx="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4278240" y="2174760"/>
            <a:ext cx="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2297160" y="3546360"/>
            <a:ext cx="19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3135240" y="316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5345280" y="1413000"/>
            <a:ext cx="685800" cy="16002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5726160" y="1870200"/>
            <a:ext cx="304920" cy="60948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5649840" y="2174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6160" y="110772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031080" y="103140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5726160" y="11080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6031080" y="110808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420880" y="11080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6183360" y="72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5954760" y="18702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5878440" y="18702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5802480" y="18702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5954760" y="2479680"/>
            <a:ext cx="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031080" y="30132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5954760" y="3546360"/>
            <a:ext cx="763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6031080" y="354636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649480" y="354636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6183360" y="316548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2830680" y="2174760"/>
            <a:ext cx="5331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345280" y="1413000"/>
            <a:ext cx="304560" cy="30456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344920" y="1413000"/>
            <a:ext cx="609480" cy="60948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802120" y="1641600"/>
            <a:ext cx="228600" cy="2286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345280" y="1946160"/>
            <a:ext cx="380880" cy="3812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45280" y="2251080"/>
            <a:ext cx="380880" cy="38088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345280" y="2479680"/>
            <a:ext cx="457200" cy="4572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73880" y="2556000"/>
            <a:ext cx="457200" cy="4572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878440" y="2860560"/>
            <a:ext cx="152640" cy="15264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933720"/>
            <a:ext cx="871380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7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e používá pro výrobu drážky, široké jako je průměr frézy.Drážka může být libovolně orientována v rovině X,Y. Po spuštění cyklu nejdříve nástroj přejede ve směru dovnitř drážky o poloměr frézy, potom se zavrtá o hloubku třísky W, frézuje na druhý konec drážky na rozměr daný adresami X,Y, a tam se opět zavrtá. Konec cyklu- fréza vyjede na původní výšku a do výchozího bodu. Pokud jsou zadány obě adresy X,Y, je drážka orientovaná obecně (šikmá).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říklady zápisu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N35  G74  X40  Z-8  W2  F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60  G74  X20  Y80  Z-6  W0.5  F1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6206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Ukázka funkce G74 - cyklus pro frézování dráž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ástroj fréza průměr 10 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       M6                                      T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20       M3                                      S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0       G0        X10       Y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0       G0                                   Z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50       G74      X60       Y15       Z-3       W2        F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60       G0        X25       Y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70       G74      X25       Y40       Z-2       W2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80       G0        X40       Y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90       G74      X25       Y70       Z-5       W2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0     G0                                   Z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10     G0        X0        Y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2-02T10:27:53Z</dcterms:modified>
  <cp:revision>16</cp:revision>
  <dc:subject/>
  <dc:title>Název DUMu</dc:title>
</cp:coreProperties>
</file>