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75C-3398-4389-B293-06B70A41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5B9-F0D2-401A-B1D6-344B6FC0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B7E-6581-4517-8145-97847D67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F8D-B232-4542-8560-275C1947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096-836E-4EA0-A36E-DC939D9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4CB-CF21-485A-BD3E-AC0166A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E9C-D9CB-4072-A0F0-474A053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9F7-7936-49E6-9BE4-6AD8AD5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51D-1FEE-41F8-A9AF-8797C8DF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3B-1C91-4660-90C0-C851360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275-AFC0-4106-A0EA-434BF74E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0F4-39DB-4497-8F03-A5AAB29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018-CB00-47BA-BD12-0CAB76703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ztažné body CNC str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042920" y="263700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ztažné body C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ztažné body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Vztažné body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1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graficky znázorňuje důležité body CNC stroje, popisuje jejich funkci a význam a vysvětluje vztahy mezi nimi. Ukazuje schematické značení těchto bodů, které se mohou vyskytovat v technické dokumenta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ztažné body CNC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341360"/>
            <a:ext cx="482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ozmístění vztažných bodů na CNC fréz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171880" y="4363920"/>
            <a:ext cx="5638680" cy="2133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171880" y="3754440"/>
            <a:ext cx="5638680" cy="380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3068640"/>
            <a:ext cx="1981080" cy="6858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848040" y="4821120"/>
            <a:ext cx="2057400" cy="121932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7124760" y="2230560"/>
            <a:ext cx="304920" cy="685800"/>
          </a:xfrm>
          <a:prstGeom prst="rect">
            <a:avLst/>
          </a:prstGeom>
          <a:noFill/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124760" y="2382840"/>
            <a:ext cx="304920" cy="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124400" y="2382840"/>
            <a:ext cx="152280" cy="228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124400" y="2459160"/>
            <a:ext cx="304920" cy="4572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53360" y="2763720"/>
            <a:ext cx="76320" cy="152640"/>
          </a:xfrm>
          <a:prstGeom prst="line">
            <a:avLst/>
          </a:prstGeom>
          <a:ln cap="sq"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972480" y="1849320"/>
            <a:ext cx="609480" cy="22860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972480" y="2077920"/>
            <a:ext cx="15228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429320" y="2077920"/>
            <a:ext cx="15228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48440" y="1696680"/>
            <a:ext cx="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05640" y="1696680"/>
            <a:ext cx="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048440" y="169704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6896160" y="1544760"/>
            <a:ext cx="762120" cy="1522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72480" y="1392120"/>
            <a:ext cx="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581960" y="1392120"/>
            <a:ext cx="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591240" y="1392120"/>
            <a:ext cx="129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72480" y="630360"/>
            <a:ext cx="75960" cy="761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429320" y="630360"/>
            <a:ext cx="152280" cy="761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277040" y="1011240"/>
            <a:ext cx="0" cy="228600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617400"/>
            <a:ext cx="38124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8"/>
                </a:moveTo>
                <a:cubicBezTo>
                  <a:pt x="36" y="4"/>
                  <a:pt x="72" y="0"/>
                  <a:pt x="96" y="8"/>
                </a:cubicBezTo>
                <a:cubicBezTo>
                  <a:pt x="120" y="16"/>
                  <a:pt x="120" y="56"/>
                  <a:pt x="144" y="56"/>
                </a:cubicBezTo>
                <a:cubicBezTo>
                  <a:pt x="168" y="56"/>
                  <a:pt x="204" y="32"/>
                  <a:pt x="240" y="8"/>
                </a:cubicBezTo>
              </a:path>
            </a:pathLst>
          </a:cu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1239840"/>
            <a:ext cx="304920" cy="304920"/>
          </a:xfrm>
          <a:prstGeom prst="flowChartOr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124760" y="4592520"/>
            <a:ext cx="304920" cy="304920"/>
          </a:xfrm>
          <a:prstGeom prst="flowChartOr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4516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7644240" y="900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305240" y="31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91200" y="5167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695760" y="2840040"/>
            <a:ext cx="457200" cy="457200"/>
          </a:xfrm>
          <a:prstGeom prst="donut">
            <a:avLst>
              <a:gd name="adj" fmla="val 26388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95400" y="306864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2839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619440" y="5811840"/>
            <a:ext cx="457200" cy="45720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19080" y="604044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848040" y="604044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679920" y="238284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062240" y="60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552760" y="3525840"/>
            <a:ext cx="457200" cy="45720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781360" y="352584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5888160"/>
            <a:ext cx="457200" cy="45720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2552760" y="611676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781360" y="588816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781360" y="398304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277040" y="3449520"/>
            <a:ext cx="0" cy="137160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233440" y="5472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2232000" y="306864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69228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pis jednotlivých bodů a jejich schématické zna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700280"/>
            <a:ext cx="7488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R – referenční bo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 slouží k synchronizaci měřícího systém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i zapnutí stroje je nutno nejdříve najet na referenční bo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boť teprve po nastavení tohoto bodu „řízení ví“, kde 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chází nástroj. Je pevně stanovený výrobc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M – nulový bod stroj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 je počátkem souřadného systému a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vně stanoven od výrobce stroje a zapsán v dok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oje. Leží na levé přední hraně horní plochy stolu. Ten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čátek s.s. můžeme programově posunout do námi zvolen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lo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W -  nulový bod obrobk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určuje a programuje ho programá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ři programování a obrábění je základním (výchozí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em (počátkem) souřadnicového osového systé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457200" cy="457200"/>
          </a:xfrm>
          <a:prstGeom prst="flowChartOr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997360"/>
            <a:ext cx="457200" cy="457200"/>
          </a:xfrm>
          <a:prstGeom prst="flowChartOr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750960" y="2921040"/>
            <a:ext cx="609480" cy="60948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055520" y="3378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1208160" y="322596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50600" y="322596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55520" y="2921040"/>
            <a:ext cx="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831960" y="4657680"/>
            <a:ext cx="457200" cy="457200"/>
          </a:xfrm>
          <a:prstGeom prst="flowChartOr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609480" cy="60984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289160" y="48862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55280" y="48862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060560" y="5114880"/>
            <a:ext cx="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0560" y="45050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692280"/>
            <a:ext cx="788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N – nulový bod nástroje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slouží jako počátek pro určová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élek nástrojů ( délkových korekcí nástrojů).  Leží na čel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ně  referenčního nástroje v jeho ose. Referenční ná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 součástí příslušenství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692280"/>
            <a:ext cx="457200" cy="457200"/>
          </a:xfrm>
          <a:prstGeom prst="flowChartOr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06864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ční bod ( R ) a nulový bod stroje ( M ) jsou pevně zadan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ýrobcem a udávají velikost pracovního prostoru stroje,  jso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oncovými body tělesové úhlopříč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508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125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řadnicový systém soustruhu je tvořen osami X a Z. Osa Z je totožná s osou vřetene stroje (tato definice platí pro všechny obráběcí stroje), osa X je kolmá na osu Z ve směru posuvu suportu. Počátek souřadného systému  bod M je dán průsečíkem os X a Z. Tento  tzv. nulový bod stroje leží na čele upínače obrobků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203720" cy="260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5229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loha špičky nástroje (bod P) v souřadném systému soustruhu je dána jednak polohou nulového bodu upínače nástrojů (bod T) a dále vzdáleností bodu P od bodu T tzv. korekcí nástroje. Velikost korekcí pro každý nástroj musí být odměřena a zapsána v tabulce nástroj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20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ozmístění vztažných bodů na soustru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54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olba nulového bodu obrobku na soustru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19700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nulový bod je volen programátorem nebo konstrukté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na NC soustruhu zadáváme nulový bod s určením polohy pou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 ose Z. Ose  X přisuzujeme nulovou hodn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205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1)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B leží na dosedací ploše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2)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B leží na čelní ploš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009800" y="2633760"/>
            <a:ext cx="0" cy="2133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009800" y="2633760"/>
            <a:ext cx="533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542960" y="263376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542960" y="293832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924200" y="293832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3243240"/>
            <a:ext cx="114300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09800" y="4767120"/>
            <a:ext cx="533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42960" y="446256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542960" y="446256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24200" y="415728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09800" y="339552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09800" y="400536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857160" y="3700440"/>
            <a:ext cx="221004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314360" y="3548160"/>
            <a:ext cx="304920" cy="30456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28464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467000" y="415764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467000" y="5148360"/>
            <a:ext cx="6858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7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5581800" y="2633760"/>
            <a:ext cx="0" cy="2133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5581800" y="2633760"/>
            <a:ext cx="533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114960" y="263376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6114960" y="293832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6496200" y="293832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5962680" y="3243240"/>
            <a:ext cx="121932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00560" y="3700440"/>
            <a:ext cx="243864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581800" y="4767120"/>
            <a:ext cx="533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114960" y="446256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6114960" y="446256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496200" y="415728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81800" y="3395520"/>
            <a:ext cx="380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581800" y="4081320"/>
            <a:ext cx="380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7029360" y="3548160"/>
            <a:ext cx="304920" cy="30456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7334280" y="324324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7182000" y="415764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72160" y="4843440"/>
            <a:ext cx="609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114960" y="48085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537372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ad1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šechny hodnoty Z js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ladné, čím větší je soustruže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élka L, tím menší je hodnota 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5300640"/>
            <a:ext cx="4462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ad2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všechny hodnoty Z jsou záporné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dnota Z se mění s délkou obrobk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éto poloze NB 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ává v praxi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řed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1:06Z</dcterms:modified>
  <cp:revision>24</cp:revision>
  <dc:subject/>
  <dc:title>Název DUMu</dc:title>
</cp:coreProperties>
</file>