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ADE23-5EAE-4452-9617-30063CEAA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7B16B-2D72-46F8-B96B-A9BEE22E1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DC03F-E4B9-4B3C-88CD-906D88055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33B96-1EF3-4E4A-B52A-62CBC967E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63A45-6A0A-4194-ABEC-BEA26F044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9D0A8-E368-4E36-AB9C-C1B9E474D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41613-61CB-4BCF-83FD-60624647F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BE22C-F844-402C-8265-B1739271D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18F00-8759-41F8-86CC-B80A59B3C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87A80-DBE5-4A0E-8CC6-83B0D2A36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9E3AD-BE14-46E1-BBE4-E5D70F7CE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0E263-5B10-4B1D-99D8-EDB4D121A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A13F-D41F-4B25-8262-F7E7C4A726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kapitulace – základní části CNC strojů</a:t>
            </a:r>
            <a:endParaRPr b="0" lang="en-US" sz="24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755640" y="2637000"/>
            <a:ext cx="770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Y_32_INOVACE_</a:t>
            </a:r>
            <a:r>
              <a:rPr b="1" lang="en-US" sz="1800" spc="-1" strike="noStrike">
                <a:solidFill>
                  <a:srgbClr val="000000"/>
                </a:solidFill>
                <a:latin typeface="Arial"/>
              </a:rPr>
              <a:t>278</a:t>
            </a:r>
            <a:r>
              <a:rPr b="1" lang="en-US" sz="1800" spc="-1" strike="noStrike">
                <a:solidFill>
                  <a:srgbClr val="000000"/>
                </a:solidFill>
                <a:latin typeface="Calibri"/>
              </a:rPr>
              <a:t>_</a:t>
            </a:r>
            <a:r>
              <a:rPr b="1" lang="en-US" sz="1800" spc="-1" strike="noStrike">
                <a:solidFill>
                  <a:srgbClr val="000000"/>
                </a:solidFill>
                <a:latin typeface="Arial"/>
              </a:rPr>
              <a:t>Rekapitulace – základní části CNC strojů</a:t>
            </a:r>
            <a:endParaRPr b="0" lang="en-US" sz="1800" spc="-1" strike="noStrike">
              <a:solidFill>
                <a:srgbClr val="000000"/>
              </a:solidFill>
              <a:latin typeface="Calibri"/>
            </a:endParaRPr>
          </a:p>
        </p:txBody>
      </p:sp>
      <p:sp>
        <p:nvSpPr>
          <p:cNvPr id="44" name="TextovéPole 5"/>
          <p:cNvSpPr/>
          <p:nvPr/>
        </p:nvSpPr>
        <p:spPr>
          <a:xfrm>
            <a:off x="6119640" y="55897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 </a:t>
            </a:r>
            <a:r>
              <a:rPr b="0" lang="en-US" sz="1800" spc="-1" strike="noStrike">
                <a:solidFill>
                  <a:srgbClr val="000000"/>
                </a:solidFill>
                <a:latin typeface="Arial"/>
              </a:rPr>
              <a:t>Jaroslav Valen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57200" y="1600200"/>
          <a:ext cx="8229600" cy="484488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kapitulace – základní části CNC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a:t>
                      </a:r>
                      <a:r>
                        <a:rPr b="0" lang="en-US" sz="1100" spc="-1" strike="noStrike">
                          <a:solidFill>
                            <a:srgbClr val="000000"/>
                          </a:solidFill>
                          <a:latin typeface="Arial"/>
                          <a:ea typeface="Calibri"/>
                        </a:rPr>
                        <a:t>278</a:t>
                      </a:r>
                      <a:r>
                        <a:rPr b="0" lang="en-US" sz="1100" spc="-1" strike="noStrike">
                          <a:solidFill>
                            <a:srgbClr val="000000"/>
                          </a:solidFill>
                          <a:latin typeface="Calibri"/>
                          <a:ea typeface="Calibri"/>
                        </a:rPr>
                        <a:t>_</a:t>
                      </a:r>
                      <a:r>
                        <a:rPr b="0" lang="en-US" sz="1100" spc="-1" strike="noStrike">
                          <a:solidFill>
                            <a:srgbClr val="000000"/>
                          </a:solidFill>
                          <a:latin typeface="Arial"/>
                          <a:ea typeface="Calibri"/>
                        </a:rPr>
                        <a:t>Rekapitulace – základní části CNC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onstrukce a vybavení CNC stroj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Jaroslav Valent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4.201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7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ato část prezentace shrnuje obecně vlastnosti strojů, vysvětluje a popisuje další termíny a význam jednotlivých prvk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476280"/>
            <a:ext cx="820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Verdana"/>
              </a:rPr>
              <a:t>Základní části číslicově řízených obráběcích strojů</a:t>
            </a:r>
            <a:endParaRPr b="0" lang="en-US" sz="1800" spc="-1" strike="noStrike">
              <a:solidFill>
                <a:srgbClr val="000000"/>
              </a:solidFill>
              <a:latin typeface="Calibri"/>
            </a:endParaRPr>
          </a:p>
        </p:txBody>
      </p:sp>
      <p:sp>
        <p:nvSpPr>
          <p:cNvPr id="48" name=""/>
          <p:cNvSpPr/>
          <p:nvPr/>
        </p:nvSpPr>
        <p:spPr>
          <a:xfrm>
            <a:off x="324000" y="1125360"/>
            <a:ext cx="8569080" cy="492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Pracovní režim</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Řídící systém nastavování – číslicové řízení, ve kterém je každý číslicově řízený pohyb vykonáván podle instrukcí, které určují jen následující fázovou polohu.</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Pravoúhlý řídící systém</a:t>
            </a:r>
            <a:r>
              <a:rPr b="1" lang="en-US" sz="1800" spc="-1" strike="noStrike">
                <a:solidFill>
                  <a:srgbClr val="000000"/>
                </a:solidFill>
                <a:latin typeface="Verdana"/>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Číslicové řízení, ve kterém je každý číslicově řízený pohyb vykonáván podle instrukcí, které určují jak následující žádanou polohu, tak žádanou velikost posuvu do této polohy. Pohyby řídící systém jednotlivých osách probíhají jen rovnoběžně s přímkovým, kruhovým nebo jiným vedením stroj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Souvislý řídící systém</a:t>
            </a:r>
            <a:r>
              <a:rPr b="1" lang="en-US" sz="1800" spc="-1" strike="noStrike">
                <a:solidFill>
                  <a:srgbClr val="000000"/>
                </a:solidFill>
                <a:latin typeface="Verdana"/>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Číslicové řízení, ve kterém dva nebo více číslicově řízených pohybů je vykonáváno podle instrukcí, které určují následující žádanou polohu a velikost posuvů do této polohy. Tyto velikosti posuvů se vzájemně mění tak, že je vytvořen požadovaný obrys</a:t>
            </a:r>
            <a:r>
              <a:rPr b="0" lang="en-US" sz="1800" spc="-1" strike="noStrike">
                <a:solidFill>
                  <a:srgbClr val="000000"/>
                </a:solidFill>
                <a:latin typeface="Aria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26028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Funkce stroje</a:t>
            </a:r>
            <a:endParaRPr b="0" lang="en-US" sz="1800" spc="-1" strike="noStrike">
              <a:solidFill>
                <a:srgbClr val="000000"/>
              </a:solidFill>
              <a:latin typeface="Calibri"/>
            </a:endParaRPr>
          </a:p>
        </p:txBody>
      </p:sp>
      <p:sp>
        <p:nvSpPr>
          <p:cNvPr id="50" name=""/>
          <p:cNvSpPr/>
          <p:nvPr/>
        </p:nvSpPr>
        <p:spPr>
          <a:xfrm>
            <a:off x="395280" y="712800"/>
            <a:ext cx="8353440" cy="62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řípravná funkc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mocná funkc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ástrojová funkc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vný cyklus</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dleva</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utomatický pracovní režim</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lok po bloku</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Vlastnosti stroj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uřadnicový systém stroj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čátek souřadnic stroj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čátek souřadnic obrobku</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čátek souřadnic nástroj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ulový bod stroj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ferenční bod</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 descr=""/>
          <p:cNvPicPr/>
          <p:nvPr/>
        </p:nvPicPr>
        <p:blipFill>
          <a:blip r:embed="rId1"/>
          <a:stretch/>
        </p:blipFill>
        <p:spPr>
          <a:xfrm>
            <a:off x="5867280" y="2133720"/>
            <a:ext cx="1447920" cy="186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01480" y="981000"/>
            <a:ext cx="864252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Nastavování polohy a odměřován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solutní snímač polohy</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řírůstkový snímač polohy</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unutí počátku odměřován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hyblivá nula</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rekce nástroj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rekce délky nástroj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rekce poloměru nástroj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zpečná vzdálenost</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mpenzace poloměru nebo průměru nástroje</a:t>
            </a:r>
            <a:endParaRPr b="0" lang="en-US" sz="1800" spc="-1" strike="noStrike">
              <a:solidFill>
                <a:srgbClr val="000000"/>
              </a:solidFill>
              <a:latin typeface="Calibri"/>
            </a:endParaRPr>
          </a:p>
        </p:txBody>
      </p:sp>
      <p:pic>
        <p:nvPicPr>
          <p:cNvPr id="53" name="" descr=""/>
          <p:cNvPicPr/>
          <p:nvPr/>
        </p:nvPicPr>
        <p:blipFill>
          <a:blip r:embed="rId1"/>
          <a:stretch/>
        </p:blipFill>
        <p:spPr>
          <a:xfrm>
            <a:off x="5867280" y="2708280"/>
            <a:ext cx="1447920" cy="186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620640"/>
            <a:ext cx="820728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Programován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lok</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up</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Řídící program</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ční příkaz</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dprogram</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ram obrobku</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ram pro obráběn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ční programování obrobku</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ramování obrobku pomocí počítač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solutní programován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řírůstkové programování</a:t>
            </a:r>
            <a:endParaRPr b="0" lang="en-US" sz="1800" spc="-1" strike="noStrike">
              <a:solidFill>
                <a:srgbClr val="000000"/>
              </a:solidFill>
              <a:latin typeface="Calibri"/>
            </a:endParaRPr>
          </a:p>
        </p:txBody>
      </p:sp>
      <p:pic>
        <p:nvPicPr>
          <p:cNvPr id="55" name="" descr=""/>
          <p:cNvPicPr/>
          <p:nvPr/>
        </p:nvPicPr>
        <p:blipFill>
          <a:blip r:embed="rId1"/>
          <a:stretch/>
        </p:blipFill>
        <p:spPr>
          <a:xfrm>
            <a:off x="5724360" y="981000"/>
            <a:ext cx="1447920" cy="18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54936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Verdana"/>
              </a:rPr>
              <a:t>O CNC strojích obecně</a:t>
            </a:r>
            <a:endParaRPr b="0" lang="en-US" sz="1800" spc="-1" strike="noStrike">
              <a:solidFill>
                <a:srgbClr val="000000"/>
              </a:solidFill>
              <a:latin typeface="Calibri"/>
            </a:endParaRPr>
          </a:p>
        </p:txBody>
      </p:sp>
      <p:sp>
        <p:nvSpPr>
          <p:cNvPr id="57" name=""/>
          <p:cNvSpPr/>
          <p:nvPr/>
        </p:nvSpPr>
        <p:spPr>
          <a:xfrm>
            <a:off x="395280" y="1341360"/>
            <a:ext cx="8424720" cy="492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Úloha CNC strojů ve strojírenstv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nstrukce obráběcích strojů je do značné míry závislá na subdodávce z široké oblasti dalších průmyslových oborů (elektronický a elektrotechnický průmysl, kontrolní a měřící technika, výpočetní technika), ale i zde platí to, co bylo uvedeno výše. Tím nabývá konstrukce výrobních strojů a zejména obráběcích strojů stále více na významu.</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f497d"/>
                </a:solidFill>
                <a:uFillTx/>
                <a:latin typeface="Verdana"/>
              </a:rPr>
              <a:t>Vymezení pojmu CNC obráběcí stroj a obráběcí  centrum</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Číslicovým řízením rozumíme v širším slova smyslu činnost číslicového počítače pro řízení pohybu nástroje nebo obrobku definovanou rychlost po dané trajektorii prostoru nebo rovině.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NC obráběcí stroj,je tedy obráběcí stroj,  který je numericky řízen a konstrukčně uzpůsoben tak, aby pracoval v automatickém cyklu a měl pokud možno automatickou výměnu nástrojů</a:t>
            </a:r>
            <a:r>
              <a:rPr b="0" lang="en-US" sz="1800" spc="-1" strike="noStrike">
                <a:solidFill>
                  <a:srgbClr val="000000"/>
                </a:solidFill>
                <a:latin typeface="Verdana"/>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692280"/>
            <a:ext cx="8424720" cy="567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1f497d"/>
                </a:solidFill>
                <a:uFillTx/>
                <a:latin typeface="Verdana"/>
              </a:rPr>
              <a:t>Číslicově řízený obráběcí stroj má většinou šest hlavních</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1f497d"/>
                </a:solidFill>
                <a:uFillTx/>
                <a:latin typeface="Verdana"/>
              </a:rPr>
              <a:t>pracovních celků.</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Polohování nástroje ( obrobku )</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Vřeteno s vřeteníkem</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Zásobník a výměník nástrojů</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Zásobní (výměník ) obrobků</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Přívody média ( chladící kapaliny, řezné oleje )</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Ochranné kryty</a:t>
            </a:r>
            <a:endParaRPr b="0" lang="en-US" sz="1800" spc="-1" strike="noStrike">
              <a:solidFill>
                <a:srgbClr val="000000"/>
              </a:solidFill>
              <a:latin typeface="Calibri"/>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Verdana"/>
              </a:rPr>
              <a:t>Číslicové řízením počítačem (CNC) je realizace NC používající</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Verdana"/>
              </a:rPr>
              <a:t>počítač k řízení funkcí stroje – ČSN EN ISO 2806. </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Verdana"/>
              </a:rPr>
              <a:t>Jak z uvedeného plyne, je nutné rozlišovat dva základní pojmy :</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Verdana"/>
              </a:rPr>
              <a:t>číslicové (numerické) řízení a CNC (NC) řídící systém</a:t>
            </a:r>
            <a:endParaRPr b="0" lang="en-US" sz="1800" spc="-1" strike="noStrike">
              <a:solidFill>
                <a:srgbClr val="000000"/>
              </a:solidFill>
              <a:latin typeface="Calibri"/>
            </a:endParaRPr>
          </a:p>
          <a:p>
            <a:pPr marL="343080" indent="-343080">
              <a:lnSpc>
                <a:spcPct val="100000"/>
              </a:lnSpc>
              <a:spcBef>
                <a:spcPts val="112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000000"/>
                </a:solidFill>
                <a:uFillTx/>
                <a:latin typeface="Verdana"/>
              </a:rPr>
              <a:t>Použitá literatura:</a:t>
            </a:r>
            <a:r>
              <a:rPr b="0" lang="cs-CZ" sz="4400" spc="-1" strike="noStrike">
                <a:solidFill>
                  <a:srgbClr val="000000"/>
                </a:solidFill>
                <a:latin typeface="Calibri"/>
              </a:rPr>
              <a:t> </a:t>
            </a:r>
            <a:r>
              <a:rPr b="0" lang="cs-CZ" sz="1600" spc="-1" strike="noStrike">
                <a:solidFill>
                  <a:srgbClr val="000000"/>
                </a:solidFill>
                <a:latin typeface="Verdana"/>
              </a:rPr>
              <a:t>Konstrukce CNC obráběcích strojů – Marek a kol. ISBN 978-80-254-7980-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13-10-24T18:20:40Z</dcterms:modified>
  <cp:revision>17</cp:revision>
  <dc:subject/>
  <dc:title>Název DUMu</dc:title>
</cp:coreProperties>
</file>