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AB9-B880-4898-A8CC-5215179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BD6-B8D5-496C-AF7D-84CE429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95B-442A-48FF-BA14-47A2B0F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6E3-7A2F-41A6-ACC9-6BAB45D2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D5D-38B2-43F3-B341-3CE337D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DA8-29C8-44DC-8D75-A1871928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9E2-2444-4B88-80B7-06B6C0B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400-FEB6-417C-BC6A-CE00B96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B0E-CAA9-4B5C-9FDD-15734FA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FC1-F660-4AA7-AAF7-ED96030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F66-8195-4C21-8E13-1D0BCA7F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6AE-D1C1-450A-9CB0-D054E1C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E24-7974-44AF-A942-61858E944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zpečnost práce na obráběcích stroj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826920" y="263700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9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zpečnost práce na obráběcích stroj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ečnost práce na obráběcích stroj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zpečnost práce na obráběcích stroj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é listy jasně ukazují důležitost dodržování bezpečnosti při práci na kovoobráběcích strojích.Žáci jsou zde seznámeni s normami BP a se základními pravidly na dílnác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7628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Základní zásady bezpečnosti práce při obrábění kov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268280"/>
            <a:ext cx="8675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Základní povinnosti zaměstna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městnavatel je povin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kazatelně seznámit každého pracovníka s              ČSN 20 07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pečnostní požadavky pro obráběcí stroje na kovy“, dále s návodem výrob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obsluze a údržbě stroje a zejména se všemi riziky, které z prováděné čin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daném typu stroje vyplývaj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městnavatel je povin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ajistit, aby žádný stroj nebo zařízení neobsluh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ovník, jemuž obsluha nepřísluší z titulu přikázané práce. Zaměstnava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ovídá za to, že je zařízení používáno jen k činnostem, pro které je výrobc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čeno, a že je po celou dobu používání bezpečn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městnavatel zodpovíd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a bezchybnou funkci bezpečnostních a ochranný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řízení obráběcích strojů a kontroluje zaměstnance, zda je v plném rozsa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ívají a nevyřazují je svévolně z činnosti. Vyřazení těchto zařízení z činnosti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važným porušením bezpečnostních předpisů a pracovní kázně ze str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ěstnanc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125360"/>
            <a:ext cx="84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městnavatel snižuj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ezpečí zachycení zaměstnance pohybujícími se část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je přidělením správného pracovního ustrojení, tj. nepoškozeným pracov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ekem (pracovní kalhoty a pracovní blůza nebo pracovní kombinéza). Je zakázáno používat pracovní plášť nebo zástě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městnavatel je povin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dělit zaměstnanci správnou obuv. Kožená pracovní obuv podstatně snižuje nebezpečí proříznutí podrážky třískami, pořezání chodidla a prstů nohy. Není dovoleno pracovat v lehké plátěné obuvi nebo otevřených sandálec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ajistit zaměstna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 zplodinám uvolňovaným pracovním zařízením v procesu obrábění (odsávání), proti hlučnosti, vytvořit mu ergonomicky přijatelné podmínky na pracovišti, zejména prostorovou dostatečnost, teplo a vyhovující osvětl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620640"/>
            <a:ext cx="8964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Základní povinnosti zaměstnanc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Odložit prstýn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řetízky,náramkové hodinky, vázanky, šály apod., neboť zvyšu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ezpečí zachycení rotujícími částmi stroje. Proti zachycení vlasů se musí obslu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ánit čepicí nebo správně uvázaným šátk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řed zahájení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áce na stroji je obsluha povinna prohlédnout stroj, zkontrol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ho jednotlivé částí, zejména ochranná, spouštěcí a vypínací zařízení, očis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mazat nekryté vodící ploc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Ověři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da ovládací páky jsou ve správných polohách;odemknout hlav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pínač,správně nastavit řezné parame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Ověři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da na funkčních částech stroje neleží nějaké předmě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řekontrolov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kci upínacího zařízení obrobku; uložit použité nářad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vol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ávný nástroj, zkontrolovat jeho opotřebení a správné upnutí; nasta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řekontrolovat funkci chlazení ná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o upnut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eriálu nastavit vždy ochranná zařízení do činné polohy, pokud n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jich aktivace řešena výrobcem stroje automatic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U číslicov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řízených strojů překontrolovat základní funkce podle dodané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ovacího programu, zkontrolovat běh stroje naprázdno, vymezit výchozí polo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stroje na obrobku pro započetí obrábě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83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řekontrolov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sobník nástrojů a průběh jejich výměny podle požadované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ického postupu a zadaného progra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Zkontrolova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stavit a funkčně připravit přídavné roboty a manipulát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rové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pis do záznamníku provozu, kontroly a údržby stroje; pokud nevede  tyto záznamníky mistr nebo údržb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Základní zásady bezpečnosti práce při obsluze obráběcích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Na základ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říkazu zaměstnavatele obsluhovat pouze určená bezpečná zaříz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Dodržov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ovený technologický postup, včetně bezpečnostních zásad v ně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ažený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oužív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řidělené OOPP, být správně ustrojen, mít zakryté vlasy a obráb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 rukavi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Ochrann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zabezpečovací zařízení svévolně nevyřazovat z funkce nebo odstraň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Vešker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ýměny nástrojů, polotovarů obrobků, měření, údržbu, mazání, čistění ruč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luhovaného stroje provádět jen za klidu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49360"/>
            <a:ext cx="8964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Vždy pracov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ostrými, správně upevněnými nástroji a obrobky za před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ovených a nastavených řezných podmín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Dodržov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tanovení ČSN 20 0700 a návody výrobce k obsluze a údržbě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oužív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ipulační zařízení předepsaným bezpečným způsob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Dodržov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omické zásady, pořádek a prostorovou dostatečnost na pracoviš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olotov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ladovat a manipulovat s nimi bezpečným způsob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Vešker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jištěná nebezpečí a vzniklé závady hlásit přímému nadřízené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Používání OO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ěstnavatel je povinen na základě vyhodnocení rizik prováděných činností a riz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oužívaných zařízení přidělit bezplatně zaměstnanci všechny nezbytné osobní ochrann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ovní prostřed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technologie obrábění se jedná zejména o vhodný pracovní oděv, boty, rukavi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ranné brýle nebo ochranný štít,chrániče sluchu, pro ochranu pokožky proti chemikáli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chladících a řezných kapalin ochranné ma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ěstnavatel je dále povinen přidělit zaměstnanci pracovní pomůc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odstraňování třísek, zbytků odstříknuvších chladících kapalin, maziv a dalš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žádoucích médií vznikajících při obrábě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tah z ČSN 20 07 00 - Bezpečnostní předpisy pro kovoobráběcí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8:40Z</dcterms:modified>
  <cp:revision>12</cp:revision>
  <dc:subject/>
  <dc:title>Název DUMu</dc:title>
</cp:coreProperties>
</file>