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3FA-3D1A-471B-9BD6-75A05B3C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EDD-5CE2-4E81-8D7B-9EB1669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3B9-18F1-4D59-8FC6-491B5338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710-D2A6-47FF-B73E-3F42C587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DC9-E69A-408C-A288-111712F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80E-CCDB-4CA1-9923-4B8D416C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002-412D-498E-9001-03334CA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F85-080E-4E88-A402-3E71F251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423-D7C3-447D-A97D-7F2793D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B25-3DD0-476C-A676-573625A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7BD-6A08-4BDE-8EA1-D36BCE3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30B-56C2-42CA-AFA9-8B27353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7B0-253A-4745-9C04-385A0BCF5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a odměřování na CNC stroj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826920" y="263700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ěření a odměřování na CNC stroj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9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11120" y="1557360"/>
            <a:ext cx="873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aždá osa číslicově řízeného stroje potřebuje vlastní odměřova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ařízení, které hlásí regulátoru polohy okamžitou skutečnou polohu supor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Přímé měření dráhy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– odměřuje se dráha ujetá přímo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Nepřímé měření dráhy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– usuzuje se ujetá dráha z úhlu natočení s     ohledem na stoupání vodícího šroub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 většiny strojů se provádí měření dráhy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fotoelektronic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větlo vycházející ze zdroje je usměrněno kondenzorovou čočk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a rovnoběžné světelné paprsky a prosvěcuje skleněné měřítko s čárovým rastr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692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ystémy odměřová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44920" y="446256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644920" y="453384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644920" y="460692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4920" y="4390920"/>
            <a:ext cx="374472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078000" y="439092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797280" y="439092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3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444920" y="439092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5165640" y="439092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813280" y="4390920"/>
            <a:ext cx="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078000" y="4102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444920" y="4102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077640" y="41022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444920" y="41022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813280" y="4102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741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950000" y="3741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644920" y="467820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644920" y="474984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644920" y="482292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644920" y="489420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2644920" y="4967280"/>
            <a:ext cx="374472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573280" y="532620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644920" y="3814920"/>
            <a:ext cx="3817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573280" y="3814920"/>
            <a:ext cx="71640" cy="502920"/>
          </a:xfrm>
          <a:custGeom>
            <a:avLst/>
            <a:gdLst/>
            <a:ahLst/>
            <a:rect l="l" t="t" r="r" b="b"/>
            <a:pathLst>
              <a:path w="52" h="317">
                <a:moveTo>
                  <a:pt x="45" y="0"/>
                </a:moveTo>
                <a:cubicBezTo>
                  <a:pt x="22" y="49"/>
                  <a:pt x="0" y="98"/>
                  <a:pt x="0" y="136"/>
                </a:cubicBezTo>
                <a:cubicBezTo>
                  <a:pt x="0" y="174"/>
                  <a:pt x="38" y="197"/>
                  <a:pt x="45" y="227"/>
                </a:cubicBezTo>
                <a:cubicBezTo>
                  <a:pt x="52" y="257"/>
                  <a:pt x="45" y="302"/>
                  <a:pt x="45" y="3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562120" y="4967280"/>
            <a:ext cx="82800" cy="358920"/>
          </a:xfrm>
          <a:custGeom>
            <a:avLst/>
            <a:gdLst/>
            <a:ahLst/>
            <a:rect l="l" t="t" r="r" b="b"/>
            <a:pathLst>
              <a:path w="52" h="181">
                <a:moveTo>
                  <a:pt x="52" y="0"/>
                </a:moveTo>
                <a:cubicBezTo>
                  <a:pt x="33" y="30"/>
                  <a:pt x="14" y="61"/>
                  <a:pt x="7" y="91"/>
                </a:cubicBezTo>
                <a:cubicBezTo>
                  <a:pt x="0" y="121"/>
                  <a:pt x="3" y="151"/>
                  <a:pt x="7" y="18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44920" y="43178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"/>
          <p:cNvCxnSpPr/>
          <p:nvPr/>
        </p:nvCxnSpPr>
        <p:spPr>
          <a:xfrm rot="5400000">
            <a:off x="6174000" y="4029480"/>
            <a:ext cx="503640" cy="73800"/>
          </a:xfrm>
          <a:prstGeom prst="curvedConnector5">
            <a:avLst>
              <a:gd name="adj1" fmla="val 49785"/>
              <a:gd name="adj2" fmla="val 50000"/>
              <a:gd name="adj3" fmla="val 49785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389640" y="431784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389640" y="5038560"/>
            <a:ext cx="1800" cy="287640"/>
          </a:xfrm>
          <a:custGeom>
            <a:avLst/>
            <a:gdLst/>
            <a:ahLst/>
            <a:rect l="l" t="t" r="r" b="b"/>
            <a:pathLst>
              <a:path w="1" h="181">
                <a:moveTo>
                  <a:pt x="0" y="0"/>
                </a:moveTo>
                <a:cubicBezTo>
                  <a:pt x="0" y="34"/>
                  <a:pt x="0" y="68"/>
                  <a:pt x="0" y="91"/>
                </a:cubicBezTo>
                <a:cubicBezTo>
                  <a:pt x="0" y="114"/>
                  <a:pt x="0" y="121"/>
                  <a:pt x="0" y="136"/>
                </a:cubicBezTo>
                <a:cubicBezTo>
                  <a:pt x="0" y="151"/>
                  <a:pt x="0" y="174"/>
                  <a:pt x="0" y="18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717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2789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2862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2933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005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078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9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22092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294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365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43692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510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654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726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797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3870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941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013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086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4157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229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302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4373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44492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518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4589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4662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34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805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4878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950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5021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5094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5165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5237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5310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381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545292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5526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5597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567072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5742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813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886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595800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029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6102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17364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24528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6318360" y="4678200"/>
            <a:ext cx="0" cy="2890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500280" y="3089160"/>
            <a:ext cx="304920" cy="6858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3500280" y="3241800"/>
            <a:ext cx="304920" cy="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500280" y="3241800"/>
            <a:ext cx="152640" cy="2286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99920" y="3317760"/>
            <a:ext cx="304920" cy="4572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28880" y="3622680"/>
            <a:ext cx="76320" cy="152280"/>
          </a:xfrm>
          <a:prstGeom prst="line">
            <a:avLst/>
          </a:prstGeom>
          <a:ln cap="sq"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708280"/>
            <a:ext cx="609480" cy="2286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293688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04840" y="293688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424320" y="2555640"/>
            <a:ext cx="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81520" y="2555640"/>
            <a:ext cx="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424320" y="255600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71680" y="2403360"/>
            <a:ext cx="762120" cy="152640"/>
          </a:xfrm>
          <a:prstGeom prst="rect">
            <a:avLst/>
          </a:prstGeom>
          <a:noFill/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48000" y="225072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57480" y="225072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348000" y="1488600"/>
            <a:ext cx="7632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04840" y="1488600"/>
            <a:ext cx="15228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52920" y="1941120"/>
            <a:ext cx="0" cy="1871640"/>
          </a:xfrm>
          <a:prstGeom prst="line">
            <a:avLst/>
          </a:prstGeom>
          <a:ln w="6480">
            <a:solidFill>
              <a:srgbClr val="080808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424320" y="147636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8"/>
                </a:moveTo>
                <a:cubicBezTo>
                  <a:pt x="36" y="4"/>
                  <a:pt x="72" y="0"/>
                  <a:pt x="96" y="8"/>
                </a:cubicBezTo>
                <a:cubicBezTo>
                  <a:pt x="120" y="16"/>
                  <a:pt x="120" y="56"/>
                  <a:pt x="144" y="56"/>
                </a:cubicBezTo>
                <a:cubicBezTo>
                  <a:pt x="168" y="56"/>
                  <a:pt x="204" y="32"/>
                  <a:pt x="240" y="8"/>
                </a:cubicBezTo>
              </a:path>
            </a:pathLst>
          </a:custGeom>
          <a:noFill/>
          <a:ln cap="sq"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3089160"/>
            <a:ext cx="304920" cy="6858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4653000" y="3241800"/>
            <a:ext cx="304920" cy="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52640" y="3241800"/>
            <a:ext cx="152280" cy="2286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52640" y="3317760"/>
            <a:ext cx="304920" cy="457200"/>
          </a:xfrm>
          <a:prstGeom prst="line">
            <a:avLst/>
          </a:prstGeom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881600" y="3622680"/>
            <a:ext cx="76320" cy="152280"/>
          </a:xfrm>
          <a:prstGeom prst="line">
            <a:avLst/>
          </a:prstGeom>
          <a:ln cap="sq"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2708280"/>
            <a:ext cx="609480" cy="228600"/>
          </a:xfrm>
          <a:prstGeom prst="rect">
            <a:avLst/>
          </a:prstGeom>
          <a:noFill/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929120" y="3484440"/>
            <a:ext cx="152640" cy="15264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57560" y="2936880"/>
            <a:ext cx="15228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6680" y="2555640"/>
            <a:ext cx="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3880" y="2555640"/>
            <a:ext cx="0" cy="152280"/>
          </a:xfrm>
          <a:prstGeom prst="line">
            <a:avLst/>
          </a:prstGeom>
          <a:ln cap="sq"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4576680" y="255600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0" y="2403360"/>
            <a:ext cx="762120" cy="152640"/>
          </a:xfrm>
          <a:prstGeom prst="rect">
            <a:avLst/>
          </a:prstGeom>
          <a:noFill/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500720" y="225072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110200" y="2250720"/>
            <a:ext cx="0" cy="15228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500720" y="1488600"/>
            <a:ext cx="7596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957560" y="1488600"/>
            <a:ext cx="152280" cy="762120"/>
          </a:xfrm>
          <a:prstGeom prst="line">
            <a:avLst/>
          </a:prstGeom>
          <a:ln cap="sq"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05280" y="1869840"/>
            <a:ext cx="0" cy="1871640"/>
          </a:xfrm>
          <a:prstGeom prst="line">
            <a:avLst/>
          </a:prstGeom>
          <a:ln w="6480">
            <a:solidFill>
              <a:srgbClr val="080808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576680" y="1476360"/>
            <a:ext cx="38124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8"/>
                </a:moveTo>
                <a:cubicBezTo>
                  <a:pt x="36" y="4"/>
                  <a:pt x="72" y="0"/>
                  <a:pt x="96" y="8"/>
                </a:cubicBezTo>
                <a:cubicBezTo>
                  <a:pt x="120" y="16"/>
                  <a:pt x="120" y="56"/>
                  <a:pt x="144" y="56"/>
                </a:cubicBezTo>
                <a:cubicBezTo>
                  <a:pt x="168" y="56"/>
                  <a:pt x="204" y="32"/>
                  <a:pt x="240" y="8"/>
                </a:cubicBezTo>
              </a:path>
            </a:pathLst>
          </a:custGeom>
          <a:noFill/>
          <a:ln cap="sq"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868560" y="338148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430200" y="54936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Přímý, inkrementální systém odměřování dráhy s referenčními značkami s kódovanou vzdálen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551664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 inkrementálních systémů s referenčními značkami s kódovanou vzdáleností je možno získat absolutní polohu vždy po 20mm, to znamená přejetí dvou referenčních znač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08720" y="98100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54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Odměřování dráhy na CNC stroj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125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cizní dělení - základ vysoké přes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rdcem snímačů HEIDENHAIN je jeho standardní měřítko, obvykle ve formě dělení s typickou šířkou rysky od 0.25 µm do 10 µm. Tato přesná dělení jsou vyráběna procesem, vyvinutým HEIDENHAIN (např. DIADUR, nebo AURODUR) a jsou rozhodujícím faktorem funkčnosti a přesnosti snímačů. Dělení jsou složena z rysek a mezer s definovaným intervalem s velmi malou úchylkou. Tím jsou vytvořeny struktury s přesnou definicí hran. Takováto dělení jsou odolná vůči mechanickým a chemickým vlivům i vibracím a otřesům. mají také definované chování při změně teploty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79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ystémy odměřování dráhy od firmy HEIDEN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427640" y="551664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6028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Fázové mřížky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eciální výrobní proces umožňuje vyrábět trojrozměrné dělící struktury, které mají zvláštní optické charakteristiky. Šířka těchto struktur je v rozsahu od několika mikronů až po čtvrt mikronu.                                                                                        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Supradur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ělení, vyrobená procesem SUPRADUR, pracují opticky jako trojrozměrné fázové mřížky, ale na rozdíl od nich mají planární strukturu a jsou proto odolnější vůči znečištění.                                                                                      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Magnodur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nké magnetické vrstvy v mikronových tloušťkách jsou uspořádány pro velmi jemná magnetická dělení.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                                                                                           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Diadur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Přesná dělení DIADUR jsou složena z extrémě tenkých vrstev chromu na substrátu - obvykle ze skla, nebo sklokeramiky. Přesnost těchto dělících struktur je v oblasti mikronů a submikronů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 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Aurodur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ělení AURODUR je založeno na vysoce reflexivních zlatých ryskách a matných mezerách. Dělení AURODUR je obvykle na nosičích z oceli.                                                                                                                     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Metallur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ělení METALLUR má díky svému zvláštnímu optickému složení z reflexních zlatých vrstev téměř planární strukturu. Tím jsou zvláště necitlivé vůči znečištění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Digitální odměřování"/>
          <p:cNvPicPr/>
          <p:nvPr/>
        </p:nvPicPr>
        <p:blipFill>
          <a:blip r:embed="rId1"/>
          <a:stretch/>
        </p:blipFill>
        <p:spPr>
          <a:xfrm>
            <a:off x="468360" y="2997360"/>
            <a:ext cx="2857320" cy="2228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Měřící lišta KA-300, 5um, 970mm"/>
          <p:cNvPicPr/>
          <p:nvPr/>
        </p:nvPicPr>
        <p:blipFill>
          <a:blip r:embed="rId2"/>
          <a:srcRect l="0" t="16367" r="0" b="0"/>
          <a:stretch/>
        </p:blipFill>
        <p:spPr>
          <a:xfrm>
            <a:off x="611280" y="5381640"/>
            <a:ext cx="7286400" cy="14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203640" y="692280"/>
            <a:ext cx="5753160" cy="2200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98920" y="40464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Magnetický lineární snímač polo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7893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Lineární optická pravítka pro snímání poloh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55640" y="54936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47628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Magnetické lineární snímače MLS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nto systém spojuje výhody magnetických lineárních snímačů a dále jejich plnou ochranu před okolním prostředí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ém je zapouzdřený v hliníkovým profilu, s vlastním vedením čtecí hlavy, který je na vrchu chráněn 2 řadami manž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 tohoto systému tak nedochází k odlepování magnetického pásku působením např. řezných kapalin, zanášení povrchu ocelovými třískami apo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gnetické snímače jsou vyráběny v požadovaných délkác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gnetické snímače mají krytí IP65 (vodotěsné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hodné i na obráběcí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4005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Charakteristika optického odměřo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gitální indikace řady SDS6 využívají 16 bitovou SCM technologii a nahrazují původní řadu indikací SDS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kace nově umožňují mimo jiné i nelineární korekci snímačů (až 40 bodů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kace je možné použít pro vysoce přesné strojní zařízení, např. vyvrtávačky, brusky a dále frézky, soustruhy a vyjiskřovací 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a text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ěření a odměřování na CNC stroj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ěření a odměřování na CNC stroj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popisuje možnosti měření na CNC strojích, dále potom způsoby odměřování dráhy a zobrazuje možnosti nových metod odměřování i měřen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700280"/>
            <a:ext cx="8424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1- Měření během pracovního proc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jjednodušší způsob zjišťování měřené hodnoty je způsob měření při přerušení programu. Jestli-že je ve větě funkce M0- programový stop, zastaví se stroj na dobu, než se zadá z ovládacího panelu příkaz k dalšímu obrábění. Mezi tím může být obrobek změřen. Jestli-že se blíží rozměr obrobku jednomu ze zadaných mezních rozměrů, provede se ruční změna korekční hodnoty nástroje tak, aby rozměr dalšího obrobku (operace), byl správn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765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Měření na CNC ctroj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484280"/>
            <a:ext cx="8280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2 – Automatické měř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vádí se naprogramovanými </a:t>
            </a: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měřícími cykl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Do vřetene se upne měřící sonda, která má dotyk zakončen rubínovou kuličkou, vysoce odolnou proti opotřebení. V okamžiku kdy se kulička dotkne obrobku, vyšle sonda signál do řídícího systému. Řídící systém vyhodnotí s přesností na 1/1000mm okamžitou polohu dotyku. Z několika „dotyků“ řídící systém vypočítá příslušný rozměr a porovná s uloženými tolerancemi. Při dosažení mezního rozměru provede systém automaticky změnu nástrojové korek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508640"/>
            <a:ext cx="14479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476600" cy="476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11640" y="5661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gramovatelný pětiosý měřicí 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981160" cy="4762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22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ístroj Checkmaster pro kompletní 3D kontrolu geometrických paramet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RMP40M a LP2"/>
          <p:cNvPicPr/>
          <p:nvPr/>
        </p:nvPicPr>
        <p:blipFill>
          <a:blip r:embed="rId1"/>
          <a:stretch/>
        </p:blipFill>
        <p:spPr>
          <a:xfrm>
            <a:off x="5508720" y="3645000"/>
            <a:ext cx="294480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76360" y="4492800"/>
          <a:ext cx="5356080" cy="2365200"/>
        </p:xfrm>
        <a:graphic>
          <a:graphicData uri="http://schemas.openxmlformats.org/drawingml/2006/table">
            <a:tbl>
              <a:tblPr/>
              <a:tblGrid>
                <a:gridCol w="1616040"/>
                <a:gridCol w="2124000"/>
                <a:gridCol w="1616040"/>
              </a:tblGrid>
              <a:tr h="23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4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 </a:t>
                      </a:r>
                      <a:endParaRPr b="0" lang="en-US" sz="9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4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4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 </a:t>
                      </a:r>
                      <a:endParaRPr b="0" lang="en-US" sz="1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4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a7200"/>
                          </a:solidFill>
                          <a:latin typeface="Calibri"/>
                        </a:rPr>
                        <a:t> </a:t>
                      </a: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LP2"/>
          <p:cNvPicPr/>
          <p:nvPr/>
        </p:nvPicPr>
        <p:blipFill>
          <a:blip r:embed="rId2"/>
          <a:stretch/>
        </p:blipFill>
        <p:spPr>
          <a:xfrm>
            <a:off x="611280" y="3933720"/>
            <a:ext cx="792000" cy="208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LP2H"/>
          <p:cNvPicPr/>
          <p:nvPr/>
        </p:nvPicPr>
        <p:blipFill>
          <a:blip r:embed="rId3"/>
          <a:stretch/>
        </p:blipFill>
        <p:spPr>
          <a:xfrm rot="20442600">
            <a:off x="2484000" y="4365360"/>
            <a:ext cx="1076400" cy="230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LP2DD"/>
          <p:cNvPicPr/>
          <p:nvPr/>
        </p:nvPicPr>
        <p:blipFill>
          <a:blip r:embed="rId4"/>
          <a:stretch/>
        </p:blipFill>
        <p:spPr>
          <a:xfrm>
            <a:off x="3851280" y="3284640"/>
            <a:ext cx="936720" cy="216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4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P2 jsou standardní dotekové sondy pro soustruh. Jejich malá těla ji činí vhodnými pro měření prvků obrobku s omezeným přístup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92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ndy pro soustruhy mohou být použity pro optické, indukční a pevně připojené systémy. Optický přenos je nejvhodnější pro renovaci strojů nebo volitelnou montáž. Sondy LP2, LP2H a LP2DD mohou být použity pro optické, indukční a pevně připojené systémy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89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Měření obrobků na soustru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oteková sonda OLP40"/>
          <p:cNvPicPr/>
          <p:nvPr/>
        </p:nvPicPr>
        <p:blipFill>
          <a:blip r:embed="rId1"/>
          <a:stretch/>
        </p:blipFill>
        <p:spPr>
          <a:xfrm>
            <a:off x="2411280" y="3860640"/>
            <a:ext cx="247680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Tenzometrická sonda MP250"/>
          <p:cNvPicPr/>
          <p:nvPr/>
        </p:nvPicPr>
        <p:blipFill>
          <a:blip r:embed="rId2"/>
          <a:stretch/>
        </p:blipFill>
        <p:spPr>
          <a:xfrm>
            <a:off x="539640" y="3645000"/>
            <a:ext cx="1582920" cy="259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HPRA"/>
          <p:cNvPicPr/>
          <p:nvPr/>
        </p:nvPicPr>
        <p:blipFill>
          <a:blip r:embed="rId3"/>
          <a:stretch/>
        </p:blipFill>
        <p:spPr>
          <a:xfrm>
            <a:off x="6588000" y="4797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HPPA"/>
          <p:cNvPicPr/>
          <p:nvPr/>
        </p:nvPicPr>
        <p:blipFill>
          <a:blip r:embed="rId4"/>
          <a:stretch/>
        </p:blipFill>
        <p:spPr>
          <a:xfrm>
            <a:off x="4859280" y="292428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052640"/>
            <a:ext cx="874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Opakovatelnost 1 µ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Kompatibilní s celou řadou doteků Renishaw M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Standardní montáž HP ramena pro ustavování nástrojů (HP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Flexibilita – dostupná sada OEM pro OEM instal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Velký přejezd 9° – zvyšuje trvanlivost son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Vlastnosti a výhody těchto s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4764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Měření obrobků na obráběcích centr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83664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rávným ustavováním nástrojů a detekce jejich poškození bez nutnosti dohledu obsluhy, zachováte kvalitu produktů a celého průběhu obrábě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MP700E"/>
          <p:cNvPicPr/>
          <p:nvPr/>
        </p:nvPicPr>
        <p:blipFill>
          <a:blip r:embed="rId1"/>
          <a:stretch/>
        </p:blipFill>
        <p:spPr>
          <a:xfrm>
            <a:off x="324000" y="2997360"/>
            <a:ext cx="214632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OMP40M s LP2"/>
          <p:cNvPicPr/>
          <p:nvPr/>
        </p:nvPicPr>
        <p:blipFill>
          <a:blip r:embed="rId2"/>
          <a:stretch/>
        </p:blipFill>
        <p:spPr>
          <a:xfrm>
            <a:off x="179280" y="4724280"/>
            <a:ext cx="25196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OMI-2T"/>
          <p:cNvPicPr/>
          <p:nvPr/>
        </p:nvPicPr>
        <p:blipFill>
          <a:blip r:embed="rId3"/>
          <a:stretch/>
        </p:blipFill>
        <p:spPr>
          <a:xfrm>
            <a:off x="6156360" y="170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OMM-2 s OSI"/>
          <p:cNvPicPr/>
          <p:nvPr/>
        </p:nvPicPr>
        <p:blipFill>
          <a:blip r:embed="rId4"/>
          <a:stretch/>
        </p:blipFill>
        <p:spPr>
          <a:xfrm>
            <a:off x="6516720" y="2997360"/>
            <a:ext cx="2449440" cy="13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RMP600"/>
          <p:cNvPicPr/>
          <p:nvPr/>
        </p:nvPicPr>
        <p:blipFill>
          <a:blip r:embed="rId5"/>
          <a:stretch/>
        </p:blipFill>
        <p:spPr>
          <a:xfrm>
            <a:off x="6227640" y="472428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771640" y="1916280"/>
            <a:ext cx="3114720" cy="476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206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ledovací a měřicí hl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60972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6000" y="4005360"/>
            <a:ext cx="309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Elektronický kalibr Marposs M1 Wave měří s přesností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0,5 µ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0"/>
            <a:ext cx="48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zkontaktní laserové měření drsnos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404640"/>
            <a:ext cx="385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matický systém měření tvaru a polo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2:41Z</dcterms:modified>
  <cp:revision>27</cp:revision>
  <dc:subject/>
  <dc:title>Název DUMu</dc:title>
</cp:coreProperties>
</file>