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9BD1-C110-46F4-A6A2-C60F10D0E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80FC-85CF-4D87-8E20-CB89CD88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F2A3-47CC-46D9-818E-A5F3A650A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1D6C-C3E6-46AC-A8A5-33C92FE84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3896-827A-4C49-ABFD-C3BE0333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9BF7-D842-44C4-AD32-EAD33E8D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185D-0685-4B94-99AB-A17D3B91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9208-FCB9-40EE-B64C-219C50F5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8F6F-0DCE-423B-AC2F-6D773B20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C810-4A88-4FC0-88A4-70EE8272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F441-14D0-40B5-8092-621D2AB2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1F21-C54F-4869-8E5F-4CAF9A60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0929-139D-4E9E-B2AE-28C7EAA8CF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ybavení řídících systém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1187280" y="2708280"/>
            <a:ext cx="69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Y_32_INOVACE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6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ybavení řídících systém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5761080" y="558972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roslav Valen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84488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ybavení řídících systém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63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_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ybavení řídících systém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chanik seřizova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nstrukce a vybavení CNC stroj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roslav Valen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10.201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7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ýukový materiál dává nahlédnout žákům do oblasti vybavenosti řídících systémů a uvádí možnosti dalšího rozšíření těchto obvodů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476280"/>
            <a:ext cx="871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Vybavení  řídících  systém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413000"/>
            <a:ext cx="835344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ro zvýšení efektivnosti, usnadnění obsluhy a programování, by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řídící systémy rozšířeny o další obvody. Úroveň ř.s. pak často posuzujeme podle rozsahu tohoto vybavení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f497d"/>
                </a:solidFill>
                <a:uFillTx/>
                <a:latin typeface="Verdana"/>
              </a:rPr>
              <a:t>Zpomalovací bo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V těchto bodech dochází postupně ke snižování rychlosti posuvu. Rychloposuv-posuv-mikroposuv. Zpomalovací body jsou pro dosažení přesné polohy nástroje vzhledem k obrobku. Celá fáze zpomalování probíhá na stroji automaticky a není ji nutno programova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f497d"/>
                </a:solidFill>
                <a:uFillTx/>
                <a:latin typeface="Verdana"/>
              </a:rPr>
              <a:t>Indikace poloh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Dráha stolu snímaná odměřovacím ústrojím se vyjadřuje číslicovým způsobem na panelu stroje i řídícím systému. Je to výhodné pří seřizování polohy obrobku, při kontrole, odlaďování programu apo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907920"/>
            <a:ext cx="842472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f497d"/>
                </a:solidFill>
                <a:uFillTx/>
                <a:latin typeface="Verdana"/>
              </a:rPr>
              <a:t>Hlídání přejezdu a zpevňování suport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řejezdy a odtlačování stolů mají za následek změnu požadovaného rozměru obrobk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Zpevňování polohy je rovněž nutné, když se vřeteníky a suport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ohybují po svislém vedení kuličkovým šroubem, který není samosvorn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lídání přejezdu má ten význam, že když dojde v poloze pracovního stolu k odchylce větší než je přípustná, přeruší se pracovní cyklus. Velikost přípustné odchylky se nastavuje na přepínači pro jednotlivé os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f497d"/>
                </a:solidFill>
                <a:uFillTx/>
                <a:latin typeface="Verdana"/>
              </a:rPr>
              <a:t>Zrcadle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snadňuje programování při obrábění souměrných součástí. Program se sestaví pro polovinu nebo čtvrtinu součásti tak, aby osa nebo počátek souřadného systému byly středem souměrnosti. Vhodnou G funkcí se určí způsob zrcadlení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451640" y="0"/>
            <a:ext cx="14479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311040"/>
            <a:ext cx="864252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f497d"/>
                </a:solidFill>
                <a:uFillTx/>
                <a:latin typeface="Verdana"/>
              </a:rPr>
              <a:t>Pevné cyk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Často je zapotřebí vrtat, vyhrubovat, řezat závit apod. u stejných otvorů, které se liší jen polohou, popř. by k obrobení dané části obrobku bylo zapotřebí značný počet vět program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ro tyto případy jsou řídící systémy vybaveny obvody, které umožňují několik pevných cyklů. Cyklus je tedy součást sowtvarového vybavení CNC systému. Cykly se vyvolávají pomocí vymezených G funkcí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Cyklus je stanovený jeden blok v programu, ve kterém za jednotlivé adresy dosadí programátor konkrétní čísla pro danou součás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f497d"/>
                </a:solidFill>
                <a:uFillTx/>
                <a:latin typeface="Verdana"/>
              </a:rPr>
              <a:t>Posouvání počát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Umožňuje snazší seřizování polohy obrobku na stroji. Při seřizování jde o to, dostat obrobek do takové polohy, aby jeho souřadnice vyjádřené v programu, odpovídaly souřadnicím na stroj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Seřizování se uskutečňuje na zvolený vztažný bod nebo rovinu obrobku. Posouvání počátku, nebo také stanovení lokálního souřadnicového systému, zabezpečují přípravné G funkce 50 - 5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476280"/>
            <a:ext cx="86421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f497d"/>
                </a:solidFill>
                <a:uFillTx/>
                <a:latin typeface="Verdana"/>
              </a:rPr>
              <a:t>Korekce průměru a délky nástroj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Rozdílnost typů a tvarů nástrojů, jejich vyložení, způsob upnutí a umístění na některé z nástrojových hlav způsobuje, že prakticky nelze nástroje seřadit tak, aby se ztotožnil jejich charakteristický b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(špička nože, vrtáku, frézy apod.) s odměřovaným nulovým bodem. Obvykle vzniká větší či menší odchylka v jednom nebo ve dvou směrech (osách) v kladném nebo záporném smyslu, která vyjadřuje konkrétními číselnými hodnotami, jak se liší skutečná poloha nástroje od nulového bodu. Toto číselné vyjádření odchylky nazýváme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seřizovacími konstantami.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rogramátor musí tedy počítat při tvorbě řídícího programu s těmito konstantami a zahrnout je do určení výsledných souřadnic každého úsek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Korekce nástr. umožňují korigovat dráhu nástroje, tj. odstranit nepřesnosti vzniklé opotřebením ostří, potřebou nastavit nástroj s velkou přesností apod. Dále k ustavení špičky všech nástrojů do tzv. nuly. To nám umožňuje sestavit programy bez ohledu na vyložení upnutých nástroj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Dráha nástrojů je potom programována tak, jako by se pracovalo s jedním nástroje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Použitá literatura: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lastní tex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3-10-24T08:39:27Z</dcterms:modified>
  <cp:revision>13</cp:revision>
  <dc:subject/>
  <dc:title>Název DUMu</dc:title>
</cp:coreProperties>
</file>