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1E8-310A-4877-A2A3-23B52FFE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100-C7F1-4B1B-9B06-423F6610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6FC2-FEE3-448E-B08C-9916B8B5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6F62-13D2-410C-B591-77F9FADC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5BC-A98C-4C65-8625-F043BE0B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5AE-1485-471F-8FB4-57FB87A3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073-CA26-4696-AFEC-18D0C9A4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9C0-53DA-4010-8DC6-437631F6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23D-0802-42FD-BD32-C360711C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F69-D8D2-4DDD-8CE3-828A2255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49C-BE04-4294-912B-7B0FDA34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02B-CC93-45D1-A3F9-F6B77606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23F1-259C-4EDB-920C-86583DB4B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ědomostní test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ědomostní tes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ědomostní test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ědomostní test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2.20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ědomostní test ověřuje znalosti žáků dané problematik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01480" y="907920"/>
            <a:ext cx="8642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Pravoúhlý souřadný systém 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) stanoven podle buzoly určením světových str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) na sebe kolmé vedení pohybů nástroje na obráběcím stro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) stanoven programátorem při sestavení CNC kó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2. Řídícím systémem u NC strojů 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) systém sloužící ke zpracování NC kódů a řízení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) systém k řízení nástroj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) systém sloužící k řízení obrob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3.  Nárůstek při obrábění se tvoří 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) obrob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) držáku ná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) nástro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4) Nulový bod obrobku je při zapnutí stroje shodný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) nulovým bodem stroj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) nulovým bodem nástroj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) je umístěn podle velikosti upnutého obrob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333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Testové otázky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– vyber vždy jednu správnou odpově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32720" y="328464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549360"/>
            <a:ext cx="8893080" cy="56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     </a:t>
            </a: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5. Úhel čela na nástroji se označují písmen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) al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) be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) g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         </a:t>
            </a: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6. Frézou se nazýv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) obráběcí stro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) obráběcí nástroj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) nic z uvedené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                 </a:t>
            </a: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7. NC je systém jehož děje jsou říze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) vkládáním určené dráhy nástroj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) vkládáním číslicových úda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) vkládáním písemných kód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                           </a:t>
            </a: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8. Nulový bod nástroje se nacház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) na čelní straně nástroje – na špičce bři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) na čelní straně nástroje v jeho 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) na čelní straně upínače v jeho o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87640" y="476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Vyhodnocení testu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712800"/>
            <a:ext cx="806436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-  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   -   a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   -   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   -   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   -   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   -  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   -   b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 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Klasifikace testu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Bez chyby výborn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edna chyba chvalitebn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vě chyby dobr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ři chyby dostatečn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Čtyři a více chyb nedostatečn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astní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08:46:28Z</dcterms:modified>
  <cp:revision>22</cp:revision>
  <dc:subject/>
  <dc:title>Název DUMu</dc:title>
</cp:coreProperties>
</file>