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A1D-C481-4DF2-A78B-0FF82E18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714-F9FF-4150-979D-B84F834B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384-B793-456F-AF7C-E74538EB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788-D9D6-4696-AFD2-AA4F76C5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291-D279-4215-8AC7-615644E3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A59-7B2A-49EE-9FD8-354F5944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D84-DA75-4CA7-A3D6-186819D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4F8-EE5E-4AF1-B363-0A99EF26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967-05B2-4848-A662-B15D4CF0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A8E-AAD3-4ADE-80ED-6F5BDCBE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D87-EE29-40B1-83DE-C71DD58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EC8-E6E7-4B5C-AA3C-CBB4017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F3EE-BC19-4D21-B82A-0E4DE1CD7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deo ukázky obráb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619280" y="263700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ukázky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eo ukázky obrábě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ideo ukázky obrábě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2.20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Účelem video ukázky je přiblížit žákům nejnovější technologie v oblasti číslicového řízení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836640"/>
            <a:ext cx="86425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ideo ukázky umožňují náhled na možnosti obrábění na číslicově řízených strojích při výrobě tvarově náročných součástí, výrobě forem a elektrod pro elektroerozivní obrábě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kazují způsoby automatické výměny nástrojů, obrobků, způsoby kompenzace tepla a měření obrobků a nástroj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333360"/>
            <a:ext cx="53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Video ukáz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76720" y="3068640"/>
            <a:ext cx="4257720" cy="3629160"/>
            <a:chOff x="3276720" y="3068640"/>
            <a:chExt cx="4257720" cy="3629160"/>
          </a:xfrm>
        </p:grpSpPr>
        <p:sp>
          <p:nvSpPr>
            <p:cNvPr id="50" name="Gear"/>
            <p:cNvSpPr/>
            <p:nvPr/>
          </p:nvSpPr>
          <p:spPr>
            <a:xfrm>
              <a:off x="5637240" y="306864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76720" y="375444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48040" y="448812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52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Zástupný symbol pro text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1956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lastní text, reklamní ukázky firmy Maz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47:26Z</dcterms:modified>
  <cp:revision>11</cp:revision>
  <dc:subject/>
  <dc:title>Název DUMu</dc:title>
</cp:coreProperties>
</file>