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0C11-7A48-40F4-A367-9C23C114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5572-FB7F-44B1-ADA9-8FC66EAD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BA5-4881-492D-A4B0-CE12E222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859F-A3B9-4B9A-80C9-5D2F5C06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9609-CBFA-478C-8576-F8A4D66A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F0DC-4309-4A08-BAE4-B08D46CD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EEC-3307-4C97-8B91-5DCB1ADA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C1BB-6ECC-44CA-BF68-591A144B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4963-7675-4AEB-8DD1-4A9142EE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E627-9FDB-420C-91DE-699A3963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D912-A812-44F0-B2D2-7DC472BA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1CC-65EF-49D3-9852-C875B878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4AB4-96EC-43F3-AB7F-3FBA4FD6D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ruhy ří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2195640" y="2637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hy říz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940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aroslav Val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Použitá literatura: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lastní obrázky, Technologie zpracování kovů 2 autor Pragač ISB 80-901657-2-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503856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uhy říz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ruhy říz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trukce a vybavení CNC stroj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1.201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ýukové listy popisují možnosti řízení z hlediska dispozice os. Obrázky jasně vysvětlují druhy řízení a možnosti stroje při obrábění.Je popsána funkce interpolátor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134136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Cílem řízení technologického procesu obrábění je dosažení požadovaného geometrického tvaru obrobku v požadované rozměrové přesnosti a drsnosti obrobených ploch při optimálních řezných podmínkách. Způsob jakým se dosahuje geometrického tvaru součásti obráběním, je strategie řízení řezného proces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Na základě vybavení řídících systémů CNC softwarem a hardwarem rozlišujeme různé druhy řízen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cs-CZ" sz="1800" spc="-1" strike="noStrike">
                <a:solidFill>
                  <a:srgbClr val="0000ff"/>
                </a:solidFill>
                <a:latin typeface="Verdana"/>
              </a:rPr>
              <a:t>-  stavění souřadnic ( polohování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Verdana"/>
              </a:rPr>
              <a:t>        </a:t>
            </a:r>
            <a:r>
              <a:rPr b="1" lang="cs-CZ" sz="1800" spc="-1" strike="noStrike">
                <a:solidFill>
                  <a:srgbClr val="0000ff"/>
                </a:solidFill>
                <a:latin typeface="Verdana"/>
              </a:rPr>
              <a:t>-  pravoúhlé říz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Verdana"/>
              </a:rPr>
              <a:t>        </a:t>
            </a:r>
            <a:r>
              <a:rPr b="1" lang="cs-CZ" sz="1800" spc="-1" strike="noStrike">
                <a:solidFill>
                  <a:srgbClr val="0000ff"/>
                </a:solidFill>
                <a:latin typeface="Verdana"/>
              </a:rPr>
              <a:t>-  souvislé říz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Dalším hlediskem rozdělení je druh použitého odměřování, způsob programování, druh polohové zpětné vazby apo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2411280" y="62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Druhy řízení CNC systém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76200" y="692280"/>
            <a:ext cx="876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Systémy stavění souřadnic –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sou nejstarším řízením, které nemělo mikroprocesor pro lineární ani kruhovou interpolac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ástroj se pohybuje rychloposuvem na požadovaný bod, přičem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ezáleží na vykonané dráze. (použití – vrtací a vyvrtávací stroj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3286080"/>
            <a:ext cx="863640" cy="28728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3573360"/>
            <a:ext cx="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3429000"/>
            <a:ext cx="0" cy="2890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2266920" y="3429000"/>
            <a:ext cx="0" cy="2890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3718080"/>
            <a:ext cx="863640" cy="144360"/>
          </a:xfrm>
          <a:custGeom>
            <a:avLst/>
            <a:gdLst/>
            <a:ahLst/>
            <a:rect l="l" t="t" r="r" b="b"/>
            <a:pathLst>
              <a:path w="544" h="91">
                <a:moveTo>
                  <a:pt x="0" y="0"/>
                </a:moveTo>
                <a:cubicBezTo>
                  <a:pt x="22" y="15"/>
                  <a:pt x="45" y="30"/>
                  <a:pt x="90" y="45"/>
                </a:cubicBezTo>
                <a:cubicBezTo>
                  <a:pt x="135" y="60"/>
                  <a:pt x="212" y="91"/>
                  <a:pt x="272" y="91"/>
                </a:cubicBezTo>
                <a:cubicBezTo>
                  <a:pt x="332" y="91"/>
                  <a:pt x="408" y="60"/>
                  <a:pt x="453" y="45"/>
                </a:cubicBezTo>
                <a:cubicBezTo>
                  <a:pt x="498" y="30"/>
                  <a:pt x="529" y="7"/>
                  <a:pt x="544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3429000"/>
            <a:ext cx="1224000" cy="0"/>
          </a:xfrm>
          <a:prstGeom prst="line">
            <a:avLst/>
          </a:prstGeom>
          <a:ln w="9360">
            <a:solidFill>
              <a:srgbClr val="080808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3429000"/>
            <a:ext cx="0" cy="1944720"/>
          </a:xfrm>
          <a:prstGeom prst="line">
            <a:avLst/>
          </a:prstGeom>
          <a:ln w="9360">
            <a:solidFill>
              <a:srgbClr val="080808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619280" y="3213000"/>
            <a:ext cx="431640" cy="43200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1474920" y="3789360"/>
            <a:ext cx="0" cy="647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2193840" y="3789360"/>
            <a:ext cx="0" cy="5047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1546200" y="3789360"/>
            <a:ext cx="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474560" y="3789360"/>
            <a:ext cx="142920" cy="2160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474560" y="4294080"/>
            <a:ext cx="360360" cy="5032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2193840" y="3862440"/>
            <a:ext cx="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474560" y="4365720"/>
            <a:ext cx="431640" cy="647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1474920" y="5013360"/>
            <a:ext cx="360360" cy="2160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835280" y="5086080"/>
            <a:ext cx="358560" cy="1429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1474920" y="4930920"/>
            <a:ext cx="360360" cy="82440"/>
          </a:xfrm>
          <a:custGeom>
            <a:avLst/>
            <a:gdLst/>
            <a:ahLst/>
            <a:rect l="l" t="t" r="r" b="b"/>
            <a:pathLst>
              <a:path w="227" h="52">
                <a:moveTo>
                  <a:pt x="0" y="52"/>
                </a:moveTo>
                <a:cubicBezTo>
                  <a:pt x="26" y="33"/>
                  <a:pt x="53" y="14"/>
                  <a:pt x="91" y="7"/>
                </a:cubicBezTo>
                <a:cubicBezTo>
                  <a:pt x="129" y="0"/>
                  <a:pt x="178" y="3"/>
                  <a:pt x="227" y="7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1762200" y="4941720"/>
            <a:ext cx="73080" cy="287640"/>
          </a:xfrm>
          <a:custGeom>
            <a:avLst/>
            <a:gdLst/>
            <a:ahLst/>
            <a:rect l="l" t="t" r="r" b="b"/>
            <a:pathLst>
              <a:path w="46" h="181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1"/>
                  <a:pt x="46" y="181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835280" y="4654440"/>
            <a:ext cx="215640" cy="2872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050920" y="4293720"/>
            <a:ext cx="142920" cy="3603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2193840" y="5086440"/>
            <a:ext cx="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193840" y="4725720"/>
            <a:ext cx="0" cy="3603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122560" y="4436640"/>
            <a:ext cx="71280" cy="2890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35280" y="3789360"/>
            <a:ext cx="215640" cy="5047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906560" y="3789000"/>
            <a:ext cx="287280" cy="5763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4437000"/>
            <a:ext cx="71280" cy="2890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4797360"/>
            <a:ext cx="0" cy="2160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4067280" y="2638440"/>
            <a:ext cx="863640" cy="28728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4067280" y="2925720"/>
            <a:ext cx="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4067280" y="2781360"/>
            <a:ext cx="0" cy="2887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4930920" y="2781360"/>
            <a:ext cx="0" cy="2887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067280" y="3070080"/>
            <a:ext cx="863640" cy="144720"/>
          </a:xfrm>
          <a:custGeom>
            <a:avLst/>
            <a:gdLst/>
            <a:ahLst/>
            <a:rect l="l" t="t" r="r" b="b"/>
            <a:pathLst>
              <a:path w="544" h="91">
                <a:moveTo>
                  <a:pt x="0" y="0"/>
                </a:moveTo>
                <a:cubicBezTo>
                  <a:pt x="22" y="15"/>
                  <a:pt x="45" y="30"/>
                  <a:pt x="90" y="45"/>
                </a:cubicBezTo>
                <a:cubicBezTo>
                  <a:pt x="135" y="60"/>
                  <a:pt x="212" y="91"/>
                  <a:pt x="272" y="91"/>
                </a:cubicBezTo>
                <a:cubicBezTo>
                  <a:pt x="332" y="91"/>
                  <a:pt x="408" y="60"/>
                  <a:pt x="453" y="45"/>
                </a:cubicBezTo>
                <a:cubicBezTo>
                  <a:pt x="498" y="30"/>
                  <a:pt x="529" y="7"/>
                  <a:pt x="544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922560" y="2781360"/>
            <a:ext cx="1224000" cy="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498920" y="2781360"/>
            <a:ext cx="0" cy="1944720"/>
          </a:xfrm>
          <a:prstGeom prst="line">
            <a:avLst/>
          </a:prstGeom>
          <a:ln w="9360">
            <a:solidFill>
              <a:srgbClr val="080808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284720" y="2565360"/>
            <a:ext cx="431640" cy="43200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138560" y="3141720"/>
            <a:ext cx="0" cy="647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4857840" y="3141720"/>
            <a:ext cx="0" cy="5047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210200" y="3141720"/>
            <a:ext cx="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138200" y="3141720"/>
            <a:ext cx="142920" cy="2160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138200" y="3646440"/>
            <a:ext cx="360360" cy="5032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4857840" y="3214800"/>
            <a:ext cx="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138560" y="3718080"/>
            <a:ext cx="432000" cy="647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4138560" y="4365720"/>
            <a:ext cx="360360" cy="215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498920" y="4438800"/>
            <a:ext cx="358920" cy="142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4138560" y="4282920"/>
            <a:ext cx="360360" cy="82800"/>
          </a:xfrm>
          <a:custGeom>
            <a:avLst/>
            <a:gdLst/>
            <a:ahLst/>
            <a:rect l="l" t="t" r="r" b="b"/>
            <a:pathLst>
              <a:path w="227" h="52">
                <a:moveTo>
                  <a:pt x="0" y="52"/>
                </a:moveTo>
                <a:cubicBezTo>
                  <a:pt x="26" y="33"/>
                  <a:pt x="53" y="14"/>
                  <a:pt x="91" y="7"/>
                </a:cubicBezTo>
                <a:cubicBezTo>
                  <a:pt x="129" y="0"/>
                  <a:pt x="178" y="3"/>
                  <a:pt x="227" y="7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4425840" y="4294080"/>
            <a:ext cx="73080" cy="287280"/>
          </a:xfrm>
          <a:custGeom>
            <a:avLst/>
            <a:gdLst/>
            <a:ahLst/>
            <a:rect l="l" t="t" r="r" b="b"/>
            <a:pathLst>
              <a:path w="46" h="181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1"/>
                  <a:pt x="46" y="181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98920" y="4006800"/>
            <a:ext cx="216000" cy="2872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714920" y="3646080"/>
            <a:ext cx="142920" cy="3603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4857840" y="4438800"/>
            <a:ext cx="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857840" y="4078080"/>
            <a:ext cx="0" cy="3603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785840" y="3789000"/>
            <a:ext cx="71640" cy="2890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98920" y="3141720"/>
            <a:ext cx="216000" cy="5047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570560" y="3141360"/>
            <a:ext cx="287280" cy="5763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3789360"/>
            <a:ext cx="71640" cy="2890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4138560" y="4149720"/>
            <a:ext cx="0" cy="2160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22200" y="6093000"/>
            <a:ext cx="5473800" cy="504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5372280"/>
            <a:ext cx="841320" cy="28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619280" y="5229360"/>
            <a:ext cx="431640" cy="576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22200" y="4508280"/>
            <a:ext cx="115272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400536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796000" y="4005000"/>
            <a:ext cx="93492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400536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6000" y="4508280"/>
            <a:ext cx="934920" cy="20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6730920" y="4005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4067280" y="4797360"/>
            <a:ext cx="842760" cy="287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49402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282920" y="465264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322200" y="6093000"/>
            <a:ext cx="1152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22200" y="4581000"/>
            <a:ext cx="0" cy="151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22200" y="5229000"/>
            <a:ext cx="64944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322200" y="4365720"/>
            <a:ext cx="27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114560" y="61135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540360" y="486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835280" y="2852640"/>
            <a:ext cx="0" cy="50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500720" y="2133720"/>
            <a:ext cx="0" cy="4334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5229360"/>
            <a:ext cx="216036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195640" y="4436640"/>
            <a:ext cx="1368360" cy="57636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195640" y="4147920"/>
            <a:ext cx="360360" cy="57780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 rot="1755600">
            <a:off x="2014200" y="4434840"/>
            <a:ext cx="1571400" cy="186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32891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328918"/>
              </a:path>
            </a:pathLst>
          </a:custGeom>
          <a:noFill/>
          <a:ln w="936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732720" y="1989000"/>
            <a:ext cx="1447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511440" y="3913200"/>
            <a:ext cx="647640" cy="28728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3511440" y="4056120"/>
            <a:ext cx="0" cy="6490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4159080" y="4056120"/>
            <a:ext cx="0" cy="6490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 rot="9265800">
            <a:off x="3203280" y="3481200"/>
            <a:ext cx="1120320" cy="1345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6" y="273"/>
                </a:moveTo>
                <a:arcTo wR="10800" hR="10800" stAng="-6174851" swAng="4212980"/>
                <a:lnTo>
                  <a:pt x="10800" y="10800"/>
                </a:lnTo>
                <a:close/>
              </a:path>
              <a:path fill="none" w="21600" h="21600">
                <a:moveTo>
                  <a:pt x="8386" y="273"/>
                </a:moveTo>
                <a:arcTo wR="10800" hR="10800" stAng="-6174851" swAng="4212980"/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511440" y="4200480"/>
            <a:ext cx="358920" cy="5047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654360" y="4128840"/>
            <a:ext cx="432000" cy="64764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941640" y="4489560"/>
            <a:ext cx="217440" cy="28872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511440" y="4128840"/>
            <a:ext cx="71640" cy="14292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933280" y="4705200"/>
            <a:ext cx="576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933640" y="47048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933640" y="4344480"/>
            <a:ext cx="576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990360" y="4705200"/>
            <a:ext cx="19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990360" y="5065560"/>
            <a:ext cx="19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990720" y="47048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990720" y="4057200"/>
            <a:ext cx="1439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30000" y="50655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630360" y="5281560"/>
            <a:ext cx="26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630360" y="52815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630360" y="5641920"/>
            <a:ext cx="26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294000" y="4778280"/>
            <a:ext cx="72072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3294000" y="52815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294000" y="4777920"/>
            <a:ext cx="122400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/>
          <p:nvPr/>
        </p:nvSpPr>
        <p:spPr>
          <a:xfrm>
            <a:off x="2430360" y="405756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157640" y="44179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4157640" y="44179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4518000" y="44179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30000" y="4489560"/>
            <a:ext cx="863640" cy="3603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30360" y="4057200"/>
            <a:ext cx="0" cy="792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630360" y="4849920"/>
            <a:ext cx="1008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1062000" y="4202280"/>
            <a:ext cx="3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1566720" y="46544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5240160" y="477684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6319800" y="4776840"/>
            <a:ext cx="0" cy="144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239800" y="621828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5167440" y="54975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6319800" y="499284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7399440" y="49928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6319800" y="600084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7399440" y="506556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7399440" y="59292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>
            <a:off x="8191440" y="506556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5033880" y="4776840"/>
            <a:ext cx="681120" cy="1450800"/>
          </a:xfrm>
          <a:custGeom>
            <a:avLst/>
            <a:gdLst/>
            <a:ahLst/>
            <a:rect l="l" t="t" r="r" b="b"/>
            <a:pathLst>
              <a:path w="429" h="914">
                <a:moveTo>
                  <a:pt x="130" y="0"/>
                </a:moveTo>
                <a:cubicBezTo>
                  <a:pt x="115" y="120"/>
                  <a:pt x="73" y="250"/>
                  <a:pt x="143" y="360"/>
                </a:cubicBezTo>
                <a:cubicBezTo>
                  <a:pt x="150" y="425"/>
                  <a:pt x="145" y="493"/>
                  <a:pt x="165" y="555"/>
                </a:cubicBezTo>
                <a:cubicBezTo>
                  <a:pt x="170" y="569"/>
                  <a:pt x="195" y="562"/>
                  <a:pt x="209" y="566"/>
                </a:cubicBezTo>
                <a:cubicBezTo>
                  <a:pt x="231" y="573"/>
                  <a:pt x="274" y="588"/>
                  <a:pt x="274" y="588"/>
                </a:cubicBezTo>
                <a:cubicBezTo>
                  <a:pt x="142" y="632"/>
                  <a:pt x="429" y="540"/>
                  <a:pt x="13" y="610"/>
                </a:cubicBezTo>
                <a:cubicBezTo>
                  <a:pt x="0" y="612"/>
                  <a:pt x="33" y="630"/>
                  <a:pt x="46" y="632"/>
                </a:cubicBezTo>
                <a:cubicBezTo>
                  <a:pt x="96" y="641"/>
                  <a:pt x="147" y="639"/>
                  <a:pt x="198" y="642"/>
                </a:cubicBezTo>
                <a:cubicBezTo>
                  <a:pt x="287" y="673"/>
                  <a:pt x="132" y="674"/>
                  <a:pt x="122" y="675"/>
                </a:cubicBezTo>
                <a:cubicBezTo>
                  <a:pt x="86" y="729"/>
                  <a:pt x="103" y="686"/>
                  <a:pt x="111" y="751"/>
                </a:cubicBezTo>
                <a:cubicBezTo>
                  <a:pt x="130" y="910"/>
                  <a:pt x="88" y="856"/>
                  <a:pt x="143" y="9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6319800" y="4222800"/>
            <a:ext cx="7920" cy="504720"/>
          </a:xfrm>
          <a:prstGeom prst="line">
            <a:avLst/>
          </a:prstGeom>
          <a:ln cap="sq"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319800" y="4079520"/>
            <a:ext cx="800280" cy="676440"/>
          </a:xfrm>
          <a:prstGeom prst="line">
            <a:avLst/>
          </a:prstGeom>
          <a:ln cap="sq"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319800" y="3841920"/>
            <a:ext cx="457200" cy="380880"/>
          </a:xfrm>
          <a:prstGeom prst="line">
            <a:avLst/>
          </a:prstGeom>
          <a:ln cap="sq"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6777000" y="3841920"/>
            <a:ext cx="0" cy="533160"/>
          </a:xfrm>
          <a:prstGeom prst="line">
            <a:avLst/>
          </a:prstGeom>
          <a:ln cap="sq"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6472080" y="4222800"/>
            <a:ext cx="152640" cy="152280"/>
          </a:xfrm>
          <a:prstGeom prst="ellipse">
            <a:avLst/>
          </a:prstGeom>
          <a:solidFill>
            <a:srgbClr val="080808"/>
          </a:solidFill>
          <a:ln cap="sq"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400800" y="3503160"/>
            <a:ext cx="0" cy="647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7120080" y="3431880"/>
            <a:ext cx="0" cy="647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432240"/>
            <a:ext cx="719280" cy="71280"/>
          </a:xfrm>
          <a:custGeom>
            <a:avLst/>
            <a:gdLst/>
            <a:ahLst/>
            <a:rect l="l" t="t" r="r" b="b"/>
            <a:pathLst>
              <a:path w="453" h="45">
                <a:moveTo>
                  <a:pt x="0" y="45"/>
                </a:moveTo>
                <a:lnTo>
                  <a:pt x="136" y="0"/>
                </a:lnTo>
                <a:lnTo>
                  <a:pt x="317" y="0"/>
                </a:lnTo>
                <a:cubicBezTo>
                  <a:pt x="336" y="4"/>
                  <a:pt x="375" y="12"/>
                  <a:pt x="375" y="12"/>
                </a:cubicBezTo>
                <a:lnTo>
                  <a:pt x="453" y="0"/>
                </a:lnTo>
              </a:path>
            </a:pathLst>
          </a:custGeom>
          <a:noFill/>
          <a:ln w="1260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191440" y="4489560"/>
            <a:ext cx="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8191440" y="5497560"/>
            <a:ext cx="792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472160" y="4992840"/>
            <a:ext cx="64764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391080" y="4921200"/>
            <a:ext cx="108108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7472520" y="4921200"/>
            <a:ext cx="0" cy="7164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391440" y="4776480"/>
            <a:ext cx="0" cy="14436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8191440" y="43448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/>
          <p:nvPr/>
        </p:nvSpPr>
        <p:spPr>
          <a:xfrm>
            <a:off x="917640" y="5137200"/>
            <a:ext cx="194472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078000" y="4776840"/>
            <a:ext cx="432000" cy="28872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2133720"/>
            <a:ext cx="85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možňuje frézovat pravoúhlé obrobky a soustružit válcové ploch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765000"/>
            <a:ext cx="842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Pravoúhlá řízení –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sou následným stupněm stavění souřadnic. Mohou brát v úvahu rozměry nástrojů (mají výpočet korekce). Je jimi možné provádět obrábění rovnoběžné se souřadnými osam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564000" y="3429000"/>
            <a:ext cx="647640" cy="28728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3564000" y="3571920"/>
            <a:ext cx="0" cy="6490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211640" y="3571920"/>
            <a:ext cx="0" cy="6490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 rot="9265800">
            <a:off x="3255480" y="2997000"/>
            <a:ext cx="1120320" cy="1345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6" y="273"/>
                </a:moveTo>
                <a:arcTo wR="10800" hR="10800" stAng="-6174851" swAng="4212980"/>
                <a:lnTo>
                  <a:pt x="10800" y="10800"/>
                </a:lnTo>
                <a:close/>
              </a:path>
              <a:path fill="none" w="21600" h="21600">
                <a:moveTo>
                  <a:pt x="8386" y="273"/>
                </a:moveTo>
                <a:arcTo wR="10800" hR="10800" stAng="-6174851" swAng="4212980"/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564000" y="3716280"/>
            <a:ext cx="358560" cy="5047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706920" y="3644640"/>
            <a:ext cx="431640" cy="64764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994200" y="4005360"/>
            <a:ext cx="217440" cy="2887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564000" y="3644640"/>
            <a:ext cx="71280" cy="1429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274920" y="422100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274920" y="386064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979280" y="422100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79640" y="45813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474920" y="3573360"/>
            <a:ext cx="100800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82200" y="4365720"/>
            <a:ext cx="79236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/>
          <p:nvPr/>
        </p:nvSpPr>
        <p:spPr>
          <a:xfrm>
            <a:off x="682560" y="4797360"/>
            <a:ext cx="266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682560" y="4797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682560" y="5157720"/>
            <a:ext cx="266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346560" y="4294080"/>
            <a:ext cx="72072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/>
          <p:nvPr/>
        </p:nvSpPr>
        <p:spPr>
          <a:xfrm>
            <a:off x="3346560" y="4797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346560" y="4293720"/>
            <a:ext cx="122400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2482920" y="357336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210200" y="3933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4210200" y="3933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0560" y="3933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/>
          <p:nvPr/>
        </p:nvSpPr>
        <p:spPr>
          <a:xfrm rot="5638800">
            <a:off x="1826280" y="2727000"/>
            <a:ext cx="605880" cy="237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40" y="303"/>
                </a:moveTo>
                <a:arcTo wR="10800" hR="10800" stAng="-4583820" swAng="3463582"/>
                <a:lnTo>
                  <a:pt x="10800" y="10800"/>
                </a:lnTo>
                <a:close/>
              </a:path>
              <a:path fill="none" w="21600" h="21600">
                <a:moveTo>
                  <a:pt x="13340" y="303"/>
                </a:moveTo>
                <a:arcTo wR="10800" hR="10800" stAng="-4583820" swAng="3463582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 rot="5638800">
            <a:off x="1842480" y="3075120"/>
            <a:ext cx="605520" cy="237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6" y="512"/>
                </a:moveTo>
                <a:arcTo wR="10800" hR="10800" stAng="-4337219" swAng="3289749"/>
                <a:lnTo>
                  <a:pt x="10800" y="10800"/>
                </a:lnTo>
                <a:close/>
              </a:path>
              <a:path fill="none" w="21600" h="21600">
                <a:moveTo>
                  <a:pt x="14086" y="512"/>
                </a:moveTo>
                <a:arcTo wR="10800" hR="10800" stAng="-4337219" swAng="3289749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/>
          <p:nvPr/>
        </p:nvSpPr>
        <p:spPr>
          <a:xfrm>
            <a:off x="1979640" y="4221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1474920" y="4005000"/>
            <a:ext cx="50472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/>
          <p:nvPr/>
        </p:nvSpPr>
        <p:spPr>
          <a:xfrm>
            <a:off x="1474920" y="4005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1474920" y="4365360"/>
            <a:ext cx="50472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82200" y="4076640"/>
            <a:ext cx="647640" cy="3603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82560" y="3645000"/>
            <a:ext cx="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/>
          <p:nvPr/>
        </p:nvSpPr>
        <p:spPr>
          <a:xfrm>
            <a:off x="682560" y="4437000"/>
            <a:ext cx="7207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3594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/>
          <p:nvPr/>
        </p:nvSpPr>
        <p:spPr>
          <a:xfrm>
            <a:off x="898560" y="3789360"/>
            <a:ext cx="3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1114560" y="4365720"/>
            <a:ext cx="4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476360" y="4437000"/>
            <a:ext cx="503280" cy="21600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/>
          <p:nvPr/>
        </p:nvSpPr>
        <p:spPr>
          <a:xfrm>
            <a:off x="2050920" y="4653000"/>
            <a:ext cx="36036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/>
          <p:nvPr/>
        </p:nvSpPr>
        <p:spPr>
          <a:xfrm rot="5638800">
            <a:off x="1833120" y="3138840"/>
            <a:ext cx="604800" cy="237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6" y="512"/>
                </a:moveTo>
                <a:arcTo wR="10800" hR="10800" stAng="-4337219" swAng="3289749"/>
                <a:lnTo>
                  <a:pt x="10800" y="10800"/>
                </a:lnTo>
                <a:close/>
              </a:path>
              <a:path fill="none" w="21600" h="21600">
                <a:moveTo>
                  <a:pt x="14086" y="512"/>
                </a:moveTo>
                <a:arcTo wR="10800" hR="10800" stAng="-4337219" swAng="3289749"/>
              </a:path>
            </a:pathLst>
          </a:custGeom>
          <a:noFill/>
          <a:ln w="9360">
            <a:solidFill>
              <a:srgbClr val="0000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/>
          <p:nvPr/>
        </p:nvSpPr>
        <p:spPr>
          <a:xfrm>
            <a:off x="5221440" y="450864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4508640"/>
            <a:ext cx="0" cy="144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221440" y="595008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/>
          <p:nvPr/>
        </p:nvSpPr>
        <p:spPr>
          <a:xfrm>
            <a:off x="5148360" y="5229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/>
          <p:nvPr/>
        </p:nvSpPr>
        <p:spPr>
          <a:xfrm>
            <a:off x="6588000" y="472428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/>
          <p:nvPr/>
        </p:nvSpPr>
        <p:spPr>
          <a:xfrm>
            <a:off x="7380360" y="479736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/>
          <p:nvPr/>
        </p:nvSpPr>
        <p:spPr>
          <a:xfrm>
            <a:off x="6588000" y="573408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/>
          <p:nvPr/>
        </p:nvSpPr>
        <p:spPr>
          <a:xfrm>
            <a:off x="7380360" y="4797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/>
          <p:nvPr/>
        </p:nvSpPr>
        <p:spPr>
          <a:xfrm>
            <a:off x="7380360" y="566100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/>
          <p:nvPr/>
        </p:nvSpPr>
        <p:spPr>
          <a:xfrm>
            <a:off x="5014800" y="4508640"/>
            <a:ext cx="681120" cy="1450800"/>
          </a:xfrm>
          <a:custGeom>
            <a:avLst/>
            <a:gdLst/>
            <a:ahLst/>
            <a:rect l="l" t="t" r="r" b="b"/>
            <a:pathLst>
              <a:path w="429" h="914">
                <a:moveTo>
                  <a:pt x="130" y="0"/>
                </a:moveTo>
                <a:cubicBezTo>
                  <a:pt x="115" y="120"/>
                  <a:pt x="73" y="250"/>
                  <a:pt x="143" y="360"/>
                </a:cubicBezTo>
                <a:cubicBezTo>
                  <a:pt x="150" y="425"/>
                  <a:pt x="145" y="493"/>
                  <a:pt x="165" y="555"/>
                </a:cubicBezTo>
                <a:cubicBezTo>
                  <a:pt x="170" y="569"/>
                  <a:pt x="195" y="562"/>
                  <a:pt x="209" y="566"/>
                </a:cubicBezTo>
                <a:cubicBezTo>
                  <a:pt x="231" y="573"/>
                  <a:pt x="274" y="588"/>
                  <a:pt x="274" y="588"/>
                </a:cubicBezTo>
                <a:cubicBezTo>
                  <a:pt x="142" y="632"/>
                  <a:pt x="429" y="540"/>
                  <a:pt x="13" y="610"/>
                </a:cubicBezTo>
                <a:cubicBezTo>
                  <a:pt x="0" y="612"/>
                  <a:pt x="33" y="630"/>
                  <a:pt x="46" y="632"/>
                </a:cubicBezTo>
                <a:cubicBezTo>
                  <a:pt x="96" y="641"/>
                  <a:pt x="147" y="639"/>
                  <a:pt x="198" y="642"/>
                </a:cubicBezTo>
                <a:cubicBezTo>
                  <a:pt x="287" y="673"/>
                  <a:pt x="132" y="674"/>
                  <a:pt x="122" y="675"/>
                </a:cubicBezTo>
                <a:cubicBezTo>
                  <a:pt x="86" y="729"/>
                  <a:pt x="103" y="686"/>
                  <a:pt x="111" y="751"/>
                </a:cubicBezTo>
                <a:cubicBezTo>
                  <a:pt x="130" y="910"/>
                  <a:pt x="88" y="856"/>
                  <a:pt x="143" y="9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6300720" y="3954600"/>
            <a:ext cx="7920" cy="504720"/>
          </a:xfrm>
          <a:prstGeom prst="line">
            <a:avLst/>
          </a:prstGeom>
          <a:ln cap="sq"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300720" y="3811680"/>
            <a:ext cx="800280" cy="676080"/>
          </a:xfrm>
          <a:prstGeom prst="line">
            <a:avLst/>
          </a:prstGeom>
          <a:ln cap="sq"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300720" y="3573000"/>
            <a:ext cx="457200" cy="381240"/>
          </a:xfrm>
          <a:prstGeom prst="line">
            <a:avLst/>
          </a:prstGeom>
          <a:ln cap="sq"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6757920" y="3573360"/>
            <a:ext cx="0" cy="533520"/>
          </a:xfrm>
          <a:prstGeom prst="line">
            <a:avLst/>
          </a:prstGeom>
          <a:ln cap="sq"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/>
          <p:nvPr/>
        </p:nvSpPr>
        <p:spPr>
          <a:xfrm>
            <a:off x="6453360" y="3954600"/>
            <a:ext cx="152280" cy="152280"/>
          </a:xfrm>
          <a:prstGeom prst="ellipse">
            <a:avLst/>
          </a:prstGeom>
          <a:solidFill>
            <a:srgbClr val="080808"/>
          </a:solidFill>
          <a:ln cap="sq"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381720" y="3234960"/>
            <a:ext cx="0" cy="647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101000" y="3163680"/>
            <a:ext cx="0" cy="647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/>
          <p:nvPr/>
        </p:nvSpPr>
        <p:spPr>
          <a:xfrm>
            <a:off x="6381720" y="3164040"/>
            <a:ext cx="719280" cy="71280"/>
          </a:xfrm>
          <a:custGeom>
            <a:avLst/>
            <a:gdLst/>
            <a:ahLst/>
            <a:rect l="l" t="t" r="r" b="b"/>
            <a:pathLst>
              <a:path w="453" h="45">
                <a:moveTo>
                  <a:pt x="0" y="45"/>
                </a:moveTo>
                <a:lnTo>
                  <a:pt x="136" y="0"/>
                </a:lnTo>
                <a:lnTo>
                  <a:pt x="317" y="0"/>
                </a:lnTo>
                <a:cubicBezTo>
                  <a:pt x="336" y="4"/>
                  <a:pt x="375" y="12"/>
                  <a:pt x="375" y="12"/>
                </a:cubicBezTo>
                <a:lnTo>
                  <a:pt x="453" y="0"/>
                </a:lnTo>
              </a:path>
            </a:pathLst>
          </a:custGeom>
          <a:noFill/>
          <a:ln w="1260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/>
          <p:nvPr/>
        </p:nvSpPr>
        <p:spPr>
          <a:xfrm>
            <a:off x="8101080" y="5229360"/>
            <a:ext cx="863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/>
          <p:nvPr/>
        </p:nvSpPr>
        <p:spPr>
          <a:xfrm>
            <a:off x="8101080" y="40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/>
          <p:nvPr/>
        </p:nvSpPr>
        <p:spPr>
          <a:xfrm rot="9157800">
            <a:off x="6084360" y="3302280"/>
            <a:ext cx="1246320" cy="147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554" y="2372"/>
                </a:moveTo>
                <a:arcTo wR="10800" hR="10800" stAng="-3077488" swAng="2010993"/>
                <a:lnTo>
                  <a:pt x="10800" y="10800"/>
                </a:lnTo>
                <a:close/>
              </a:path>
              <a:path fill="none" w="21600" h="21600">
                <a:moveTo>
                  <a:pt x="17554" y="2372"/>
                </a:moveTo>
                <a:arcTo wR="10800" hR="10800" stAng="-3077488" swAng="2010993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/>
          <p:nvPr/>
        </p:nvSpPr>
        <p:spPr>
          <a:xfrm rot="15769800">
            <a:off x="6288120" y="5550120"/>
            <a:ext cx="1246320" cy="147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554" y="2372"/>
                </a:moveTo>
                <a:arcTo wR="10800" hR="10800" stAng="-3077488" swAng="2010993"/>
                <a:lnTo>
                  <a:pt x="10800" y="10800"/>
                </a:lnTo>
                <a:close/>
              </a:path>
              <a:path fill="none" w="21600" h="21600">
                <a:moveTo>
                  <a:pt x="17554" y="2372"/>
                </a:moveTo>
                <a:arcTo wR="10800" hR="10800" stAng="-3077488" swAng="2010993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7235640" y="4723920"/>
            <a:ext cx="14436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7235640" y="5661000"/>
            <a:ext cx="14436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/>
          <p:nvPr/>
        </p:nvSpPr>
        <p:spPr>
          <a:xfrm>
            <a:off x="7236000" y="4724280"/>
            <a:ext cx="0" cy="100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7884360" y="4797360"/>
            <a:ext cx="211320" cy="863640"/>
          </a:xfrm>
          <a:custGeom>
            <a:avLst/>
            <a:gdLst>
              <a:gd name="textAreaLeft" fmla="*/ 61560 w 211320"/>
              <a:gd name="textAreaRight" fmla="*/ 211320 w 211320"/>
              <a:gd name="textAreaTop" fmla="*/ 63000 h 863640"/>
              <a:gd name="textAreaBottom" fmla="*/ 80100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5"/>
                  <a:pt x="0" y="3150"/>
                </a:cubicBezTo>
                <a:lnTo>
                  <a:pt x="0" y="18450"/>
                </a:lnTo>
                <a:cubicBezTo>
                  <a:pt x="0" y="20025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8101080" y="4220640"/>
            <a:ext cx="0" cy="1008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/>
          <p:nvPr/>
        </p:nvSpPr>
        <p:spPr>
          <a:xfrm>
            <a:off x="8583480" y="479736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7451640" y="4724280"/>
            <a:ext cx="43344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7235640" y="4653000"/>
            <a:ext cx="144360" cy="712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6659640" y="4653000"/>
            <a:ext cx="50472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/>
          <p:nvPr/>
        </p:nvSpPr>
        <p:spPr>
          <a:xfrm rot="9157800">
            <a:off x="6174720" y="3235680"/>
            <a:ext cx="1246680" cy="147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802" y="2578"/>
                </a:moveTo>
                <a:arcTo wR="10800" hR="10800" stAng="-2974913" swAng="1538040"/>
                <a:lnTo>
                  <a:pt x="10800" y="10800"/>
                </a:lnTo>
                <a:close/>
              </a:path>
              <a:path fill="none" w="21600" h="21600">
                <a:moveTo>
                  <a:pt x="17802" y="2578"/>
                </a:moveTo>
                <a:arcTo wR="10800" hR="10800" stAng="-2974913" swAng="1538040"/>
              </a:path>
            </a:pathLst>
          </a:custGeom>
          <a:noFill/>
          <a:ln w="93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/>
          <p:nvPr/>
        </p:nvSpPr>
        <p:spPr>
          <a:xfrm>
            <a:off x="179280" y="907920"/>
            <a:ext cx="89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Souvislá řízení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umožňují výpočet korekce a výpočet geometrie. Např. souvislé ř. soustruhu umožňuje pohyb nástroje v rovině Z - X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ve dvou dimenzích) po libovolných úkosech a kruhových obloucí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e to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řízeni 2D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 To znamená řízení ve dvou současně pracujících souřadných osá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421080" y="4579920"/>
            <a:ext cx="647640" cy="28728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/>
          <p:nvPr/>
        </p:nvSpPr>
        <p:spPr>
          <a:xfrm>
            <a:off x="3421080" y="4722840"/>
            <a:ext cx="0" cy="6494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/>
          <p:nvPr/>
        </p:nvSpPr>
        <p:spPr>
          <a:xfrm>
            <a:off x="4068720" y="4722840"/>
            <a:ext cx="0" cy="6494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/>
          <p:nvPr/>
        </p:nvSpPr>
        <p:spPr>
          <a:xfrm rot="9265800">
            <a:off x="3112560" y="4147920"/>
            <a:ext cx="1120320" cy="1345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6" y="273"/>
                </a:moveTo>
                <a:arcTo wR="10800" hR="10800" stAng="-6174851" swAng="4212980"/>
                <a:lnTo>
                  <a:pt x="10800" y="10800"/>
                </a:lnTo>
                <a:close/>
              </a:path>
              <a:path fill="none" w="21600" h="21600">
                <a:moveTo>
                  <a:pt x="8386" y="273"/>
                </a:moveTo>
                <a:arcTo wR="10800" hR="10800" stAng="-6174851" swAng="4212980"/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421080" y="4866840"/>
            <a:ext cx="358920" cy="5050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564000" y="4795560"/>
            <a:ext cx="431640" cy="64764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851280" y="5156280"/>
            <a:ext cx="217440" cy="2887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421080" y="4795560"/>
            <a:ext cx="71280" cy="14292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/>
          <p:nvPr/>
        </p:nvSpPr>
        <p:spPr>
          <a:xfrm>
            <a:off x="1332000" y="5948280"/>
            <a:ext cx="4752720" cy="36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332000" y="4869000"/>
            <a:ext cx="1224000" cy="10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556000" y="4653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/>
          <p:nvPr/>
        </p:nvSpPr>
        <p:spPr>
          <a:xfrm>
            <a:off x="2556000" y="4869000"/>
            <a:ext cx="8650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/>
          <p:nvPr/>
        </p:nvSpPr>
        <p:spPr>
          <a:xfrm>
            <a:off x="2556000" y="4653000"/>
            <a:ext cx="8650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/>
          <p:nvPr/>
        </p:nvSpPr>
        <p:spPr>
          <a:xfrm>
            <a:off x="4284720" y="52275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4068720" y="5372280"/>
            <a:ext cx="21600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4068720" y="5156280"/>
            <a:ext cx="21600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/>
          <p:nvPr/>
        </p:nvSpPr>
        <p:spPr>
          <a:xfrm>
            <a:off x="4284720" y="52275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/>
          <p:nvPr/>
        </p:nvSpPr>
        <p:spPr>
          <a:xfrm>
            <a:off x="4284720" y="544500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508720" y="522756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084720" y="3787560"/>
            <a:ext cx="237672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084720" y="4147920"/>
            <a:ext cx="237672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508720" y="3571560"/>
            <a:ext cx="201600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508720" y="3787560"/>
            <a:ext cx="2016000" cy="165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556000" y="4219560"/>
            <a:ext cx="5047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/>
          <p:nvPr/>
        </p:nvSpPr>
        <p:spPr>
          <a:xfrm>
            <a:off x="3060720" y="4003560"/>
            <a:ext cx="792000" cy="21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060720" y="3500280"/>
            <a:ext cx="2160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852720" y="3500280"/>
            <a:ext cx="14292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/>
          <p:nvPr/>
        </p:nvSpPr>
        <p:spPr>
          <a:xfrm>
            <a:off x="3276720" y="350028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852720" y="3860280"/>
            <a:ext cx="43200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276720" y="2924280"/>
            <a:ext cx="71892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995640" y="3284280"/>
            <a:ext cx="28908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/>
          <p:nvPr/>
        </p:nvSpPr>
        <p:spPr>
          <a:xfrm>
            <a:off x="3995640" y="2924280"/>
            <a:ext cx="187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/>
          <p:nvPr/>
        </p:nvSpPr>
        <p:spPr>
          <a:xfrm>
            <a:off x="4645080" y="321156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/>
          <p:nvPr/>
        </p:nvSpPr>
        <p:spPr>
          <a:xfrm>
            <a:off x="4645080" y="378792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/>
          <p:nvPr/>
        </p:nvSpPr>
        <p:spPr>
          <a:xfrm>
            <a:off x="4523400" y="3211560"/>
            <a:ext cx="18270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3453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3453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300720" y="357192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/>
          <p:nvPr/>
        </p:nvSpPr>
        <p:spPr>
          <a:xfrm>
            <a:off x="6588000" y="3571920"/>
            <a:ext cx="9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/>
          <p:nvPr/>
        </p:nvSpPr>
        <p:spPr>
          <a:xfrm>
            <a:off x="7524720" y="35719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/>
          <p:nvPr/>
        </p:nvSpPr>
        <p:spPr>
          <a:xfrm>
            <a:off x="7524720" y="378792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/>
          <p:nvPr/>
        </p:nvSpPr>
        <p:spPr>
          <a:xfrm>
            <a:off x="8461440" y="37879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/>
          <p:nvPr/>
        </p:nvSpPr>
        <p:spPr>
          <a:xfrm>
            <a:off x="4794840" y="2926800"/>
            <a:ext cx="1858680" cy="182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416" y="122"/>
                </a:moveTo>
                <a:arcTo wR="10800" hR="10800" stAng="-4883623" swAng="3907289"/>
                <a:lnTo>
                  <a:pt x="10800" y="10800"/>
                </a:lnTo>
                <a:close/>
              </a:path>
              <a:path fill="none" w="21600" h="21600">
                <a:moveTo>
                  <a:pt x="12416" y="122"/>
                </a:moveTo>
                <a:arcTo wR="10800" hR="10800" stAng="-4883623" swAng="3907289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/>
          <p:nvPr/>
        </p:nvSpPr>
        <p:spPr>
          <a:xfrm rot="17953200">
            <a:off x="4197240" y="3054600"/>
            <a:ext cx="1271880" cy="1682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37" y="596"/>
                </a:moveTo>
                <a:arcTo wR="10800" hR="10800" stAng="-4253029" swAng="2164082"/>
                <a:lnTo>
                  <a:pt x="10800" y="10800"/>
                </a:lnTo>
                <a:close/>
              </a:path>
              <a:path fill="none" w="21600" h="21600">
                <a:moveTo>
                  <a:pt x="14337" y="596"/>
                </a:moveTo>
                <a:arcTo wR="10800" hR="10800" stAng="-4253029" swAng="2164082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/>
          <p:nvPr/>
        </p:nvSpPr>
        <p:spPr>
          <a:xfrm rot="17953200">
            <a:off x="4194720" y="3629160"/>
            <a:ext cx="1271160" cy="1683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37" y="596"/>
                </a:moveTo>
                <a:arcTo wR="10800" hR="10800" stAng="-4253029" swAng="2164082"/>
                <a:lnTo>
                  <a:pt x="10800" y="10800"/>
                </a:lnTo>
                <a:close/>
              </a:path>
              <a:path fill="none" w="21600" h="21600">
                <a:moveTo>
                  <a:pt x="14337" y="596"/>
                </a:moveTo>
                <a:arcTo wR="10800" hR="10800" stAng="-4253029" swAng="2164082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1331640" y="4869000"/>
            <a:ext cx="936360" cy="8636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332000" y="4363920"/>
            <a:ext cx="0" cy="136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5732640"/>
            <a:ext cx="15127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"/>
          <p:cNvSpPr/>
          <p:nvPr/>
        </p:nvSpPr>
        <p:spPr>
          <a:xfrm>
            <a:off x="971640" y="436392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/>
          <p:nvPr/>
        </p:nvSpPr>
        <p:spPr>
          <a:xfrm>
            <a:off x="2320920" y="53722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/>
          <p:nvPr/>
        </p:nvSpPr>
        <p:spPr>
          <a:xfrm>
            <a:off x="1673640" y="4745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492000" y="3571920"/>
            <a:ext cx="71640" cy="28872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/>
          <p:nvPr/>
        </p:nvSpPr>
        <p:spPr>
          <a:xfrm>
            <a:off x="4650480" y="3058560"/>
            <a:ext cx="1858680" cy="182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416" y="122"/>
                </a:moveTo>
                <a:arcTo wR="10800" hR="10800" stAng="-4883623" swAng="3360074"/>
                <a:lnTo>
                  <a:pt x="10800" y="10800"/>
                </a:lnTo>
                <a:close/>
              </a:path>
              <a:path fill="none" w="21600" h="21600">
                <a:moveTo>
                  <a:pt x="12416" y="122"/>
                </a:moveTo>
                <a:arcTo wR="10800" hR="10800" stAng="-4883623" swAng="3360074"/>
              </a:path>
            </a:pathLst>
          </a:cu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500360" y="3068640"/>
            <a:ext cx="115236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4940280"/>
            <a:ext cx="649080" cy="21600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/>
          <p:nvPr/>
        </p:nvSpPr>
        <p:spPr>
          <a:xfrm>
            <a:off x="4645080" y="5516640"/>
            <a:ext cx="79200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653080" y="3932280"/>
            <a:ext cx="1800360" cy="151272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/>
          <p:nvPr/>
        </p:nvSpPr>
        <p:spPr>
          <a:xfrm>
            <a:off x="611280" y="620640"/>
            <a:ext cx="7921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Souvislá řízení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u mnohých frézek se může provádět lineární interpolace volitelně vždy jen v jedné rovině (X-Y, Z-X nebo Y-Z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 důsledku volného výběru roviny interpolace hovoříme o souvislém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řízení 2 ½ 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333440" y="436572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/>
          <p:nvPr/>
        </p:nvSpPr>
        <p:spPr>
          <a:xfrm>
            <a:off x="1333440" y="5302080"/>
            <a:ext cx="46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13440" y="48700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/>
          <p:nvPr/>
        </p:nvSpPr>
        <p:spPr>
          <a:xfrm>
            <a:off x="1333440" y="4365720"/>
            <a:ext cx="4680000" cy="720720"/>
          </a:xfrm>
          <a:custGeom>
            <a:avLst/>
            <a:gdLst/>
            <a:ahLst/>
            <a:rect l="l" t="t" r="r" b="b"/>
            <a:pathLst>
              <a:path w="2948" h="257">
                <a:moveTo>
                  <a:pt x="0" y="0"/>
                </a:moveTo>
                <a:cubicBezTo>
                  <a:pt x="249" y="4"/>
                  <a:pt x="499" y="8"/>
                  <a:pt x="726" y="46"/>
                </a:cubicBezTo>
                <a:cubicBezTo>
                  <a:pt x="953" y="84"/>
                  <a:pt x="1097" y="197"/>
                  <a:pt x="1361" y="227"/>
                </a:cubicBezTo>
                <a:cubicBezTo>
                  <a:pt x="1625" y="257"/>
                  <a:pt x="2049" y="234"/>
                  <a:pt x="2313" y="227"/>
                </a:cubicBezTo>
                <a:cubicBezTo>
                  <a:pt x="2577" y="220"/>
                  <a:pt x="2762" y="201"/>
                  <a:pt x="2948" y="18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/>
          <p:nvPr/>
        </p:nvSpPr>
        <p:spPr>
          <a:xfrm>
            <a:off x="1333440" y="2062080"/>
            <a:ext cx="2232000" cy="2303640"/>
          </a:xfrm>
          <a:custGeom>
            <a:avLst/>
            <a:gdLst/>
            <a:ahLst/>
            <a:rect l="l" t="t" r="r" b="b"/>
            <a:pathLst>
              <a:path w="1406" h="1451">
                <a:moveTo>
                  <a:pt x="0" y="1451"/>
                </a:moveTo>
                <a:cubicBezTo>
                  <a:pt x="79" y="1349"/>
                  <a:pt x="158" y="1247"/>
                  <a:pt x="317" y="1134"/>
                </a:cubicBezTo>
                <a:cubicBezTo>
                  <a:pt x="476" y="1021"/>
                  <a:pt x="808" y="884"/>
                  <a:pt x="952" y="771"/>
                </a:cubicBezTo>
                <a:cubicBezTo>
                  <a:pt x="1096" y="658"/>
                  <a:pt x="1103" y="581"/>
                  <a:pt x="1179" y="453"/>
                </a:cubicBezTo>
                <a:cubicBezTo>
                  <a:pt x="1255" y="325"/>
                  <a:pt x="1330" y="162"/>
                  <a:pt x="140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013440" y="2854440"/>
            <a:ext cx="1873440" cy="24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/>
          <p:nvPr/>
        </p:nvSpPr>
        <p:spPr>
          <a:xfrm>
            <a:off x="3565440" y="2062080"/>
            <a:ext cx="4321440" cy="216000"/>
          </a:xfrm>
          <a:custGeom>
            <a:avLst/>
            <a:gdLst/>
            <a:ahLst/>
            <a:rect l="l" t="t" r="r" b="b"/>
            <a:pathLst>
              <a:path w="2767" h="136">
                <a:moveTo>
                  <a:pt x="0" y="0"/>
                </a:moveTo>
                <a:cubicBezTo>
                  <a:pt x="314" y="68"/>
                  <a:pt x="628" y="136"/>
                  <a:pt x="1089" y="136"/>
                </a:cubicBezTo>
                <a:cubicBezTo>
                  <a:pt x="1550" y="136"/>
                  <a:pt x="2487" y="23"/>
                  <a:pt x="276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/>
          <p:nvPr/>
        </p:nvSpPr>
        <p:spPr>
          <a:xfrm>
            <a:off x="7886880" y="206208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/>
          <p:nvPr/>
        </p:nvSpPr>
        <p:spPr>
          <a:xfrm>
            <a:off x="6013440" y="2062080"/>
            <a:ext cx="1873440" cy="2808360"/>
          </a:xfrm>
          <a:custGeom>
            <a:avLst/>
            <a:gdLst/>
            <a:ahLst/>
            <a:rect l="l" t="t" r="r" b="b"/>
            <a:pathLst>
              <a:path w="1180" h="1633">
                <a:moveTo>
                  <a:pt x="0" y="1633"/>
                </a:moveTo>
                <a:cubicBezTo>
                  <a:pt x="125" y="1436"/>
                  <a:pt x="250" y="1239"/>
                  <a:pt x="363" y="1088"/>
                </a:cubicBezTo>
                <a:cubicBezTo>
                  <a:pt x="476" y="937"/>
                  <a:pt x="545" y="907"/>
                  <a:pt x="681" y="726"/>
                </a:cubicBezTo>
                <a:cubicBezTo>
                  <a:pt x="817" y="545"/>
                  <a:pt x="1097" y="121"/>
                  <a:pt x="118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/>
          <p:nvPr/>
        </p:nvSpPr>
        <p:spPr>
          <a:xfrm rot="5400000">
            <a:off x="4931640" y="3428280"/>
            <a:ext cx="719280" cy="720720"/>
          </a:xfrm>
          <a:prstGeom prst="flowChartDelay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003640" y="3716280"/>
            <a:ext cx="216000" cy="21600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"/>
          <p:cNvSpPr/>
          <p:nvPr/>
        </p:nvSpPr>
        <p:spPr>
          <a:xfrm>
            <a:off x="4930920" y="3487680"/>
            <a:ext cx="360360" cy="228600"/>
          </a:xfrm>
          <a:custGeom>
            <a:avLst/>
            <a:gdLst/>
            <a:ahLst/>
            <a:rect l="l" t="t" r="r" b="b"/>
            <a:pathLst>
              <a:path w="227" h="144">
                <a:moveTo>
                  <a:pt x="182" y="144"/>
                </a:moveTo>
                <a:cubicBezTo>
                  <a:pt x="204" y="110"/>
                  <a:pt x="227" y="76"/>
                  <a:pt x="227" y="53"/>
                </a:cubicBezTo>
                <a:cubicBezTo>
                  <a:pt x="227" y="30"/>
                  <a:pt x="220" y="0"/>
                  <a:pt x="182" y="8"/>
                </a:cubicBezTo>
                <a:cubicBezTo>
                  <a:pt x="144" y="16"/>
                  <a:pt x="30" y="84"/>
                  <a:pt x="0" y="99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219640" y="3429000"/>
            <a:ext cx="432000" cy="28728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219640" y="3787920"/>
            <a:ext cx="432000" cy="36036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930920" y="2852280"/>
            <a:ext cx="0" cy="5763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651640" y="2852280"/>
            <a:ext cx="0" cy="5763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/>
          <p:nvPr/>
        </p:nvSpPr>
        <p:spPr>
          <a:xfrm>
            <a:off x="4930920" y="2852640"/>
            <a:ext cx="720720" cy="71640"/>
          </a:xfrm>
          <a:custGeom>
            <a:avLst/>
            <a:gdLst/>
            <a:ahLst/>
            <a:rect l="l" t="t" r="r" b="b"/>
            <a:pathLst>
              <a:path w="409" h="45">
                <a:moveTo>
                  <a:pt x="0" y="0"/>
                </a:moveTo>
                <a:lnTo>
                  <a:pt x="136" y="0"/>
                </a:lnTo>
                <a:lnTo>
                  <a:pt x="318" y="45"/>
                </a:lnTo>
                <a:lnTo>
                  <a:pt x="409" y="0"/>
                </a:lnTo>
              </a:path>
            </a:pathLst>
          </a:custGeom>
          <a:noFill/>
          <a:ln w="936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/>
          <p:nvPr/>
        </p:nvSpPr>
        <p:spPr>
          <a:xfrm>
            <a:off x="5292720" y="2637000"/>
            <a:ext cx="0" cy="1871640"/>
          </a:xfrm>
          <a:prstGeom prst="line">
            <a:avLst/>
          </a:prstGeom>
          <a:ln w="9360">
            <a:solidFill>
              <a:srgbClr val="080808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333440" y="2709720"/>
            <a:ext cx="0" cy="165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/>
          <p:nvPr/>
        </p:nvSpPr>
        <p:spPr>
          <a:xfrm>
            <a:off x="1333440" y="4365720"/>
            <a:ext cx="2016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333440" y="3141720"/>
            <a:ext cx="1152720" cy="1224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/>
          <p:nvPr/>
        </p:nvSpPr>
        <p:spPr>
          <a:xfrm>
            <a:off x="973080" y="27813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/>
          <p:nvPr/>
        </p:nvSpPr>
        <p:spPr>
          <a:xfrm>
            <a:off x="2752560" y="39337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"/>
          <p:cNvSpPr/>
          <p:nvPr/>
        </p:nvSpPr>
        <p:spPr>
          <a:xfrm>
            <a:off x="1891440" y="3090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3429000"/>
            <a:ext cx="72072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/>
          <p:nvPr/>
        </p:nvSpPr>
        <p:spPr>
          <a:xfrm>
            <a:off x="4932360" y="3141720"/>
            <a:ext cx="72072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932360" y="3357360"/>
            <a:ext cx="0" cy="215640"/>
          </a:xfrm>
          <a:prstGeom prst="line">
            <a:avLst/>
          </a:prstGeom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651640" y="3357360"/>
            <a:ext cx="0" cy="215640"/>
          </a:xfrm>
          <a:prstGeom prst="line">
            <a:avLst/>
          </a:prstGeom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/>
          <p:nvPr/>
        </p:nvSpPr>
        <p:spPr>
          <a:xfrm>
            <a:off x="250920" y="5529240"/>
            <a:ext cx="8642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estliže jsou vedle pohybu v osách X,Y a Z možné ještě další současné pohyby (např. otočný pohyb kolem osy X=osa A), mluvíme pak o     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řízení 4D popřípadě 5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" y="404640"/>
            <a:ext cx="842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Souvislá řízení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pomocí souvislého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řízení 3D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lze u frézek obrábět libovolné obrysy a prostorové plochy. Přitom musí interpolátor vypočítávat pohyb ve dvou osách v závislosti na třetí ose.Zde je zapotřebí více výpočetních operací než u řízení 2D.Je nutný mikroprocesor s vysokým výkon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68360" y="765000"/>
            <a:ext cx="828036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Verdana"/>
              </a:rPr>
              <a:t>Interpolátor – výpočet naprogramované drá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enerace požadované obecné dráhy relativního pohybu nástroje proti obrobku je uskutečněna pomocí obvodů interpolátor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polátor (jednoúčelový počítač) vyrábí počet elektrických impulsů odpovídající naprogramovaným drahám v jednotlivých osách. Každý impuls představuje elementární dráhu např. 0,01mm, takže počet impulsů charakterizuje v daný okamžik ujetou dráhu. Frekvence těchto impulsů představuje rychlost pohybu v každé řízené ose. Poměr frekvencí ve dvou současně řízených osách udává směrnici přímky, po které probíhá v daný okamžik relativní pohyb mezi nástrojem a obrobk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Interpolátor lineární, kvadratický, vyšších řád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0-24T18:44:26Z</dcterms:modified>
  <cp:revision>17</cp:revision>
  <dc:subject/>
  <dc:title>Název DUMu</dc:title>
</cp:coreProperties>
</file>