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C443-5BFF-4FEF-A91A-2A1C36DAC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3997-E377-48D5-9F70-8C476B385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7076-4E02-4A9E-A540-5F92E4969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C6E7-0918-4D32-9A58-5E2E6F838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5385-DA57-4488-9274-1FA7C7849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F51E-4031-436A-981E-F8A013EE1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66E7-36C8-476E-9CC9-F052C32DB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6C4E-75C9-4815-B1C3-0515D1E38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D1B1-D506-45F0-895E-8DFFC7DFD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375E-AA2D-4A7C-8A51-1B0EDF15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C390-2349-447D-8592-F31365A1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ADC8-643D-4AE0-B373-880BD96F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F89D7-8D94-459B-971A-426AE7FD01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06864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ožadavky kladené na nástrojové vybav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43" name="TextovéPole 4"/>
          <p:cNvSpPr/>
          <p:nvPr/>
        </p:nvSpPr>
        <p:spPr>
          <a:xfrm>
            <a:off x="468360" y="2637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Y_32_INOVACE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65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žadavky kladené na nástrojové vybave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ovéPole 5"/>
          <p:cNvSpPr/>
          <p:nvPr/>
        </p:nvSpPr>
        <p:spPr>
          <a:xfrm>
            <a:off x="5724360" y="5589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or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roslav Valen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Záznamový list výukového materiál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00200"/>
          <a:ext cx="8229600" cy="503856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Název ško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SŠTZ Mohelnice, 1. máje 2, 789 85 Moheln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Číslo projek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Z.1.07/1.5.00/34.0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šablony klíčové aktiv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ovace a zkvalitnění výuky prostřednictvím ICT (III/2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výukového materiál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žadavky kladené na nástrojové vybav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znač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Y_32_INOVACE_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65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_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žadavky kladené na nástrojové vybav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zdělávací ob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chanik seřizova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ematický okru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nstrukce a vybavení CNC stroj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oční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u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roslav Valen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atum ověř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11.201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1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notace / metodický pop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čební text zahrnuje požadavky na nástrojové vybavení, jejich rozdělení dle použitých technologií a jejich seřizování na strojích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auto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ředite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95280" y="1135080"/>
            <a:ext cx="856944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 rychlá seřiditelnost pracovní polohy špičky nástroje s přesností odpovídající požadavkům výrobních tolerancí obráběných dílců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 snadná a rychlá vyměnitelnost otupených nástrojů a při jejich výměně ustavení do původní poloh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 možnost seřizování mimo stroj za pomoci seřizovacích přístrojů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 dostatečná statická i dynamická tuhost, aby bylo možné maximálně využít řezných vlastností nástroje a výkon stroj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 optimalizace sortimentu tak, aby počet držáků byl co nejmenší a přitom umožňoval splnění co největšího počtu technologických požadavků, čím by se v max. míře vyloučila potřeba speciálního nářadí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 zaměnitelnost pro příslušné druhy NC strojů a str. různých výrobc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404640"/>
            <a:ext cx="874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ožadavky kladené na nástrojové vybavení pro CNC stro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50920" y="404640"/>
            <a:ext cx="8713800" cy="59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Verdana"/>
              </a:rPr>
              <a:t>Nástroje pro CNC stro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Verdana"/>
              </a:rPr>
              <a:t>nástroje typu soustružnických nož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Verdana"/>
              </a:rPr>
              <a:t>osové nástroje – vrtáky, výstružníky, frézy,…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Verdana"/>
              </a:rPr>
              <a:t>speciální nástroje – vrtací hlavy, vyvrtávací tyče, úhlové frézy,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Verdana"/>
              </a:rPr>
              <a:t>Upínání nástrojů na CNC soustruzí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pínáme nejčastěji d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revolverových hlav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různé konstruk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1f497d"/>
                </a:solidFill>
                <a:uFillTx/>
                <a:latin typeface="Verdana"/>
              </a:rPr>
              <a:t>Požadavky na revolverové hlavy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 možnost upnutí nástrojů kolmo na osu obrábě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 možnost upnutí nástrojů rovnoběžně s osou obrábě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 možnost upnutí osových nástroj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 možnost upnutí vyvrtávacích tyč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 zajištění přesné aretace polohy po otočení r. hlav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 pokud možno co nejmenší rozmě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179064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0920" y="260280"/>
            <a:ext cx="8675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1f497d"/>
                </a:solidFill>
                <a:uFillTx/>
                <a:latin typeface="Verdana"/>
              </a:rPr>
              <a:t>Seřizování nástrojů – nastavení řezné hrany                                                   soustružnické nož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terní seřizování – přímo na stroj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xterní seřizování – mimo stroj, v seřizovacích přípravcí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) seřízení pomocí prvků vestavěných přímo v tělese nástro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) seřízení pomocí prvků vestavěných do nástrojového držák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) seřizovací prvky jsou příslušenstvím obráběcího stro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1619280" y="3933720"/>
            <a:ext cx="433440" cy="1656000"/>
          </a:xfrm>
          <a:prstGeom prst="rect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1547280" y="3860280"/>
            <a:ext cx="71640" cy="7308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547640" y="3715920"/>
            <a:ext cx="0" cy="1443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547640" y="3573000"/>
            <a:ext cx="216000" cy="1429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1763640" y="3573360"/>
            <a:ext cx="289080" cy="21600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052720" y="3789000"/>
            <a:ext cx="0" cy="1443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547640" y="3429000"/>
            <a:ext cx="0" cy="287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1547640" y="3429000"/>
            <a:ext cx="216000" cy="144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1692360" y="3716280"/>
            <a:ext cx="71280" cy="73080"/>
          </a:xfrm>
          <a:prstGeom prst="octagon">
            <a:avLst>
              <a:gd name="adj" fmla="val 29287"/>
            </a:avLst>
          </a:prstGeom>
          <a:solidFill>
            <a:srgbClr val="00cc00"/>
          </a:solidFill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3933720"/>
            <a:ext cx="431640" cy="1656000"/>
          </a:xfrm>
          <a:prstGeom prst="rect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3708000" y="3860280"/>
            <a:ext cx="71640" cy="7308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3708360" y="3715920"/>
            <a:ext cx="0" cy="144360"/>
          </a:xfrm>
          <a:prstGeom prst="line">
            <a:avLst/>
          </a:prstGeom>
          <a:ln w="19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3708360" y="3573000"/>
            <a:ext cx="216000" cy="1429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3924360" y="3573360"/>
            <a:ext cx="288720" cy="216000"/>
          </a:xfrm>
          <a:prstGeom prst="line">
            <a:avLst/>
          </a:prstGeom>
          <a:ln w="19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213080" y="3789000"/>
            <a:ext cx="0" cy="1443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3708360" y="3429000"/>
            <a:ext cx="0" cy="287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3708360" y="3429000"/>
            <a:ext cx="216000" cy="144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3852720" y="3716280"/>
            <a:ext cx="71640" cy="73080"/>
          </a:xfrm>
          <a:prstGeom prst="octagon">
            <a:avLst>
              <a:gd name="adj" fmla="val 29287"/>
            </a:avLst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6300720" y="3933720"/>
            <a:ext cx="433440" cy="1656000"/>
          </a:xfrm>
          <a:prstGeom prst="rect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6229440" y="3860280"/>
            <a:ext cx="71280" cy="7308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229440" y="3715920"/>
            <a:ext cx="0" cy="144360"/>
          </a:xfrm>
          <a:prstGeom prst="line">
            <a:avLst/>
          </a:prstGeom>
          <a:ln w="19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6229440" y="3573000"/>
            <a:ext cx="215640" cy="1429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/>
          <p:nvPr/>
        </p:nvSpPr>
        <p:spPr>
          <a:xfrm>
            <a:off x="6445080" y="3573360"/>
            <a:ext cx="289080" cy="216000"/>
          </a:xfrm>
          <a:prstGeom prst="line">
            <a:avLst/>
          </a:prstGeom>
          <a:ln w="19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6734160" y="3789000"/>
            <a:ext cx="0" cy="1443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6229440" y="3429000"/>
            <a:ext cx="0" cy="287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/>
          <p:nvPr/>
        </p:nvSpPr>
        <p:spPr>
          <a:xfrm>
            <a:off x="6229440" y="3429000"/>
            <a:ext cx="215640" cy="144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3716280"/>
            <a:ext cx="71280" cy="73080"/>
          </a:xfrm>
          <a:prstGeom prst="octagon">
            <a:avLst>
              <a:gd name="adj" fmla="val 29287"/>
            </a:avLst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/>
          <p:nvPr/>
        </p:nvSpPr>
        <p:spPr>
          <a:xfrm>
            <a:off x="1692360" y="573408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/>
          <p:nvPr/>
        </p:nvSpPr>
        <p:spPr>
          <a:xfrm>
            <a:off x="1692360" y="609300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484360" y="4005000"/>
            <a:ext cx="0" cy="208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2195640" y="400536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2195640" y="4005360"/>
            <a:ext cx="0" cy="172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692360" y="5734080"/>
            <a:ext cx="50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1835280" y="5516640"/>
            <a:ext cx="0" cy="2174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1979640" y="5229360"/>
            <a:ext cx="216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>
            <a:off x="1979640" y="4292640"/>
            <a:ext cx="216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1979640" y="5157720"/>
            <a:ext cx="0" cy="1429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/>
          <p:nvPr/>
        </p:nvSpPr>
        <p:spPr>
          <a:xfrm>
            <a:off x="1979640" y="4221000"/>
            <a:ext cx="0" cy="144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1763640" y="5516640"/>
            <a:ext cx="14436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/>
          <p:nvPr/>
        </p:nvSpPr>
        <p:spPr>
          <a:xfrm>
            <a:off x="4211640" y="400536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4500720" y="4005360"/>
            <a:ext cx="0" cy="208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3851280" y="6093000"/>
            <a:ext cx="649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851280" y="558972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4643280" y="4005360"/>
            <a:ext cx="503280" cy="2087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 rot="16200000">
            <a:off x="4425840" y="4367160"/>
            <a:ext cx="218880" cy="215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/>
          <p:nvPr/>
        </p:nvSpPr>
        <p:spPr>
          <a:xfrm>
            <a:off x="4427640" y="4221000"/>
            <a:ext cx="21564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4427640" y="5157720"/>
            <a:ext cx="21564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>
            <a:off x="4427640" y="4149720"/>
            <a:ext cx="0" cy="1429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/>
          <p:nvPr/>
        </p:nvSpPr>
        <p:spPr>
          <a:xfrm>
            <a:off x="4427640" y="5084640"/>
            <a:ext cx="0" cy="144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4425840" y="5302080"/>
            <a:ext cx="219240" cy="215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/>
          <p:nvPr/>
        </p:nvSpPr>
        <p:spPr>
          <a:xfrm>
            <a:off x="6372360" y="558972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6372360" y="6093000"/>
            <a:ext cx="64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6732720" y="40053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7020000" y="4005360"/>
            <a:ext cx="0" cy="208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1547640" y="3141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3708360" y="3141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6227640" y="3141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1332000" y="3429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3492360" y="3429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/>
          <p:nvPr/>
        </p:nvSpPr>
        <p:spPr>
          <a:xfrm>
            <a:off x="6012000" y="3429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/>
          <p:nvPr/>
        </p:nvSpPr>
        <p:spPr>
          <a:xfrm>
            <a:off x="1840680" y="3213000"/>
            <a:ext cx="2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/>
          <p:nvPr/>
        </p:nvSpPr>
        <p:spPr>
          <a:xfrm>
            <a:off x="4001040" y="3213000"/>
            <a:ext cx="2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6593400" y="3213000"/>
            <a:ext cx="2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/>
          <p:nvPr/>
        </p:nvSpPr>
        <p:spPr>
          <a:xfrm>
            <a:off x="1692360" y="6308640"/>
            <a:ext cx="65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/>
          <p:nvPr/>
        </p:nvSpPr>
        <p:spPr>
          <a:xfrm>
            <a:off x="3924360" y="630864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/>
          <p:nvPr/>
        </p:nvSpPr>
        <p:spPr>
          <a:xfrm>
            <a:off x="6443640" y="6308640"/>
            <a:ext cx="5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24000" y="476280"/>
            <a:ext cx="8496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1f497d"/>
                </a:solidFill>
                <a:uFillTx/>
                <a:latin typeface="Verdana"/>
              </a:rPr>
              <a:t>Znázornění seřizovacích konstant vzhledem k nulovému bodu revolverové hlavy (délkové korekce nástroj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/>
          <p:nvPr/>
        </p:nvSpPr>
        <p:spPr>
          <a:xfrm>
            <a:off x="4284720" y="3068640"/>
            <a:ext cx="143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5724360" y="1701360"/>
            <a:ext cx="0" cy="1366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4284720" y="1689120"/>
            <a:ext cx="1439640" cy="155520"/>
          </a:xfrm>
          <a:custGeom>
            <a:avLst/>
            <a:gdLst/>
            <a:ahLst/>
            <a:rect l="l" t="t" r="r" b="b"/>
            <a:pathLst>
              <a:path w="907" h="144">
                <a:moveTo>
                  <a:pt x="0" y="144"/>
                </a:moveTo>
                <a:cubicBezTo>
                  <a:pt x="109" y="80"/>
                  <a:pt x="219" y="16"/>
                  <a:pt x="317" y="8"/>
                </a:cubicBezTo>
                <a:cubicBezTo>
                  <a:pt x="415" y="0"/>
                  <a:pt x="491" y="98"/>
                  <a:pt x="589" y="98"/>
                </a:cubicBezTo>
                <a:cubicBezTo>
                  <a:pt x="687" y="98"/>
                  <a:pt x="854" y="23"/>
                  <a:pt x="907" y="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/>
          <p:nvPr/>
        </p:nvSpPr>
        <p:spPr>
          <a:xfrm>
            <a:off x="4284720" y="3068640"/>
            <a:ext cx="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4284720" y="3068640"/>
            <a:ext cx="0" cy="79200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068720" y="3718080"/>
            <a:ext cx="432000" cy="287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4500720" y="3718080"/>
            <a:ext cx="0" cy="5029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4068720" y="4221000"/>
            <a:ext cx="432000" cy="2890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068720" y="4005360"/>
            <a:ext cx="0" cy="5047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500720" y="3789000"/>
            <a:ext cx="647640" cy="43164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148360" y="3068640"/>
            <a:ext cx="0" cy="72072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4284720" y="4076640"/>
            <a:ext cx="73080" cy="6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4068720" y="2133720"/>
            <a:ext cx="432000" cy="4334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284720" y="256536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/>
          <p:nvPr/>
        </p:nvSpPr>
        <p:spPr>
          <a:xfrm>
            <a:off x="4284720" y="184464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/>
          <p:nvPr/>
        </p:nvSpPr>
        <p:spPr>
          <a:xfrm>
            <a:off x="4068720" y="2349360"/>
            <a:ext cx="4320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/>
          <p:nvPr/>
        </p:nvSpPr>
        <p:spPr>
          <a:xfrm>
            <a:off x="4284720" y="2133720"/>
            <a:ext cx="0" cy="43164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/>
          <p:nvPr/>
        </p:nvSpPr>
        <p:spPr>
          <a:xfrm>
            <a:off x="4284720" y="2565360"/>
            <a:ext cx="0" cy="7192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3348000" y="2349360"/>
            <a:ext cx="72072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/>
          <p:nvPr/>
        </p:nvSpPr>
        <p:spPr>
          <a:xfrm>
            <a:off x="4500720" y="2349360"/>
            <a:ext cx="71892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284720" y="1484280"/>
            <a:ext cx="0" cy="6494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/>
          <p:nvPr/>
        </p:nvSpPr>
        <p:spPr>
          <a:xfrm>
            <a:off x="4068720" y="4510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/>
          <p:nvPr/>
        </p:nvSpPr>
        <p:spPr>
          <a:xfrm>
            <a:off x="4284720" y="43657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/>
          <p:nvPr/>
        </p:nvSpPr>
        <p:spPr>
          <a:xfrm>
            <a:off x="3780000" y="4869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28472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4068720" y="486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987280" y="451008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987280" y="2349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3060720" y="234936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/>
          <p:nvPr/>
        </p:nvSpPr>
        <p:spPr>
          <a:xfrm>
            <a:off x="4388760" y="457668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/>
          <p:nvPr/>
        </p:nvSpPr>
        <p:spPr>
          <a:xfrm>
            <a:off x="2658240" y="3213000"/>
            <a:ext cx="40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/>
          <p:nvPr/>
        </p:nvSpPr>
        <p:spPr>
          <a:xfrm>
            <a:off x="4428000" y="1917720"/>
            <a:ext cx="31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Verdana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/>
          <p:nvPr/>
        </p:nvSpPr>
        <p:spPr>
          <a:xfrm>
            <a:off x="3297600" y="242100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Verdana"/>
              </a:rPr>
              <a:t>-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/>
          <p:nvPr/>
        </p:nvSpPr>
        <p:spPr>
          <a:xfrm>
            <a:off x="3943800" y="2852640"/>
            <a:ext cx="3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Verdana"/>
              </a:rPr>
              <a:t>-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/>
          <p:nvPr/>
        </p:nvSpPr>
        <p:spPr>
          <a:xfrm>
            <a:off x="4890960" y="242100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Verdana"/>
              </a:rPr>
              <a:t>+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/>
          <p:nvPr/>
        </p:nvSpPr>
        <p:spPr>
          <a:xfrm>
            <a:off x="3881160" y="16286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Verdana"/>
              </a:rPr>
              <a:t>+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/>
          <p:nvPr/>
        </p:nvSpPr>
        <p:spPr>
          <a:xfrm>
            <a:off x="3792240" y="4457880"/>
            <a:ext cx="3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Verdana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/>
          <p:nvPr/>
        </p:nvSpPr>
        <p:spPr>
          <a:xfrm>
            <a:off x="684360" y="5445000"/>
            <a:ext cx="7991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 – nulový bod revolverové hlav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 – bod špičky nástro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Použitá literatura: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lastní text a obrázk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</cp:lastModifiedBy>
  <dcterms:modified xsi:type="dcterms:W3CDTF">2013-10-24T08:42:22Z</dcterms:modified>
  <cp:revision>14</cp:revision>
  <dc:subject/>
  <dc:title>Název DUMu</dc:title>
</cp:coreProperties>
</file>