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327-29C7-4D7B-B6E9-B092E760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961-B07E-45B5-A780-8474565B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8CB-8A1A-47AA-B47D-4FE688D4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8CA-2C71-4866-8896-515C7321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32B-6DEE-4839-8737-3C13945B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203-E0CF-4401-9103-68690FF3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94D-4026-4708-B826-42938A9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326-E9C8-4286-9939-DB57B347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35C-0E05-4CD8-8EFF-4C3CF54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D8E-327E-4096-A07F-3C40ACB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216-8220-420D-AA2D-E13BA90C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A62-DDE3-4403-AB6F-3E5970E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22EA-1AF3-4E74-8565-C4D7F392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renishaw.cz/cs/rmi-q--18920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ůsoby seřizování nástr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476360" y="26370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působy seřizování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734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roslav Valent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působy seřizování ná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působy seřizování ná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.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ební text je doplněn obrázky a vysvětluje oblast měření nástrojů a určování  jejich korekčních hodnot pomocí nejnovějších metod a způsobů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4936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Měření nástrojů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3-D dotykové sondy pro obráběcí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-D dotykové sondy jsou určeny pro použití na frézkách a obráběcích centrech. 3-D dotykové sondy pomáhají snižovat náklady v dílnách a středních podnicích: NC řízení může automaticky vykonávat úlohy nastavení, měření a kontroly a to ve většině případů v NC programe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 spínacích 3D nástrojových sond TT 140 dojde při snímání stojícího nebo rotujícího nástroje k vychýlení snímacího talíře z klidové pozice a dojde k přenosu spínacího signálu do řízení NC. Laserové systémy TL pracují bezdotykově. Laserový paprsek snímá délku, průměr nebo konturu nástroje. Speciální měřící cykly zpracovávají informace do řízení N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51640" y="3933720"/>
            <a:ext cx="1447920" cy="186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HEIDENHAIN touch probe"/>
          <p:cNvPicPr/>
          <p:nvPr/>
        </p:nvPicPr>
        <p:blipFill>
          <a:blip r:embed="rId2"/>
          <a:stretch/>
        </p:blipFill>
        <p:spPr>
          <a:xfrm>
            <a:off x="611280" y="1197000"/>
            <a:ext cx="626580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620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Nástrojové sondy firmy HEIDENH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RTS (sonda pro rádiové nastavení nástrojů)"/>
          <p:cNvPicPr/>
          <p:nvPr/>
        </p:nvPicPr>
        <p:blipFill>
          <a:blip r:embed="rId3"/>
          <a:stretch/>
        </p:blipFill>
        <p:spPr>
          <a:xfrm>
            <a:off x="684360" y="4581360"/>
            <a:ext cx="2158920" cy="158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3716280"/>
            <a:ext cx="763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Sonda RTS komunikuje přes rádiové rozhraní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RMI-Q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 umožňující použití několika sond na jednom stro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Miniatura RTS"/>
          <p:cNvPicPr/>
          <p:nvPr/>
        </p:nvPicPr>
        <p:blipFill>
          <a:blip r:embed="rId5"/>
          <a:stretch/>
        </p:blipFill>
        <p:spPr>
          <a:xfrm>
            <a:off x="3635280" y="4653000"/>
            <a:ext cx="1727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5080" cy="411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03640" y="1828800"/>
            <a:ext cx="364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zkontaktní nástrojové sondy využívají laserový paprsek procházející mezi vysílačem a přijímačem paprsku. Obě části systému jsou umístěny na stole stroje nebo po jeho stranách tak, aby byl zajištěn vzájemný relativní pohyb nástroje k laseru nejméně ve dvou osách a aby současně všechny nástroje mohly dojet až k paprsku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76280"/>
            <a:ext cx="820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Laserové systémy pro seřizování nástrojů a detekci poškozených nástroj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33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Výkonné měření a kontrola nástrojů pomocí kamerových systém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705560" cy="4772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8005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404640"/>
            <a:ext cx="734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Optimalizace nástrojových toků při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13412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2360" y="6021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říprava nástroje začíná u technolog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1719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5229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šechna skladová místa nástrojů mají svou adresu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539280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řizovač podle údajů systému vybavuje vozík pro stroj zařazený v koloběhu nástrojů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obrázky Technický týdeník a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51:27Z</dcterms:modified>
  <cp:revision>15</cp:revision>
  <dc:subject/>
  <dc:title>Název DUMu</dc:title>
</cp:coreProperties>
</file>