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4DA-B87A-484C-8C7C-6FBBA001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9DE-98AF-484B-B62F-78E6030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3C5-474E-4219-A044-5C6C73E0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517-56F5-485C-A445-CDD26A9E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EC1-C631-4FAB-A876-2593DEC7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68E-5E3E-4A0E-BC86-92EAD559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F23-5208-465B-87B2-E16DEA7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8EE-E450-441F-98ED-1AD922E8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731-391C-4536-BB77-F80A5DB0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722-ADFD-493E-8968-BA7B03D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FC5-5BB4-4A52-9296-59925DF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17B-B04B-4E44-82C1-F10BF638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13EC-EB7C-49DA-947B-ACF9D0D8EC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peciální nástroje pro CNC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28880" y="2643120"/>
            <a:ext cx="55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_Speciální nástroje pro CNC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72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 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ovéPole 3"/>
          <p:cNvSpPr/>
          <p:nvPr/>
        </p:nvSpPr>
        <p:spPr>
          <a:xfrm>
            <a:off x="357120" y="3571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Technologie vysokorychlostního obrábění – 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každý obráběný materiál je hranice tzv. vysoké řezné rychlosti odlišná, tuto hranici ovlivňuje druh řezného materiálu, tenká vrstva, geometrie břitu a konstrukční provedení nástroje – nástroj monolitní nebo s vyměnitelnými břitovými destičk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5831"/>
          <p:cNvPicPr/>
          <p:nvPr/>
        </p:nvPicPr>
        <p:blipFill>
          <a:blip r:embed="rId1"/>
          <a:stretch/>
        </p:blipFill>
        <p:spPr>
          <a:xfrm>
            <a:off x="714240" y="2357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5830_big"/>
          <p:cNvPicPr/>
          <p:nvPr/>
        </p:nvPicPr>
        <p:blipFill>
          <a:blip r:embed="rId2"/>
          <a:srcRect l="35779" t="0" r="0" b="0"/>
          <a:stretch/>
        </p:blipFill>
        <p:spPr>
          <a:xfrm>
            <a:off x="4746600" y="2143080"/>
            <a:ext cx="3987720" cy="2160720"/>
          </a:xfrm>
          <a:prstGeom prst="rect">
            <a:avLst/>
          </a:prstGeom>
          <a:ln w="0">
            <a:noFill/>
          </a:ln>
        </p:spPr>
      </p:pic>
      <p:sp>
        <p:nvSpPr>
          <p:cNvPr id="73" name="TextovéPole 6"/>
          <p:cNvSpPr/>
          <p:nvPr/>
        </p:nvSpPr>
        <p:spPr>
          <a:xfrm>
            <a:off x="642960" y="535788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ysokorychlostní obrábění kalené litiny (řezná rychlost 750 m.mi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ovéPole 7"/>
          <p:cNvSpPr/>
          <p:nvPr/>
        </p:nvSpPr>
        <p:spPr>
          <a:xfrm>
            <a:off x="4572000" y="464328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ypová řada nástrojů firmy Hofmeister s řeznou keram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obrábění kalených materiá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ovéPole 3"/>
          <p:cNvSpPr/>
          <p:nvPr/>
        </p:nvSpPr>
        <p:spPr>
          <a:xfrm>
            <a:off x="428760" y="5716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Koncepce poháněných nástrojových držáků Performance Line je přizpůsobena pro všechny typy CNC soustruh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565_big"/>
          <p:cNvPicPr/>
          <p:nvPr/>
        </p:nvPicPr>
        <p:blipFill>
          <a:blip r:embed="rId1"/>
          <a:stretch/>
        </p:blipFill>
        <p:spPr>
          <a:xfrm>
            <a:off x="1071720" y="1500120"/>
            <a:ext cx="6638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43840" cy="461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54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Poháněné nástrojové držáky modulárního 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ální nástroje pro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68_Speciální nástroje pro CNC 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é listy ukazují obrazně nástroje, které mají použití při speciálních technologiích obrábění. Dále vysvětlují použití držáků modulárního typ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517_big"/>
          <p:cNvPicPr/>
          <p:nvPr/>
        </p:nvPicPr>
        <p:blipFill>
          <a:blip r:embed="rId1"/>
          <a:srcRect l="0" t="5291" r="0" b="15118"/>
          <a:stretch/>
        </p:blipFill>
        <p:spPr>
          <a:xfrm>
            <a:off x="928800" y="2928960"/>
            <a:ext cx="7048440" cy="378936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4"/>
          <p:cNvSpPr/>
          <p:nvPr/>
        </p:nvSpPr>
        <p:spPr>
          <a:xfrm>
            <a:off x="285840" y="107172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lotworx S/M/L představuje komplexní program rohových a drážkových fréz pro univerzální použití: hrubování a dokončování oceli, hliníku, grafitu, plastu a tvrzených materiálů a uplatní se i při obrábění nerezových ocelí. Frézy se uplatní také při čelním a obvodovém frézování, frézování drážek a kapes a při šikmém a cirkulárním zapich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5"/>
          <p:cNvSpPr/>
          <p:nvPr/>
        </p:nvSpPr>
        <p:spPr>
          <a:xfrm>
            <a:off x="357120" y="42876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Nové trendy nástrojů pro CNC obráb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ovéPole 3"/>
          <p:cNvSpPr/>
          <p:nvPr/>
        </p:nvSpPr>
        <p:spPr>
          <a:xfrm>
            <a:off x="285840" y="428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Vysoce výkonné vrtáky s výměnnou vrtací hlavou Hydra vynikají vysokou odolností vůči opotřebení a koro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6579_big"/>
          <p:cNvPicPr/>
          <p:nvPr/>
        </p:nvPicPr>
        <p:blipFill>
          <a:blip r:embed="rId1"/>
          <a:stretch/>
        </p:blipFill>
        <p:spPr>
          <a:xfrm>
            <a:off x="826920" y="1052640"/>
            <a:ext cx="7143840" cy="1866600"/>
          </a:xfrm>
          <a:prstGeom prst="rect">
            <a:avLst/>
          </a:prstGeom>
          <a:ln w="0">
            <a:noFill/>
          </a:ln>
        </p:spPr>
      </p:pic>
      <p:sp>
        <p:nvSpPr>
          <p:cNvPr id="52" name="TextovéPole 5"/>
          <p:cNvSpPr/>
          <p:nvPr/>
        </p:nvSpPr>
        <p:spPr>
          <a:xfrm>
            <a:off x="357120" y="3357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Vysoce výkonné monolitní vrtáky ze slinutého karbidu do hliníku CDX-Al R587 pro vrtání otvorů do hloubky 3x D</a:t>
            </a:r>
            <a:r>
              <a:rPr b="0" lang="cs-CZ" sz="1800" spc="-1" strike="noStrike">
                <a:solidFill>
                  <a:srgbClr val="00cc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6580_big"/>
          <p:cNvPicPr/>
          <p:nvPr/>
        </p:nvPicPr>
        <p:blipFill>
          <a:blip r:embed="rId2"/>
          <a:stretch/>
        </p:blipFill>
        <p:spPr>
          <a:xfrm>
            <a:off x="857160" y="4214880"/>
            <a:ext cx="7143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14384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4936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Tvrdokovové nástroje pro vrtání a fréz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645000"/>
            <a:ext cx="842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zmanitost frézovacího programu vychází z možností kombinování 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úhlu břitů, počtem zubů, tvarem čela, délkou vyložení, vnitřním chlazením, tvarem stopky a povlakováním,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přičemž se ideální sestava řídí speciálními požadavky zákazníka. Inovaci v oblasti frézování představují frézy Taurus. Tyto frézy se vyznačují speciálním trapézovým tvarem břitů, který na rozdíl od přímých břitů přináší výhody v redukci síly působící na břit. Díky tomu jsou možné daleko větší úběry materiálu, a nástroj tak může dosahovat také vyššího výkonu po celou dobu své živo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ovéPole 3"/>
          <p:cNvSpPr/>
          <p:nvPr/>
        </p:nvSpPr>
        <p:spPr>
          <a:xfrm>
            <a:off x="357120" y="3571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Nástroje pro výrobu a úpravu otvorů</a:t>
            </a:r>
            <a:r>
              <a:rPr b="0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4215"/>
          <p:cNvPicPr/>
          <p:nvPr/>
        </p:nvPicPr>
        <p:blipFill>
          <a:blip r:embed="rId1"/>
          <a:stretch/>
        </p:blipFill>
        <p:spPr>
          <a:xfrm>
            <a:off x="571680" y="114300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4216"/>
          <p:cNvPicPr/>
          <p:nvPr/>
        </p:nvPicPr>
        <p:blipFill>
          <a:blip r:embed="rId2"/>
          <a:stretch/>
        </p:blipFill>
        <p:spPr>
          <a:xfrm>
            <a:off x="4676760" y="114300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4218"/>
          <p:cNvPicPr/>
          <p:nvPr/>
        </p:nvPicPr>
        <p:blipFill>
          <a:blip r:embed="rId3"/>
          <a:stretch/>
        </p:blipFill>
        <p:spPr>
          <a:xfrm>
            <a:off x="571680" y="3879720"/>
            <a:ext cx="3809880" cy="262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4221"/>
          <p:cNvPicPr/>
          <p:nvPr/>
        </p:nvPicPr>
        <p:blipFill>
          <a:blip r:embed="rId4"/>
          <a:stretch/>
        </p:blipFill>
        <p:spPr>
          <a:xfrm>
            <a:off x="4676760" y="387972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7872_big"/>
          <p:cNvPicPr/>
          <p:nvPr/>
        </p:nvPicPr>
        <p:blipFill>
          <a:blip r:embed="rId1"/>
          <a:srcRect l="0" t="0" r="0" b="30237"/>
          <a:stretch/>
        </p:blipFill>
        <p:spPr>
          <a:xfrm>
            <a:off x="2000160" y="1714680"/>
            <a:ext cx="5112000" cy="34556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6"/>
          <p:cNvSpPr/>
          <p:nvPr/>
        </p:nvSpPr>
        <p:spPr>
          <a:xfrm>
            <a:off x="642960" y="6429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Čtyřnásobná životnost s novým nástrojovým systém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7"/>
          <p:cNvSpPr/>
          <p:nvPr/>
        </p:nvSpPr>
        <p:spPr>
          <a:xfrm>
            <a:off x="928800" y="55008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ystém Spinworx s otočnými břitovými destičk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7891"/>
          <p:cNvPicPr/>
          <p:nvPr/>
        </p:nvPicPr>
        <p:blipFill>
          <a:blip r:embed="rId1"/>
          <a:stretch/>
        </p:blipFill>
        <p:spPr>
          <a:xfrm>
            <a:off x="2143080" y="15717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4"/>
          <p:cNvSpPr/>
          <p:nvPr/>
        </p:nvSpPr>
        <p:spPr>
          <a:xfrm>
            <a:off x="1785960" y="6429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Nástrojový systém DR pro vystru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5"/>
          <p:cNvSpPr/>
          <p:nvPr/>
        </p:nvSpPr>
        <p:spPr>
          <a:xfrm>
            <a:off x="1143000" y="5786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odulární systém výstružníků DR Ø 11,9-100,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92_big"/>
          <p:cNvPicPr/>
          <p:nvPr/>
        </p:nvPicPr>
        <p:blipFill>
          <a:blip r:embed="rId1"/>
          <a:stretch/>
        </p:blipFill>
        <p:spPr>
          <a:xfrm>
            <a:off x="2484360" y="1125360"/>
            <a:ext cx="417528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ovéPole 4"/>
          <p:cNvSpPr/>
          <p:nvPr/>
        </p:nvSpPr>
        <p:spPr>
          <a:xfrm>
            <a:off x="1071720" y="5716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Nástrojový systém DAH pro vysokorychlostní fr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4:41Z</dcterms:modified>
  <cp:revision>18</cp:revision>
  <dc:subject/>
  <dc:title>Název DUMu</dc:title>
</cp:coreProperties>
</file>