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D08-8246-440D-9A95-F06D5E49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771-F639-46EF-9834-55000AE6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C12-0EAC-42E1-B05F-1B30777D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0B1-E4AF-4248-9021-4486400B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D35-BD94-4FA8-BB0E-E210740D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E54-94F1-4065-9685-3998519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B73-DFA3-4F35-8D71-0F40B368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677-51A1-44EB-88BD-FEF52C57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E5C-97F5-4D4E-A9AB-75FB32D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A29-00D8-40B7-84EA-BACB918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A80-AD1B-469F-B7A1-C70F338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420-8017-4720-9AE3-3ED317B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8D9-F19C-4516-A4DA-680702CD5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kteristické znaky CNC 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403280" y="2565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kteristické znaky CNC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796000" y="5516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610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kteristické znaky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arakteristické znaky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ební text zahrnuje základní konstrukční znaky CNC strojů. Jasně ukazuje nejdůležitější z nich – chlazení a možnosti valivých vedení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76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Charakteristické  znaky  konstrukce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C/CNC stro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268280"/>
            <a:ext cx="9144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1. Zdroje tepla jsou kompenzovány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-  neovlivňuje se chod a přesnost práce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2. Nastavení optimální řezné rychlosti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-  plynulá změna otáček vřet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3. Nízké pasivní odpory přímočarých a kruhových vedení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-  valivá, hydrostatická vedení = vysoká životnost, nejsou zdrojem tep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4. Automatické poloh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5. Automatická výměna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6. Automatická výměna obrobků (ne u vše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7. Přizpůsobení stroje k automatickému odvodu tří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8. Adaptivní řízení (ne u vše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9. Technická diagnostika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- monitorování obr. stroje, nástroje, řezného procesu a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10. Vysoká tuhost a přesnost provedení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-  šikmá a svislá lože, litinová příhradníková lože, polymerbeton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jako výpl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53360" y="2997360"/>
            <a:ext cx="1790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60280"/>
            <a:ext cx="84978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Kompenzace tep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lakové chlazení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ystém tlakového chlazení Jetstream Tooling tryskami přivádí chladicí médium co nejblíže k břitu nástroje. Tím se vytváří optimální podmínky pro odvod třísek z místa řezu, zlepšení utváření a dělení třísek i zvýšení trvanlivosti nástroje. Příznivé působení uvedených vlivů umožní využít intenzivnější řezné podmín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hlazení JT vytváří na čele nástroje hydraulický klín, který přispívá nejen k utváření, deformaci a dělení třísek na malé segmenty, ale současně intenzivně chladí celou oblast řezá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2494" r="0" b="0"/>
          <a:stretch/>
        </p:blipFill>
        <p:spPr>
          <a:xfrm>
            <a:off x="611280" y="3789360"/>
            <a:ext cx="3057480" cy="278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1523880"/>
            <a:ext cx="5113440" cy="478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40464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Automatická výměna obrobků na fréz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ém pa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907920"/>
            <a:ext cx="8425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 u="sng">
                <a:solidFill>
                  <a:srgbClr val="1f497d"/>
                </a:solidFill>
                <a:uFillTx/>
                <a:latin typeface="Verdana"/>
              </a:rPr>
              <a:t>Bezprofilový kuličkový šro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Verdana"/>
              </a:rPr>
              <a:t>Výrobek Bezprofilový kuličkový šroub, vystavený na veletrhu MSV 2009, byl přihlášen do soutěže Zlatá medaile a hodnotitelská komise ho nominovala na kandidáty oceně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Verdana"/>
              </a:rPr>
              <a:t>Výrobce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en" sz="1800" spc="-1" strike="noStrike">
                <a:solidFill>
                  <a:srgbClr val="000000"/>
                </a:solidFill>
                <a:latin typeface="Verdana"/>
              </a:rPr>
              <a:t>uličkov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ých</a:t>
            </a:r>
            <a:r>
              <a:rPr b="1" lang="en" sz="1800" spc="-1" strike="noStrike">
                <a:solidFill>
                  <a:srgbClr val="000000"/>
                </a:solidFill>
                <a:latin typeface="Verdana"/>
              </a:rPr>
              <a:t> šroub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1" lang="en" sz="1800" spc="-1" strike="noStrike">
                <a:solidFill>
                  <a:srgbClr val="000000"/>
                </a:solidFill>
                <a:latin typeface="Verdana"/>
              </a:rPr>
              <a:t> Kuřim, a. s., Popis</a:t>
            </a:r>
            <a:r>
              <a:rPr b="1" i="1" lang="en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" sz="1800" spc="-1" strike="noStrike">
                <a:solidFill>
                  <a:srgbClr val="000000"/>
                </a:solidFill>
                <a:latin typeface="Verdana"/>
              </a:rPr>
              <a:t> Realizace převodu rotačního pohybu na přímočarý s využitím pružných deformací materiálu hladké hřídele, po které se odvalují předepnuté kuličky vedené pouze v závitovém profilu ma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7848720" cy="172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404640"/>
            <a:ext cx="82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Kuličkové šrouby a lineární vedení – zajišťují valivý odp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62064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Kuličkové šrouby se vyznačují velkou přesností, vysokou frekvencí pohybů, jsou bez vůlí, mají vysokou životnost a nejsou zdrojem tep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1533240" cy="1038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16000" y="472428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300720" y="4005360"/>
            <a:ext cx="154296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4365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Řez kuličkovým šroub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476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Různé typy lineárního ved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1542960" cy="222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2346120" cy="17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92720" y="260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771640" y="39337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724360" y="3141720"/>
            <a:ext cx="2592720" cy="126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64000" y="4221000"/>
            <a:ext cx="2665440" cy="216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508720" y="2276640"/>
            <a:ext cx="29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neární vedení s pohybovým šroub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Vlastní text, obrázky Průmyslové spek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18:29:07Z</dcterms:modified>
  <cp:revision>26</cp:revision>
  <dc:subject/>
  <dc:title>Název DUMu</dc:title>
</cp:coreProperties>
</file>