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B9D-6133-472A-9B47-7664BB1D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E4C-9C41-4C25-808C-95062707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54B-E2CA-4EDB-9DEE-989F4964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EF1-A7C8-4E39-84BF-4E79AA3C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614-25FA-45BC-8630-43DAE73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A70-38B6-4CA7-B33E-9C07F963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3AC-8D4B-4D38-B2D5-D5C1DF9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45C-36D4-42C8-BFCF-6B99743E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D1C-C2AF-434A-83F6-234C1F75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069-F3F8-4876-B6A1-441C47A1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877-1F30-4AE6-8035-599A8015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92F-E590-480F-93C5-75DCEB9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CAD6-5EBE-450C-B98E-1E62BDD2C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ínosy CNC techn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476360" y="2637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nosy CNC techni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79600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ínosy CNC techni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číslo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řínosy CNC techni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12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uvádí široký záběr CNC techniky jak ve strojírenském průmyslu, tak i v jiných technických oborech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92280"/>
            <a:ext cx="8424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Přínosy NC techn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Primární nároky: </a:t>
            </a: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                                 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 Primární účink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Náklady na pořízení NC strojů             1. Zvýšení výrob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Náklady na provoz NC strojů               2. Úspora DH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Sekundární nároky a účink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V etapě přípravy a zajištění výrob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Ve výrobním procesu mimo NC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V podnikovém organizmu jako cel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62064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836640"/>
            <a:ext cx="8424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ktory a směry vývoje CNC strojů generují požadavky a ty posléze směry vývoje hlavních užitných vlastností obráběcích stroj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zi hlavní směry vývoje patří následující aspek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vyšování přes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vyšování jak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vyšování výrobního výko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vyšování spolehliv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vyšování hospodár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nižování negativních dop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371628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47640" y="836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Faktory ovlivňující vývoj obráběcích 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22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větví průmys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22035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ce  na tr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203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azník (spotřebit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869080" y="22035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voj technologie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075120" y="3562200"/>
            <a:ext cx="28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žadavky na konstrukci obráběcích 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629080" y="4653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ěry vývoje hlavních užitných vlastností obráběcích 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1268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47280" y="1987560"/>
            <a:ext cx="302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875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1987560"/>
            <a:ext cx="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87560"/>
            <a:ext cx="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198756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7237440" y="198756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3068640"/>
            <a:ext cx="187164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2995200"/>
            <a:ext cx="165708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4292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, Konstrukce CNC obráběcích strojů Marek a kol.ISBN 978-80-254-7980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18:31:51Z</dcterms:modified>
  <cp:revision>12</cp:revision>
  <dc:subject/>
  <dc:title>Název DUMu</dc:title>
</cp:coreProperties>
</file>