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53D-4087-4A15-AFEA-2F2CF8E5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F7A-1511-4EE3-8EA7-913B7BFB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E4E-BEF2-4548-9E77-3F8CBD61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E81-C249-44A1-BC16-CADC7AC3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E79-1409-42C5-A4DA-6D004260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E7D-B3AF-4DE7-9C5B-1DEE7A9C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F86-B1FB-4AC6-8A48-41D0A3CF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335-7271-432F-BAAE-F32EE2F6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32C-7EC3-47F3-A39C-E3FAF858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3FB-15C3-4904-8F28-28FD65E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9D0-DE7A-4B08-B1B8-B5622863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0B0-7D67-4AAC-B4A2-A33E6CB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6982-E666-44F2-9BEF-EC7205743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erko.cz/data/foto/16/162655_b_l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verko.cz/data/foto/16/162575_n_l.jpg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hyperlink" Target="http://www.verko.cz/data/foto/16/161700_b_l.jpg" TargetMode="External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erko.cz/data/foto/16/163650_b_l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hyperlink" Target="http://www.verko.cz/data/foto/16/160000_b_l.jpg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hyperlink" Target="http://www.verko.cz/data/foto/16/166200_b_l.jpg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9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erko.cz/data/foto/16/168800_b_l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hyperlink" Target="http://www.verko.cz/data/foto/16/168880_b_l.jp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9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16.jpeg"/><Relationship Id="rId12" Type="http://schemas.openxmlformats.org/officeDocument/2006/relationships/image" Target="../media/image25.jpeg"/><Relationship Id="rId13" Type="http://schemas.openxmlformats.org/officeDocument/2006/relationships/image" Target="../media/image18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rko.cz/data/foto/17/175270_b_l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12.jpeg"/><Relationship Id="rId4" Type="http://schemas.openxmlformats.org/officeDocument/2006/relationships/hyperlink" Target="http://www.verko.cz/data/foto/17/175367_n_l.jpg" TargetMode="External"/><Relationship Id="rId5" Type="http://schemas.openxmlformats.org/officeDocument/2006/relationships/image" Target="../media/image29.jpeg"/><Relationship Id="rId6" Type="http://schemas.openxmlformats.org/officeDocument/2006/relationships/image" Target="../media/image7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ko.cz/data/foto/17/179054_m_l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verko.cz/data/foto/17/175369_m_l.jpg" TargetMode="External"/><Relationship Id="rId4" Type="http://schemas.openxmlformats.org/officeDocument/2006/relationships/image" Target="../media/image32.jpeg"/><Relationship Id="rId5" Type="http://schemas.openxmlformats.org/officeDocument/2006/relationships/image" Target="../media/image9.jpeg"/><Relationship Id="rId6" Type="http://schemas.openxmlformats.org/officeDocument/2006/relationships/image" Target="../media/image33.jpeg"/><Relationship Id="rId7" Type="http://schemas.openxmlformats.org/officeDocument/2006/relationships/image" Target="../media/image12.jpeg"/><Relationship Id="rId8" Type="http://schemas.openxmlformats.org/officeDocument/2006/relationships/hyperlink" Target="http://www.verko.cz/data/foto/17/175390_n_l.jpg" TargetMode="External"/><Relationship Id="rId9" Type="http://schemas.openxmlformats.org/officeDocument/2006/relationships/image" Target="../media/image34.jpeg"/><Relationship Id="rId10" Type="http://schemas.openxmlformats.org/officeDocument/2006/relationships/image" Target="../media/image7.jpeg"/><Relationship Id="rId11" Type="http://schemas.openxmlformats.org/officeDocument/2006/relationships/image" Target="../media/image5.jpeg"/><Relationship Id="rId12" Type="http://schemas.openxmlformats.org/officeDocument/2006/relationships/image" Target="../media/image33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erko.cz/data/foto/17/178805_n_l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verko.cz/data/foto/17/179554_m_l.jpg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www.verko.cz/data/foto/13/132570_b_l.jpg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www.verko.cz/data/foto/13/132675_n_l.jpg" TargetMode="External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sové ná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ové ná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66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lastní text, obrázky katalog Preci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ové nást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sové nást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1.20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jasně vysvětluje možnosti upínání osových nástrojů, jejich řezný materiál a katalogové značení pro možné vyhledání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395280" y="54936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Upínání nástrojů na NC frézovacích a vyvrtávacích strojích a     obráběcích cent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5280" y="1628640"/>
            <a:ext cx="799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Požadavky na soustavu upínačů nástrojů s kuželovou stopkou 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68360" y="2708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osová stavitelnost nást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možnost nastavení v radiální rovině tak, aby bylo mož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stavení nástrojů na jmenovitý prů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ínání držáku ve vřetenu se provádí rychloupínací jednotkou, která musí být samosvorná a musí upínat všechny nástroje stále stejnou silou, aby nedocházelo k nepřesnostem v poloze nástro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leštiny, kuličkový uzávěr, pružiny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ínání -  hydraulika, pneumatika, ruční,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ednotná soustava nářadí s kuželovou stopkou 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24720" y="112536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ovéPole 3"/>
          <p:cNvSpPr/>
          <p:nvPr/>
        </p:nvSpPr>
        <p:spPr>
          <a:xfrm>
            <a:off x="428760" y="50004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Typy osových nástroj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Druhy stopkových fréz používaných na CNC stroj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Fréza drážkovací  3z -typ N-DIN844-XXL- |45x95| d=10 |HSS-S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143080"/>
            <a:ext cx="3809880" cy="48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7560" y="3600"/>
            <a:ext cx="157572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3760" tIns="11916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oužití pro nerez"/>
          <p:cNvPicPr/>
          <p:nvPr/>
        </p:nvPicPr>
        <p:blipFill>
          <a:blip r:embed="rId3"/>
          <a:stretch/>
        </p:blipFill>
        <p:spPr>
          <a:xfrm>
            <a:off x="6929280" y="200016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oužití pro litinu"/>
          <p:cNvPicPr/>
          <p:nvPr/>
        </p:nvPicPr>
        <p:blipFill>
          <a:blip r:embed="rId4"/>
          <a:stretch/>
        </p:blipFill>
        <p:spPr>
          <a:xfrm>
            <a:off x="6000840" y="20001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8"/>
          <p:cNvSpPr/>
          <p:nvPr/>
        </p:nvSpPr>
        <p:spPr>
          <a:xfrm>
            <a:off x="4643280" y="1857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ouži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Fréza válcová 3z, typ N |22x72| d=10 | HSS-P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3500280"/>
            <a:ext cx="3809880" cy="714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15480" y="3600"/>
            <a:ext cx="236952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3760" tIns="11916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         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Použití pro ocel"/>
          <p:cNvPicPr/>
          <p:nvPr/>
        </p:nvPicPr>
        <p:blipFill>
          <a:blip r:embed="rId7"/>
          <a:stretch/>
        </p:blipFill>
        <p:spPr>
          <a:xfrm>
            <a:off x="6072120" y="3429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Použití pro nerez"/>
          <p:cNvPicPr/>
          <p:nvPr/>
        </p:nvPicPr>
        <p:blipFill>
          <a:blip r:embed="rId8"/>
          <a:stretch/>
        </p:blipFill>
        <p:spPr>
          <a:xfrm>
            <a:off x="7000920" y="3429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Použití pro litinu"/>
          <p:cNvPicPr/>
          <p:nvPr/>
        </p:nvPicPr>
        <p:blipFill>
          <a:blip r:embed="rId9"/>
          <a:stretch/>
        </p:blipFill>
        <p:spPr>
          <a:xfrm>
            <a:off x="7929720" y="3429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Fréza drážkovací  2z -typ N - |13x63| d=10 |-  HSS-SO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28760" y="5286240"/>
            <a:ext cx="3809880" cy="7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Univerzální použití"/>
          <p:cNvPicPr/>
          <p:nvPr/>
        </p:nvPicPr>
        <p:blipFill>
          <a:blip r:embed="rId12"/>
          <a:stretch/>
        </p:blipFill>
        <p:spPr>
          <a:xfrm>
            <a:off x="6072120" y="514368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réza válcová  4z -typ N-DIN844-XL- |22x72| d=10 |HSS-S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071720"/>
            <a:ext cx="3809880" cy="79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Univerzální použití"/>
          <p:cNvPicPr/>
          <p:nvPr/>
        </p:nvPicPr>
        <p:blipFill>
          <a:blip r:embed="rId3"/>
          <a:stretch/>
        </p:blipFill>
        <p:spPr>
          <a:xfrm>
            <a:off x="6643800" y="10000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66" name="TextovéPole 5"/>
          <p:cNvSpPr/>
          <p:nvPr/>
        </p:nvSpPr>
        <p:spPr>
          <a:xfrm>
            <a:off x="5143680" y="785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ouži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réza válcová 1z -typ W | 14x80 | d= 8,0 |   HSS-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680" y="2857680"/>
            <a:ext cx="3809880" cy="41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oužití pro slitiny AL a měkké materiály"/>
          <p:cNvPicPr/>
          <p:nvPr/>
        </p:nvPicPr>
        <p:blipFill>
          <a:blip r:embed="rId6"/>
          <a:stretch/>
        </p:blipFill>
        <p:spPr>
          <a:xfrm>
            <a:off x="6643800" y="25718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Fréza válcová  hrubovací 4z -typ HR-DIN327-  |13x63| d=10 |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040" y="4071960"/>
            <a:ext cx="3809880" cy="71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Univerzální použití"/>
          <p:cNvPicPr/>
          <p:nvPr/>
        </p:nvPicPr>
        <p:blipFill>
          <a:blip r:embed="rId9"/>
          <a:stretch/>
        </p:blipFill>
        <p:spPr>
          <a:xfrm>
            <a:off x="6643800" y="40719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Rozměrová evropská norma nástroje"/>
          <p:cNvPicPr/>
          <p:nvPr/>
        </p:nvPicPr>
        <p:blipFill>
          <a:blip r:embed="rId10"/>
          <a:stretch/>
        </p:blipFill>
        <p:spPr>
          <a:xfrm>
            <a:off x="7786800" y="54291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http://www.verko.cz/data/piktogramy/E/4_zaehne.jpg"/>
          <p:cNvPicPr/>
          <p:nvPr/>
        </p:nvPicPr>
        <p:blipFill>
          <a:blip r:embed="rId11"/>
          <a:stretch/>
        </p:blipFill>
        <p:spPr>
          <a:xfrm>
            <a:off x="7000920" y="54291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www.verko.cz/data/piktogramy/G/drallwinkel_30_15.jpg"/>
          <p:cNvPicPr/>
          <p:nvPr/>
        </p:nvPicPr>
        <p:blipFill>
          <a:blip r:embed="rId12"/>
          <a:stretch/>
        </p:blipFill>
        <p:spPr>
          <a:xfrm>
            <a:off x="6215040" y="54291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http://www.verko.cz/data/piktogramy/J/fraeserlaenge_kurz.jpg"/>
          <p:cNvPicPr/>
          <p:nvPr/>
        </p:nvPicPr>
        <p:blipFill>
          <a:blip r:embed="rId13"/>
          <a:stretch/>
        </p:blipFill>
        <p:spPr>
          <a:xfrm>
            <a:off x="4643280" y="542916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http://www.verko.cz/data/piktogramy/J/zentrumsschnitt.jpg"/>
          <p:cNvPicPr/>
          <p:nvPr/>
        </p:nvPicPr>
        <p:blipFill>
          <a:blip r:embed="rId14"/>
          <a:stretch/>
        </p:blipFill>
        <p:spPr>
          <a:xfrm>
            <a:off x="3857760" y="54291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verko.cz/data/piktogramy/S/6535_hb_schaft.jpg"/>
          <p:cNvPicPr/>
          <p:nvPr/>
        </p:nvPicPr>
        <p:blipFill>
          <a:blip r:embed="rId15"/>
          <a:stretch/>
        </p:blipFill>
        <p:spPr>
          <a:xfrm>
            <a:off x="5429160" y="54291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77" name="TextovéPole 17"/>
          <p:cNvSpPr/>
          <p:nvPr/>
        </p:nvSpPr>
        <p:spPr>
          <a:xfrm>
            <a:off x="357120" y="53578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Verdana"/>
              </a:rPr>
              <a:t>Značení pro katalogové vyhled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réza kopírovací  mini 2-3z -typ N-PN-HSS-S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1571760"/>
            <a:ext cx="3809880" cy="523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Použití pro ocel"/>
          <p:cNvPicPr/>
          <p:nvPr/>
        </p:nvPicPr>
        <p:blipFill>
          <a:blip r:embed="rId3"/>
          <a:stretch/>
        </p:blipFill>
        <p:spPr>
          <a:xfrm>
            <a:off x="7286760" y="14288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oužití pro litinu"/>
          <p:cNvPicPr/>
          <p:nvPr/>
        </p:nvPicPr>
        <p:blipFill>
          <a:blip r:embed="rId4"/>
          <a:stretch/>
        </p:blipFill>
        <p:spPr>
          <a:xfrm>
            <a:off x="6429240" y="14288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81" name="TextovéPole 6"/>
          <p:cNvSpPr/>
          <p:nvPr/>
        </p:nvSpPr>
        <p:spPr>
          <a:xfrm>
            <a:off x="5000760" y="12142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ouži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Fréza kopírovací  2z -typ N-PN-HSS-S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680" y="3000240"/>
            <a:ext cx="380988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Univerzální použití"/>
          <p:cNvPicPr/>
          <p:nvPr/>
        </p:nvPicPr>
        <p:blipFill>
          <a:blip r:embed="rId7"/>
          <a:stretch/>
        </p:blipFill>
        <p:spPr>
          <a:xfrm>
            <a:off x="6429240" y="28576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www.verko.cz/data/piktogramy/A/typ_n.jpg"/>
          <p:cNvPicPr/>
          <p:nvPr/>
        </p:nvPicPr>
        <p:blipFill>
          <a:blip r:embed="rId8"/>
          <a:stretch/>
        </p:blipFill>
        <p:spPr>
          <a:xfrm>
            <a:off x="1071720" y="52862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Podniková norma nástroje"/>
          <p:cNvPicPr/>
          <p:nvPr/>
        </p:nvPicPr>
        <p:blipFill>
          <a:blip r:embed="rId9"/>
          <a:stretch/>
        </p:blipFill>
        <p:spPr>
          <a:xfrm>
            <a:off x="7643880" y="52862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verko.cz/data/piktogramy/E/2_zaehne.jpg"/>
          <p:cNvPicPr/>
          <p:nvPr/>
        </p:nvPicPr>
        <p:blipFill>
          <a:blip r:embed="rId10"/>
          <a:stretch/>
        </p:blipFill>
        <p:spPr>
          <a:xfrm>
            <a:off x="5786280" y="528624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verko.cz/data/piktogramy/G/drallwinkel_30_15.jpg"/>
          <p:cNvPicPr/>
          <p:nvPr/>
        </p:nvPicPr>
        <p:blipFill>
          <a:blip r:embed="rId11"/>
          <a:stretch/>
        </p:blipFill>
        <p:spPr>
          <a:xfrm>
            <a:off x="4857840" y="52862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www.verko.cz/data/piktogramy/J/fraeserlaenge_mittel.jpg"/>
          <p:cNvPicPr/>
          <p:nvPr/>
        </p:nvPicPr>
        <p:blipFill>
          <a:blip r:embed="rId12"/>
          <a:stretch/>
        </p:blipFill>
        <p:spPr>
          <a:xfrm>
            <a:off x="3929040" y="52862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http://www.verko.cz/data/piktogramy/J/zentrumsschnitt.jpg"/>
          <p:cNvPicPr/>
          <p:nvPr/>
        </p:nvPicPr>
        <p:blipFill>
          <a:blip r:embed="rId13"/>
          <a:stretch/>
        </p:blipFill>
        <p:spPr>
          <a:xfrm>
            <a:off x="3000240" y="52862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://www.verko.cz/data/piktogramy/S/1835_b_schaft.jpg"/>
          <p:cNvPicPr/>
          <p:nvPr/>
        </p:nvPicPr>
        <p:blipFill>
          <a:blip r:embed="rId14"/>
          <a:stretch/>
        </p:blipFill>
        <p:spPr>
          <a:xfrm>
            <a:off x="2071800" y="52862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http://www.verko.cz/data/piktogramy/B/hss-al.jpg"/>
          <p:cNvPicPr/>
          <p:nvPr/>
        </p:nvPicPr>
        <p:blipFill>
          <a:blip r:embed="rId15"/>
          <a:stretch/>
        </p:blipFill>
        <p:spPr>
          <a:xfrm>
            <a:off x="6715080" y="52862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92" name="TextovéPole 18"/>
          <p:cNvSpPr/>
          <p:nvPr/>
        </p:nvSpPr>
        <p:spPr>
          <a:xfrm>
            <a:off x="1000080" y="442908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Verdana"/>
              </a:rPr>
              <a:t>Značení pro katalogové vyhled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19"/>
          <p:cNvSpPr/>
          <p:nvPr/>
        </p:nvSpPr>
        <p:spPr>
          <a:xfrm>
            <a:off x="1000080" y="42876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Kopírovací fr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réza válcová tvrdokov 2z na AL |14,00x66| d=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714680"/>
            <a:ext cx="3810240" cy="56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Použití pro slitiny AL a měkké materiály"/>
          <p:cNvPicPr/>
          <p:nvPr/>
        </p:nvPicPr>
        <p:blipFill>
          <a:blip r:embed="rId3"/>
          <a:stretch/>
        </p:blipFill>
        <p:spPr>
          <a:xfrm>
            <a:off x="6500880" y="17146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réza tvrdokov L1=13/62 VHM 3z | d1=6 |TiAlN | HP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3357720"/>
            <a:ext cx="3810240" cy="197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oužití pro ocel"/>
          <p:cNvPicPr/>
          <p:nvPr/>
        </p:nvPicPr>
        <p:blipFill>
          <a:blip r:embed="rId6"/>
          <a:stretch/>
        </p:blipFill>
        <p:spPr>
          <a:xfrm>
            <a:off x="6500880" y="42861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Použití pro nerez"/>
          <p:cNvPicPr/>
          <p:nvPr/>
        </p:nvPicPr>
        <p:blipFill>
          <a:blip r:embed="rId7"/>
          <a:stretch/>
        </p:blipFill>
        <p:spPr>
          <a:xfrm>
            <a:off x="8072280" y="3500280"/>
            <a:ext cx="667080" cy="667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oužití pro litinu"/>
          <p:cNvPicPr/>
          <p:nvPr/>
        </p:nvPicPr>
        <p:blipFill>
          <a:blip r:embed="rId8"/>
          <a:stretch/>
        </p:blipFill>
        <p:spPr>
          <a:xfrm>
            <a:off x="7286760" y="3500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Použití pro legované oceli Titan,Ni,Co"/>
          <p:cNvPicPr/>
          <p:nvPr/>
        </p:nvPicPr>
        <p:blipFill>
          <a:blip r:embed="rId9"/>
          <a:stretch/>
        </p:blipFill>
        <p:spPr>
          <a:xfrm>
            <a:off x="6500880" y="3500280"/>
            <a:ext cx="666720" cy="66708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1"/>
          <p:cNvSpPr/>
          <p:nvPr/>
        </p:nvSpPr>
        <p:spPr>
          <a:xfrm>
            <a:off x="571680" y="57168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Tvrdokovové frézy - monoli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12"/>
          <p:cNvSpPr/>
          <p:nvPr/>
        </p:nvSpPr>
        <p:spPr>
          <a:xfrm>
            <a:off x="5000760" y="142884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ouži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réza válcová tvrdokov 3z dlouhá 45°  W torusni | ZrN -AL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857160"/>
            <a:ext cx="381024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réza válcová tvrdokov 3z střední 45° | ECOLIN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643120"/>
            <a:ext cx="3810240" cy="111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Univerzální použití"/>
          <p:cNvPicPr/>
          <p:nvPr/>
        </p:nvPicPr>
        <p:blipFill>
          <a:blip r:embed="rId5"/>
          <a:stretch/>
        </p:blipFill>
        <p:spPr>
          <a:xfrm>
            <a:off x="5572080" y="26431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ovlak nástoje na bázi Titan-nitridu-HLINÍKU"/>
          <p:cNvPicPr/>
          <p:nvPr/>
        </p:nvPicPr>
        <p:blipFill>
          <a:blip r:embed="rId6"/>
          <a:stretch/>
        </p:blipFill>
        <p:spPr>
          <a:xfrm>
            <a:off x="8286840" y="25718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7" name="TextovéPole 7"/>
          <p:cNvSpPr/>
          <p:nvPr/>
        </p:nvSpPr>
        <p:spPr>
          <a:xfrm>
            <a:off x="6429240" y="250020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yp povla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8"/>
          <p:cNvSpPr/>
          <p:nvPr/>
        </p:nvSpPr>
        <p:spPr>
          <a:xfrm>
            <a:off x="4286160" y="785880"/>
            <a:ext cx="1571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9"/>
          <p:cNvSpPr/>
          <p:nvPr/>
        </p:nvSpPr>
        <p:spPr>
          <a:xfrm>
            <a:off x="4143240" y="928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ouži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Použití pro slitiny AL a měkké materiály"/>
          <p:cNvPicPr/>
          <p:nvPr/>
        </p:nvPicPr>
        <p:blipFill>
          <a:blip r:embed="rId7"/>
          <a:stretch/>
        </p:blipFill>
        <p:spPr>
          <a:xfrm>
            <a:off x="5500800" y="1143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Fréza hrubovací L1=15/65 VHM 3z | d1=6 |TiAlN | HP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5840" y="4357800"/>
            <a:ext cx="3809880" cy="62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Použití pro ocel"/>
          <p:cNvPicPr/>
          <p:nvPr/>
        </p:nvPicPr>
        <p:blipFill>
          <a:blip r:embed="rId10"/>
          <a:stretch/>
        </p:blipFill>
        <p:spPr>
          <a:xfrm>
            <a:off x="5572080" y="44290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Použití pro litinu"/>
          <p:cNvPicPr/>
          <p:nvPr/>
        </p:nvPicPr>
        <p:blipFill>
          <a:blip r:embed="rId11"/>
          <a:stretch/>
        </p:blipFill>
        <p:spPr>
          <a:xfrm>
            <a:off x="4786200" y="44290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Povlak nástoje na bázi Titan-nitridu-HLINÍKU"/>
          <p:cNvPicPr/>
          <p:nvPr/>
        </p:nvPicPr>
        <p:blipFill>
          <a:blip r:embed="rId12"/>
          <a:stretch/>
        </p:blipFill>
        <p:spPr>
          <a:xfrm>
            <a:off x="8286840" y="4357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www.verko.cz/data/piktogramy/B/hpm.jpg"/>
          <p:cNvPicPr/>
          <p:nvPr/>
        </p:nvPicPr>
        <p:blipFill>
          <a:blip r:embed="rId13"/>
          <a:stretch/>
        </p:blipFill>
        <p:spPr>
          <a:xfrm>
            <a:off x="6643800" y="52149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http://www.verko.cz/data/piktogramy/B/hvm.jpg"/>
          <p:cNvPicPr/>
          <p:nvPr/>
        </p:nvPicPr>
        <p:blipFill>
          <a:blip r:embed="rId14"/>
          <a:stretch/>
        </p:blipFill>
        <p:spPr>
          <a:xfrm>
            <a:off x="7500960" y="52149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Fréza na srážení hran 0-90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928800"/>
            <a:ext cx="3810240" cy="1390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Fréza válcová tvrdokov na PLASTY  levá šroub.8° | DIAMO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2928960"/>
            <a:ext cx="3809880" cy="9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Závitník strojní tvářecí DIN2174 HSS-E Ti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4572000"/>
            <a:ext cx="3809880" cy="52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Závitník strojní tvářecí DIN2174 |24x100| d=10 HSSE-V3 TiCN,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7120" y="5857920"/>
            <a:ext cx="381024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Nástrčná fréza DIN1880 &quot;N&quot; HSS-Co TiN"/>
          <p:cNvPicPr/>
          <p:nvPr/>
        </p:nvPicPr>
        <p:blipFill>
          <a:blip r:embed="rId9"/>
          <a:stretch/>
        </p:blipFill>
        <p:spPr>
          <a:xfrm>
            <a:off x="4714920" y="51436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Nástrčná fréza DIN1880 &quot;N&quot; HSS-Co"/>
          <p:cNvPicPr/>
          <p:nvPr/>
        </p:nvPicPr>
        <p:blipFill>
          <a:blip r:embed="rId10"/>
          <a:stretch/>
        </p:blipFill>
        <p:spPr>
          <a:xfrm>
            <a:off x="6643800" y="51436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123" name="TextovéPole 10"/>
          <p:cNvSpPr/>
          <p:nvPr/>
        </p:nvSpPr>
        <p:spPr>
          <a:xfrm>
            <a:off x="642960" y="35712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Různé typy osových nást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Výstružník automatový s vnitřním chlazením TiAlN, typ HPC"/>
          <p:cNvPicPr/>
          <p:nvPr/>
        </p:nvPicPr>
        <p:blipFill>
          <a:blip r:embed="rId11"/>
          <a:stretch/>
        </p:blipFill>
        <p:spPr>
          <a:xfrm>
            <a:off x="4786200" y="1143000"/>
            <a:ext cx="3810240" cy="1047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Výstružník strojní s MK st.HSS-E prodloužený"/>
          <p:cNvPicPr/>
          <p:nvPr/>
        </p:nvPicPr>
        <p:blipFill>
          <a:blip r:embed="rId12"/>
          <a:stretch/>
        </p:blipFill>
        <p:spPr>
          <a:xfrm>
            <a:off x="4643280" y="2786040"/>
            <a:ext cx="3810240" cy="333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Vrták kombinovaný se záhlubníkem | 8,5 x 25,5| 60° SK"/>
          <p:cNvPicPr/>
          <p:nvPr/>
        </p:nvPicPr>
        <p:blipFill>
          <a:blip r:embed="rId13"/>
          <a:stretch/>
        </p:blipFill>
        <p:spPr>
          <a:xfrm>
            <a:off x="4643280" y="3857760"/>
            <a:ext cx="3810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44:02Z</dcterms:modified>
  <cp:revision>29</cp:revision>
  <dc:subject/>
  <dc:title>Název DUMu</dc:title>
</cp:coreProperties>
</file>