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2F7-B6FC-42BB-AFE2-170670DB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0D9-472A-4498-96E2-E9BA6B7A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2EC-A041-4B11-95B0-38087C20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ED7-88B5-473A-BBAB-903E807D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EC4-437D-41BC-AC31-29BF70ED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0D6-9E5A-48FB-BB24-9B0A1E9C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A7FB-3227-4DB5-B032-854AEBCB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14E-2490-442F-A984-09558DAA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841-672A-4211-953F-ED2BE98E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01A-0E6A-4A18-B31C-5845EA2D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B10-CB86-4D74-AECD-9EC99EE1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79C-4529-4A28-9C4A-B02991BC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F852-1C61-4B96-A499-FCE4F6F89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ráběcí stroje a jejich rozděl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187280" y="270828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ráběcí stroje a jejich rozděl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940360" y="5516640"/>
            <a:ext cx="34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692280"/>
            <a:ext cx="81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ad 2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Číslicově řízené stroje dělí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341360"/>
            <a:ext cx="856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1.</a:t>
            </a:r>
            <a:r>
              <a:rPr b="1" lang="cs-CZ" sz="1800" spc="-1" strike="noStrike" u="sng">
                <a:solidFill>
                  <a:srgbClr val="1f497d"/>
                </a:solidFill>
                <a:uFillTx/>
                <a:latin typeface="Verdana"/>
              </a:rPr>
              <a:t> Podle tvarů opracovaných obrob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- stroje pro opracování rotačních obrob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- stroje pro opracování skříňových a plochých obrob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2.</a:t>
            </a: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cs-CZ" sz="1800" spc="-1" strike="noStrike" u="sng">
                <a:solidFill>
                  <a:srgbClr val="1f497d"/>
                </a:solidFill>
                <a:uFillTx/>
                <a:latin typeface="Verdana"/>
              </a:rPr>
              <a:t>Podle počtu druhů opera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- stroje pro jeden druh operací – jednoprofes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- stroje pro více druhů operací – víceprofesní – obráběcí cent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3. </a:t>
            </a:r>
            <a:r>
              <a:rPr b="1" lang="cs-CZ" sz="1800" spc="-1" strike="noStrike" u="sng">
                <a:solidFill>
                  <a:srgbClr val="1f497d"/>
                </a:solidFill>
                <a:uFillTx/>
                <a:latin typeface="Verdana"/>
              </a:rPr>
              <a:t>Podle úrovně konstrukce (podle vývojového stupně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- NC stroje 1.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generace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– 50lé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- NC str. 2.g.60léta-individuálmí nasazení do výrobního proces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- NC str. 3.g.70léta- znakem je uspůsobení pro skupinové nasaz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- NC str. 4.g.80léta- bezobslužné stroje, pružné výrobní buň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- NC str. 5.g.90léta-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127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Podstata číslicového 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57360"/>
            <a:ext cx="891540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ři číslicově řízeném obrábění je program výroby součásti zadán stroji ve formě čísel a písmen. Program je tedy soubor alfanumerických znaků v takové podobě a posloupnosti, aby byl danému řídícímu systému srozumiteln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lastní program je sestaven s programových funkcí a to, přípravných G , pomocných M a jednotlivých ad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lastnosti CNC systém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romě obvyklých vlastností klasických NC systémů, jako je synchronní řízení ve více osách, korekce délek a poloměrů nástroje, posouvání nulového bodu, pevné cykly aj., obsahují CNC systémy vlastnosti, které zvyšují stupeň automatizace obráběcího st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de konkrétně o ukládání více programů do paměti, úpravy a opravy těchto programů (editace) přímo na stroji, diagnostiku chyb a zejména využívání podprogramů a jejich parametrizová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1989000"/>
            <a:ext cx="83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Jde konkrétně o ukládání více programů do paměti, úpravy a opravy těchto programů (editace) přímo na stroji, diagnostiku chyb (simulace) a zejména využívání podprogramů a jejich parametrizová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oužití mikroprocesoru u CNC systému je neodmyslitelné bez použití paměti RAM, které umožňují zápis informací tzv. strojních konstant, partprogramů, korekcí nástrojů a jejich čte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1447920" cy="1866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580000" y="4581360"/>
            <a:ext cx="1790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13932" r="0" b="12949"/>
          <a:stretch/>
        </p:blipFill>
        <p:spPr>
          <a:xfrm>
            <a:off x="324000" y="1341360"/>
            <a:ext cx="7416720" cy="4465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00920" y="62064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NC soustru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5329080" cy="5113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995800" y="47628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tolní CNC fréz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8998" t="0" r="19001" b="0"/>
          <a:stretch/>
        </p:blipFill>
        <p:spPr>
          <a:xfrm>
            <a:off x="250920" y="2741760"/>
            <a:ext cx="5184720" cy="4116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00720" y="476280"/>
            <a:ext cx="4476600" cy="2695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9810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ednotlivé typy CNC strojů mohou být odlišných konstrukcí – vždy záleží k jaké výrobě a k jakým podmínkám jsou urče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5977080" cy="4969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375600" y="6922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NC fréz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940360" y="19162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-6000"/>
          </a:blip>
          <a:srcRect l="0" t="12056" r="5266" b="13769"/>
          <a:stretch/>
        </p:blipFill>
        <p:spPr>
          <a:xfrm>
            <a:off x="179280" y="836640"/>
            <a:ext cx="4032360" cy="3313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>
            <a:lum contrast="6000"/>
          </a:blip>
          <a:srcRect l="7911" t="10922" r="4787" b="14059"/>
          <a:stretch/>
        </p:blipFill>
        <p:spPr>
          <a:xfrm>
            <a:off x="4140360" y="2565360"/>
            <a:ext cx="4824360" cy="3816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508720" y="9079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NC obráběcí cen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408720" cy="4608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9640" y="549360"/>
            <a:ext cx="813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chéma stavby soustružnického obráběcího cent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žnosti obrábění vzhledem k počtu možných os jsou téměř neomezen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79640" y="1523880"/>
            <a:ext cx="5113440" cy="4784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62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NC frézka pro automatickou výměnu obrob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5038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ráběcí stroje a jejich rozděl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bráběcí stroje a jejich rozděl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.20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zentace vysvětluje základní rozdíly mezi konvenčními stroji a stroji CN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hrnuje podstatu a rozdělení číslicově řízených strojů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Vlastní text, vlastní obrázky, časopis Průmyslové spektru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00"/>
            <a:ext cx="89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Verdana"/>
              </a:rPr>
              <a:t>Konstrukce a vybavení         CNC stroj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0920" y="1700280"/>
            <a:ext cx="5085000" cy="3814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1120" y="5938920"/>
            <a:ext cx="826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589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vednost a talent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zaměstnanc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jsou mnohem důležitější než půjčka z banky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6764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OBRÁBĚCÍ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 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773360"/>
            <a:ext cx="7867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Konvenčn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2. Číslicově řízen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808200" y="2868480"/>
            <a:ext cx="6500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92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ad 1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onvenční stroje dělíme dle technologie, kterou provád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Základní druhy těchto strojů jsou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Frézk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Soustru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Vrtač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Brus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Hoblovací a obrážecí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 konvenčních strojích jsou veškeré pohyby a nastavení prováděny ručně nebo pomocí strojních posuvů. Je zde nutná obsluha st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303120" y="2944800"/>
            <a:ext cx="851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516720" y="83664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1484280"/>
            <a:ext cx="856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f497d"/>
                </a:solidFill>
                <a:uFillTx/>
                <a:latin typeface="Verdana"/>
              </a:rPr>
              <a:t>Nové vlastnosti CNC strojů oproti konvenční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racovní cyklus probíhá automaticky – program pohybového cyklu je zadán číslicově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ro provedení dílčích technologických operací, které mohou probíhat současně nebo za sebou, jsou připraveny rychle vyměnitelné a předseřízené nást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a NC strojích lze opracovat z velké části nebo úplně, nejrůznější obrobky při jednom upnut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Další vývoj směřuje k úplné automatizaci všech funkcí obráběcího stroje = bezobslužné pracoviště včetně monitorování řezného procesu, diagnostikou vlastního obráběcího stroje i řídícího systém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1791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12611" t="0" r="11169" b="6833"/>
          <a:stretch/>
        </p:blipFill>
        <p:spPr>
          <a:xfrm>
            <a:off x="0" y="189000"/>
            <a:ext cx="4859280" cy="4895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03840" y="5684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Konvenční fréz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19975" t="14400" r="9474" b="937"/>
          <a:stretch/>
        </p:blipFill>
        <p:spPr>
          <a:xfrm>
            <a:off x="4716360" y="242100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6917" t="6032" r="9279" b="6267"/>
          <a:stretch/>
        </p:blipFill>
        <p:spPr>
          <a:xfrm>
            <a:off x="179280" y="765000"/>
            <a:ext cx="5400720" cy="4392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11880" t="0" r="0" b="0"/>
          <a:stretch/>
        </p:blipFill>
        <p:spPr>
          <a:xfrm>
            <a:off x="5724360" y="2852640"/>
            <a:ext cx="3419640" cy="4005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85440" y="765000"/>
            <a:ext cx="23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onvenční soustru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7559" t="13599" r="5499" b="10802"/>
          <a:stretch/>
        </p:blipFill>
        <p:spPr>
          <a:xfrm>
            <a:off x="468360" y="476280"/>
            <a:ext cx="4968720" cy="360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5952" t="2298" r="0" b="5465"/>
          <a:stretch/>
        </p:blipFill>
        <p:spPr>
          <a:xfrm>
            <a:off x="5003640" y="2852640"/>
            <a:ext cx="3780000" cy="3600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847480" y="6922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Konvenční brus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2706" t="4694" r="26173" b="5889"/>
          <a:stretch/>
        </p:blipFill>
        <p:spPr>
          <a:xfrm>
            <a:off x="5364000" y="1052640"/>
            <a:ext cx="3168720" cy="547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4199040" cy="612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363920" y="40464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Verdana"/>
              </a:rPr>
              <a:t>Strojní vrtačka s autoposuv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18:25:45Z</dcterms:modified>
  <cp:revision>29</cp:revision>
  <dc:subject/>
  <dc:title>Název DUMu</dc:title>
</cp:coreProperties>
</file>