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0A8-39A8-4B5B-BA5D-CCAE3E6B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649-12E3-4BDA-9DBA-1993335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D3D-BA80-4C1D-8E75-1A328B7C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EF1-3301-41AB-8271-0989ECF5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C20-2CBB-4BD3-8FDB-670BE8B0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73F-4E89-4712-A189-8A299353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B1E-D7F8-4BCB-8E5E-64BD55C8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AEF-B377-4142-AD76-4A000D2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B99-E613-4277-9F11-797BA0B5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D6A-9944-4362-85DF-541F710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EFD-458A-46A9-BB69-D1F98F0A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465-1CD8-4AFB-B5DB-82CBA35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326-4ED4-4D4A-B98A-DF2B859B5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umysl.cz/obrabeci-stroje-kontrola-technicke-diagnostiky-cnc-obrabeciho-stroje/1-prumysl-cz-renishaw-ballbar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rumysl.cz/obrabeci-stroje-kontrola-technicke-diagnostiky-cnc-obrabeciho-stroje/2-prumysl-cz-renishaw-ballbar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umysl.cz/obrabeci-stroje-kontrola-technicke-diagnostiky-cnc-obrabeciho-stroje/3-prumysl-cz-renishaw-ballbar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hnická diagnostika CNC str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611280" y="2637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77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chnická diagnostika CNC stroj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roslav Valent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ká diagnostika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chnická diagnostika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.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zobrazuje možnosti technické diagnostiky stroje a popisuje jednotlivé možnosti této činnos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11280" y="620640"/>
            <a:ext cx="63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Diagnostika NC a CNC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34136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Co technickou diagnostikou zabezpečuje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elmi vysokou jistotu a spolehlivost s výhledem prodloužení cyklů údržby a omezení následných šk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ktivní technický stav musí být určován bez demontáže a bez přerušení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yhodnocení musí být provedeno na základě spolehlivosti celého strojního systé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Verdana"/>
              </a:rPr>
              <a:t>Dálková diagno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álková diagnostika je analýza stavu stroje prostřednictvím komunikačního software diagnostikem. Naše dálková diagnostika obsahuje i další zajímavé produkty pro zákazní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260280"/>
            <a:ext cx="8424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Dálková diagnostika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je analýza stavu stroje prostřednictvím komunikačního software diagnostikem. Tento komunikační software je poskytován výrobcem daného řídicího systému stroje. Pomocí komunikačního software se na dálku (dnes především prostřednictvím Internetu) zpřístupňuje obrazovka a dialogové menu řídicího systému. Samotný komunikační software v sobě nezahrnuje žádné nástroje diagnostiky. Diagnostik pouze na dálku využívá interních diagnostických možností řídicího systé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Dálkové diagnostiky je zkrátit odstávku stroje tím, že následná servisní činnost je již přesně cílená. To s sebou přináší především redukci ztrát zákazníka, které vznikají odstávkou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ro kontrolu technického stavu a diagnostiky se používají kalibrační systémy, které obráběcí stroj proměří a na základě naměřených hodnot vyhodnotí odchylky v souladu s mezinárodními normami, jako jsou ISO 230-4 a ASME B5.54. Jedním z takových měřicích přístrojů je systém Ballbar s vestavěným délkovým snímačem. Systém Ballbar je praktickým a pohodlným testovacím přístrojem pro analýzu přesnosti CNC obráběcích 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ázek 1" descr="http://www.prumysl.cz/wp-content/uploads/2013/01/1-Prumysl-cz-Renishaw-Ballb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89000"/>
            <a:ext cx="5715000" cy="558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580536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zdrátový systém QC20-W kontroluje technickou diagnostiku CNC obráběcích strojů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93080" y="285264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1" descr="http://www.prumysl.cz/wp-content/uploads/2013/01/2-Prumysl-cz-Renishaw-Ballb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76280"/>
            <a:ext cx="5715000" cy="489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lohovatelnost bezdrátového systém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C20-W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ázek 1" descr="http://www.prumysl.cz/wp-content/uploads/2013/01/3-Prumysl-cz-Renishaw-Ballb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549360"/>
            <a:ext cx="5715000" cy="428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5373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bulka s naměřenými hodnotami a  vyhodnocenou diagnóz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268280"/>
            <a:ext cx="82803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Technickou diagnostikou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dále rozumíme také další možnosti a výsledky obrábění, ještě než je výrobek obrob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Simulac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– ověření dráhy nástroje a eventuálních kolizí nástroj – obrobek, nástroj – stroj. Může být zobrazena ve 2D, 3D nebo v tkz. drá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Kinematika stro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– u víceosích strojů zamezuje možnosti nárazu některou částí stroje s druho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Zjištění hmotnosti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Zjištění rozměrů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a kvalitu povrc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Verdana"/>
              </a:rPr>
              <a:t>Zjištění času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pro obrob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astní text, obrázky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57:09Z</dcterms:modified>
  <cp:revision>10</cp:revision>
  <dc:subject/>
  <dc:title>Název DUMu</dc:title>
</cp:coreProperties>
</file>