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295-DBA4-4F56-AFFE-FB47F00E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D3A-72EF-45C8-AAE9-C27B7845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5B4-9FCE-41BC-84FE-27E67549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BEC-D3B6-410E-BDDF-CBC2BB28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91C-D47D-4E6A-8E42-86955560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466-A368-409F-8ED8-F9EB9C3A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592-6891-4C44-B015-0B3553CC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72F3-4097-4364-8106-BD1BBAB6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5F94-8274-460D-94BE-843FD5FC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609-63E4-4DB3-A5BE-793BCA43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E9F-65F8-4FA1-8B0F-6845F886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B45-D3BB-4DAF-A1B6-96FFF405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A6F9-326E-4DCC-BF7A-ACC7DD5AD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ědomostní test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95640" y="263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ědomostní tes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940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ědomostní test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ědomostní test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trukce a vybavení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.201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ědomostní test ověřuje znalosti žáků dané problematik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4762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estové otázk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vyber vždy jednu správnou odpově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052640"/>
            <a:ext cx="820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1. Upnutí součásti na stroji musí bý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hé a pevn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esné a kolm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vné a rychl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2. Pro konvenční stroje je lépe frézov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sledn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ousledn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ojí je správn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3. CNC 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čítačem řízený NC stro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čítačem řízený nástro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roba plně řízená počítač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4. CNC stroje pracují s přesnost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ují i přesně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59640" y="4076640"/>
            <a:ext cx="1447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692280"/>
            <a:ext cx="842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5. Pro řeznou rychlost platí vzor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π d n / 1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π d v / 1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π 1000 / d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6. K technologickým vlastnostem patř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obitel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pelná roztaž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v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7. Fazetka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jnice dvou hlavních ostří u vrtá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zká ploška podél drážek, která vede vrtá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chodová válcová plocha mezi tělem vrtáku a upínací čá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8. Odvalovací fréza se používá na výrob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vinných plo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ubených k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arových plo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588000" y="1628640"/>
            <a:ext cx="1447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907920"/>
            <a:ext cx="8496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9. Charakteristika dělícího přístroje j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imální počet soustředných kružnic na dělícím kotouč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imální počet dírek na kružni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ikost šnekového převo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10. Jaký je nejčastější způsob programování v systému Heidenhe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S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al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11. Písmeno L v tabulce nástrojů znamen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élková korekce ná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dresa bloku podprogra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élka stopky ná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12. Co znamená TOOL DE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dání délky a rádiusu nož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finice ná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finice cyk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56360" y="3284640"/>
            <a:ext cx="1447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765000"/>
            <a:ext cx="8353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13. Pevné cyk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ožňují snazší seřizování polohy obrobku na stro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součástí softwarového vybavení CNC systé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porují metodu vysokorychlostního obrábě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14. Do technické diagnostiky řadí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matickou výměnu nástroje a obrob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matický odvod třís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ěření dráhy ná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15. Kuličkové šrouby slouž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 dosažení méně přesného, ale rychlého poloh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 dosažení přesného a rychlého polohování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 přesnějšímu upnutí obrob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16. Co se na CNC stroji označuje vztažným bodem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ý bod ná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ý bod 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ý bod obrob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64360" y="4653000"/>
            <a:ext cx="1447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987640" y="4046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Vyhodnocení testu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12536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981000"/>
            <a:ext cx="82818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-   a                     9   -   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  -   b                   10   -  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-   a                   11   -  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  -   c                   12   -  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  -   a                   13   -  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  -   a                   14   -   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  -   b                   15   -  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  b                   16   -   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Klasifikace testu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Bez chyby výborn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vě chyby chvalitebný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Čtyři chyby dobr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Šest chyb dostatečn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dm a více chyb nedostatečn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867280" y="1413000"/>
            <a:ext cx="144792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užitá literatura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astní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0-24T08:59:23Z</dcterms:modified>
  <cp:revision>14</cp:revision>
  <dc:subject/>
  <dc:title>Název DUMu</dc:title>
</cp:coreProperties>
</file>