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A74-04EA-4669-ABF2-F111F549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A31-D506-43A8-8934-8925AB8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4D5-EDB5-42BA-A1BF-CCA746F0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F05-2D71-4484-81B0-70DF66C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E68-44CB-4194-A118-1C3F866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BD1-C89A-4BC7-9A6A-0131A9BF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D7D-E543-4929-B56F-FBCFC54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E7B-55A8-4F94-8B6F-0BF05A2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131-9702-4C41-9B3D-07D0DE9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5E6-3F98-4397-80BD-23D2529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BAD-64C2-43DD-A7D6-ADCE8EB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732-E4DE-4F65-9998-B8EC3BE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F65-D8A9-45AF-96E4-2D45B7598E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24/241090_n_l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verko.cz/data/foto/24/241115_n_l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www.verko.cz/data/foto/24/241148_n_l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24/241442_n_l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24/240495_b_l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hyperlink" Target="http://www.verko.cz/data/foto/24/240602_b_l.jpg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verko.cz/data/foto/24/240603_b2_l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verko.cz/data/foto/24/240493_b_l.jpg" TargetMode="External"/><Relationship Id="rId10" Type="http://schemas.openxmlformats.org/officeDocument/2006/relationships/image" Target="../media/image19.jpeg"/><Relationship Id="rId11" Type="http://schemas.openxmlformats.org/officeDocument/2006/relationships/image" Target="../media/image16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ystémy upínání ná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571760" y="263700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69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_Systémy upínání nást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29200" y="5572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stémy upínání ná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69_Systémy upínání ná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2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é listy jsou bohatě doplněny fotografiemi  jednotlivých komponentů a je tak lépe pochopitelná jejich funkc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Přesné upínací pouzdro APC krátké SK DIN 69871 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28600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Rozměrová evropská norma nástroje"/>
          <p:cNvPicPr/>
          <p:nvPr/>
        </p:nvPicPr>
        <p:blipFill>
          <a:blip r:embed="rId3"/>
          <a:stretch/>
        </p:blipFill>
        <p:spPr>
          <a:xfrm>
            <a:off x="500040" y="2143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řesné upínací pouzdro APC prodloužené HSK DIN 69893 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9080" y="857160"/>
            <a:ext cx="3809880" cy="216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Rozměrová evropská norma nástroje"/>
          <p:cNvPicPr/>
          <p:nvPr/>
        </p:nvPicPr>
        <p:blipFill>
          <a:blip r:embed="rId6"/>
          <a:stretch/>
        </p:blipFill>
        <p:spPr>
          <a:xfrm>
            <a:off x="7572240" y="857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Momentový klíč pro AP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929040"/>
            <a:ext cx="3809880" cy="2581200"/>
          </a:xfrm>
          <a:prstGeom prst="rect">
            <a:avLst/>
          </a:prstGeom>
          <a:ln w="0">
            <a:noFill/>
          </a:ln>
        </p:spPr>
      </p:pic>
      <p:sp>
        <p:nvSpPr>
          <p:cNvPr id="52" name="TextovéPole 9"/>
          <p:cNvSpPr/>
          <p:nvPr/>
        </p:nvSpPr>
        <p:spPr>
          <a:xfrm>
            <a:off x="4500720" y="35719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pínací momentový 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0"/>
          <p:cNvSpPr/>
          <p:nvPr/>
        </p:nvSpPr>
        <p:spPr>
          <a:xfrm>
            <a:off x="42876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Silové upínače přesné pro válcovou stop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413000"/>
            <a:ext cx="8496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Silové upínač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se používají při obrábění tvrdých a těžko obrobitelných materiálů. Jsou schopny přenášet velké kroutící mo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ezi silové upínače můžeme dále řadit i 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upínače hydraul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 těchto upínačů je potřeba (především při vysokých otáčkách) dynamické vyvážení, aby nedocházelo k destrukci ložiska ve vřeteni stroje. K vyvažování těchto upínačů slouží vyvažovací kroužky a vyvažovací zaří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Kleštinové upínání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není vhodné pro extrémně vysoké otáčky vřet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ydraulický upínač |SDF HSK-E40 Ł 6 L1=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071720"/>
            <a:ext cx="3809880" cy="22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Materiál nástroje"/>
          <p:cNvPicPr/>
          <p:nvPr/>
        </p:nvPicPr>
        <p:blipFill>
          <a:blip r:embed="rId3"/>
          <a:stretch/>
        </p:blipFill>
        <p:spPr>
          <a:xfrm>
            <a:off x="714240" y="3500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Rozměrová evropská norma nástroje"/>
          <p:cNvPicPr/>
          <p:nvPr/>
        </p:nvPicPr>
        <p:blipFill>
          <a:blip r:embed="rId4"/>
          <a:stretch/>
        </p:blipFill>
        <p:spPr>
          <a:xfrm>
            <a:off x="1571760" y="3500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http://www.verko.cz/data/piktogramy/B/b143.jpg"/>
          <p:cNvPicPr/>
          <p:nvPr/>
        </p:nvPicPr>
        <p:blipFill>
          <a:blip r:embed="rId5"/>
          <a:stretch/>
        </p:blipFill>
        <p:spPr>
          <a:xfrm>
            <a:off x="2500200" y="3500280"/>
            <a:ext cx="666720" cy="66708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7"/>
          <p:cNvSpPr/>
          <p:nvPr/>
        </p:nvSpPr>
        <p:spPr>
          <a:xfrm>
            <a:off x="500040" y="357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Hydraulické upína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ydraulický upínač HSK DIN 69893 A - úzké provedení"/>
          <p:cNvPicPr/>
          <p:nvPr/>
        </p:nvPicPr>
        <p:blipFill>
          <a:blip r:embed="rId6"/>
          <a:stretch/>
        </p:blipFill>
        <p:spPr>
          <a:xfrm>
            <a:off x="4714920" y="2142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Upínací pouzdro TENDO ES| SDF-ES SK40 Ł 20 L1= 24.6"/>
          <p:cNvPicPr/>
          <p:nvPr/>
        </p:nvPicPr>
        <p:blipFill>
          <a:blip r:embed="rId7"/>
          <a:stretch/>
        </p:blipFill>
        <p:spPr>
          <a:xfrm>
            <a:off x="4714920" y="3429000"/>
            <a:ext cx="3809880" cy="248616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10"/>
          <p:cNvSpPr/>
          <p:nvPr/>
        </p:nvSpPr>
        <p:spPr>
          <a:xfrm>
            <a:off x="4500720" y="335772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ydraulické upínací pouz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Hydraulický upínač SK DIN 69871 AD/B - úzké provedení"/>
          <p:cNvPicPr/>
          <p:nvPr/>
        </p:nvPicPr>
        <p:blipFill>
          <a:blip r:embed="rId8"/>
          <a:stretch/>
        </p:blipFill>
        <p:spPr>
          <a:xfrm>
            <a:off x="500040" y="4500720"/>
            <a:ext cx="3809880" cy="162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Rozměrová evropská norma nástroje"/>
          <p:cNvPicPr/>
          <p:nvPr/>
        </p:nvPicPr>
        <p:blipFill>
          <a:blip r:embed="rId9"/>
          <a:stretch/>
        </p:blipFill>
        <p:spPr>
          <a:xfrm>
            <a:off x="3214800" y="592920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K40x6x50 AD/B  Držák Weldon DIN 698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071720"/>
            <a:ext cx="3809880" cy="20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Rozměrová evropská norma nástroje"/>
          <p:cNvPicPr/>
          <p:nvPr/>
        </p:nvPicPr>
        <p:blipFill>
          <a:blip r:embed="rId3"/>
          <a:stretch/>
        </p:blipFill>
        <p:spPr>
          <a:xfrm>
            <a:off x="7572240" y="2714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Rozměrová evropská norma nástroje"/>
          <p:cNvPicPr/>
          <p:nvPr/>
        </p:nvPicPr>
        <p:blipFill>
          <a:blip r:embed="rId4"/>
          <a:stretch/>
        </p:blipFill>
        <p:spPr>
          <a:xfrm>
            <a:off x="428760" y="29289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ržák kleštinový SK 40 |ER16 | l1=100| DIN 698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571680"/>
            <a:ext cx="3809880" cy="2171520"/>
          </a:xfrm>
          <a:prstGeom prst="rect">
            <a:avLst/>
          </a:prstGeom>
          <a:ln w="0">
            <a:noFill/>
          </a:ln>
        </p:spPr>
      </p:pic>
      <p:sp>
        <p:nvSpPr>
          <p:cNvPr id="69" name="TextovéPole 7"/>
          <p:cNvSpPr/>
          <p:nvPr/>
        </p:nvSpPr>
        <p:spPr>
          <a:xfrm>
            <a:off x="428760" y="4287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Kleštinové upí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Držák kleštinový SK 40 |ER16 | l1=160| DIN 69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29040"/>
            <a:ext cx="278640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ržák Weldon SK 40 |krátký|DIN 69871| Cool Je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7120" y="3786120"/>
            <a:ext cx="3810240" cy="217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Rozměrová evropská norma nástroje"/>
          <p:cNvPicPr/>
          <p:nvPr/>
        </p:nvPicPr>
        <p:blipFill>
          <a:blip r:embed="rId11"/>
          <a:stretch/>
        </p:blipFill>
        <p:spPr>
          <a:xfrm>
            <a:off x="1000080" y="5715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Rozměrová evropská norma nástroje"/>
          <p:cNvPicPr/>
          <p:nvPr/>
        </p:nvPicPr>
        <p:blipFill>
          <a:blip r:embed="rId12"/>
          <a:stretch/>
        </p:blipFill>
        <p:spPr>
          <a:xfrm>
            <a:off x="214200" y="571500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pínací držák pro SK30 | pro tepelný upínač 1-místný systém"/>
          <p:cNvPicPr/>
          <p:nvPr/>
        </p:nvPicPr>
        <p:blipFill>
          <a:blip r:embed="rId1"/>
          <a:stretch/>
        </p:blipFill>
        <p:spPr>
          <a:xfrm>
            <a:off x="214200" y="257184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428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Termo upí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ndukční přístroj pro tepelné upínání,otočný talíř s 3 stani"/>
          <p:cNvPicPr/>
          <p:nvPr/>
        </p:nvPicPr>
        <p:blipFill>
          <a:blip r:embed="rId2"/>
          <a:stretch/>
        </p:blipFill>
        <p:spPr>
          <a:xfrm>
            <a:off x="4714920" y="178596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6"/>
          <p:cNvSpPr/>
          <p:nvPr/>
        </p:nvSpPr>
        <p:spPr>
          <a:xfrm>
            <a:off x="1357200" y="107172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dukční přístroj pro tepelné upínání CONFORT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1052640"/>
            <a:ext cx="7920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Termo upínání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je rychlé a efektivní upínání nástrojů, kdy pouzdro upínače je indukčně zahřáto a po vložení nástroje ochlazeno. Upínání tudíž funguje na principu diletace kov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alší výhodou tohoto upínaní je možnost prodloužení samotného nástroje při výběru délky upínacího pouz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upínání nástrojů existují i další způsoby. Např. různé druhy upínacích pouzder založených na principu pružnosti kov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92360" y="479736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Průmyslové spektru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5:35Z</dcterms:modified>
  <cp:revision>16</cp:revision>
  <dc:subject/>
  <dc:title>Název DUMu</dc:title>
</cp:coreProperties>
</file>