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34EE-1F4D-4E2B-B5F8-12C61C10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63F7-C2BA-44EC-AFA7-F236025A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1BB6-CA4A-42D6-912C-8405AA76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4581-4D2F-4253-8227-EB79F618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F2F5-6827-4C9E-AC59-7336517E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4531-AF07-4816-92EF-D52C1120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6A05-B289-49E4-A436-052F8718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6F93-86D5-48AF-B96F-C853D167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4C75-ECCD-4A36-844E-B476F7B1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F669-C07F-41D3-81F5-E5B83D3C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E724-9B19-495E-BC05-70092EA8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0321-2071-4926-8491-03CAEBE0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22D8-EA68-4CC3-9CAF-BC5B3AAE5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ideo ukázky způsobu obrábě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1476360" y="2637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6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 ukázky způsobu obrábě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611964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roslav Valen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448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deo ukázky způsobu obrábě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6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ideo ukázky způsobu  obrábě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trukce a vybavení CNC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.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deo ukázky názorně žákům přiblíží teoretický výklad a jsou důležitou složkou při výuce programování číslicově řízených strojů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03640" y="549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Video ukáz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635280" y="2133720"/>
            <a:ext cx="4257720" cy="3628440"/>
            <a:chOff x="3635280" y="2133720"/>
            <a:chExt cx="4257720" cy="3628440"/>
          </a:xfrm>
        </p:grpSpPr>
        <p:sp>
          <p:nvSpPr>
            <p:cNvPr id="49" name="Gear"/>
            <p:cNvSpPr/>
            <p:nvPr/>
          </p:nvSpPr>
          <p:spPr>
            <a:xfrm>
              <a:off x="5995800" y="2133720"/>
              <a:ext cx="1897200" cy="16635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35280" y="2819160"/>
              <a:ext cx="2268360" cy="19890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06600" y="3552840"/>
              <a:ext cx="2521080" cy="22093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468360" y="1413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Ukazují možnosti druhu řízení od základního 3D až po víceosé obrábění 4D a 6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Použitá literatura: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Reklamní prezentace firmy Maz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Zástupný symbol pro text 2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804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Zástupný symbol pro text 2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4124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Zástupný symbol pro text 2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4408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0-24T08:55:56Z</dcterms:modified>
  <cp:revision>10</cp:revision>
  <dc:subject/>
  <dc:title>Název DUMu</dc:title>
</cp:coreProperties>
</file>