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012-5185-47B6-B2FD-779926E8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794-FA0C-47EA-AA57-4DEEDD6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506-C53C-4F04-8BC0-971882A2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222-C803-4D04-82C8-188859DA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9E3-F1FC-42CE-8658-9DD5A1A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EF4-2347-46DF-B386-E6E7055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2CF-868E-4905-8240-1B177E1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C31-B3B8-4DA5-B31E-D8A02CA3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23B-3CBB-46BE-8705-DE65B4D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26B-61AA-4263-894D-542E123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29E-FBC5-4C8F-B756-B6F7F97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B56-A77E-4729-AEE9-4B7593A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EB76-C3D5-46CF-B13E-4D08B7ABB5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ývoj nového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763640" y="2637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282_Vývoj nového výrob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voj nového výrob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2_Vývoj nového výrob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čební text porovnává klasickou konstrukci součásti s tvorbou 3D modelu. Definuje souřadnicové systémy 2D a 3D souřadn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250920" y="404640"/>
            <a:ext cx="864216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Vývoj nového výrobku a tvorba jeho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Klasická konstrukce                                             Aplikace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je pouze 2D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ávrh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Návrh je prov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črtem nového řešení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bo náčr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v podobě 3D   modelů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kres je grafickým                                              Výkres je    gener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kladem výroby bez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kres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z modelu a je zdr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lšího využití                                                       geometrick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počty se provádí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poč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3D data lze využít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učně podle výkresu                                              přímo pro výpoč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ěření návrhu výroby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echnologi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Postup výroby 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 velmi problematické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rob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simulovat na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mod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4067280" y="3068640"/>
            <a:ext cx="0" cy="43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067280" y="386064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067280" y="4724280"/>
            <a:ext cx="0" cy="50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620640"/>
            <a:ext cx="8424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metrie výrobku                                              Geometrická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usí být řízení stroje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roba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lze využít pro náv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pletně definována                                         řídících progr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livňuje nepřímo výrobu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ontrola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Ovlivňuje přímo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akce na požadavky                                           Umožňuje prak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azníka je málo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vorba novýc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okamžitou reakci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fektivní a zdlouhavá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ariant 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požadavky zákaz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metrický model je podkladem pro další zpracování v sesta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vorba a správa sesta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Assembly modeling), nebo může být převed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 pohledů a řezů na výkresové dokumentaci modulem -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vorba výkre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Drafting), nebo zkontrolován pomocí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etody konečných prv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427640" y="126828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427640" y="213372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{340de290-45ee-472f-8232-998f89d90af9}_cz_sesp_banner"/>
          <p:cNvPicPr/>
          <p:nvPr/>
        </p:nvPicPr>
        <p:blipFill>
          <a:blip r:embed="rId1"/>
          <a:stretch/>
        </p:blipFill>
        <p:spPr>
          <a:xfrm>
            <a:off x="826920" y="4941720"/>
            <a:ext cx="7353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476280"/>
            <a:ext cx="8569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Definice 2D a 3D souřadný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- základ správné orientace ve virtuálním prostoru -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132000" y="1484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ff"/>
                </a:solidFill>
                <a:uFillTx/>
                <a:latin typeface="Arial"/>
              </a:rPr>
              <a:t>Typy souřadnic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5280" y="2060640"/>
            <a:ext cx="856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Kartézský souřadný systém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                          </a:t>
            </a: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Polární souřadn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405080" y="297648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1405080" y="4921200"/>
            <a:ext cx="20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5940360" y="297648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940360" y="4921200"/>
            <a:ext cx="2233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332000" y="48481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7237440" y="35528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2413080" y="369576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5867280" y="48481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484360" y="35528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H="1">
            <a:off x="899640" y="37688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2484360" y="38401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 flipH="1">
            <a:off x="900000" y="49212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1405080" y="4992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1405080" y="53532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900000" y="3768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1044720" y="2905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 flipH="1">
            <a:off x="3060720" y="4848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692360" y="52801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324000" y="4075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1405080" y="3192480"/>
            <a:ext cx="17269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132000" y="319248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1476360" y="278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Náčrtová rovina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 flipV="1">
            <a:off x="6013440" y="369540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580000" y="29242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76694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7308720" y="3479760"/>
            <a:ext cx="6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33"/>
          <p:cNvSpPr/>
          <p:nvPr/>
        </p:nvSpPr>
        <p:spPr>
          <a:xfrm>
            <a:off x="6229440" y="4138560"/>
            <a:ext cx="914400" cy="76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6373800" y="3840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7021440" y="41482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5940360" y="3192480"/>
            <a:ext cx="194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7885080" y="319248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6084720" y="276084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Náčrtová rovina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971640" y="5803920"/>
            <a:ext cx="734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A – souřadnice x                                          r – délka průvodiče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A – souřadnice y                                          a – úhel s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5280" y="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ff"/>
                </a:solidFill>
                <a:uFillTx/>
                <a:latin typeface="Arial"/>
              </a:rPr>
              <a:t>Typy souřadnic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62064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Kartézský souřadný systém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                         </a:t>
            </a: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Cylindrický souřadn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460520" y="134136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60520" y="2854440"/>
            <a:ext cx="1873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596520" y="285444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1389240" y="2781360"/>
            <a:ext cx="1425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5276880" y="1341360"/>
            <a:ext cx="144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5276880" y="2852280"/>
            <a:ext cx="172872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412880" y="285444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5205240" y="278136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5651640" y="4170240"/>
            <a:ext cx="1440" cy="1654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5651640" y="5897520"/>
            <a:ext cx="1873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H="1">
            <a:off x="4716360" y="5897520"/>
            <a:ext cx="935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5580000" y="58262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884160" y="343044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884160" y="220500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884160" y="220500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2109960" y="220500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 flipV="1">
            <a:off x="884160" y="170172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46052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2109960" y="2854440"/>
            <a:ext cx="50292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2109960" y="1701720"/>
            <a:ext cx="50292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2612880" y="17017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7"/>
          <p:cNvSpPr/>
          <p:nvPr/>
        </p:nvSpPr>
        <p:spPr>
          <a:xfrm>
            <a:off x="2036880" y="213372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 flipH="1">
            <a:off x="164880" y="34304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H="1">
            <a:off x="741240" y="28544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V="1">
            <a:off x="165240" y="285444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741240" y="170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741240" y="17017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1460520" y="28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2612880" y="28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460520" y="38624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172872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29019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104472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669600" y="350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1460520" y="155736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3044880" y="1557360"/>
            <a:ext cx="0" cy="12970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1678680" y="37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2680" y="2781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238680" y="2062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1763640" y="105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Náčrtová rovina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0" y="414972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A – souř.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A – souř.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 – souř.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 flipV="1">
            <a:off x="4630680" y="2494080"/>
            <a:ext cx="358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8"/>
          <p:cNvSpPr/>
          <p:nvPr/>
        </p:nvSpPr>
        <p:spPr>
          <a:xfrm flipV="1">
            <a:off x="4989600" y="191736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9"/>
          <p:cNvSpPr/>
          <p:nvPr/>
        </p:nvSpPr>
        <p:spPr>
          <a:xfrm flipH="1">
            <a:off x="5278320" y="1917720"/>
            <a:ext cx="28728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4917960" y="242100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1"/>
          <p:cNvSpPr/>
          <p:nvPr/>
        </p:nvSpPr>
        <p:spPr>
          <a:xfrm flipH="1">
            <a:off x="3981240" y="35020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2"/>
          <p:cNvSpPr/>
          <p:nvPr/>
        </p:nvSpPr>
        <p:spPr>
          <a:xfrm flipH="1">
            <a:off x="4701960" y="2852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 flipV="1">
            <a:off x="3981600" y="285264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4"/>
          <p:cNvSpPr/>
          <p:nvPr/>
        </p:nvSpPr>
        <p:spPr>
          <a:xfrm>
            <a:off x="6573960" y="2709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4487400" y="350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4919760" y="127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7"/>
          <p:cNvSpPr/>
          <p:nvPr/>
        </p:nvSpPr>
        <p:spPr>
          <a:xfrm>
            <a:off x="44884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8"/>
          <p:cNvSpPr/>
          <p:nvPr/>
        </p:nvSpPr>
        <p:spPr>
          <a:xfrm>
            <a:off x="5278320" y="1628640"/>
            <a:ext cx="151128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6789600" y="1628640"/>
            <a:ext cx="0" cy="1224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0"/>
          <p:cNvSpPr/>
          <p:nvPr/>
        </p:nvSpPr>
        <p:spPr>
          <a:xfrm>
            <a:off x="5724360" y="1052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Náčrtová rovina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1"/>
          <p:cNvSpPr/>
          <p:nvPr/>
        </p:nvSpPr>
        <p:spPr>
          <a:xfrm>
            <a:off x="3908520" y="28018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62"/>
          <p:cNvSpPr/>
          <p:nvPr/>
        </p:nvSpPr>
        <p:spPr>
          <a:xfrm>
            <a:off x="5132520" y="2266920"/>
            <a:ext cx="874440" cy="854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3"/>
          <p:cNvSpPr/>
          <p:nvPr/>
        </p:nvSpPr>
        <p:spPr>
          <a:xfrm>
            <a:off x="5710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4"/>
          <p:cNvSpPr/>
          <p:nvPr/>
        </p:nvSpPr>
        <p:spPr>
          <a:xfrm>
            <a:off x="556524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5"/>
          <p:cNvSpPr/>
          <p:nvPr/>
        </p:nvSpPr>
        <p:spPr>
          <a:xfrm>
            <a:off x="5435640" y="364500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Sférický souřadn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6"/>
          <p:cNvSpPr/>
          <p:nvPr/>
        </p:nvSpPr>
        <p:spPr>
          <a:xfrm>
            <a:off x="7020000" y="244152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 - dl. prův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- úhel s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 - souř.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7"/>
          <p:cNvSpPr/>
          <p:nvPr/>
        </p:nvSpPr>
        <p:spPr>
          <a:xfrm flipV="1">
            <a:off x="5651640" y="5106960"/>
            <a:ext cx="21744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8"/>
          <p:cNvSpPr/>
          <p:nvPr/>
        </p:nvSpPr>
        <p:spPr>
          <a:xfrm flipV="1">
            <a:off x="5867280" y="467352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9"/>
          <p:cNvSpPr/>
          <p:nvPr/>
        </p:nvSpPr>
        <p:spPr>
          <a:xfrm flipV="1">
            <a:off x="5651640" y="4673160"/>
            <a:ext cx="792000" cy="122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0"/>
          <p:cNvSpPr/>
          <p:nvPr/>
        </p:nvSpPr>
        <p:spPr>
          <a:xfrm>
            <a:off x="5796000" y="503388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1"/>
          <p:cNvSpPr/>
          <p:nvPr/>
        </p:nvSpPr>
        <p:spPr>
          <a:xfrm>
            <a:off x="5651640" y="46022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72"/>
          <p:cNvSpPr/>
          <p:nvPr/>
        </p:nvSpPr>
        <p:spPr>
          <a:xfrm>
            <a:off x="5796000" y="5164200"/>
            <a:ext cx="903240" cy="855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73"/>
          <p:cNvSpPr/>
          <p:nvPr/>
        </p:nvSpPr>
        <p:spPr>
          <a:xfrm>
            <a:off x="5850000" y="5537160"/>
            <a:ext cx="38088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4"/>
          <p:cNvSpPr/>
          <p:nvPr/>
        </p:nvSpPr>
        <p:spPr>
          <a:xfrm>
            <a:off x="5581440" y="503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5"/>
          <p:cNvSpPr/>
          <p:nvPr/>
        </p:nvSpPr>
        <p:spPr>
          <a:xfrm>
            <a:off x="6445440" y="50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6"/>
          <p:cNvSpPr/>
          <p:nvPr/>
        </p:nvSpPr>
        <p:spPr>
          <a:xfrm>
            <a:off x="6282000" y="584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7"/>
          <p:cNvSpPr/>
          <p:nvPr/>
        </p:nvSpPr>
        <p:spPr>
          <a:xfrm>
            <a:off x="7094880" y="57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8"/>
          <p:cNvSpPr/>
          <p:nvPr/>
        </p:nvSpPr>
        <p:spPr>
          <a:xfrm>
            <a:off x="5221080" y="623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9"/>
          <p:cNvSpPr/>
          <p:nvPr/>
        </p:nvSpPr>
        <p:spPr>
          <a:xfrm>
            <a:off x="5294520" y="417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0"/>
          <p:cNvSpPr/>
          <p:nvPr/>
        </p:nvSpPr>
        <p:spPr>
          <a:xfrm>
            <a:off x="5651640" y="445788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1"/>
          <p:cNvSpPr/>
          <p:nvPr/>
        </p:nvSpPr>
        <p:spPr>
          <a:xfrm>
            <a:off x="7236000" y="4457880"/>
            <a:ext cx="0" cy="14396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2"/>
          <p:cNvSpPr/>
          <p:nvPr/>
        </p:nvSpPr>
        <p:spPr>
          <a:xfrm>
            <a:off x="5940360" y="4005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Náčrtová rovina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3"/>
          <p:cNvSpPr/>
          <p:nvPr/>
        </p:nvSpPr>
        <p:spPr>
          <a:xfrm>
            <a:off x="2340000" y="5249880"/>
            <a:ext cx="28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 - dlélka prův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- úhel s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 - úhel s rovinou 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692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Definice 2D a 3D souřadných systémů slo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řadné systémy slouží pro přesnou orientaci a definici souřadnic koncových bodů vektorových objektů. Přes možnosti definovat polohu objektu ve všech třech osách současně se daleko častěji používá při prostorovém modelování definice bodů v rovině (dvou osách). Rozměry objektů jsou v prostoru zkresleny, a není je snadné přesně definovat bez dobré prostorové představiv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rev"/>
          <p:cNvPicPr/>
          <p:nvPr/>
        </p:nvPicPr>
        <p:blipFill>
          <a:blip r:embed="rId1"/>
          <a:srcRect l="3507" t="0" r="16546" b="0"/>
          <a:stretch/>
        </p:blipFill>
        <p:spPr>
          <a:xfrm>
            <a:off x="1332000" y="2781360"/>
            <a:ext cx="5976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24000" y="54936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404640"/>
            <a:ext cx="554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Pamatu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</a:rPr>
              <a:t>Znalost souřadných systémů je základem úspěchu  při modelování součá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ss"/>
          <p:cNvPicPr/>
          <p:nvPr/>
        </p:nvPicPr>
        <p:blipFill>
          <a:blip r:embed="rId1"/>
          <a:srcRect l="14291" t="6521" r="19792" b="0"/>
          <a:stretch/>
        </p:blipFill>
        <p:spPr>
          <a:xfrm>
            <a:off x="250920" y="3762360"/>
            <a:ext cx="431964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kk"/>
          <p:cNvPicPr/>
          <p:nvPr/>
        </p:nvPicPr>
        <p:blipFill>
          <a:blip r:embed="rId2"/>
          <a:srcRect l="9921" t="197" r="14997" b="495"/>
          <a:stretch/>
        </p:blipFill>
        <p:spPr>
          <a:xfrm>
            <a:off x="4859280" y="2060640"/>
            <a:ext cx="39243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lastní text, vlastní obráz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čebnice Mechanical Destkop P. Fořt ISBN 80-7226-707-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14:21Z</dcterms:modified>
  <cp:revision>28</cp:revision>
  <dc:subject/>
  <dc:title>Název DUMu</dc:title>
</cp:coreProperties>
</file>