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8AA-F36E-4FEA-A1A9-47F558B2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2F3-FF9E-4E7B-AD0F-5D726406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5FA-1854-4E77-97FB-591ABB1C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2DA-054B-406A-A612-DE3EEF70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8FA-DE13-4662-AB0F-065E304E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F61-099F-4B6C-94B7-0E71A53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E12-DFE5-438C-B9BE-3A7F1CD7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BAB-6473-4B49-B0C9-E201085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BE7-67CC-4E9D-8C6A-4A2C449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596-A7EE-4414-BCCC-C0433B9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1D-0106-4C48-998E-3FA198A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A0D-C684-4D72-B9BF-F3D08C5B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A0A6-7451-4103-A8A7-03BB707B0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yklus – transformace souřad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476360" y="2637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Y_32_INOVACE_298_Cyklus – transformace souřadn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ykly -  transformace souřadn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8_Cykly – transformace souřadn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4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ukové listy popisují a vysvětlují další možnosti programování cyklických funkcí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4936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ykly třetí softwarové kláve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 kategorie „transformace souřadnic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y kategorie „transformace souřadnic“  jsou specifické tím, že samy „nevyrábí“ žádné tvary, ale umožňují  „pohybování“ již naprogramovaného tvaru po ploše obrobku.   Cykly se nemusí vyvolávat žádným příkazem, aktivují se sami , jakmile se zpracovává řádka, kde jsou zapsány.  Tyto cykly se naopak po jejich ukončení „ruší“, odvolávají s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yklus  posunutí nulového bo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 posunutí nulového bodu  umožňuje změnu nulového bodu programu ve vztahu k nulovému bodu obrobku. Posouvat nulový bod můžeme v souřadnici X,Y a Z. Nulových bodů může být libovolné množstv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yklus  zrcadl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rcadlení umožňuje  „zrcadlit“ tvary, můžeme zrcadlit libovolnou osu (X nebo Y) nebo obě současně (XY).  Zrcadlení se děje podle nulového bodu program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yklus  otočení souřadného systému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otáčení souřadného systému  umožňuje  „natáčet“ tvary  kolem nulového bodu programu. Je to vlastně „matematický“ otočný stůl. Úhel natočení se zadává pomocí parametru  RO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260280"/>
            <a:ext cx="856908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yklus  změna měřítka                                                                               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yklus změna měřítka   umožňuje  „měnit velikost“ tvaru  vzhledem k nulovému bodu programu.  Tvar lze zvětšovat nebo zmenšovat pomocí  parametru SCL. Tento cyklus je určen pouze pro programy, kde je programována   pouze lineární interpolace (pohyb po přímce)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yklus  rastr bodů na kru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žívá se k vrtání bodů zadaných  na roztečné kružnici. Charakteristickým znakem všech cyklů „nové generace“ je, že „umějí“  sami  přijet k obrobku a po vykonání cyklu od obrobku odjet na definovanou rovin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yklus  časová prodle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yklus  časová prodleva    je cyklus, který je poněkud specifický tím, že se nemusí ani aktivovat, ani  zrušit. Používá se v případě, kdy potřebujeme na určitou dobu zastavit pohyb os, např. při dosažení dna při vrtání. Některé cykly jej obsahují v sobě (např. vrtací cykly). Cyklus časová prodleva  použijeme např. v případě, kdy vrtáme bez použití vrtacího cyklu, např. PGM 01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yklus  volání programu                                                                                   </a:t>
            </a: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mocí této funkce můžeme volat libovolný program  napsaný v Dialogu Heidenhain jako cykl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89000"/>
            <a:ext cx="835164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řehled funkcí  jednotlivých funkčních kláves panelu řídícího systém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Funkce volání cyklu                                                                                      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o funkce je zařazena mezi funkčními klávesami. Příkazem   „CYCL CALL“aktivujeme  definovaný cyklus. Nepoužívá se pro aktivaci cyklů kategorie „transformace souřadnic“ a časová prodle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Dráhové funk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hyb nástroje po přím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hyb nástroje po kružni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zaoblení roh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sražení hr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najetí do obrysu obrob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odjetí od obrysu  obrob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podprogramu, návěšt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volání programu v Dialog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volání nást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volání tabulky bod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ukončení program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15" descr="HEIDENHAIN Logo"/>
          <p:cNvPicPr/>
          <p:nvPr/>
        </p:nvPicPr>
        <p:blipFill>
          <a:blip r:embed="rId1"/>
          <a:stretch/>
        </p:blipFill>
        <p:spPr>
          <a:xfrm>
            <a:off x="5867280" y="3141720"/>
            <a:ext cx="244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xt Metodika výuky SOUT Chomutov, vlastní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52:12Z</dcterms:modified>
  <cp:revision>11</cp:revision>
  <dc:subject/>
  <dc:title>Název DUMu</dc:title>
</cp:coreProperties>
</file>