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1DE-5CA3-4451-A7C5-142372DA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1D3-02FF-4213-8CF2-4CEF6EAC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A55-6776-4B6B-95D5-58A64073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A76-0698-49E9-9846-FDB742D1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78F5-3751-45D2-A542-336D12F4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D5D-D46A-46E0-9515-E997169F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E1E-8C45-455F-AE45-F9D90527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FD09-6724-40EA-BA90-7A73B3D1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FAB-C1E2-4F91-9E60-471A8ABC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C0D-36C1-4425-B5CA-45F8B2B3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E27-09D8-4310-9454-A2E87B8D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0AF-8EBC-4F97-A739-3318AE60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DF6B-8153-4C45-99F7-E54912C12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Kontrolní praktická zkouš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619280" y="270828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294_Kontrolní praktická zkouš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867280" y="5516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09120" cy="5668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404640"/>
            <a:ext cx="633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Výsledný 3D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Zástupný symbol pro text 2"/>
          <p:cNvGraphicFramePr/>
          <p:nvPr/>
        </p:nvGraphicFramePr>
        <p:xfrm>
          <a:off x="1187280" y="189000"/>
          <a:ext cx="648036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Zástupný symbol pro tex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9000"/>
                    <a:ext cx="648036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6833" r="0" b="0"/>
          <a:stretch/>
        </p:blipFill>
        <p:spPr>
          <a:xfrm>
            <a:off x="0" y="1197000"/>
            <a:ext cx="9182160" cy="5281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8360" y="476280"/>
            <a:ext cx="43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Výsledný 3D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užitá literatur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lastní text, vlastní výkresy a obráz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ontrolní praktická zkouš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294_Kontrolní praktická zkouš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ování v systému CAD/CAM a Heidenh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3.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aktická zkouška, podobně jako test, slouží k prověření znalostí v oblasti konstrukce a přímého řízení výrob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04640"/>
            <a:ext cx="84247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Zadání prá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 programu SolidEdge vytvoř 3D model dle přiloženého technického výkres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Použít prvk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tažení profi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debrání tažení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hranění obvodové kontury 1/45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rcadlení prv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sobení prv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rtání otvo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tvořit popisové pole vložením tex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Zástupný symbol pro text 2"/>
          <p:cNvGraphicFramePr/>
          <p:nvPr/>
        </p:nvGraphicFramePr>
        <p:xfrm>
          <a:off x="971640" y="260280"/>
          <a:ext cx="705636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Zástupný symbol pro tex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60280"/>
                    <a:ext cx="70563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046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Výsledný 3D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8216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Zástupný symbol pro text 2"/>
          <p:cNvGraphicFramePr/>
          <p:nvPr/>
        </p:nvGraphicFramePr>
        <p:xfrm>
          <a:off x="1258920" y="260280"/>
          <a:ext cx="7056360" cy="638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Zástupný symbol pro tex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60280"/>
                    <a:ext cx="705636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953" t="0" r="8645" b="0"/>
          <a:stretch/>
        </p:blipFill>
        <p:spPr>
          <a:xfrm>
            <a:off x="179280" y="981000"/>
            <a:ext cx="8209080" cy="5668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549360"/>
            <a:ext cx="51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Výsledný 3D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476280"/>
            <a:ext cx="83516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Zadání prá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 programu SolidEdge vytvoř 3D model dle přiloženého technického výkres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Použít prvk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tažení profilu rotací – strom prvků bude vykazovat pouze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eden prvek. jeden prvek. Všechny rozměry bude obsahov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kladní průřez pro rota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Zástupný symbol pro text 2"/>
          <p:cNvGraphicFramePr/>
          <p:nvPr/>
        </p:nvGraphicFramePr>
        <p:xfrm>
          <a:off x="1547640" y="333360"/>
          <a:ext cx="5862960" cy="632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Zástupný symbol pro tex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33360"/>
                    <a:ext cx="5862960" cy="63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1-30T14:38:12Z</dcterms:modified>
  <cp:revision>20</cp:revision>
  <dc:subject/>
  <dc:title>Název DUMu</dc:title>
</cp:coreProperties>
</file>