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DD0-29BC-4E79-8ABC-AD58BA78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08-290C-447A-B138-2BAA724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5DF-40CB-4196-927D-73D18640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B49-89BB-49D7-B031-2432A467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0AE-57BF-492A-B00E-7F63C5D4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518-3531-4B81-990C-E3A58188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2E3-A3BF-4D53-AA31-5DDC3A3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271-E6DF-443E-8A17-0B05CF61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CFD-F3AC-4CE2-A17C-B01D65B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E87-EBD8-47DC-B0F6-B10735E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6FE-D918-4639-AC29-1651C26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014-83BC-46EB-A585-ED00C9C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779-DAA1-4637-B235-1F2CFDEE02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vorba 3D těles - C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835280" y="2637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281_Tvorba 3D těles -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vorba 3D těles - C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81_Tvorba 3D těles - C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ukové listy vysvětlují základní zkratky používané v oblasti 3D modeláře včetně aplikačního softwar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79280" y="2205000"/>
            <a:ext cx="89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A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Computer Aided Design – počítačová podpora konstru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A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Computer Aided Manufacturing – přímé řízení výroby počítač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A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- Computer Aided Enginineering – počítačová podpora inženýrských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í, která využívá počítače pro výpočty v průběhu návr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D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- Produkt Data Management – správa dat o produ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AQ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Computer Aided Quality – počítačem podporovaná kontrola kv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FE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- Finite Element Method – výpočty založené na metodě konečných prvků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4360" y="549360"/>
            <a:ext cx="777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Modelování součástí a tvorba 3D tě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39640" y="14130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f497d"/>
                </a:solidFill>
                <a:uFillTx/>
                <a:latin typeface="Arial"/>
              </a:rPr>
              <a:t>Základní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836640"/>
            <a:ext cx="864216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Pro modelování součástí (kreslení) vyžad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a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aplikační software – Auto Cad, Solid Edge, Catia a ji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b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grafické systémy – běžné PC s grafickou kartou a vhodnými   ovlad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 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výstupní zařízení – monitor, tiskárna, plo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Aplikační softw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a 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2D kreslení – Auto Cad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b 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3D kreslení – Auto Cad, Mechanikal Desktop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 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3D parametrické kreslení (rozměry základních prvků měníme změnou  parametrů, např. průměrů, délek a vazeb) – Inventor, Solid Edge, Catia,        Pro Ingenier, NX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rrr"/>
          <p:cNvPicPr/>
          <p:nvPr/>
        </p:nvPicPr>
        <p:blipFill>
          <a:blip r:embed="rId1"/>
          <a:srcRect l="9209" t="3023" r="32053" b="8065"/>
          <a:stretch/>
        </p:blipFill>
        <p:spPr>
          <a:xfrm>
            <a:off x="5651640" y="2349360"/>
            <a:ext cx="2592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124000" y="404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Práce v CAD programu Solid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197000"/>
            <a:ext cx="8640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duly programu Solid 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Objemo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část (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ul slouží pro modelování jednotlivých dílů. Přípona souboru je .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Výkr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D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 určen k vytvoření výkresové dokumentace z jednotlivých dílů, sestav nebo rozvinutých tvarů plechových dílů. Přípona je .d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Sestav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Assem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uží pro skládání jednotlivých dílů do sestav a pro následnou práci s nimi. Přípona je .a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Plechová součá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Sheetme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ul je určen pro vytváření dílů ohýbaných s plechu. Přípona je .p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ree"/>
          <p:cNvPicPr/>
          <p:nvPr/>
        </p:nvPicPr>
        <p:blipFill>
          <a:blip r:embed="rId1"/>
          <a:srcRect l="23904" t="0" r="29606" b="2997"/>
          <a:stretch/>
        </p:blipFill>
        <p:spPr>
          <a:xfrm>
            <a:off x="7308720" y="189000"/>
            <a:ext cx="1584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404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333360"/>
            <a:ext cx="83534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Modul pro PDM systé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Ins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 určen pro správu dat dokumentů aplikace. V tomto modulu řídíme správu verzí, ukládáme vše na cestu v síti dle nastaveného oprávnění. Tento modul spolupracuje s aplikací Sharepoint firmy Micro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lšími moduly jsou svařené sestavy, konstrukce kabeláže a konstrukce potru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Uživatelské prostředí programu Solid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gram je aplikací nad Windows prostředím a důsledně dodržuje polohu známých ikonových tlačítek, panelů a řídícího menu stejně, jak to zavedla ve svých aplikacích firma Micro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reww"/>
          <p:cNvPicPr/>
          <p:nvPr/>
        </p:nvPicPr>
        <p:blipFill>
          <a:blip r:embed="rId1"/>
          <a:srcRect l="24479" t="0" r="14336" b="1708"/>
          <a:stretch/>
        </p:blipFill>
        <p:spPr>
          <a:xfrm>
            <a:off x="5724360" y="2060640"/>
            <a:ext cx="2376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ovéPole 3"/>
          <p:cNvSpPr/>
          <p:nvPr/>
        </p:nvSpPr>
        <p:spPr>
          <a:xfrm>
            <a:off x="357120" y="428760"/>
            <a:ext cx="8358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Co je Solid Ed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 svými špičkovými ,modelovacími  schopnostmi a procesními postupy, jedinečným zaměřením na potřeby specifických průmyslových odvětví a plně integrovaným systémem správy návrhů je software Solid Edge neocenitelnou pomůckou pro bezchybný chod proje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ky synchronní technologii vytváří program Solid Edge nová pravidla 3D modelování kombinací rychlosti a flexibility explicitního modelování s ovládáním a parametrizovaným návrhem systému založeném na histo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lid Edge, jako jediný zástupce poslední generace 3D CAD programů, nabízí modul pro zpracování výkresové dokumentace jako samostatné 2D řešení s českou lokalizací. Uživatel zvyklý pracovat ve 2D v Autodesk   Auto CAD, BricsCad, InteliCad nebo třeba Cadkey v něm nalezne kompletní sadu nástrojů pro kreslení a manipulaci s entitami, kótování, pozicování a razítky tak, jak to vyžadují strojírenské no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živatelský komfort zajišťují funkce pro práci s hladinami, bloky, styly čar a šrafování tak, jak to známe například z Autoca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užitá literatura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lastní text, vlastní obrázky, časopis Průmyslové spek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a</cp:lastModifiedBy>
  <dcterms:modified xsi:type="dcterms:W3CDTF">2013-11-27T08:15:30Z</dcterms:modified>
  <cp:revision>31</cp:revision>
  <dc:subject/>
  <dc:title>Název DUMu</dc:title>
</cp:coreProperties>
</file>