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751-3EBA-477F-B257-A6153CDB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E88-5652-4C76-B9CC-9BBF210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EE5-89BA-4E22-AC2E-8D69EF7A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615-A2D3-48C5-AAF6-BD5AB153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AEE-53A2-4646-88B0-20AE5A27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09E-D85B-4FE0-A995-5C5CFAA2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DBC-5379-49E5-86E3-52A55E8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697-C1CC-404B-9343-7E912F7F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A04-413B-4DBC-BDA7-B1EB83E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FF0-2695-43FF-A5AC-B3E11D2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9B6-DABB-4F06-8471-CE97AB9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6CE-922A-4595-8015-0FDB0FBA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7BC-D475-4941-BDFB-CC63C0C0F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živatelské prostředí 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692360" y="2637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9_Uživatelské prostředí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živatelské prostředí C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9_Uživatelské prostředí C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formou schémat popisuje dvě úrovně CAM systému – procesor a postproce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04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jmy procesing a postproce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28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 automatickém programování musí programátor pro obrábění dané součásti vypracovat zdrojový program, tzv. partprogram, který je vyjádřen použitým programovacím jazyk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hledem k tomu, že jsou NC stroje rozměrově, konstrukčně, typově i řízením odlišné, je obtížné všechny tyto rozdíly ve výpočetním programu postihnout. Proto se výpočetní program rozděluje na dvě samostatné části, a to na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roceso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ostproce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18701" r="45455" b="6463"/>
          <a:stretch/>
        </p:blipFill>
        <p:spPr>
          <a:xfrm>
            <a:off x="4788000" y="3213000"/>
            <a:ext cx="3927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159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Blokové  schéma  proces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36520" y="744480"/>
            <a:ext cx="1584360" cy="86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61440" y="8366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drojov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376360" y="765000"/>
            <a:ext cx="20894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tení vstupní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d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968720" y="765000"/>
            <a:ext cx="201636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021640" y="855720"/>
            <a:ext cx="17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taktick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trola úd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489800" y="765000"/>
            <a:ext cx="128268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7489800" y="7840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p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y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800360" y="119700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465800" y="1197000"/>
            <a:ext cx="502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985080" y="119700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16000" y="2060640"/>
            <a:ext cx="66261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68200" y="2081160"/>
            <a:ext cx="707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Geometrická část proces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ýpočet bodů obrysu poloto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ýpočet obrysu součá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ýpočet bodů modifikovaného profilu po hrub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249228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561440" y="2492280"/>
            <a:ext cx="1296720" cy="86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7489800" y="25131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trol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p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842160" y="2997360"/>
            <a:ext cx="719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905440" y="1628640"/>
            <a:ext cx="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84720" y="1773360"/>
            <a:ext cx="252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384720" y="177336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16000" y="4149720"/>
            <a:ext cx="576108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4221000"/>
            <a:ext cx="63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Technologická část proces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výběr úseků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určení místa realizace jednotlivých úse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určení sledů úseků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přiřazení nástrojů k jedn. úsekům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vytvoření jednotlivých pohybových cyk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16000" y="465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2808360" y="378936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6408720" y="4149720"/>
            <a:ext cx="2521080" cy="93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337440" y="41482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stup s procesoru (obecný ř. pr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489800" y="5516640"/>
            <a:ext cx="1368360" cy="86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489800" y="55371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trol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5977080" y="4653000"/>
            <a:ext cx="431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6121440" y="4653000"/>
            <a:ext cx="0" cy="136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121440" y="6021360"/>
            <a:ext cx="1368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8900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Blokové  schéma postproces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907920"/>
            <a:ext cx="5545080" cy="4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887480" y="90792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ecný řídící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341360"/>
            <a:ext cx="0" cy="57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300640"/>
            <a:ext cx="403200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37228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Řídící program pro daný str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5300640"/>
            <a:ext cx="2592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53006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řizovací úd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6093000"/>
            <a:ext cx="316836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k řídícího progra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4869000"/>
            <a:ext cx="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5157720"/>
            <a:ext cx="5689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5157720"/>
            <a:ext cx="0" cy="14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5157720"/>
            <a:ext cx="0" cy="14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9144000" y="234936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1916280"/>
            <a:ext cx="38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ostprocesorová 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421000"/>
            <a:ext cx="83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ýběr skutečných nástro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odifikace řezných podmín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ransformace souřadnic do souřadného systému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ýpočet přírůstků dráhy pohybu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určení přípravných a pomocných fun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rozmístění nástrojů do nožových hlav 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řekódování obecného systému procesoru do skutečného formátu bl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2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9162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8675640" y="19162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-24" r="0" b="3874"/>
          <a:stretch/>
        </p:blipFill>
        <p:spPr>
          <a:xfrm>
            <a:off x="179280" y="1628640"/>
            <a:ext cx="8713800" cy="504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0920" y="33336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EdgeCAM – uživatelské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prostředí můžeme nastavit dle potřeby, např. zobrazení nápovědných textů u ik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276640"/>
            <a:ext cx="1511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2276640"/>
            <a:ext cx="0" cy="309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lavní 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789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acovní ploc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3284640"/>
            <a:ext cx="208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3284640"/>
            <a:ext cx="0" cy="20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4869000"/>
            <a:ext cx="208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373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365720"/>
            <a:ext cx="1150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0920" y="2997000"/>
            <a:ext cx="0" cy="136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řepínač o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609300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9500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ba pohl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566064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vový řád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manuál pro práci v programu Edge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31:16Z</dcterms:modified>
  <cp:revision>16</cp:revision>
  <dc:subject/>
  <dc:title>Název DUMu</dc:title>
</cp:coreProperties>
</file>