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B5B-09DF-4554-9703-8E61D438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EE7-91BA-42A8-8C6E-26D848D2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196-6C00-4E80-AAE1-F9C0E17C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E64-7E93-4E30-B75C-1C1F3B9C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F7F-175D-40AB-8C49-CC071E7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1A3-6F57-4B1B-9546-28B0F534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F9F-75AF-44A9-AFA4-21C7303D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DCD-ABAA-42CC-9077-B6E6D34B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CDE-BFB9-4109-961C-0FCF5BA2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DC7-5A45-4440-A6F7-2C37E301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A1C-F71E-4A96-93C7-DC40804F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49C-A04F-4715-9220-D8F4FBF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55B3-66C6-49D2-BA67-583E3A6D0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římé řízení výroby - 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476360" y="2637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88_Přímé řízení výroby - C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mé řízení výroby - C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88_Přímé řízení výroby - C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1.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ební text zahrnuje základní kroky při práci v systému CAM. Vysvětluje možnosti uplatnění a rozdělení strategií obrábění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76280"/>
            <a:ext cx="835344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Úvod pro práci v  CAM systé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učastné náročné požadavky na výrobek, na jeho kvalitu a funkčnost, požadavky na výrazné zvýšení produktivity práce, rostoucí nároky na flexibilitu výrobního systému, rychle se měnící sortiment výroby, zkracování časů na inovace, větší nároky na spolehlivost výrobního systému, a mnohé další požadavky není už možné v současnosti realizovat konvenčními metodami přípravy, plánování a řízení výroby. Proto se stává nutností vznik výroby nového typu. Na tyto náročné požadavky reaguje koncept integrované výroby využívající nejmodernější prostředky výpočtové techniky a progresivní metody informačních technolog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AD/CA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systémy značně zjednodušují a zpřehledňují práci programátorů. Jsou postaveny především na základě 3D objemových dat. Umožňují i zpracování 2D náčrtů, ale programátor má více práce a programovací čas se zvýší. Právě 3D modely tzv. Parasolidy nesou v sobě všechny tyto důležité data pro tvorbu samostatného postupu obrábění a následné realizaci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9000"/>
            <a:ext cx="82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EdgeCA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 kompletní softwarové CAM řešení určené jak pro produkční obrábění, tak i pro výrobu tvarových forem a zápustek, s kompletním rozsahem dvou- až pětiosých frézovacích strategií, podporou soustružení a soustružnicko-frézovacích center v kombinaci s prověřenou CAD/CAM integrací a důmyslnými automatickými nástro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4248000" cy="302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0" r="45455" b="0"/>
          <a:stretch/>
        </p:blipFill>
        <p:spPr>
          <a:xfrm>
            <a:off x="4932360" y="2239920"/>
            <a:ext cx="39276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333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Software EdgeC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bízí tři možné způsoby pro vlastní vytváření strategie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 - kopírováním operací z technologického postup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- pomocí nástavby systému PCI (tzv.makra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 - tvorbou manageru strategi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63640" y="2936880"/>
            <a:ext cx="5372280" cy="3657240"/>
            <a:chOff x="1763640" y="2936880"/>
            <a:chExt cx="5372280" cy="3657240"/>
          </a:xfrm>
        </p:grpSpPr>
        <p:sp>
          <p:nvSpPr>
            <p:cNvPr id="54" name=""/>
            <p:cNvSpPr/>
            <p:nvPr/>
          </p:nvSpPr>
          <p:spPr>
            <a:xfrm>
              <a:off x="3409560" y="2936880"/>
              <a:ext cx="2629080" cy="1143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VORB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ATEGIÍ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6920" y="4308480"/>
              <a:ext cx="1028520" cy="342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ednodušší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92920" y="4308480"/>
              <a:ext cx="1028520" cy="342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jsložitější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35240" y="5108400"/>
              <a:ext cx="194328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vorba pomocí makra vzoru obrábění PCI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35720" y="5108400"/>
              <a:ext cx="1600200" cy="342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žer strategií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21240" y="396540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278240" y="4079880"/>
              <a:ext cx="38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64120" y="46512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50120" y="46512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35240" y="6022800"/>
              <a:ext cx="1943280" cy="571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omocí cyklů případě drah nástroj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21240" y="5794200"/>
              <a:ext cx="1714320" cy="79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omocí tvorby rozhodovacího diagramu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64120" y="5794200"/>
              <a:ext cx="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50120" y="5451480"/>
              <a:ext cx="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63640" y="4308480"/>
              <a:ext cx="1143000" cy="342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jjednodušší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63640" y="5108400"/>
              <a:ext cx="1143000" cy="571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pírování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rací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792160" y="3851280"/>
              <a:ext cx="799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20840" y="46512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988360" y="24202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dělení strategií dle tvor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47628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Základní kroky před prací v EdgeCAM systé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tvoření Parasolidu - Při práci v CAD/CAM systémech je tato operace nejdůležitější a měla by být co nejpřesnější a nést v sobě všechny důležité informace. Tyto informace jsou hlavním faktorem pro další postup.              V tomto případě byl parasolid vytvořen v programu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Solid Ed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761080" cy="381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6308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solid součá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692280"/>
            <a:ext cx="835344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EdgeCA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1.75 umí vytvořit k danému modelu automatický polotovar. Tento polotovar má ale nevýhodu v tom, že vytvoří jen tvar válce nebo krychle. Toto je výhodné jen při obrábění z plného materiálu. Neumí k danému modelu jen přiřadit přídavky na obrábění, např:u odlitků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d vlastním postupem obrábění je nutné udělat pár základních kroků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)  Volba prostřed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)  Načtení parsoli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)  Vložení modelu polotova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)  Určení polotova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)  Posunutí nulového bodu obrobku na vhodné místo pro obrábě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)  Nastavení materiá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)  Rozpoznání útvarů na mode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54936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Volba prostřed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ůžete vytvářet součástku v libovolném prostředí a tyto prostředí navzájem měnit. Tento fakt nemá vliv na danou součástku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sou 2 druhy prostřed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1)  XYZ Fréz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to prostředí poskytuje pohledy a konstrukční roviny pro práci v obvyklých kartézských X,Y a Z souřadnicích. Toto prostředí je nastaveno jako výchozí v programu EdgeC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2)  ZX Soustruž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to prostředí poskytuje pohledy a konstrukční roviny které simulují orientaci součástky při obrábění. V tomto prostředí má osa Y horizontální polo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kud součástku nakreslíte na rovinu XY můžete přesunout součástku do roviny ZX pomocí položky Transformace, Záměna souřadnic (menu Úprav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zi jednotlivými prostředími můžete přepínat v menu Nastavení a zvolením položky buď XY Frézování nebo ZX Soustruž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í text, vlastní obrázky, manuál pro práci v programu Edge C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25:21Z</dcterms:modified>
  <cp:revision>21</cp:revision>
  <dc:subject/>
  <dc:title>Název DUMu</dc:title>
</cp:coreProperties>
</file>