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F5B-77A0-44C8-81A0-EA71E8F5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5EE-6DFB-4DCD-85C4-08415B27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9CC-7B6B-4A16-B050-4A5CC2E1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527-22F9-47C9-B119-CF1BE3FB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337-CEA2-4AC4-A570-6231C51A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264-2BB3-495D-B9B2-6393E7D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DDF-F37D-434A-B6BB-B98AB446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658-A5C6-484C-B8E9-3C44EE6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1BC-8580-4B8E-BB0A-834128B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A0B-C160-4964-8934-1D01530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E58-1877-45C3-9A27-2010606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B73-09A1-4FAB-9AEF-EF48AA1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4A7-7BD3-4BED-BF84-98520C8F6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vorba sest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5_Tvorba sest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2504" r="712" b="4171"/>
          <a:stretch/>
        </p:blipFill>
        <p:spPr>
          <a:xfrm>
            <a:off x="250920" y="1341360"/>
            <a:ext cx="8677080" cy="532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33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ze - rozložení sest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učebnice Solid Edge V18     M.Rusiňák ISBN 80-239-7142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vorba sest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5_Tvorba sesta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11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ukové listy popisují jednotlivé kroky při tvorbě sestav pomocí geometrických vazeb. Jsou srozumitelně vyjádřeny přímo s aplikace kreslícího progra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60280"/>
            <a:ext cx="849636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rostředí modulu Sest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áce v prostředí Sestava je podobná práci v modulu Objemová součást. Hlavní menu má podobný vzhled a příkazy. Nástrojový panel obsahuje specifické příkazy pro práci se sestavami. Pracovní panel při skládání sestavy opět krokuje zadávaný příkaz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.Složení sest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estavu skládáme vkládáním dílů a vytvářením vazeb mezi ni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ytváření nových dílů v sestav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ytváření 2D skic v sestav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ytvoření koncepčního návrhu struktury sestavy nového projek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2.Editace sest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ditace geometrických vlastností a vazeb dílů a podsesta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Díly a podsestavy lze nahrazovat za jiné, nebo jimi lze posouvat v prostoru sestav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476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3.Konfigurace sest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Při práci v sestavě je pro přehlednost někdy vhodné skrýt některé díly nebo podsestavy.Takovýto stav zobrazení lze uložit pod jménem a nazýváme jej Konfigurace zobrazení (Display Configurations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ystém Solid Edge umožňuje jednotlivé díly sestavy zobrazit v různých barvách. To dovolí rychlou a snadnou orientaci v sestav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4.Exploze sest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V tomto prostředí  lze pro potřeby manuálů nebo výkresové dokumentace vytvářet explodované pohledy na sestavu. Exploze je možné provádět automaticky nebo manuáln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664" r="0" b="4393"/>
          <a:stretch/>
        </p:blipFill>
        <p:spPr>
          <a:xfrm>
            <a:off x="250920" y="1197000"/>
            <a:ext cx="8677080" cy="525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404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pis prostředí modulu Sest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414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vigační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35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nel Příkazy sest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nel Prvky sest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492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acovní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20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lavní 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lavní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557360"/>
            <a:ext cx="863640" cy="79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1268280"/>
            <a:ext cx="576360" cy="115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1773360"/>
            <a:ext cx="216000" cy="71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2637000"/>
            <a:ext cx="1081080" cy="50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429000"/>
            <a:ext cx="79236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2997360"/>
            <a:ext cx="2016360" cy="136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530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fické ok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69080" b="3675"/>
          <a:stretch/>
        </p:blipFill>
        <p:spPr>
          <a:xfrm>
            <a:off x="539640" y="981000"/>
            <a:ext cx="3527640" cy="561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04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kládání prvního dílu v prostředí sest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068640"/>
            <a:ext cx="93672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573360"/>
            <a:ext cx="41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této kartě vybereme díl, který chceme do sestavy vlož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ní díl vložený do sestavy tvoří základ ke kterému se přikládají další díly. Reprezentuje tedy jakýsi základní díl sestav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18186" t="0" r="24711" b="0"/>
          <a:stretch/>
        </p:blipFill>
        <p:spPr>
          <a:xfrm>
            <a:off x="5508720" y="333360"/>
            <a:ext cx="2663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2872" r="23920" b="2589"/>
          <a:stretch/>
        </p:blipFill>
        <p:spPr>
          <a:xfrm>
            <a:off x="250920" y="1700280"/>
            <a:ext cx="6119640" cy="475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333360"/>
            <a:ext cx="864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ychlé ulož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ižuje v porovnání s definováním polohy dílu ostatními vazbami počet kroků nutných k umístění dílu pomocí vazeb –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proti sob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souhlasn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 u="sng">
                <a:solidFill>
                  <a:srgbClr val="1f497d"/>
                </a:solidFill>
                <a:uFillTx/>
                <a:latin typeface="Arial"/>
              </a:rPr>
              <a:t>sou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2781360"/>
            <a:ext cx="237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že je mnoho dílů umísťováno pomocí těchto vazeb, Rychlé uložení je vhodné ve většině situac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328920" y="54658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žnosti výběru vaz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3716280"/>
            <a:ext cx="1366920" cy="172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2560" r="9011" b="4223"/>
          <a:stretch/>
        </p:blipFill>
        <p:spPr>
          <a:xfrm>
            <a:off x="468360" y="1341360"/>
            <a:ext cx="820908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7628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klad použití vazby souosé – pro čep v otvo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2740" r="0" b="3160"/>
          <a:stretch/>
        </p:blipFill>
        <p:spPr>
          <a:xfrm>
            <a:off x="324000" y="1484280"/>
            <a:ext cx="8497800" cy="496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klad použití vazby plochy proti sob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30613" t="22958" r="27280" b="18839"/>
          <a:stretch/>
        </p:blipFill>
        <p:spPr>
          <a:xfrm>
            <a:off x="5796000" y="476280"/>
            <a:ext cx="316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19:27Z</dcterms:modified>
  <cp:revision>25</cp:revision>
  <dc:subject/>
  <dc:title>Název DUMu</dc:title>
</cp:coreProperties>
</file>