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DB9-013F-46F8-A353-C47A223B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7B9-483C-444B-AD92-0A997117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58B-FDE3-42A0-AAE7-64BD96D7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F07-79A2-469B-BD11-D162A5A1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78E-3106-49CB-B116-83059D54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246-1633-4BA3-9A33-79C6FAF4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C49-F90E-494C-B9CC-82E29353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AFD-54E1-43F1-88F7-AD53DB3E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8B9-60A0-427E-84BC-A7F431CF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F95-65F6-44E8-B636-C4E95E9C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732-20B4-41E0-B0CC-C6752759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DB6-CB88-4E37-A448-9B7A663E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4512-FD32-41AB-BCE9-828332DC3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Vědomostní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93_Vědomostní 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86728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290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ědomostní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93_Vědomostní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3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ědomostní test prověřuje průběžné znalosti žáků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549360"/>
            <a:ext cx="84960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estové otázk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vyber vždy jednu správnou odpově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1)  Pravoúhlý souřadný systém 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stanoven podle buzoly určením světových str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na sebe kolmé vedení pohybů nástroje na obráběcím stro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stanoven programátorem při sestavení CNC kó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2)  Lineární interpolace 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zavrtávání do materiálu po šroubovi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přímo úměrně zvětšující se pohy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pohyb nástroje po přím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3) Podprogram v NC programu slouží pr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usnadňuje programování při opakujících se dílčích úlohá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zabezpečuje chod programu tak, aby se po ukončení programu běh opakoval    od začátku 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při chybě programu zabezpečuje opakovaný návrat na správné místo programu po jeho oprav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62064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549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4) Postprocesingem rozumí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) překlad vygenerovaných drah nástroje na NC kód pro řídící systé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) zápis alfanumerických znaků pro překlad drah do NC kódů pro řídící systé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) úrovní sestavení CNC programu programát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5) Co je interpolá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) interpolační parametr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) aritmeticko – logická jednot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) regulátor otáč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6)CAM znamen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) počítačová podpora výpoč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) počítačová podpora konstrukc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) přímé řízení výro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7) K technologickým vlastnostem patř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) obrobitel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) tepelná roztaž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) pev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134136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8) Odvalovací fréza se používá na výrob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rovinných plo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ozubených k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tvarových plo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9) Do technické diagnostiky řadí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automatickou výměnu nástroje a obrob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automatický odvod tříse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ověření dráhy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10) Co popisují geometrické inform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technologické inform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matematické inform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informace o dráze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549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yhodnocení test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5690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-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  -   c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-  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  -  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-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  -  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  -   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  -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  -  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-   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Klasifikace testu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ez chyby výborn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na chyba chvalitebn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vě chyby dobr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ři chyby dostatečn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Čtyři a více chyb nedostatečn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8186" t="0" r="24711" b="0"/>
          <a:stretch/>
        </p:blipFill>
        <p:spPr>
          <a:xfrm>
            <a:off x="4643280" y="1125360"/>
            <a:ext cx="302436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lastní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37:04Z</dcterms:modified>
  <cp:revision>13</cp:revision>
  <dc:subject/>
  <dc:title>Název DUMu</dc:title>
</cp:coreProperties>
</file>