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577-EA85-4634-B3AD-2E0999D0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9A0-F537-4421-B968-0DFBB826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879-AE1F-422E-8A25-9412170E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01C-CA45-4EAE-B312-525DB652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546-E37D-4964-95C5-010383A5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20F-B376-4038-B723-79100FFF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918-AD9F-4AD0-9CC2-6972DF48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FF6-EDEB-4467-8FD1-EEE7D97C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ADD-3D76-4C17-8F21-2C2802D2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B41-BBB9-4717-9576-DF69326F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A28-9A89-4E51-BEE2-ECED9938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C8D-5506-44B5-8BA4-3D08AD6A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76D0-D50A-4361-84D3-E21DBDAB2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vi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300_Cvič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11964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549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vičení 3  -  frézování ostrův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Zástupný symbol pro text 2"/>
          <p:cNvGraphicFramePr/>
          <p:nvPr/>
        </p:nvGraphicFramePr>
        <p:xfrm>
          <a:off x="1332000" y="1413000"/>
          <a:ext cx="651492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Zástupný symbol pro tex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13000"/>
                    <a:ext cx="651492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98100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echnologická operace frézován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žijeme pouze 1 nástroj –  fréza drážkovací průměr 16 mm, v tabulce nástrojů uložen jako nástroj číslo 77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řadnice -  pravoúhlý souřadný systém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lový bod programu – v rovině obrábění XY je ve středu plochy, Z0 je na povrchu součás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Úkol : napište a odlaďte NC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var naprogramujte pomocí cyklu č.21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čete technologii frézování (sousledné nebo nesousledn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závislosti na technologii určete správnou velikost nást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5759280" cy="4319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27640" y="1700280"/>
            <a:ext cx="27370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BEGIN PGM PGM03-05 M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 ; KAPSOVE FREZOVANI - PRAVOUHLA KAPS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 ; CYKLUS FREZOVANI VYSTUPKU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 ; ...........................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 BLK FORM 0.1 Z X-50 Y-50 Z-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  BLK FORM 0.2 X+50 Y+50 Z+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 TOOL CALL 77 Z S5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 CYCL DEF 213 CEPY NA CISTO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00=2    ;BEZPEC. VZDALENOST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01=-15  ;HLOUBKA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06=500  ;POSUV NA HLOUBKU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02=3    ;HLOUBKA PRISUVU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07=150  ;FREZOVACI POSUV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03=+0   ;SOURADNICE POVRCHU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04=50   ;2. BEZPEC.VZDALENOST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16=+0   ;STRED 1. OSY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17=+0   ;STRED 2. OSY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18=90   ;1. DELKA STRANY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19=80   ;2. DELKA STRANY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20=10   ;RADIUS V ROHU ~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21=15   ;PRIDAVEK V 1.O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  CYCL CALL M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  ; ............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  L X+200 Z+80 R0 F MAX M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 END PGM PGM03-05 M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04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Řeš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0920" y="404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vičení 4  -  obvodové fréz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Zástupný symbol pro text 2"/>
          <p:cNvGraphicFramePr/>
          <p:nvPr/>
        </p:nvGraphicFramePr>
        <p:xfrm>
          <a:off x="1187280" y="1197000"/>
          <a:ext cx="66582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Zástupný symbol pro tex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6582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1052640"/>
            <a:ext cx="83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echnologická operace frézován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žijeme pouze 1 nástroj – frézovací hlava průměr 32 mm, v tabulce nástrojů uložena jako nástroj číslo 9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řadnice -  pravoúhlý souřadný systém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lový bod programu – v rovině obrábění XY je ve středu plochy, Z0 je na povrchu součás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Úkol : napište a odlaďte NC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var popište pomocí  lineární  a kruhové interpolace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čete technologii frézování (sousledné nebo nesousledn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závislosti na technologii určete správnou korekci nást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5759280" cy="4321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56360" y="1700280"/>
            <a:ext cx="27367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 BEGIN PGM PGM05-12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 ; KRUH SOUCASTI TVAR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 ; KRUZNICE DEFINOVANA RADIUSEM, STARTOVNIM A KONCOVYM BOD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 ; ...........................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 BLK FORM 0.1 Z X-50 Y-50 Z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 BLK FORM 0.2 X+50 Y+50 Z+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  TOOL CALL 93 Z S1000 DL+0 DR+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  L Z+50 R0 F MAX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  L X+0 Y-75 R0 F M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 L Z+2 R0 F M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 L Z-5 R0 F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 APPR LCT X+0 Y-45 R5 RL F1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 L X-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  L Y+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  CR X+35 Y+20 R+40 D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 L Y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  L X+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  DEP LCT X+0 Y-75 R5 F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  L Z+50 R0 F M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  L X+200 Z+100 R0 F MAX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  END PGM PGM05-12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40464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Řeš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404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vičení 5  -  obvodové fréz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Zástupný symbol pro text 2"/>
          <p:cNvGraphicFramePr/>
          <p:nvPr/>
        </p:nvGraphicFramePr>
        <p:xfrm>
          <a:off x="1187280" y="1197000"/>
          <a:ext cx="6886800" cy="50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Zástupný symbol pro tex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88680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119700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echnologická operace frézován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žijeme pouze 1 nástroj – frézovací hlava průměr 32 mm, v tabulce nástrojů uložena jako nástroj číslo 9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řadnice -  pravoúhlý souřadný systém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lový bod programu – v rovině obrábění XY je ve středu plochy, Z0 je na povrchu součás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Úkol : napište a odlaďte NC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var popište  pomocí  lineární  a kruhové interpolace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čete technologii frézování (sousledné nebo nesousledn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závislosti na technologii určete správnou korekci nást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5759640" cy="4319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156360" y="1557360"/>
            <a:ext cx="273672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 BEGIN PGM PGM05-14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 ; KRUH SOUCASTI TVAR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 ; KRUZNICE DEFINOVANA RADIUSEM, STARTOVNIM A KONCOVYM BOD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 ; ...........................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 BLK FORM 0.1 Z X-50 Y-50 Z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 BLK FORM 0.2 X+50 Y+50 Z+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  TOOL CALL 93 Z S1000 DL+0 DR+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  L Z+50 R0 F MAX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  L X+0 Y-75 R0 F M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 L Z+2 R0 F M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 L Z-5 R0 F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 APPR LCT X+0 Y-45 R5 RL F1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 L X-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  L Y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  RND R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 CR X+35 Y-15 R-40 D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  RND R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  L Y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  L X+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  DEP LCT X+0 Y-75 R5 F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  L Z+50 R0 F M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  L X+200 Z+100 R0 F MAX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  END PGM PGM05-14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476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Řeš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xt Metodika výuky SOUT Chomutov, vlastní text a výkres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vi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300_Cvi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4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zahrnuje jednotlivá cvičení dle výkresu. U každého cvičení je znázorněno i řešení, které slouží jak ke kontrole tak i k výuce programování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54936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vičení 1  -  frézování obdélníkové kaps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293920" y="1338120"/>
            <a:ext cx="2971800" cy="274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836720" y="2708280"/>
            <a:ext cx="3543480" cy="1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22400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293920" y="1566720"/>
            <a:ext cx="0" cy="228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522520" y="339552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037120" y="339552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4079880"/>
            <a:ext cx="0" cy="6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951200" y="3738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951200" y="1681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07760" y="270828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951200" y="1681200"/>
            <a:ext cx="0" cy="102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951200" y="27082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50560" y="408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150560" y="133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50920" y="1338120"/>
            <a:ext cx="0" cy="274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2708280"/>
            <a:ext cx="114300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780000" y="1680840"/>
            <a:ext cx="0" cy="1027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2522520" y="442440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4424400"/>
            <a:ext cx="1257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2293920" y="408132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5265720" y="408132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293920" y="51102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5951520" y="1338120"/>
            <a:ext cx="571680" cy="274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523200" y="2708280"/>
            <a:ext cx="79992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5951520" y="4081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6523200" y="3852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5951520" y="476712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6523200" y="476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2522520" y="350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282240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"/>
          <p:cNvCxnSpPr/>
          <p:nvPr/>
        </p:nvCxnSpPr>
        <p:spPr>
          <a:xfrm>
            <a:off x="6536880" y="2708280"/>
            <a:ext cx="1080" cy="2160"/>
          </a:xfrm>
          <a:prstGeom prst="curvedConnector5">
            <a:avLst>
              <a:gd name="adj1" fmla="val 33800000"/>
              <a:gd name="adj2" fmla="val 40000"/>
              <a:gd name="adj3" fmla="val 338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3551400" y="4881600"/>
            <a:ext cx="45720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3094200" y="4195800"/>
            <a:ext cx="34272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237200" y="4195800"/>
            <a:ext cx="34272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293920" y="4767120"/>
            <a:ext cx="148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67120"/>
            <a:ext cx="1485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465800" y="4538520"/>
            <a:ext cx="34272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865600" y="4538520"/>
            <a:ext cx="34272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6751800" y="2822400"/>
            <a:ext cx="34272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351320" y="2479680"/>
            <a:ext cx="3430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1909800"/>
            <a:ext cx="34272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1836720" y="2138400"/>
            <a:ext cx="34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2938320"/>
            <a:ext cx="34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6751800" y="4538520"/>
            <a:ext cx="34272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036800" y="2479680"/>
            <a:ext cx="455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608120" y="2708280"/>
            <a:ext cx="0" cy="137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08120" y="1338120"/>
            <a:ext cx="0" cy="1370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379520" y="1681200"/>
            <a:ext cx="34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379520" y="3395520"/>
            <a:ext cx="34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6180120" y="1566720"/>
            <a:ext cx="34308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23200" y="1680840"/>
            <a:ext cx="0" cy="1027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523200" y="2138400"/>
            <a:ext cx="34272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180120" y="38527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6066000" y="442440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523200" y="44244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80120" y="4424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6751800" y="4195800"/>
            <a:ext cx="34272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2865600" y="1681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2522520" y="20239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2865600" y="3738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5037120" y="20239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2522520" y="1681200"/>
            <a:ext cx="343080" cy="361800"/>
          </a:xfrm>
          <a:custGeom>
            <a:avLst/>
            <a:gdLst/>
            <a:ahLst/>
            <a:rect l="l" t="t" r="r" b="b"/>
            <a:pathLst>
              <a:path w="540" h="570">
                <a:moveTo>
                  <a:pt x="0" y="570"/>
                </a:moveTo>
                <a:cubicBezTo>
                  <a:pt x="45" y="435"/>
                  <a:pt x="90" y="300"/>
                  <a:pt x="180" y="210"/>
                </a:cubicBezTo>
                <a:cubicBezTo>
                  <a:pt x="270" y="120"/>
                  <a:pt x="450" y="0"/>
                  <a:pt x="540" y="3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4694400" y="3395520"/>
            <a:ext cx="342720" cy="362160"/>
          </a:xfrm>
          <a:custGeom>
            <a:avLst/>
            <a:gdLst/>
            <a:ahLst/>
            <a:rect l="l" t="t" r="r" b="b"/>
            <a:pathLst>
              <a:path w="540" h="570">
                <a:moveTo>
                  <a:pt x="0" y="570"/>
                </a:moveTo>
                <a:cubicBezTo>
                  <a:pt x="45" y="435"/>
                  <a:pt x="90" y="300"/>
                  <a:pt x="180" y="210"/>
                </a:cubicBezTo>
                <a:cubicBezTo>
                  <a:pt x="270" y="120"/>
                  <a:pt x="450" y="0"/>
                  <a:pt x="540" y="3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2865600" y="2023920"/>
            <a:ext cx="799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x R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2531880" y="3385800"/>
            <a:ext cx="343080" cy="361800"/>
          </a:xfrm>
          <a:custGeom>
            <a:avLst/>
            <a:gdLst/>
            <a:ahLst/>
            <a:rect l="l" t="t" r="r" b="b"/>
            <a:pathLst>
              <a:path w="540" h="570">
                <a:moveTo>
                  <a:pt x="0" y="570"/>
                </a:moveTo>
                <a:cubicBezTo>
                  <a:pt x="45" y="435"/>
                  <a:pt x="90" y="300"/>
                  <a:pt x="180" y="210"/>
                </a:cubicBezTo>
                <a:cubicBezTo>
                  <a:pt x="270" y="120"/>
                  <a:pt x="450" y="0"/>
                  <a:pt x="540" y="3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4703400" y="1671480"/>
            <a:ext cx="342720" cy="361800"/>
          </a:xfrm>
          <a:custGeom>
            <a:avLst/>
            <a:gdLst/>
            <a:ahLst/>
            <a:rect l="l" t="t" r="r" b="b"/>
            <a:pathLst>
              <a:path w="540" h="570">
                <a:moveTo>
                  <a:pt x="0" y="570"/>
                </a:moveTo>
                <a:cubicBezTo>
                  <a:pt x="45" y="435"/>
                  <a:pt x="90" y="300"/>
                  <a:pt x="180" y="210"/>
                </a:cubicBezTo>
                <a:cubicBezTo>
                  <a:pt x="270" y="120"/>
                  <a:pt x="450" y="0"/>
                  <a:pt x="540" y="3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636640" y="179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5837400" y="2708280"/>
            <a:ext cx="799920" cy="1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951520" y="1338120"/>
            <a:ext cx="1144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951160" y="1338120"/>
            <a:ext cx="3430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94240" y="133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951160" y="1681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951160" y="1909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951160" y="2138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951520" y="2367000"/>
            <a:ext cx="2286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951520" y="2593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951520" y="2822400"/>
            <a:ext cx="22860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951520" y="3052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951520" y="3281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951520" y="3509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951520" y="3738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66000" y="3852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294600" y="3852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522520" y="16812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4694400" y="16812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037120" y="16812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4694400" y="37386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30200" y="90792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echnologická operace frézování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žijeme pouze 1 nástroj –  fréza drážkovací průměr 16 mm, v tabulce nástrojů uložen jako nástroj číslo 77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řadnice -  pravoúhlý souřadný systém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lový bod programu – v rovině obrábění XY je ve středu plochy, Z0 je na povrchu součás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Úkol : napište a odlaďte NC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var naprogramujte pomocí cyklu č.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čete technologii frézování (sousledné nebo nesousledn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závislosti na technologii určete správnou velikost nást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759640" cy="432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940360" y="1557360"/>
            <a:ext cx="30243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 BEGIN PGM PGM03-01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 ; KAPSOVE FREZOVANI - PRAVOUHLA KAPS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 ; .........................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 BLK FORM 0.1 Z X-50 Y-50 Z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 BLK FORM 0.2 X+50 Y+50 Z+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 TOOL CALL 77 Z S5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  CYCL DEF 4.0 KAPSOVE FREZOVA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  CYCL DEF 4.1 VZDAL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  CYCL DEF 4.2 HLOUBK 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 CYCL DEF 4.3 PRISUV  3 F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 CYCL DEF 4.4 X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 CYCL DEF 4.5 Y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 CYCL DEF 4.6 F150 DR+ RADIU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  L Z+50 R0 F MAX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  L X+0 Y+0 R0 F M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 L Z+2 R0 F M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  CYCL CALL M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  ; ..........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  L X+200 Z+80 R0 F MAX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  END PGM PGM03-01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476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Řeš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511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635280" y="33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Simu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47628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vičení 2  -  frézování kruhové kaps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Zástupný symbol pro text 2"/>
          <p:cNvGraphicFramePr/>
          <p:nvPr/>
        </p:nvGraphicFramePr>
        <p:xfrm>
          <a:off x="1258920" y="1268280"/>
          <a:ext cx="669600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Zástupný symbol pro tex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8280"/>
                    <a:ext cx="669600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126828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echnologická operace frézován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žijeme pouze 1 nástroj –  fréza drážkovací průměr 16 mm, v tabulce nástrojů uložen jako nástroj číslo 77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řadnice -  pravoúhlý souřadný systém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lový bod programu – v rovině obrábění XY je ve středu plochy, Z0 je na povrchu součás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Úkol : napište a odlaďte NC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var naprogramujte pomocí cyklu č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čete technologii frézování (sousledné nebo nesousledn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závislosti na technologii určete správnou velik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759640" cy="431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84720" y="1557360"/>
            <a:ext cx="2737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 BEGIN PGM PGM03-02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 ; KAPSOVE FREZOVANI - KRUHOVA KAPS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 ; .........................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 BLK FORM 0.1 Z X-50 Y-50 Z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 BLK FORM 0.2 X+50 Y+50 Z+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 TOOL CALL 77 Z S5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  CYCL DEF 5.0 KRUHOVA KAP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  CYCL DEF 5.1 VZDAL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  CYCL DEF 5.2 HLOUBK 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 CYCL DEF 5.3 PRISUV  3 F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 CYCL DEF 5.4 RADIUS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 CYCL DEF 5.5 F150 D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 L Z+50 R0 F MAX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  L X+0 Y+0 R0 F M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  L Z+2 R0 F M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 CYCL CALL M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  ; ..........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  L X+200 Z+80 R0 F MAX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  END PGM PGM03-02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0464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Řeš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55:11Z</dcterms:modified>
  <cp:revision>18</cp:revision>
  <dc:subject/>
  <dc:title>Název DUMu</dc:title>
</cp:coreProperties>
</file>