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213-B940-4558-B705-9DB8F6F0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374-0FFF-4A11-924B-5CFE835C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6A1-FA79-410F-98BC-8F0F3285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D0C-BF00-4066-94C6-0D97E21D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9BCC-23F9-4710-A1E9-B6818F0E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314-76DB-4965-8800-D58ECB65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D99-4CB4-4AA4-8AD3-4BE18F22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B04-BAF2-416D-A48B-2AB4FBBB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AA0-13DB-4C42-A7F5-83C01FE4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7D5-0BA7-41AA-A841-5830FB42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4722-4149-48CF-A4BF-9E03755A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882-F8AE-4B51-BC69-2B078773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C997-541E-465B-8EF1-1041B72FC4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středí výkre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286_Prostředí výkres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940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užitá literatur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lastní text, vlastní obrázky, učebnice Solid Edge V18     M.Rusiňák ISBN 80-239-7142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50385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středí výkres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286_Prostředí výkres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ování v systému CAD/CAM a Heidenh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11.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ukové listy popisují jednotlivé kroky při tvorbě dílenského výkresu. Jsou srozumitelně vyjádřeny přímo s aplikace kreslícího program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052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kresová dokumentace je tvořena na základě 3D modelů. Použití matematických modelů výrazně urychluje tvorbu 2D výkresové dokumentace. Výkresy generujeme v prostředí Solid Edge s názvem Výkres (Draft). Prostředí tohoto modulu je velmi podobné prostředí objemové součásti nebo sestavy.                                                                                      Příkazy jako Otevřít, Uložit a Vložit najdeme zase pod položkami hlavního menu. Příkazy sloužící pro 2D dokumentaci jsou uloženy implicitně nalevo v nástrojovém panel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40464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vorba 2D dokumentace z 3D mod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ree"/>
          <p:cNvPicPr/>
          <p:nvPr/>
        </p:nvPicPr>
        <p:blipFill>
          <a:blip r:embed="rId1"/>
          <a:srcRect l="23904" t="0" r="29606" b="2997"/>
          <a:stretch/>
        </p:blipFill>
        <p:spPr>
          <a:xfrm>
            <a:off x="4140360" y="3213000"/>
            <a:ext cx="230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2612" r="0" b="3675"/>
          <a:stretch/>
        </p:blipFill>
        <p:spPr>
          <a:xfrm>
            <a:off x="395280" y="1413000"/>
            <a:ext cx="8454960" cy="5184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3333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zadí výkresu, které může obsahovat rámeček, rohové razítko s logem firmy, kreslíme na list v pozadí. Tyto listy nepodléhají časovým změnám, proto je vhodné nakresli je do šablony, která bude dostupná všem uživatelů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6381720"/>
            <a:ext cx="574560" cy="28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78520" y="551664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stavení lis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132000" y="5877000"/>
            <a:ext cx="719280" cy="50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913800" cy="4679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4000" y="260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33360"/>
            <a:ext cx="8496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becné informace o tvorbě výkres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i tvorbě 2D dokumentace z 3D modelu je nejdříve nutno vygenerovat pohledy na díl. Pohledy lze libovolně natočit před jejich vygenerováním tak, aby nedošlo k chybnému vysvětlení tvaru detailu při výrobě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2782" r="0" b="3278"/>
          <a:stretch/>
        </p:blipFill>
        <p:spPr>
          <a:xfrm>
            <a:off x="324000" y="1557360"/>
            <a:ext cx="8351640" cy="4967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79640" y="2637000"/>
            <a:ext cx="43164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404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ýkresové pohledy určujeme pomocí Průvodce vkládání pohledů a následně doplníme nabídková okna dle potřeb výkres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476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generování jednotlivých pohledů – nárys – půdorys - bokor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1668" r="0" b="2971"/>
          <a:stretch/>
        </p:blipFill>
        <p:spPr>
          <a:xfrm>
            <a:off x="539640" y="1484280"/>
            <a:ext cx="8207640" cy="5040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24000" y="2852640"/>
            <a:ext cx="50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2938" r="0" b="3387"/>
          <a:stretch/>
        </p:blipFill>
        <p:spPr>
          <a:xfrm>
            <a:off x="324000" y="1628640"/>
            <a:ext cx="8496000" cy="4896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50920" y="3284640"/>
            <a:ext cx="43200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4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 vytvoření hlavních pohledů lze výkres doplnit o další grafické informace, jako například řez, detaily, potočené pohledy a podobně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450000" y="402444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Ře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042920" y="3645000"/>
            <a:ext cx="1008000" cy="57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2957" r="0" b="2664"/>
          <a:stretch/>
        </p:blipFill>
        <p:spPr>
          <a:xfrm>
            <a:off x="324000" y="1628640"/>
            <a:ext cx="8424720" cy="489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47628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ýkres doplněn detailem a kótami. Všechny nástroje jsou na panelu příkaz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440" y="429264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nel příkaz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116000" y="3860640"/>
            <a:ext cx="122400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1-30T14:20:01Z</dcterms:modified>
  <cp:revision>17</cp:revision>
  <dc:subject/>
  <dc:title>Název DUMu</dc:title>
</cp:coreProperties>
</file>