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66F-6082-4914-A3FE-20070D20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9F6-CE47-420E-A583-B8480AE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81D-ACBB-458A-8E93-C7DB8A2D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F6D-5904-47BA-8DD0-9B424A8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9E1-4D96-4CA1-9D00-F624C60A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D9A-1C65-4786-8256-30A758D6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4FC-C730-493B-941F-42D81931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F1A-2A56-49B2-8F63-F94A82DB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323-69B9-4F5C-A63B-F08BB8E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AC3-8724-4AA9-A932-36E5EEB7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499-D148-423C-B4BD-82D7384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425-49E3-41D6-AFE9-5A1C3C2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C7E7-AE52-4150-910B-223CC8393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evné cykly iTNC 5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79640" y="2637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297_Pevné cykly iTNC 5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940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r: Jaroslav Val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vné cykly iTNC 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297_Pevné cykly iTNC 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chanik seřizova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ování v systému CAD/CAM a Heidenh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aroslav Val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3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zahrnuje základní cyklické funkce používané v režimu Diali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20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řehled pevných cyklů řídícího systému iTNC 5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ktivujeme-li  na panelu řídícího systému frézky  v režimu „zadat-edit“ v NC programu funkční klávesu „CYCLE  DEF“, objeví se nám na monitoru  řídícího systému softwarová liš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697800" cy="446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94360" y="639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56000" y="4724280"/>
            <a:ext cx="1079640" cy="144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4365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 kláve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836640"/>
            <a:ext cx="842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Jednotlivé  pracovní cykly jsou  zařazeny do následujících technologických skupin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tání,  zá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ní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sy, ostrůvky, dráž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há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ormace souřad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etí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cyk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tvrtá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str bod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átá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Řádkován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está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ální cyk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má softwarová klávesa (zle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(kone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ní softwarová klávesa (zpr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16" descr="HEIDENHAIN"/>
          <p:cNvPicPr/>
          <p:nvPr/>
        </p:nvPicPr>
        <p:blipFill>
          <a:blip r:embed="rId1"/>
          <a:stretch/>
        </p:blipFill>
        <p:spPr>
          <a:xfrm>
            <a:off x="2843280" y="5516640"/>
            <a:ext cx="4295880" cy="85248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5" descr="HEIDENHAIN Logo"/>
          <p:cNvPicPr/>
          <p:nvPr/>
        </p:nvPicPr>
        <p:blipFill>
          <a:blip r:embed="rId2"/>
          <a:stretch/>
        </p:blipFill>
        <p:spPr>
          <a:xfrm>
            <a:off x="1547640" y="537372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y první softwarové kláves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kategorie „vrtání – závitován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ahují  cykly, které řeší technologii obrábění otvorů, tedy „osové“  operace. To znamená, že nástroj pracuje v ose obrábění a CNC systém nepočítá žádné korek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912000" cy="4569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1640" y="5877000"/>
            <a:ext cx="172728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557360"/>
            <a:ext cx="8208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Vrtací cyk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akteristickým znakem této skupiny cyklů je nutnost polohovat nástroj na Z souřadnici odpovídající bezpečné vzdálenosti. Tyto cykly „neumějí“ sami „přijet“ k obrobk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Vystružovac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cyklus je určen pro technologii vystružování (nástroj výstružník) popř. vyhrubování (nástroj výhrub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Závitovac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akteristickým znakem této skupiny cyklů je nutnost polohovat nástroj na Z souřadnici odpovídající bezpečné vzdálenosti. Při závitování s použitím tohoto cyklu stroj není schopen kontrolovat a řídit vzájemnou úhlovou polohu závitníku  v souladu s posuvem a otáčkami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rázek 16" descr="HEIDENHAIN"/>
          <p:cNvPicPr/>
          <p:nvPr/>
        </p:nvPicPr>
        <p:blipFill>
          <a:blip r:embed="rId1"/>
          <a:stretch/>
        </p:blipFill>
        <p:spPr>
          <a:xfrm>
            <a:off x="4140360" y="404640"/>
            <a:ext cx="4295520" cy="8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476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ykly druhé softwarové kláve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egorie frézování „kapsy,ostrůvky, drážky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ahují  cykly, které řeší technologii  frézování základních tvarů.  „kapsou“  je  zde myšlena dutina  kruhového, obdélníkového nebo čtvercového tvar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proti tomu  „ostrůvkem“ je myšlen  výstupek kruhového, obdélníkového nebo čtvercového tvaru. Technologicky to znamená, že se nástroj pohybuje vně vymezené hran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ážkou je myšlena dutina, jejíž jeden rozměr (šířka drážky) nesmí být větší než dvojnásobek průměru frézy. Zároveň šířka drážky nesmí být menší než průměr fréz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ojmenování cyklických fun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ézovací  cyklus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ravoúhlá kap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se používá v případě potřeby  vyhrubování pravoúhlé kapsy (tvaru obdélníka nebo čtverce). Dále lze použít v případě  začištění dna  týchž tvar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ézovací  cyklus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kruhová kap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se používá v případě potřeby  vyhrubování  kruhové. Dále lze použít v případě  začištění dna  týchž tvarů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765000"/>
            <a:ext cx="8496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frézování drážky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o cyklus se vyznačuje nutností  spočítat startovní polohu nástroje vůči stěnám dráž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frézování přímé dráž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ívá se k obrábě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mých dráž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ožňuje obrobení drážky kompletně jedním nástrojem nebo vyhrubování a dokončení různými nástro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klus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frézování kruhové dráž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žívá se k obrábě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uhových dráž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ožňuje obrobení drážky kompletně jedním nástrojem nebo vyhrubování a dokončení různými nástro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rázek 16" descr="HEIDENHAIN"/>
          <p:cNvPicPr/>
          <p:nvPr/>
        </p:nvPicPr>
        <p:blipFill>
          <a:blip r:embed="rId1"/>
          <a:stretch/>
        </p:blipFill>
        <p:spPr>
          <a:xfrm>
            <a:off x="3492360" y="5445000"/>
            <a:ext cx="4295880" cy="8524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15" descr="HEIDENHAIN Logo"/>
          <p:cNvPicPr/>
          <p:nvPr/>
        </p:nvPicPr>
        <p:blipFill>
          <a:blip r:embed="rId2"/>
          <a:stretch/>
        </p:blipFill>
        <p:spPr>
          <a:xfrm>
            <a:off x="1835280" y="4221000"/>
            <a:ext cx="122400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užitá literatu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xt Metodika výuky SOUT Chomutov, vlastní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11-30T14:51:30Z</dcterms:modified>
  <cp:revision>17</cp:revision>
  <dc:subject/>
  <dc:title>Název DUMu</dc:title>
</cp:coreProperties>
</file>