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B59E-534B-424E-977B-2CD1A998B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1E22-042C-4E7E-8A67-31D225B78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6E20-4EE0-433D-A1A6-479E5B2C5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9EF1-4787-4B60-8C77-55197D12F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C337-920C-4C62-84A3-F8CBDA23D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5127-562B-441B-B550-7A5355618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EE48-2DDF-4CBA-B062-872DF7B73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CA73-C748-4FF0-9E17-2F544B147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89A4-F011-40C5-B188-46D550351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02D3-5C01-41EF-A70D-C0D349281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813D-5935-4909-890D-E3CD2C186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A8BA-F02B-486D-BF85-716BD70E2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1F5BE-7296-40BA-BE0B-03AE7F5418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06864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Synchronní technolog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Obrázek 3" descr=""/>
          <p:cNvPicPr/>
          <p:nvPr/>
        </p:nvPicPr>
        <p:blipFill>
          <a:blip r:embed="rId1"/>
          <a:stretch/>
        </p:blipFill>
        <p:spPr>
          <a:xfrm>
            <a:off x="1530360" y="476280"/>
            <a:ext cx="6083280" cy="1484280"/>
          </a:xfrm>
          <a:prstGeom prst="rect">
            <a:avLst/>
          </a:prstGeom>
          <a:ln w="0">
            <a:noFill/>
          </a:ln>
        </p:spPr>
      </p:pic>
      <p:sp>
        <p:nvSpPr>
          <p:cNvPr id="43" name="TextovéPole 4"/>
          <p:cNvSpPr/>
          <p:nvPr/>
        </p:nvSpPr>
        <p:spPr>
          <a:xfrm>
            <a:off x="1979640" y="2565360"/>
            <a:ext cx="54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VY_32_INOVACE_287_Synchronní 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ovéPole 5"/>
          <p:cNvSpPr/>
          <p:nvPr/>
        </p:nvSpPr>
        <p:spPr>
          <a:xfrm>
            <a:off x="5940360" y="551664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tor: Jaroslav Valent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oužitá literatur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kázková videa pro synchronní technologii v CAD systéme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Záznamový list výukového materiálu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1600200"/>
          <a:ext cx="8229600" cy="4844880"/>
        </p:xfrm>
        <a:graphic>
          <a:graphicData uri="http://schemas.openxmlformats.org/drawingml/2006/table">
            <a:tbl>
              <a:tblPr/>
              <a:tblGrid>
                <a:gridCol w="2962440"/>
                <a:gridCol w="526716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Název škol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SŠTZ Mohelnice, 1. máje 2, 789 85 Mohelni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Číslo projek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Z.1.07/1.5.00/34.0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ázev šablony klíčové aktiv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ovace a zkvalitnění výuky prostřednictvím ICT (III/2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ázev výukového materiál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ynchronní technologi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znač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Y_32_INOVACE_287_Synchronní technologi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zdělávací ob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echanik seřizova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ematický okru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gramování v systému CAD/CAM a Heidenha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oční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u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Jaroslav Valen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atum ověř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3.11.20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7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notace / metodický pop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ezentace ukazuje formou video ukázek novou cestu konstrukce v oblasti tvorby modelů a celých sestav.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dpis auto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dpis ředite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26028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0000"/>
                </a:solidFill>
                <a:uFillTx/>
                <a:latin typeface="Arial"/>
              </a:rPr>
              <a:t>Solid Edge se Synchronní technologi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250920" y="1125360"/>
            <a:ext cx="8496360" cy="54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Synchronní technologi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je skupina nástrojů určených k modifikaci geometrie bez ohledu na její historii. Těmito nástroji je tedy možné editovat modely, které vznikly v systému NX, i modely, které byly importovány z jiných CAD systémů. Synchronní technologie umožňuje editaci pomocí tzv. přímého modelování, kdy se s modelem nepracuje klasicky na úrovni jednotlivých modelovacích prvků (vytažení, zaoblení, sražení hrany apod.), ale k modelu se přistupuje na úrovni stěn Synchronní technologie je skupina nástrojů určených k modifikaci geometrie bez ohledu na její historii. Těmito nástroji je tedy možné editovat modely, které vznikly v systému NX, i modely, které byly importovány z jiných CAD systémů. Synchronní technologie umožňuje editaci pomocí tzv. přímého modelování, kdy se s modelem nepracuje klasicky na úrovni jednotlivých modelovacích prvků (vytažení, zaoblení, sražení hrany apod.), ale k modelu se přistupuje na úrovni stě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nto přístup přináší významnou úsporu času. Konstruktér není tlačen do hledání "rodiče", který definuje danou geometrii, ale přímo označí geometrii (stěny), kterou chce editovat a s touto skupinou stěn pracuje. Pokud model obsahuje historii, tak historie zůstane zachována a nástroje Synchronních technologií se zapíší do stromu historie jako další modelovací prvk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76500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Co je synchronní technologi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Zástupný symbol pro text 2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7802640" cy="5851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79280" y="260280"/>
            <a:ext cx="86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Možnosti synchronní 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9534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Zástupný symbol pro text 2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37134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Zástupný symbol pro text 2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82000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Zástupný symbol pro text 2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780228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62467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4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Zástupný symbol pro text 2" descr="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54400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5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Zástupný symbol pro text 2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7802280" cy="585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50067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6" dur="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C</cp:lastModifiedBy>
  <dcterms:modified xsi:type="dcterms:W3CDTF">2013-11-30T14:22:47Z</dcterms:modified>
  <cp:revision>14</cp:revision>
  <dc:subject/>
  <dc:title>Název DUMu</dc:title>
</cp:coreProperties>
</file>