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AE0-C0BB-454B-968B-65F75C10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783-4BEA-47EE-9865-D1F6758F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2A3-AB20-400A-91D1-65F2A802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8C0-6409-4A76-B54C-D208B352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912-D9AA-46E3-A1EA-D34B1293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399-5D80-4F92-AFD1-03C650FB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E2D-E98F-42F3-B92F-3ABDD6C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079-49D6-424D-8CD7-6D299629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A9F-EE0B-4797-B9FA-F42FB1FA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252-8891-42CD-B6AC-90F1336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3FA-9548-495B-A17B-B65F952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C18-A281-42CC-8097-6C7EE0C4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581A-D203-4E7B-BDCB-14E328061F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Základní prvky řízené profi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116000" y="263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83_Základní prvky řízené profi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86728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kladní prvky řízené profi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3_Základní prvky řízené profi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ukové listy popisují jednotlivé kroky při vytváření základních profilů. Jsou srozumitelně vyjádřeny přímo s aplikace kreslícího program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413000"/>
            <a:ext cx="8353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jemové modely v Solid Edge modelujeme pomocí 2D řezů, kterým říkáme profily. Z profilu těleso vytvoříme pomocí základních prvků. Každý s těchto prvků vyžaduje nakreslení 2D profilu, který je následně vytažen nebo rotová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hodujeme se vždy tak, že součásti pro soustružení vytváříme pomocí rotace a ploché a skříňové vytažením profi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 momentě kdy budeme soustružit součást v CAM, je třeba aby měla osu rotace. Jinak může být obrobení kompliková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6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Základní prvky řízené profi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8186" t="0" r="24711" b="0"/>
          <a:stretch/>
        </p:blipFill>
        <p:spPr>
          <a:xfrm>
            <a:off x="5796000" y="3860640"/>
            <a:ext cx="26636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stup při modelování prv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981000"/>
            <a:ext cx="2447640" cy="57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běr příka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1773360"/>
            <a:ext cx="4464000" cy="71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1844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běr roviny na kterou budeme kreslit 2D prof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2708280"/>
            <a:ext cx="547200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052720" y="28526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reslení 2D profilu, definující tvar prv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3716280"/>
            <a:ext cx="5472000" cy="792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78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ujeme směr pro odebrání nebo přidání materi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4724280"/>
            <a:ext cx="5256360" cy="792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05080" y="48672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ujeme hloubku vytažení (přes vše, od/do nebo hodno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734080"/>
            <a:ext cx="518472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59500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ončení – vytažené stěny mají konečný tv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3904" t="1734" r="13292" b="1708"/>
          <a:stretch/>
        </p:blipFill>
        <p:spPr>
          <a:xfrm>
            <a:off x="324000" y="4292640"/>
            <a:ext cx="216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2570" r="0" b="3845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2492280"/>
            <a:ext cx="431640" cy="2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říkaz Vysunu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(Protrusion) – model vzniká vytažením nebo promítnutím profilu po přím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2423" r="0" b="4577"/>
          <a:stretch/>
        </p:blipFill>
        <p:spPr>
          <a:xfrm>
            <a:off x="324000" y="1052640"/>
            <a:ext cx="8557920" cy="554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0920" y="3068640"/>
            <a:ext cx="433440" cy="289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3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říkaz Vyříznu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Coutout) – slouží k odebrání materiálu po přímce a je podobný příkazu Vysunut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2518" r="0" b="4837"/>
          <a:stretch/>
        </p:blipFill>
        <p:spPr>
          <a:xfrm>
            <a:off x="250920" y="1341360"/>
            <a:ext cx="849780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33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říkaz Vysunutí rota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Revolved Protrusion) – model vzniká rotací profilu okolo os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2997360"/>
            <a:ext cx="431640" cy="3380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2338" r="0" b="4445"/>
          <a:stretch/>
        </p:blipFill>
        <p:spPr>
          <a:xfrm>
            <a:off x="324000" y="907920"/>
            <a:ext cx="8532720" cy="576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0920" y="3213000"/>
            <a:ext cx="43344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říkaz vyříznutí rotac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Revolved Cutout) – slouží pro úběr materiálu kolem definované osy rot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astní text, vlastní obrázky, učebnice Solid Edge V18     M.Rusiňák ISBN 80-239-7142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17:50Z</dcterms:modified>
  <cp:revision>19</cp:revision>
  <dc:subject/>
  <dc:title>Název DUMu</dc:title>
</cp:coreProperties>
</file>