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E25CE-B4D1-493D-9DF0-1EA3C96C0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75471-0325-4EFE-994D-DEF620B72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12744-1E59-4141-8582-ACED6E8C0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3E673-31EE-4C00-A033-E2A918856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50905-C3F1-4BE9-AAD9-ABC30EB39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B02D2-5F64-475A-A062-82F381A4A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2966-71FF-4212-9F81-7D3FF1C7D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10671-9E9C-4C25-8E69-8AD95DC93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FA7C7-C561-4C9D-A44B-8DD2E66FA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80AE8-39DB-4DA8-BA62-3DED2F5B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F32C7-6B03-406A-BB08-76092BA9C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4962-EC79-4C6B-B51D-90C002A18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1EC6-AADA-4CDF-A08B-A9978E506C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ílenské programování</a:t>
            </a:r>
            <a:endParaRPr b="0" lang="en-US" sz="24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1908000" y="2637000"/>
            <a:ext cx="58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Y_32_INOVACE_296_Dílenské programování</a:t>
            </a:r>
            <a:endParaRPr b="0" lang="en-US" sz="1800" spc="-1" strike="noStrike">
              <a:solidFill>
                <a:srgbClr val="000000"/>
              </a:solidFill>
              <a:latin typeface="Calibri"/>
            </a:endParaRPr>
          </a:p>
        </p:txBody>
      </p:sp>
      <p:sp>
        <p:nvSpPr>
          <p:cNvPr id="44" name="TextovéPole 5"/>
          <p:cNvSpPr/>
          <p:nvPr/>
        </p:nvSpPr>
        <p:spPr>
          <a:xfrm>
            <a:off x="5940360" y="55897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 Jaroslav Valen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000000"/>
                </a:solidFill>
                <a:uFillTx/>
                <a:latin typeface="Arial"/>
              </a:rPr>
              <a:t>Použitá literatura:</a:t>
            </a:r>
            <a:r>
              <a:rPr b="0" lang="cs-CZ" sz="1800" spc="-1" strike="noStrike">
                <a:solidFill>
                  <a:srgbClr val="000000"/>
                </a:solidFill>
                <a:latin typeface="Arial"/>
              </a:rPr>
              <a:t> Text Metodika výuky SOUT Chomutov, vlastní tex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57200" y="1600200"/>
          <a:ext cx="8229600" cy="484488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ílenské programová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VY_32_INOVACE_296_Dílenské programová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Times New Roman"/>
                        </a:rPr>
                        <a:t>Programování v systému CAD/CAM a Heidenhain</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Jaroslav Valent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8.3. 201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7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Times New Roman"/>
                        </a:rPr>
                        <a:t>Prezentace zahrnuje seznam funkcí a režimů systému Heidenhain. Popisuje možnosti dílenského programová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260280"/>
            <a:ext cx="8136000" cy="627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Arial"/>
              </a:rPr>
              <a:t>Dílenské programování</a:t>
            </a:r>
            <a:r>
              <a:rPr b="0"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ímto způsobem programuje obsluha stroje samostatně.</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Programování na systé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kud programy připravujete přímo na stroji nebo na pracovní stanici, pak lze plně využít podpory řídícího systému Heidenhain TNC  formou dialogového programování Heidenhain. Přitom není potřeba si pamatovat význam G-funkcí. Místo toho jsou k dispozici funkce přímek, kruhových oblouků a cykly aktivované na jedno stisknutí tlačítka nebo softklávesy. Vyvolaný dialog Heidenhain okamžitě nabízí podporu pro další práci s TNC. Zadávané hodnoty jsou vyžadovány formou dotazů nebo se zapisují do  kolonek</a:t>
            </a:r>
            <a:r>
              <a:rPr b="0" lang="cs-CZ"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Grafická podpora při programování</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otřebnou jistotu při programování poskytuje dvou rozměrná grafika programování: TNC  simultánně zobrazuje každý programovaný úsek dráh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Grafický tes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Grafická simulace obrábění v TNC  dává věrný obraz opracování dílce. Obsluha může zvolit nejvhodnější grafickou interpretaci z poskytované nabídky v TNC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ůdorys s rozdílným odstínováním hloubky materiál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a tři průmětny (stejně jako na technickém výkre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 prostorovém 3D zobrazení.</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00" y="1197000"/>
            <a:ext cx="856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Programování  -  dialog</a:t>
            </a:r>
            <a:r>
              <a:rPr b="1"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rogramování je velice jednoduché. Řídící systémy Heidenhain jsou  „dílensky orientované“. To znamená, že jsou koncipovány pro programování obsluhou přímo na stroji. Při programování v dialogu  se uživatel nemusí učit ani programovací jazyk, ani G-funkce.  Řídící systém ho vede pomocí jednoduše srozumitelných otázek a odkazů, samozřejmě v rodném  jazyce. To je podpořeno jednoznačnou symbolikou tlačítek. Na přehledné obrazovce je vidět dialog HEIDEHNAIN – kroky programu, grafiku a softwarovou lištu. Všechny texty jsou k dispozici v mnoha jazycích, také v českém jazyc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Programování -  DIN/ISO</a:t>
            </a:r>
            <a:r>
              <a:rPr b="0" lang="cs-CZ" sz="1800" spc="-1" strike="noStrike">
                <a:solidFill>
                  <a:srgbClr val="1f497d"/>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edle dialogu Heidenhain je možno také zhotovit  NC programy ve formátu  DIN 66025  popř. ISO 6983 nebo je nahrát přes datové rozhraní  z externího PC nechat obrobit.</a:t>
            </a:r>
            <a:endParaRPr b="0" lang="en-US" sz="1800" spc="-1" strike="noStrike">
              <a:solidFill>
                <a:srgbClr val="000000"/>
              </a:solidFill>
              <a:latin typeface="Calibri"/>
            </a:endParaRPr>
          </a:p>
        </p:txBody>
      </p:sp>
      <p:pic>
        <p:nvPicPr>
          <p:cNvPr id="49" name="obrázek 15" descr="HEIDENHAIN Logo"/>
          <p:cNvPicPr/>
          <p:nvPr/>
        </p:nvPicPr>
        <p:blipFill>
          <a:blip r:embed="rId1"/>
          <a:stretch/>
        </p:blipFill>
        <p:spPr>
          <a:xfrm>
            <a:off x="6804000" y="260280"/>
            <a:ext cx="1297080" cy="12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95280" y="549360"/>
            <a:ext cx="83534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Cyklické funkc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asto se opakující pracovní operace jsou uloženy jako </a:t>
            </a:r>
            <a:r>
              <a:rPr b="1" lang="cs-CZ" sz="1800" spc="-1" strike="noStrike">
                <a:solidFill>
                  <a:srgbClr val="1f497d"/>
                </a:solidFill>
                <a:latin typeface="Arial"/>
              </a:rPr>
              <a:t>pevné cykly</a:t>
            </a:r>
            <a:r>
              <a:rPr b="1"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ožnosti volb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Vrtací  cykl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rtací a frézovací operace nabízí TNC formou pevných cyklů obrábění, které podstatně usnadňují programováni. Obsluha jednoduše zvolí vhodný cyklus a TNC si vyžádá zadání dalších údajů formou dialogu. Pro jistotu se zobrazí parametry zadání ještě graficky.</a:t>
            </a:r>
            <a:r>
              <a:rPr b="0"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Frézovací  cykl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Cykly pro frézovací operace vycházejí z frézováni drážek s kývavým zahloubením, dále jsou ošetřeny cykly kruhových a pravoúhlých kapes resp. ostrůvků. povrchové obrábění meandrovým způsobem nebo cyklem pro pravidelné ploch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Cykly pro závitování a vystružování</a:t>
            </a:r>
            <a:r>
              <a:rPr b="1"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ro NC stroje, které nejsou vybaveny úhlovým snímáním polohy vřetene, vyvinul Heidenhain cykly na vrtání závitů, kdy TNC nesynchronizuje pohyb v ose nástroje a otáčky vřetena.</a:t>
            </a:r>
            <a:r>
              <a:rPr b="0" lang="cs-CZ"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68360" y="836640"/>
            <a:ext cx="828036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Programování 2D tvarů v rovině</a:t>
            </a:r>
            <a:r>
              <a:rPr b="0" lang="en-US" sz="1800" spc="-1" strike="noStrike">
                <a:solidFill>
                  <a:srgbClr val="1f497d"/>
                </a:solidFill>
                <a:latin typeface="Arial"/>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D-tvary jsou tak zvaným denním chlebem v dílně. Za tím účelem nabízí TNC  pestrou řadu možností. Programování pomocí funkčních kláves Jsou-li obrysy kompletně ok6továny tzn., že koncové body prvků obrysu jsou zadány v pravoúhlých nebo polárních souřadnicích, pak lze NC program vytvořit přímo pomocí funkčních kláves.</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Přímky a kruhové prvk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cete-li například programovat přímku, stisknete klávesu se symbolem pro lineární pohyb. Všechny potřebné informace pro popis NC bloku jako souřadnice cílového bodu, posuv, korekce nástroje a M funkce si formou dialogu vyžádá TNC sám. Příslušné klávesy pro zadání kruhové dráhy, zkosení a zaoblení rohů zjednodušují průběh programování. Abychom se vyhnuly zanechání stopy nástroje při najetí nebo odjetí z obrysu využívá se funkce tečného napojení dráhy nástroje na obrys.</a:t>
            </a:r>
            <a:endParaRPr b="0" lang="en-US" sz="1800" spc="-1" strike="noStrike">
              <a:solidFill>
                <a:srgbClr val="000000"/>
              </a:solidFill>
              <a:latin typeface="Calibri"/>
            </a:endParaRPr>
          </a:p>
        </p:txBody>
      </p:sp>
      <p:pic>
        <p:nvPicPr>
          <p:cNvPr id="52" name="obrázek 15" descr="HEIDENHAIN Logo"/>
          <p:cNvPicPr/>
          <p:nvPr/>
        </p:nvPicPr>
        <p:blipFill>
          <a:blip r:embed="rId1"/>
          <a:stretch/>
        </p:blipFill>
        <p:spPr>
          <a:xfrm>
            <a:off x="7308720" y="5805360"/>
            <a:ext cx="1008360" cy="86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333360"/>
            <a:ext cx="85690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SL-cykly</a:t>
            </a:r>
            <a:r>
              <a:rPr b="1" lang="cs-CZ" sz="1800" spc="-1" strike="noStrike">
                <a:solidFill>
                  <a:srgbClr val="000000"/>
                </a:solidFill>
                <a:latin typeface="Arial"/>
              </a:rPr>
              <a:t>	</a:t>
            </a:r>
            <a:r>
              <a:rPr b="1"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SL-cykly představují skupinu cyklů, které umožňují obrábět rozmanité tvary kapes s využitím  jednoho nebo více nástrojů. Obrys dílce se definuje v samostatných podprogramec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L= Subkontur-List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SL-cykly pro uzavřené  obrys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 podprogramech se definují pouze jednotlivé  obrysy.  TNC propočítá dráhu nástroje pro  frézovaný obrys a dráhu pro  vyhrubování uvnitř obrysu. V případě ostrůvků se propočítá dráha pro vyhrubování vně obrysu. Pokud při  hrubování velkým nástrojem zůstanou velké neobrobené plochy, lze je dodatečně vyhrubov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SL-cykly pro otevřené  obrys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Otevřené" obrysy, které budou programovány a obráběny v SL cyklech, nabízejí proti běžnému obrábění s bloky polohy zřetelné výhod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při frézování na více třísek je možno frézovat tam a zpět s časovou úsporo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cyklus se využívá k hrubování i dokončování.</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sousledné a nesousledné frézování je zachováno i při transformaci souřadnic, např. zrcadlení.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NC kontroluje při obrábění poškození obrysu podfrézování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476280"/>
            <a:ext cx="83516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Programování volného obrysu</a:t>
            </a:r>
            <a:r>
              <a:rPr b="1"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Často nejsou výkresy okótovány tak podrobně, jak je to nutné k vytvoření NC programu. Tento problém řeší TNC technologií "programování volného obrysu" FK. Obsluha zadá pouze hodnoty, které jsou uvedeny na náčrtku. Obrys můžete definovat libovolně. Pokud postačují uvedené údaje, TNC dopočítá automaticky chybějící body obrysu. Vyskytne-li se možnost více řešení, TNC zobrazí nabízená řešení na obrazovce  a obsluha zvolí to správné. Prvky obrysu dílce se programují pomocí softkeys pod obrazovkou TNC.</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Opakování částí program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Opakováním části programu - označený výřez programu, který lze následně vícekrát opakovat za sebou. Výřez programu, který se dá opakovat v libovolném místě programu vícekrát, nazýváme podprogramem. Samostatné programy např. často opakované sledy operací používané při opracování různých součástí mohou být vyvolány v rámci jiných programů.</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Transformace souřadnic</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naprogramování detailů, které se na dílci opakují, můžete souřadný systém absolutně nebo přírůstkově posunout nebo natočit kolem nulového bodu. Tvarové prvky je možné zrcadlit v obou osách roviny obrábění. Pomocí změny měřítka lze obrys zmenšit nebo zvětšit</a:t>
            </a:r>
            <a:r>
              <a:rPr b="0" lang="cs-CZ"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692280"/>
            <a:ext cx="849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p:nvPr/>
        </p:nvSpPr>
        <p:spPr>
          <a:xfrm>
            <a:off x="539640" y="620640"/>
            <a:ext cx="8209080" cy="4483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Programování 3D tvarů</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rogramy 3D prostorových tvarů se většinou nepřipravují dílenským programováním, ale zpracovávají se na počítačích pomocí některého CAD – CAM systému, v našem případě již zmíněný EdgeCAM</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rogramy vytvořené a zpracovávané v CAD/CAM vytvoří popis povrchu dílce většinou ve formě na sebe navazujících  krátkých přímkových úseků. Tyto rozsáhlé programy s několika desítkami tisíc NC bloků přenášíte jednoduše přes jedno z datových rozhraní k TNC. Ostré přechody mezi přímkami umí TNC podle velikosti zadané tolerance zaoblit. Tím se dosáhne plynulý hladký povrch dílce. </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NC načítá dlouhé programy přes datové rozhraní po blocích. Načtené bloky se hned zpracovávají a uvolňují místo v paměti pro záznam dalších NC bloků. Načtení z PC, obrábění a automatické mazání obrobených bloků se startuje pouze jednou, zbytek zřídí TNC. </a:t>
            </a:r>
            <a:endParaRPr b="0" lang="en-US" sz="1800" spc="-1" strike="noStrike">
              <a:solidFill>
                <a:srgbClr val="000000"/>
              </a:solidFill>
              <a:latin typeface="Calibri"/>
            </a:endParaRPr>
          </a:p>
        </p:txBody>
      </p:sp>
      <p:pic>
        <p:nvPicPr>
          <p:cNvPr id="57" name="obrázek 15" descr="HEIDENHAIN Logo"/>
          <p:cNvPicPr/>
          <p:nvPr/>
        </p:nvPicPr>
        <p:blipFill>
          <a:blip r:embed="rId1"/>
          <a:stretch/>
        </p:blipFill>
        <p:spPr>
          <a:xfrm>
            <a:off x="1547640" y="5373720"/>
            <a:ext cx="1224000" cy="1150920"/>
          </a:xfrm>
          <a:prstGeom prst="rect">
            <a:avLst/>
          </a:prstGeom>
          <a:ln w="0">
            <a:noFill/>
          </a:ln>
        </p:spPr>
      </p:pic>
      <p:pic>
        <p:nvPicPr>
          <p:cNvPr id="58" name="obrázek 16" descr="HEIDENHAIN"/>
          <p:cNvPicPr/>
          <p:nvPr/>
        </p:nvPicPr>
        <p:blipFill>
          <a:blip r:embed="rId2"/>
          <a:stretch/>
        </p:blipFill>
        <p:spPr>
          <a:xfrm>
            <a:off x="2843280" y="5516640"/>
            <a:ext cx="4295880" cy="8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13-11-30T14:50:00Z</dcterms:modified>
  <cp:revision>15</cp:revision>
  <dc:subject/>
  <dc:title>Název DUMu</dc:title>
</cp:coreProperties>
</file>