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796-F402-462C-A651-67C10568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1C7-1D69-4467-AA3F-549C463A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AED-084D-44D8-8B53-9A6F4711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AB7-FF9B-4717-9276-4DF48F57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FCB-04E1-4CB5-939B-198FE85C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F2B-26F3-4369-97AD-84C721A6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97A9-2808-474A-8FE3-D33B868F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796-332F-4651-84FC-7829DEE1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B6B-5045-44BE-B716-66499C3E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589-DCC8-4FC8-BE79-DD38342A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801-E191-4298-9795-F6692F61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8D9-3497-4DF1-93DA-F3B33535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8870-39A9-4D69-B88E-4C5D27086B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vky pro úpravu geometr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52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284_Prvky pro úpravu geomet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857920" y="55720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Jaroslav Va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2381" r="0" b="3949"/>
          <a:stretch/>
        </p:blipFill>
        <p:spPr>
          <a:xfrm>
            <a:off x="395280" y="981000"/>
            <a:ext cx="835200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33336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Dokončení násobení prv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2546" r="62207" b="3552"/>
          <a:stretch/>
        </p:blipFill>
        <p:spPr>
          <a:xfrm>
            <a:off x="468360" y="1268280"/>
            <a:ext cx="3241800" cy="5329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260280"/>
            <a:ext cx="85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Úprava geomet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 možné zpětně upravit definici, profil, nebo provést dynamickou úprav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5516640"/>
            <a:ext cx="1150920" cy="722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ree"/>
          <p:cNvPicPr/>
          <p:nvPr/>
        </p:nvPicPr>
        <p:blipFill>
          <a:blip r:embed="rId2"/>
          <a:srcRect l="23904" t="0" r="29606" b="2997"/>
          <a:stretch/>
        </p:blipFill>
        <p:spPr>
          <a:xfrm>
            <a:off x="4716360" y="1484280"/>
            <a:ext cx="3024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2560" r="51312" b="5489"/>
          <a:stretch/>
        </p:blipFill>
        <p:spPr>
          <a:xfrm>
            <a:off x="395280" y="1197000"/>
            <a:ext cx="4392720" cy="5184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189000"/>
            <a:ext cx="85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Geometrické vaz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to nástroje jsou nezbytné při samotném vytvářením tvaru součá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rrr"/>
          <p:cNvPicPr/>
          <p:nvPr/>
        </p:nvPicPr>
        <p:blipFill>
          <a:blip r:embed="rId2"/>
          <a:srcRect l="9209" t="3023" r="32053" b="8065"/>
          <a:stretch/>
        </p:blipFill>
        <p:spPr>
          <a:xfrm>
            <a:off x="4859280" y="1628640"/>
            <a:ext cx="4032360" cy="4464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50920" y="5084640"/>
            <a:ext cx="505080" cy="1008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407664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Čtěte nabídkové bubliny a dodržujte zobrazená hlá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Při úpravě geometrie se orientujeme pomocí české nápově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213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Důležit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rcRect l="10483" t="16173" r="17250" b="18237"/>
          <a:stretch/>
        </p:blipFill>
        <p:spPr>
          <a:xfrm>
            <a:off x="179280" y="0"/>
            <a:ext cx="5327640" cy="321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>
            <a:lum bright="70000" contrast="-70000"/>
          </a:blip>
          <a:srcRect l="20164" t="0" r="25584" b="0"/>
          <a:stretch/>
        </p:blipFill>
        <p:spPr>
          <a:xfrm>
            <a:off x="5651640" y="333360"/>
            <a:ext cx="3024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užitá literatur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astní text, vlastní obrázky, učebnice Solid Edge V18     M.Rusiňák ISBN 80-239-7142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vky pro úpravu geometr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84_Prvky pro úpravu geometr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v systému CAD/CAM a Heidenh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.10. 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ukové listy popisují jednotlivé kroky při úpravě geometrických prvků. Jsou srozumitelně vyjádřeny přímo s aplikace kreslícího program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ovéPole 3"/>
          <p:cNvSpPr/>
          <p:nvPr/>
        </p:nvSpPr>
        <p:spPr>
          <a:xfrm>
            <a:off x="357120" y="500040"/>
            <a:ext cx="842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rvky pro úpravu geomet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kazy v této části lze nazvat jako prvky pro úpravu vzhledu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by se prvek vytvořil, není u těchto prvků nutno kreslit prof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vky jsou vytvářeny pomocí stěn a hran těles, takže není nutný výběr referenční roviny v pracovním pane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dobně jako u prvků založených na profilu i tyto doplňkové prvky vyvolávají pracovní panel, který nás provádí jednotlivými kroky při vytvoření zvoleného prvku. Počet kroků v pracovním panelu je u těchto prvků výrazně men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ree"/>
          <p:cNvPicPr/>
          <p:nvPr/>
        </p:nvPicPr>
        <p:blipFill>
          <a:blip r:embed="rId1"/>
          <a:srcRect l="23904" t="0" r="29606" b="2997"/>
          <a:stretch/>
        </p:blipFill>
        <p:spPr>
          <a:xfrm>
            <a:off x="3286080" y="3071880"/>
            <a:ext cx="2500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1"/>
          <p:cNvSpPr/>
          <p:nvPr/>
        </p:nvSpPr>
        <p:spPr>
          <a:xfrm>
            <a:off x="285840" y="35712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Zaoblení a sražení ro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3587" r="0" b="4366"/>
          <a:stretch/>
        </p:blipFill>
        <p:spPr>
          <a:xfrm>
            <a:off x="428760" y="928800"/>
            <a:ext cx="8215200" cy="5500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1" name="Elipsa 5"/>
          <p:cNvSpPr/>
          <p:nvPr/>
        </p:nvSpPr>
        <p:spPr>
          <a:xfrm>
            <a:off x="2071800" y="3571920"/>
            <a:ext cx="100008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lipsa 6"/>
          <p:cNvSpPr/>
          <p:nvPr/>
        </p:nvSpPr>
        <p:spPr>
          <a:xfrm>
            <a:off x="642960" y="2428920"/>
            <a:ext cx="85716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7"/>
          <p:cNvSpPr/>
          <p:nvPr/>
        </p:nvSpPr>
        <p:spPr>
          <a:xfrm>
            <a:off x="395280" y="328464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rom prv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299736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1"/>
          <p:cNvSpPr/>
          <p:nvPr/>
        </p:nvSpPr>
        <p:spPr>
          <a:xfrm>
            <a:off x="285840" y="35712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Tvorba otvorů, zahloubení a závitů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var a rozměry otvorů a závitů vyplníme pomocí nabídkového ok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0" t="3198" r="0" b="3981"/>
          <a:stretch/>
        </p:blipFill>
        <p:spPr>
          <a:xfrm>
            <a:off x="285840" y="1214280"/>
            <a:ext cx="8501040" cy="5357880"/>
          </a:xfrm>
          <a:prstGeom prst="rect">
            <a:avLst/>
          </a:prstGeom>
          <a:ln w="0">
            <a:noFill/>
          </a:ln>
        </p:spPr>
      </p:pic>
      <p:sp>
        <p:nvSpPr>
          <p:cNvPr id="57" name="Elipsa 3"/>
          <p:cNvSpPr/>
          <p:nvPr/>
        </p:nvSpPr>
        <p:spPr>
          <a:xfrm>
            <a:off x="214200" y="1571760"/>
            <a:ext cx="64296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4"/>
          <p:cNvSpPr/>
          <p:nvPr/>
        </p:nvSpPr>
        <p:spPr>
          <a:xfrm>
            <a:off x="428760" y="2786040"/>
            <a:ext cx="71424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ovéPole 1"/>
          <p:cNvSpPr/>
          <p:nvPr/>
        </p:nvSpPr>
        <p:spPr>
          <a:xfrm>
            <a:off x="142920" y="28584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Zrcadlení prv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mocí tohoto příkazu zrcadlíme existující prvek nebo prvky. Zadávání příkazu má následující postup: - vybrat prvek, - vybrat rovinu, - náhled, - dokonč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3"/>
          <p:cNvSpPr/>
          <p:nvPr/>
        </p:nvSpPr>
        <p:spPr>
          <a:xfrm>
            <a:off x="2071800" y="4357800"/>
            <a:ext cx="500040" cy="285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rcRect l="0" t="3701" r="0" b="3863"/>
          <a:stretch/>
        </p:blipFill>
        <p:spPr>
          <a:xfrm>
            <a:off x="428760" y="1285920"/>
            <a:ext cx="8286480" cy="5357880"/>
          </a:xfrm>
          <a:prstGeom prst="rect">
            <a:avLst/>
          </a:prstGeom>
          <a:ln w="0">
            <a:noFill/>
          </a:ln>
        </p:spPr>
      </p:pic>
      <p:sp>
        <p:nvSpPr>
          <p:cNvPr id="62" name="Elipsa 5"/>
          <p:cNvSpPr/>
          <p:nvPr/>
        </p:nvSpPr>
        <p:spPr>
          <a:xfrm>
            <a:off x="2071800" y="4357800"/>
            <a:ext cx="500040" cy="285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6"/>
          <p:cNvSpPr/>
          <p:nvPr/>
        </p:nvSpPr>
        <p:spPr>
          <a:xfrm>
            <a:off x="4357800" y="21430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Rovina zrcad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7"/>
          <p:cNvSpPr/>
          <p:nvPr/>
        </p:nvSpPr>
        <p:spPr>
          <a:xfrm>
            <a:off x="614376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2055" r="0" b="4696"/>
          <a:stretch/>
        </p:blipFill>
        <p:spPr>
          <a:xfrm>
            <a:off x="324000" y="1341360"/>
            <a:ext cx="8351640" cy="5329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89000"/>
            <a:ext cx="8713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Posunutí rov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žíváme například při vytvoření drážky. Rovnoběžnou rovinu posuneme tečně k hřídeli tam, kde chceme vytvořit dráž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1773360"/>
            <a:ext cx="115236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87960" y="5516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sunutá r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6880" y="234936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ůvodní stav rov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2612" r="0" b="4993"/>
          <a:stretch/>
        </p:blipFill>
        <p:spPr>
          <a:xfrm>
            <a:off x="324000" y="1484280"/>
            <a:ext cx="8526240" cy="5111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333360"/>
            <a:ext cx="8713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Tvorba dráž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kona odebrat tažením, následuje posunutí roviny a možnost symetrického osazení. Doplníme nabídkové okno a ukončíme oper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3860640"/>
            <a:ext cx="503280" cy="289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2872" r="0" b="4044"/>
          <a:stretch/>
        </p:blipFill>
        <p:spPr>
          <a:xfrm>
            <a:off x="324000" y="1557360"/>
            <a:ext cx="8423280" cy="4968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19280" y="2997360"/>
            <a:ext cx="504720" cy="287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333360"/>
            <a:ext cx="864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Kruhové pole s vybraných objek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ná se v podstatě o násobení prvků na roztečné kružnici nebo v obdélníkovém po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1-30T14:18:47Z</dcterms:modified>
  <cp:revision>43</cp:revision>
  <dc:subject/>
  <dc:title>Název DUMu</dc:title>
</cp:coreProperties>
</file>