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1EE-E186-4A6A-A47B-4D6F6C55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EA5-F617-4E83-BA84-24343C2F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A2C-C9DA-4F55-ABCF-98D52DCE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EA6-DDCD-4635-A894-647B6A3F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3F8-F6FA-4FC3-AC18-00767762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3EF-E852-4B09-B44A-7E59C938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19E-D006-49C5-B0B4-38013ABA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7CA-8E3B-41E4-A847-0ADCB9E3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C1E-4F6F-47CE-A02F-77FF7E99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BED-F881-456A-8095-CB7BA810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540-0547-4532-A746-FEB601DC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A0B-14F3-402B-9EAF-4B6BE925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4E7-29E2-4820-927D-B15B951E2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Výrobní režim soustruž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763640" y="263700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92_Výrobní režim soustruž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3392" r="0" b="9618"/>
          <a:stretch/>
        </p:blipFill>
        <p:spPr>
          <a:xfrm>
            <a:off x="250920" y="1700280"/>
            <a:ext cx="8597880" cy="4967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18900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mu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brazení součásti v prostředí simulace a vygenerovaný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13283" t="21253" r="42756" b="25646"/>
          <a:stretch/>
        </p:blipFill>
        <p:spPr>
          <a:xfrm>
            <a:off x="5076720" y="115920"/>
            <a:ext cx="3814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obrázky, manuál pro práci v programu Edge C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robní režim soustruž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92_Výrobní režim soustruž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2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vysvětluje postup v prostředí soustružení součástí a je doplněna jednotlivými obrazovými krok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04640"/>
            <a:ext cx="85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ačtení CAD modelu a posunutí CPL rovi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p je stejný jako v předešlém listu pro frézování. Navolíme prostředí pro soustružení. Pro další nastavení volíme raději drátové zobrazení.  CPL rovina obrábění je posunuta na začátek součásti a její stř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3293" r="0" b="4393"/>
          <a:stretch/>
        </p:blipFill>
        <p:spPr>
          <a:xfrm>
            <a:off x="539640" y="1962000"/>
            <a:ext cx="8115480" cy="489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0360" y="2565360"/>
            <a:ext cx="36036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2133720"/>
            <a:ext cx="28908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8317080" y="4221000"/>
            <a:ext cx="43164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532" r="0" b="4143"/>
          <a:stretch/>
        </p:blipFill>
        <p:spPr>
          <a:xfrm>
            <a:off x="395280" y="1341360"/>
            <a:ext cx="8380440" cy="532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6028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60280"/>
            <a:ext cx="84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Určení polotov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tovar volíme dle zadaného materiálu. Přídavek prvního čela je dostatečný pro upnutí do sklíčid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645" r="0" b="20851"/>
          <a:stretch/>
        </p:blipFill>
        <p:spPr>
          <a:xfrm>
            <a:off x="395280" y="2060640"/>
            <a:ext cx="8483760" cy="439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404640"/>
            <a:ext cx="835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Určení útva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 určení útvarů vyzkoušíme na rozdíl od frézování určení útvarů ručně. Křivka která kopíruje tvar součásti nesmí být přerušena a je barevně odlišena (zelená). V této fázi můžeme přejít do výrob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492280"/>
            <a:ext cx="43164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uční ohledání tv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397" t="14606" r="4154" b="13699"/>
          <a:stretch/>
        </p:blipFill>
        <p:spPr>
          <a:xfrm>
            <a:off x="539640" y="2205000"/>
            <a:ext cx="7993080" cy="417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404640"/>
            <a:ext cx="842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olba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stružnické nože volíme ze zásobníku nástrojů. Je třeba znát osazení revolverové hlavy stroje. U předvolených nástrojů je možné upravovat jejich geometrii dle potře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2708280"/>
            <a:ext cx="107928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2664" r="0" b="3075"/>
          <a:stretch/>
        </p:blipFill>
        <p:spPr>
          <a:xfrm>
            <a:off x="250920" y="1484280"/>
            <a:ext cx="8677080" cy="5111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33336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Zarovnání če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rovnání čela lze provést pomocí operace Prosté třísková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1916280"/>
            <a:ext cx="43164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122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333360"/>
            <a:ext cx="8353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Obrobení tv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 hrubování s přídavkem 1mm zvolíme operaci Třískování na profil. Na obrazovce jsou znázorněny dráhy nástroje tak, jak jsme je stanovili v nabídkovém okn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2981" r="0" b="4913"/>
          <a:stretch/>
        </p:blipFill>
        <p:spPr>
          <a:xfrm>
            <a:off x="468360" y="184464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89000"/>
            <a:ext cx="8569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Dokončení tv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ečný tvar dokončíme operací Třískování podle profilu. Po této operaci je tvar i rozměry kompletní. Při generování kódu postupujeme stejně jako u frézová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2584" r="0" b="4993"/>
          <a:stretch/>
        </p:blipFill>
        <p:spPr>
          <a:xfrm>
            <a:off x="250920" y="1557360"/>
            <a:ext cx="8597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36:05Z</dcterms:modified>
  <cp:revision>22</cp:revision>
  <dc:subject/>
  <dc:title>Název DUMu</dc:title>
</cp:coreProperties>
</file>