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43A-B024-49F1-8474-0BD5A452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A58-35E7-44B1-8A16-8AD839FA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22A-0FDB-4D2A-A0C8-E44A7F6D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A8A-FDCD-4109-9CDD-7EA34D4C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959-EF88-45A3-AC37-BFCBD82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48E-911D-4E31-BD03-7EE542D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86D-DB27-48C5-958C-453F800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326-77F8-4DAF-A508-41A59F3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24C-8902-4586-8A95-77B1865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833-3847-4B17-A34E-9F616B4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19D-F590-40CA-8F0C-5591E2B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CE8-5F39-4963-A47A-DFDEDB7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1DE-7BF7-4C17-B270-54E86370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vorba strategie obrábění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116000" y="263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0_Tvorba strategie obrábě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vorba strategie obrábění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0_Tvorba strategie obrábění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.2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ukové listy popisují jednotlivé kroky při vytváření strategie obrábění. List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sou srozumitelně vyjádřeny přímo s aplikace CAM program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7628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ačtení CAD mod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základním nástrojovém panelu pomocí tlačítka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otevřít soub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693" r="0" b="3567"/>
          <a:stretch/>
        </p:blipFill>
        <p:spPr>
          <a:xfrm>
            <a:off x="324000" y="1484280"/>
            <a:ext cx="8496000" cy="496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5300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ýběr izometrického pohl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4653000"/>
            <a:ext cx="50328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849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ytvoření poloto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lotovar představuje tvar materiálu ze kterého má být vyrobena sou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2919" r="0" b="4833"/>
          <a:stretch/>
        </p:blipFill>
        <p:spPr>
          <a:xfrm>
            <a:off x="324000" y="1268280"/>
            <a:ext cx="8569080" cy="532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268280"/>
            <a:ext cx="72072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0464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yhledání útvar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útvary jsou oblasti na modelu, které jsou vhodné pro obrob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2702" r="0" b="3118"/>
          <a:stretch/>
        </p:blipFill>
        <p:spPr>
          <a:xfrm>
            <a:off x="395280" y="1413000"/>
            <a:ext cx="8561520" cy="525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844640"/>
            <a:ext cx="504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fikace materi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 použití obráběcích operací budou automaticky vypočteny vhodné otáčky a posuv. Tyto výpočty jsou založeny na specifikaci obráběného materi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669" t="0" r="39181" b="33247"/>
          <a:stretch/>
        </p:blipFill>
        <p:spPr>
          <a:xfrm>
            <a:off x="1258920" y="1916280"/>
            <a:ext cx="6408720" cy="443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2060640"/>
            <a:ext cx="72072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76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ýběr nástrojové databá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ůžeme zde zvolit přednastavený nástroj ze zásobníku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9728" t="17625" r="40338" b="22377"/>
          <a:stretch/>
        </p:blipFill>
        <p:spPr>
          <a:xfrm>
            <a:off x="468360" y="1557360"/>
            <a:ext cx="5111640" cy="453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3666" t="24130" r="28009" b="38717"/>
          <a:stretch/>
        </p:blipFill>
        <p:spPr>
          <a:xfrm>
            <a:off x="5867280" y="1557360"/>
            <a:ext cx="2952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76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áce v oblasti procesoru je ukončena. Následující kroky se budou provádět již pro konkrétní stroj, to znamená přechod do výrobního reži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33666" t="24130" r="28009" b="38717"/>
          <a:stretch/>
        </p:blipFill>
        <p:spPr>
          <a:xfrm>
            <a:off x="3276720" y="1557360"/>
            <a:ext cx="5472000" cy="39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88784" t="0" r="0" b="67103"/>
          <a:stretch/>
        </p:blipFill>
        <p:spPr>
          <a:xfrm>
            <a:off x="468360" y="1844640"/>
            <a:ext cx="2303280" cy="410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24000" y="270828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1916280"/>
            <a:ext cx="1368360" cy="1152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781360"/>
            <a:ext cx="7207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2708280"/>
            <a:ext cx="1152360" cy="64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3789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ézka FC 16 CN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858920" y="3357720"/>
            <a:ext cx="865080" cy="50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manuál pro práci v programu Edge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2:44Z</dcterms:modified>
  <cp:revision>20</cp:revision>
  <dc:subject/>
  <dc:title>Název DUMu</dc:title>
</cp:coreProperties>
</file>