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32E-16DC-41FB-BE82-DDCD3B5C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D11-0BFD-4F3E-9B7A-FCFB5CAC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4A9-1023-4175-9A00-764C3B07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E4B-C5DD-457E-B228-C2991EC4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F94-3A49-41FE-92D7-70056DD5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6D4-86CB-4A62-89D3-46ECBA39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A32-85DB-4F62-BC11-3B9AB9E9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716-4C35-4E93-A4A8-491E9022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B3B-712B-4500-859E-1FEA3896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754-A8AB-4ECD-996D-4424B80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373-7AE0-4C4E-8A38-450EA5C7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934-B912-4FD8-85AB-7D6C5A02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3CAC-98FE-4FCA-B6BE-33EF791DD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Výrobní režim fréz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979640" y="263700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91_Výrobní režim fréz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16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549360"/>
            <a:ext cx="842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ráce s konstruktérem postprocesor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kno které nás povede tvorbou. Jednoduše postupujeme po jednotlivých krocích. Po ukončení průvodcem můžeme provést ještě změny nastavení. Je zobrazena „stromová“ struktura v jednotlivých větvích, kde jsou zahrnuty různé parame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23838" t="32505" r="32030" b="26558"/>
          <a:stretch/>
        </p:blipFill>
        <p:spPr>
          <a:xfrm>
            <a:off x="250920" y="2708280"/>
            <a:ext cx="4608360" cy="324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8816" t="17809" r="55868" b="12981"/>
          <a:stretch/>
        </p:blipFill>
        <p:spPr>
          <a:xfrm>
            <a:off x="5435640" y="2133720"/>
            <a:ext cx="316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549360"/>
            <a:ext cx="8424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Uložení konfigurace a kompi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 uloženému postprocesoru se můžeme kdykoliv vrátit a provádět další změny ve stromové struktuře jednotlivých nastav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mpilací se vytvoří soubor pospr., který je okamžitě k dispozici v nabídce.     Postprocesor je vytvořen a automaticky pojmenován pro uložení „cgt“ sou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procesor použijeme pro specifikaci obráběcího stroje v dialogu při zavedení obráběcího postup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8751" t="17993" r="46990" b="31598"/>
          <a:stretch/>
        </p:blipFill>
        <p:spPr>
          <a:xfrm>
            <a:off x="2268360" y="335772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00720" y="3716280"/>
            <a:ext cx="50292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4076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ompi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astní text, vlastní obrázky, manuál pro práci v programu Edge C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robní režim frézo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91_Výrobní režim frézo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2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zentace popisuje jednotliví kroky režimem frézování.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y jsou srozumitelně vyjádřeny přímo s aplikace CAM program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47628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76280"/>
            <a:ext cx="849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rtání otvo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nástrojovém panelu vybereme z databáze nástrojů vrták, následně zvolíme Operace díry. Po otevření dialogu jsou všechna nastavení automaticky dosazena s modelu. Volíme pouze rozměr pro přejíždě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7691" b="25372"/>
          <a:stretch/>
        </p:blipFill>
        <p:spPr>
          <a:xfrm>
            <a:off x="611280" y="2276640"/>
            <a:ext cx="7561080" cy="381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32000" y="2781360"/>
            <a:ext cx="57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1989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ba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19280" y="2276640"/>
            <a:ext cx="0" cy="50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45086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alog pro dí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3213000"/>
            <a:ext cx="1295640" cy="719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278136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1989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perace dí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067280" y="2276640"/>
            <a:ext cx="0" cy="50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404640"/>
            <a:ext cx="53294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rubování součásti (frézován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nástrojovém panelu Operace hrubování, následně označíme tvar, který chceme hrubovat a vyznačíme vymezující hranice. Doplníme dialogová okna doplněná ilustrační grafikou. Je také třeba, řídit se popisovým hlášením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34720" t="0" r="43255" b="85101"/>
          <a:stretch/>
        </p:blipFill>
        <p:spPr>
          <a:xfrm>
            <a:off x="5580000" y="981000"/>
            <a:ext cx="2808360" cy="1225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93080" y="1844640"/>
            <a:ext cx="57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9262" b="19788"/>
          <a:stretch/>
        </p:blipFill>
        <p:spPr>
          <a:xfrm>
            <a:off x="539640" y="2681280"/>
            <a:ext cx="7559640" cy="4176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64000" y="4437000"/>
            <a:ext cx="50328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4076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PL rov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40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Zbytkové hrubování součá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0041" b="17738"/>
          <a:stretch/>
        </p:blipFill>
        <p:spPr>
          <a:xfrm>
            <a:off x="539640" y="1916280"/>
            <a:ext cx="8064720" cy="4608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76500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užití zbytkového obrábění se použije tehdy, když nástroj nedofrézuje tvar, nebo se nedostane do dutin, protože má velký průměr. Na obrázku jsou vidět vytvořené dráhy nástroje i s vrtaným otvor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404640"/>
            <a:ext cx="8569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rofil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klem Profilování obrobíme venkovní stěny a dutiny. Dokončíme tak konečný tvar, rozměry a povr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žnosti výběru operací a cyklů jsou v nabídce Hlavního panelu. V okně Postup jsou pak operace zvýrazněny a je možno je kdykoliv měn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1189" t="0" r="60851" b="36577"/>
          <a:stretch/>
        </p:blipFill>
        <p:spPr>
          <a:xfrm>
            <a:off x="1116000" y="2349360"/>
            <a:ext cx="2735280" cy="417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6424" t="0" r="59933" b="43748"/>
          <a:stretch/>
        </p:blipFill>
        <p:spPr>
          <a:xfrm>
            <a:off x="4932360" y="2276640"/>
            <a:ext cx="2808360" cy="424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6000" y="3500280"/>
            <a:ext cx="136692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404640"/>
            <a:ext cx="85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mulace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lo vytvořeno obrobení součásti a pomocí simulace provedeme virtuální kontrolu obrobení. Můžeme touto cestou zjistit případné kolize nástroje a případně změnit postup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zor na hlášení chyb ve spodní části monitor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12843" t="0" r="0" b="6585"/>
          <a:stretch/>
        </p:blipFill>
        <p:spPr>
          <a:xfrm>
            <a:off x="1042920" y="1773360"/>
            <a:ext cx="7056360" cy="4895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47640" y="2276640"/>
            <a:ext cx="576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404640"/>
            <a:ext cx="856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Generování NC kó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sme-li spokojeni s obrobením součásti, můžeme vygenerovat NC kód, který bude srozumitelný stroji, který jsme vybrali při vstupu do výrob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521" t="4034" r="62989" b="83863"/>
          <a:stretch/>
        </p:blipFill>
        <p:spPr>
          <a:xfrm>
            <a:off x="395280" y="1413000"/>
            <a:ext cx="3529080" cy="863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2513" r="11807" b="3510"/>
          <a:stretch/>
        </p:blipFill>
        <p:spPr>
          <a:xfrm>
            <a:off x="395280" y="2492280"/>
            <a:ext cx="8064360" cy="4365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71640" y="1844640"/>
            <a:ext cx="57636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4869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C kód (IS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404640"/>
            <a:ext cx="8569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Tvorba postproceso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procesor převádí obráběcí instrukce v EdgeCAM do CNC programu, který je vytvořen přesné dle požadavků konkrétního CNC stroje. Při tvorbě postprocesoru se proto zohledňují jednotlivé parametry obráběcího st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 EdgeCAM jsou již vytvořeny jednotlivé ukázkové postprocesory. Typickým příkladem je Fanuc 3xmcp pro frézování a tpc pro soustružení.                               Vlastní postp. Si můžeme vytvořit a konfigurovat v aplikaci Konstruktér postprocesor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33022" t="37933" r="40734" b="33634"/>
          <a:stretch/>
        </p:blipFill>
        <p:spPr>
          <a:xfrm>
            <a:off x="395280" y="4076640"/>
            <a:ext cx="2664000" cy="1871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357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evřená šablo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30634" t="14587" r="40138" b="41292"/>
          <a:stretch/>
        </p:blipFill>
        <p:spPr>
          <a:xfrm>
            <a:off x="4932360" y="4076640"/>
            <a:ext cx="2519280" cy="237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43280" y="3284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tomto okně jsou možnosti výběru potřebné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4292640"/>
            <a:ext cx="50328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35:25Z</dcterms:modified>
  <cp:revision>25</cp:revision>
  <dc:subject/>
  <dc:title>Název DUMu</dc:title>
</cp:coreProperties>
</file>